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03C-8A90-4346-B456-AE6F70B1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BC1-06A7-47F7-8EBF-45C43B95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6BC-DE7B-4A28-990D-63AC611B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216-7AAD-456E-9D23-102CCCCB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7461-55B8-4613-87DB-959153F5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7CBE-37BC-40BE-901D-0E48ECD4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B93E-BE11-413A-90DC-FD900487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4C9D-3D28-43F9-ABE0-BB45E77E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8852-5EB7-43A9-B444-A9BEF402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AD74-C938-48B5-8125-06FBCE45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3B6B-F6B3-4FEC-B6AF-F3BF359E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8E4-E36A-405D-BB0D-5EB1ED8D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F030-10A2-4D87-9E72-A99F8904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80E9-FC99-4BFA-A3C0-6F5E6DE0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3680-FD30-430C-B18F-A3258A69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0FBF-B732-4297-9ABE-820575AF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1E2C-34C0-4E9E-BCBC-ABE2557A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32D-7344-441F-952D-765A4474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2053-67A8-4632-84B1-50180905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345-0BA4-41FD-91E3-5DAEF059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712-43FB-41EA-832A-8143D581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F44-9D6A-47ED-9281-0DF8142E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2BB-1F43-4110-BF73-A8D87909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9AC-387A-44EE-815B-5F7EE246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F3B1-2F5F-464A-9B2C-827981A914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E650-1F2D-4C78-8DF6-6866B81A96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0033"/>
                </a:solidFill>
                <a:latin typeface="Times New Roman"/>
              </a:rPr>
              <a:t>作文是生活的一个项目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思考：他们各自看见了什么）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他说：“我从小就是吃番薯稀饭长大的，十八岁那一年我坐火车离开彰化家乡，在北上的火车上就对天发誓：这一辈子我宁可饿死，也不会吃番薯稀饭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贫困的岁月里，人也能感受到某些深刻的幸福，像我常记得添一碗热腾腾的的白饭，浇一匙猪油、一匙酱油，坐在厅门的石阶前细细品味猪油拌饭的芳香，那每一粒米都充满了幸福的香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练习写作的益处：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可以提高我们发现真与美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训练我们与生活建立真与美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作文是生活的一个项目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过写作，通过对生活“素材”的集中、提炼、加工和改造，发现美好，记录美好，传播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过写作让自己成为一个愉悦、豁达、发现美好、享受美好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作文是生活的一个项目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作文是点点滴滴、无处不在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让我们发现生活的真实与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让欢喜的更欢喜，愁苦得以减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让美好的心灵与美丽的世界拥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还有话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题要点，明白什么事说有用的的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还有”——建立在已经说的前提下；所以，有些话必须在文中已说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话说”——这是一篇需要写对话、说话的文章，得讲究如何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悖论——让人觉得还是有话需要说，说尽了并非最高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作文是生活的一个项目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文是生活中间的一个项目，同吃饭、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做工作一样，是生活中间缺少不来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叶圣陶、夏丏尊《文心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因为有你（原稿）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为有你，妈妈，把我带到了这个五彩缤纷的世界；因为有你，妈妈，我的生活充实而又美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，每天早上叫我起床，给我做早餐、晚饭，帮我洗衣服……你的爱充满了我的生活。可我经常厌倦于你的苦口婆心，还不时和你顶撞。我知道，我的不懂事，经常使你感到伤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记得有一次，我数学考试考得不好。回到家，你问我成绩，我很轻地说出了成绩。“你知道吗？这次小杨考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呢，人家而且还不补课。”你说着你朋友的孩子。“哦，人家尖子班的。”我闷闷不乐地说。“怎么能这么说呢，人家尖子班就一定考得高吗？你怎么就不能在尖子班呢。”我没有回答你，你又接着说：“对了，今天在那个家长群里看到你们小学班里的晓晓这次也考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呢，我记得之前晓晓她数学没你好啊，你看看人家。”“只有考得好，人家才会在家长群里说。”我皱着眉头说。“对啊，那你怎么不考好点呢？看看人家多努力对不对，你……”“是啊！人家努力！你怎么知道我不努力呢？！”你还没说完，就被不耐烦的我给打断了。我走到自己的房间里，“砰”的一下关上了门。“哼，就知道别人家的孩子。”我生气地在心里说。过了一会儿，你进入了我的房间：“女儿啊，我的意思不是你不努力，我也知道你不喜欢听我讲别的孩子又多好多好。但你要知道，你要有一个目标，有一个想超越的对手，这样才会更好。”你语重心长地说，“妈妈知道你这次没考好也很伤心，所以下次加油，一次比一次更好。”你鼓励我说。“嗯。”我点点头。在你走出房门的时候，我轻轻地说：“妈妈……刚刚对不起。”你朝我微笑了一下，我也情不自禁地笑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为有你，我的生活更美好。感谢有你，妈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因为有你（修改稿）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学成绩出来了，我考得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回到家，妈妈问我成绩。我很轻地说出了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知道吗？这次小杨考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呢，人家而且还不补课。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妈妈鼻翼微张，呼吸变得急促起来，她生气了，我知道，但我假装没看见，我的心情也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家尖子班的。”我闷闷不乐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么能这么说呢？尖子班就一定考得高吗？你怎么就不能在尖子班呢。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妈妈的声音变得尖利，脸红通通的，眼睛睁得老大，我有点被吓到，不说话了。妈妈却把我的沉默当成了无声的反抗。她更大声地对着我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“今天在家长群看到你小学同学晓晓，这次也考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，我记得小学时她的成绩没你好啊，你看看人家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593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我的怒火突然窜了出来，委屈和愤怒堵在心口，让我气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“只有考得好，人家才会在家长群里说。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我用力地说道，眼泪不争气地在眼眶里打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啊。那你怎么不考好点呢？看看人家多努力，对不对……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泪水模糊了我的视线，我看不清妈妈的脸，却听到了声音里的刺正变得柔软，可是来不及了，我已经不想原谅她了。我用更大的声音喊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“是啊！人家努力！你怎么知道我不努力呢？”我快步走进自己的房间，用力关上房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砰！”巨大的关门声宣泄了我的愤怒，却带出了我的委屈，我伏在床上呜呜地哭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知过了多久，我听见轻轻地叩门声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没搭理，因为委屈，因为害怕，更因为伤心。我听见妈妈开门的声音，听见她轻轻走过来。她的手轻轻抚摩着我的头，然后，一团热乎乎的毛巾覆盖在我的手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知道你也在努力。”妈妈小声地说，“妈妈只是有些着急，总希望你更好，更好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把头埋在热热的毛巾里，不敢抬起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知道她一直很努力地要做一个好妈妈。她没有太高深的学问，并不十分懂得教育，她只是单纯地对我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她为我做的事，是每天的早餐和晚餐，是洗衣服、缝扣子，是各种叮咛和嘱托。她被各种繁琐的事情包围着，偶尔也会蛮不讲理、迁怒于我，但是她爱我，尽管她拙于言，可是生活中点点滴滴的小事都是她爱的累积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这些，我怎能不懂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不起，妈妈。”我轻轻地说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妈妈长吁一口气，开心地捧起我的脸，我看见她现出一副释然的样子，不由得鼻子酸酸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妈妈，你知道吗？因为有你，我的肆意放纵才可被原谅；因为有你，我才能拥有那么多温暖美丽的日子啊！虽然生活中并不总是阳光灿烂，但你在，我心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202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修改后的作文，有看见，有明白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未看此花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此花与汝同归于寂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来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花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则此花颜色一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明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8:12:01Z</dcterms:created>
  <dc:creator>walkinnet</dc:creator>
  <dc:description/>
  <dc:language>en-US</dc:language>
  <cp:lastModifiedBy>walkinnet</cp:lastModifiedBy>
  <dcterms:modified xsi:type="dcterms:W3CDTF">2015-12-17T01:56:51Z</dcterms:modified>
  <cp:revision>12</cp:revision>
  <dc:subject/>
  <dc:title>幻灯片 1</dc:title>
</cp:coreProperties>
</file>