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74E-3512-486B-9145-C00BA486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633-D3F8-45F5-8AE2-AC1E553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05B-FD10-4958-B8CB-5DAD362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B52-1CE5-4BCD-BC04-C95164AD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B71-6EA8-4230-AA74-6236B517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B68-104E-4813-851F-BE5A588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1E5-E488-450D-B47C-8785EAE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36A-E8D1-4252-860F-560F7FE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C01-8085-4D3E-8ACB-A752DC5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332-77E4-4710-A65C-0BBB0B4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AC5-AC60-40D5-833D-EA60891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711-BD7D-4FB3-A974-6008C45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1CE-93EC-485C-8A84-5EE1CECCC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086600" cy="4114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609480"/>
            <a:ext cx="670572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宋体"/>
              </a:rPr>
              <a:t>五十六个民族五十六朵花</a:t>
            </a:r>
            <a:endParaRPr b="1" lang="en-US" sz="4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1880" y="5029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0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219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我们可以根据服饰、建筑、舞蹈、食物等就能分辨出是哪个民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505320"/>
            <a:ext cx="44956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规则：围绕本课课题，小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时间商量，派代表发言，言之成理即可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。如果能从不同角度考虑，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1219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我们可以根据服饰、建筑、舞蹈、食物等就能分辨出是哪个民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505320"/>
            <a:ext cx="502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99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每个民族都有自己鲜明的民族特色和民族风格。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  <a:ea typeface="黑体"/>
              </a:rPr>
              <a:t>中华文化博大精深、历史悠久、源远流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848720" y="6019920"/>
            <a:ext cx="457200" cy="38088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905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近年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热不断升温：孔子学院走向世界；穿汉服、过中国传统节日走入外国人的日常生活；写汉字、说汉语、交中国朋友让不少老外引以为荣；法国的“中国文化年”，俄罗斯，等国的中国周活动此起彼伏。问：世界各地出现“中国热”的原因是什么？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（规则：说出一个角度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分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962520"/>
            <a:ext cx="8839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、改革开放以来，随着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我国综合实力不断增强，国际地位不断提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中国越来越受世界的关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、反映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中国东方文化的魅力和韵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中华文化博大精深、历史悠久、源远流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、说明中华文化是世界民族文化的一枝璀璨的奇葩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人类共同的文化遗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是我们民族的骄傲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也是世界的骄傲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8381880" y="6248520"/>
            <a:ext cx="533520" cy="609480"/>
          </a:xfrm>
          <a:custGeom>
            <a:avLst/>
            <a:gdLst>
              <a:gd name="textAreaLeft" fmla="*/ 219960 w 533520"/>
              <a:gd name="textAreaRight" fmla="*/ 313560 w 5335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19520" y="9907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一说：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133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十一假期，如果有人想来常州旅游，请你当好东道主，常州名胜古迹、文化遗产来介绍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规则：小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钟时间商量，选一名组员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面的图中任意选择一幅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钟的简短介绍，语言流畅、介绍到位，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。否则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2819520"/>
            <a:ext cx="1752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    宫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21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淹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果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715000"/>
            <a:ext cx="1447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天宁禅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53341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71500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文笔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坡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253200"/>
            <a:ext cx="9144000" cy="604800"/>
            <a:chOff x="0" y="6253200"/>
            <a:chExt cx="9144000" cy="60480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0" y="6253200"/>
              <a:ext cx="472428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4572000" y="6253200"/>
              <a:ext cx="4572000" cy="60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3352680" y="3505320"/>
            <a:ext cx="1981440" cy="213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867280" y="35812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791320" y="533520"/>
            <a:ext cx="26668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3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梳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ū b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常州著名的地方特产，相传始于魏晋时期，迄今已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5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年，由于历史悠久，选料制作精细，素有“宫梳名篦”之称。常州梳篦精工细作、齿尖润滑、下水不脱。这既是日用品，又是工艺品，其知名度更是远播海外。</a:t>
            </a:r>
            <a:r>
              <a:rPr b="0" lang="zh-CN" sz="36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00200" y="13716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淹城是我国目前西周到春秋时期保存下来的最古老的城市区，迄今已有将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的历史。现为全国重要文物保护单位。 据文献记载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5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以来出土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只独木船、铜盘以及原始青瓷、几何印纹陶等鉴定，约为西周和春秋战国时的遗物。城有土墙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重，分为子城、内城、外城，城外均有护城河，仅西面有一出口通道。现城址保存较好，是研究西周至春秋战国不可多得的历史资料。</a:t>
            </a:r>
            <a:r>
              <a:rPr b="0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1066680"/>
            <a:ext cx="70866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东坡公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东坡公园地处常州市区东部，系名胜古迹与自然风光相结合的江南园林。内有舣舟亭、东坡洗砚池、龙亭、御碑亭、御码头等景观：南宋时，常州市民为纪念北宋大文豪苏东坡来常，泊舟于此，而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舣舟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纪念。舣舟亭位于园南山顶，亭不大但造型精美，乾隆皇帝曾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玉局风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匾额；御碑亭东北假山旁有东坡洗砚池，以青石凿成，是苏东坡晚年洗涤笔观之处；龙亭南有御碑亭，亭内保存乾隆皇帝南巡时所写的六首诗的碑刻，这些诗表达了他对苏东坡的崇敬以及他对地方官员的教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198108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宁寺 在常州市内。始建于唐永徽年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650-65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，天复年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901-90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正式建寺，名广福寺，北宋政和元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11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）才称天宁寺。五代以后，该寺屡毁屡建。现存的殿宇即为清代建筑。全寺拥有殿堂、楼阁等大小建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楹（</a:t>
            </a: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yíng </a:t>
            </a: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，古代计算房屋的单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，占地面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3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亩。大雄宝殿重檐九脊顶，高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，殿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多，殿内铁梨木大柱高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多。天宁寺被称为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南第一丛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60020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笔塔位于红梅公园南端，始建于南朝齐高祖萧道成建元年间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7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8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），已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余年历史。名建元寺，因形似文笔，又称文笔塔，被常州文人视为笔魂。塔寺历经兴废，宋代诗人杨万里有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太平古寺劫灰余，夕阳惟照一塔孤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”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诗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它是常州人文荟萃的象征和缩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676520"/>
            <a:ext cx="80010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一、根据服饰等特征猜所属民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二、中华文化走向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三、当好东道主，常州名胜古迹、文化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遗产我介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四、谈收获和认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533520"/>
            <a:ext cx="6095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楷体_GB2312"/>
              </a:rPr>
              <a:t>民族文化知识竞赛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楷体_GB2312"/>
              <a:ea typeface="楷体_GB2312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91320" y="4191120"/>
            <a:ext cx="26668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0200" y="121428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青果巷，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八桂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闻名天下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前，著名抗倭英雄、文武双全、散文四大家之一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唐荆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会试高中状元。他在青果巷建造了一座大宅子，考过第一名的人，心中总有个“折桂情结”，于是宅子里就有了八棵桂花树，号称“八桂堂”。八桂堂的名人，有明朝唐荆川，清朝庄家的的庄楷 ，清乾隆年间的状元、为后人留下许多稀世名画的著名画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钱维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钱维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两兄弟，其著作《苏东坡舣舟亭图卷》名垂千古。另外，还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瞿秋白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张太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居住于此。是他们成就了八桂堂的百年人文底蕴，使常州这个古老的城市光耀千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 rot="19739400">
            <a:off x="228600" y="259092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：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82880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青果巷凝聚了数千年常州古迹的精华，荟萃了数不尽的人物精英，已俨然成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5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龙城的一张文化名片。可如今却面临着城市商业开发、拆迁、保护不力等窘境，请你为青果巷文化遗产的保护出谋划策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规则：小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钟时间商量，派代表阐述观点，每个角度言之成理即可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33520"/>
            <a:ext cx="2819520" cy="9169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青果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114800"/>
            <a:ext cx="2133720" cy="19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1828800"/>
            <a:ext cx="7467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个民族都有自己鲜明的民族特色和民族风格，各民族共同创造了灿烂辉煌的中华文化。中华文化博大精深、历史悠久、源远流长，是人类共同的文化遗产。我们要增强对民族文化的认同感和自豪感，并自觉践行保护文化遗产的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762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077320" y="6095880"/>
            <a:ext cx="761760" cy="762120"/>
          </a:xfrm>
          <a:custGeom>
            <a:avLst/>
            <a:gdLst>
              <a:gd name="textAreaLeft" fmla="*/ 313920 w 761760"/>
              <a:gd name="textAreaRight" fmla="*/ 447840 w 76176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36232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规则：根据图片中服饰等特征猜出其所属民族，并说明理由，得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。如果只能猜出民族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各小组可以抢答得分，其他组根据图片进行补充可得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990720"/>
            <a:ext cx="685800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楷体_GB2312"/>
              </a:rPr>
              <a:t>根据服饰等猜所属民族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340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苗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6858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苗族妇女的头饰式样繁多，她们的盛装以黔东南独具特色，把银饰钉在衣服上成“银衣”，头上戴着形如牛角的银质头饰，高达尺余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11480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343400" y="3048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苗族大多居住在高寒山区，山高坡陡，平整、开挖地基极不容易，加上天气阴雨多变，潮湿多雾，砖屋底层地气很重，不宜起居。因而，苗族历来依山抱水，构筑一种通风性能好的干爽的木楼，叫“吊脚楼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33920" y="6094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朝鲜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3716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朝鲜族人比较喜欢素白色服装，以示清洁、干净、朴素、大方，故朝鲜族自古有“白衣民族”之称，自称“白衣同胞”。妇女穿短衣长裙，这也是朝鲜族妇女服装的一大特色。这种衣服大多用丝绸缝制而成，色彩鲜艳。朝鲜族男子一般穿素色短上衣，外加坎肩，下穿裤腿宽大的长裤，裤脚系上丝带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朝鲜族服饰"/>
          <p:cNvPicPr/>
          <p:nvPr/>
        </p:nvPicPr>
        <p:blipFill>
          <a:blip r:embed="rId1"/>
          <a:stretch/>
        </p:blipFill>
        <p:spPr>
          <a:xfrm>
            <a:off x="0" y="0"/>
            <a:ext cx="342900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男子服饰"/>
          <p:cNvPicPr/>
          <p:nvPr/>
        </p:nvPicPr>
        <p:blipFill>
          <a:blip r:embed="rId2"/>
          <a:stretch/>
        </p:blipFill>
        <p:spPr>
          <a:xfrm>
            <a:off x="0" y="3505320"/>
            <a:ext cx="3429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4340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藏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其服饰基本结构为肥腰、长袖、大襟长袍。穿用这种结构肥大的服装夜间和衣而眠可以当被。袍袖宽敞，臂膀伸缩自如，既防寒保暖又便于起居、旅行，白天气温上升更可脱出一个臂膀，方便散热，调节体温。久而久之，脱一袖的装束便形成了藏族服装特有的风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奢侈一点的说是雕梁画栋也不为过，墙壁上有很多藏传佛家的经典壁画，比如说菩萨，吉祥兽等；普通房舍为土石结构，房屋正对太阳升起的方向，屋子四角有玛尼堆，顶端有白色石英石（藏民视之为吉祥石，可以趋吉避凶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布达拉宫是西藏政教合一的统治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52680" cy="32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648240"/>
            <a:ext cx="335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4340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傣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609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傣族妇女的服饰以美观大方著称，民族特点浓郁，而且各地不同。但束发、筒裙和短衫这三样则是相同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249552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泼水节其实为傣族的新年，泼水节又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浴佛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是西双版纳最隆重的传统节日之一，到了节日，傣族男女老少穿上节日盛装，而妇女们则各挑一担清水为佛像洗尘，求佛灵保佑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浴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完毕，人们就开始相互泼水，表示祝福，希望用圣洁的水冲走疾病和灾难，换来美好幸福的生活。集体性的相互泼水就这样开始了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4340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蒙古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6094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首饰、长袍、腰带和靴子是蒙古族服饰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主要部分，佩挂首饰、戴帽是蒙古族习惯。毡包是蒙古族住所，俗称“蒙古包”。 铁木真被尊称为“成吉思汗”，他是蒙古族、也是世界历史上杰出的政治家、军事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38862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摔跤，蒙古语称为“搏克”，蒙古族的传统体育活动。摔跤手为搏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巴依勒德呼。早在十三世纪时已经盛行于北方草原。既是体育活动，也是一种娱乐活动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蒙古摔跤"/>
          <p:cNvPicPr/>
          <p:nvPr/>
        </p:nvPicPr>
        <p:blipFill>
          <a:blip r:embed="rId1"/>
          <a:stretch/>
        </p:blipFill>
        <p:spPr>
          <a:xfrm>
            <a:off x="0" y="3581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8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343400" y="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维吾尔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山脚下聚居着一个能歌善舞的民族——维吾尔族。维吾尔族服饰花样较多，非常优美，富有特色。维吾尔族男女都喜欢穿皮鞋和皮靴，男女老少都戴四楞小花帽；维吾尔族是个爱花的民族，人们戴的是绣花帽，着的是绣花衣，穿的是绣花鞋，扎的是绣花巾，背的是绣花袋，衣着服饰无不与鲜花息息相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057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维吾尔族最爱吃馕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nang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、抓饭等食品，有很多著名的风味菜肴和小吃，如烤全羊、烤羊肉串等。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1828800" cy="4191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16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182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y</cp:lastModifiedBy>
  <dcterms:modified xsi:type="dcterms:W3CDTF">2012-10-14T14:42:41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