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41.jpeg" ContentType="image/jpeg"/>
  <Override PartName="/ppt/media/click.wav" ContentType="audio/x-wav"/>
  <Override PartName="/ppt/media/image3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png" ContentType="image/png"/>
  <Override PartName="/ppt/media/image38.jpeg" ContentType="image/jpeg"/>
  <Override PartName="/ppt/media/image43.png" ContentType="image/png"/>
  <Override PartName="/ppt/media/push.wav" ContentType="audio/x-wav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4.wmf" ContentType="image/x-wmf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png" ContentType="image/pn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793-3C02-4C97-B95E-56D02895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45D-5BE0-48DB-B49E-D63B4000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53124-9347-412D-A94C-FE9B5CB8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32430-9F5F-4559-BCBA-AB0FA169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E72DA-7786-4DC6-AE12-4DDBE159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9BED6-108C-4F70-92D1-9D18BE6A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7476B-A75C-4071-85DD-D6576343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1BDB9-D728-401F-8910-83D80BA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F5661-8C87-493A-BC63-5A2E435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01483-8405-4DEE-9D27-2FADAE3E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A3A8-C3A4-47F4-862F-6B4E50AC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87980-CC20-4214-9CD3-6265CCAD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577-6EB1-4DF1-A42C-A159B8C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4F276-A9F8-41EC-82A4-1E02E1BB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E1D57-2AE5-4689-A3D7-49988B69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6B5C-DD71-417F-9342-13F2A6EA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5ABC1-F090-4694-8B0D-CC80BC2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22325-FC03-4EBF-8131-4D55DF7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A3F68-F2BC-42B7-87FE-AE15F99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EE6CF-CCC2-4E0F-8494-DE87FF2A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E8E60-E831-477C-87AF-C3F3FF0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F1165-F285-4F5C-9425-FE2A74D7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0B18D-3BCC-4D01-BC37-8E7D5F9A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FAF-DA3A-4DB3-9802-C3DCA91B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057CD-8BF6-4C2B-81B3-1CC6D59A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0D060-CC29-4C58-B16B-7D19B416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893D3-71B8-4597-910C-72D9662B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7E850-AEA2-4214-946E-8EACACD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99C7A-182B-40AB-A0E4-C2D07A7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9108-8B50-4A13-B16D-780F9E1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E281C-B280-4CFC-9D6C-6B093A9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7066D-636E-49B9-8CD0-924C5EE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57EC4-BFD8-42C0-B262-05CEE994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05CE0-DBB5-4F3A-A9B6-960A249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3FBC-BFDB-4C6A-B8EB-46794714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897A-11E2-49D5-9635-4B1BB75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C1677-43BB-4D32-BB88-9B680078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0F413-9BAC-4015-90D2-DD4C9DB0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156-0F0D-4ECF-9868-36A00136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CA2-F1D1-48BF-AA99-B76C6DE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E69-B878-4625-86A0-8C481FAF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C12-89DC-4716-B3FD-3FA00B4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5B1-EE7B-4EFF-9442-4FD087E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D7A5-AA9C-46FA-A452-4B70848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BF7-3049-4A0B-ADA6-602079A4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408-4E1E-47F4-AB45-5C52A50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9A63-2B03-4882-9752-7CE919A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E25A-4C44-4558-A09F-4FDD6FD5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EFD-2D0C-4D7F-ADD6-A5D8A6A6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3881-A9FE-4345-BAED-04E4A42A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BA82-0CC1-4E3A-929D-EB6EEB4C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196B-9A91-49F3-9BAE-E7A3077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EB40-ED2C-4EC9-B1D7-4E4B97FB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7A22-A169-4D7D-A014-5F03F5D6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A3C0-0B4E-498D-932C-0A97BDAB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B7B-AB02-4D80-AB70-6F932C7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22C7-C383-4D8A-908D-DF05AC1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4EEF-F406-4D3C-B0CB-C2F5CFC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FC10B-A54A-4DEB-B1E4-07F4EB53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F240-A4F8-4AF0-A67E-0B7A843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F5F0-1C9E-4862-9424-035AAFB2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08A8-4A39-45ED-BAE9-C9E09FA6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00D8-6947-4D73-AE34-167D4ED6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C773-9741-49E6-B724-C9C28875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8CE9-8469-4242-98AF-58E8DE90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18F9-3064-4EA6-8B87-E3D5FB6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96C-7D59-4FFB-9737-A3D5420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8D83-26E8-454F-86B3-FEABFD1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4D4E-33ED-431B-A8DE-7E339116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61CA-DC35-4BB5-9B06-1E55F994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3F3D-78C8-4401-A177-5DFCBAF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1AD5-20C8-4240-8D29-4525350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4853-C3EF-4035-816F-0E62639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D9960-3974-40CD-80BC-C89E2E19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46EB-2CBA-42B5-B37E-8D0F6647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3665-CA25-4EA7-B95D-B22B64C9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F0F4-0FAC-45BE-8D3F-204F49BF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58D-A01E-4C1B-A0CE-1BA93D73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F872C-0D86-4D83-AB02-169F01A1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50C8-AA3E-41DC-BCC3-A12228E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C360-ABC1-41FB-BA25-B0902C0C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C924-3563-496D-BA34-F756AA6F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93B5-9D42-4008-A650-A8D15172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E2478-72AE-46B6-A4F1-324805E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CAA4-BCD3-4551-8726-540A6AB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5A70E-42C1-4975-8374-B1525DE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81B0-F0F3-418F-B31A-17B5FDD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982EC-816F-40A2-8770-D53F72B9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0AB-547E-4A9C-AF6F-1C7B4223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A756-1714-46A9-86D4-07CE226F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B3C7-1D04-4110-9E26-064C1DE3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CCA38-70F8-4ABC-A3ED-E6B3BF4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B2EB5-48BD-4DA1-BB86-6010F9DA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20C52-6173-4E87-8630-78F3FED7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594E-5119-47B9-84B3-3A927BD5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DC8E-E803-4E5D-A5C5-900DE9D4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817E-B553-449D-9AF1-22F368DE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C825-A921-4CEA-8683-DAD9C9B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DBD0-240F-499A-90C0-B858A7B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F82-AD20-4E13-A58E-0180103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367A-B9CA-4786-9DEF-3A969257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218E7-6E23-4A62-A0E1-5A1E579B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642B-F984-423F-9CB6-09C8ED59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C6CE-7F4B-42AB-A8FB-931CE782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7198-8101-4196-A47E-F7CAC8C6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35A6A-1CB7-427B-A48E-FBE16BB6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CAC57-2640-41DC-8C92-B99C5A42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C810E-F89D-4774-866E-65070C4E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9A9B7-9B60-4269-9C01-DD69661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E52E-18B3-4567-A538-52F3C50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7E8-E325-45E5-8097-06049CD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B1FAE-4EF9-4A1B-88C8-0FED9CB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2B83-6844-4E14-B05E-AF63034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8858-0FCF-4A1B-9E38-CCFB6BB4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3D8D-5B29-425A-B9B4-8DEB633D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5FB12-89D7-41A2-9291-274BBDBB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646E-4DEE-473E-A120-194055E5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5475-C600-41DA-8C60-B84B59B7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79D02-081B-4567-90CF-D74D004D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C0A1-D5E6-4287-B361-D24A50E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BE55-1604-4EE8-B6D4-952ECF4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C8C-1AF5-43B9-B536-36D2088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6957-44A7-418F-8F52-97B1FEF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03A4-D6A9-43A3-A3B6-B0629DA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2B9F-CA8C-4FE6-983C-193D1E6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AB0C-1C85-432F-A6DE-360BA51D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DBDB-51A6-49DE-9E15-C3E51568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6EB4-5747-406F-B38D-AA4DE24E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0F1C6-6357-4AE8-9C4D-7FD624BE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E06A-2215-4FAC-9E19-8952D05C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CAC85-437F-48A4-838B-8C4F7122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F6E31-675A-4945-A5E7-03DB9269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301-41F6-4E7B-A79A-A80A41F385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9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1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BA8-EE79-457B-B96F-C2C7BAD24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3324-6496-44CC-B3BE-84AAF48FE1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916-030B-4F11-BA48-724E33D243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9B91-02FC-414D-B043-25EF16DA0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29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657A-8035-44C9-89E0-5008B7BDE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17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3899-8B46-4F2A-BEE4-54F315090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19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1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288-1FC3-42AE-9875-6C93A3D6C6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52F2-5994-4CFF-BBE8-426023980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9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2AFB-1A45-4FFF-B704-E87492935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022-8261-44BA-B0B9-8625A85710E3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pu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yjy.jzedu.cn/jiaoxueziyuan/tupian/sctp/sctp_12.htm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auto17.net/auto17/product/temperatur/boli/8001.html" TargetMode="External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COPPER_WIRE"/>
          <p:cNvPicPr/>
          <p:nvPr/>
        </p:nvPicPr>
        <p:blipFill>
          <a:blip r:embed="rId1"/>
          <a:srcRect l="6698" t="6569" r="2160" b="7167"/>
          <a:stretch/>
        </p:blipFill>
        <p:spPr>
          <a:xfrm>
            <a:off x="7093080" y="3429000"/>
            <a:ext cx="1908000" cy="1039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" descr="89407860000"/>
          <p:cNvPicPr/>
          <p:nvPr/>
        </p:nvPicPr>
        <p:blipFill>
          <a:blip r:embed="rId2"/>
          <a:stretch/>
        </p:blipFill>
        <p:spPr>
          <a:xfrm rot="20382000">
            <a:off x="6014880" y="5136840"/>
            <a:ext cx="3421080" cy="1706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2843280" y="2637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金属的性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2835360" cy="31035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700360" cy="2324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5"/>
          <a:stretch/>
        </p:blipFill>
        <p:spPr>
          <a:xfrm>
            <a:off x="3635280" y="333360"/>
            <a:ext cx="2521080" cy="20908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6"/>
          <a:stretch/>
        </p:blipFill>
        <p:spPr>
          <a:xfrm>
            <a:off x="3132000" y="4076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7"/>
          <a:stretch/>
        </p:blipFill>
        <p:spPr>
          <a:xfrm>
            <a:off x="324000" y="189000"/>
            <a:ext cx="3024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581280" cy="13795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79280" y="1484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、 星期天，小明去奶奶家帮做家务，他费了好大功夫用钢丝清洁球将一只灰暗的旧铝锅擦得锃亮如新。请问：小明的做法科学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4292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“真金不怕火炼”道出了金的什么性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2530440" cy="1791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84360" y="5661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★</a:t>
            </a:r>
            <a:r>
              <a:rPr b="1" lang="zh-CN" sz="3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不是</a:t>
            </a:r>
            <a:r>
              <a:rPr b="1" lang="zh-CN" sz="36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所有的金属都会与氧气反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6836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8868"/>
                </a:solidFill>
                <a:latin typeface="Goudy Old Style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将用砂纸打磨好的镁带、锌片、铁丝（片）和铜片分别插入稀硫酸中，将现象记录在</a:t>
            </a: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116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页表</a:t>
            </a: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5-4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中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692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26028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实验探究</a:t>
            </a:r>
            <a:r>
              <a:rPr b="0" lang="en-US" sz="6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2</a:t>
            </a:r>
            <a:r>
              <a:rPr b="0" lang="zh-CN" sz="6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pic_21756"/>
          <p:cNvPicPr/>
          <p:nvPr/>
        </p:nvPicPr>
        <p:blipFill>
          <a:blip r:embed="rId2"/>
          <a:stretch/>
        </p:blipFill>
        <p:spPr>
          <a:xfrm>
            <a:off x="304920" y="1143000"/>
            <a:ext cx="2286000" cy="5029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pic_21757"/>
          <p:cNvPicPr/>
          <p:nvPr/>
        </p:nvPicPr>
        <p:blipFill>
          <a:blip r:embed="rId3"/>
          <a:stretch/>
        </p:blipFill>
        <p:spPr>
          <a:xfrm>
            <a:off x="2590920" y="1143000"/>
            <a:ext cx="2286000" cy="5029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pic_21758"/>
          <p:cNvPicPr/>
          <p:nvPr/>
        </p:nvPicPr>
        <p:blipFill>
          <a:blip r:embed="rId4"/>
          <a:stretch/>
        </p:blipFill>
        <p:spPr>
          <a:xfrm>
            <a:off x="4876920" y="1143000"/>
            <a:ext cx="2057400" cy="50292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pic_21759"/>
          <p:cNvPicPr/>
          <p:nvPr/>
        </p:nvPicPr>
        <p:blipFill>
          <a:blip r:embed="rId5"/>
          <a:stretch/>
        </p:blipFill>
        <p:spPr>
          <a:xfrm>
            <a:off x="6934320" y="1143000"/>
            <a:ext cx="205740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228600" y="1052640"/>
            <a:ext cx="8915400" cy="4876560"/>
            <a:chOff x="228600" y="1052640"/>
            <a:chExt cx="8915400" cy="4876560"/>
          </a:xfrm>
        </p:grpSpPr>
        <p:sp>
          <p:nvSpPr>
            <p:cNvPr id="577" name=""/>
            <p:cNvSpPr/>
            <p:nvPr/>
          </p:nvSpPr>
          <p:spPr>
            <a:xfrm>
              <a:off x="4800600" y="4599000"/>
              <a:ext cx="4343400" cy="13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43000" y="4599000"/>
              <a:ext cx="3657600" cy="13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8600" y="4599000"/>
              <a:ext cx="914400" cy="13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铜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00600" y="3679560"/>
              <a:ext cx="43434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43000" y="3679560"/>
              <a:ext cx="36576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8600" y="3679560"/>
              <a:ext cx="9144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铁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0600" y="2628720"/>
              <a:ext cx="43434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43000" y="2628720"/>
              <a:ext cx="36576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" y="2628720"/>
              <a:ext cx="9144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00600" y="1695600"/>
              <a:ext cx="43434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43000" y="1695600"/>
              <a:ext cx="36576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8600" y="1695600"/>
              <a:ext cx="91440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oudy Old Style"/>
                  <a:ea typeface="华文中宋"/>
                </a:rPr>
                <a:t>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00600" y="1052640"/>
              <a:ext cx="43434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oudy Old Style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Goudy Old Style"/>
                </a:rPr>
                <a:t>反应的化学方程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1052640"/>
              <a:ext cx="3657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oudy Old Style"/>
                </a:rPr>
                <a:t>   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Goudy Old Style"/>
                </a:rPr>
                <a:t>现        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8600" y="1052640"/>
              <a:ext cx="9144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oudy Old Style"/>
                </a:rPr>
                <a:t>金属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" y="1052640"/>
              <a:ext cx="45720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" y="16956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8600" y="26287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600" y="367956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600" y="45990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8600" y="5929200"/>
              <a:ext cx="89154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8600" y="1052640"/>
              <a:ext cx="0" cy="48765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43000" y="105264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00600" y="105264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144000" y="1052640"/>
              <a:ext cx="0" cy="48765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00600" y="1052640"/>
              <a:ext cx="43434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042920" y="378936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固体逐渐溶解、气泡产生较慢，</a:t>
            </a:r>
            <a:r>
              <a:rPr b="1" lang="zh-CN" sz="2400" spc="-1" strike="noStrike">
                <a:solidFill>
                  <a:srgbClr val="ff0000"/>
                </a:solidFill>
                <a:latin typeface="Footlight MT Light"/>
                <a:ea typeface="华文新魏"/>
              </a:rPr>
              <a:t>溶液由无色变为</a:t>
            </a:r>
            <a:r>
              <a:rPr b="1" lang="zh-CN" sz="2400" spc="-1" strike="noStrike">
                <a:solidFill>
                  <a:srgbClr val="00ff99"/>
                </a:solidFill>
                <a:latin typeface="Footlight MT Light"/>
                <a:ea typeface="华文新魏"/>
              </a:rPr>
              <a:t>浅绿</a:t>
            </a:r>
            <a:r>
              <a:rPr b="1" lang="zh-CN" sz="2400" spc="-1" strike="noStrike">
                <a:solidFill>
                  <a:srgbClr val="ff0000"/>
                </a:solidFill>
                <a:latin typeface="Footlight MT Light"/>
                <a:ea typeface="华文新魏"/>
              </a:rPr>
              <a:t>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116000" y="292428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固体溶解、气泡产生较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58920" y="1700280"/>
            <a:ext cx="34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固体溶解、很快产生气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0920" y="44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金属与稀硫酸反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476360" y="530064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没有明显变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pic_21760"/>
          <p:cNvPicPr/>
          <p:nvPr/>
        </p:nvPicPr>
        <p:blipFill>
          <a:blip r:embed="rId1"/>
          <a:stretch/>
        </p:blipFill>
        <p:spPr>
          <a:xfrm>
            <a:off x="611280" y="333360"/>
            <a:ext cx="7772400" cy="38862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395280" y="443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结论：这四种金属与酸反应剧烈程度的顺序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501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由强到弱：</a:t>
            </a:r>
            <a:r>
              <a:rPr b="1" lang="zh-CN" sz="3600" spc="-1" strike="noStrike" u="sng">
                <a:solidFill>
                  <a:srgbClr val="f5301b"/>
                </a:solidFill>
                <a:uFillTx/>
                <a:latin typeface="Footlight MT Light"/>
                <a:ea typeface="华文新魏"/>
              </a:rPr>
              <a:t>镁 ﹥锌 ﹥铁﹥ 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0" y="1341360"/>
            <a:ext cx="8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40360" y="162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ootlight MT Light"/>
              </a:rPr>
              <a:t>或硫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1890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学以致用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5867280" y="1052640"/>
            <a:ext cx="3097440" cy="28429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24000" y="1125360"/>
            <a:ext cx="54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你能用今天所学的哪些知识揭穿市场上出售的假金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铜锌合金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87280" y="38606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、灼烧</a:t>
            </a: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93280" y="445788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、放入稀硫酸或盐酸中</a:t>
            </a: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16000" y="508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、测密度</a:t>
            </a: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16000" y="5734080"/>
            <a:ext cx="2089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、</a:t>
            </a:r>
            <a:r>
              <a:rPr b="0" lang="en-US" sz="3600" spc="-1" strike="noStrike" u="sng">
                <a:solidFill>
                  <a:srgbClr val="d9be02"/>
                </a:solidFill>
                <a:uFillTx/>
                <a:latin typeface="Footlight MT Light"/>
                <a:ea typeface="华文新魏"/>
                <a:hlinkClick r:id="rId2" action="ppaction://hlinksldjump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6443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oudy Old Style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将</a:t>
            </a: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枚新铁钉或铁丝浸入硫酸铜溶液中，观察现象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5301b"/>
                </a:solidFill>
                <a:latin typeface="Footlight MT Light"/>
              </a:rPr>
              <a:t>实验探究</a:t>
            </a:r>
            <a:r>
              <a:rPr b="0" lang="en-US" sz="4400" spc="-1" strike="noStrike">
                <a:solidFill>
                  <a:srgbClr val="f5301b"/>
                </a:solidFill>
                <a:latin typeface="Footlight MT Light"/>
              </a:rPr>
              <a:t>3</a:t>
            </a:r>
            <a:r>
              <a:rPr b="0" lang="zh-CN" sz="4400" spc="-1" strike="noStrike">
                <a:solidFill>
                  <a:srgbClr val="f5301b"/>
                </a:solidFill>
                <a:latin typeface="Footlight MT Light"/>
              </a:rPr>
              <a:t>、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730520" cy="62643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95280" y="2852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现象：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铁表面有</a:t>
            </a:r>
            <a:r>
              <a:rPr b="1" lang="zh-CN" sz="2800" spc="-1" strike="noStrike">
                <a:solidFill>
                  <a:srgbClr val="ff0000"/>
                </a:solidFill>
                <a:latin typeface="Footlight MT Light"/>
                <a:ea typeface="华文新魏"/>
              </a:rPr>
              <a:t>红色</a:t>
            </a: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物质析出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、溶液由</a:t>
            </a:r>
            <a:r>
              <a:rPr b="1" lang="zh-CN" sz="2800" spc="-1" strike="noStrike">
                <a:solidFill>
                  <a:srgbClr val="3333ff"/>
                </a:solidFill>
                <a:latin typeface="Footlight MT Light"/>
                <a:ea typeface="华文新魏"/>
              </a:rPr>
              <a:t>蓝色</a:t>
            </a: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变为</a:t>
            </a:r>
            <a:r>
              <a:rPr b="1" lang="zh-CN" sz="2800" spc="-1" strike="noStrike">
                <a:solidFill>
                  <a:srgbClr val="99ff33"/>
                </a:solidFill>
                <a:latin typeface="Footlight MT Light"/>
                <a:ea typeface="华文新魏"/>
              </a:rPr>
              <a:t>浅绿色</a:t>
            </a: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4360" y="404640"/>
            <a:ext cx="87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  +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=  Fe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+    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8317080" y="549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1280" y="1339920"/>
            <a:ext cx="8785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Al + 3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=A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  3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8244000" y="148428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26920" y="2637000"/>
            <a:ext cx="784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 + Cu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=  Fe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  C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5640" y="333360"/>
            <a:ext cx="792000" cy="2951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80360" y="333360"/>
            <a:ext cx="1008000" cy="2951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40360" y="333360"/>
            <a:ext cx="2303280" cy="2951280"/>
          </a:xfrm>
          <a:prstGeom prst="rect">
            <a:avLst/>
          </a:prstGeom>
          <a:noFill/>
          <a:ln cap="rnd" w="76320">
            <a:solidFill>
              <a:srgbClr val="2688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50920" y="333360"/>
            <a:ext cx="1800360" cy="3024360"/>
          </a:xfrm>
          <a:prstGeom prst="rect">
            <a:avLst/>
          </a:prstGeom>
          <a:noFill/>
          <a:ln cap="rnd" w="76320">
            <a:solidFill>
              <a:srgbClr val="2688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71640" y="437184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单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268868"/>
                </a:solidFill>
                <a:latin typeface="黑体"/>
                <a:ea typeface="黑体"/>
              </a:rPr>
              <a:t>化合物</a:t>
            </a:r>
            <a:r>
              <a:rPr b="1" lang="en-US" sz="3600" spc="-1" strike="noStrike">
                <a:solidFill>
                  <a:srgbClr val="268868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268868"/>
                </a:solidFill>
                <a:latin typeface="黑体"/>
                <a:ea typeface="黑体"/>
              </a:rPr>
              <a:t>化合物</a:t>
            </a:r>
            <a:r>
              <a:rPr b="1" lang="en-US" sz="3600" spc="-1" strike="noStrike">
                <a:solidFill>
                  <a:srgbClr val="268868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单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4000" y="350028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置换反应</a:t>
            </a:r>
            <a:r>
              <a:rPr b="1" lang="en-US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55640" y="2006640"/>
            <a:ext cx="871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n  +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=  ZnS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+   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4720" y="587232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 rot="1360800">
            <a:off x="1834920" y="5229360"/>
            <a:ext cx="645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564000" y="57038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51280" y="5729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214e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4214e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0" name=""/>
          <p:cNvSpPr txBox="1"/>
          <p:nvPr/>
        </p:nvSpPr>
        <p:spPr>
          <a:xfrm rot="1360800">
            <a:off x="3276360" y="5369040"/>
            <a:ext cx="645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1" name=""/>
          <p:cNvSpPr txBox="1"/>
          <p:nvPr/>
        </p:nvSpPr>
        <p:spPr>
          <a:xfrm rot="1360800">
            <a:off x="1821960" y="5315040"/>
            <a:ext cx="646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564000" y="5729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214e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4214e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51280" y="5729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214e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4214e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771640" y="5513040"/>
            <a:ext cx="648000" cy="646200"/>
            <a:chOff x="2771640" y="5513040"/>
            <a:chExt cx="648000" cy="646200"/>
          </a:xfrm>
        </p:grpSpPr>
        <p:sp>
          <p:nvSpPr>
            <p:cNvPr id="645" name=""/>
            <p:cNvSpPr/>
            <p:nvPr/>
          </p:nvSpPr>
          <p:spPr>
            <a:xfrm>
              <a:off x="2771640" y="5808600"/>
              <a:ext cx="64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099960" y="5513040"/>
              <a:ext cx="1440" cy="646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867280" y="5584320"/>
            <a:ext cx="648000" cy="646200"/>
            <a:chOff x="5867280" y="5584320"/>
            <a:chExt cx="648000" cy="646200"/>
          </a:xfrm>
        </p:grpSpPr>
        <p:sp>
          <p:nvSpPr>
            <p:cNvPr id="648" name=""/>
            <p:cNvSpPr/>
            <p:nvPr/>
          </p:nvSpPr>
          <p:spPr>
            <a:xfrm>
              <a:off x="5867280" y="5879880"/>
              <a:ext cx="64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195600" y="5584320"/>
              <a:ext cx="1440" cy="646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animMotion origin="layout" path="M 0.01407 -0.02035 C 0.01337 0.01179 0.01268 0.04393 0.03143 0.0474 C 0.05018 0.05087 0.11111 0.00856 0.12674 0.00093 E">
                                      <p:cBhvr>
                                        <p:cTn id="186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-0.00035 -0.00509 C -0.00261 -0.04833 -0.00469 -0.09133 0.01718 -0.10428 C 0.03906 -0.11723 0.10364 -0.10058 0.13142 -0.08324 C 0.1592 -0.0659 0.17152 -0.0333 0.18385 -0.00069 E">
                                      <p:cBhvr>
                                        <p:cTn id="192" dur="1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12139E-006 C 3.05556E-006 -3.12139E-006 0.18889 -3.12139E-006 0.37777 -3.12139E-006 E">
                                      <p:cBhvr>
                                        <p:cTn id="197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0 0 0.18889 0 0.37778 0 E">
                                      <p:cBhvr>
                                        <p:cTn id="199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5301b"/>
                </a:solidFill>
                <a:latin typeface="Footlight MT Light"/>
              </a:rPr>
              <a:t>小结与反思：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这节课我学到了哪些知识？还有什么疑问吗？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652" name="Picture 4" descr="MCPE02481_0000[1]"/>
          <p:cNvPicPr/>
          <p:nvPr/>
        </p:nvPicPr>
        <p:blipFill>
          <a:blip r:embed="rId1"/>
          <a:stretch/>
        </p:blipFill>
        <p:spPr>
          <a:xfrm>
            <a:off x="6804000" y="3860640"/>
            <a:ext cx="163980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578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金属的物理性质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62120" y="15332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金属的化学性质</a:t>
            </a:r>
            <a:endParaRPr b="0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5" name=""/>
          <p:cNvSpPr/>
          <p:nvPr/>
        </p:nvSpPr>
        <p:spPr>
          <a:xfrm>
            <a:off x="826920" y="2143080"/>
            <a:ext cx="7162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多数金属能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反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00000" y="2752560"/>
            <a:ext cx="7925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oudy Old Style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多数金属能与稀盐酸或稀硫酸反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26920" y="3362400"/>
            <a:ext cx="784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金属能与金属化合物的溶液反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350000" y="3898800"/>
            <a:ext cx="2170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置换反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0" y="1341360"/>
            <a:ext cx="874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Goudy Old Style"/>
              </a:rPr>
              <a:t>＊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你们组带来了哪些金属小物件？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Goudy Old Style"/>
              </a:rPr>
              <a:t>＊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大家知道生活中还常用到哪些金属制品？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Goudy Old Style"/>
              </a:rPr>
              <a:t>＊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知道它们分别利用了金属的哪些性质吗？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497" name="Picture 4" descr="MCj03608420000[1]"/>
          <p:cNvPicPr/>
          <p:nvPr/>
        </p:nvPicPr>
        <p:blipFill>
          <a:blip r:embed="rId1"/>
          <a:stretch/>
        </p:blipFill>
        <p:spPr>
          <a:xfrm>
            <a:off x="6372360" y="4005360"/>
            <a:ext cx="2501640" cy="2592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68360" y="33336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交流与展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5301b"/>
                </a:solidFill>
                <a:latin typeface="Footlight MT Light"/>
              </a:rPr>
              <a:t>        </a:t>
            </a:r>
            <a:r>
              <a:rPr b="1" lang="zh-CN" sz="3600" spc="-1" strike="noStrike">
                <a:solidFill>
                  <a:srgbClr val="f5301b"/>
                </a:solidFill>
                <a:latin typeface="Footlight MT Light"/>
              </a:rPr>
              <a:t>大多数金属共有的</a:t>
            </a:r>
            <a:r>
              <a:rPr b="1" lang="zh-CN" sz="3600" spc="-1" strike="noStrike" u="sng">
                <a:solidFill>
                  <a:srgbClr val="f5301b"/>
                </a:solidFill>
                <a:uFillTx/>
                <a:latin typeface="Footlight MT Light"/>
              </a:rPr>
              <a:t>物理性质</a:t>
            </a:r>
            <a:r>
              <a:rPr b="1" lang="zh-CN" sz="3600" spc="-1" strike="noStrike">
                <a:solidFill>
                  <a:srgbClr val="f5301b"/>
                </a:solidFill>
                <a:latin typeface="Footlight MT Light"/>
              </a:rPr>
              <a:t>：</a:t>
            </a:r>
            <a:br>
              <a:rPr sz="4000"/>
            </a:br>
            <a:r>
              <a:rPr b="1" lang="zh-CN" sz="3200" spc="-1" strike="noStrike">
                <a:solidFill>
                  <a:srgbClr val="d9be02"/>
                </a:solidFill>
                <a:latin typeface="Footlight MT Light"/>
              </a:rPr>
              <a:t>状态：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常温下多为固体（汞除外） </a:t>
            </a:r>
            <a:br>
              <a:rPr sz="3200"/>
            </a:br>
            <a:r>
              <a:rPr b="1" lang="zh-CN" sz="3200" spc="-1" strike="noStrike">
                <a:solidFill>
                  <a:srgbClr val="f5301b"/>
                </a:solidFill>
                <a:latin typeface="Footlight MT Light"/>
              </a:rPr>
              <a:t>有金属光泽</a:t>
            </a:r>
            <a:r>
              <a:rPr b="1" lang="zh-CN" sz="3200" spc="-1" strike="noStrike">
                <a:solidFill>
                  <a:srgbClr val="d9be02"/>
                </a:solidFill>
                <a:latin typeface="Footlight MT Light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大多数银白色；少数特殊色（</a:t>
            </a:r>
            <a:r>
              <a:rPr b="1" lang="zh-CN" sz="3200" spc="-1" strike="noStrike">
                <a:solidFill>
                  <a:srgbClr val="ffff00"/>
                </a:solidFill>
                <a:latin typeface="Footlight MT Light"/>
              </a:rPr>
              <a:t>金是金黄色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、</a:t>
            </a:r>
            <a:r>
              <a:rPr b="1" lang="zh-CN" sz="3200" spc="-1" strike="noStrike">
                <a:solidFill>
                  <a:srgbClr val="990000"/>
                </a:solidFill>
                <a:latin typeface="Footlight MT Light"/>
              </a:rPr>
              <a:t>铜紫红色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）；有些粉末（如铁粉）等呈黑色或暗灰色。</a:t>
            </a:r>
            <a:br>
              <a:rPr sz="3200"/>
            </a:br>
            <a:r>
              <a:rPr b="1" lang="zh-CN" sz="3200" spc="-1" strike="noStrike">
                <a:solidFill>
                  <a:srgbClr val="d9be02"/>
                </a:solidFill>
                <a:latin typeface="Footlight MT Light"/>
              </a:rPr>
              <a:t>特性：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大多数有较好的</a:t>
            </a:r>
            <a:r>
              <a:rPr b="1" lang="zh-CN" sz="3200" spc="-1" strike="noStrike">
                <a:solidFill>
                  <a:srgbClr val="f5301b"/>
                </a:solidFill>
                <a:latin typeface="Footlight MT Light"/>
              </a:rPr>
              <a:t>延性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和</a:t>
            </a:r>
            <a:r>
              <a:rPr b="1" lang="zh-CN" sz="3200" spc="-1" strike="noStrike">
                <a:solidFill>
                  <a:srgbClr val="f5301b"/>
                </a:solidFill>
                <a:latin typeface="Footlight MT Light"/>
              </a:rPr>
              <a:t>展性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，（展性较好的有金、铝等）；具有良好的</a:t>
            </a:r>
            <a:r>
              <a:rPr b="1" lang="zh-CN" sz="3200" spc="-1" strike="noStrike">
                <a:solidFill>
                  <a:srgbClr val="f5301b"/>
                </a:solidFill>
                <a:latin typeface="Footlight MT Light"/>
              </a:rPr>
              <a:t>导电性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和</a:t>
            </a:r>
            <a:r>
              <a:rPr b="1" lang="zh-CN" sz="3200" spc="-1" strike="noStrike">
                <a:solidFill>
                  <a:srgbClr val="f5301b"/>
                </a:solidFill>
                <a:latin typeface="Footlight MT Light"/>
              </a:rPr>
              <a:t>导热性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Footlight MT Light"/>
              </a:rPr>
              <a:t>银﹥铜﹥铝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）。</a:t>
            </a:r>
            <a:br>
              <a:rPr sz="3200"/>
            </a:br>
            <a:r>
              <a:rPr b="1" i="1" lang="zh-CN" sz="3200" spc="-1" strike="noStrike">
                <a:solidFill>
                  <a:srgbClr val="d9be02"/>
                </a:solidFill>
                <a:latin typeface="Footlight MT Light"/>
              </a:rPr>
              <a:t>硬度：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一般都较大（但差别较大，如钠较软）</a:t>
            </a:r>
            <a:br>
              <a:rPr sz="3200"/>
            </a:br>
            <a:r>
              <a:rPr b="1" lang="zh-CN" sz="3200" spc="-1" strike="noStrike">
                <a:solidFill>
                  <a:srgbClr val="d9be02"/>
                </a:solidFill>
                <a:latin typeface="Footlight MT Light"/>
              </a:rPr>
              <a:t>密度：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一般都较大（除钠等少数较水轻） </a:t>
            </a:r>
            <a:br>
              <a:rPr sz="3200"/>
            </a:br>
            <a:r>
              <a:rPr b="1" lang="zh-CN" sz="3200" spc="-1" strike="noStrike">
                <a:solidFill>
                  <a:srgbClr val="d9be02"/>
                </a:solidFill>
                <a:latin typeface="Footlight MT Light"/>
              </a:rPr>
              <a:t>熔点：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一般都较高（但差异较大，最难熔的金属是钨，熔点最低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Footlight MT Light"/>
              </a:rPr>
              <a:t>  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Footlight MT Light"/>
              </a:rPr>
              <a:t>？</a:t>
            </a: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）</a:t>
            </a:r>
            <a:r>
              <a:rPr b="0" lang="zh-CN" sz="4000" spc="-1" strike="noStrike">
                <a:solidFill>
                  <a:srgbClr val="4bc5b9"/>
                </a:solidFill>
                <a:latin typeface="Footlight MT Light"/>
              </a:rPr>
              <a:t> </a:t>
            </a:r>
            <a:endParaRPr b="0" lang="en-US" sz="40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11280" y="1700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导热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0920" y="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301b"/>
                </a:solidFill>
                <a:latin typeface="Arial"/>
              </a:rPr>
              <a:t>常见金属的物理性质和用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20360" y="17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锅等炊具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80000" y="2276640"/>
            <a:ext cx="34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线、电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磁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66120" y="126828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制成金属丝、金属箔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51280" y="3500280"/>
            <a:ext cx="44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钢轨、铝合金门窗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92360" y="414972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低）保险丝、（高）钨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24000" y="2060640"/>
            <a:ext cx="17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1280" y="21924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导电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2552760"/>
            <a:ext cx="17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4360" y="2781360"/>
            <a:ext cx="3240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01b"/>
                </a:solidFill>
                <a:latin typeface="Arial"/>
              </a:rPr>
              <a:t>能被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301b"/>
                </a:solidFill>
                <a:latin typeface="Arial"/>
              </a:rPr>
              <a:t>铁吸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050920" y="3284640"/>
            <a:ext cx="17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11280" y="119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5301b"/>
                </a:solidFill>
                <a:latin typeface="Arial"/>
              </a:rPr>
              <a:t>延展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39640" y="35798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硬度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11280" y="40831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熔 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7400" y="1523880"/>
            <a:ext cx="17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3867120"/>
            <a:ext cx="17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92360" y="4436640"/>
            <a:ext cx="1728720" cy="4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3141720"/>
            <a:ext cx="606240" cy="10810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2050920" y="4797360"/>
            <a:ext cx="2376720" cy="2011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8360" y="4724280"/>
            <a:ext cx="593640" cy="21337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7093080" y="404640"/>
            <a:ext cx="2050920" cy="9334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6156360" y="2421000"/>
            <a:ext cx="1368360" cy="10904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6084720" y="4762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68360" y="6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ootlight MT Light"/>
              </a:rPr>
              <a:t>金属光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981000"/>
            <a:ext cx="17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24360" y="62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ootlight MT Light"/>
              </a:rPr>
              <a:t>制首饰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4716360" y="4965840"/>
            <a:ext cx="2159280" cy="18921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6948360" y="5157720"/>
            <a:ext cx="1368720" cy="1349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>
            <a:off x="7596360" y="184464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179280" y="5013360"/>
            <a:ext cx="17272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bc5b9"/>
                </a:solidFill>
                <a:latin typeface="Footlight MT Light"/>
              </a:rPr>
              <a:t>       </a:t>
            </a:r>
            <a:r>
              <a:rPr b="1" lang="zh-CN" sz="4400" spc="-1" strike="noStrike">
                <a:solidFill>
                  <a:srgbClr val="f5301b"/>
                </a:solidFill>
                <a:latin typeface="Footlight MT Light"/>
              </a:rPr>
              <a:t>性质与用途的关系：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Goudy Old Style"/>
              </a:rPr>
              <a:t>性质                    用途</a:t>
            </a:r>
            <a:endParaRPr b="0" lang="en-US" sz="6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" name=""/>
          <p:cNvSpPr/>
          <p:nvPr/>
        </p:nvSpPr>
        <p:spPr>
          <a:xfrm>
            <a:off x="2843280" y="256536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843280" y="306864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64000" y="184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决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35280" y="299736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反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145360" cy="12254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90792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Goudy Old Style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以下铁的用途中，涉及了铁的哪些性质？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40" name="Picture 4" descr="MCPE02481_0000[1]"/>
          <p:cNvPicPr/>
          <p:nvPr/>
        </p:nvPicPr>
        <p:blipFill>
          <a:blip r:embed="rId2"/>
          <a:stretch/>
        </p:blipFill>
        <p:spPr>
          <a:xfrm>
            <a:off x="7236000" y="4076640"/>
            <a:ext cx="1639800" cy="25653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250920" y="2060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铁能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制成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；锅把手、锅铲上要加木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钢铁能造车辆、轮船、钢轨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铁锭轧成铁板或拉成铁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油罐车尾有一条拖地的铁链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9280" y="4365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Footlight MT Light"/>
              </a:rPr>
              <a:t>二、银的导电性比铜好，一般为何不用银制造电线电缆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8560" y="9810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oudy Old Style"/>
              </a:rPr>
              <a:t>＊</a:t>
            </a: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铸造硬币的金属材料有哪些？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oudy Old Style"/>
              </a:rPr>
              <a:t>＊</a:t>
            </a:r>
            <a:r>
              <a:rPr b="1" lang="zh-CN" sz="3600" spc="-1" strike="noStrike">
                <a:solidFill>
                  <a:srgbClr val="ffffff"/>
                </a:solidFill>
                <a:latin typeface="Goudy Old Style"/>
              </a:rPr>
              <a:t>在选择铸币材料时应考虑哪些因素？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</p:txBody>
      </p:sp>
      <p:grpSp>
        <p:nvGrpSpPr>
          <p:cNvPr id="544" name="Group 12"/>
          <p:cNvGrpSpPr/>
          <p:nvPr/>
        </p:nvGrpSpPr>
        <p:grpSpPr>
          <a:xfrm>
            <a:off x="1763640" y="2205000"/>
            <a:ext cx="6336720" cy="2447640"/>
            <a:chOff x="1763640" y="2205000"/>
            <a:chExt cx="6336720" cy="2447640"/>
          </a:xfrm>
        </p:grpSpPr>
        <p:pic>
          <p:nvPicPr>
            <p:cNvPr id="545" name="Picture 4" descr="rmb3"/>
            <p:cNvPicPr/>
            <p:nvPr/>
          </p:nvPicPr>
          <p:blipFill>
            <a:blip r:embed="rId1"/>
            <a:srcRect l="7521" t="0" r="0" b="64889"/>
            <a:stretch/>
          </p:blipFill>
          <p:spPr>
            <a:xfrm>
              <a:off x="1763640" y="2429640"/>
              <a:ext cx="154080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" descr="rmb3"/>
            <p:cNvPicPr/>
            <p:nvPr/>
          </p:nvPicPr>
          <p:blipFill>
            <a:blip r:embed="rId2"/>
            <a:srcRect l="0" t="67508" r="0" b="0"/>
            <a:stretch/>
          </p:blipFill>
          <p:spPr>
            <a:xfrm>
              <a:off x="2456640" y="3111480"/>
              <a:ext cx="154116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6" descr="1y"/>
            <p:cNvPicPr/>
            <p:nvPr/>
          </p:nvPicPr>
          <p:blipFill>
            <a:blip r:embed="rId3"/>
            <a:srcRect l="0" t="0" r="66002" b="0"/>
            <a:stretch/>
          </p:blipFill>
          <p:spPr>
            <a:xfrm>
              <a:off x="4538160" y="2205000"/>
              <a:ext cx="1386000" cy="138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7" descr="1y"/>
            <p:cNvPicPr/>
            <p:nvPr/>
          </p:nvPicPr>
          <p:blipFill>
            <a:blip r:embed="rId4"/>
            <a:srcRect l="39667" t="0" r="24417" b="0"/>
            <a:stretch/>
          </p:blipFill>
          <p:spPr>
            <a:xfrm>
              <a:off x="4306680" y="3263040"/>
              <a:ext cx="1464480" cy="138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9" descr="j4002"/>
            <p:cNvPicPr/>
            <p:nvPr/>
          </p:nvPicPr>
          <p:blipFill>
            <a:blip r:embed="rId5"/>
            <a:stretch/>
          </p:blipFill>
          <p:spPr>
            <a:xfrm>
              <a:off x="6541200" y="3338280"/>
              <a:ext cx="101916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0" descr="j4002b"/>
            <p:cNvPicPr/>
            <p:nvPr/>
          </p:nvPicPr>
          <p:blipFill>
            <a:blip r:embed="rId6"/>
            <a:stretch/>
          </p:blipFill>
          <p:spPr>
            <a:xfrm>
              <a:off x="7081200" y="2506320"/>
              <a:ext cx="101916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"/>
          <p:cNvSpPr/>
          <p:nvPr/>
        </p:nvSpPr>
        <p:spPr>
          <a:xfrm>
            <a:off x="4284720" y="458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钢芯镀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71640" y="378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钢芯镀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43657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不锈钢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Rectangle 2" descr=""/>
          <p:cNvPicPr/>
          <p:nvPr/>
        </p:nvPicPr>
        <p:blipFill>
          <a:blip r:embed="rId7"/>
          <a:stretch/>
        </p:blipFill>
        <p:spPr>
          <a:xfrm>
            <a:off x="0" y="0"/>
            <a:ext cx="8145360" cy="12254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0" y="5300640"/>
            <a:ext cx="946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Footlight MT Light"/>
                <a:ea typeface="华文新魏"/>
              </a:rPr>
              <a:t>硬度大、耐磨、成本低、易加工、抗氧化、耐腐蚀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059680" cy="1158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pic_32594"/>
          <p:cNvPicPr/>
          <p:nvPr/>
        </p:nvPicPr>
        <p:blipFill>
          <a:blip r:embed="rId2"/>
          <a:stretch/>
        </p:blipFill>
        <p:spPr>
          <a:xfrm>
            <a:off x="762120" y="1371600"/>
            <a:ext cx="3581280" cy="4114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pic_35194"/>
          <p:cNvPicPr/>
          <p:nvPr/>
        </p:nvPicPr>
        <p:blipFill>
          <a:blip r:embed="rId3"/>
          <a:stretch/>
        </p:blipFill>
        <p:spPr>
          <a:xfrm>
            <a:off x="5029200" y="137160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249120" y="1267920"/>
            <a:ext cx="88948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8868"/>
                </a:solidFill>
                <a:latin typeface="Goudy Old Style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Goudy Old Style"/>
              </a:rPr>
              <a:t>将用砂纸打磨好的铝片和铜片分别放在空气中燃烧，观察现象。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" name=""/>
          <p:cNvSpPr/>
          <p:nvPr/>
        </p:nvSpPr>
        <p:spPr>
          <a:xfrm>
            <a:off x="3059280" y="692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5640" y="26028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实验探究</a:t>
            </a:r>
            <a:r>
              <a:rPr b="0" lang="en-US" sz="6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1</a:t>
            </a:r>
            <a:r>
              <a:rPr b="0" lang="zh-CN" sz="6600" spc="-1" strike="noStrike">
                <a:solidFill>
                  <a:srgbClr val="f5301b"/>
                </a:solidFill>
                <a:latin typeface="Footlight MT Light"/>
                <a:ea typeface="华文新魏"/>
              </a:rPr>
              <a:t>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87280" y="2781360"/>
          <a:ext cx="8856720" cy="2504880"/>
        </p:xfrm>
        <a:graphic>
          <a:graphicData uri="http://schemas.openxmlformats.org/drawingml/2006/table">
            <a:tbl>
              <a:tblPr/>
              <a:tblGrid>
                <a:gridCol w="1943280"/>
                <a:gridCol w="3744720"/>
                <a:gridCol w="316872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oudy Old Style"/>
                          <a:ea typeface="黑体"/>
                        </a:rPr>
                        <a:t>铝在空气中加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301b"/>
                          </a:solidFill>
                          <a:latin typeface="Goudy Old Style"/>
                          <a:ea typeface="黑体"/>
                        </a:rPr>
                        <a:t>表面失去光泽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301b"/>
                          </a:solidFill>
                          <a:latin typeface="Goudy Old Style"/>
                          <a:ea typeface="黑体"/>
                        </a:rPr>
                        <a:t>逐渐变成灰暗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oudy Old Style"/>
                          <a:ea typeface="黑体"/>
                        </a:rPr>
                        <a:t>铜在空气中加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301b"/>
                          </a:solidFill>
                          <a:latin typeface="Goudy Old Style"/>
                          <a:ea typeface="黑体"/>
                        </a:rPr>
                        <a:t>红色变成黑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16:48Z</dcterms:created>
  <dc:creator/>
  <dc:description/>
  <dc:language>en-US</dc:language>
  <cp:lastModifiedBy>lenovo</cp:lastModifiedBy>
  <dcterms:modified xsi:type="dcterms:W3CDTF">2014-12-02T01:02:59Z</dcterms:modified>
  <cp:revision>122</cp:revision>
  <dc:subject/>
  <dc:title>金属与金属矿物</dc:title>
</cp:coreProperties>
</file>