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97B-88B7-492A-926A-3695DE04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C0C-2E38-492D-9304-6D446BDD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E9A-C626-4968-B148-C42601C1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79F-F025-4C40-B133-64FEB681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8E34-4E49-46D9-9491-73F0DEF1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7358-1CF5-4305-A1E0-F5427689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2830-0663-48DA-A2B0-41EDE609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1121-86E1-43D9-8142-2A7A0A6C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0E95-87D1-4B22-B3DA-F3F9D281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AA43-9296-4ACD-840D-318376C4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7D20-6C3B-43D6-BEC8-E85378D8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944-AB2F-412B-83CE-8194072E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9AD8-3EF0-4FE1-97BE-7E1188CC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3149-D0A8-4325-97D2-C981C347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8616-12DE-47B6-B427-728EF96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5796-060E-4501-98DB-49B17609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E8CA-146F-4CAA-81A1-788C1E63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C6A-1D5E-4576-AD7A-530FCCF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063-2DF1-4ECA-8B45-7C2C58CC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75F-561B-4F18-9A9F-24EB4517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6A9-31B2-4DC6-87AC-91E96E57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9E1-D5C1-4E50-8F81-A9BF7C39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E7D-AC12-40A0-BFE9-D1A22F74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D5A-B586-4598-8D38-E355D07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E508-1DD8-4CBA-8416-083A5DC9821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5CAE-F067-41EF-A180-BD1F695705A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2454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  </a:t>
            </a:r>
            <a:r>
              <a:rPr b="0" lang="zh-CN" sz="4800" spc="-1" strike="noStrike">
                <a:solidFill>
                  <a:srgbClr val="9933ff"/>
                </a:solidFill>
                <a:latin typeface="楷体"/>
                <a:ea typeface="楷体"/>
              </a:rPr>
              <a:t>  </a:t>
            </a:r>
            <a:br>
              <a:rPr sz="4800"/>
            </a:br>
            <a:r>
              <a:rPr b="1" lang="zh-CN" sz="4800" spc="-1" strike="noStrike">
                <a:solidFill>
                  <a:srgbClr val="9933ff"/>
                </a:solidFill>
                <a:latin typeface="楷体"/>
                <a:ea typeface="楷体"/>
              </a:rPr>
              <a:t>物质构成的奥秘复习（</a:t>
            </a:r>
            <a:r>
              <a:rPr b="1" lang="en-US" sz="4800" spc="-1" strike="noStrike">
                <a:solidFill>
                  <a:srgbClr val="9933ff"/>
                </a:solidFill>
                <a:latin typeface="楷体"/>
                <a:ea typeface="楷体"/>
              </a:rPr>
              <a:t>1</a:t>
            </a:r>
            <a:r>
              <a:rPr b="1" lang="zh-CN" sz="4800" spc="-1" strike="noStrike">
                <a:solidFill>
                  <a:srgbClr val="9933ff"/>
                </a:solidFill>
                <a:latin typeface="楷体"/>
                <a:ea typeface="楷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88000" y="3718080"/>
            <a:ext cx="366696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"/>
                <a:ea typeface="楷体"/>
              </a:rPr>
              <a:t>洛阳初中  顾红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4560" y="9414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楷体"/>
                <a:ea typeface="楷体"/>
              </a:rPr>
              <a:t>第三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．对下列事实或现象的解释错误的是</a:t>
            </a:r>
            <a:br>
              <a:rPr sz="3400"/>
            </a:br>
            <a:br>
              <a:rPr sz="3400"/>
            </a:b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选项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事实或现象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解释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下列事实或现象的解释错误的是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月桂花，十里飘香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总是在不断运动着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银温度计里的水银热胀冷缩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大小随温度改变而改变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3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油气可加压装入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4m3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钢瓶中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间是有间隔的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氨水和浓盐酸接近时“空中生烟”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总是在不断运动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360" y="44280"/>
            <a:ext cx="9109080" cy="6913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一起做游戏</a:t>
            </a:r>
            <a:r>
              <a:rPr b="1" lang="en-US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——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推理高手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每题均给出四个提示语，每个提示语与答案直接相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答案都是物质分类中的相关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做完游戏需要你找出这个概念的要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lastslide"/>
          </p:cNvPr>
          <p:cNvSpPr/>
          <p:nvPr/>
        </p:nvSpPr>
        <p:spPr>
          <a:xfrm>
            <a:off x="7524720" y="0"/>
            <a:ext cx="1619280" cy="1125360"/>
          </a:xfrm>
          <a:custGeom>
            <a:avLst/>
            <a:gdLst>
              <a:gd name="textAreaLeft" fmla="*/ 72720 w 1619280"/>
              <a:gd name="textAreaRight" fmla="*/ 1546560 w 1619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677" y="1400"/>
                </a:lnTo>
                <a:lnTo>
                  <a:pt x="1400" y="140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677" y="20200"/>
                </a:lnTo>
                <a:lnTo>
                  <a:pt x="29677" y="140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77" y="2020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77" h="21600">
                <a:moveTo>
                  <a:pt x="19037" y="10800"/>
                </a:moveTo>
                <a:lnTo>
                  <a:pt x="8532" y="17806"/>
                </a:lnTo>
                <a:lnTo>
                  <a:pt x="8532" y="3794"/>
                </a:lnTo>
                <a:close/>
              </a:path>
              <a:path fill="darken" w="31077" h="21600">
                <a:moveTo>
                  <a:pt x="20883" y="3794"/>
                </a:moveTo>
                <a:lnTo>
                  <a:pt x="20883" y="17806"/>
                </a:lnTo>
                <a:lnTo>
                  <a:pt x="22545" y="17806"/>
                </a:lnTo>
                <a:lnTo>
                  <a:pt x="22545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推理高手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6562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第二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1143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化合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4076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第一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61080" y="2492280"/>
            <a:ext cx="428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多种元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184464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H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56392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种物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84464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氯化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86900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4869000"/>
            <a:ext cx="30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558972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种物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558972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种元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35640" y="4076640"/>
            <a:ext cx="2735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52520" indent="-438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单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lastslide"/>
          </p:cNvPr>
          <p:cNvSpPr/>
          <p:nvPr/>
        </p:nvSpPr>
        <p:spPr>
          <a:xfrm>
            <a:off x="7524720" y="0"/>
            <a:ext cx="1619280" cy="1125360"/>
          </a:xfrm>
          <a:custGeom>
            <a:avLst/>
            <a:gdLst>
              <a:gd name="textAreaLeft" fmla="*/ 72720 w 1619280"/>
              <a:gd name="textAreaRight" fmla="*/ 1546560 w 1619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677" y="1400"/>
                </a:lnTo>
                <a:lnTo>
                  <a:pt x="1400" y="140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677" y="20200"/>
                </a:lnTo>
                <a:lnTo>
                  <a:pt x="29677" y="140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77" y="2020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77" h="21600">
                <a:moveTo>
                  <a:pt x="19037" y="10800"/>
                </a:moveTo>
                <a:lnTo>
                  <a:pt x="8532" y="17806"/>
                </a:lnTo>
                <a:lnTo>
                  <a:pt x="8532" y="3794"/>
                </a:lnTo>
                <a:close/>
              </a:path>
              <a:path fill="darken" w="31077" h="21600">
                <a:moveTo>
                  <a:pt x="20883" y="3794"/>
                </a:moveTo>
                <a:lnTo>
                  <a:pt x="20883" y="17806"/>
                </a:lnTo>
                <a:lnTo>
                  <a:pt x="22545" y="17806"/>
                </a:lnTo>
                <a:lnTo>
                  <a:pt x="22545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1280" y="1071720"/>
            <a:ext cx="547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第四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107172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含氧化合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2720" y="386064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第三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84464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氧元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1844640"/>
            <a:ext cx="30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纯净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3920"/>
            <a:ext cx="395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多种元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256392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KM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869000"/>
            <a:ext cx="338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氧元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4869000"/>
            <a:ext cx="30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纯净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58792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两种元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5587920"/>
            <a:ext cx="428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386064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氧化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18900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推理高手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lastslide"/>
          </p:cNvPr>
          <p:cNvSpPr/>
          <p:nvPr/>
        </p:nvSpPr>
        <p:spPr>
          <a:xfrm>
            <a:off x="7524720" y="0"/>
            <a:ext cx="1619280" cy="1125360"/>
          </a:xfrm>
          <a:custGeom>
            <a:avLst/>
            <a:gdLst>
              <a:gd name="textAreaLeft" fmla="*/ 72720 w 1619280"/>
              <a:gd name="textAreaRight" fmla="*/ 1546560 w 1619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677" y="1400"/>
                </a:lnTo>
                <a:lnTo>
                  <a:pt x="1400" y="140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677" y="20200"/>
                </a:lnTo>
                <a:lnTo>
                  <a:pt x="29677" y="140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77" y="2020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77" h="21600">
                <a:moveTo>
                  <a:pt x="19037" y="10800"/>
                </a:moveTo>
                <a:lnTo>
                  <a:pt x="8532" y="17806"/>
                </a:lnTo>
                <a:lnTo>
                  <a:pt x="8532" y="3794"/>
                </a:lnTo>
                <a:close/>
              </a:path>
              <a:path fill="darken" w="31077" h="21600">
                <a:moveTo>
                  <a:pt x="20883" y="3794"/>
                </a:moveTo>
                <a:lnTo>
                  <a:pt x="20883" y="17806"/>
                </a:lnTo>
                <a:lnTo>
                  <a:pt x="22545" y="17806"/>
                </a:lnTo>
                <a:lnTo>
                  <a:pt x="22545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604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现有六种常见物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46000" y="112536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空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870120" y="1917720"/>
            <a:ext cx="22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C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82080" y="2711520"/>
            <a:ext cx="234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氧气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6000" y="3429000"/>
            <a:ext cx="423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硫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982440" y="4224240"/>
            <a:ext cx="2743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冰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5" action="ppaction://hlinksldjump"/>
          </p:cNvPr>
          <p:cNvSpPr/>
          <p:nvPr/>
        </p:nvSpPr>
        <p:spPr>
          <a:xfrm>
            <a:off x="1072800" y="50626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氯化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NaC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6" action="ppaction://hlinksldjump"/>
          </p:cNvPr>
          <p:cNvSpPr/>
          <p:nvPr/>
        </p:nvSpPr>
        <p:spPr>
          <a:xfrm>
            <a:off x="0" y="582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任意找出一种物质，说出与众不同的理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lastslide"/>
          </p:cNvPr>
          <p:cNvSpPr/>
          <p:nvPr/>
        </p:nvSpPr>
        <p:spPr>
          <a:xfrm>
            <a:off x="7524720" y="0"/>
            <a:ext cx="1619280" cy="1125360"/>
          </a:xfrm>
          <a:custGeom>
            <a:avLst/>
            <a:gdLst>
              <a:gd name="textAreaLeft" fmla="*/ 72720 w 1619280"/>
              <a:gd name="textAreaRight" fmla="*/ 1546560 w 1619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677" y="1400"/>
                </a:lnTo>
                <a:lnTo>
                  <a:pt x="1400" y="140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677" y="20200"/>
                </a:lnTo>
                <a:lnTo>
                  <a:pt x="29677" y="140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77" y="2020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77" h="21600">
                <a:moveTo>
                  <a:pt x="19037" y="10800"/>
                </a:moveTo>
                <a:lnTo>
                  <a:pt x="8532" y="17806"/>
                </a:lnTo>
                <a:lnTo>
                  <a:pt x="8532" y="3794"/>
                </a:lnTo>
                <a:close/>
              </a:path>
              <a:path fill="darken" w="31077" h="21600">
                <a:moveTo>
                  <a:pt x="20883" y="3794"/>
                </a:moveTo>
                <a:lnTo>
                  <a:pt x="20883" y="17806"/>
                </a:lnTo>
                <a:lnTo>
                  <a:pt x="22545" y="17806"/>
                </a:lnTo>
                <a:lnTo>
                  <a:pt x="22545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60720" y="1011240"/>
            <a:ext cx="9032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单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化合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1320" y="3470400"/>
            <a:ext cx="2142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1943280"/>
            <a:ext cx="219240" cy="3722400"/>
          </a:xfrm>
          <a:custGeom>
            <a:avLst/>
            <a:gdLst>
              <a:gd name="textAreaLeft" fmla="*/ 140040 w 219240"/>
              <a:gd name="textAreaRight" fmla="*/ 219600 w 219240"/>
              <a:gd name="textAreaTop" fmla="*/ 96840 h 3722400"/>
              <a:gd name="textAreaBottom" fmla="*/ 3625560 h 372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27320" y="1770120"/>
            <a:ext cx="5428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分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30240" y="1608120"/>
            <a:ext cx="181080" cy="744480"/>
          </a:xfrm>
          <a:custGeom>
            <a:avLst/>
            <a:gdLst>
              <a:gd name="textAreaLeft" fmla="*/ 115920 w 181080"/>
              <a:gd name="textAreaRight" fmla="*/ 181440 w 18108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1320" y="1441440"/>
            <a:ext cx="9032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纯净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混合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1201680"/>
            <a:ext cx="181080" cy="744480"/>
          </a:xfrm>
          <a:custGeom>
            <a:avLst/>
            <a:gdLst>
              <a:gd name="textAreaLeft" fmla="*/ 115920 w 181080"/>
              <a:gd name="textAreaRight" fmla="*/ 181440 w 18108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62280" y="825480"/>
            <a:ext cx="5428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金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70400" y="1011240"/>
            <a:ext cx="228600" cy="372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72960"/>
              <a:gd name="textAreaBottom" fmla="*/ 363240 h 3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99000" y="1198440"/>
            <a:ext cx="903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非金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4920" y="1665360"/>
            <a:ext cx="180720" cy="558720"/>
          </a:xfrm>
          <a:custGeom>
            <a:avLst/>
            <a:gdLst>
              <a:gd name="textAreaLeft" fmla="*/ 115560 w 180720"/>
              <a:gd name="textAreaRight" fmla="*/ 181080 w 180720"/>
              <a:gd name="textAreaTop" fmla="*/ 14400 h 558720"/>
              <a:gd name="textAreaBottom" fmla="*/ 544320 h 55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1360" y="1498680"/>
            <a:ext cx="1339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氧化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79440" y="3618000"/>
            <a:ext cx="541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构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27080" y="2687760"/>
            <a:ext cx="771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618000"/>
            <a:ext cx="7718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原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97200" y="4548240"/>
            <a:ext cx="3466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离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用离子符号表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14520" y="3284640"/>
            <a:ext cx="181080" cy="930240"/>
          </a:xfrm>
          <a:custGeom>
            <a:avLst/>
            <a:gdLst>
              <a:gd name="textAreaLeft" fmla="*/ 115920 w 181080"/>
              <a:gd name="textAreaRight" fmla="*/ 181440 w 181080"/>
              <a:gd name="textAreaTop" fmla="*/ 24120 h 930240"/>
              <a:gd name="textAreaBottom" fmla="*/ 906120 h 93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81200" y="3097080"/>
            <a:ext cx="25671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元素符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相对原子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79760" y="2500200"/>
            <a:ext cx="2711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化学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相对分子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01920" y="2612880"/>
            <a:ext cx="225360" cy="409680"/>
          </a:xfrm>
          <a:custGeom>
            <a:avLst/>
            <a:gdLst>
              <a:gd name="textAreaLeft" fmla="*/ 144000 w 225360"/>
              <a:gd name="textAreaRight" fmla="*/ 225720 w 225360"/>
              <a:gd name="textAreaTop" fmla="*/ 10440 h 409680"/>
              <a:gd name="textAreaBottom" fmla="*/ 399240 h 4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54240" y="2910960"/>
            <a:ext cx="0" cy="7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28760" y="2944800"/>
            <a:ext cx="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120760" y="3855960"/>
            <a:ext cx="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3889440"/>
            <a:ext cx="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68320" y="2860560"/>
            <a:ext cx="181080" cy="1862280"/>
          </a:xfrm>
          <a:custGeom>
            <a:avLst/>
            <a:gdLst>
              <a:gd name="textAreaLeft" fmla="*/ 115920 w 181080"/>
              <a:gd name="textAreaRight" fmla="*/ 181440 w 181080"/>
              <a:gd name="textAreaTop" fmla="*/ 48240 h 1862280"/>
              <a:gd name="textAreaBottom" fmla="*/ 1814040 h 18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7320" y="5479920"/>
            <a:ext cx="1577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组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元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68720" y="4819680"/>
            <a:ext cx="77148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存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化合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87560" y="4992840"/>
            <a:ext cx="179640" cy="1303200"/>
          </a:xfrm>
          <a:custGeom>
            <a:avLst/>
            <a:gdLst>
              <a:gd name="textAreaLeft" fmla="*/ 114840 w 179640"/>
              <a:gd name="textAreaRight" fmla="*/ 180000 w 179640"/>
              <a:gd name="textAreaTop" fmla="*/ 33840 h 1303200"/>
              <a:gd name="textAreaBottom" fmla="*/ 1269360 h 130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16000" y="189000"/>
            <a:ext cx="6912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本章概念地图</a:t>
            </a:r>
            <a:endParaRPr b="1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8" name="">
            <a:hlinkClick r:id="" action="ppaction://hlinkshowjump?jump=lastslide"/>
          </p:cNvPr>
          <p:cNvSpPr/>
          <p:nvPr/>
        </p:nvSpPr>
        <p:spPr>
          <a:xfrm>
            <a:off x="7524720" y="0"/>
            <a:ext cx="1619280" cy="1125360"/>
          </a:xfrm>
          <a:custGeom>
            <a:avLst/>
            <a:gdLst>
              <a:gd name="textAreaLeft" fmla="*/ 72720 w 1619280"/>
              <a:gd name="textAreaRight" fmla="*/ 1546560 w 1619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677" y="1400"/>
                </a:lnTo>
                <a:lnTo>
                  <a:pt x="1400" y="140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677" y="20200"/>
                </a:lnTo>
                <a:lnTo>
                  <a:pt x="29677" y="140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77" y="2020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77" h="21600">
                <a:moveTo>
                  <a:pt x="19037" y="10800"/>
                </a:moveTo>
                <a:lnTo>
                  <a:pt x="8532" y="17806"/>
                </a:lnTo>
                <a:lnTo>
                  <a:pt x="8532" y="3794"/>
                </a:lnTo>
                <a:close/>
              </a:path>
              <a:path fill="darken" w="31077" h="21600">
                <a:moveTo>
                  <a:pt x="20883" y="3794"/>
                </a:moveTo>
                <a:lnTo>
                  <a:pt x="20883" y="17806"/>
                </a:lnTo>
                <a:lnTo>
                  <a:pt x="22545" y="17806"/>
                </a:lnTo>
                <a:lnTo>
                  <a:pt x="22545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8426520" cy="6478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08000" y="117360"/>
            <a:ext cx="9001080" cy="691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4040" y="212760"/>
            <a:ext cx="8574120" cy="643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9520" y="150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536400" y="-9360"/>
            <a:ext cx="10005840" cy="6825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913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340000" y="2133720"/>
            <a:ext cx="4535640" cy="19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9144000" cy="648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43232" descr=""/>
          <p:cNvPicPr/>
          <p:nvPr/>
        </p:nvPicPr>
        <p:blipFill>
          <a:blip r:embed="rId2"/>
          <a:stretch/>
        </p:blipFill>
        <p:spPr>
          <a:xfrm>
            <a:off x="1835280" y="909720"/>
            <a:ext cx="5833800" cy="511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9280" y="1384200"/>
            <a:ext cx="181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80720" y="117360"/>
            <a:ext cx="784836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连连看：元素与人体健康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852640"/>
            <a:ext cx="1811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508640"/>
            <a:ext cx="2017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3716280"/>
            <a:ext cx="2449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33560" y="2925720"/>
            <a:ext cx="6310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缺乏时会使儿童智力低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33560" y="2103480"/>
            <a:ext cx="590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缺乏时易得甲状腺疾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33560" y="1311120"/>
            <a:ext cx="5194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缺乏时易得贫血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2133720"/>
            <a:ext cx="2808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33560" y="4579920"/>
            <a:ext cx="630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过量时易引起白内障、动脉硬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33560" y="3716280"/>
            <a:ext cx="56991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缺乏时易得骨质疏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lastslide"/>
          </p:cNvPr>
          <p:cNvSpPr/>
          <p:nvPr/>
        </p:nvSpPr>
        <p:spPr>
          <a:xfrm>
            <a:off x="7524720" y="0"/>
            <a:ext cx="1619280" cy="1125360"/>
          </a:xfrm>
          <a:custGeom>
            <a:avLst/>
            <a:gdLst>
              <a:gd name="textAreaLeft" fmla="*/ 72720 w 1619280"/>
              <a:gd name="textAreaRight" fmla="*/ 1546560 w 1619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677" y="1400"/>
                </a:lnTo>
                <a:lnTo>
                  <a:pt x="1400" y="140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677" y="20200"/>
                </a:lnTo>
                <a:lnTo>
                  <a:pt x="29677" y="140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77" y="2020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77" h="21600">
                <a:moveTo>
                  <a:pt x="19037" y="10800"/>
                </a:moveTo>
                <a:lnTo>
                  <a:pt x="8532" y="17806"/>
                </a:lnTo>
                <a:lnTo>
                  <a:pt x="8532" y="3794"/>
                </a:lnTo>
                <a:close/>
              </a:path>
              <a:path fill="darken" w="31077" h="21600">
                <a:moveTo>
                  <a:pt x="20883" y="3794"/>
                </a:moveTo>
                <a:lnTo>
                  <a:pt x="20883" y="17806"/>
                </a:lnTo>
                <a:lnTo>
                  <a:pt x="22545" y="17806"/>
                </a:lnTo>
                <a:lnTo>
                  <a:pt x="22545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6360" y="-14400"/>
            <a:ext cx="9109080" cy="7043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765000"/>
            <a:ext cx="2449800" cy="3238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12.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34160" y="793800"/>
            <a:ext cx="7920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65440" y="1989000"/>
            <a:ext cx="5038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元素名称、符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原子序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相对原子质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960720" cy="367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211640" y="1989000"/>
            <a:ext cx="4681440" cy="41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符号写出意义或根据意义写出符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水分子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铝离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铁原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相对分子质量的计算方法正确的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0+16+1)×2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+1)×2     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+16+1×2        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+1)×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关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四种物质的  组成的叙述中正确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都含有氧气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都含有氧元素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都含有氧分子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都含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氧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9T12:51:21Z</dcterms:created>
  <dc:creator/>
  <dc:description/>
  <cp:keywords/>
  <dc:language>en-US</dc:language>
  <cp:lastModifiedBy>微软用户</cp:lastModifiedBy>
  <dcterms:modified xsi:type="dcterms:W3CDTF">2014-12-23T00:00:32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