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7B2-BF95-4F29-88D3-3A8A81C1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DB9-010C-4BFC-99E7-26107877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3D6-4828-4465-B528-8995C1B2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DBF-0A6A-402F-BAFE-7B2D5909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0241-49CB-4055-A3DE-B2D4A35A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F278-F8CB-4220-9873-8C6738BD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5A06-2E8C-4DBC-8598-D1B234E7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F8C6-2C59-4F51-AFE7-2C16C3C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40A8-C62E-4A9F-8BCC-F8CFA415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804D-9C8F-4735-9AE9-BA4F6987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91A9-727E-42AD-A108-3AD88F44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27F-993C-4DC8-B5AC-6441B5C9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ED2C-E942-4921-8526-9B3A139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DD21-1A8E-4176-9421-10F05316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6A6A-E89E-4091-8823-CAFF0867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2CB0-1F24-430D-AD08-FA01B815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17F0-16A5-4FC0-8C74-620AB0C9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E72-1785-4B02-B312-1BDB6438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D1B-119B-4234-8A69-5AAB0C9B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89C-0F5B-4C5F-A915-FEF6485E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1A3-F190-42FC-9B4B-25CBED02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267-9DEE-490B-B1EB-CB9C5F5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B82-D588-4896-A664-99F18F3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60A-899A-45FC-A7DE-A64EA506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5490-A29F-494A-AF9A-9E86B41CEA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B297-CD6C-4961-8D9D-8BF621B119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qzone168.cn/moban/Shantu/200708/6053.html" TargetMode="External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327672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97000" y="863640"/>
            <a:ext cx="487692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767720" y="5364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63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固体分散到水中才能形成溶液吗？试举例说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95280" y="1066680"/>
            <a:ext cx="44960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演示实验二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743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少量泥土（或粉笔灰）和１～２滴食用油分别加入到小烧杯中，加入适量水，搅拌，静置，观察实验现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32000" y="863640"/>
            <a:ext cx="4619520" cy="347652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927000" y="1584360"/>
            <a:ext cx="1440000" cy="2746440"/>
            <a:chOff x="927000" y="1584360"/>
            <a:chExt cx="1440000" cy="2746440"/>
          </a:xfrm>
        </p:grpSpPr>
        <p:sp>
          <p:nvSpPr>
            <p:cNvPr id="127" name=""/>
            <p:cNvSpPr/>
            <p:nvPr/>
          </p:nvSpPr>
          <p:spPr>
            <a:xfrm>
              <a:off x="927000" y="1584360"/>
              <a:ext cx="1440000" cy="2746440"/>
            </a:xfrm>
            <a:prstGeom prst="rightArrowCallout">
              <a:avLst>
                <a:gd name="adj1" fmla="val 47686"/>
                <a:gd name="adj2" fmla="val 47681"/>
                <a:gd name="adj3" fmla="val 16667"/>
                <a:gd name="adj4" fmla="val 66667"/>
              </a:avLst>
            </a:prstGeom>
            <a:solidFill>
              <a:srgbClr val="00cc99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6240" y="1808280"/>
              <a:ext cx="54612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子或离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732720" y="1628640"/>
            <a:ext cx="1485720" cy="2745000"/>
            <a:chOff x="6732720" y="1628640"/>
            <a:chExt cx="1485720" cy="2745000"/>
          </a:xfrm>
        </p:grpSpPr>
        <p:sp>
          <p:nvSpPr>
            <p:cNvPr id="130" name=""/>
            <p:cNvSpPr/>
            <p:nvPr/>
          </p:nvSpPr>
          <p:spPr>
            <a:xfrm>
              <a:off x="6732720" y="1628640"/>
              <a:ext cx="1485720" cy="2745000"/>
            </a:xfrm>
            <a:prstGeom prst="leftArrowCallout">
              <a:avLst>
                <a:gd name="adj1" fmla="val 36442"/>
                <a:gd name="adj2" fmla="val 46190"/>
                <a:gd name="adj3" fmla="val 22866"/>
                <a:gd name="adj4" fmla="val 66673"/>
              </a:avLst>
            </a:prstGeom>
            <a:solidFill>
              <a:srgbClr val="00cc99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9120" y="1854360"/>
              <a:ext cx="127764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细小的固体颗粒分散在水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176640" y="4194000"/>
            <a:ext cx="2925720" cy="1530360"/>
            <a:chOff x="3176640" y="4194000"/>
            <a:chExt cx="2925720" cy="1530360"/>
          </a:xfrm>
        </p:grpSpPr>
        <p:sp>
          <p:nvSpPr>
            <p:cNvPr id="133" name=""/>
            <p:cNvSpPr/>
            <p:nvPr/>
          </p:nvSpPr>
          <p:spPr>
            <a:xfrm>
              <a:off x="3176640" y="4194000"/>
              <a:ext cx="2925720" cy="1530360"/>
            </a:xfrm>
            <a:prstGeom prst="upArrowCallout">
              <a:avLst>
                <a:gd name="adj1" fmla="val 45586"/>
                <a:gd name="adj2" fmla="val 47795"/>
                <a:gd name="adj3" fmla="val 21157"/>
                <a:gd name="adj4" fmla="val 66660"/>
              </a:avLst>
            </a:prstGeom>
            <a:solidFill>
              <a:srgbClr val="00cc99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11640" y="4959360"/>
              <a:ext cx="278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小液滴分散在水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685800" y="457200"/>
          <a:ext cx="7932600" cy="5834160"/>
        </p:xfrm>
        <a:graphic>
          <a:graphicData uri="http://schemas.openxmlformats.org/drawingml/2006/table">
            <a:tbl>
              <a:tblPr/>
              <a:tblGrid>
                <a:gridCol w="1992240"/>
                <a:gridCol w="1959120"/>
                <a:gridCol w="1989000"/>
                <a:gridCol w="199224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图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溶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悬浊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乳浊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宏观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均一、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不均一、不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不均一、不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分散在水里的微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分子或离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固体小颗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小液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共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混合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混合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混合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举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食盐、蔗糖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泥土、粉笔灰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食用油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743200" y="5335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800600" y="5335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781680" y="533520"/>
            <a:ext cx="1752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85800"/>
            <a:ext cx="30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新朋友介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880" y="533520"/>
            <a:ext cx="8332920" cy="5343480"/>
            <a:chOff x="380880" y="533520"/>
            <a:chExt cx="8332920" cy="534348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380880" y="1828800"/>
              <a:ext cx="6183360" cy="404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5715000" y="533520"/>
              <a:ext cx="2998800" cy="2068560"/>
              <a:chOff x="5715000" y="533520"/>
              <a:chExt cx="2998800" cy="2068560"/>
            </a:xfrm>
          </p:grpSpPr>
          <p:sp>
            <p:nvSpPr>
              <p:cNvPr id="147" name=""/>
              <p:cNvSpPr/>
              <p:nvPr/>
            </p:nvSpPr>
            <p:spPr>
              <a:xfrm>
                <a:off x="5715000" y="533520"/>
                <a:ext cx="2998800" cy="206856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77160" y="1025280"/>
                <a:ext cx="25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幼圆"/>
                  </a:rPr>
                  <a:t>大家好，我们是乳化剂微粒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934320" y="2971800"/>
            <a:ext cx="1752480" cy="2362320"/>
            <a:chOff x="6934320" y="2971800"/>
            <a:chExt cx="1752480" cy="2362320"/>
          </a:xfrm>
        </p:grpSpPr>
        <p:sp>
          <p:nvSpPr>
            <p:cNvPr id="150" name=""/>
            <p:cNvSpPr/>
            <p:nvPr/>
          </p:nvSpPr>
          <p:spPr>
            <a:xfrm>
              <a:off x="6934320" y="2971800"/>
              <a:ext cx="1752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cc"/>
                  </a:solidFill>
                  <a:latin typeface="Times New Roman"/>
                  <a:ea typeface="华文彩云"/>
                </a:rPr>
                <a:t>乳化剂微粒的乳化作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48720" y="4952880"/>
              <a:ext cx="533160" cy="381240"/>
            </a:xfrm>
            <a:custGeom>
              <a:avLst/>
              <a:gdLst>
                <a:gd name="textAreaLeft" fmla="*/ 24480 w 533160"/>
                <a:gd name="textAreaRight" fmla="*/ 508680 w 53316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30199" h="21600">
                  <a:moveTo>
                    <a:pt x="0" y="0"/>
                  </a:moveTo>
                  <a:lnTo>
                    <a:pt x="30199" y="0"/>
                  </a:lnTo>
                  <a:lnTo>
                    <a:pt x="30199" y="21600"/>
                  </a:lnTo>
                  <a:lnTo>
                    <a:pt x="0" y="21600"/>
                  </a:lnTo>
                  <a:close/>
                </a:path>
                <a:path fill="lightenLess" w="30199" h="21600">
                  <a:moveTo>
                    <a:pt x="0" y="0"/>
                  </a:moveTo>
                  <a:lnTo>
                    <a:pt x="30199" y="0"/>
                  </a:lnTo>
                  <a:lnTo>
                    <a:pt x="28799" y="1400"/>
                  </a:lnTo>
                  <a:lnTo>
                    <a:pt x="1400" y="1400"/>
                  </a:lnTo>
                  <a:close/>
                </a:path>
                <a:path fill="darken" w="30199" h="21600">
                  <a:moveTo>
                    <a:pt x="30199" y="0"/>
                  </a:moveTo>
                  <a:lnTo>
                    <a:pt x="30199" y="21600"/>
                  </a:lnTo>
                  <a:lnTo>
                    <a:pt x="28799" y="20200"/>
                  </a:lnTo>
                  <a:lnTo>
                    <a:pt x="28799" y="1400"/>
                  </a:lnTo>
                  <a:close/>
                </a:path>
                <a:path fill="darkenLess" w="30199" h="21600">
                  <a:moveTo>
                    <a:pt x="3019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799" y="20200"/>
                  </a:lnTo>
                  <a:close/>
                </a:path>
                <a:path fill="lighten" w="3019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199" h="21600">
                  <a:moveTo>
                    <a:pt x="8093" y="7301"/>
                  </a:moveTo>
                  <a:lnTo>
                    <a:pt x="9007" y="7301"/>
                  </a:lnTo>
                  <a:lnTo>
                    <a:pt x="9390" y="7667"/>
                  </a:lnTo>
                  <a:lnTo>
                    <a:pt x="18599" y="7667"/>
                  </a:lnTo>
                  <a:lnTo>
                    <a:pt x="19156" y="8224"/>
                  </a:lnTo>
                  <a:lnTo>
                    <a:pt x="19156" y="8772"/>
                  </a:lnTo>
                  <a:lnTo>
                    <a:pt x="21001" y="8772"/>
                  </a:lnTo>
                  <a:lnTo>
                    <a:pt x="21366" y="8224"/>
                  </a:lnTo>
                  <a:lnTo>
                    <a:pt x="22106" y="8224"/>
                  </a:lnTo>
                  <a:lnTo>
                    <a:pt x="22106" y="13376"/>
                  </a:lnTo>
                  <a:lnTo>
                    <a:pt x="21366" y="13376"/>
                  </a:lnTo>
                  <a:lnTo>
                    <a:pt x="21001" y="12828"/>
                  </a:lnTo>
                  <a:lnTo>
                    <a:pt x="19156" y="12828"/>
                  </a:lnTo>
                  <a:lnTo>
                    <a:pt x="19156" y="14107"/>
                  </a:lnTo>
                  <a:lnTo>
                    <a:pt x="9573" y="14107"/>
                  </a:lnTo>
                  <a:lnTo>
                    <a:pt x="9573" y="9877"/>
                  </a:lnTo>
                  <a:lnTo>
                    <a:pt x="9390" y="9877"/>
                  </a:lnTo>
                  <a:lnTo>
                    <a:pt x="9007" y="10243"/>
                  </a:lnTo>
                  <a:lnTo>
                    <a:pt x="8093" y="1024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457200"/>
            <a:ext cx="44956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实验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476280" y="1628640"/>
            <a:ext cx="837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物质溶于水时，溶液的温度是否发生变化？完成下列实验，你也许会得意想不到的结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验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烧杯，各加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温度计测量水的温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验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将一药匙硝酸铵、氯化钠和氢氧化钠加入上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烧杯中，搅拌至固体完全溶解，测量溶液的温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上述测得的温度记录在教材的表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实验后的溶液倒入指定的溶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914400"/>
            <a:ext cx="41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注意事项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809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测定温度时，一定要等到示数不再移动，保持平稳后才能读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048120"/>
            <a:ext cx="80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测温度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让下端玻璃球接触杯底或杯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78000" y="22096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每把药匙不能混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17560" y="10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结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080" y="2438280"/>
            <a:ext cx="862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物质溶解于水的过程中，常伴随热量的变化，有些物质溶于水后温度升高，有些物质溶于水后温度降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914400" y="685800"/>
            <a:ext cx="2819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习题：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362320"/>
            <a:ext cx="8229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下列液体属于溶液的是           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牛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泥水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氧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碘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当水分不蒸发，温度不变时，盐水放置较长时间后，盐                          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沉降出来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会分离出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浮上水面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都有可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286000" y="2743200"/>
            <a:ext cx="464832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物质的溶解</a:t>
            </a:r>
            <a:endParaRPr b="1" lang="en-US" sz="6000" spc="-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762120"/>
            <a:ext cx="807732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对一杯完全溶解的糖水而言，下列叙述正确的是                                （      ）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面比下面甜。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比上面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间最甜。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部分一样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说碘酒是溶液的理由是           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两种物质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澄清透明的液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碘分子均匀分散在水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热时无明显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2666880"/>
            <a:ext cx="77724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同学们发挥你们的想象力，在日常生活中，还有哪些物质能分散到水中？这样形成的混合物在生活中有何用途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838080"/>
            <a:ext cx="4876920" cy="1219320"/>
          </a:xfrm>
          <a:custGeom>
            <a:avLst/>
            <a:gdLst>
              <a:gd name="textAreaLeft" fmla="*/ 1219320 w 4876920"/>
              <a:gd name="textAreaRight" fmla="*/ 3657960 w 487692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你知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27432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少量高锰酸钾、食盐、蔗糖晶体，分别放入盛有水的小烧杯，搅拌，仔细观察实验现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1066680"/>
            <a:ext cx="44960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演示实验一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248520" cy="4191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371600" y="1981080"/>
            <a:ext cx="624852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71600" y="6858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79440"/>
            <a:ext cx="7391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锰酸钾在水中的分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644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954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锰酸钾、食盐在水中逐渐消失，以食盐溶于水为例，根据第三章所学知识，你能从微观角度来解释其中的原因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838080"/>
            <a:ext cx="3581280" cy="1371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8380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微观解释物质在水中分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38080" y="2057400"/>
            <a:ext cx="7239240" cy="703440"/>
            <a:chOff x="838080" y="2057400"/>
            <a:chExt cx="7239240" cy="703440"/>
          </a:xfrm>
        </p:grpSpPr>
        <p:sp>
          <p:nvSpPr>
            <p:cNvPr id="100" name=""/>
            <p:cNvSpPr/>
            <p:nvPr/>
          </p:nvSpPr>
          <p:spPr>
            <a:xfrm>
              <a:off x="838080" y="2057400"/>
              <a:ext cx="639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.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食盐在水中的分散示意图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1360" y="2176560"/>
              <a:ext cx="615960" cy="457200"/>
            </a:xfrm>
            <a:custGeom>
              <a:avLst/>
              <a:gdLst>
                <a:gd name="textAreaLeft" fmla="*/ 29520 w 615960"/>
                <a:gd name="textAreaRight" fmla="*/ 586440 w 6159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9095" h="21600">
                  <a:moveTo>
                    <a:pt x="0" y="0"/>
                  </a:moveTo>
                  <a:lnTo>
                    <a:pt x="29095" y="0"/>
                  </a:lnTo>
                  <a:lnTo>
                    <a:pt x="29095" y="21600"/>
                  </a:lnTo>
                  <a:lnTo>
                    <a:pt x="0" y="21600"/>
                  </a:lnTo>
                  <a:close/>
                </a:path>
                <a:path fill="lightenLess" w="29095" h="21600">
                  <a:moveTo>
                    <a:pt x="0" y="0"/>
                  </a:moveTo>
                  <a:lnTo>
                    <a:pt x="29095" y="0"/>
                  </a:lnTo>
                  <a:lnTo>
                    <a:pt x="27695" y="1400"/>
                  </a:lnTo>
                  <a:lnTo>
                    <a:pt x="1400" y="1400"/>
                  </a:lnTo>
                  <a:close/>
                </a:path>
                <a:path fill="darken" w="29095" h="21600">
                  <a:moveTo>
                    <a:pt x="29095" y="0"/>
                  </a:moveTo>
                  <a:lnTo>
                    <a:pt x="29095" y="21600"/>
                  </a:lnTo>
                  <a:lnTo>
                    <a:pt x="27695" y="20200"/>
                  </a:lnTo>
                  <a:lnTo>
                    <a:pt x="27695" y="1400"/>
                  </a:lnTo>
                  <a:close/>
                </a:path>
                <a:path fill="darkenLess" w="29095" h="21600">
                  <a:moveTo>
                    <a:pt x="2909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695" y="20200"/>
                  </a:lnTo>
                  <a:close/>
                </a:path>
                <a:path fill="lighten" w="2909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095" h="21600">
                  <a:moveTo>
                    <a:pt x="7541" y="7301"/>
                  </a:moveTo>
                  <a:lnTo>
                    <a:pt x="8455" y="7301"/>
                  </a:lnTo>
                  <a:lnTo>
                    <a:pt x="8838" y="7667"/>
                  </a:lnTo>
                  <a:lnTo>
                    <a:pt x="18046" y="7667"/>
                  </a:lnTo>
                  <a:lnTo>
                    <a:pt x="18603" y="8224"/>
                  </a:lnTo>
                  <a:lnTo>
                    <a:pt x="18603" y="8772"/>
                  </a:lnTo>
                  <a:lnTo>
                    <a:pt x="20448" y="8772"/>
                  </a:lnTo>
                  <a:lnTo>
                    <a:pt x="20814" y="8224"/>
                  </a:lnTo>
                  <a:lnTo>
                    <a:pt x="21554" y="8224"/>
                  </a:lnTo>
                  <a:lnTo>
                    <a:pt x="21554" y="13376"/>
                  </a:lnTo>
                  <a:lnTo>
                    <a:pt x="20814" y="13376"/>
                  </a:lnTo>
                  <a:lnTo>
                    <a:pt x="20448" y="12828"/>
                  </a:lnTo>
                  <a:lnTo>
                    <a:pt x="18603" y="12828"/>
                  </a:lnTo>
                  <a:lnTo>
                    <a:pt x="18603" y="14107"/>
                  </a:lnTo>
                  <a:lnTo>
                    <a:pt x="9020" y="14107"/>
                  </a:lnTo>
                  <a:lnTo>
                    <a:pt x="9020" y="9877"/>
                  </a:lnTo>
                  <a:lnTo>
                    <a:pt x="8838" y="9877"/>
                  </a:lnTo>
                  <a:lnTo>
                    <a:pt x="8455" y="10243"/>
                  </a:lnTo>
                  <a:lnTo>
                    <a:pt x="7541" y="1024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36640" y="3068640"/>
            <a:ext cx="7315200" cy="703440"/>
            <a:chOff x="836640" y="3068640"/>
            <a:chExt cx="7315200" cy="703440"/>
          </a:xfrm>
        </p:grpSpPr>
        <p:sp>
          <p:nvSpPr>
            <p:cNvPr id="103" name=""/>
            <p:cNvSpPr/>
            <p:nvPr/>
          </p:nvSpPr>
          <p:spPr>
            <a:xfrm>
              <a:off x="836640" y="3068640"/>
              <a:ext cx="669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.</a:t>
              </a:r>
              <a:r>
                <a:rPr b="0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蔗糖在水中的分散示意图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35880" y="3220920"/>
              <a:ext cx="615960" cy="457200"/>
            </a:xfrm>
            <a:custGeom>
              <a:avLst/>
              <a:gdLst>
                <a:gd name="textAreaLeft" fmla="*/ 29520 w 615960"/>
                <a:gd name="textAreaRight" fmla="*/ 586440 w 6159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9095" h="21600">
                  <a:moveTo>
                    <a:pt x="0" y="0"/>
                  </a:moveTo>
                  <a:lnTo>
                    <a:pt x="29095" y="0"/>
                  </a:lnTo>
                  <a:lnTo>
                    <a:pt x="29095" y="21600"/>
                  </a:lnTo>
                  <a:lnTo>
                    <a:pt x="0" y="21600"/>
                  </a:lnTo>
                  <a:close/>
                </a:path>
                <a:path fill="lightenLess" w="29095" h="21600">
                  <a:moveTo>
                    <a:pt x="0" y="0"/>
                  </a:moveTo>
                  <a:lnTo>
                    <a:pt x="29095" y="0"/>
                  </a:lnTo>
                  <a:lnTo>
                    <a:pt x="27695" y="1400"/>
                  </a:lnTo>
                  <a:lnTo>
                    <a:pt x="1400" y="1400"/>
                  </a:lnTo>
                  <a:close/>
                </a:path>
                <a:path fill="darken" w="29095" h="21600">
                  <a:moveTo>
                    <a:pt x="29095" y="0"/>
                  </a:moveTo>
                  <a:lnTo>
                    <a:pt x="29095" y="21600"/>
                  </a:lnTo>
                  <a:lnTo>
                    <a:pt x="27695" y="20200"/>
                  </a:lnTo>
                  <a:lnTo>
                    <a:pt x="27695" y="1400"/>
                  </a:lnTo>
                  <a:close/>
                </a:path>
                <a:path fill="darkenLess" w="29095" h="21600">
                  <a:moveTo>
                    <a:pt x="2909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695" y="20200"/>
                  </a:lnTo>
                  <a:close/>
                </a:path>
                <a:path fill="lighten" w="2909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095" h="21600">
                  <a:moveTo>
                    <a:pt x="7541" y="7301"/>
                  </a:moveTo>
                  <a:lnTo>
                    <a:pt x="8455" y="7301"/>
                  </a:lnTo>
                  <a:lnTo>
                    <a:pt x="8838" y="7667"/>
                  </a:lnTo>
                  <a:lnTo>
                    <a:pt x="18046" y="7667"/>
                  </a:lnTo>
                  <a:lnTo>
                    <a:pt x="18603" y="8224"/>
                  </a:lnTo>
                  <a:lnTo>
                    <a:pt x="18603" y="8772"/>
                  </a:lnTo>
                  <a:lnTo>
                    <a:pt x="20448" y="8772"/>
                  </a:lnTo>
                  <a:lnTo>
                    <a:pt x="20814" y="8224"/>
                  </a:lnTo>
                  <a:lnTo>
                    <a:pt x="21554" y="8224"/>
                  </a:lnTo>
                  <a:lnTo>
                    <a:pt x="21554" y="13376"/>
                  </a:lnTo>
                  <a:lnTo>
                    <a:pt x="20814" y="13376"/>
                  </a:lnTo>
                  <a:lnTo>
                    <a:pt x="20448" y="12828"/>
                  </a:lnTo>
                  <a:lnTo>
                    <a:pt x="18603" y="12828"/>
                  </a:lnTo>
                  <a:lnTo>
                    <a:pt x="18603" y="14107"/>
                  </a:lnTo>
                  <a:lnTo>
                    <a:pt x="9020" y="14107"/>
                  </a:lnTo>
                  <a:lnTo>
                    <a:pt x="9020" y="9877"/>
                  </a:lnTo>
                  <a:lnTo>
                    <a:pt x="8838" y="9877"/>
                  </a:lnTo>
                  <a:lnTo>
                    <a:pt x="8455" y="10243"/>
                  </a:lnTo>
                  <a:lnTo>
                    <a:pt x="7541" y="1024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62120" y="41148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质以分子或离子的形式均匀分散到另一物质中的过程，叫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物质的溶解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1828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蒸馏水是溶液吗？你是如何知道的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380880"/>
            <a:ext cx="3505320" cy="129564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ubRRectCallout"/>
          <p:cNvSpPr/>
          <p:nvPr/>
        </p:nvSpPr>
        <p:spPr>
          <a:xfrm>
            <a:off x="5562720" y="3200400"/>
            <a:ext cx="2743200" cy="3048120"/>
          </a:xfrm>
          <a:custGeom>
            <a:avLst/>
            <a:gdLst>
              <a:gd name="textAreaLeft" fmla="*/ 18360 w 2743200"/>
              <a:gd name="textAreaRight" fmla="*/ 2719080 w 2743200"/>
              <a:gd name="textAreaTop" fmla="*/ 20160 h 3048120"/>
              <a:gd name="textAreaBottom" fmla="*/ 2414160 h 30481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0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gradFill rotWithShape="0">
            <a:gsLst>
              <a:gs pos="0">
                <a:srgbClr val="b0dc84"/>
              </a:gs>
              <a:gs pos="50000">
                <a:srgbClr val="ccff99"/>
              </a:gs>
              <a:gs pos="100000">
                <a:srgbClr val="b0dc84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蒸馏水是纯净物，溶液必须为混合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01640" y="593640"/>
            <a:ext cx="78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溶液都是无色的，无色是不是溶液的特征呢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02360" y="3789360"/>
            <a:ext cx="2801880" cy="1841760"/>
            <a:chOff x="6102360" y="3789360"/>
            <a:chExt cx="2801880" cy="1841760"/>
          </a:xfrm>
        </p:grpSpPr>
        <p:sp>
          <p:nvSpPr>
            <p:cNvPr id="112" name=""/>
            <p:cNvSpPr/>
            <p:nvPr/>
          </p:nvSpPr>
          <p:spPr>
            <a:xfrm>
              <a:off x="6102360" y="3789360"/>
              <a:ext cx="1905120" cy="11430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544" y="6690"/>
                  </a:moveTo>
                  <a:arcTo wR="-6672" hR="-6672" stAng="-8518554" swAng="-7980391"/>
                  <a:lnTo>
                    <a:pt x="9862" y="41"/>
                  </a:lnTo>
                  <a:arcTo wR="10800" hR="10800" stAng="-5698945" swAng="7980391"/>
                  <a:lnTo>
                    <a:pt x="21435" y="19116"/>
                  </a:lnTo>
                  <a:lnTo>
                    <a:pt x="14747" y="19934"/>
                  </a:lnTo>
                  <a:lnTo>
                    <a:pt x="13929" y="13247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1640" y="5049720"/>
              <a:ext cx="262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cc00"/>
                  </a:solidFill>
                  <a:uFillTx/>
                  <a:latin typeface="宋体"/>
                </a:rPr>
                <a:t>黄色溶液为氯化铁溶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92360" y="1898640"/>
            <a:ext cx="3809880" cy="28670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3402000" y="4554360"/>
            <a:ext cx="2514600" cy="1608840"/>
            <a:chOff x="3402000" y="4554360"/>
            <a:chExt cx="2514600" cy="1608840"/>
          </a:xfrm>
        </p:grpSpPr>
        <p:sp>
          <p:nvSpPr>
            <p:cNvPr id="116" name=""/>
            <p:cNvSpPr/>
            <p:nvPr/>
          </p:nvSpPr>
          <p:spPr>
            <a:xfrm>
              <a:off x="3402000" y="5094360"/>
              <a:ext cx="2514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蓝色溶液为硫酸铜溶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11640" y="4554360"/>
              <a:ext cx="720720" cy="449280"/>
            </a:xfrm>
            <a:prstGeom prst="downArrow">
              <a:avLst>
                <a:gd name="adj1" fmla="val 53741"/>
                <a:gd name="adj2" fmla="val 5088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41280" y="3699000"/>
            <a:ext cx="2835360" cy="2464200"/>
            <a:chOff x="341280" y="3699000"/>
            <a:chExt cx="2835360" cy="2464200"/>
          </a:xfrm>
        </p:grpSpPr>
        <p:sp>
          <p:nvSpPr>
            <p:cNvPr id="119" name=""/>
            <p:cNvSpPr/>
            <p:nvPr/>
          </p:nvSpPr>
          <p:spPr>
            <a:xfrm flipH="1">
              <a:off x="1196280" y="3699000"/>
              <a:ext cx="1600200" cy="114300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915" y="5671"/>
                  </a:moveTo>
                  <a:arcTo wR="-7083" hR="-7083" stAng="-8016253" swAng="-9430902"/>
                  <a:lnTo>
                    <a:pt x="6967" y="703"/>
                  </a:lnTo>
                  <a:arcTo wR="10800" hR="10800" stAng="-6647155" swAng="9430902"/>
                  <a:lnTo>
                    <a:pt x="20111" y="20576"/>
                  </a:lnTo>
                  <a:lnTo>
                    <a:pt x="13666" y="20419"/>
                  </a:lnTo>
                  <a:lnTo>
                    <a:pt x="13823" y="1397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1280" y="5094360"/>
              <a:ext cx="2835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cc00ff"/>
                  </a:solidFill>
                  <a:uFillTx/>
                  <a:latin typeface="Times New Roman"/>
                </a:rPr>
                <a:t>紫红色溶液为高锰酸钾溶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1:08:09Z</dcterms:created>
  <dc:creator>chemistry</dc:creator>
  <dc:description/>
  <cp:keywords/>
  <dc:language>en-US</dc:language>
  <cp:lastModifiedBy>lu</cp:lastModifiedBy>
  <cp:lastPrinted>1899-12-30T00:00:00Z</cp:lastPrinted>
  <dcterms:modified xsi:type="dcterms:W3CDTF">2010-12-21T23:29:48Z</dcterms:modified>
  <cp:revision>49</cp:revision>
  <dc:subject/>
  <dc:title>PowerPoint 演示文稿</dc:title>
</cp:coreProperties>
</file>