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776D-9C05-4D1A-94A7-28C44E41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9103-5405-4EC0-87F1-33C6F2C0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EB73-3669-436C-BCC0-50A00B67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69AA-E6BD-46E8-B595-09232863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3BD4-2B88-4F92-B2BA-0E67866B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1ECE-A31B-4580-B240-C4FCFC19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4C87-6E4E-45D2-A396-9B7B4F3D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AEEB-D5A2-4BF7-89F3-79A4E0F8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45DD-B98E-483D-9B23-3E3AB9E0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94E6-4A5F-4058-80D0-4A7E1755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02DD-8775-4189-AEC0-9C150BA9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7E4A-529C-431F-BE4C-2473A1B2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83FC-0AE8-4814-A903-EC6D1C1F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17C1-B721-4304-B6AF-9F84279B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A152-345A-4A84-838B-2AB34F61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A2A3-6823-4A28-A936-BC4FC682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88D1-695F-4396-8891-A745FAB6E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3D62-F301-4505-A1B7-EEE11001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47DF-0AF9-4D46-8797-77950BEF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DDBD-6873-4103-8764-17779D07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1DD1-7C45-4E5A-ADD2-4AAFC937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01B4-8C32-4D63-8CF3-FE0A2332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059A-F80B-4313-934E-EC6C09C0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5327-91A3-4811-8056-9A3578EC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9345-97B0-49EB-B2CF-B5BC4CD531FC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7EB4-476A-48CB-8ACE-84B1BCAD04D5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Arial"/>
                <a:ea typeface="宋体"/>
              </a:rPr>
              <a:t>检测字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799200" y="1714680"/>
            <a:ext cx="1015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污 涩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2857680" y="1643040"/>
            <a:ext cx="1571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红 绫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922680" y="4572000"/>
            <a:ext cx="1314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怂   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5504400" y="3071880"/>
            <a:ext cx="1165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怅  然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5433120" y="1714680"/>
            <a:ext cx="1165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惩  戒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6545160" y="5786280"/>
            <a:ext cx="155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妄下断语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3104280" y="3071880"/>
            <a:ext cx="1393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一  缕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2"/>
          <p:cNvSpPr/>
          <p:nvPr/>
        </p:nvSpPr>
        <p:spPr>
          <a:xfrm>
            <a:off x="3071880" y="5786280"/>
            <a:ext cx="2071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编译所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7286760" y="3000240"/>
            <a:ext cx="1571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似 乎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4"/>
          <p:cNvSpPr/>
          <p:nvPr/>
        </p:nvSpPr>
        <p:spPr>
          <a:xfrm>
            <a:off x="7362000" y="1643040"/>
            <a:ext cx="1165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捉  捕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1085040" y="5786280"/>
            <a:ext cx="1015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诅 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6"/>
          <p:cNvSpPr/>
          <p:nvPr/>
        </p:nvSpPr>
        <p:spPr>
          <a:xfrm>
            <a:off x="3432960" y="4500720"/>
            <a:ext cx="1165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蜷  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7"/>
          <p:cNvSpPr/>
          <p:nvPr/>
        </p:nvSpPr>
        <p:spPr>
          <a:xfrm>
            <a:off x="5647320" y="4500720"/>
            <a:ext cx="1165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叮  嘱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8"/>
          <p:cNvSpPr/>
          <p:nvPr/>
        </p:nvSpPr>
        <p:spPr>
          <a:xfrm>
            <a:off x="7585920" y="4500720"/>
            <a:ext cx="1015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挣 扎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9"/>
          <p:cNvSpPr/>
          <p:nvPr/>
        </p:nvSpPr>
        <p:spPr>
          <a:xfrm>
            <a:off x="789840" y="3071880"/>
            <a:ext cx="1165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消  耗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0"/>
          <p:cNvSpPr/>
          <p:nvPr/>
        </p:nvSpPr>
        <p:spPr>
          <a:xfrm>
            <a:off x="1285920" y="1071720"/>
            <a:ext cx="1071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cc"/>
                </a:solidFill>
                <a:latin typeface="Arial"/>
                <a:ea typeface="宋体"/>
              </a:rPr>
              <a:t>sè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1"/>
          <p:cNvSpPr/>
          <p:nvPr/>
        </p:nvSpPr>
        <p:spPr>
          <a:xfrm>
            <a:off x="3357720" y="1071720"/>
            <a:ext cx="1428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cc"/>
                </a:solidFill>
                <a:latin typeface="Arial"/>
                <a:ea typeface="宋体"/>
              </a:rPr>
              <a:t>lí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2"/>
          <p:cNvSpPr/>
          <p:nvPr/>
        </p:nvSpPr>
        <p:spPr>
          <a:xfrm>
            <a:off x="7820280" y="1143000"/>
            <a:ext cx="878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cc"/>
                </a:solidFill>
                <a:latin typeface="Arial"/>
                <a:ea typeface="宋体"/>
              </a:rPr>
              <a:t>bǔ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3"/>
          <p:cNvSpPr/>
          <p:nvPr/>
        </p:nvSpPr>
        <p:spPr>
          <a:xfrm>
            <a:off x="1161000" y="2500200"/>
            <a:ext cx="1197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cc"/>
                </a:solidFill>
                <a:latin typeface="Arial"/>
                <a:ea typeface="宋体"/>
              </a:rPr>
              <a:t>hà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4"/>
          <p:cNvSpPr/>
          <p:nvPr/>
        </p:nvSpPr>
        <p:spPr>
          <a:xfrm>
            <a:off x="3902400" y="2428920"/>
            <a:ext cx="68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cc"/>
                </a:solidFill>
                <a:latin typeface="Arial"/>
                <a:ea typeface="宋体"/>
              </a:rPr>
              <a:t>lǚ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5"/>
          <p:cNvSpPr/>
          <p:nvPr/>
        </p:nvSpPr>
        <p:spPr>
          <a:xfrm>
            <a:off x="4870800" y="2357280"/>
            <a:ext cx="1864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cc"/>
                </a:solidFill>
                <a:latin typeface="Arial"/>
                <a:ea typeface="宋体"/>
              </a:rPr>
              <a:t>chà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658760" y="1000080"/>
            <a:ext cx="1864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cc"/>
                </a:solidFill>
                <a:latin typeface="Arial"/>
                <a:ea typeface="宋体"/>
              </a:rPr>
              <a:t>ché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7"/>
          <p:cNvSpPr/>
          <p:nvPr/>
        </p:nvSpPr>
        <p:spPr>
          <a:xfrm>
            <a:off x="7308000" y="2357280"/>
            <a:ext cx="657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cc"/>
                </a:solidFill>
                <a:latin typeface="Arial"/>
                <a:ea typeface="宋体"/>
              </a:rPr>
              <a:t>sì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8"/>
          <p:cNvSpPr/>
          <p:nvPr/>
        </p:nvSpPr>
        <p:spPr>
          <a:xfrm>
            <a:off x="96120" y="3857760"/>
            <a:ext cx="1546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cc"/>
                </a:solidFill>
                <a:latin typeface="Arial"/>
                <a:ea typeface="宋体"/>
              </a:rPr>
              <a:t>sǒ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9"/>
          <p:cNvSpPr/>
          <p:nvPr/>
        </p:nvSpPr>
        <p:spPr>
          <a:xfrm>
            <a:off x="2930400" y="3857760"/>
            <a:ext cx="1546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cc"/>
                </a:solidFill>
                <a:latin typeface="Arial"/>
                <a:ea typeface="宋体"/>
              </a:rPr>
              <a:t>quá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0"/>
          <p:cNvSpPr/>
          <p:nvPr/>
        </p:nvSpPr>
        <p:spPr>
          <a:xfrm>
            <a:off x="6005520" y="3857760"/>
            <a:ext cx="1165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cc"/>
                </a:solidFill>
                <a:latin typeface="Arial"/>
                <a:ea typeface="宋体"/>
              </a:rPr>
              <a:t>zhǔ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1"/>
          <p:cNvSpPr/>
          <p:nvPr/>
        </p:nvSpPr>
        <p:spPr>
          <a:xfrm>
            <a:off x="7794720" y="3786120"/>
            <a:ext cx="1134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cc"/>
                </a:solidFill>
                <a:latin typeface="Arial"/>
                <a:ea typeface="宋体"/>
              </a:rPr>
              <a:t>zhá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2"/>
          <p:cNvSpPr/>
          <p:nvPr/>
        </p:nvSpPr>
        <p:spPr>
          <a:xfrm>
            <a:off x="882720" y="5143680"/>
            <a:ext cx="816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cc"/>
                </a:solidFill>
                <a:latin typeface="Arial"/>
                <a:ea typeface="宋体"/>
              </a:rPr>
              <a:t>zǔ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3"/>
          <p:cNvSpPr/>
          <p:nvPr/>
        </p:nvSpPr>
        <p:spPr>
          <a:xfrm>
            <a:off x="3686040" y="5214960"/>
            <a:ext cx="657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cc"/>
                </a:solidFill>
                <a:latin typeface="Arial"/>
                <a:ea typeface="宋体"/>
              </a:rPr>
              <a:t>yì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4"/>
          <p:cNvSpPr/>
          <p:nvPr/>
        </p:nvSpPr>
        <p:spPr>
          <a:xfrm>
            <a:off x="5716080" y="5214960"/>
            <a:ext cx="164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cc"/>
                </a:solidFill>
                <a:latin typeface="Arial"/>
                <a:ea typeface="宋体"/>
              </a:rPr>
              <a:t>wà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5"/>
          <p:cNvSpPr/>
          <p:nvPr/>
        </p:nvSpPr>
        <p:spPr>
          <a:xfrm>
            <a:off x="1403280" y="3857760"/>
            <a:ext cx="1546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cc"/>
                </a:solidFill>
                <a:latin typeface="Arial"/>
                <a:ea typeface="宋体"/>
              </a:rPr>
              <a:t>yǒ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（二）三只猫眼中的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一、二只猫：喜欢我们，并且是我们悲剧的见证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三只猫：不太喜欢我，还冤枉我，他的武断直接造成我的悲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猫共同的心声：因为人类不够爱我们，不够懂我们，才导致了悲剧的发生。希望人类能关爱动物，尊重生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人眼看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一）我们应该怎样看待文中的“我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“我”确定是小猫杀死了芙蓉鸟，有亲眼看到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那“我”凭什么判断他是罪魁祸首呢？又是怎样去做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知道事情的真相后，我愧疚、忏悔、深深的自责。这说明了什么？给我们什么启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种自省精神是一种道德素质的体现，是值得我们学习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启示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生活中，待人接物不要有偏见，应当平等公正，不能主观臆测，妄下断语，以致伤害无辜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善待生命，同情弱小，关爱动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（二）看看作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045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郑振铎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89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95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福建长乐县人。现代作家、文学家，我国新文化运动的倡导者之一。新中国成立后，曾担任中国科学院考古研究所所长、全国作协理事等职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95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率中国文化代表团前往阿富汗等国进行友好访问时，因飞机失事不幸遇难。他的主要著作有《中国历史参考图谱》《中国俗文学史》《欧行日记》《海燕》《山中杂记》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3045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本文写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92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，是郑振铎从事文学创作的早期作品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他深受“五四”精神影响，在这一时期的作品中，表现出新思想、新观念；表达出同情弱小无辜，谴责专制霸道；弘扬公道、民主、博爱的思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3045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一个善良的、正义的、富有良知的知识分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3045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30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（三）思考写作意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者写这篇文章的意图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关注弱小，尊重生命，善待他人，共建和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法指点：要联系作者及写作背景，思考写作意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826920" y="2492280"/>
            <a:ext cx="7632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+mn-ea"/>
              </a:rPr>
              <a:t>关爱弱小  宽容仁爱  </a:t>
            </a:r>
            <a:endParaRPr b="1" lang="en-US" sz="44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+mn-ea"/>
              <a:ea typeface="+mn-e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文学作品中的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那些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钱钟书　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猫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夏丏尊　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猫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多丽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莱辛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07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诺贝尔文学奖得主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　　　　　　　　　　　　　　　　　　　　　　　　　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别的猫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佐野洋子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活了一百万次的猫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1483920"/>
            <a:ext cx="8640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12900" spc="-1" strike="noStrike">
                <a:solidFill>
                  <a:srgbClr val="000000"/>
                </a:solidFill>
                <a:latin typeface="Arial"/>
                <a:ea typeface="黑体"/>
              </a:rPr>
              <a:t>猫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郑振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人眼看猫</a:t>
            </a:r>
            <a:br>
              <a:rPr sz="4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看：猫的故事，看看这几只猫身上发生了什么事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请同学们快速默读课文，分别找到记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养猫经历所对应的段落，标好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并用“〰”划出你划分层次的依据，看谁最快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等线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  <a:ea typeface="等线"/>
              </a:rPr>
              <a:t>1-2/3-14/15-34</a:t>
            </a:r>
            <a:r>
              <a:rPr b="0" lang="zh-CN" sz="2800" spc="-1" strike="noStrike">
                <a:solidFill>
                  <a:srgbClr val="000000"/>
                </a:solidFill>
                <a:latin typeface="等线"/>
                <a:ea typeface="等线"/>
              </a:rPr>
              <a:t>（文章中有没有现成的句子给我们提示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等线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等线"/>
                <a:ea typeface="等线"/>
              </a:rPr>
              <a:t>依据：“猫死了”“好久不养猫”（这是抓住事件的结果）“带了一只浑身黄色小猫回来“（这是事件的起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等线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等线"/>
                <a:ea typeface="等线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等线"/>
                <a:ea typeface="等线"/>
              </a:rPr>
              <a:t>隔了几天”“冬天的早晨”（这是标志时间转换的词语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用“来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结局”的方式概述三只小猫的命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一只猫： 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-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从隔壁家抱来的猫后来病死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二只猫： 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从舅舅家要来的猫最终被人抱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三只猫： 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流浪到家的猫被主人怀疑吃了鸟，被棒打，最终冤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二看：猫的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0560" y="907560"/>
            <a:ext cx="8569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跳读课文，说说这三只猫的外形、性情各有什么特点？（在文中圈出表现猫外形、性情的关键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文中哪些具体的内容能体现这些猫的性情？（在文中用直线划出相关语句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一只花白猫：花白的毛，如带着泥土的白雪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很活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只小黄猫：浑身黄色，很可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更活泼，更有趣，会捉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三只丑猫：花白，并不好看，瘦，毛被烧脱了几块，更觉难看。不活泼天生忧郁，懒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三看：人对猫的情感态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等线"/>
              </a:rPr>
              <a:t>请同学们迅速跳读课文，用“——”分别划出，平时全家对猫的态度的句子、最能体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等线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等线"/>
              </a:rPr>
              <a:t>只猫的悲剧给我带来情感波动的段落，并圈出关键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一只猫：喜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缕酸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再养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二只猫：宠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怅然愤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好久不养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三只猫：都不喜欢、不加注意、若有若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自责、难过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永不养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三看：人对猫的情感态度（思考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“我对于它的亡失，比以前的两只猫的亡失，更难过的多。”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喜欢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更难过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因为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所以我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永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养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朗读指导：为了读出“我”的难过、后悔、自责之情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段的朗读在语速语调上要有讲究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语速由舒缓而稍微加快，语调由低沉到略有升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学法指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理解课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内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抓住相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词语和句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把握文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中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抓住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议论、抒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猫眼看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（一）三只猫眼中的其他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95280" y="126828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三妹：爱我们，但更爱漂亮的我们。我们活着只是为了让人类开心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周家的丫头：冷漠，对我们不闻不问，任凭路人把我捉去，而不制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抓猫的人：自私自利，给我们带来痛苦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张嫂：当初可怜我，把我带回家。“芙蓉鸟”事件发生后，没有站出来为我求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Windows 用户</cp:lastModifiedBy>
  <dcterms:modified xsi:type="dcterms:W3CDTF">2017-11-27T08:31:15Z</dcterms:modified>
  <cp:revision>124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