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191B-6CEC-4172-923E-AA316FCB4D7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BED6-D85B-47F7-9DDA-352002982AF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6D37-08C0-475A-87B0-B47E2813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C8AE-49EF-4AD2-BD51-8E4E229E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89E-9DBC-4A44-990F-F7963AE6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C31-B731-4374-B11D-CF6D8015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46A-E5C1-416F-AC90-CA5AE74B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B470-6FA8-41A4-9269-CBFE40E9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F3B4-084E-4571-9824-A4DD5227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B9A3-04D7-43D6-8C88-A232E1D6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CE15-4BEF-4F0F-878A-CB5C33B5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AE9E-1040-413C-BB24-3918B690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AA55-79C4-4742-9F1D-2DC0BEFD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E77D-7538-48D1-9452-7BDFA7E4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657E-38A4-484F-B77D-8D3B1254E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Administrator\Desktop\12.jpg"/>
          <p:cNvPicPr/>
          <p:nvPr/>
        </p:nvPicPr>
        <p:blipFill>
          <a:blip r:embed="rId1"/>
          <a:stretch/>
        </p:blipFill>
        <p:spPr>
          <a:xfrm>
            <a:off x="4788000" y="1125360"/>
            <a:ext cx="4025880" cy="5410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Administrator\Desktop\123.jpg"/>
          <p:cNvPicPr/>
          <p:nvPr/>
        </p:nvPicPr>
        <p:blipFill>
          <a:blip r:embed="rId2"/>
          <a:stretch/>
        </p:blipFill>
        <p:spPr>
          <a:xfrm>
            <a:off x="179280" y="260280"/>
            <a:ext cx="453708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324000" y="12682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11111"/>
                </a:solidFill>
                <a:latin typeface="宋体"/>
              </a:rPr>
              <a:t>动物学家对这些有趣的小动物又抱有怎样的态度呢？请你跳读课文，找出相关语句，用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〰</a:t>
            </a:r>
            <a:r>
              <a:rPr b="0" lang="zh-CN" sz="3600" spc="-1" strike="noStrike">
                <a:solidFill>
                  <a:srgbClr val="111111"/>
                </a:solidFill>
                <a:latin typeface="宋体"/>
              </a:rPr>
              <a:t>”标注，并有感情地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900000" y="2666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5" descr="QQ截图20171021160125"/>
          <p:cNvPicPr/>
          <p:nvPr/>
        </p:nvPicPr>
        <p:blipFill>
          <a:blip r:embed="rId1"/>
          <a:stretch/>
        </p:blipFill>
        <p:spPr>
          <a:xfrm>
            <a:off x="7308720" y="0"/>
            <a:ext cx="1565280" cy="1347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5"/>
          <p:cNvSpPr/>
          <p:nvPr/>
        </p:nvSpPr>
        <p:spPr>
          <a:xfrm>
            <a:off x="0" y="260280"/>
            <a:ext cx="77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中宋"/>
              </a:rPr>
              <a:t>细读课文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华文中宋"/>
              </a:rPr>
              <a:t>，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中宋"/>
              </a:rPr>
              <a:t> “笑” 看作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468360" y="357336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充满好奇心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耐心专注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认真执着、                  优秀的动物学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痴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喜爱欣赏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右箭头 6"/>
          <p:cNvSpPr/>
          <p:nvPr/>
        </p:nvSpPr>
        <p:spPr>
          <a:xfrm>
            <a:off x="3492360" y="4292640"/>
            <a:ext cx="1295640" cy="10810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曲线连接符 9"/>
          <p:cNvCxnSpPr/>
          <p:nvPr/>
        </p:nvCxnSpPr>
        <p:spPr>
          <a:xfrm>
            <a:off x="5003280" y="2924280"/>
            <a:ext cx="1081800" cy="218160"/>
          </a:xfrm>
          <a:prstGeom prst="curvedConnector5">
            <a:avLst>
              <a:gd name="adj1" fmla="val 50000"/>
              <a:gd name="adj2" fmla="val 49917"/>
              <a:gd name="adj3" fmla="val 50000"/>
            </a:avLst>
          </a:prstGeom>
          <a:ln w="6480">
            <a:solidFill>
              <a:srgbClr val="bbe0e3"/>
            </a:solidFill>
            <a:miter/>
          </a:ln>
        </p:spPr>
      </p:cxn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5"/>
          <p:cNvSpPr/>
          <p:nvPr/>
        </p:nvSpPr>
        <p:spPr>
          <a:xfrm>
            <a:off x="468360" y="1628640"/>
            <a:ext cx="8094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文中的小动物可爱有趣，作者的行为也让我们忍俊不禁。这与作者幽默诙谐的语言也是分不开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找出文章中你认为写得生动幽默的语句，读一读，并旁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971640" y="260280"/>
            <a:ext cx="671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中宋"/>
              </a:rPr>
              <a:t>再读课文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华文中宋"/>
              </a:rPr>
              <a:t>，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中宋"/>
              </a:rPr>
              <a:t>品读</a:t>
            </a:r>
            <a:r>
              <a:rPr b="1" lang="en-US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“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华文中宋"/>
              </a:rPr>
              <a:t>笑</a:t>
            </a:r>
            <a:r>
              <a:rPr b="1" lang="en-US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”</a:t>
            </a:r>
            <a:r>
              <a:rPr b="1" lang="zh-CN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5" descr="QQ截图20171021160125"/>
          <p:cNvPicPr/>
          <p:nvPr/>
        </p:nvPicPr>
        <p:blipFill>
          <a:blip r:embed="rId1"/>
          <a:stretch/>
        </p:blipFill>
        <p:spPr>
          <a:xfrm>
            <a:off x="7236000" y="404640"/>
            <a:ext cx="1566720" cy="13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渐变1"/>
          <p:cNvPicPr/>
          <p:nvPr/>
        </p:nvPicPr>
        <p:blipFill>
          <a:blip r:embed="rId1"/>
          <a:stretch/>
        </p:blipFill>
        <p:spPr>
          <a:xfrm>
            <a:off x="0" y="6453360"/>
            <a:ext cx="9144000" cy="218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渐变右边深"/>
          <p:cNvPicPr/>
          <p:nvPr/>
        </p:nvPicPr>
        <p:blipFill>
          <a:blip r:embed="rId2"/>
          <a:stretch/>
        </p:blipFill>
        <p:spPr>
          <a:xfrm>
            <a:off x="0" y="330120"/>
            <a:ext cx="9144000" cy="219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实验中学LOGO副本"/>
          <p:cNvPicPr/>
          <p:nvPr/>
        </p:nvPicPr>
        <p:blipFill>
          <a:blip r:embed="rId3"/>
          <a:stretch/>
        </p:blipFill>
        <p:spPr>
          <a:xfrm>
            <a:off x="6084720" y="6283440"/>
            <a:ext cx="2843280" cy="5745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468360" y="404640"/>
            <a:ext cx="8496360" cy="764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知识链接：如何使语言诙谐幽默？</a:t>
            </a:r>
            <a:r>
              <a:rPr b="0" lang="zh-CN" sz="4400" spc="-1" strike="noStrike">
                <a:solidFill>
                  <a:srgbClr val="ff3300"/>
                </a:solidFill>
                <a:latin typeface="楷体"/>
                <a:ea typeface="楷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"/>
          <p:cNvSpPr/>
          <p:nvPr/>
        </p:nvSpPr>
        <p:spPr>
          <a:xfrm>
            <a:off x="419040" y="1273320"/>
            <a:ext cx="87249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1.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巧</a:t>
            </a:r>
            <a:r>
              <a:rPr b="0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妙运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用比喻、拟人、夸张</a:t>
            </a:r>
            <a:r>
              <a:rPr b="0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等修辞手法，可以达到幽默的效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2.</a:t>
            </a:r>
            <a:r>
              <a:rPr b="0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恰当运用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拟声词</a:t>
            </a:r>
            <a:r>
              <a:rPr b="0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，或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大词小用</a:t>
            </a:r>
            <a:r>
              <a:rPr b="0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褒词贬用</a:t>
            </a:r>
            <a:r>
              <a:rPr b="0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贬词褒用</a:t>
            </a:r>
            <a:r>
              <a:rPr b="0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有时也能收到诙谐的效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3.</a:t>
            </a:r>
            <a:r>
              <a:rPr b="0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运用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生动的描写</a:t>
            </a:r>
            <a:r>
              <a:rPr b="0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，营造幽默的气氛，描绘幽默的情景，让人忍俊不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4.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恰当的自我调侃</a:t>
            </a:r>
            <a:r>
              <a:rPr b="0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、自嘲也能收获诙谐幽默的效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timg?image&amp;quality=80&amp;size=b9999_10000&amp;sec=1508744527174&amp;di=518be83eea980fe387ed455aba39dbf1&amp;imgtype=0&amp;src=http%3A%2F%2Fs4"/>
          <p:cNvPicPr/>
          <p:nvPr/>
        </p:nvPicPr>
        <p:blipFill>
          <a:blip r:embed="rId1"/>
          <a:stretch/>
        </p:blipFill>
        <p:spPr>
          <a:xfrm>
            <a:off x="395280" y="1844640"/>
            <a:ext cx="3726000" cy="3357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4427640" y="333360"/>
            <a:ext cx="43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你必须和活生生的动物建立亲密关系</a:t>
            </a:r>
            <a:r>
              <a:rPr b="1" lang="en-US" sz="2800" spc="-1" strike="noStrike">
                <a:solidFill>
                  <a:srgbClr val="009999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如果你对动物没有爱心，不能把动物视为人类的近亲，就别想与动物建立互信的关系，就别想在研究方面有什么重大收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宋体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劳伦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179280" y="836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动物行为学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324000" y="530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科普作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348000" y="530064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妙笔生花：用生动活泼，幽默诙谐的语言描绘他眼中的动物明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250920" y="18900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科学小品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问题：读一读，你从这些数据中感悟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最后一只阔嘴鸟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9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最后一只蓝马玲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7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最后一匹欧洲野马和最后一头美洲野马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8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最后一只琉球翠鸟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最后一只纽芬兰白狼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最后一头中国犀牛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3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最后一头巴厘虎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最后一头台湾云豹消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？？？   年，最后一只斑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？？？  年，人类的生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标题 45057" descr=""/>
          <p:cNvPicPr/>
          <p:nvPr/>
        </p:nvPicPr>
        <p:blipFill>
          <a:blip r:embed="rId1"/>
          <a:stretch/>
        </p:blipFill>
        <p:spPr>
          <a:xfrm>
            <a:off x="324000" y="-298440"/>
            <a:ext cx="8240400" cy="16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7760" y="120600"/>
            <a:ext cx="8988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问题：读一读，你从这些数据中感悟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类与其他动物都是大自然的儿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我们应该抱着崇拜和亲近自然的态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其他动物友好相处。保护动物，尊重生命的神圣和权威；维护生态平衡，就是保护我们人类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2" descr="11-150F310200X58"/>
          <p:cNvPicPr/>
          <p:nvPr/>
        </p:nvPicPr>
        <p:blipFill>
          <a:blip r:embed="rId1"/>
          <a:stretch/>
        </p:blipFill>
        <p:spPr>
          <a:xfrm>
            <a:off x="152280" y="3378240"/>
            <a:ext cx="8717040" cy="34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479600" y="1420920"/>
            <a:ext cx="2440080" cy="3675240"/>
          </a:xfrm>
          <a:prstGeom prst="rect">
            <a:avLst/>
          </a:prstGeom>
          <a:noFill/>
          <a:ln w="9360">
            <a:solidFill>
              <a:srgbClr val="f8f8f8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6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500" spc="-1" strike="noStrike">
                <a:solidFill>
                  <a:srgbClr val="f8f8f8"/>
                </a:solidFill>
                <a:latin typeface="Arial"/>
                <a:ea typeface="楷体"/>
              </a:rPr>
              <a:t>然</a:t>
            </a:r>
            <a:endParaRPr b="0" lang="en-US" sz="2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737240" y="1446120"/>
            <a:ext cx="2444760" cy="3675240"/>
          </a:xfrm>
          <a:prstGeom prst="rect">
            <a:avLst/>
          </a:prstGeom>
          <a:noFill/>
          <a:ln w="9360">
            <a:solidFill>
              <a:srgbClr val="f8f8f8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6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500" spc="-1" strike="noStrike">
                <a:solidFill>
                  <a:srgbClr val="f8f8f8"/>
                </a:solidFill>
                <a:latin typeface="Arial"/>
                <a:ea typeface="楷体"/>
              </a:rPr>
              <a:t>而</a:t>
            </a:r>
            <a:endParaRPr b="0" lang="en-US" sz="2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5"/>
          <p:cNvSpPr/>
          <p:nvPr/>
        </p:nvSpPr>
        <p:spPr>
          <a:xfrm>
            <a:off x="0" y="0"/>
            <a:ext cx="90583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多少头可爱的鲸鱼因他们罪恶的双手而失去生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陈勋奇 - 天地孤影任我行 - 纯音乐版.mp3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渐变1"/>
          <p:cNvPicPr/>
          <p:nvPr/>
        </p:nvPicPr>
        <p:blipFill>
          <a:blip r:embed="rId1"/>
          <a:stretch/>
        </p:blipFill>
        <p:spPr>
          <a:xfrm>
            <a:off x="0" y="6453360"/>
            <a:ext cx="9144000" cy="218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渐变右边深"/>
          <p:cNvPicPr/>
          <p:nvPr/>
        </p:nvPicPr>
        <p:blipFill>
          <a:blip r:embed="rId2"/>
          <a:stretch/>
        </p:blipFill>
        <p:spPr>
          <a:xfrm>
            <a:off x="0" y="330120"/>
            <a:ext cx="9144000" cy="2192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0" y="1844640"/>
            <a:ext cx="8964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2"/>
          <p:cNvSpPr/>
          <p:nvPr/>
        </p:nvSpPr>
        <p:spPr>
          <a:xfrm>
            <a:off x="507960" y="803160"/>
            <a:ext cx="824076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我们怎样面对这个世界，这个世界就怎样回报我们。善待生灵，就是善待人类自己！希望每一个同学都能把动物当朋友，和它们和谐共处。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  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ff00ff"/>
                </a:solidFill>
                <a:latin typeface="黑体"/>
                <a:ea typeface="黑体"/>
              </a:rPr>
              <a:t>         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MH_Other_1"/>
          <p:cNvSpPr/>
          <p:nvPr/>
        </p:nvSpPr>
        <p:spPr>
          <a:xfrm>
            <a:off x="2873520" y="901800"/>
            <a:ext cx="3644640" cy="5686200"/>
          </a:xfrm>
          <a:custGeom>
            <a:avLst/>
            <a:gdLst>
              <a:gd name="textAreaLeft" fmla="*/ 0 w 3644640"/>
              <a:gd name="textAreaRight" fmla="*/ 3645000 w 3644640"/>
              <a:gd name="textAreaTop" fmla="*/ 0 h 5686200"/>
              <a:gd name="textAreaBottom" fmla="*/ 5686560 h 5686200"/>
            </a:gdLst>
            <a:ahLst/>
            <a:rect l="textAreaLeft" t="textAreaTop" r="textAreaRight" b="textAreaBottom"/>
            <a:pathLst>
              <a:path w="4860032" h="5688632">
                <a:moveTo>
                  <a:pt x="0" y="838011"/>
                </a:moveTo>
                <a:cubicBezTo>
                  <a:pt x="514867" y="320305"/>
                  <a:pt x="1227886" y="0"/>
                  <a:pt x="2015716" y="0"/>
                </a:cubicBezTo>
                <a:cubicBezTo>
                  <a:pt x="3586588" y="0"/>
                  <a:pt x="4860032" y="1273444"/>
                  <a:pt x="4860032" y="2844316"/>
                </a:cubicBezTo>
                <a:cubicBezTo>
                  <a:pt x="4860032" y="4415188"/>
                  <a:pt x="3586588" y="5688632"/>
                  <a:pt x="2015716" y="5688632"/>
                </a:cubicBezTo>
                <a:cubicBezTo>
                  <a:pt x="1227886" y="5688632"/>
                  <a:pt x="514867" y="5368328"/>
                  <a:pt x="0" y="4850621"/>
                </a:cubicBezTo>
              </a:path>
            </a:pathLst>
          </a:cu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直接箭头连接符 38928"/>
          <p:cNvCxnSpPr/>
          <p:nvPr/>
        </p:nvCxnSpPr>
        <p:spPr>
          <a:xfrm>
            <a:off x="817560" y="3598560"/>
            <a:ext cx="2564640" cy="1080"/>
          </a:xfrm>
          <a:prstGeom prst="straightConnector1">
            <a:avLst/>
          </a:prstGeom>
          <a:ln w="6480">
            <a:solidFill>
              <a:srgbClr val="ffd653"/>
            </a:solidFill>
            <a:bevel/>
          </a:ln>
        </p:spPr>
      </p:cxnSp>
      <p:pic>
        <p:nvPicPr>
          <p:cNvPr id="134" name="Picture 21" descr="timg?image&amp;quality=80&amp;size=b9999_10000&amp;sec=1508841451947&amp;di=49ba579d49051eed8eead7870b99d51a&amp;imgtype=0&amp;src=http%3A%2F%2Fhnrb"/>
          <p:cNvPicPr/>
          <p:nvPr/>
        </p:nvPicPr>
        <p:blipFill>
          <a:blip r:embed="rId1"/>
          <a:stretch/>
        </p:blipFill>
        <p:spPr>
          <a:xfrm>
            <a:off x="3479760" y="1639800"/>
            <a:ext cx="2500200" cy="4443480"/>
          </a:xfrm>
          <a:prstGeom prst="rect">
            <a:avLst/>
          </a:prstGeom>
          <a:ln w="0">
            <a:noFill/>
          </a:ln>
        </p:spPr>
      </p:pic>
      <p:sp>
        <p:nvSpPr>
          <p:cNvPr id="135" name="MH_Text_1"/>
          <p:cNvSpPr/>
          <p:nvPr/>
        </p:nvSpPr>
        <p:spPr>
          <a:xfrm>
            <a:off x="192240" y="1378080"/>
            <a:ext cx="304164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0" y="949320"/>
            <a:ext cx="2903400" cy="1169280"/>
          </a:xfrm>
          <a:prstGeom prst="rect">
            <a:avLst/>
          </a:prstGeom>
          <a:solidFill>
            <a:srgbClr val="80808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所罗门王的指环”是一个魔戒，所罗门王戴着它，就能够听懂鸟兽鱼虫的语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所罗门王的指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劳伦兹第一本通俗科学作品，老少皆宜，流传最久，最受欢迎，最为脍炙人口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"/>
          <p:cNvSpPr/>
          <p:nvPr/>
        </p:nvSpPr>
        <p:spPr>
          <a:xfrm>
            <a:off x="1050840" y="0"/>
            <a:ext cx="62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中宋"/>
              </a:rPr>
              <a:t>布置作业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华文中宋"/>
              </a:rPr>
              <a:t>，延续</a:t>
            </a:r>
            <a:r>
              <a:rPr b="1" lang="en-US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“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华文中宋"/>
              </a:rPr>
              <a:t>笑谈</a:t>
            </a:r>
            <a:r>
              <a:rPr b="1" lang="en-US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”</a:t>
            </a:r>
            <a:r>
              <a:rPr b="1" lang="zh-CN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（</a:t>
            </a:r>
            <a:r>
              <a:rPr b="1" lang="en-US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1</a:t>
            </a:r>
            <a:r>
              <a:rPr b="1" lang="zh-CN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0" descr="QQ截图20171024191601"/>
          <p:cNvPicPr/>
          <p:nvPr/>
        </p:nvPicPr>
        <p:blipFill>
          <a:blip r:embed="rId2"/>
          <a:stretch/>
        </p:blipFill>
        <p:spPr>
          <a:xfrm>
            <a:off x="6124680" y="1755720"/>
            <a:ext cx="2384280" cy="42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Administrator\Desktop\tu11.jpg"/>
          <p:cNvPicPr/>
          <p:nvPr/>
        </p:nvPicPr>
        <p:blipFill>
          <a:blip r:embed="rId1"/>
          <a:stretch/>
        </p:blipFill>
        <p:spPr>
          <a:xfrm>
            <a:off x="539640" y="3274920"/>
            <a:ext cx="5730840" cy="358308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" descr="middle_640x427-153617_20761407224177122_eb62f9ea86a32834c826dfd9592769a3"/>
          <p:cNvPicPr/>
          <p:nvPr/>
        </p:nvPicPr>
        <p:blipFill>
          <a:blip r:embed="rId2"/>
          <a:stretch/>
        </p:blipFill>
        <p:spPr>
          <a:xfrm>
            <a:off x="2700360" y="333360"/>
            <a:ext cx="621828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1400" y="47160"/>
            <a:ext cx="89532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活动：讲一讲，生活中你与小动物之间的趣事，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字左右的小片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示例：一次，朋友送我一只小猫，我特意用一条鱼做诱饵，教它捕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2" descr="503e1036g6b72ac1ee359&amp;690"/>
          <p:cNvPicPr/>
          <p:nvPr/>
        </p:nvPicPr>
        <p:blipFill>
          <a:blip r:embed="rId1"/>
          <a:stretch/>
        </p:blipFill>
        <p:spPr>
          <a:xfrm>
            <a:off x="277920" y="3267000"/>
            <a:ext cx="8623080" cy="3492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5"/>
          <p:cNvSpPr/>
          <p:nvPr/>
        </p:nvSpPr>
        <p:spPr>
          <a:xfrm>
            <a:off x="1050840" y="0"/>
            <a:ext cx="62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中宋"/>
              </a:rPr>
              <a:t>布置作业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华文中宋"/>
              </a:rPr>
              <a:t>，延续</a:t>
            </a:r>
            <a:r>
              <a:rPr b="1" lang="en-US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“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华文中宋"/>
              </a:rPr>
              <a:t>笑谈</a:t>
            </a:r>
            <a:r>
              <a:rPr b="1" lang="en-US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”</a:t>
            </a:r>
            <a:r>
              <a:rPr b="1" lang="zh-CN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（</a:t>
            </a:r>
            <a:r>
              <a:rPr b="1" lang="en-US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2</a:t>
            </a:r>
            <a:r>
              <a:rPr b="1" lang="zh-CN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u=1791758501,25267853&amp;fm=170&amp;s=1FB479840CD30EC66430F9120300E0C9&amp;w=640&amp;h=427&amp;img"/>
          <p:cNvPicPr/>
          <p:nvPr/>
        </p:nvPicPr>
        <p:blipFill>
          <a:blip r:embed="rId1"/>
          <a:stretch/>
        </p:blipFill>
        <p:spPr>
          <a:xfrm>
            <a:off x="179280" y="189000"/>
            <a:ext cx="5418360" cy="2711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u=2698110152,175267602&amp;fm=170&amp;s=428C9E45001245C65825AD220300405B&amp;w=640&amp;h=460&amp;img"/>
          <p:cNvPicPr/>
          <p:nvPr/>
        </p:nvPicPr>
        <p:blipFill>
          <a:blip r:embed="rId2"/>
          <a:stretch/>
        </p:blipFill>
        <p:spPr>
          <a:xfrm>
            <a:off x="2556000" y="3068640"/>
            <a:ext cx="6588000" cy="35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4a1def46td5ad27d95455&amp;690"/>
          <p:cNvPicPr/>
          <p:nvPr/>
        </p:nvPicPr>
        <p:blipFill>
          <a:blip r:embed="rId2"/>
          <a:stretch/>
        </p:blipFill>
        <p:spPr>
          <a:xfrm>
            <a:off x="68400" y="22320"/>
            <a:ext cx="8964360" cy="6789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9600" y="473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Matura MT Script Capitals"/>
              </a:rPr>
              <a:t>19 </a:t>
            </a:r>
            <a:r>
              <a:rPr b="1" lang="zh-CN" sz="7200" spc="-1" strike="noStrike">
                <a:solidFill>
                  <a:srgbClr val="ffff00"/>
                </a:solidFill>
                <a:latin typeface="Matura MT Script Capitals"/>
              </a:rPr>
              <a:t>动物笑谈</a:t>
            </a:r>
            <a:br>
              <a:rPr sz="72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54764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康拉德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劳伦兹（奥地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2448000" cy="955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05160" y="1628640"/>
            <a:ext cx="539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康拉德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·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劳伦兹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奥地利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动物行为学家、科普作家，也是经典比较行为研究的代表人物。获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973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诺贝尔生理学或医学奖。代表作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所罗门王的指环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》《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狗的家世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" descr="0e2442a7d933c89511b88562d31373f0830200e0"/>
          <p:cNvPicPr/>
          <p:nvPr/>
        </p:nvPicPr>
        <p:blipFill>
          <a:blip r:embed="rId1"/>
          <a:stretch/>
        </p:blipFill>
        <p:spPr>
          <a:xfrm>
            <a:off x="0" y="1565280"/>
            <a:ext cx="352908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79200" y="1336680"/>
            <a:ext cx="898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     羞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匍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委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鹦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温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禁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冲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柠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怪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相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庭     神采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奕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标题 45057" descr=""/>
          <p:cNvPicPr/>
          <p:nvPr/>
        </p:nvPicPr>
        <p:blipFill>
          <a:blip r:embed="rId1"/>
          <a:stretch/>
        </p:blipFill>
        <p:spPr>
          <a:xfrm>
            <a:off x="255600" y="-255600"/>
            <a:ext cx="8242200" cy="159696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1"/>
          <p:cNvSpPr/>
          <p:nvPr/>
        </p:nvSpPr>
        <p:spPr>
          <a:xfrm>
            <a:off x="558720" y="92556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li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1879560" y="92556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b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"/>
          <p:cNvSpPr/>
          <p:nvPr/>
        </p:nvSpPr>
        <p:spPr>
          <a:xfrm>
            <a:off x="4129200" y="78732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qi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"/>
          <p:cNvSpPr/>
          <p:nvPr/>
        </p:nvSpPr>
        <p:spPr>
          <a:xfrm>
            <a:off x="6078600" y="92556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zh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"/>
          <p:cNvSpPr/>
          <p:nvPr/>
        </p:nvSpPr>
        <p:spPr>
          <a:xfrm>
            <a:off x="7594560" y="873000"/>
            <a:ext cx="147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pú f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7"/>
          <p:cNvSpPr/>
          <p:nvPr/>
        </p:nvSpPr>
        <p:spPr>
          <a:xfrm>
            <a:off x="79200" y="228600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yu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8"/>
          <p:cNvSpPr/>
          <p:nvPr/>
        </p:nvSpPr>
        <p:spPr>
          <a:xfrm>
            <a:off x="1879560" y="223524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yīng w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9"/>
          <p:cNvSpPr/>
          <p:nvPr/>
        </p:nvSpPr>
        <p:spPr>
          <a:xfrm>
            <a:off x="4021200" y="228600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xù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0"/>
          <p:cNvSpPr/>
          <p:nvPr/>
        </p:nvSpPr>
        <p:spPr>
          <a:xfrm>
            <a:off x="5770440" y="228600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jìn g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1"/>
          <p:cNvSpPr/>
          <p:nvPr/>
        </p:nvSpPr>
        <p:spPr>
          <a:xfrm>
            <a:off x="7594560" y="2286000"/>
            <a:ext cx="16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xi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"/>
          <p:cNvSpPr/>
          <p:nvPr/>
        </p:nvSpPr>
        <p:spPr>
          <a:xfrm>
            <a:off x="539640" y="371628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hu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3"/>
          <p:cNvSpPr/>
          <p:nvPr/>
        </p:nvSpPr>
        <p:spPr>
          <a:xfrm>
            <a:off x="1979640" y="371628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f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3276720" y="371628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níng mé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5"/>
          <p:cNvSpPr/>
          <p:nvPr/>
        </p:nvSpPr>
        <p:spPr>
          <a:xfrm>
            <a:off x="6300720" y="364500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d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6"/>
          <p:cNvSpPr/>
          <p:nvPr/>
        </p:nvSpPr>
        <p:spPr>
          <a:xfrm>
            <a:off x="900000" y="515772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jì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7"/>
          <p:cNvSpPr/>
          <p:nvPr/>
        </p:nvSpPr>
        <p:spPr>
          <a:xfrm>
            <a:off x="3708360" y="522936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y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79200" y="1165320"/>
            <a:ext cx="8985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蹒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怪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目结舌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视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香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似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   迫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待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标题 45057" descr=""/>
          <p:cNvPicPr/>
          <p:nvPr/>
        </p:nvPicPr>
        <p:blipFill>
          <a:blip r:embed="rId1"/>
          <a:stretch/>
        </p:blipFill>
        <p:spPr>
          <a:xfrm>
            <a:off x="255600" y="-274680"/>
            <a:ext cx="8242200" cy="160344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3"/>
          <p:cNvSpPr/>
          <p:nvPr/>
        </p:nvSpPr>
        <p:spPr>
          <a:xfrm>
            <a:off x="-108000" y="800280"/>
            <a:ext cx="25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pán sh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4"/>
          <p:cNvSpPr/>
          <p:nvPr/>
        </p:nvSpPr>
        <p:spPr>
          <a:xfrm>
            <a:off x="1692360" y="800280"/>
            <a:ext cx="25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hē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5"/>
          <p:cNvSpPr/>
          <p:nvPr/>
        </p:nvSpPr>
        <p:spPr>
          <a:xfrm>
            <a:off x="3021120" y="738360"/>
            <a:ext cx="25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hē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5738760" y="76824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chē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"/>
          <p:cNvSpPr/>
          <p:nvPr/>
        </p:nvSpPr>
        <p:spPr>
          <a:xfrm>
            <a:off x="7575480" y="738360"/>
            <a:ext cx="7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f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8"/>
          <p:cNvSpPr/>
          <p:nvPr/>
        </p:nvSpPr>
        <p:spPr>
          <a:xfrm>
            <a:off x="79200" y="213372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sh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9"/>
          <p:cNvSpPr/>
          <p:nvPr/>
        </p:nvSpPr>
        <p:spPr>
          <a:xfrm>
            <a:off x="1274760" y="213372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gu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0"/>
          <p:cNvSpPr/>
          <p:nvPr/>
        </p:nvSpPr>
        <p:spPr>
          <a:xfrm>
            <a:off x="2432160" y="221292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s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1"/>
          <p:cNvSpPr/>
          <p:nvPr/>
        </p:nvSpPr>
        <p:spPr>
          <a:xfrm>
            <a:off x="5035680" y="213372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j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2"/>
          <p:cNvSpPr/>
          <p:nvPr/>
        </p:nvSpPr>
        <p:spPr>
          <a:xfrm>
            <a:off x="6308640" y="2212920"/>
            <a:ext cx="25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cu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3"/>
          <p:cNvSpPr/>
          <p:nvPr/>
        </p:nvSpPr>
        <p:spPr>
          <a:xfrm>
            <a:off x="7485120" y="2212920"/>
            <a:ext cx="119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sh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1017720" y="0"/>
            <a:ext cx="66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华文中宋"/>
              </a:rPr>
              <a:t>默读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中宋"/>
              </a:rPr>
              <a:t>课文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华文中宋"/>
              </a:rPr>
              <a:t>，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中宋"/>
              </a:rPr>
              <a:t>认识</a:t>
            </a:r>
            <a:r>
              <a:rPr b="1" lang="en-US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“</a:t>
            </a:r>
            <a:r>
              <a:rPr b="1" lang="zh-CN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笑谈</a:t>
            </a:r>
            <a:r>
              <a:rPr b="1" lang="en-US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50920" y="981000"/>
            <a:ext cx="86630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文章是围绕哪个词展开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文中主要讲了哪些动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试用一句话概括课文的主要内容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可以参考文中的中心句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5" descr="QQ截图20171021160125"/>
          <p:cNvPicPr/>
          <p:nvPr/>
        </p:nvPicPr>
        <p:blipFill>
          <a:blip r:embed="rId1"/>
          <a:stretch/>
        </p:blipFill>
        <p:spPr>
          <a:xfrm>
            <a:off x="7236000" y="333360"/>
            <a:ext cx="1566720" cy="13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6"/>
          <p:cNvSpPr/>
          <p:nvPr/>
        </p:nvSpPr>
        <p:spPr>
          <a:xfrm>
            <a:off x="324000" y="1268280"/>
            <a:ext cx="815328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11111"/>
                </a:solidFill>
                <a:latin typeface="宋体"/>
              </a:rPr>
              <a:t>作者笔下的小动物真有趣啊！请跳读课文，选择你最感兴趣的</a:t>
            </a:r>
            <a:r>
              <a:rPr b="0" lang="en-US" sz="4000" spc="-1" strike="noStrike">
                <a:solidFill>
                  <a:srgbClr val="111111"/>
                </a:solidFill>
                <a:latin typeface="宋体"/>
              </a:rPr>
              <a:t>1-2</a:t>
            </a:r>
            <a:r>
              <a:rPr b="0" lang="zh-CN" sz="4000" spc="-1" strike="noStrike">
                <a:solidFill>
                  <a:srgbClr val="111111"/>
                </a:solidFill>
                <a:latin typeface="宋体"/>
              </a:rPr>
              <a:t>处，用“</a:t>
            </a:r>
            <a:r>
              <a:rPr b="0" lang="en-US" sz="4000" spc="-1" strike="noStrike">
                <a:solidFill>
                  <a:srgbClr val="111111"/>
                </a:solidFill>
                <a:latin typeface="宋体"/>
              </a:rPr>
              <a:t>——</a:t>
            </a:r>
            <a:r>
              <a:rPr b="0" lang="zh-CN" sz="4000" spc="-1" strike="noStrike">
                <a:solidFill>
                  <a:srgbClr val="111111"/>
                </a:solidFill>
                <a:latin typeface="宋体"/>
              </a:rPr>
              <a:t>”画出来，读一读，品品动物之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宋体"/>
              </a:rPr>
              <a:t>请以这样的句式开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宋体"/>
              </a:rPr>
              <a:t>作者笔下的</a:t>
            </a:r>
            <a:r>
              <a:rPr b="0" lang="en-US" sz="3200" spc="-1" strike="noStrike">
                <a:solidFill>
                  <a:srgbClr val="111111"/>
                </a:solidFill>
                <a:latin typeface="宋体"/>
              </a:rPr>
              <a:t>——</a:t>
            </a:r>
            <a:r>
              <a:rPr b="0" lang="zh-CN" sz="3200" spc="-1" strike="noStrike">
                <a:solidFill>
                  <a:srgbClr val="111111"/>
                </a:solidFill>
                <a:latin typeface="宋体"/>
              </a:rPr>
              <a:t>（某种小动物）真 </a:t>
            </a:r>
            <a:r>
              <a:rPr b="0" lang="en-US" sz="3200" spc="-1" strike="noStrike">
                <a:solidFill>
                  <a:srgbClr val="111111"/>
                </a:solidFill>
                <a:latin typeface="宋体"/>
              </a:rPr>
              <a:t>……</a:t>
            </a:r>
            <a:r>
              <a:rPr b="0" lang="zh-CN" sz="3200" spc="-1" strike="noStrike">
                <a:solidFill>
                  <a:srgbClr val="111111"/>
                </a:solidFill>
                <a:latin typeface="宋体"/>
              </a:rPr>
              <a:t>啊！不信，你瞧</a:t>
            </a:r>
            <a:r>
              <a:rPr b="0" lang="en-US" sz="3200" spc="-1" strike="noStrike">
                <a:solidFill>
                  <a:srgbClr val="111111"/>
                </a:solidFill>
                <a:latin typeface="宋体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900000" y="2666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5" descr="QQ截图20171021160125"/>
          <p:cNvPicPr/>
          <p:nvPr/>
        </p:nvPicPr>
        <p:blipFill>
          <a:blip r:embed="rId1"/>
          <a:stretch/>
        </p:blipFill>
        <p:spPr>
          <a:xfrm>
            <a:off x="7308720" y="0"/>
            <a:ext cx="1565280" cy="13478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5"/>
          <p:cNvSpPr/>
          <p:nvPr/>
        </p:nvSpPr>
        <p:spPr>
          <a:xfrm>
            <a:off x="0" y="260280"/>
            <a:ext cx="77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中宋"/>
              </a:rPr>
              <a:t>跳读课文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华文中宋"/>
              </a:rPr>
              <a:t>，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华文中宋"/>
              </a:rPr>
              <a:t> </a:t>
            </a:r>
            <a:r>
              <a:rPr b="1" lang="zh-CN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“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华文中宋"/>
              </a:rPr>
              <a:t>笑</a:t>
            </a:r>
            <a:r>
              <a:rPr b="1" lang="en-US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”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  <a:ea typeface="华文中宋"/>
              </a:rPr>
              <a:t> 谈</a:t>
            </a:r>
            <a:r>
              <a:rPr b="1" lang="zh-CN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动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9T07:13:33Z</dcterms:created>
  <dc:creator>admin</dc:creator>
  <dc:description/>
  <dc:language>en-US</dc:language>
  <cp:lastModifiedBy>Administrator</cp:lastModifiedBy>
  <dcterms:modified xsi:type="dcterms:W3CDTF">2017-12-27T04:27:27Z</dcterms:modified>
  <cp:revision>25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79</vt:lpwstr>
  </property>
</Properties>
</file>