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9.jpeg" ContentType="image/jpeg"/>
  <Override PartName="/ppt/media/image18.jpeg" ContentType="image/jpeg"/>
  <Override PartName="/ppt/media/image5.gif" ContentType="image/gif"/>
  <Override PartName="/ppt/media/image8.png" ContentType="image/png"/>
  <Override PartName="/ppt/media/image14.jpeg" ContentType="image/jpeg"/>
  <Override PartName="/ppt/media/image24.jpeg" ContentType="image/jpeg"/>
  <Override PartName="/ppt/media/image3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coin.wav" ContentType="audio/x-wav"/>
  <Override PartName="/ppt/media/image10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cashreg.wav" ContentType="audio/x-wav"/>
  <Override PartName="/ppt/media/image13.png" ContentType="image/png"/>
  <Override PartName="/ppt/media/image2.jpeg" ContentType="image/jpeg"/>
  <Override PartName="/ppt/media/image16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444-1B02-4CFF-8C8F-6E6EC0BB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168-B653-486C-AC02-BA074280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D3D-7F6E-4D82-81B5-99141056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C86-427E-454B-B0D1-5B5016D2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659F-5CD9-443C-87CE-A68D9D88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0E59-03F7-488A-94B1-14C5771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8E83-3950-43B2-B956-8B74DA6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9A27-BAB8-441B-A496-B9A8EF84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292-7E18-48D5-888B-231B7B09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EF6-B086-438B-843A-8E4AC6D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394B-CBBE-4A00-98A5-BE5D0464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055-39D9-4191-8987-17C4F14C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C074-F829-4EEE-9E2B-433B64E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BB61-8D61-434F-8360-93578E1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FA12-ED54-4FD2-BDE8-2CEEC0A4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7F9D-B764-4088-BB3B-35CDC3D7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BBBD-6216-4EE6-95FE-318A4048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AB2-3973-4059-9963-9FC51F11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0CC-840A-4F7B-924A-4499B84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A25-AF3E-4922-A841-D1538F47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D32-31A6-4621-AED9-4E43FBD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5A1-DC42-4D9F-95C8-FDE9F35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F16-8019-416A-824C-F5C278A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0CF-532A-4990-807C-5BE577D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C134-1CD4-4B6B-9D73-4FE8047B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99"/>
                </a:spcBef>
                <a:buClr>
                  <a:srgbClr val="0066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2B3-9F6E-4D7D-8EF0-1B73171C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audio" Target="file:///tmp/home/.config/libreoffice/4/user/gallery/coin.wav" TargetMode="External"/><Relationship Id="rId4" Type="http://schemas.microsoft.com/office/2007/relationships/media" Target="file:///tmp/home/.config/libreoffice/4/user/gallery/coin.wav" TargetMode="External"/><Relationship Id="rId5" Type="http://schemas.openxmlformats.org/officeDocument/2006/relationships/image" Target="../media/image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2700360" y="1341360"/>
            <a:ext cx="5329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秋天的怀念</a:t>
            </a:r>
            <a:endParaRPr b="1" lang="en-US" sz="3200" spc="1" strike="noStrike">
              <a:ln w="22320">
                <a:solidFill>
                  <a:srgbClr val="ff66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4" name="WordArt 5"/>
          <p:cNvSpPr txBox="1"/>
          <p:nvPr/>
        </p:nvSpPr>
        <p:spPr>
          <a:xfrm>
            <a:off x="4211640" y="393372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史铁生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1058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望着望着天上北归的雁阵，我会</a:t>
            </a:r>
            <a:r>
              <a:rPr b="1" lang="zh-CN" sz="3600" spc="-1" strike="noStrike">
                <a:solidFill>
                  <a:srgbClr val="e4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640908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突然把面前的玻璃砸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04292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听着听着收音机里甜美的歌声，我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971640" y="32846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妈妈让我去看菊花，我会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042920" y="256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97164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，我不去！我可活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900000" y="4869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双腿瘫痪后，我的脾气变的                 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17"/>
          <p:cNvSpPr txBox="1"/>
          <p:nvPr/>
        </p:nvSpPr>
        <p:spPr>
          <a:xfrm>
            <a:off x="2627280" y="551664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6480">
                  <a:solidFill>
                    <a:srgbClr val="ff0000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暴怒无常</a:t>
            </a:r>
            <a:endParaRPr b="1" lang="en-US" sz="3200" spc="1" strike="noStrike">
              <a:ln w="6480">
                <a:solidFill>
                  <a:srgbClr val="ff0000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animClr clrSpc="rgb">
                                      <p:cBhvr>
                                        <p:cTn id="25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2c5"/>
                                      </p:to>
                                    </p:animClr>
                                    <p:set>
                                      <p:cBhvr>
                                        <p:cTn id="25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755640" y="1844640"/>
            <a:ext cx="734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阅读课文一、三两段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面对我的暴怒悲观，母亲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怎么说的，又是怎么做的？她为什么这么说，这么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1455840" y="37152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WordArt 11"/>
          <p:cNvSpPr txBox="1"/>
          <p:nvPr/>
        </p:nvSpPr>
        <p:spPr>
          <a:xfrm>
            <a:off x="0" y="33336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思 我悟</a:t>
            </a:r>
            <a:endParaRPr b="1" lang="en-US" sz="32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2" name="cashreg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隶书"/>
              </a:rPr>
              <a:t>品读第一段，面对我的暴躁，母亲的表现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900000" y="1052640"/>
            <a:ext cx="45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悄悄地躲出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00000" y="1916280"/>
            <a:ext cx="57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偷偷的听我的动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00000" y="2781360"/>
            <a:ext cx="75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扑过来、抓住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00000" y="3645000"/>
            <a:ext cx="33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忍住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900000" y="4508640"/>
            <a:ext cx="35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好好儿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1341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理解、体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2360" y="2205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牵挂、关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18200" y="2997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坚定、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59280" y="3933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30920" y="4869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坚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品读第三段，母亲又是怎样对待儿子的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1782720"/>
            <a:ext cx="453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挡在窗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4360" y="2646360"/>
            <a:ext cx="575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央求般的神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3511440"/>
            <a:ext cx="75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一会儿坐下，一会儿站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4375080"/>
            <a:ext cx="46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比我还敏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40360" y="1916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理解、体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怕儿子触景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118200" y="29973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母爱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8040" y="378936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16360" y="472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细心、体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六的晚上妈妈在校门口寻找我的目光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母爱是周日的凌晨四点半妈妈为我捧出的香喷喷的热汤面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707220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WordArt 6" descr=""/>
          <p:cNvPicPr/>
          <p:nvPr/>
        </p:nvPicPr>
        <p:blipFill>
          <a:blip r:embed="rId2"/>
          <a:stretch/>
        </p:blipFill>
        <p:spPr>
          <a:xfrm>
            <a:off x="530280" y="324000"/>
            <a:ext cx="8053200" cy="839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amera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440856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WordArt 9"/>
          <p:cNvSpPr txBox="1"/>
          <p:nvPr/>
        </p:nvSpPr>
        <p:spPr>
          <a:xfrm>
            <a:off x="1187280" y="765000"/>
            <a:ext cx="658980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感恩的心 细说母爱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611280" y="3284640"/>
            <a:ext cx="626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母爱是</a:t>
            </a:r>
            <a:r>
              <a:rPr b="1" lang="en-US" sz="6600" spc="-1" strike="noStrike">
                <a:solidFill>
                  <a:srgbClr val="e40000"/>
                </a:solidFill>
                <a:latin typeface="Arial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3276720" y="4292640"/>
            <a:ext cx="453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3132000" y="4365720"/>
            <a:ext cx="460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5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618920" y="2781360"/>
            <a:ext cx="590868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身患绝症  病入膏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儿子瘫痪  暴怒无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WordArt 7" descr=""/>
          <p:cNvPicPr/>
          <p:nvPr/>
        </p:nvPicPr>
        <p:blipFill>
          <a:blip r:embed="rId2"/>
          <a:stretch/>
        </p:blipFill>
        <p:spPr>
          <a:xfrm>
            <a:off x="517680" y="469800"/>
            <a:ext cx="804060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amera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楷体_GB2312"/>
              </a:rPr>
              <a:t>深受苦楚的母亲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突然把面前的玻璃砸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84360" y="21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猛地把手边的东西摔向四周的墙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755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有没有大声呼喊我活着什么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900000" y="148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826920" y="278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900000" y="40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684360" y="4797360"/>
            <a:ext cx="58323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己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坚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让儿子成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坚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的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684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01" name="Picture 6" descr="黄色4"/>
          <p:cNvPicPr/>
          <p:nvPr/>
        </p:nvPicPr>
        <p:blipFill>
          <a:blip r:embed="rId1"/>
          <a:stretch/>
        </p:blipFill>
        <p:spPr>
          <a:xfrm>
            <a:off x="0" y="0"/>
            <a:ext cx="4284720" cy="2781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白色7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2781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0" descr="紫红5"/>
          <p:cNvPicPr/>
          <p:nvPr/>
        </p:nvPicPr>
        <p:blipFill>
          <a:blip r:embed="rId3"/>
          <a:stretch/>
        </p:blipFill>
        <p:spPr>
          <a:xfrm>
            <a:off x="0" y="436572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粉红"/>
          <p:cNvPicPr/>
          <p:nvPr/>
        </p:nvPicPr>
        <p:blipFill>
          <a:blip r:embed="rId4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2"/>
          <p:cNvSpPr/>
          <p:nvPr/>
        </p:nvSpPr>
        <p:spPr>
          <a:xfrm>
            <a:off x="0" y="191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淡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7020000" y="1989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高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700360" y="60958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热烈而深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17"/>
          <p:cNvSpPr txBox="1"/>
          <p:nvPr/>
        </p:nvSpPr>
        <p:spPr>
          <a:xfrm>
            <a:off x="1042920" y="270828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母亲为什么要带我去看菊花？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6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3"/>
          <p:cNvSpPr/>
          <p:nvPr/>
        </p:nvSpPr>
        <p:spPr>
          <a:xfrm>
            <a:off x="6055920" y="5732640"/>
            <a:ext cx="265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白色的花高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2"/>
          <p:cNvSpPr/>
          <p:nvPr/>
        </p:nvSpPr>
        <p:spPr>
          <a:xfrm>
            <a:off x="395280" y="2349360"/>
            <a:ext cx="8136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瘫痪       侍弄       整宿       憔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仿膳       豌豆       诀别       烂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翻来覆去      絮絮叨叨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0" y="1773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n hu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n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ǔ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       qi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e40000"/>
                </a:solidFill>
                <a:latin typeface="Arial"/>
              </a:rPr>
              <a:t>o cu</a:t>
            </a: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5564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             jué                 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1547640" y="5084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ù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ù     d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8"/>
          <p:cNvSpPr txBox="1"/>
          <p:nvPr/>
        </p:nvSpPr>
        <p:spPr>
          <a:xfrm>
            <a:off x="395280" y="189000"/>
            <a:ext cx="3168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！</a:t>
            </a:r>
            <a:endParaRPr b="0" lang="en-US" sz="32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DSCF13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324000" y="3789360"/>
            <a:ext cx="3816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260360" y="53737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ff66"/>
                </a:solidFill>
                <a:latin typeface="Arial"/>
                <a:ea typeface="黑体"/>
              </a:rPr>
              <a:t>黄色的花淡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1547640" y="2637000"/>
            <a:ext cx="68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08000" y="5302080"/>
            <a:ext cx="885672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紫红色的花热烈而深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作者多次在文中也多次提到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隶书"/>
              </a:rPr>
              <a:t>菊花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有何用意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带我看花，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想唤起我生存的欲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的淡雅高洁，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母亲品质的写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热烈深沉，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母爱的写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母亲爱花，我看菊花是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对母亲的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菊花在我眼里五彩缤纷，泼泼洒洒，也是在告诉读者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Arial"/>
              </a:rPr>
              <a:t>我的人生态度发生了转变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。（文中何处可见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5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1671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395280" y="2924280"/>
            <a:ext cx="874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细读本文，你能体会到作者在写作此文时是怎样的心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684360" y="5013360"/>
            <a:ext cx="223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悔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203640" y="501336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悲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5651640" y="494172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怀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1743120" y="94788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6"/>
          <p:cNvSpPr txBox="1"/>
          <p:nvPr/>
        </p:nvSpPr>
        <p:spPr>
          <a:xfrm>
            <a:off x="611280" y="260280"/>
            <a:ext cx="79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316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回读作者 体会感情</a:t>
            </a:r>
            <a:endParaRPr b="1" lang="en-US" sz="3200" spc="1" strike="noStrike">
              <a:ln w="316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med">
    <p:wheel spokes="8"/>
    <p:sndAc>
      <p:stSnd>
        <p:snd r:embed="rId2" name="cashreg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4"/>
          <p:cNvSpPr txBox="1"/>
          <p:nvPr/>
        </p:nvSpPr>
        <p:spPr>
          <a:xfrm>
            <a:off x="324000" y="189000"/>
            <a:ext cx="3047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>
                    <a:alpha val="59000"/>
                  </a:srgbClr>
                </a:solidFill>
                <a:latin typeface="宋体"/>
              </a:rPr>
              <a:t>合作探究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>
                  <a:alpha val="5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900000" y="2349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为什么不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怀念母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题，却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秋天的怀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0" y="620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为什么是秋天的怀念？秋天有什么值得作者去怀念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179280" y="220500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818440" y="21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母亲是秋天去世的，“我”深切怀念母亲对“我”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395280" y="2924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秋天里去看菊花，是母亲对“我”的希望，“我”用行动向母亲表示，不仅自己好好活，还要带着妹妹好好活，让母亲在九泉之下放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95280" y="4508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秋天是菊花盛开的时节，“菊花”是母亲坚韧、乐观精神的象征，看到菊花绽放得那样鲜艳、灿烂，让“我”明白了要好好儿活，活出精彩，做生活的强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WordArt 4"/>
          <p:cNvSpPr txBox="1"/>
          <p:nvPr/>
        </p:nvSpPr>
        <p:spPr>
          <a:xfrm>
            <a:off x="1187280" y="333360"/>
            <a:ext cx="633744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127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升华情感 延伸拓展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166760" y="267660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324000" y="2565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是秋天，当作者站在母亲的墓前看着母亲的遗像，他会说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1743120" y="42591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50328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母亲，儿子来看您了。自从您秋天走后，我和妹妹都懂了您的话，您放心吧，我俩在一块，一定会好好儿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1ad5ad6eddc451da5e13c095b6fd5266d11632e3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3024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u=150422484,3957471278&amp;fm=52&amp;gp=0"/>
          <p:cNvPicPr/>
          <p:nvPr/>
        </p:nvPicPr>
        <p:blipFill>
          <a:blip r:embed="rId2"/>
          <a:stretch/>
        </p:blipFill>
        <p:spPr>
          <a:xfrm>
            <a:off x="2987640" y="333360"/>
            <a:ext cx="2527200" cy="2951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u=1216437939,2559318412&amp;fm=23&amp;gp=0"/>
          <p:cNvPicPr/>
          <p:nvPr/>
        </p:nvPicPr>
        <p:blipFill>
          <a:blip r:embed="rId3"/>
          <a:stretch/>
        </p:blipFill>
        <p:spPr>
          <a:xfrm>
            <a:off x="250920" y="3645000"/>
            <a:ext cx="2808360" cy="2698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8" descr="u=3005625631,709507244&amp;fm=52&amp;gp=0"/>
          <p:cNvPicPr/>
          <p:nvPr/>
        </p:nvPicPr>
        <p:blipFill>
          <a:blip r:embed="rId4"/>
          <a:stretch/>
        </p:blipFill>
        <p:spPr>
          <a:xfrm>
            <a:off x="3348000" y="3645000"/>
            <a:ext cx="2087640" cy="2736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9" descr="u=3209926828,2417030040&amp;fm=23&amp;gp=0"/>
          <p:cNvPicPr/>
          <p:nvPr/>
        </p:nvPicPr>
        <p:blipFill>
          <a:blip r:embed="rId5"/>
          <a:stretch/>
        </p:blipFill>
        <p:spPr>
          <a:xfrm>
            <a:off x="5867280" y="404640"/>
            <a:ext cx="2857680" cy="2737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0" descr="u=3443515491,2247563388&amp;fm=9&amp;gp=0"/>
          <p:cNvPicPr/>
          <p:nvPr/>
        </p:nvPicPr>
        <p:blipFill>
          <a:blip r:embed="rId6"/>
          <a:stretch/>
        </p:blipFill>
        <p:spPr>
          <a:xfrm>
            <a:off x="5867280" y="3284640"/>
            <a:ext cx="2808360" cy="318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5"/>
          <p:cNvSpPr/>
          <p:nvPr/>
        </p:nvSpPr>
        <p:spPr>
          <a:xfrm>
            <a:off x="684360" y="1341360"/>
            <a:ext cx="67690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我那个有病的儿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和我那个还未成年的女儿</a:t>
            </a:r>
            <a:r>
              <a:rPr b="1" lang="en-US" sz="5400" spc="-1" strike="noStrike">
                <a:solidFill>
                  <a:srgbClr val="0066cc"/>
                </a:solidFill>
                <a:latin typeface="Arial"/>
                <a:ea typeface="楷体_GB2312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484360" y="3213000"/>
            <a:ext cx="7488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你们俩在一块儿，一定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好好儿活，好好儿活啊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中短篇小说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遥远的清平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礼拜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若琴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散文随笔集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言自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与地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长篇小说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务虚笔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铁生作品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曾先后获全国优秀短篇小说奖、鲁迅文学奖，以及多种全国文学刊物奖。一些作品被译成英、法、日等文字，单篇或结集在海外出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史铁生荣获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华语文学传播大奖年度杰出成就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同年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隙碎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之六）获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首届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老舍散文奖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一等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4"/>
          <p:cNvSpPr txBox="1"/>
          <p:nvPr/>
        </p:nvSpPr>
        <p:spPr>
          <a:xfrm>
            <a:off x="1042920" y="404640"/>
            <a:ext cx="4321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cap="rnd" w="1908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史铁生作品集</a:t>
            </a:r>
            <a:endParaRPr b="1" lang="en-US" sz="3200" spc="1" strike="noStrike">
              <a:ln cap="rnd" w="1908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wheel spokes="8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侍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憔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诀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絮絮叨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出望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"/>
          <p:cNvSpPr txBox="1"/>
          <p:nvPr/>
        </p:nvSpPr>
        <p:spPr>
          <a:xfrm>
            <a:off x="179280" y="0"/>
            <a:ext cx="432144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3492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理解！</a:t>
            </a:r>
            <a:endParaRPr b="0" lang="en-US" sz="3200" spc="1" strike="noStrike">
              <a:ln w="3492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2195640" y="1557360"/>
            <a:ext cx="576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908000" y="24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形容人瘦弱，面色不好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050920" y="1557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经营照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2268360" y="3645000"/>
            <a:ext cx="41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2050920" y="342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多指不再相见的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2340000" y="45864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2340000" y="436572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形容说话啰嗦，唠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558972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遇到出乎意料的事情而特别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ashreg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学习了这篇课文，你有哪些收获？  受到了哪些启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WordArt 4"/>
          <p:cNvSpPr txBox="1"/>
          <p:nvPr/>
        </p:nvSpPr>
        <p:spPr>
          <a:xfrm>
            <a:off x="900000" y="1484280"/>
            <a:ext cx="741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77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掩卷沉思 妙笔生情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6348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959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250920" y="549360"/>
            <a:ext cx="8893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学完本文之后，你是否被文中“母亲”的伟大母爱所感动呢？你会不会不由自主地想到你的妈妈对你所做的一切，此时此刻你是否也想对妈妈说些什么呢？请以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妈妈，我想对您说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为题，写一封信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课外阅读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与地坛</a:t>
            </a: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WordArt 11"/>
          <p:cNvSpPr txBox="1"/>
          <p:nvPr/>
        </p:nvSpPr>
        <p:spPr>
          <a:xfrm>
            <a:off x="1187280" y="1700280"/>
            <a:ext cx="669780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楷体_GB2312"/>
              </a:rPr>
              <a:t>谢谢大家，再见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楷体_GB2312"/>
              <a:ea typeface="楷体_GB2312"/>
            </a:endParaRPr>
          </a:p>
        </p:txBody>
      </p:sp>
      <p:pic>
        <p:nvPicPr>
          <p:cNvPr id="662" name="阎维文 - 母亲.mp3" descr=""/>
          <p:cNvPicPr/>
          <p:nvPr/>
        </p:nvPicPr>
        <p:blipFill>
          <a:blip r:embed="rId2"/>
          <a:stretch/>
        </p:blipFill>
        <p:spPr>
          <a:xfrm>
            <a:off x="7885080" y="58071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279496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9" dur="2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菊花1"/>
          <p:cNvPicPr/>
          <p:nvPr/>
        </p:nvPicPr>
        <p:blipFill>
          <a:blip r:embed="rId1"/>
          <a:stretch/>
        </p:blipFill>
        <p:spPr>
          <a:xfrm>
            <a:off x="5651640" y="1557360"/>
            <a:ext cx="3492360" cy="53006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3"/>
          <p:cNvSpPr/>
          <p:nvPr/>
        </p:nvSpPr>
        <p:spPr>
          <a:xfrm>
            <a:off x="1835280" y="508464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和妹妹去看了菊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0" y="260280"/>
            <a:ext cx="88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黑体"/>
              </a:rPr>
              <a:t>默读课文，划分段落，简单归纳每一段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1250280" y="836640"/>
            <a:ext cx="32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提示线索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看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339840" y="187812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326880" y="2741760"/>
            <a:ext cx="15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473040" y="3605040"/>
            <a:ext cx="267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至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398160" y="5118120"/>
            <a:ext cx="15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2775240" y="191628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要带我去看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1"/>
          <p:cNvSpPr/>
          <p:nvPr/>
        </p:nvSpPr>
        <p:spPr>
          <a:xfrm>
            <a:off x="2519640" y="2781360"/>
            <a:ext cx="18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答应去看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1423080" y="4292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再也不能同我去看花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2531170_123912533669_2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3962160" y="260280"/>
            <a:ext cx="472428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铁生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生于北京，著名小说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毕业于北京清华大学附属中学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去陕北延安插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因病致瘫，转回北京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起到北京某街道工厂做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工人。后又患尿毒症，靠透析维持生命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发表第一篇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学教授及其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后陆续发表中、短篇小说，散文多篇，其散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与地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公认为中国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来最优秀的散文之一。小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屋小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首届鲁迅文学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5" descr="5_101231125948_1"/>
          <p:cNvPicPr/>
          <p:nvPr/>
        </p:nvPicPr>
        <p:blipFill>
          <a:blip r:embed="rId2"/>
          <a:stretch/>
        </p:blipFill>
        <p:spPr>
          <a:xfrm>
            <a:off x="0" y="1700280"/>
            <a:ext cx="3635280" cy="47419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6"/>
          <p:cNvSpPr txBox="1"/>
          <p:nvPr/>
        </p:nvSpPr>
        <p:spPr>
          <a:xfrm>
            <a:off x="0" y="333360"/>
            <a:ext cx="414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走近作者 </a:t>
            </a:r>
            <a:endParaRPr b="1" lang="en-US" sz="3200" spc="1" strike="noStrike">
              <a:ln w="38160">
                <a:solidFill>
                  <a:srgbClr val="3366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8" name="Picture 4" descr="2"/>
          <p:cNvPicPr/>
          <p:nvPr/>
        </p:nvPicPr>
        <p:blipFill>
          <a:blip r:embed="rId2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7"/>
          <p:cNvSpPr/>
          <p:nvPr/>
        </p:nvSpPr>
        <p:spPr>
          <a:xfrm>
            <a:off x="826920" y="292428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听读课文，思考：“秋天的怀念”在怀念谁？为什么怀念？又为什么在秋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136000" y="5850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12"/>
          <p:cNvSpPr txBox="1"/>
          <p:nvPr/>
        </p:nvSpPr>
        <p:spPr>
          <a:xfrm>
            <a:off x="971640" y="404640"/>
            <a:ext cx="698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情读美听 寻找共鸣</a:t>
            </a:r>
            <a:endParaRPr b="1" lang="en-US" sz="3200" spc="1" strike="noStrike">
              <a:ln w="19080">
                <a:solidFill>
                  <a:srgbClr val="e40000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47927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34" name="Picture 4" descr="2"/>
          <p:cNvPicPr/>
          <p:nvPr/>
        </p:nvPicPr>
        <p:blipFill>
          <a:blip r:embed="rId1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"/>
          <p:cNvSpPr/>
          <p:nvPr/>
        </p:nvSpPr>
        <p:spPr>
          <a:xfrm>
            <a:off x="826920" y="2924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请同学饱含感情地读一读令你感动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群星 - 哀曲.mp3" descr=""/>
          <p:cNvPicPr/>
          <p:nvPr/>
        </p:nvPicPr>
        <p:blipFill>
          <a:blip r:embed="rId2"/>
          <a:stretch/>
        </p:blipFill>
        <p:spPr>
          <a:xfrm>
            <a:off x="10693440" y="7389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1"/>
          <p:cNvSpPr/>
          <p:nvPr/>
        </p:nvSpPr>
        <p:spPr>
          <a:xfrm>
            <a:off x="1635120" y="1258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12"/>
          <p:cNvSpPr txBox="1"/>
          <p:nvPr/>
        </p:nvSpPr>
        <p:spPr>
          <a:xfrm>
            <a:off x="971640" y="404640"/>
            <a:ext cx="6985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e40000"/>
                  </a:solidFill>
                  <a:miter/>
                </a:ln>
                <a:solidFill>
                  <a:srgbClr val="e4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情读美听 寻找共鸣</a:t>
            </a:r>
            <a:endParaRPr b="1" lang="en-US" sz="3200" spc="1" strike="noStrike">
              <a:ln w="19080">
                <a:solidFill>
                  <a:srgbClr val="e40000"/>
                </a:solidFill>
                <a:miter/>
              </a:ln>
              <a:solidFill>
                <a:srgbClr val="e4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5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47927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187280" y="260280"/>
            <a:ext cx="69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66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察言观色 感悟母爱</a:t>
            </a:r>
            <a:endParaRPr b="1" lang="en-US" sz="3200" spc="1" strike="noStrike">
              <a:ln w="19080">
                <a:solidFill>
                  <a:srgbClr val="0066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527120" y="27478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684360" y="27082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找出文中描写母亲</a:t>
            </a:r>
            <a:r>
              <a:rPr b="1" lang="zh-CN" sz="4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动作、语言、神态和心理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词句，用不同的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楷体_GB2312"/>
              </a:rPr>
              <a:t>符号标出，并圈出重点词，然后同桌一起交流学习成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chimes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3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是文中描写母亲的动作、语言、神情、心理的句子，指出以下句子属于什么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悄悄地躲出去，在我看不见的地方偷偷地听着我的动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扑过来抓住我的手，忍住哭声说：“咱娘俩在一块，好好儿活，好好儿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憔悴的脸上现出央求般的神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还记得那回我带你去北海吗？你偏说那杨树花是毛毛虫，跑着，一脚踩扁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她忽然不说了。对于“跑”和“踩”一类的字眼，她比我还敏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250920" y="2205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 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双腿瘫痪后，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怎样的状态？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1311120" y="2997360"/>
            <a:ext cx="5565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348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10"/>
          <p:cNvSpPr txBox="1"/>
          <p:nvPr/>
        </p:nvSpPr>
        <p:spPr>
          <a:xfrm>
            <a:off x="468360" y="189000"/>
            <a:ext cx="44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思 我悟</a:t>
            </a:r>
            <a:endParaRPr b="1" lang="en-US" sz="3200" spc="1" strike="noStrike">
              <a:ln w="255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ipe dir="r"/>
    <p:sndAc>
      <p:stSnd>
        <p:snd r:embed="rId2" name="coin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8:50:01Z</dcterms:created>
  <dc:creator>微软用户</dc:creator>
  <dc:description/>
  <dc:language>en-US</dc:language>
  <cp:lastModifiedBy>Administrator</cp:lastModifiedBy>
  <dcterms:modified xsi:type="dcterms:W3CDTF">2017-09-27T07:25:53Z</dcterms:modified>
  <cp:revision>170</cp:revision>
  <dc:subject/>
  <dc:title>幻灯片 1</dc:title>
</cp:coreProperties>
</file>