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type.wav" ContentType="audio/x-wav"/>
  <Override PartName="/ppt/media/image15.jpeg" ContentType="image/jpeg"/>
  <Override PartName="/ppt/media/image14.jpeg" ContentType="image/jpeg"/>
  <Override PartName="/ppt/media/image13.jpeg" ContentType="image/jpeg"/>
  <Override PartName="/ppt/media/image8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camera.wav" ContentType="audio/x-wav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E20B-87AC-428B-8191-312D1901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4A8E-8FA2-49A3-A028-7DEAAE90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6FB-AD27-4055-B21A-7CE1CC4F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B01-1E14-4B79-901B-2A18E60D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3F93-9549-4F08-9C37-E485D5B0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4D51-DB1C-4270-8154-6976D5E7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B98A-3007-4ED6-8FF2-0C478B79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C6A0-242F-483C-AEDB-E3D743D9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ADD1-94CD-455E-B44D-69F60F61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CB42-BD20-4622-BE90-40F82D41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9E1B-9880-41EE-A6AD-06DF99AC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D17-B872-445A-A345-A5F5C32A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149F-3AF2-44C0-A92C-B76D9DEF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6978-540E-40DA-A816-9461D8F4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7992-68C3-40DD-94A6-43FEA19C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EE52-C697-40B4-A84E-7FF2B1C7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5848-A5B7-4FA4-A08A-CDEE60FC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1BF68-8A3A-4F26-887D-6B283D9D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6E0DB-3142-4E71-A038-4DCC8455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B51C8-7845-45B0-8509-9FE4E18D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A303D-1D3F-4827-9B90-9C447006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44DED-899E-42F5-8D92-940176F2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DCF-0EC4-4508-ACE5-31AEFF90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733B-9D3E-4090-968C-FB3F09EC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48303-35FF-4FC9-8EEC-4C650653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B1251-75D7-4F98-8138-D48AD81E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3BE4-B8EB-41C6-B6D5-CEFA5D94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C4BA9-FB0A-4011-9C1A-966FE012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F3173-F431-4246-9A45-1D5F26E1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D3FE-E40E-45A6-8596-8B5D2FF5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F987D-435F-41A8-8938-4E53D6A3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E1339-FA9C-4EE9-99C7-B1E697ED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B120A-E492-43AC-9133-99237DA9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DB8-B6CB-4992-B363-3B8F5CB6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3699A-C566-4B72-AEC7-6F838CB9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DAB87-3332-4901-9A73-FABD38B4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DFDBF-073D-4C6C-8028-65D221CE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908F8-E5C8-4303-94C6-C8D5ABA7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9B607-0554-4372-9124-6EC70731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35F7B-1B69-4A13-B2C9-8ADD63E9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C5E8F-3DC1-4D46-A86B-37741E6C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C9707-FF0F-44FE-A2D5-46BABF49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714A3-28EF-42F0-A463-EFB96480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C9828-7C6A-42F8-8C99-F04B9F50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B4E-6BC6-40A3-AC48-A474353C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233B2-6C4A-48B2-9695-AF0149D0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AA9D5-0856-464E-B22C-8829835D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18D8B-0E0D-4A5D-A22D-B76FBB25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C4FDF-F174-428E-8C1B-F82D05F7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C620C-2C11-4E4D-A6F3-B641E4DC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443B2-C4DC-4477-8DE6-C40E5F98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E8640-F8C8-4A59-982E-CCB6714C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B4C8B-2187-4738-AED3-B14DF363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E8BD7-739D-428F-B382-FBAB24E5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E4A95-C10B-4EE5-AAB3-38B53185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DBB-D8F2-49E8-A1E3-DC6C337D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C017D-CE86-48C2-84ED-7A7E35A8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35C36-4863-4B33-A321-D1F42623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F8023-D4C6-4B8A-9112-DF767AAE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01800-BFE1-4C3F-97FD-821133F8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69EEE-EEB7-44C3-8472-C2691F07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07A98-0938-4F91-9EAA-BE7FCEB9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1A0EB-749D-4AAE-B468-65CD70F9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31CD0-E2A4-43CF-ADE3-2F44E5DD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52B35-E5A1-441D-9A1E-07DE795D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A724D-738B-4980-92BF-A7410374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352-B7EA-4EE3-872B-D60BC769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1CD65-3EC0-4E99-B1EF-D3DA558E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29CF6-8BE7-4C55-976B-0CDAD3F5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A57C8-9DF4-42C4-89DA-14F628E9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86D-EBA4-438F-8F3E-AE002EB4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64E-CFDB-459C-8332-2DCB73C0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5121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E690-FAC4-4AAB-97EB-7FFDB7D05D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5121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E47B-3876-47D4-8A67-0BD47A8F32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5121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B43E-58F8-43D0-B0F7-AA0D5D560D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145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74F4-509B-4AA2-AD19-A8F01AD0A0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7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720D-DF95-41B2-B142-46C388AFD9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6145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4E9E-7F25-46A5-9DE8-D68A60F4B4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2049"/>
          <p:cNvSpPr/>
          <p:nvPr/>
        </p:nvSpPr>
        <p:spPr>
          <a:xfrm>
            <a:off x="609480" y="620640"/>
            <a:ext cx="5330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回忆       鲁迅先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本框 2050"/>
          <p:cNvSpPr/>
          <p:nvPr/>
        </p:nvSpPr>
        <p:spPr>
          <a:xfrm>
            <a:off x="2556000" y="473544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萧   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图片 2051" descr="luxun2"/>
          <p:cNvPicPr/>
          <p:nvPr/>
        </p:nvPicPr>
        <p:blipFill>
          <a:blip r:embed="rId1"/>
          <a:stretch/>
        </p:blipFill>
        <p:spPr>
          <a:xfrm>
            <a:off x="5796000" y="189000"/>
            <a:ext cx="3181320" cy="43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6"/>
          <p:cNvSpPr/>
          <p:nvPr/>
        </p:nvSpPr>
        <p:spPr>
          <a:xfrm>
            <a:off x="2050920" y="18900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27"/>
          <p:cNvSpPr/>
          <p:nvPr/>
        </p:nvSpPr>
        <p:spPr>
          <a:xfrm>
            <a:off x="1190520" y="2016000"/>
            <a:ext cx="287280" cy="1822680"/>
          </a:xfrm>
          <a:custGeom>
            <a:avLst/>
            <a:gdLst>
              <a:gd name="textAreaLeft" fmla="*/ 183600 w 287280"/>
              <a:gd name="textAreaRight" fmla="*/ 287640 w 287280"/>
              <a:gd name="textAreaTop" fmla="*/ 33480 h 1822680"/>
              <a:gd name="textAreaBottom" fmla="*/ 1789200 h 182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4"/>
                  <a:pt x="10800" y="1268"/>
                </a:cubicBezTo>
                <a:lnTo>
                  <a:pt x="10800" y="9532"/>
                </a:lnTo>
                <a:cubicBezTo>
                  <a:pt x="10800" y="10166"/>
                  <a:pt x="5400" y="10800"/>
                  <a:pt x="0" y="10800"/>
                </a:cubicBezTo>
                <a:cubicBezTo>
                  <a:pt x="5400" y="10800"/>
                  <a:pt x="10800" y="11434"/>
                  <a:pt x="10800" y="12068"/>
                </a:cubicBezTo>
                <a:lnTo>
                  <a:pt x="10800" y="20332"/>
                </a:lnTo>
                <a:cubicBezTo>
                  <a:pt x="10800" y="209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1547640" y="18320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堵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1547640" y="260208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边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1547640" y="338148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活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1"/>
          <p:cNvSpPr/>
          <p:nvPr/>
        </p:nvSpPr>
        <p:spPr>
          <a:xfrm>
            <a:off x="2486160" y="1905120"/>
            <a:ext cx="11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2"/>
          <p:cNvSpPr/>
          <p:nvPr/>
        </p:nvSpPr>
        <p:spPr>
          <a:xfrm>
            <a:off x="2413080" y="2602080"/>
            <a:ext cx="159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ài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2612880" y="3381480"/>
            <a:ext cx="149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āi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4"/>
          <p:cNvSpPr/>
          <p:nvPr/>
        </p:nvSpPr>
        <p:spPr>
          <a:xfrm>
            <a:off x="4103640" y="28605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35"/>
          <p:cNvSpPr/>
          <p:nvPr/>
        </p:nvSpPr>
        <p:spPr>
          <a:xfrm>
            <a:off x="4788000" y="1832040"/>
            <a:ext cx="106200" cy="2962080"/>
          </a:xfrm>
          <a:custGeom>
            <a:avLst/>
            <a:gdLst>
              <a:gd name="textAreaLeft" fmla="*/ 68040 w 106200"/>
              <a:gd name="textAreaRight" fmla="*/ 106560 w 106200"/>
              <a:gd name="textAreaTop" fmla="*/ 34920 h 2962080"/>
              <a:gd name="textAreaBottom" fmla="*/ 2927160 h 2962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9"/>
                  <a:pt x="10800" y="817"/>
                </a:cubicBezTo>
                <a:lnTo>
                  <a:pt x="10800" y="9983"/>
                </a:lnTo>
                <a:cubicBezTo>
                  <a:pt x="10800" y="10392"/>
                  <a:pt x="5400" y="10800"/>
                  <a:pt x="0" y="10800"/>
                </a:cubicBezTo>
                <a:cubicBezTo>
                  <a:pt x="5400" y="10800"/>
                  <a:pt x="10800" y="11209"/>
                  <a:pt x="10800" y="11617"/>
                </a:cubicBezTo>
                <a:lnTo>
                  <a:pt x="10800" y="20783"/>
                </a:lnTo>
                <a:cubicBezTo>
                  <a:pt x="10800" y="211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5052960" y="1557360"/>
            <a:ext cx="204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差不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7"/>
          <p:cNvSpPr/>
          <p:nvPr/>
        </p:nvSpPr>
        <p:spPr>
          <a:xfrm>
            <a:off x="5175360" y="226368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差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8"/>
          <p:cNvSpPr/>
          <p:nvPr/>
        </p:nvSpPr>
        <p:spPr>
          <a:xfrm>
            <a:off x="5175360" y="295920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出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9"/>
          <p:cNvSpPr/>
          <p:nvPr/>
        </p:nvSpPr>
        <p:spPr>
          <a:xfrm>
            <a:off x="5199120" y="367668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参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0"/>
          <p:cNvSpPr/>
          <p:nvPr/>
        </p:nvSpPr>
        <p:spPr>
          <a:xfrm>
            <a:off x="4894200" y="4397400"/>
            <a:ext cx="227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大病差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1"/>
          <p:cNvSpPr/>
          <p:nvPr/>
        </p:nvSpPr>
        <p:spPr>
          <a:xfrm>
            <a:off x="6397560" y="2970360"/>
            <a:ext cx="167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āi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6443640" y="2263680"/>
            <a:ext cx="167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3"/>
          <p:cNvSpPr/>
          <p:nvPr/>
        </p:nvSpPr>
        <p:spPr>
          <a:xfrm>
            <a:off x="6826320" y="4397400"/>
            <a:ext cx="183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ài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5"/>
          <p:cNvSpPr/>
          <p:nvPr/>
        </p:nvSpPr>
        <p:spPr>
          <a:xfrm>
            <a:off x="6419880" y="1557360"/>
            <a:ext cx="19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à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6"/>
          <p:cNvSpPr/>
          <p:nvPr/>
        </p:nvSpPr>
        <p:spPr>
          <a:xfrm>
            <a:off x="6443640" y="3567240"/>
            <a:ext cx="11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ī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7"/>
          <p:cNvSpPr/>
          <p:nvPr/>
        </p:nvSpPr>
        <p:spPr>
          <a:xfrm>
            <a:off x="568440" y="2602080"/>
            <a:ext cx="28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塞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539640" y="260280"/>
            <a:ext cx="732816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整体感知课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同学们快速浏览课文，说说鲁迅先生给你留下的总体印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者回忆了鲁迅先生的哪些生活小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3200" spc="-1" strike="noStrike">
                <a:solidFill>
                  <a:srgbClr val="c00000"/>
                </a:solidFill>
                <a:latin typeface="华文行楷"/>
                <a:ea typeface="华文行楷"/>
              </a:rPr>
              <a:t>请给每一部分加上一个小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可以用文中的语句，也可自己概括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920880" y="287280"/>
            <a:ext cx="73008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研读赏析细节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你印象最深刻的是哪一个细节？</a:t>
            </a:r>
            <a:r>
              <a:rPr b="1" lang="zh-CN" sz="4400" spc="-1" strike="noStrike">
                <a:solidFill>
                  <a:srgbClr val="0066ff"/>
                </a:solidFill>
                <a:latin typeface="华文行楷"/>
                <a:ea typeface="华文行楷"/>
              </a:rPr>
              <a:t>最能看出他的什么性格特征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文本框 1"/>
          <p:cNvSpPr/>
          <p:nvPr/>
        </p:nvSpPr>
        <p:spPr>
          <a:xfrm>
            <a:off x="600120" y="3949560"/>
            <a:ext cx="71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全文布局自由随意，作者用女性独有的敏锐目光悉心观察，捕捉到了鲁迅先生许多灵动传神的细节，以质朴浅白清新隽永的语言，写出了一个真实的、充满人情味的活生生的鲁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324000" y="1052640"/>
            <a:ext cx="251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鲁迅先生的笑声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明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，是从心里的欢喜，若有人说了什么可笑的话，鲁迅先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笑得连烟卷都拿不住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常常是笑得咳嗽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3268800" y="1052640"/>
            <a:ext cx="36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鲁迅先生走路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轻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……他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抓起帽子拉往头上一扣，同时左腿就伸出去了，仿佛不顾一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走去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928800" y="585792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爽朗乐观、率真可亲、平易近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7524720" y="1413000"/>
            <a:ext cx="100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270240" y="3925800"/>
            <a:ext cx="465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饺子煮好，一上楼梯，就听到楼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明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鲁迅先生的笑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楼梯来，原来有几个朋友在楼上也正谈得热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6869160" y="1413000"/>
            <a:ext cx="124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敏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性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坚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663480" y="333360"/>
            <a:ext cx="79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468360" y="47628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可是鲁迅先生还是在饭桌上举着筷子问许先生：“我再吃几个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68360" y="1700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好久不见，好就不见。”一边说着一边向我点头。……转身坐在躺椅上才自己笑起来，他是在开着玩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156360" y="17002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尊重妻子幽默风趣可爱可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468360" y="4049640"/>
            <a:ext cx="71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许先生和鲁迅先生都笑着，一种对于冲破忧郁心境的展然的会心的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6713640" y="52164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2058120" y="52164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坚定乐观，向往光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663480" y="333360"/>
            <a:ext cx="79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204840" y="590400"/>
            <a:ext cx="750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青年人写信，写得太草率，鲁迅先生是深恶痛绝之的。……但他还是展读着每封由不同角落里投来的青年的信，眼睛不济时，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黑体"/>
              </a:rPr>
              <a:t>便戴起眼镜来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黑体"/>
              </a:rPr>
              <a:t>常常看到夜里很深的时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文本框 1"/>
          <p:cNvSpPr/>
          <p:nvPr/>
        </p:nvSpPr>
        <p:spPr>
          <a:xfrm>
            <a:off x="663480" y="4737240"/>
            <a:ext cx="683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对青年严格要求的同时又宽容关爱，寄予厚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7160" y="711000"/>
            <a:ext cx="7467480" cy="41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 Black"/>
              </a:rPr>
              <a:t>     </a:t>
            </a:r>
            <a:r>
              <a:rPr b="1" lang="zh-CN" sz="4800" spc="-1" strike="noStrike">
                <a:solidFill>
                  <a:srgbClr val="003300"/>
                </a:solidFill>
                <a:latin typeface="Arial Black"/>
              </a:rPr>
              <a:t>细节描写的魅力：</a:t>
            </a:r>
            <a:br>
              <a:rPr sz="4800"/>
            </a:br>
            <a:r>
              <a:rPr b="1" lang="zh-CN" sz="3600" spc="-1" strike="noStrike">
                <a:solidFill>
                  <a:srgbClr val="003300"/>
                </a:solidFill>
                <a:latin typeface="Arial Black"/>
              </a:rPr>
              <a:t>细节，即细小的动作或情节；</a:t>
            </a:r>
            <a:br>
              <a:rPr sz="3600"/>
            </a:br>
            <a:r>
              <a:rPr b="1" lang="zh-CN" sz="3600" spc="-1" strike="noStrike">
                <a:solidFill>
                  <a:srgbClr val="003300"/>
                </a:solidFill>
                <a:latin typeface="Arial Black"/>
              </a:rPr>
              <a:t>文艺作品中描绘人物性格、事件发展、自然景物、社会环境等最小的单位组成；</a:t>
            </a:r>
            <a:br>
              <a:rPr sz="3600"/>
            </a:br>
            <a:r>
              <a:rPr b="1" lang="zh-CN" sz="3600" spc="-1" strike="noStrike">
                <a:solidFill>
                  <a:srgbClr val="003300"/>
                </a:solidFill>
                <a:latin typeface="Arial Black"/>
              </a:rPr>
              <a:t>细节描写要求真实、生动，并服从主题思想的表达。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240" y="651960"/>
            <a:ext cx="746748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鲁迅先生是一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的人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171440" y="1698120"/>
            <a:ext cx="60501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乐观开朗、平易近人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热情待客、细致周到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关爱青年、认真严谨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幽默风趣、敏捷干练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鞠躬尽瘁、死而后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伟大而平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6" descr="0014"/>
          <p:cNvPicPr/>
          <p:nvPr/>
        </p:nvPicPr>
        <p:blipFill>
          <a:blip r:embed="rId1"/>
          <a:stretch/>
        </p:blipFill>
        <p:spPr>
          <a:xfrm>
            <a:off x="6804000" y="620640"/>
            <a:ext cx="14572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750960" y="588960"/>
            <a:ext cx="73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本文除写鲁迅先生外，还写了其他什么人？写这些人有什么作用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文本框 1"/>
          <p:cNvSpPr/>
          <p:nvPr/>
        </p:nvSpPr>
        <p:spPr>
          <a:xfrm>
            <a:off x="600120" y="3949560"/>
            <a:ext cx="71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文本框 2"/>
          <p:cNvSpPr/>
          <p:nvPr/>
        </p:nvSpPr>
        <p:spPr>
          <a:xfrm>
            <a:off x="3983040" y="4675320"/>
            <a:ext cx="28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侧面烘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文本框 3"/>
          <p:cNvSpPr/>
          <p:nvPr/>
        </p:nvSpPr>
        <p:spPr>
          <a:xfrm>
            <a:off x="1565280" y="3105000"/>
            <a:ext cx="571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“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我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”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、海婴、许先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750960" y="588960"/>
            <a:ext cx="73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文中寄寓了萧红对鲁迅先生怎样的情感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文本框 1"/>
          <p:cNvSpPr/>
          <p:nvPr/>
        </p:nvSpPr>
        <p:spPr>
          <a:xfrm>
            <a:off x="600120" y="3949560"/>
            <a:ext cx="71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文本框 2"/>
          <p:cNvSpPr/>
          <p:nvPr/>
        </p:nvSpPr>
        <p:spPr>
          <a:xfrm>
            <a:off x="600120" y="2739960"/>
            <a:ext cx="716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萧红搬到北四川路后，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就每夜饭后必到大陆新村来了，刮风的天，下雨的天，几乎没有间断的时候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可见对鲁迅充满了敬仰和亲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文本框 3"/>
          <p:cNvSpPr/>
          <p:nvPr/>
        </p:nvSpPr>
        <p:spPr>
          <a:xfrm>
            <a:off x="1716120" y="1909800"/>
            <a:ext cx="571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爱戴、赞美、景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4829040" y="762120"/>
            <a:ext cx="1190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6324480" y="2362320"/>
            <a:ext cx="671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0" y="189000"/>
            <a:ext cx="80247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鲁迅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88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936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，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20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世纪中国伟大的文学家、思想家和革命家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也是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世纪的文化巨人之一，鲁迅堪称现代中国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民族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文学不过是他传播思想的武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鲁迅的作品对人的精神创伤与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病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进行无止境的发掘，对中国人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奴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进行了彻底的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批判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是对现代中国人的灵魂的伟大拷问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他残酷地鞭打着人的灵魂，也反对任何形式的忍从，他始终维护人的思想的独立性和不妥协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文本框 23553"/>
          <p:cNvSpPr/>
          <p:nvPr/>
        </p:nvSpPr>
        <p:spPr>
          <a:xfrm>
            <a:off x="1619280" y="549360"/>
            <a:ext cx="39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小结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文本框 23554"/>
          <p:cNvSpPr/>
          <p:nvPr/>
        </p:nvSpPr>
        <p:spPr>
          <a:xfrm>
            <a:off x="826920" y="366408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语言质朴浅白清新隽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文本框 23555"/>
          <p:cNvSpPr/>
          <p:nvPr/>
        </p:nvSpPr>
        <p:spPr>
          <a:xfrm>
            <a:off x="828720" y="1738440"/>
            <a:ext cx="722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善于撷取生活琐事捕捉细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文本框 23558"/>
          <p:cNvSpPr/>
          <p:nvPr/>
        </p:nvSpPr>
        <p:spPr>
          <a:xfrm>
            <a:off x="7667640" y="1413000"/>
            <a:ext cx="11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写作特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文本框 1"/>
          <p:cNvSpPr/>
          <p:nvPr/>
        </p:nvSpPr>
        <p:spPr>
          <a:xfrm>
            <a:off x="826920" y="270360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以小见大的写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文本框 26625"/>
          <p:cNvSpPr/>
          <p:nvPr/>
        </p:nvSpPr>
        <p:spPr>
          <a:xfrm>
            <a:off x="324000" y="692280"/>
            <a:ext cx="82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运用细节描写写你最熟悉的一个人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文本框 1"/>
          <p:cNvSpPr/>
          <p:nvPr/>
        </p:nvSpPr>
        <p:spPr>
          <a:xfrm>
            <a:off x="828720" y="3448080"/>
            <a:ext cx="70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宋体"/>
              </a:rPr>
              <a:t>要求：采撷具有个性的生活细节，体现人物的个性特征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图片 1" descr="360截图20170214152439934"/>
          <p:cNvPicPr/>
          <p:nvPr/>
        </p:nvPicPr>
        <p:blipFill>
          <a:blip r:embed="rId1"/>
          <a:stretch/>
        </p:blipFill>
        <p:spPr>
          <a:xfrm>
            <a:off x="-44280" y="-11160"/>
            <a:ext cx="923256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图片 1" descr="360截图20170214152451789"/>
          <p:cNvPicPr/>
          <p:nvPr/>
        </p:nvPicPr>
        <p:blipFill>
          <a:blip r:embed="rId1"/>
          <a:stretch/>
        </p:blipFill>
        <p:spPr>
          <a:xfrm>
            <a:off x="-4680" y="-15840"/>
            <a:ext cx="917892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619280" y="549360"/>
            <a:ext cx="39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板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000080" y="17146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语言    质朴浅白     清新隽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857160" y="27147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善于撷取生活琐事      捕捉细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571680" y="371484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印象中的鲁迅：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黑体"/>
              </a:rPr>
              <a:t>生活平凡随意、为人宽厚仁爱，待友真诚悉心，意志坚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"/>
          <p:cNvSpPr/>
          <p:nvPr/>
        </p:nvSpPr>
        <p:spPr>
          <a:xfrm flipH="1">
            <a:off x="4286160" y="5072040"/>
            <a:ext cx="374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伟大而平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7358040" y="285840"/>
            <a:ext cx="11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写作特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826920" y="476280"/>
            <a:ext cx="79218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布置作业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背诵鲁迅先生的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自题小像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和纪念鲁迅逝世三十周年臧克家写的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有的人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积累鲁迅先生的一些名言警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通过对本篇课文的学习，你对鲁迅有没有新的认识？请在随笔中写下你的体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观察和自己比较亲近的人的行为举止，采撷具有个性的生活细节，体现人物的个性特征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179280" y="476280"/>
            <a:ext cx="5915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自题小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灵台无计逃神矢，风雨如磐暗故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寄意寒星荃不察，我以我血荐轩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179280" y="52578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情未必真豪杰，怜子如何不丈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79280" y="3357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横眉冷对千夫指，俯首甘为孺子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8369280" y="457200"/>
            <a:ext cx="546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7688880" y="2565360"/>
            <a:ext cx="115524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 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7688880" y="5084640"/>
            <a:ext cx="1155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 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7683840" y="609480"/>
            <a:ext cx="115524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 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9" descr="19"/>
          <p:cNvPicPr/>
          <p:nvPr/>
        </p:nvPicPr>
        <p:blipFill>
          <a:blip r:embed="rId1"/>
          <a:stretch/>
        </p:blipFill>
        <p:spPr>
          <a:xfrm>
            <a:off x="6300720" y="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28"/>
          <p:cNvPicPr/>
          <p:nvPr/>
        </p:nvPicPr>
        <p:blipFill>
          <a:blip r:embed="rId2"/>
          <a:stretch/>
        </p:blipFill>
        <p:spPr>
          <a:xfrm>
            <a:off x="6300720" y="449568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1" descr="29"/>
          <p:cNvPicPr/>
          <p:nvPr/>
        </p:nvPicPr>
        <p:blipFill>
          <a:blip r:embed="rId3"/>
          <a:stretch/>
        </p:blipFill>
        <p:spPr>
          <a:xfrm>
            <a:off x="6300720" y="2286000"/>
            <a:ext cx="1676520" cy="2379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 Black"/>
              </a:rPr>
              <a:t>主要作品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小说集：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呐喊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》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彷徨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》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故事新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散文集：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朝花夕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诗集：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野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杂文集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有书信、日记和学术著作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文本框 55297"/>
          <p:cNvSpPr/>
          <p:nvPr/>
        </p:nvSpPr>
        <p:spPr>
          <a:xfrm>
            <a:off x="39600" y="228600"/>
            <a:ext cx="2170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鲁迅先生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爱护青年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支持革命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童心未泯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体恤他人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博学广识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幽默风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·····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文本框 55298"/>
          <p:cNvSpPr/>
          <p:nvPr/>
        </p:nvSpPr>
        <p:spPr>
          <a:xfrm>
            <a:off x="2209680" y="26668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14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年在北京与全国儿童展览会会员合影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文本框 55299"/>
          <p:cNvSpPr/>
          <p:nvPr/>
        </p:nvSpPr>
        <p:spPr>
          <a:xfrm>
            <a:off x="2133720" y="64771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33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年在上海和宋庆龄蔡元培在一起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图片 55300" descr="20"/>
          <p:cNvPicPr/>
          <p:nvPr/>
        </p:nvPicPr>
        <p:blipFill>
          <a:blip r:embed="rId1"/>
          <a:stretch/>
        </p:blipFill>
        <p:spPr>
          <a:xfrm>
            <a:off x="5867280" y="3200400"/>
            <a:ext cx="2971800" cy="320040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55301"/>
          <p:cNvSpPr/>
          <p:nvPr/>
        </p:nvSpPr>
        <p:spPr>
          <a:xfrm>
            <a:off x="6172200" y="6324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3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年在全国木刻展览会上和青年在一起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文本框 55302"/>
          <p:cNvSpPr/>
          <p:nvPr/>
        </p:nvSpPr>
        <p:spPr>
          <a:xfrm>
            <a:off x="5791320" y="266688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3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年在北京师范大学演讲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图片 55303" descr="26"/>
          <p:cNvPicPr/>
          <p:nvPr/>
        </p:nvPicPr>
        <p:blipFill>
          <a:blip r:embed="rId2"/>
          <a:stretch/>
        </p:blipFill>
        <p:spPr>
          <a:xfrm>
            <a:off x="2246400" y="3200400"/>
            <a:ext cx="3163680" cy="327672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55304" descr="25"/>
          <p:cNvPicPr/>
          <p:nvPr/>
        </p:nvPicPr>
        <p:blipFill>
          <a:blip r:embed="rId3"/>
          <a:stretch/>
        </p:blipFill>
        <p:spPr>
          <a:xfrm>
            <a:off x="5791320" y="0"/>
            <a:ext cx="3047760" cy="266688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55305" descr="27"/>
          <p:cNvPicPr/>
          <p:nvPr/>
        </p:nvPicPr>
        <p:blipFill>
          <a:blip r:embed="rId4"/>
          <a:stretch/>
        </p:blipFill>
        <p:spPr>
          <a:xfrm>
            <a:off x="2286000" y="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19457"/>
          <p:cNvSpPr/>
          <p:nvPr/>
        </p:nvSpPr>
        <p:spPr>
          <a:xfrm>
            <a:off x="301680" y="22860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936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日鲁迅在上海逝世。广大群众争相奔赴万国殡仪馆瞻仰遗容，中共中央也来电吊唁。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2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日，送葬群众多达数万人。鲁迅遗体覆盖着上海民众所献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民族魂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的旗子，安葬于虹桥万国公墓。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956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年，鲁迅墓迁到上海虹口公园，由毛泽东题署墓碑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图片 19458" descr="C:\WINDOWS\Desktop\sunny\24.jpg"/>
          <p:cNvPicPr/>
          <p:nvPr/>
        </p:nvPicPr>
        <p:blipFill>
          <a:blip r:embed="rId1"/>
          <a:stretch/>
        </p:blipFill>
        <p:spPr>
          <a:xfrm>
            <a:off x="4803840" y="152280"/>
            <a:ext cx="3657600" cy="3124440"/>
          </a:xfrm>
          <a:prstGeom prst="rect">
            <a:avLst/>
          </a:prstGeom>
          <a:ln w="0">
            <a:noFill/>
          </a:ln>
        </p:spPr>
      </p:pic>
      <p:sp>
        <p:nvSpPr>
          <p:cNvPr id="271" name="文本框 19459"/>
          <p:cNvSpPr/>
          <p:nvPr/>
        </p:nvSpPr>
        <p:spPr>
          <a:xfrm>
            <a:off x="5029200" y="3276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鲁 迅 遗 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图片 19460" descr="C:\WINDOWS\Desktop\sunny\11.jpg"/>
          <p:cNvPicPr/>
          <p:nvPr/>
        </p:nvPicPr>
        <p:blipFill>
          <a:blip r:embed="rId2"/>
          <a:stretch/>
        </p:blipFill>
        <p:spPr>
          <a:xfrm>
            <a:off x="4727520" y="365760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273" name="文本框 19461"/>
          <p:cNvSpPr/>
          <p:nvPr/>
        </p:nvSpPr>
        <p:spPr>
          <a:xfrm>
            <a:off x="5410080" y="6400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上 海 鲁 迅 公 园 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54273" descr="9"/>
          <p:cNvPicPr/>
          <p:nvPr/>
        </p:nvPicPr>
        <p:blipFill>
          <a:blip r:embed="rId1"/>
          <a:stretch/>
        </p:blipFill>
        <p:spPr>
          <a:xfrm>
            <a:off x="74520" y="0"/>
            <a:ext cx="3587760" cy="56386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54274"/>
          <p:cNvSpPr/>
          <p:nvPr/>
        </p:nvSpPr>
        <p:spPr>
          <a:xfrm>
            <a:off x="4572000" y="685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文本框 54275"/>
          <p:cNvSpPr/>
          <p:nvPr/>
        </p:nvSpPr>
        <p:spPr>
          <a:xfrm>
            <a:off x="3876840" y="6480"/>
            <a:ext cx="4484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911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年出生于黑龙江省呼兰县一个地主家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文本框 54276"/>
          <p:cNvSpPr/>
          <p:nvPr/>
        </p:nvSpPr>
        <p:spPr>
          <a:xfrm>
            <a:off x="3962520" y="990720"/>
            <a:ext cx="4257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930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年为了反抗父母包办的婚姻离家出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文本框 54277"/>
          <p:cNvSpPr/>
          <p:nvPr/>
        </p:nvSpPr>
        <p:spPr>
          <a:xfrm>
            <a:off x="3962520" y="1981080"/>
            <a:ext cx="45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932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年认识萧军并与之结为志同道合的伴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文本框 54278"/>
          <p:cNvSpPr/>
          <p:nvPr/>
        </p:nvSpPr>
        <p:spPr>
          <a:xfrm>
            <a:off x="3962520" y="2971800"/>
            <a:ext cx="45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934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年在鲁迅的帮助下和萧军一起来到上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文本框 54279"/>
          <p:cNvSpPr/>
          <p:nvPr/>
        </p:nvSpPr>
        <p:spPr>
          <a:xfrm>
            <a:off x="3730680" y="3962520"/>
            <a:ext cx="465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抗战爆发后，上海沦陷，萧红到了香港，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942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年病逝于香港九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文本框 54280"/>
          <p:cNvSpPr/>
          <p:nvPr/>
        </p:nvSpPr>
        <p:spPr>
          <a:xfrm>
            <a:off x="74520" y="5710320"/>
            <a:ext cx="312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萧      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1911—1942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文本框 54281"/>
          <p:cNvSpPr/>
          <p:nvPr/>
        </p:nvSpPr>
        <p:spPr>
          <a:xfrm>
            <a:off x="2544840" y="5638680"/>
            <a:ext cx="73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主要作品：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生死场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马伯乐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呼兰河传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小城三月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11040" y="1133640"/>
            <a:ext cx="77742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鲁迅说过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看好花。一定要有好土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曾表示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能培一朵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不妨做会朽的腐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了培育萧红这朵中国三四十年代中国女性文学园圃的奇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鲁迅甘作春泥，甘为人梯，在她的作品中倾注了大量心血；鲁迅去世之后，萧红从悲痛中振作起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陆续出版和发表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伯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忆鲁迅先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兰河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名篇佳作。这些作品又像春泥一样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799560" y="303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创作背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  <p:sndAc>
      <p:stSnd>
        <p:snd r:embed="rId1" name="camera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60280"/>
            <a:ext cx="760104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继续滋养着中国文坛的茂林佳卉。鲁迅和萧红之间的情谊已经成为文坛佳话，被千千万万的读者传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林林总总的鲁迅回忆录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萧红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忆鲁迅先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枝独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不仅是鲁迅回忆录中的珍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且是中国现代怀人散文的典范，是敬献于鲁迅墓前的一个永不凋谢的花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作者萧红跟回忆对象鲁迅之间有着直接交往，对回忆对象充满着缅怀崇敬之情，素材又来自于亲历、亲闻，因此作品不仅富于史传性，而且也富于文学性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06360" y="439200"/>
            <a:ext cx="6051600" cy="8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 Black"/>
                <a:ea typeface="华文行楷"/>
              </a:rPr>
              <a:t>读准下列字词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1280" y="1262160"/>
            <a:ext cx="79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yǎo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kāi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dié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碟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kǔn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ké sou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咳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iáo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ēnɡ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调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jiǎo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绞肉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xīn jīn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薪金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jiào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校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huài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草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zǎo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洗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yōu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悠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fēn fù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吩咐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mǒ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抹杀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ē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疙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hēn wù tònɡ jué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深恶痛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éi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不以为然   阖一阖眼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6"/>
          <p:cNvSpPr/>
          <p:nvPr/>
        </p:nvSpPr>
        <p:spPr>
          <a:xfrm>
            <a:off x="2050920" y="18900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3:24:55Z</dcterms:created>
  <dc:creator>206</dc:creator>
  <dc:description/>
  <dc:language>en-US</dc:language>
  <cp:lastModifiedBy>Administrator</cp:lastModifiedBy>
  <dcterms:modified xsi:type="dcterms:W3CDTF">2018-06-14T09:57:07Z</dcterms:modified>
  <cp:revision>1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