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750-B835-490F-8BB2-85B0413C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3B9-F616-4A9F-A6A1-5422A31B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144-B66E-4E63-8085-A71490A6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996-6AB4-40E8-91C1-C6C8B8D8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0F7B-E80B-46FF-AAD8-FDF17F57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88D6-8315-43BD-A6A5-3C36CEDE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4FAE-4DAE-449C-927D-4E39D21F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7F8C-046F-4A8F-AF6F-68550966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0694-FF77-430F-AB4B-F75B5BC3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252A-7108-4467-BADF-5733D26A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4288-D723-4387-BB67-BD1B4F14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BE7-9B91-4710-A33B-8092FED9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9FB9-F6D0-4796-AA7D-8F13870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869F-8502-4617-8C7A-2D871D94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EB5-A7F7-4011-968F-C59F4F2F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E1FC-D662-46D8-B5F3-5833BAD3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552F-AAE9-4E8F-B3CA-EBDF1ABB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A4A-E4A5-405A-8A40-331FD0E6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651-F763-4760-B611-356E869F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C06-BD3C-4F8C-87E0-968AFCDE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98C-C465-40B2-B48A-B15D240C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EB5-A647-4A98-ABAB-60F8D3F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A8E-B2C2-4CDB-BDAB-AFC02249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448-A754-4BA5-AED9-2EFD1B39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F976-81AB-4821-BF7B-5C7D70C14A2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F23B-FBEF-4D7B-9270-DE737F4572E3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检测字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799200" y="171468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污 涩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857680" y="1643040"/>
            <a:ext cx="157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红 绫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922680" y="4572000"/>
            <a:ext cx="131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怂   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504400" y="307188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怅  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433120" y="171468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惩  戒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6545160" y="578628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妄下断语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104280" y="3071880"/>
            <a:ext cx="139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一  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3071880" y="5786280"/>
            <a:ext cx="2071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编译所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7286760" y="3000240"/>
            <a:ext cx="157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似 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7362000" y="164304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捉  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1085040" y="578628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诅 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3432960" y="450072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蜷  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5647320" y="450072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叮  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7585920" y="450072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挣 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789840" y="307188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消  耗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1285920" y="1071720"/>
            <a:ext cx="1071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sè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1"/>
          <p:cNvSpPr/>
          <p:nvPr/>
        </p:nvSpPr>
        <p:spPr>
          <a:xfrm>
            <a:off x="3357720" y="1071720"/>
            <a:ext cx="142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lí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7820280" y="1143000"/>
            <a:ext cx="878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bǔ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3"/>
          <p:cNvSpPr/>
          <p:nvPr/>
        </p:nvSpPr>
        <p:spPr>
          <a:xfrm>
            <a:off x="1161000" y="2500200"/>
            <a:ext cx="1197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hà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4"/>
          <p:cNvSpPr/>
          <p:nvPr/>
        </p:nvSpPr>
        <p:spPr>
          <a:xfrm>
            <a:off x="3902400" y="2428920"/>
            <a:ext cx="68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l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4870800" y="2357280"/>
            <a:ext cx="1864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chà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658760" y="1000080"/>
            <a:ext cx="1864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ché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>
            <a:off x="7308000" y="2357280"/>
            <a:ext cx="657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sì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96120" y="3857760"/>
            <a:ext cx="154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sǒ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2930400" y="3857760"/>
            <a:ext cx="154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quá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6005520" y="385776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zhǔ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1"/>
          <p:cNvSpPr/>
          <p:nvPr/>
        </p:nvSpPr>
        <p:spPr>
          <a:xfrm>
            <a:off x="7794720" y="3786120"/>
            <a:ext cx="113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zhá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2"/>
          <p:cNvSpPr/>
          <p:nvPr/>
        </p:nvSpPr>
        <p:spPr>
          <a:xfrm>
            <a:off x="882720" y="5143680"/>
            <a:ext cx="816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zǔ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3686040" y="5214960"/>
            <a:ext cx="657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yì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4"/>
          <p:cNvSpPr/>
          <p:nvPr/>
        </p:nvSpPr>
        <p:spPr>
          <a:xfrm>
            <a:off x="5716080" y="5214960"/>
            <a:ext cx="164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wà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5"/>
          <p:cNvSpPr/>
          <p:nvPr/>
        </p:nvSpPr>
        <p:spPr>
          <a:xfrm>
            <a:off x="1403280" y="3857760"/>
            <a:ext cx="154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yǒ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二）三只猫眼中的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、二只猫：喜欢我们，并且是我们悲剧的见证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三只猫：不太喜欢我，还冤枉我，他的武断直接造成我的悲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猫共同的心声：因为人类不够爱我们，不够懂我们，才导致了悲剧的发生。希望人类能关爱动物，尊重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眼看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一）我们应该怎样看待文中的“我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“我”确定是小猫杀死了芙蓉鸟，有亲眼看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那“我”凭什么判断他是罪魁祸首呢？又是怎样去做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知道事情的真相后，我愧疚、忏悔、深深的自责。这说明了什么？给我们什么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种自省精神是一种道德素质的体现，是值得我们学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启示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生活中，待人接物不要有偏见，应当平等公正，不能主观臆测，妄下断语，以致伤害无辜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善待生命，同情弱小，关爱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二）看看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04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郑振铎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9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5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福建长乐县人。现代作家、文学家，我国新文化运动的倡导者之一。新中国成立后，曾担任中国科学院考古研究所所长、全国作协理事等职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5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率中国文化代表团前往阿富汗等国进行友好访问时，因飞机失事不幸遇难。他的主要著作有《中国历史参考图谱》《中国俗文学史》《欧行日记》《海燕》《山中杂记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04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本文写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，是郑振铎从事文学创作的早期作品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他深受“五四”精神影响，在这一时期的作品中，表现出新思想、新观念；表达出同情弱小无辜，谴责专制霸道；弘扬公道、民主、博爱的思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045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一个善良的、正义的、富有良知的知识分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04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0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三）思考写作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者写这篇文章的意图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注弱小，尊重生命，善待他人，共建和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法指点：要联系作者及写作背景，思考写作意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826920" y="2492280"/>
            <a:ext cx="7632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+mn-ea"/>
              </a:rPr>
              <a:t>关爱弱小  宽容仁爱  </a:t>
            </a:r>
            <a:endParaRPr b="1" lang="en-US" sz="44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+mn-ea"/>
              <a:ea typeface="+mn-e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文学作品中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那些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钱钟书　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猫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夏丏尊　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猫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丽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莱辛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诺贝尔文学奖得主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　　　　　　　　　　　　　　　　　　　　　　　　　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别的猫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佐野洋子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活了一百万次的猫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12900" spc="-1" strike="noStrike">
                <a:solidFill>
                  <a:srgbClr val="000000"/>
                </a:solidFill>
                <a:latin typeface="Arial"/>
                <a:ea typeface="黑体"/>
              </a:rPr>
              <a:t>猫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郑振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眼看猫</a:t>
            </a:r>
            <a:br>
              <a:rPr sz="4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看：猫的故事，看看这几只猫身上发生了什么事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同学们快速默读课文，分别找到记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养猫经历所对应的段落，标好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并用“〰”划出你划分层次的依据，看谁最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等线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  <a:ea typeface="等线"/>
              </a:rPr>
              <a:t>1-2/3-14/15-34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（文章中有没有现成的句子给我们提示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等线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依据：“猫死了”“好久不养猫”（这是抓住事件的结果）“带了一只浑身黄色小猫回来“（这是事件的起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等线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隔了几天”“冬天的早晨”（这是标志时间转换的词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用“来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局”的方式概述三只小猫的命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只猫：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-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从隔壁家抱来的猫后来病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二只猫：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从舅舅家要来的猫最终被人抱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三只猫：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流浪到家的猫被主人怀疑吃了鸟，被棒打，最终冤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二看：猫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560" y="90756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跳读课文，说说这三只猫的外形、性情各有什么特点？（在文中圈出表现猫外形、性情的关键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文中哪些具体的内容能体现这些猫的性情？（在文中用直线划出相关语句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一只花白猫：花白的毛，如带着泥土的白雪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很活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只小黄猫：浑身黄色，很可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更活泼，更有趣，会捉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三只丑猫：花白，并不好看，瘦，毛被烧脱了几块，更觉难看。不活泼天生忧郁，懒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看：人对猫的情感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等线"/>
              </a:rPr>
              <a:t>请同学们迅速跳读课文，用“——”分别划出，平时全家对猫的态度的句子、最能体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等线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等线"/>
              </a:rPr>
              <a:t>只猫的悲剧给我带来情感波动的段落，并圈出关键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只猫：喜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缕酸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再养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二只猫：宠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怅然愤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好久不养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三只猫：都不喜欢、不加注意、若有若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责、难过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永不养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看：人对猫的情感态度（思考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“我对于它的亡失，比以前的两只猫的亡失，更难过的多。”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喜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难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因为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所以我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永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养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朗读指导：为了读出“我”的难过、后悔、自责之情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段的朗读在语速语调上要有讲究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语速由舒缓而稍微加快，语调由低沉到略有升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学法指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理解课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内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抓住相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词语和句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握文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中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抓住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议论、抒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猫眼看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一）三只猫眼中的其他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妹：爱我们，但更爱漂亮的我们。我们活着只是为了让人类开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周家的丫头：冷漠，对我们不闻不问，任凭路人把我捉去，而不制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抓猫的人：自私自利，给我们带来痛苦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张嫂：当初可怜我，把我带回家。“芙蓉鸟”事件发生后，没有站出来为我求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Windows 用户</cp:lastModifiedBy>
  <dcterms:modified xsi:type="dcterms:W3CDTF">2017-11-27T08:31:15Z</dcterms:modified>
  <cp:revision>12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