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8.gif" ContentType="image/gif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34A5-08E5-4C02-9E64-D8E0F43C3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F4B0-6D66-4A61-B9A2-75F5D75D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7873-85BE-4FE9-91A0-A1E92C7A3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B64F-AA4B-4860-804F-E4A1C3AB9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4410-2543-4E30-8216-B32A6CB3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2155-7097-428C-8096-68E2B007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82CC-8133-424E-AF3F-8983E432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1116-7F7D-4610-AB47-8256549F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97CC-A52A-41BF-8CC4-1A7EE719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D679-49D1-492C-AE48-344809C5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F3A4-F897-4807-B161-6E849DD2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622E-1793-47C8-8085-FE941FB5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c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6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c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6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c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c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6c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c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6c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c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6c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c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66E3-7A40-4EE3-B1C7-A1E9FCD959CB}" type="slidenum">
              <a:rPr b="0" lang="zh-CN" sz="1400" spc="-1" strike="noStrike">
                <a:solidFill>
                  <a:srgbClr val="006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slide" Target="slide15.xm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28800" y="1828800"/>
            <a:ext cx="61722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第</a:t>
            </a: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5</a:t>
            </a: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章第</a:t>
            </a: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2</a:t>
            </a: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节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金属矿物  铁的冶炼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41400"/>
            <a:ext cx="7391520" cy="6048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8000" y="479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1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2771640" cy="604872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3657600" y="1676520"/>
            <a:ext cx="3725640" cy="606240"/>
            <a:chOff x="3657600" y="1676520"/>
            <a:chExt cx="3725640" cy="606240"/>
          </a:xfrm>
        </p:grpSpPr>
        <p:sp>
          <p:nvSpPr>
            <p:cNvPr id="99" name=""/>
            <p:cNvSpPr/>
            <p:nvPr/>
          </p:nvSpPr>
          <p:spPr>
            <a:xfrm>
              <a:off x="3657600" y="1749600"/>
              <a:ext cx="37256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+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           C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6c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4613040" y="1676520"/>
              <a:ext cx="804960" cy="377640"/>
              <a:chOff x="4613040" y="1676520"/>
              <a:chExt cx="804960" cy="377640"/>
            </a:xfrm>
          </p:grpSpPr>
          <p:sp>
            <p:nvSpPr>
              <p:cNvPr id="101" name=""/>
              <p:cNvSpPr/>
              <p:nvPr/>
            </p:nvSpPr>
            <p:spPr>
              <a:xfrm>
                <a:off x="4613040" y="1676520"/>
                <a:ext cx="776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  <a:ea typeface="黑体"/>
                  </a:rPr>
                  <a:t>点燃</a:t>
                </a:r>
                <a:endParaRPr b="0" lang="en-US" sz="2000" spc="-1" strike="noStrike">
                  <a:solidFill>
                    <a:srgbClr val="006c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613040" y="1981080"/>
                <a:ext cx="80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6c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613040" y="2054160"/>
                <a:ext cx="80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6c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" name=""/>
          <p:cNvGrpSpPr/>
          <p:nvPr/>
        </p:nvGrpSpPr>
        <p:grpSpPr>
          <a:xfrm>
            <a:off x="3708360" y="3357720"/>
            <a:ext cx="3960360" cy="685800"/>
            <a:chOff x="3708360" y="3357720"/>
            <a:chExt cx="3960360" cy="685800"/>
          </a:xfrm>
        </p:grpSpPr>
        <p:sp>
          <p:nvSpPr>
            <p:cNvPr id="105" name=""/>
            <p:cNvSpPr/>
            <p:nvPr/>
          </p:nvSpPr>
          <p:spPr>
            <a:xfrm>
              <a:off x="3708360" y="3357720"/>
              <a:ext cx="39603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+C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          2CO</a:t>
              </a:r>
              <a:endParaRPr b="0" lang="en-US" sz="2400" spc="-1" strike="noStrike">
                <a:solidFill>
                  <a:srgbClr val="006c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4882320" y="3357720"/>
              <a:ext cx="804960" cy="378000"/>
              <a:chOff x="4882320" y="3357720"/>
              <a:chExt cx="804960" cy="378000"/>
            </a:xfrm>
          </p:grpSpPr>
          <p:sp>
            <p:nvSpPr>
              <p:cNvPr id="107" name=""/>
              <p:cNvSpPr/>
              <p:nvPr/>
            </p:nvSpPr>
            <p:spPr>
              <a:xfrm>
                <a:off x="4882320" y="3357720"/>
                <a:ext cx="7761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  <a:ea typeface="黑体"/>
                  </a:rPr>
                  <a:t>高温</a:t>
                </a:r>
                <a:endParaRPr b="0" lang="en-US" sz="2000" spc="-1" strike="noStrike">
                  <a:solidFill>
                    <a:srgbClr val="006c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882320" y="3662640"/>
                <a:ext cx="80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6c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882320" y="3735720"/>
                <a:ext cx="80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6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" name=""/>
          <p:cNvSpPr/>
          <p:nvPr/>
        </p:nvSpPr>
        <p:spPr>
          <a:xfrm>
            <a:off x="3276720" y="1066680"/>
            <a:ext cx="5867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焦炭完全燃烧，放出大量的热</a:t>
            </a: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2286000"/>
            <a:ext cx="5791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二氧化碳与灼热的焦炭反应，得到还原剂一氧化碳</a:t>
            </a: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4038480"/>
            <a:ext cx="586728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一氧化碳还原磁铁矿中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Fe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30360" y="623736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黑体"/>
              </a:rPr>
              <a:t>高  炉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6560" y="0"/>
            <a:ext cx="30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黑体"/>
              </a:rPr>
              <a:t>铁矿石、焦炭、石灰石</a:t>
            </a:r>
            <a:endParaRPr b="0" lang="en-US" sz="20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36360" y="454500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热空气</a:t>
            </a:r>
            <a:endParaRPr b="0" lang="en-US" sz="20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9280" y="4869000"/>
            <a:ext cx="32544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130200" y="5877000"/>
            <a:ext cx="431640" cy="28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87640" y="5553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炉渣</a:t>
            </a:r>
            <a:endParaRPr b="0" lang="en-US" sz="20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200" y="5950080"/>
            <a:ext cx="432000" cy="21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4100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生铁</a:t>
            </a:r>
            <a:endParaRPr b="0" lang="en-US" sz="20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380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反应的过程</a:t>
            </a: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51280" y="4941720"/>
            <a:ext cx="446580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Fe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O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+4CO ==3Fe+4CO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宋体"/>
              </a:rPr>
              <a:t>2</a:t>
            </a: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47973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高温</a:t>
            </a:r>
            <a:endParaRPr b="0" lang="en-US" sz="2000" spc="-1" strike="noStrike">
              <a:solidFill>
                <a:srgbClr val="006c00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8600" y="838080"/>
            <a:ext cx="799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c00"/>
                </a:solidFill>
                <a:latin typeface="Arial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6c00"/>
                </a:solidFill>
                <a:latin typeface="Arial"/>
                <a:ea typeface="黑体"/>
              </a:rPr>
              <a:t>在金属的使用历史上，最早使用的金属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铜</a:t>
            </a:r>
            <a:r>
              <a:rPr b="1" lang="zh-CN" sz="3200" spc="-1" strike="noStrike">
                <a:solidFill>
                  <a:srgbClr val="006c00"/>
                </a:solidFill>
                <a:latin typeface="Arial"/>
                <a:ea typeface="黑体"/>
              </a:rPr>
              <a:t>、其次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铁</a:t>
            </a:r>
            <a:r>
              <a:rPr b="1" lang="zh-CN" sz="3200" spc="-1" strike="noStrike">
                <a:solidFill>
                  <a:srgbClr val="006c00"/>
                </a:solidFill>
                <a:latin typeface="Arial"/>
                <a:ea typeface="黑体"/>
              </a:rPr>
              <a:t>、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铝</a:t>
            </a:r>
            <a:r>
              <a:rPr b="1" lang="zh-CN" sz="3200" spc="-1" strike="noStrike">
                <a:solidFill>
                  <a:srgbClr val="006c00"/>
                </a:solidFill>
                <a:latin typeface="Arial"/>
                <a:ea typeface="黑体"/>
              </a:rPr>
              <a:t>的使用就在近百年的历史，为什么？</a:t>
            </a: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321300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金属的冶炼与金属的活动性有关。</a:t>
            </a:r>
            <a:endParaRPr b="0" lang="en-US" sz="3600" spc="-1" strike="noStrike">
              <a:solidFill>
                <a:srgbClr val="006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化学性质越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活泼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就越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难冶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33336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交流讨论：</a:t>
            </a:r>
            <a:endParaRPr b="0" lang="en-US" sz="3600" spc="-1" strike="noStrike">
              <a:solidFill>
                <a:srgbClr val="006c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692280"/>
            <a:ext cx="1842840" cy="4269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第一种方法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8360" y="2666880"/>
            <a:ext cx="534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如，赤铁矿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或磁铁矿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的高炉炼铁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84360" y="0"/>
            <a:ext cx="3657600" cy="5335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c00"/>
                </a:solidFill>
                <a:latin typeface="Times New Roman"/>
              </a:rPr>
              <a:t>金属的冶炼方法</a:t>
            </a: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1536120"/>
            <a:ext cx="8713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许多金属（锰、锌、铁、镍、铅等）的治炼，是把它们的矿物跟</a:t>
            </a:r>
            <a:r>
              <a:rPr b="0" lang="zh-CN" sz="2800" spc="-1" strike="noStrike" u="sng">
                <a:solidFill>
                  <a:srgbClr val="3b4fdf"/>
                </a:solidFill>
                <a:uFillTx/>
                <a:latin typeface="黑体"/>
                <a:ea typeface="黑体"/>
                <a:hlinkClick r:id="rId1" action="ppaction://hlinksldjump"/>
              </a:rPr>
              <a:t>焦炭</a:t>
            </a:r>
            <a:r>
              <a:rPr b="0" lang="zh-CN" sz="2800" spc="-1" strike="noStrike" u="sng">
                <a:solidFill>
                  <a:srgbClr val="3b4fdf"/>
                </a:solidFill>
                <a:uFillTx/>
                <a:latin typeface="黑体"/>
                <a:ea typeface="黑体"/>
                <a:hlinkClick r:id="rId2" action="ppaction://hlinksldjump"/>
              </a:rPr>
              <a:t>、</a:t>
            </a:r>
            <a:r>
              <a:rPr b="0" lang="zh-CN" sz="2800" spc="-1" strike="noStrike" u="sng">
                <a:solidFill>
                  <a:srgbClr val="3b4fdf"/>
                </a:solidFill>
                <a:uFillTx/>
                <a:latin typeface="黑体"/>
                <a:ea typeface="黑体"/>
                <a:hlinkClick r:id="rId3" action="ppaction://hlinksldjump"/>
              </a:rPr>
              <a:t>氢气</a:t>
            </a:r>
            <a:r>
              <a:rPr b="0" lang="zh-CN" sz="2800" spc="-1" strike="noStrike" u="sng">
                <a:solidFill>
                  <a:srgbClr val="3b4fdf"/>
                </a:solidFill>
                <a:uFillTx/>
                <a:latin typeface="黑体"/>
                <a:ea typeface="黑体"/>
                <a:hlinkClick r:id="rId4" action="ppaction://hlinksldjump"/>
              </a:rPr>
              <a:t>、</a:t>
            </a:r>
            <a:r>
              <a:rPr b="0" lang="zh-CN" sz="2800" spc="-1" strike="noStrike" u="sng">
                <a:solidFill>
                  <a:srgbClr val="3b4fdf"/>
                </a:solidFill>
                <a:uFillTx/>
                <a:latin typeface="黑体"/>
                <a:ea typeface="黑体"/>
                <a:hlinkClick r:id="rId5" action="ppaction://hlinksldjump"/>
              </a:rPr>
              <a:t>一氧化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具有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还原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物质一起加热反应；</a:t>
            </a: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95200" y="69228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3b4fdf"/>
                </a:solidFill>
                <a:uFillTx/>
                <a:latin typeface="黑体"/>
                <a:ea typeface="黑体"/>
                <a:hlinkClick r:id="rId6" action="ppaction://hlinksldjump"/>
              </a:rPr>
              <a:t>还原法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3429000"/>
            <a:ext cx="1843200" cy="4269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第二种方法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4191120"/>
            <a:ext cx="739152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些金属（如钠，钾，镁，铝等）很难从其矿物中提取出来，常需要用电解的方法。</a:t>
            </a: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如：</a:t>
            </a: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2Al</a:t>
            </a:r>
            <a:r>
              <a:rPr b="0" lang="zh-CN" sz="2400" spc="-1" strike="noStrike" baseline="-25000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O</a:t>
            </a:r>
            <a:r>
              <a:rPr b="0" lang="zh-CN" sz="2400" spc="-1" strike="noStrike" baseline="-25000">
                <a:solidFill>
                  <a:srgbClr val="ff33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= 2Al+3O</a:t>
            </a:r>
            <a:r>
              <a:rPr b="0" lang="zh-CN" sz="2400" spc="-1" strike="noStrike" baseline="-25000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↑ 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71800" y="3581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电解法</a:t>
            </a: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38280" y="518148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宋体"/>
              </a:rPr>
              <a:t>通电</a:t>
            </a:r>
            <a:endParaRPr b="0" lang="en-US" sz="1600" spc="-1" strike="noStrike">
              <a:solidFill>
                <a:srgbClr val="006c00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260280"/>
            <a:ext cx="9144000" cy="34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、如图是用一氧化碳还原氧化铜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的实验装置，回答下列问题：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）有下列实验步骤： ①加热；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②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通入一氧化碳。请用上述实验步骤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的标号填空，实验开始时，应先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_____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，然后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______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）实验进行一段时间后，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装置中的现象为</a:t>
            </a:r>
            <a:r>
              <a:rPr b="1" lang="zh-CN" sz="2400" spc="-1" strike="noStrike" u="sng">
                <a:solidFill>
                  <a:srgbClr val="006c00"/>
                </a:solidFill>
                <a:uFillTx/>
                <a:latin typeface="宋体"/>
              </a:rPr>
              <a:t>_______  ___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，说明有</a:t>
            </a:r>
            <a:r>
              <a:rPr b="1" lang="zh-CN" sz="2400" spc="-1" strike="noStrike" u="sng">
                <a:solidFill>
                  <a:srgbClr val="006c00"/>
                </a:solidFill>
                <a:uFillTx/>
                <a:latin typeface="宋体"/>
              </a:rPr>
              <a:t>____ 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生成，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装置中的现象为</a:t>
            </a:r>
            <a:r>
              <a:rPr b="1" lang="zh-CN" sz="2400" spc="-1" strike="noStrike" u="sng">
                <a:solidFill>
                  <a:srgbClr val="006c00"/>
                </a:solidFill>
                <a:uFillTx/>
                <a:latin typeface="宋体"/>
              </a:rPr>
              <a:t>          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，说明有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____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生成。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5292720" y="-9360"/>
            <a:ext cx="3851280" cy="2358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084720" y="2179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①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00720" y="2251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②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27640" y="2755800"/>
            <a:ext cx="20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粉末由黑变红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00000" y="3187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Cu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14840" y="3213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石灰水变浑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16800" y="3187800"/>
            <a:ext cx="800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CO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3743280"/>
            <a:ext cx="910908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）装置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中的反应化学方程式为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_________________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，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装置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中的反应化学方程式为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_______________________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，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装置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中的目的是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_________________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）反应结束，应先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__________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，待冷却后</a:t>
            </a:r>
            <a:r>
              <a:rPr b="1" lang="zh-CN" sz="2400" spc="-1" strike="noStrike" u="sng">
                <a:solidFill>
                  <a:srgbClr val="006c00"/>
                </a:solidFill>
                <a:uFillTx/>
                <a:latin typeface="宋体"/>
              </a:rPr>
              <a:t>__________</a:t>
            </a:r>
            <a:r>
              <a:rPr b="1" lang="zh-CN" sz="2400" spc="-1" strike="noStrike">
                <a:solidFill>
                  <a:srgbClr val="006c00"/>
                </a:solidFill>
                <a:latin typeface="宋体"/>
              </a:rPr>
              <a:t>。</a:t>
            </a:r>
            <a:r>
              <a:rPr b="1" lang="zh-CN" sz="2000" spc="-1" strike="noStrike">
                <a:solidFill>
                  <a:srgbClr val="006c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6c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859280" y="3645000"/>
            <a:ext cx="2743200" cy="983880"/>
            <a:chOff x="4859280" y="3645000"/>
            <a:chExt cx="2743200" cy="983880"/>
          </a:xfrm>
        </p:grpSpPr>
        <p:sp>
          <p:nvSpPr>
            <p:cNvPr id="146" name=""/>
            <p:cNvSpPr/>
            <p:nvPr/>
          </p:nvSpPr>
          <p:spPr>
            <a:xfrm>
              <a:off x="4859280" y="3753000"/>
              <a:ext cx="27432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宋体"/>
                </a:rPr>
                <a:t>CO+CuO == Cu+CO</a:t>
              </a:r>
              <a:r>
                <a:rPr b="1" lang="zh-CN" sz="2400" spc="-1" strike="noStrike" baseline="-25000">
                  <a:solidFill>
                    <a:srgbClr val="ff3300"/>
                  </a:solidFill>
                  <a:latin typeface="宋体"/>
                </a:rPr>
                <a:t>2</a:t>
              </a:r>
              <a:endParaRPr b="0" lang="en-US" sz="2400" spc="-1" strike="noStrike">
                <a:solidFill>
                  <a:srgbClr val="006c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02280" y="3645000"/>
              <a:ext cx="357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3300"/>
                  </a:solidFill>
                  <a:latin typeface="Comic Sans MS"/>
                </a:rPr>
                <a:t>△</a:t>
              </a:r>
              <a:endParaRPr b="0" lang="en-US" sz="1600" spc="-1" strike="noStrike">
                <a:solidFill>
                  <a:srgbClr val="006c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4006800" y="4267080"/>
            <a:ext cx="36576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CO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+Ca(OH)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=CaCO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↓+H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O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49440" y="477216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除尾气，防污染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66920" y="520524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停止加热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5203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停止通气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79280" y="189000"/>
            <a:ext cx="8713800" cy="31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c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6c00"/>
                </a:solidFill>
                <a:latin typeface="黑体"/>
                <a:ea typeface="黑体"/>
              </a:rPr>
              <a:t>　 </a:t>
            </a:r>
            <a:r>
              <a:rPr b="1" lang="zh-CN" sz="3200" spc="-1" strike="noStrike">
                <a:solidFill>
                  <a:srgbClr val="006c00"/>
                </a:solidFill>
                <a:latin typeface="黑体"/>
                <a:ea typeface="黑体"/>
              </a:rPr>
              <a:t>通常把金属（如铁）跟氧结合生成金属氧化物（如氧化铁）的过程称为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金属的氧化</a:t>
            </a:r>
            <a:r>
              <a:rPr b="1" lang="zh-CN" sz="3200" spc="-1" strike="noStrike">
                <a:solidFill>
                  <a:srgbClr val="006c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c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6c00"/>
                </a:solidFill>
                <a:latin typeface="黑体"/>
                <a:ea typeface="黑体"/>
              </a:rPr>
              <a:t>金属氧化物跟焦炭、氢气、一氧化碳等物质反应，失去氧转化为金属的过程，称为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金属氧化物的</a:t>
            </a:r>
            <a:r>
              <a:rPr b="0" lang="zh-CN" sz="3200" spc="-1" strike="noStrike" u="sng">
                <a:solidFill>
                  <a:srgbClr val="3b4fdf"/>
                </a:solidFill>
                <a:uFillTx/>
                <a:latin typeface="黑体"/>
                <a:ea typeface="黑体"/>
                <a:hlinkClick r:id="rId1" action="ppaction://hlinksldjump"/>
              </a:rPr>
              <a:t>还原</a:t>
            </a:r>
            <a:r>
              <a:rPr b="1" lang="zh-CN" sz="3200" spc="-1" strike="noStrike">
                <a:solidFill>
                  <a:srgbClr val="006c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63520" y="380880"/>
            <a:ext cx="1523880" cy="1676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362320" y="609480"/>
            <a:ext cx="67816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金属氧化物跟一氧化碳、或者焦炭、或者氢气、等物质反应，金属氧化物失去氧转化为金属，其中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楷体_GB2312"/>
              </a:rPr>
              <a:t>一氧化碳和氢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分别将转变成什么物质？</a:t>
            </a: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56000" y="3860640"/>
            <a:ext cx="6588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一氧化碳</a:t>
            </a:r>
            <a:r>
              <a:rPr b="1" lang="zh-CN" sz="4000" spc="-1" strike="noStrike">
                <a:solidFill>
                  <a:srgbClr val="006c00"/>
                </a:solidFill>
                <a:latin typeface="宋体"/>
              </a:rPr>
              <a:t>转变成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宋体"/>
              </a:rPr>
              <a:t>二氧化碳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宋体"/>
              </a:rPr>
              <a:t>；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氢气</a:t>
            </a:r>
            <a:r>
              <a:rPr b="1" lang="zh-CN" sz="4000" spc="-1" strike="noStrike">
                <a:solidFill>
                  <a:srgbClr val="006c00"/>
                </a:solidFill>
                <a:latin typeface="宋体"/>
              </a:rPr>
              <a:t>转变成</a:t>
            </a:r>
            <a:r>
              <a:rPr b="1" lang="zh-CN" sz="4000" spc="-1" strike="noStrike" u="sng">
                <a:solidFill>
                  <a:srgbClr val="006c00"/>
                </a:solidFill>
                <a:uFillTx/>
                <a:latin typeface="宋体"/>
              </a:rPr>
              <a:t>   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宋体"/>
              </a:rPr>
              <a:t>水</a:t>
            </a:r>
            <a:r>
              <a:rPr b="1" lang="zh-CN" sz="4000" spc="-1" strike="noStrike" u="sng">
                <a:solidFill>
                  <a:srgbClr val="006c00"/>
                </a:solidFill>
                <a:uFillTx/>
                <a:latin typeface="宋体"/>
              </a:rPr>
              <a:t>  </a:t>
            </a:r>
            <a:r>
              <a:rPr b="0" lang="zh-CN" sz="4000" spc="-1" strike="noStrike" u="sng">
                <a:solidFill>
                  <a:srgbClr val="3b4fdf"/>
                </a:solidFill>
                <a:uFillTx/>
                <a:latin typeface="宋体"/>
                <a:hlinkClick r:id="rId2" action="ppaction://hlinksldjump"/>
              </a:rPr>
              <a:t>。</a:t>
            </a:r>
            <a:endParaRPr b="0" lang="en-US" sz="4000" spc="-1" strike="noStrike">
              <a:solidFill>
                <a:srgbClr val="006c00"/>
              </a:solidFill>
              <a:latin typeface="Times New Roman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1219320"/>
            <a:ext cx="8001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习目标</a:t>
            </a: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了解一些常见的金属矿物及主要成分；</a:t>
            </a: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通过观察实验掌握炼铁的原理；</a:t>
            </a: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了解工业炼铁的大致过程及主要设备，原料。</a:t>
            </a: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63640" y="4508640"/>
            <a:ext cx="2681280" cy="1668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638680" y="2743200"/>
            <a:ext cx="2514600" cy="1817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019920" y="0"/>
            <a:ext cx="166824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181480" y="4648320"/>
            <a:ext cx="2514600" cy="1977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1332000" y="476280"/>
            <a:ext cx="3457440" cy="2158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1619280" y="2637000"/>
            <a:ext cx="2736720" cy="18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03160" y="189000"/>
            <a:ext cx="28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的金属矿物 </a:t>
            </a: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33600" y="1219320"/>
            <a:ext cx="2367000" cy="1676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362320" y="3124080"/>
            <a:ext cx="1849320" cy="1657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磁铁矿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主要成分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Fe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2035080" cy="2552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2280" y="3048120"/>
            <a:ext cx="1765440" cy="124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赤铁矿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要成分为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Fe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334120" y="609480"/>
            <a:ext cx="1600200" cy="15890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934320" y="990720"/>
            <a:ext cx="1981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黄铁矿（主要成分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FeS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5715000" y="2514600"/>
            <a:ext cx="2540160" cy="1778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019920" y="4343400"/>
            <a:ext cx="2895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褐铁矿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要成分为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Fe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3 ·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xH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O )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228600" y="4343400"/>
            <a:ext cx="2209680" cy="1647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6095880"/>
            <a:ext cx="320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孔雀石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Cu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(OH)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CO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3048120" y="4343400"/>
            <a:ext cx="2514600" cy="1714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57600" y="6095880"/>
            <a:ext cx="2362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赤铜矿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Cu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O)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1676520"/>
            <a:ext cx="7772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6c00"/>
                </a:solidFill>
                <a:latin typeface="宋体"/>
              </a:rPr>
              <a:t>使金属矿物变成金属的过程，</a:t>
            </a:r>
            <a:endParaRPr b="0" lang="en-US" sz="3600" spc="-1" strike="noStrike">
              <a:solidFill>
                <a:srgbClr val="006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c00"/>
                </a:solidFill>
                <a:latin typeface="宋体"/>
              </a:rPr>
              <a:t>叫做</a:t>
            </a:r>
            <a:r>
              <a:rPr b="1" i="1" lang="zh-CN" sz="3600" spc="-1" strike="noStrike">
                <a:solidFill>
                  <a:srgbClr val="006c00"/>
                </a:solidFill>
                <a:latin typeface="宋体"/>
              </a:rPr>
              <a:t>金属的冶炼</a:t>
            </a:r>
            <a:r>
              <a:rPr b="1" lang="zh-CN" sz="3600" spc="-1" strike="noStrike">
                <a:solidFill>
                  <a:srgbClr val="006c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6c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6193080" cy="3601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44480" y="0"/>
            <a:ext cx="155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 铁的冶炼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6132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探究：</a:t>
            </a:r>
            <a:r>
              <a:rPr b="1" i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炼铁的化学原理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295280"/>
            <a:ext cx="762012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66"/>
                </a:solidFill>
                <a:latin typeface="黑体"/>
                <a:ea typeface="黑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通常状况下，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一氧化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无色、无味、难溶于水的气体，具有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可燃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有剧毒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01080" y="3284640"/>
            <a:ext cx="216000" cy="36036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360360"/>
              <a:gd name="textAreaBottom" fmla="*/ 346680 h 360360"/>
            </a:gdLst>
            <a:ahLst/>
            <a:rect l="textAreaLeft" t="textAreaTop" r="textAreaRight" b="textAreaBottom"/>
            <a:pathLst>
              <a:path w="21600" h="36012">
                <a:moveTo>
                  <a:pt x="0" y="0"/>
                </a:moveTo>
                <a:lnTo>
                  <a:pt x="21600" y="0"/>
                </a:lnTo>
                <a:lnTo>
                  <a:pt x="21600" y="36012"/>
                </a:lnTo>
                <a:lnTo>
                  <a:pt x="0" y="36012"/>
                </a:lnTo>
                <a:close/>
              </a:path>
              <a:path fill="lightenLess" w="21600" h="360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012">
                <a:moveTo>
                  <a:pt x="21600" y="0"/>
                </a:moveTo>
                <a:lnTo>
                  <a:pt x="21600" y="36012"/>
                </a:lnTo>
                <a:lnTo>
                  <a:pt x="20200" y="34612"/>
                </a:lnTo>
                <a:lnTo>
                  <a:pt x="20200" y="1400"/>
                </a:lnTo>
                <a:close/>
              </a:path>
              <a:path fill="darkenLess" w="21600" h="36012">
                <a:moveTo>
                  <a:pt x="21600" y="36012"/>
                </a:moveTo>
                <a:lnTo>
                  <a:pt x="0" y="36012"/>
                </a:lnTo>
                <a:lnTo>
                  <a:pt x="1400" y="34612"/>
                </a:lnTo>
                <a:lnTo>
                  <a:pt x="20200" y="34612"/>
                </a:lnTo>
                <a:close/>
              </a:path>
              <a:path fill="lighten" w="21600" h="36012">
                <a:moveTo>
                  <a:pt x="0" y="3601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612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14200" y="2209680"/>
            <a:ext cx="89298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玻璃管内固体粉末由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变成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澄清石灰水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尾气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1430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实验现象：</a:t>
            </a: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105520" y="304920"/>
            <a:ext cx="3429000" cy="1828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28600" y="4800600"/>
            <a:ext cx="8304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反应原理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化学方程式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：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Fe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O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宋体"/>
              </a:rPr>
              <a:t>3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+3CO==2Fe+3CO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62520" y="2362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红褐色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黑色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2895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变浑浊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76520" y="34290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能燃烧，发出蓝色的火焰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27640" y="4653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高温</a:t>
            </a:r>
            <a:endParaRPr b="0" lang="en-US" sz="1800" spc="-1" strike="noStrike">
              <a:solidFill>
                <a:srgbClr val="006c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90792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尾气中有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尾气可以如何处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42670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结束时，是先停止加热，还是先停止通一氧化碳？为什么？</a:t>
            </a: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44956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回忆观察到的实验思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72400" y="541008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1646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919">
                <a:moveTo>
                  <a:pt x="11905" y="15941"/>
                </a:moveTo>
                <a:lnTo>
                  <a:pt x="11905" y="13983"/>
                </a:lnTo>
                <a:cubicBezTo>
                  <a:pt x="11905" y="13156"/>
                  <a:pt x="12236" y="12459"/>
                  <a:pt x="12837" y="12459"/>
                </a:cubicBezTo>
                <a:cubicBezTo>
                  <a:pt x="13968" y="12459"/>
                  <a:pt x="14865" y="11093"/>
                  <a:pt x="14865" y="9509"/>
                </a:cubicBezTo>
                <a:cubicBezTo>
                  <a:pt x="14865" y="7194"/>
                  <a:pt x="13011" y="5453"/>
                  <a:pt x="10800" y="5453"/>
                </a:cubicBezTo>
                <a:cubicBezTo>
                  <a:pt x="8589" y="5453"/>
                  <a:pt x="6918" y="7194"/>
                  <a:pt x="6918" y="9509"/>
                </a:cubicBezTo>
                <a:lnTo>
                  <a:pt x="8772" y="9509"/>
                </a:lnTo>
                <a:cubicBezTo>
                  <a:pt x="8772" y="8369"/>
                  <a:pt x="9695" y="7481"/>
                  <a:pt x="10800" y="7481"/>
                </a:cubicBezTo>
                <a:cubicBezTo>
                  <a:pt x="11905" y="7481"/>
                  <a:pt x="12837" y="8369"/>
                  <a:pt x="12837" y="9509"/>
                </a:cubicBezTo>
                <a:cubicBezTo>
                  <a:pt x="12837" y="10249"/>
                  <a:pt x="12367" y="10980"/>
                  <a:pt x="11905" y="10980"/>
                </a:cubicBezTo>
                <a:cubicBezTo>
                  <a:pt x="10800" y="10980"/>
                  <a:pt x="9695" y="12459"/>
                  <a:pt x="9695" y="13983"/>
                </a:cubicBezTo>
                <a:lnTo>
                  <a:pt x="9695" y="1594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2286000"/>
            <a:ext cx="7924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实验时，是先通一氧化碳气体，还是先加热氧化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Fe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？为什么？</a:t>
            </a: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312408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c00"/>
                </a:solidFill>
                <a:latin typeface="宋体"/>
              </a:rPr>
              <a:t>先通一氧化碳，排尽反应装置中的空气，防止加热时发生爆炸。</a:t>
            </a: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53341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c00"/>
                </a:solidFill>
                <a:latin typeface="宋体"/>
              </a:rPr>
              <a:t>结束时继续通一氧化碳至玻璃管冷却，防止液体倒吸，使玻璃管炸裂。</a:t>
            </a: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105520" y="304920"/>
            <a:ext cx="342900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1052640"/>
            <a:ext cx="5111640" cy="29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i="1" lang="zh-CN" sz="2800" spc="-1" strike="noStrike">
                <a:solidFill>
                  <a:srgbClr val="006c00"/>
                </a:solidFill>
                <a:latin typeface="黑体"/>
                <a:ea typeface="黑体"/>
              </a:rPr>
              <a:t>工业炼铁</a:t>
            </a: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设备：</a:t>
            </a: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原料：</a:t>
            </a: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产品：</a:t>
            </a: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c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508720" y="404640"/>
            <a:ext cx="2771640" cy="6048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643440" y="623736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黑体"/>
              </a:rPr>
              <a:t>高  炉</a:t>
            </a:r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80000" y="0"/>
            <a:ext cx="30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黑体"/>
              </a:rPr>
              <a:t>铁矿石、焦炭、石灰石</a:t>
            </a:r>
            <a:endParaRPr b="0" lang="en-US" sz="20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43280" y="465300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热空气</a:t>
            </a:r>
            <a:endParaRPr b="0" lang="en-US" sz="20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08720" y="5013360"/>
            <a:ext cx="21564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51280" y="562464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生铁</a:t>
            </a:r>
            <a:endParaRPr b="0" lang="en-US" sz="20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243640" y="5877000"/>
            <a:ext cx="431640" cy="28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19640" y="5950080"/>
            <a:ext cx="432000" cy="21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c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1880" y="5410080"/>
            <a:ext cx="762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炉渣</a:t>
            </a:r>
            <a:endParaRPr b="0" lang="en-US" sz="2000" spc="-1" strike="noStrike">
              <a:solidFill>
                <a:srgbClr val="006c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01:08:14Z</dcterms:created>
  <dc:creator>chengyiyun</dc:creator>
  <dc:description/>
  <dc:language>en-US</dc:language>
  <cp:lastModifiedBy>User</cp:lastModifiedBy>
  <dcterms:modified xsi:type="dcterms:W3CDTF">2014-12-05T00:00:54Z</dcterms:modified>
  <cp:revision>283</cp:revision>
  <dc:subject/>
  <dc:title>PowerPoint 演示文稿</dc:title>
</cp:coreProperties>
</file>