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E6D-B991-416F-95F5-108259FB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CF9-B686-4858-86A7-96600278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84C-65FA-431F-B040-4BBB8B60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9FD-328D-456E-A940-5769A8E4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A02-B917-4D08-8F5A-ADE52F06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7DE-6A88-4D4A-8207-F301083A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754-546D-485C-A206-7552A47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E24-56D0-4140-B273-B9705D6A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BD9-63BB-4FA0-8BB8-7930F28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2C1-509F-4E6A-8010-CCA2225D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1FB-8451-4273-B6CE-F34A3EF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FBD-6468-4171-811B-914D2717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58C-14D8-4B50-B966-05C3029D36A3}" type="slidenum">
              <a:rPr b="0" lang="zh-CN" sz="1400" spc="-1" strike="noStrike">
                <a:solidFill>
                  <a:srgbClr val="006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6172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第</a:t>
            </a: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章第</a:t>
            </a: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金属矿物  铁的冶炼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7391520" cy="604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8000" y="479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771640" cy="6048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3657600" y="1676520"/>
            <a:ext cx="3725640" cy="606240"/>
            <a:chOff x="3657600" y="1676520"/>
            <a:chExt cx="3725640" cy="606240"/>
          </a:xfrm>
        </p:grpSpPr>
        <p:sp>
          <p:nvSpPr>
            <p:cNvPr id="99" name=""/>
            <p:cNvSpPr/>
            <p:nvPr/>
          </p:nvSpPr>
          <p:spPr>
            <a:xfrm>
              <a:off x="3657600" y="1749600"/>
              <a:ext cx="3725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+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          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613040" y="1676520"/>
              <a:ext cx="804960" cy="377640"/>
              <a:chOff x="4613040" y="1676520"/>
              <a:chExt cx="804960" cy="377640"/>
            </a:xfrm>
          </p:grpSpPr>
          <p:sp>
            <p:nvSpPr>
              <p:cNvPr id="101" name=""/>
              <p:cNvSpPr/>
              <p:nvPr/>
            </p:nvSpPr>
            <p:spPr>
              <a:xfrm>
                <a:off x="4613040" y="1676520"/>
                <a:ext cx="776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点燃</a:t>
                </a:r>
                <a:endParaRPr b="0" lang="en-US" sz="20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13040" y="198108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13040" y="205416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3708360" y="3357720"/>
            <a:ext cx="3960360" cy="685800"/>
            <a:chOff x="3708360" y="3357720"/>
            <a:chExt cx="3960360" cy="685800"/>
          </a:xfrm>
        </p:grpSpPr>
        <p:sp>
          <p:nvSpPr>
            <p:cNvPr id="105" name=""/>
            <p:cNvSpPr/>
            <p:nvPr/>
          </p:nvSpPr>
          <p:spPr>
            <a:xfrm>
              <a:off x="3708360" y="3357720"/>
              <a:ext cx="3960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+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         2CO</a:t>
              </a:r>
              <a:endParaRPr b="0" lang="en-US" sz="24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882320" y="3357720"/>
              <a:ext cx="804960" cy="378000"/>
              <a:chOff x="4882320" y="3357720"/>
              <a:chExt cx="804960" cy="37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882320" y="3357720"/>
                <a:ext cx="776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高温</a:t>
                </a:r>
                <a:endParaRPr b="0" lang="en-US" sz="20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82320" y="366264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882320" y="373572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276720" y="1066680"/>
            <a:ext cx="586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焦炭完全燃烧，放出大量的热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286000"/>
            <a:ext cx="5791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二氧化碳与灼热的焦炭反应，得到还原剂一氧化碳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038480"/>
            <a:ext cx="5867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氧化碳还原磁铁矿中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30360" y="6237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高  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6560" y="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铁矿石、焦炭、石灰石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36360" y="4545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热空气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869000"/>
            <a:ext cx="3254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130200" y="5877000"/>
            <a:ext cx="4316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5553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炉渣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5950080"/>
            <a:ext cx="43200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10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生铁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80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应的过程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4941720"/>
            <a:ext cx="44658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Fe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+4CO ==3Fe+4C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7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高温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83808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在金属的使用历史上，最早使用的金属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铜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、其次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铁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、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铝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的使用就在近百年的历史，为什么？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3213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金属的冶炼与金属的活动性有关。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化学性质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活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就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难冶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3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交流讨论：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1842840" cy="4269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第一种方法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360" y="2666880"/>
            <a:ext cx="53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如，赤铁矿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或磁铁矿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的高炉炼铁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0"/>
            <a:ext cx="3657600" cy="533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c00"/>
                </a:solidFill>
                <a:latin typeface="Times New Roman"/>
              </a:rPr>
              <a:t>金属的冶炼方法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536120"/>
            <a:ext cx="871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许多金属（锰、锌、铁、镍、铅等）的治炼，是把它们的矿物跟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1" action="ppaction://hlinksldjump"/>
              </a:rPr>
              <a:t>焦炭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2" action="ppaction://hlinksldjump"/>
              </a:rPr>
              <a:t>、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3" action="ppaction://hlinksldjump"/>
              </a:rPr>
              <a:t>氢气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4" action="ppaction://hlinksldjump"/>
              </a:rPr>
              <a:t>、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5" action="ppaction://hlinksldjump"/>
              </a:rPr>
              <a:t>一氧化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具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原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一起加热反应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5200" y="69228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6" action="ppaction://hlinksldjump"/>
              </a:rPr>
              <a:t>还原法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429000"/>
            <a:ext cx="1843200" cy="4269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第二种方法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191120"/>
            <a:ext cx="73915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些金属（如钠，钾，镁，铝等）很难从其矿物中提取出来，常需要用电解的方法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如：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Al</a:t>
            </a:r>
            <a:r>
              <a:rPr b="0" lang="zh-CN" sz="2400" spc="-1" strike="noStrike" baseline="-25000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O</a:t>
            </a:r>
            <a:r>
              <a:rPr b="0" lang="zh-CN" sz="2400" spc="-1" strike="noStrike" baseline="-25000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= 2Al+3O</a:t>
            </a:r>
            <a:r>
              <a:rPr b="0" lang="zh-CN" sz="2400" spc="-1" strike="noStrike" baseline="-25000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↑ 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解法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通电</a:t>
            </a:r>
            <a:endParaRPr b="0" lang="en-US" sz="16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60280"/>
            <a:ext cx="91440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、如图是用一氧化碳还原氧化铜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的实验装置，回答下列问题：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有下列实验步骤： ①加热；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通入一氧化碳。请用上述实验步骤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的标号填空，实验开始时，应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然后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实验进行一段时间后，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中的现象为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_______  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说明有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____ 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生成，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中的现象为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说明有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生成。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5292720" y="-9360"/>
            <a:ext cx="3851280" cy="235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84720" y="2179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2251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275580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粉末由黑变红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18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14840" y="3213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石灰水变浑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16800" y="3187800"/>
            <a:ext cx="80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3743280"/>
            <a:ext cx="910908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装置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中的反应化学方程式为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中的反应化学方程式为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___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中的目的是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反应结束，应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待冷却后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。</a:t>
            </a:r>
            <a:r>
              <a:rPr b="1" lang="zh-CN" sz="2000" spc="-1" strike="noStrike">
                <a:solidFill>
                  <a:srgbClr val="006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9280" y="3645000"/>
            <a:ext cx="2743200" cy="983880"/>
            <a:chOff x="4859280" y="3645000"/>
            <a:chExt cx="2743200" cy="983880"/>
          </a:xfrm>
        </p:grpSpPr>
        <p:sp>
          <p:nvSpPr>
            <p:cNvPr id="146" name=""/>
            <p:cNvSpPr/>
            <p:nvPr/>
          </p:nvSpPr>
          <p:spPr>
            <a:xfrm>
              <a:off x="4859280" y="3753000"/>
              <a:ext cx="2743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CO+CuO == Cu+CO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02280" y="364500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Comic Sans MS"/>
                </a:rPr>
                <a:t>△</a:t>
              </a:r>
              <a:endParaRPr b="0" lang="en-US" sz="16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006800" y="4267080"/>
            <a:ext cx="365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+Ca(OH)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=Ca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↓+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49440" y="47721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除尾气，防污染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6920" y="52052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停止加热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停止通气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9280" y="189000"/>
            <a:ext cx="871380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6c00"/>
                </a:solidFill>
                <a:latin typeface="黑体"/>
                <a:ea typeface="黑体"/>
              </a:rPr>
              <a:t>　 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通常把金属（如铁）跟氧结合生成金属氧化物（如氧化铁）的过程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金属的氧化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金属氧化物跟焦炭、氢气、一氧化碳等物质反应，失去氧转化为金属的过程，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金属氧化物的</a:t>
            </a:r>
            <a:r>
              <a:rPr b="0" lang="zh-CN" sz="32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1" action="ppaction://hlinksldjump"/>
              </a:rPr>
              <a:t>还原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3520" y="380880"/>
            <a:ext cx="1523880" cy="1676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62320" y="609480"/>
            <a:ext cx="67816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氧化物跟一氧化碳、或者焦炭、或者氢气、等物质反应，金属氧化物失去氧转化为金属，其中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一氧化碳和氢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分别将转变成什么物质？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3860640"/>
            <a:ext cx="6588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一氧化碳</a:t>
            </a:r>
            <a:r>
              <a:rPr b="1" lang="zh-CN" sz="4000" spc="-1" strike="noStrike">
                <a:solidFill>
                  <a:srgbClr val="006c00"/>
                </a:solidFill>
                <a:latin typeface="宋体"/>
              </a:rPr>
              <a:t>转变成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宋体"/>
              </a:rPr>
              <a:t>二氧化碳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氢气</a:t>
            </a:r>
            <a:r>
              <a:rPr b="1" lang="zh-CN" sz="4000" spc="-1" strike="noStrike">
                <a:solidFill>
                  <a:srgbClr val="006c00"/>
                </a:solidFill>
                <a:latin typeface="宋体"/>
              </a:rPr>
              <a:t>转变成</a:t>
            </a:r>
            <a:r>
              <a:rPr b="1" lang="zh-CN" sz="4000" spc="-1" strike="noStrike" u="sng">
                <a:solidFill>
                  <a:srgbClr val="006c00"/>
                </a:solidFill>
                <a:uFillTx/>
                <a:latin typeface="宋体"/>
              </a:rPr>
              <a:t>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水</a:t>
            </a:r>
            <a:r>
              <a:rPr b="1" lang="zh-CN" sz="4000" spc="-1" strike="noStrike" u="sng">
                <a:solidFill>
                  <a:srgbClr val="006c00"/>
                </a:solidFill>
                <a:uFillTx/>
                <a:latin typeface="宋体"/>
              </a:rPr>
              <a:t>  </a:t>
            </a:r>
            <a:r>
              <a:rPr b="0" lang="zh-CN" sz="4000" spc="-1" strike="noStrike" u="sng">
                <a:solidFill>
                  <a:srgbClr val="3b4fdf"/>
                </a:solidFill>
                <a:uFillTx/>
                <a:latin typeface="宋体"/>
                <a:hlinkClick r:id="rId2" action="ppaction://hlinksldjump"/>
              </a:rPr>
              <a:t>。</a:t>
            </a:r>
            <a:endParaRPr b="0" lang="en-US" sz="40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21932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了解一些常见的金属矿物及主要成分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通过观察实验掌握炼铁的原理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了解工业炼铁的大致过程及主要设备，原料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4508640"/>
            <a:ext cx="2681280" cy="166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2514600" cy="181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166824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2514600" cy="197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332000" y="476280"/>
            <a:ext cx="3457440" cy="2158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619280" y="2637000"/>
            <a:ext cx="27367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3160" y="189000"/>
            <a:ext cx="28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的金属矿物 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3600" y="1219320"/>
            <a:ext cx="2367000" cy="167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3124080"/>
            <a:ext cx="1849320" cy="165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磁铁矿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要成分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2035080" cy="25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3048120"/>
            <a:ext cx="1765440" cy="124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赤铁矿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成分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609480"/>
            <a:ext cx="1600200" cy="1589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34320" y="99072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铁矿（主要成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e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15000" y="2514600"/>
            <a:ext cx="2540160" cy="17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9920" y="43434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褐铁矿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成分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 ·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 )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2209680" cy="164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0958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孔雀石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OH)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048120" y="4343400"/>
            <a:ext cx="2514600" cy="1714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7600" y="609588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赤铜矿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O)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167652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6c00"/>
                </a:solidFill>
                <a:latin typeface="宋体"/>
              </a:rPr>
              <a:t>使金属矿物变成金属的过程，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c00"/>
                </a:solidFill>
                <a:latin typeface="宋体"/>
              </a:rPr>
              <a:t>叫做</a:t>
            </a:r>
            <a:r>
              <a:rPr b="1" i="1" lang="zh-CN" sz="3600" spc="-1" strike="noStrike">
                <a:solidFill>
                  <a:srgbClr val="006c00"/>
                </a:solidFill>
                <a:latin typeface="宋体"/>
              </a:rPr>
              <a:t>金属的冶炼</a:t>
            </a:r>
            <a:r>
              <a:rPr b="1" lang="zh-CN" sz="3600" spc="-1" strike="noStrike">
                <a:solidFill>
                  <a:srgbClr val="006c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6193080" cy="360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44480" y="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 铁的冶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13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探究：</a:t>
            </a:r>
            <a:r>
              <a:rPr b="1" i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炼铁的化学原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295280"/>
            <a:ext cx="76201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黑体"/>
                <a:ea typeface="黑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通常状况下，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氧化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无色、无味、难溶于水的气体，具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燃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有剧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01080" y="328464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200" y="2209680"/>
            <a:ext cx="8929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玻璃管内固体粉末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澄清石灰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尾气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验现象：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4800600"/>
            <a:ext cx="8304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反应原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方程式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Fe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+3CO==2Fe+3C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褐色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黑色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变浑浊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3429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能燃烧，发出蓝色的火焰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465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高温</a:t>
            </a:r>
            <a:endParaRPr b="0" lang="en-US" sz="18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907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气中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气可以如何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267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结束时，是先停止加热，还是先停止通一氧化碳？为什么？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4956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忆观察到的实验思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41008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164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919">
                <a:moveTo>
                  <a:pt x="11905" y="15941"/>
                </a:moveTo>
                <a:lnTo>
                  <a:pt x="11905" y="13983"/>
                </a:lnTo>
                <a:cubicBezTo>
                  <a:pt x="11905" y="13156"/>
                  <a:pt x="12236" y="12459"/>
                  <a:pt x="12837" y="12459"/>
                </a:cubicBezTo>
                <a:cubicBezTo>
                  <a:pt x="13968" y="12459"/>
                  <a:pt x="14865" y="11093"/>
                  <a:pt x="14865" y="9509"/>
                </a:cubicBezTo>
                <a:cubicBezTo>
                  <a:pt x="14865" y="7194"/>
                  <a:pt x="13011" y="5453"/>
                  <a:pt x="10800" y="5453"/>
                </a:cubicBezTo>
                <a:cubicBezTo>
                  <a:pt x="8589" y="5453"/>
                  <a:pt x="6918" y="7194"/>
                  <a:pt x="6918" y="9509"/>
                </a:cubicBezTo>
                <a:lnTo>
                  <a:pt x="8772" y="9509"/>
                </a:lnTo>
                <a:cubicBezTo>
                  <a:pt x="8772" y="8369"/>
                  <a:pt x="9695" y="7481"/>
                  <a:pt x="10800" y="7481"/>
                </a:cubicBezTo>
                <a:cubicBezTo>
                  <a:pt x="11905" y="7481"/>
                  <a:pt x="12837" y="8369"/>
                  <a:pt x="12837" y="9509"/>
                </a:cubicBezTo>
                <a:cubicBezTo>
                  <a:pt x="12837" y="10249"/>
                  <a:pt x="12367" y="10980"/>
                  <a:pt x="11905" y="10980"/>
                </a:cubicBezTo>
                <a:cubicBezTo>
                  <a:pt x="10800" y="10980"/>
                  <a:pt x="9695" y="12459"/>
                  <a:pt x="9695" y="13983"/>
                </a:cubicBezTo>
                <a:lnTo>
                  <a:pt x="9695" y="159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28600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时，是先通一氧化碳气体，还是先加热氧化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F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为什么？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1240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c00"/>
                </a:solidFill>
                <a:latin typeface="宋体"/>
              </a:rPr>
              <a:t>先通一氧化碳，排尽反应装置中的空气，防止加热时发生爆炸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3341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c00"/>
                </a:solidFill>
                <a:latin typeface="宋体"/>
              </a:rPr>
              <a:t>结束时继续通一氧化碳至玻璃管冷却，防止液体倒吸，使玻璃管炸裂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52640"/>
            <a:ext cx="511164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2800" spc="-1" strike="noStrike">
                <a:solidFill>
                  <a:srgbClr val="006c00"/>
                </a:solidFill>
                <a:latin typeface="黑体"/>
                <a:ea typeface="黑体"/>
              </a:rPr>
              <a:t>工业炼铁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设备：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原料：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产品：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2771640" cy="6048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643440" y="6237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高  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铁矿石、焦炭、石灰石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46530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热空气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08720" y="5013360"/>
            <a:ext cx="215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1280" y="56246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生铁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243640" y="5877000"/>
            <a:ext cx="4316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5950080"/>
            <a:ext cx="43200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5410080"/>
            <a:ext cx="762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炉渣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1:08:14Z</dcterms:created>
  <dc:creator>chengyiyun</dc:creator>
  <dc:description/>
  <dc:language>en-US</dc:language>
  <cp:lastModifiedBy>User</cp:lastModifiedBy>
  <dcterms:modified xsi:type="dcterms:W3CDTF">2014-12-05T00:00:54Z</dcterms:modified>
  <cp:revision>283</cp:revision>
  <dc:subject/>
  <dc:title>PowerPoint 演示文稿</dc:title>
</cp:coreProperties>
</file>