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6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9.png" ContentType="image/pn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612-E2F6-4F98-A8A6-4FDF6D99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B83-249E-4C03-866D-7617D013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620-4AE2-4781-8F50-6F8301F0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A3A8-EEEB-433D-9F93-EFCDF3C9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603-8613-4334-8816-47D4A32F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879-2944-4DC3-9536-BC1FD683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52B-7105-4F21-95CE-1E7D95AD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12C-1A8D-4F7B-87A8-FBCE5FCE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FC0-41F6-4906-92C4-28EC86C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5AA-9729-4257-B376-70807E17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33E-FC46-476C-B5B4-84AC0A28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FF7-EF48-4C8B-9FF8-610893AB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D222-E91A-4538-A399-FCDF28505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11280" y="1797120"/>
            <a:ext cx="828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510680" y="500040"/>
            <a:ext cx="14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九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上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924360" y="393372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楷体"/>
                <a:ea typeface="楷体"/>
              </a:rPr>
              <a:t>洛阳初中数学组 毛丽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640480" y="331920"/>
            <a:ext cx="21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846000" y="2438280"/>
            <a:ext cx="1524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701880" y="16765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回到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55480" y="3232080"/>
            <a:ext cx="829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圆是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点的集合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393920" y="3168720"/>
            <a:ext cx="537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黑体"/>
                <a:ea typeface="黑体"/>
              </a:rPr>
              <a:t>平面内到定点的距离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等于</a:t>
            </a:r>
            <a:r>
              <a:rPr b="1" lang="zh-CN" sz="2600" spc="-1" strike="noStrike">
                <a:solidFill>
                  <a:srgbClr val="0000cc"/>
                </a:solidFill>
                <a:latin typeface="黑体"/>
                <a:ea typeface="黑体"/>
              </a:rPr>
              <a:t>定长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55480" y="4070520"/>
            <a:ext cx="889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圆的内部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点的集合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55480" y="4876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圆的外部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点的集合</a:t>
            </a:r>
            <a:r>
              <a:rPr b="1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384280" y="4006800"/>
            <a:ext cx="61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黑体"/>
                <a:ea typeface="黑体"/>
              </a:rPr>
              <a:t>平面内到圆心的距离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小于</a:t>
            </a:r>
            <a:r>
              <a:rPr b="1" lang="zh-CN" sz="2600" spc="-1" strike="noStrike">
                <a:solidFill>
                  <a:srgbClr val="0000cc"/>
                </a:solidFill>
                <a:latin typeface="黑体"/>
                <a:ea typeface="黑体"/>
              </a:rPr>
              <a:t>半径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384280" y="4800600"/>
            <a:ext cx="612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黑体"/>
                <a:ea typeface="黑体"/>
              </a:rPr>
              <a:t>平面内到圆心的距离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大于</a:t>
            </a:r>
            <a:r>
              <a:rPr b="1" lang="zh-CN" sz="2600" spc="-1" strike="noStrike">
                <a:solidFill>
                  <a:srgbClr val="0000cc"/>
                </a:solidFill>
                <a:latin typeface="黑体"/>
                <a:ea typeface="黑体"/>
              </a:rPr>
              <a:t>半径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971640" y="67464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数学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·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2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33520" y="107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已知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圆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距离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5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怎样的位置关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圆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距离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85800" y="5181480"/>
            <a:ext cx="76201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如何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判断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点与圆的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位置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关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只需要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比较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点到圆心的距离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与半径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大小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关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2286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371600" y="2286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设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半径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到圆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距离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800360" y="28195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题意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cm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835280" y="323676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5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801800" y="37958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828800" y="43164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971640" y="57960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知识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4"/>
          <p:cNvSpPr/>
          <p:nvPr/>
        </p:nvSpPr>
        <p:spPr>
          <a:xfrm>
            <a:off x="5867280" y="4292640"/>
            <a:ext cx="1944720" cy="201456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052640"/>
            <a:ext cx="90453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作出到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点的集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个圆的外部是满足什么条件的点的集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用阴影表示出到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小于或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点的集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867280" y="4294080"/>
            <a:ext cx="1944720" cy="2014560"/>
          </a:xfrm>
          <a:prstGeom prst="ellipse">
            <a:avLst/>
          </a:prstGeom>
          <a:blipFill rotWithShape="0">
            <a:blip r:embed="rId2">
              <a:alphaModFix amt="60000"/>
            </a:blip>
            <a:srcRect/>
            <a:tile tx="0" ty="0" sx="100000" sy="100000" algn="ctr"/>
          </a:blip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6838920" y="5288040"/>
            <a:ext cx="36720" cy="475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807600" y="5060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5867280" y="4294080"/>
            <a:ext cx="1944720" cy="201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71640" y="57960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知识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2560" y="1619280"/>
            <a:ext cx="88930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Q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cm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画出下列图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c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点的集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5c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点的集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所画图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且到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等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5c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点有几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在图中将它们表示出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所画图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小于或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且到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离大于或等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5c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点的集合是怎样的图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它表示出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5148360" y="712800"/>
            <a:ext cx="3814200" cy="2676240"/>
            <a:chOff x="5148360" y="712800"/>
            <a:chExt cx="3814200" cy="2676240"/>
          </a:xfrm>
        </p:grpSpPr>
        <p:sp>
          <p:nvSpPr>
            <p:cNvPr id="167" name="Oval 4"/>
            <p:cNvSpPr/>
            <p:nvPr/>
          </p:nvSpPr>
          <p:spPr>
            <a:xfrm>
              <a:off x="5148360" y="955080"/>
              <a:ext cx="1898280" cy="2013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5"/>
            <p:cNvSpPr/>
            <p:nvPr/>
          </p:nvSpPr>
          <p:spPr>
            <a:xfrm>
              <a:off x="6443280" y="712800"/>
              <a:ext cx="2519280" cy="267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Oval 4"/>
          <p:cNvSpPr/>
          <p:nvPr/>
        </p:nvSpPr>
        <p:spPr>
          <a:xfrm>
            <a:off x="5148360" y="954000"/>
            <a:ext cx="1898640" cy="2032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6443640" y="711360"/>
            <a:ext cx="2521080" cy="2681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6590520" y="692280"/>
            <a:ext cx="366480" cy="575640"/>
            <a:chOff x="6590520" y="692280"/>
            <a:chExt cx="366480" cy="575640"/>
          </a:xfrm>
        </p:grpSpPr>
        <p:sp>
          <p:nvSpPr>
            <p:cNvPr id="172" name="Rectangle 7"/>
            <p:cNvSpPr/>
            <p:nvPr/>
          </p:nvSpPr>
          <p:spPr>
            <a:xfrm>
              <a:off x="6590520" y="692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6699240" y="1113840"/>
              <a:ext cx="11592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1"/>
          <p:cNvGrpSpPr/>
          <p:nvPr/>
        </p:nvGrpSpPr>
        <p:grpSpPr>
          <a:xfrm>
            <a:off x="6469560" y="2716200"/>
            <a:ext cx="400320" cy="612360"/>
            <a:chOff x="6469560" y="2716200"/>
            <a:chExt cx="400320" cy="612360"/>
          </a:xfrm>
        </p:grpSpPr>
        <p:sp>
          <p:nvSpPr>
            <p:cNvPr id="175" name="Rectangle 10"/>
            <p:cNvSpPr/>
            <p:nvPr/>
          </p:nvSpPr>
          <p:spPr>
            <a:xfrm>
              <a:off x="6469560" y="286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"/>
            <p:cNvSpPr/>
            <p:nvPr/>
          </p:nvSpPr>
          <p:spPr>
            <a:xfrm>
              <a:off x="6623280" y="2716200"/>
              <a:ext cx="115560" cy="154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4"/>
          <p:cNvGrpSpPr/>
          <p:nvPr/>
        </p:nvGrpSpPr>
        <p:grpSpPr>
          <a:xfrm>
            <a:off x="6227640" y="1743120"/>
            <a:ext cx="1919520" cy="459720"/>
            <a:chOff x="6227640" y="1743120"/>
            <a:chExt cx="1919520" cy="459720"/>
          </a:xfrm>
        </p:grpSpPr>
        <p:sp>
          <p:nvSpPr>
            <p:cNvPr id="178" name="Line 19"/>
            <p:cNvSpPr/>
            <p:nvPr/>
          </p:nvSpPr>
          <p:spPr>
            <a:xfrm>
              <a:off x="6227640" y="2016360"/>
              <a:ext cx="151380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0"/>
            <p:cNvSpPr/>
            <p:nvPr/>
          </p:nvSpPr>
          <p:spPr>
            <a:xfrm>
              <a:off x="7713720" y="1977840"/>
              <a:ext cx="75240" cy="10152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1"/>
            <p:cNvSpPr/>
            <p:nvPr/>
          </p:nvSpPr>
          <p:spPr>
            <a:xfrm>
              <a:off x="7763760" y="1743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8"/>
          <p:cNvGrpSpPr/>
          <p:nvPr/>
        </p:nvGrpSpPr>
        <p:grpSpPr>
          <a:xfrm>
            <a:off x="5727960" y="1744560"/>
            <a:ext cx="501120" cy="459720"/>
            <a:chOff x="5727960" y="1744560"/>
            <a:chExt cx="501120" cy="459720"/>
          </a:xfrm>
        </p:grpSpPr>
        <p:sp>
          <p:nvSpPr>
            <p:cNvPr id="182" name="Oval 16"/>
            <p:cNvSpPr/>
            <p:nvPr/>
          </p:nvSpPr>
          <p:spPr>
            <a:xfrm>
              <a:off x="6156000" y="1959840"/>
              <a:ext cx="73080" cy="1008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727960" y="1744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5"/>
          <p:cNvSpPr/>
          <p:nvPr/>
        </p:nvSpPr>
        <p:spPr>
          <a:xfrm>
            <a:off x="971640" y="57960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知识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457200" y="1123920"/>
            <a:ext cx="8218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试说明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以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圆心的同一圆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968720" y="2286000"/>
            <a:ext cx="252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题的依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395960" y="4141800"/>
            <a:ext cx="416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要说明几点在同一个圆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即说明这几个点到定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距离等于定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半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395960" y="2792520"/>
            <a:ext cx="4605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到定点的距离等于定长的点在同一个圆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2362320" y="3581280"/>
            <a:ext cx="44280" cy="180180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 flipH="1">
            <a:off x="2383920" y="4249800"/>
            <a:ext cx="1366920" cy="10825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250920" y="2373480"/>
            <a:ext cx="4152960" cy="4095720"/>
          </a:xfrm>
          <a:prstGeom prst="rect">
            <a:avLst/>
          </a:prstGeom>
          <a:ln w="0">
            <a:noFill/>
          </a:ln>
        </p:spPr>
      </p:pic>
      <p:sp>
        <p:nvSpPr>
          <p:cNvPr id="193" name="Line 9"/>
          <p:cNvSpPr/>
          <p:nvPr/>
        </p:nvSpPr>
        <p:spPr>
          <a:xfrm flipH="1">
            <a:off x="2332080" y="3843000"/>
            <a:ext cx="23760" cy="217872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2339640" y="4659480"/>
            <a:ext cx="1338120" cy="1387440"/>
          </a:xfrm>
          <a:prstGeom prst="line">
            <a:avLst/>
          </a:prstGeom>
          <a:ln w="255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71640" y="62064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19160" y="1314360"/>
            <a:ext cx="3778200" cy="32655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3"/>
          <p:cNvGrpSpPr/>
          <p:nvPr/>
        </p:nvGrpSpPr>
        <p:grpSpPr>
          <a:xfrm>
            <a:off x="395280" y="5811840"/>
            <a:ext cx="8748720" cy="904320"/>
            <a:chOff x="395280" y="5811840"/>
            <a:chExt cx="8748720" cy="904320"/>
          </a:xfrm>
        </p:grpSpPr>
        <p:sp>
          <p:nvSpPr>
            <p:cNvPr id="199" name="Text Box 4"/>
            <p:cNvSpPr/>
            <p:nvPr/>
          </p:nvSpPr>
          <p:spPr>
            <a:xfrm>
              <a:off x="395280" y="605988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</a:rPr>
                <a:t>∴</a:t>
              </a: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点</a:t>
              </a: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B</a:t>
              </a:r>
              <a:r>
                <a:rPr b="1" i="1" lang="zh-CN" sz="2400" spc="-1" strike="noStrike">
                  <a:solidFill>
                    <a:srgbClr val="800000"/>
                  </a:solidFill>
                  <a:latin typeface="Times New Roman"/>
                </a:rPr>
                <a:t>、</a:t>
              </a: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C</a:t>
              </a:r>
              <a:r>
                <a:rPr b="1" i="1" lang="zh-CN" sz="2400" spc="-1" strike="noStrike">
                  <a:solidFill>
                    <a:srgbClr val="800000"/>
                  </a:solidFill>
                  <a:latin typeface="Times New Roman"/>
                </a:rPr>
                <a:t>、</a:t>
              </a: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D</a:t>
              </a:r>
              <a:r>
                <a:rPr b="1" i="1" lang="zh-CN" sz="2400" spc="-1" strike="noStrike">
                  <a:solidFill>
                    <a:srgbClr val="800000"/>
                  </a:solidFill>
                  <a:latin typeface="Times New Roman"/>
                </a:rPr>
                <a:t>、</a:t>
              </a: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E</a:t>
              </a: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在以点</a:t>
              </a: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M</a:t>
              </a: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为圆心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5"/>
            <p:cNvGrpSpPr/>
            <p:nvPr/>
          </p:nvGrpSpPr>
          <p:grpSpPr>
            <a:xfrm>
              <a:off x="5256360" y="5811840"/>
              <a:ext cx="3887640" cy="904320"/>
              <a:chOff x="5256360" y="5811840"/>
              <a:chExt cx="3887640" cy="904320"/>
            </a:xfrm>
          </p:grpSpPr>
          <p:graphicFrame>
            <p:nvGraphicFramePr>
              <p:cNvPr id="201" name="Object 6"/>
              <p:cNvGraphicFramePr/>
              <p:nvPr/>
            </p:nvGraphicFramePr>
            <p:xfrm>
              <a:off x="5256360" y="5811840"/>
              <a:ext cx="874800" cy="904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2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56360" y="5811840"/>
                        <a:ext cx="874800" cy="90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3" name="Text Box 7"/>
              <p:cNvSpPr/>
              <p:nvPr/>
            </p:nvSpPr>
            <p:spPr>
              <a:xfrm>
                <a:off x="6046920" y="6040800"/>
                <a:ext cx="309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800000"/>
                    </a:solidFill>
                    <a:latin typeface="Times New Roman"/>
                    <a:ea typeface="黑体"/>
                  </a:rPr>
                  <a:t>为半径的圆上</a:t>
                </a:r>
                <a:r>
                  <a:rPr b="0" lang="zh-CN" sz="2400" spc="-1" strike="noStrike">
                    <a:solidFill>
                      <a:srgbClr val="800000"/>
                    </a:solidFill>
                    <a:latin typeface="Times New Roman"/>
                  </a:rPr>
                  <a:t>．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4" name="Picture 8" descr=""/>
          <p:cNvPicPr/>
          <p:nvPr/>
        </p:nvPicPr>
        <p:blipFill>
          <a:blip r:embed="rId5"/>
          <a:stretch/>
        </p:blipFill>
        <p:spPr>
          <a:xfrm>
            <a:off x="241200" y="2278080"/>
            <a:ext cx="3538800" cy="3828960"/>
          </a:xfrm>
          <a:prstGeom prst="rect">
            <a:avLst/>
          </a:prstGeom>
          <a:ln w="0">
            <a:noFill/>
          </a:ln>
        </p:spPr>
      </p:pic>
      <p:sp>
        <p:nvSpPr>
          <p:cNvPr id="205" name="Line 9"/>
          <p:cNvSpPr/>
          <p:nvPr/>
        </p:nvSpPr>
        <p:spPr>
          <a:xfrm flipH="1">
            <a:off x="1992600" y="2469960"/>
            <a:ext cx="12240" cy="1721520"/>
          </a:xfrm>
          <a:prstGeom prst="line">
            <a:avLst/>
          </a:prstGeom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264200" y="14828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解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4932360" y="15080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连接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MD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M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356000" y="201312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∵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BD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C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是△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的高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BEC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BDC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＝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90°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BEC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中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为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BC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的中点</a:t>
            </a: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3"/>
          <p:cNvGraphicFramePr/>
          <p:nvPr/>
        </p:nvGraphicFramePr>
        <p:xfrm>
          <a:off x="4478400" y="3141720"/>
          <a:ext cx="2054160" cy="885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0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78400" y="3141720"/>
                    <a:ext cx="205416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1" name="Group 14"/>
          <p:cNvGrpSpPr/>
          <p:nvPr/>
        </p:nvGrpSpPr>
        <p:grpSpPr>
          <a:xfrm>
            <a:off x="4429080" y="3714840"/>
            <a:ext cx="2677680" cy="882720"/>
            <a:chOff x="4429080" y="3714840"/>
            <a:chExt cx="2677680" cy="882720"/>
          </a:xfrm>
        </p:grpSpPr>
        <p:sp>
          <p:nvSpPr>
            <p:cNvPr id="212" name="Text Box 16"/>
            <p:cNvSpPr/>
            <p:nvPr/>
          </p:nvSpPr>
          <p:spPr>
            <a:xfrm>
              <a:off x="4429080" y="3845880"/>
              <a:ext cx="17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同理</a:t>
              </a: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3" name="Object 16"/>
            <p:cNvGraphicFramePr/>
            <p:nvPr/>
          </p:nvGraphicFramePr>
          <p:xfrm>
            <a:off x="5315760" y="3714840"/>
            <a:ext cx="1791000" cy="882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14" name="Object 1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15760" y="3714840"/>
                      <a:ext cx="1791000" cy="88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5" name="Text Box 18"/>
          <p:cNvSpPr/>
          <p:nvPr/>
        </p:nvSpPr>
        <p:spPr>
          <a:xfrm>
            <a:off x="4457880" y="51246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∴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MB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ME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MD</a:t>
            </a:r>
            <a:r>
              <a:rPr b="1" lang="zh-CN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  <a:ea typeface="黑体"/>
              </a:rPr>
              <a:t>MC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8"/>
          <p:cNvGrpSpPr/>
          <p:nvPr/>
        </p:nvGrpSpPr>
        <p:grpSpPr>
          <a:xfrm>
            <a:off x="4456080" y="4381560"/>
            <a:ext cx="3392280" cy="855720"/>
            <a:chOff x="4456080" y="4381560"/>
            <a:chExt cx="3392280" cy="855720"/>
          </a:xfrm>
        </p:grpSpPr>
        <p:graphicFrame>
          <p:nvGraphicFramePr>
            <p:cNvPr id="217" name="Object 19"/>
            <p:cNvGraphicFramePr/>
            <p:nvPr/>
          </p:nvGraphicFramePr>
          <p:xfrm>
            <a:off x="5288400" y="4381560"/>
            <a:ext cx="2559960" cy="855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18" name="Object 1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8400" y="4381560"/>
                      <a:ext cx="2559960" cy="85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21"/>
            <p:cNvSpPr/>
            <p:nvPr/>
          </p:nvSpPr>
          <p:spPr>
            <a:xfrm>
              <a:off x="4456080" y="45252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又</a:t>
              </a:r>
              <a:r>
                <a:rPr b="0" lang="zh-CN" sz="2400" spc="-1" strike="noStrike">
                  <a:solidFill>
                    <a:srgbClr val="800000"/>
                  </a:solidFill>
                  <a:latin typeface="Times New Roman"/>
                </a:rPr>
                <a:t>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22"/>
          <p:cNvSpPr/>
          <p:nvPr/>
        </p:nvSpPr>
        <p:spPr>
          <a:xfrm>
            <a:off x="866880" y="654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试说明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以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圆心的同一圆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 flipH="1">
            <a:off x="2043360" y="3184200"/>
            <a:ext cx="1162440" cy="1007280"/>
          </a:xfrm>
          <a:prstGeom prst="line">
            <a:avLst/>
          </a:prstGeom>
          <a:ln w="2556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13716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14400" y="1371600"/>
            <a:ext cx="762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今天的学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谈谈你对圆有什么新的认识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11280" y="441972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19280" y="3333600"/>
            <a:ext cx="1728720" cy="520560"/>
          </a:xfrm>
          <a:prstGeom prst="rect">
            <a:avLst/>
          </a:prstGeom>
          <a:solidFill>
            <a:srgbClr val="ffffff">
              <a:alpha val="52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课后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900000" y="819000"/>
            <a:ext cx="4248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小结与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椭圆 3"/>
          <p:cNvSpPr/>
          <p:nvPr/>
        </p:nvSpPr>
        <p:spPr>
          <a:xfrm>
            <a:off x="1219320" y="838080"/>
            <a:ext cx="2209680" cy="1168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1461960" y="260280"/>
            <a:ext cx="2605320" cy="2687400"/>
            <a:chOff x="1461960" y="260280"/>
            <a:chExt cx="2605320" cy="2687400"/>
          </a:xfrm>
        </p:grpSpPr>
        <p:pic>
          <p:nvPicPr>
            <p:cNvPr id="47" name="椭圆 4" descr=""/>
            <p:cNvPicPr/>
            <p:nvPr/>
          </p:nvPicPr>
          <p:blipFill>
            <a:blip r:embed="rId2"/>
            <a:stretch/>
          </p:blipFill>
          <p:spPr>
            <a:xfrm>
              <a:off x="1461960" y="260280"/>
              <a:ext cx="2605320" cy="26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5"/>
            <p:cNvSpPr/>
            <p:nvPr/>
          </p:nvSpPr>
          <p:spPr>
            <a:xfrm>
              <a:off x="2006640" y="822240"/>
              <a:ext cx="151056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6"/>
          <p:cNvGrpSpPr/>
          <p:nvPr/>
        </p:nvGrpSpPr>
        <p:grpSpPr>
          <a:xfrm>
            <a:off x="4067280" y="165240"/>
            <a:ext cx="3313080" cy="3352680"/>
            <a:chOff x="4067280" y="165240"/>
            <a:chExt cx="3313080" cy="3352680"/>
          </a:xfrm>
        </p:grpSpPr>
        <p:pic>
          <p:nvPicPr>
            <p:cNvPr id="50" name="椭圆 5" descr=""/>
            <p:cNvPicPr/>
            <p:nvPr/>
          </p:nvPicPr>
          <p:blipFill>
            <a:blip r:embed="rId3"/>
            <a:stretch/>
          </p:blipFill>
          <p:spPr>
            <a:xfrm>
              <a:off x="4067280" y="165240"/>
              <a:ext cx="33130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8"/>
            <p:cNvSpPr/>
            <p:nvPr/>
          </p:nvSpPr>
          <p:spPr>
            <a:xfrm>
              <a:off x="4585320" y="825480"/>
              <a:ext cx="1604160" cy="8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5219640" y="2660760"/>
            <a:ext cx="3745080" cy="4071960"/>
            <a:chOff x="5219640" y="2660760"/>
            <a:chExt cx="3745080" cy="4071960"/>
          </a:xfrm>
        </p:grpSpPr>
        <p:pic>
          <p:nvPicPr>
            <p:cNvPr id="53" name="椭圆 6" descr=""/>
            <p:cNvPicPr/>
            <p:nvPr/>
          </p:nvPicPr>
          <p:blipFill>
            <a:blip r:embed="rId4"/>
            <a:stretch/>
          </p:blipFill>
          <p:spPr>
            <a:xfrm>
              <a:off x="5219640" y="2660760"/>
              <a:ext cx="374508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1"/>
            <p:cNvSpPr/>
            <p:nvPr/>
          </p:nvSpPr>
          <p:spPr>
            <a:xfrm>
              <a:off x="5920560" y="3422880"/>
              <a:ext cx="23418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2"/>
          <p:cNvGrpSpPr/>
          <p:nvPr/>
        </p:nvGrpSpPr>
        <p:grpSpPr>
          <a:xfrm>
            <a:off x="0" y="1411200"/>
            <a:ext cx="1908000" cy="1915920"/>
            <a:chOff x="0" y="1411200"/>
            <a:chExt cx="1908000" cy="1915920"/>
          </a:xfrm>
        </p:grpSpPr>
        <p:pic>
          <p:nvPicPr>
            <p:cNvPr id="56" name="椭圆 7" descr=""/>
            <p:cNvPicPr/>
            <p:nvPr/>
          </p:nvPicPr>
          <p:blipFill>
            <a:blip r:embed="rId5"/>
            <a:stretch/>
          </p:blipFill>
          <p:spPr>
            <a:xfrm>
              <a:off x="0" y="1411200"/>
              <a:ext cx="190800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4"/>
            <p:cNvSpPr/>
            <p:nvPr/>
          </p:nvSpPr>
          <p:spPr>
            <a:xfrm>
              <a:off x="447480" y="1857600"/>
              <a:ext cx="101412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8"/>
          <p:cNvSpPr/>
          <p:nvPr/>
        </p:nvSpPr>
        <p:spPr>
          <a:xfrm>
            <a:off x="214200" y="352440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红日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满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飞轮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硬币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圆的形象处处可见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平面图形中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圆象征着完美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和谐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"/>
          <p:cNvPicPr/>
          <p:nvPr/>
        </p:nvPicPr>
        <p:blipFill>
          <a:blip r:embed="rId2"/>
          <a:stretch/>
        </p:blipFill>
        <p:spPr>
          <a:xfrm>
            <a:off x="2895480" y="20574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971800" y="1244520"/>
            <a:ext cx="1816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套圈游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%E5%A5%97%E5%9C%88%E5%9C%88C%E6%8B%B7%E8%B2%9D"/>
          <p:cNvPicPr/>
          <p:nvPr/>
        </p:nvPicPr>
        <p:blipFill>
          <a:blip r:embed="rId3"/>
          <a:stretch/>
        </p:blipFill>
        <p:spPr>
          <a:xfrm>
            <a:off x="533520" y="1219320"/>
            <a:ext cx="2361960" cy="2230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971640" y="67464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生活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·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4429080" y="2209680"/>
            <a:ext cx="142920" cy="1447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1295280" y="3962520"/>
            <a:ext cx="6697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4800" y="4648320"/>
            <a:ext cx="8110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只有一个小立柱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若全班同学沿着红线站成一横排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请问游戏对所有同学公平吗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？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谈谈你的想法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788000" y="1604880"/>
            <a:ext cx="1143000" cy="600120"/>
          </a:xfrm>
          <a:prstGeom prst="wedgeRectCallout">
            <a:avLst>
              <a:gd name="adj1" fmla="val -65000"/>
              <a:gd name="adj2" fmla="val 5105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立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971640" y="67464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生活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·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000080" y="49658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069920" y="1523880"/>
            <a:ext cx="521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端已打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棉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071720" y="228600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端已打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皮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456640" y="1081080"/>
            <a:ext cx="45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究竟圆有什么特点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？你会用下列工具作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71640" y="67464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数学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·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7"/>
          <p:cNvSpPr/>
          <p:nvPr/>
        </p:nvSpPr>
        <p:spPr>
          <a:xfrm>
            <a:off x="395280" y="3621240"/>
            <a:ext cx="808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确定一个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须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28760" y="1701720"/>
            <a:ext cx="8153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一个平面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绕它固定的一个端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旋转一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另一个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端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形成的图形叫做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057320" y="5010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圆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定圆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位置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半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定圆的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大小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1071720" y="57340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个以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圆心的圆叫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记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⊙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GB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1214280" y="407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643120" y="41148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1066680" y="278136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是一条封闭的曲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019160" y="108108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通过刚才的操作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你认为什么是圆呢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隶书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0"/>
          <p:cNvGrpSpPr/>
          <p:nvPr/>
        </p:nvGrpSpPr>
        <p:grpSpPr>
          <a:xfrm>
            <a:off x="5729400" y="2468520"/>
            <a:ext cx="3241080" cy="2917440"/>
            <a:chOff x="5729400" y="2468520"/>
            <a:chExt cx="3241080" cy="2917440"/>
          </a:xfrm>
        </p:grpSpPr>
        <p:sp>
          <p:nvSpPr>
            <p:cNvPr id="86" name="Oval 17"/>
            <p:cNvSpPr/>
            <p:nvPr/>
          </p:nvSpPr>
          <p:spPr>
            <a:xfrm>
              <a:off x="5729400" y="2468520"/>
              <a:ext cx="2876400" cy="2917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 flipV="1">
              <a:off x="7230240" y="3644640"/>
              <a:ext cx="1347840" cy="27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6786720" y="338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8587080" y="3189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5"/>
          <p:cNvSpPr/>
          <p:nvPr/>
        </p:nvSpPr>
        <p:spPr>
          <a:xfrm>
            <a:off x="971640" y="67464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数学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·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705120" y="2438280"/>
            <a:ext cx="5867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圆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到圆心的距离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于半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071880" y="3714840"/>
            <a:ext cx="596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　  设⊙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的半径为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r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到圆心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为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那么</a:t>
            </a: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___________________________</a:t>
            </a:r>
            <a:r>
              <a:rPr b="0" lang="en-US" sz="2400" spc="-1" strike="noStrike">
                <a:solidFill>
                  <a:srgbClr val="333399"/>
                </a:solidFill>
                <a:latin typeface="楷体_GB2312"/>
              </a:rPr>
              <a:t>.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2280" y="251460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71720" y="1238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思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为什么围成圆形游戏就公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324000" y="2565360"/>
            <a:ext cx="2747880" cy="2819160"/>
            <a:chOff x="324000" y="2565360"/>
            <a:chExt cx="2747880" cy="2819160"/>
          </a:xfrm>
        </p:grpSpPr>
        <p:sp>
          <p:nvSpPr>
            <p:cNvPr id="97" name="Oval 2"/>
            <p:cNvSpPr/>
            <p:nvPr/>
          </p:nvSpPr>
          <p:spPr>
            <a:xfrm>
              <a:off x="324000" y="2565360"/>
              <a:ext cx="2747880" cy="2819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"/>
            <p:cNvSpPr/>
            <p:nvPr/>
          </p:nvSpPr>
          <p:spPr>
            <a:xfrm flipH="1" flipV="1">
              <a:off x="682920" y="3098160"/>
              <a:ext cx="106020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1517760" y="4012920"/>
              <a:ext cx="714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9"/>
            <p:cNvSpPr/>
            <p:nvPr/>
          </p:nvSpPr>
          <p:spPr>
            <a:xfrm flipH="1" flipV="1">
              <a:off x="606960" y="3022560"/>
              <a:ext cx="73800" cy="7560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 rot="10800000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1667880" y="4012920"/>
              <a:ext cx="73800" cy="759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5"/>
          <p:cNvSpPr/>
          <p:nvPr/>
        </p:nvSpPr>
        <p:spPr>
          <a:xfrm>
            <a:off x="971640" y="67464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数学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·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2"/>
          <p:cNvSpPr/>
          <p:nvPr/>
        </p:nvSpPr>
        <p:spPr>
          <a:xfrm>
            <a:off x="3635280" y="3046320"/>
            <a:ext cx="5867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圆内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各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点到圆心的距离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小于半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3808440"/>
            <a:ext cx="5867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圆外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各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点到圆心的距离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大于半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2987640" y="479736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　　设⊙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的半径为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r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到圆心的距离为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那么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楷体_GB2312"/>
              </a:rPr>
              <a:t>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楷体_GB2312"/>
              </a:rPr>
              <a:t>.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"/>
          <p:cNvSpPr/>
          <p:nvPr/>
        </p:nvSpPr>
        <p:spPr>
          <a:xfrm flipH="1">
            <a:off x="928800" y="4925880"/>
            <a:ext cx="784080" cy="123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1771560" y="5632560"/>
            <a:ext cx="55800" cy="7596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 flipH="1" flipV="1">
            <a:off x="971640" y="3860280"/>
            <a:ext cx="684000" cy="1065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596960" y="4551480"/>
            <a:ext cx="5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79280" y="6093000"/>
            <a:ext cx="104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黑体"/>
              </a:rPr>
              <a:t>甲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黑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203040" y="3645000"/>
            <a:ext cx="2714760" cy="2706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2465280" y="3424320"/>
            <a:ext cx="57240" cy="745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522440" y="5348160"/>
            <a:ext cx="16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丙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573280" y="3141720"/>
            <a:ext cx="927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黑体"/>
              </a:rPr>
              <a:t>丁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5"/>
          <p:cNvSpPr/>
          <p:nvPr/>
        </p:nvSpPr>
        <p:spPr>
          <a:xfrm flipH="1" flipV="1">
            <a:off x="916920" y="3776040"/>
            <a:ext cx="60120" cy="6516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 flipV="1">
            <a:off x="900000" y="6162120"/>
            <a:ext cx="57240" cy="745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 rot="10800000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1655640" y="4925880"/>
            <a:ext cx="57240" cy="76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-141120" y="1028880"/>
            <a:ext cx="8889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　　甲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乙两人分别站在图中⊙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上的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两点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他俩正准备参加游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后来丙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丁也赶来参加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并分别站在了图中所示的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两点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如果你是甲同学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你会有怎样的看法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3920" y="3178080"/>
            <a:ext cx="138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黑体"/>
              </a:rPr>
              <a:t>乙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67464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数学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·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3657600" y="2398680"/>
            <a:ext cx="5700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到圆心距离等于半径的点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圆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141120" y="1144440"/>
            <a:ext cx="8685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后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兵同学也来参加游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站的位置是图中所示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他发现地上的线几乎看不清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问小兵同学怎样才能知道自己恰好站在圆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79280" y="2762280"/>
            <a:ext cx="3600360" cy="3560400"/>
            <a:chOff x="179280" y="2762280"/>
            <a:chExt cx="3600360" cy="3560400"/>
          </a:xfrm>
        </p:grpSpPr>
        <p:pic>
          <p:nvPicPr>
            <p:cNvPr id="126" name="Picture 4" descr=""/>
            <p:cNvPicPr/>
            <p:nvPr/>
          </p:nvPicPr>
          <p:blipFill>
            <a:blip r:embed="rId2"/>
            <a:stretch/>
          </p:blipFill>
          <p:spPr>
            <a:xfrm>
              <a:off x="179280" y="2762280"/>
              <a:ext cx="3290760" cy="35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Line 5"/>
            <p:cNvSpPr/>
            <p:nvPr/>
          </p:nvSpPr>
          <p:spPr>
            <a:xfrm flipV="1">
              <a:off x="1780560" y="3804120"/>
              <a:ext cx="1277640" cy="82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6"/>
            <p:cNvSpPr/>
            <p:nvPr/>
          </p:nvSpPr>
          <p:spPr>
            <a:xfrm>
              <a:off x="3025080" y="3721320"/>
              <a:ext cx="86040" cy="82800"/>
            </a:xfrm>
            <a:prstGeom prst="ellipse">
              <a:avLst/>
            </a:prstGeom>
            <a:solidFill>
              <a:srgbClr val="0000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7"/>
            <p:cNvSpPr/>
            <p:nvPr/>
          </p:nvSpPr>
          <p:spPr>
            <a:xfrm>
              <a:off x="3025080" y="3387600"/>
              <a:ext cx="754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8"/>
          <p:cNvSpPr/>
          <p:nvPr/>
        </p:nvSpPr>
        <p:spPr>
          <a:xfrm>
            <a:off x="3056040" y="3281400"/>
            <a:ext cx="594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　　设⊙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的半径为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r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到圆心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为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那么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楷体_GB2312"/>
              </a:rPr>
              <a:t>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楷体_GB2312"/>
              </a:rPr>
              <a:t>.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665520" y="4648320"/>
            <a:ext cx="669780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到圆心距离小于半径的点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665520" y="5348160"/>
            <a:ext cx="66978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到圆心距离大于半径的点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都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8072280" y="464832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圆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8086680" y="5334120"/>
            <a:ext cx="91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圆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71640" y="67464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数学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·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1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>Administrator</dc:creator>
  <dc:description/>
  <dc:language>en-US</dc:language>
  <cp:lastModifiedBy>lenovo</cp:lastModifiedBy>
  <dcterms:modified xsi:type="dcterms:W3CDTF">2015-01-15T07:16:55Z</dcterms:modified>
  <cp:revision>122</cp:revision>
  <dc:subject/>
  <dc:title>幻灯片 1</dc:title>
</cp:coreProperties>
</file>