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6.png" ContentType="image/png"/>
  <Override PartName="/ppt/media/image3.jpeg" ContentType="image/jpeg"/>
  <Override PartName="/ppt/media/image4.png" ContentType="image/png"/>
  <Override PartName="/ppt/media/whoosh.wav" ContentType="audio/x-wav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ECA9-F849-446E-B2A9-F315FD47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3D3-952D-44F0-8E34-92F768A7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E6E-5916-4AB0-9328-7A1A70F7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8D3-2977-4653-89E2-8F5E5298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D49-343E-419A-A27A-FD195713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02C-B7AC-4DAB-B24B-47FB29AB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9A5-A6C6-47FC-9A9E-1C420C61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83D-10E0-48B0-AFE3-32B8B664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805-CB92-4296-9A92-1F1E4773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843-ECD5-42A2-9607-CA9B2E0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B44-E5BA-41D2-8197-6E34FCA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7D3-FAC4-40E1-A389-7346B12D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DC9F-CA97-456D-B11A-0CBCC99D61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59280" y="1989000"/>
            <a:ext cx="252864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垂直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(2)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10680" cy="703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33360" y="201600"/>
            <a:ext cx="2514600" cy="1066680"/>
            <a:chOff x="333360" y="201600"/>
            <a:chExt cx="2514600" cy="10666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33360" y="201600"/>
              <a:ext cx="1067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4080" y="43020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800000"/>
                  </a:solidFill>
                  <a:latin typeface="Tahoma"/>
                  <a:ea typeface="黑体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05740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268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imes New Roman"/>
                <a:ea typeface="华文楷体"/>
              </a:rPr>
              <a:t>我们如何测量立定跳远的成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2637000"/>
            <a:ext cx="2376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1989000"/>
            <a:ext cx="144360" cy="288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48040" y="328140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75320" y="34974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019320" y="35686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19320" y="3568680"/>
            <a:ext cx="216000" cy="216000"/>
            <a:chOff x="3019320" y="3568680"/>
            <a:chExt cx="216000" cy="216000"/>
          </a:xfrm>
        </p:grpSpPr>
        <p:sp>
          <p:nvSpPr>
            <p:cNvPr id="55" name=""/>
            <p:cNvSpPr/>
            <p:nvPr/>
          </p:nvSpPr>
          <p:spPr>
            <a:xfrm>
              <a:off x="3019320" y="37846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35320" y="35686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514600" y="51530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踏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75320" y="45054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沙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731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17640"/>
            <a:ext cx="450036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0" y="404640"/>
            <a:ext cx="7272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人行道线上的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处过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怎样走线路最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把它画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35280" y="333360"/>
            <a:ext cx="215640" cy="6524640"/>
            <a:chOff x="1835280" y="333360"/>
            <a:chExt cx="215640" cy="6524640"/>
          </a:xfrm>
        </p:grpSpPr>
        <p:sp>
          <p:nvSpPr>
            <p:cNvPr id="63" name=""/>
            <p:cNvSpPr/>
            <p:nvPr/>
          </p:nvSpPr>
          <p:spPr>
            <a:xfrm>
              <a:off x="2050920" y="1341360"/>
              <a:ext cx="0" cy="28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35280" y="1341360"/>
              <a:ext cx="215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35280" y="333360"/>
              <a:ext cx="0" cy="652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2602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：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直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，过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⊥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垂足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83664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叫做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垂线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92360" y="4797360"/>
            <a:ext cx="331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213000"/>
            <a:ext cx="1458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47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2997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348000" y="2565360"/>
            <a:ext cx="936720" cy="3240000"/>
            <a:chOff x="3348000" y="2565360"/>
            <a:chExt cx="936720" cy="3240000"/>
          </a:xfrm>
        </p:grpSpPr>
        <p:sp>
          <p:nvSpPr>
            <p:cNvPr id="73" name=""/>
            <p:cNvSpPr/>
            <p:nvPr/>
          </p:nvSpPr>
          <p:spPr>
            <a:xfrm>
              <a:off x="3348000" y="256536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48000" y="458136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64000" y="4581360"/>
              <a:ext cx="0" cy="21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8000" y="53006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87640" y="44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3284640"/>
            <a:ext cx="0" cy="151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413000"/>
            <a:ext cx="6172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直线外一点到这条直线的垂线段的</a:t>
            </a: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黑体"/>
              </a:rPr>
              <a:t>长度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e03304"/>
                </a:solidFill>
                <a:latin typeface="Tahoma"/>
                <a:ea typeface="黑体"/>
              </a:rPr>
              <a:t>点到直线的距离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708360" y="2568600"/>
            <a:ext cx="2376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74960" y="1989000"/>
            <a:ext cx="144360" cy="2881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48040" y="3213000"/>
            <a:ext cx="21600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75320" y="342900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987280" y="35002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987640" y="3500280"/>
            <a:ext cx="216000" cy="216000"/>
            <a:chOff x="2987640" y="3500280"/>
            <a:chExt cx="216000" cy="216000"/>
          </a:xfrm>
        </p:grpSpPr>
        <p:sp>
          <p:nvSpPr>
            <p:cNvPr id="86" name=""/>
            <p:cNvSpPr/>
            <p:nvPr/>
          </p:nvSpPr>
          <p:spPr>
            <a:xfrm>
              <a:off x="2987640" y="37162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203640" y="3500280"/>
              <a:ext cx="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514600" y="5084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踏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75320" y="44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沙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88816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3304"/>
                </a:solidFill>
                <a:latin typeface="Tahoma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987280" y="2708280"/>
            <a:ext cx="1676520" cy="838080"/>
          </a:xfrm>
          <a:prstGeom prst="line">
            <a:avLst/>
          </a:prstGeom>
          <a:ln w="38160">
            <a:solidFill>
              <a:srgbClr val="00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903240" cy="900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32080" y="5811840"/>
            <a:ext cx="74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01016"/>
                </a:solidFill>
                <a:latin typeface="黑体"/>
                <a:ea typeface="黑体"/>
              </a:rPr>
              <a:t>性质：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  <a:ea typeface="黑体"/>
              </a:rPr>
              <a:t>直线外一点与直线上各点连接的所有线段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垂线段</a:t>
            </a:r>
            <a:r>
              <a:rPr b="1" lang="zh-CN" sz="2400" spc="-1" strike="noStrike">
                <a:solidFill>
                  <a:srgbClr val="99cc00"/>
                </a:solidFill>
                <a:latin typeface="黑体"/>
                <a:ea typeface="黑体"/>
              </a:rPr>
              <a:t>最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342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987640" y="3500280"/>
            <a:ext cx="1728720" cy="433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3500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1337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6864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43657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0"/>
            <a:ext cx="9144000" cy="76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8114600">
            <a:off x="1935000" y="5705280"/>
            <a:ext cx="1316160" cy="74520"/>
          </a:xfrm>
          <a:prstGeom prst="rect">
            <a:avLst/>
          </a:prstGeom>
          <a:solidFill>
            <a:srgbClr val="a6e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9748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如图：要把水渠中的水引到水池</a:t>
            </a:r>
            <a:r>
              <a:rPr b="1" i="1" lang="zh-CN" sz="4000" spc="-1" strike="noStrike">
                <a:solidFill>
                  <a:srgbClr val="040000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中，在渠岸的什么地方开沟，水沟的长度才能最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请画出图来，并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050920" y="4014720"/>
            <a:ext cx="3097440" cy="2376720"/>
            <a:chOff x="2050920" y="4014720"/>
            <a:chExt cx="3097440" cy="2376720"/>
          </a:xfrm>
        </p:grpSpPr>
        <p:sp>
          <p:nvSpPr>
            <p:cNvPr id="106" name=""/>
            <p:cNvSpPr/>
            <p:nvPr/>
          </p:nvSpPr>
          <p:spPr>
            <a:xfrm>
              <a:off x="2124000" y="6246720"/>
              <a:ext cx="144360" cy="144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050920" y="4014720"/>
              <a:ext cx="3097440" cy="2160720"/>
              <a:chOff x="2050920" y="4014720"/>
              <a:chExt cx="3097440" cy="2160720"/>
            </a:xfrm>
          </p:grpSpPr>
          <p:sp>
            <p:nvSpPr>
              <p:cNvPr id="108" name=""/>
              <p:cNvSpPr/>
              <p:nvPr/>
            </p:nvSpPr>
            <p:spPr>
              <a:xfrm>
                <a:off x="2050920" y="4662360"/>
                <a:ext cx="266544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56000" y="4014720"/>
                <a:ext cx="259236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27280" y="4157640"/>
                <a:ext cx="2278080" cy="1319400"/>
              </a:xfrm>
              <a:custGeom>
                <a:avLst/>
                <a:gdLst/>
                <a:ahLst/>
                <a:rect l="l" t="t" r="r" b="b"/>
                <a:pathLst>
                  <a:path w="1739" h="1005">
                    <a:moveTo>
                      <a:pt x="0" y="0"/>
                    </a:moveTo>
                    <a:cubicBezTo>
                      <a:pt x="11" y="32"/>
                      <a:pt x="19" y="75"/>
                      <a:pt x="45" y="101"/>
                    </a:cubicBezTo>
                    <a:cubicBezTo>
                      <a:pt x="106" y="162"/>
                      <a:pt x="229" y="162"/>
                      <a:pt x="305" y="169"/>
                    </a:cubicBezTo>
                    <a:cubicBezTo>
                      <a:pt x="336" y="190"/>
                      <a:pt x="384" y="261"/>
                      <a:pt x="395" y="293"/>
                    </a:cubicBezTo>
                    <a:cubicBezTo>
                      <a:pt x="404" y="319"/>
                      <a:pt x="409" y="340"/>
                      <a:pt x="429" y="361"/>
                    </a:cubicBezTo>
                    <a:cubicBezTo>
                      <a:pt x="491" y="424"/>
                      <a:pt x="632" y="413"/>
                      <a:pt x="700" y="418"/>
                    </a:cubicBezTo>
                    <a:cubicBezTo>
                      <a:pt x="725" y="426"/>
                      <a:pt x="749" y="430"/>
                      <a:pt x="768" y="452"/>
                    </a:cubicBezTo>
                    <a:cubicBezTo>
                      <a:pt x="825" y="517"/>
                      <a:pt x="805" y="566"/>
                      <a:pt x="870" y="610"/>
                    </a:cubicBezTo>
                    <a:cubicBezTo>
                      <a:pt x="905" y="719"/>
                      <a:pt x="1142" y="686"/>
                      <a:pt x="1197" y="689"/>
                    </a:cubicBezTo>
                    <a:cubicBezTo>
                      <a:pt x="1304" y="724"/>
                      <a:pt x="1316" y="913"/>
                      <a:pt x="1423" y="948"/>
                    </a:cubicBezTo>
                    <a:cubicBezTo>
                      <a:pt x="1491" y="994"/>
                      <a:pt x="1425" y="960"/>
                      <a:pt x="1547" y="960"/>
                    </a:cubicBezTo>
                    <a:cubicBezTo>
                      <a:pt x="1592" y="960"/>
                      <a:pt x="1638" y="967"/>
                      <a:pt x="1683" y="971"/>
                    </a:cubicBezTo>
                    <a:cubicBezTo>
                      <a:pt x="1727" y="985"/>
                      <a:pt x="1709" y="973"/>
                      <a:pt x="1739" y="100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84360" y="4375080"/>
                <a:ext cx="2374920" cy="1366920"/>
              </a:xfrm>
              <a:custGeom>
                <a:avLst/>
                <a:gdLst/>
                <a:ahLst/>
                <a:rect l="l" t="t" r="r" b="b"/>
                <a:pathLst>
                  <a:path w="1603" h="1005">
                    <a:moveTo>
                      <a:pt x="0" y="0"/>
                    </a:moveTo>
                    <a:cubicBezTo>
                      <a:pt x="7" y="11"/>
                      <a:pt x="13" y="24"/>
                      <a:pt x="22" y="34"/>
                    </a:cubicBezTo>
                    <a:cubicBezTo>
                      <a:pt x="32" y="44"/>
                      <a:pt x="48" y="46"/>
                      <a:pt x="56" y="57"/>
                    </a:cubicBezTo>
                    <a:cubicBezTo>
                      <a:pt x="116" y="133"/>
                      <a:pt x="6" y="52"/>
                      <a:pt x="101" y="113"/>
                    </a:cubicBezTo>
                    <a:cubicBezTo>
                      <a:pt x="172" y="218"/>
                      <a:pt x="235" y="195"/>
                      <a:pt x="361" y="204"/>
                    </a:cubicBezTo>
                    <a:cubicBezTo>
                      <a:pt x="376" y="226"/>
                      <a:pt x="397" y="246"/>
                      <a:pt x="406" y="271"/>
                    </a:cubicBezTo>
                    <a:cubicBezTo>
                      <a:pt x="433" y="352"/>
                      <a:pt x="409" y="326"/>
                      <a:pt x="463" y="362"/>
                    </a:cubicBezTo>
                    <a:cubicBezTo>
                      <a:pt x="490" y="445"/>
                      <a:pt x="573" y="434"/>
                      <a:pt x="643" y="452"/>
                    </a:cubicBezTo>
                    <a:cubicBezTo>
                      <a:pt x="666" y="458"/>
                      <a:pt x="688" y="467"/>
                      <a:pt x="711" y="475"/>
                    </a:cubicBezTo>
                    <a:cubicBezTo>
                      <a:pt x="722" y="479"/>
                      <a:pt x="745" y="486"/>
                      <a:pt x="745" y="486"/>
                    </a:cubicBezTo>
                    <a:cubicBezTo>
                      <a:pt x="756" y="494"/>
                      <a:pt x="770" y="498"/>
                      <a:pt x="779" y="509"/>
                    </a:cubicBezTo>
                    <a:cubicBezTo>
                      <a:pt x="825" y="567"/>
                      <a:pt x="747" y="519"/>
                      <a:pt x="813" y="576"/>
                    </a:cubicBezTo>
                    <a:cubicBezTo>
                      <a:pt x="864" y="620"/>
                      <a:pt x="946" y="677"/>
                      <a:pt x="1016" y="689"/>
                    </a:cubicBezTo>
                    <a:cubicBezTo>
                      <a:pt x="1058" y="696"/>
                      <a:pt x="1089" y="700"/>
                      <a:pt x="1129" y="712"/>
                    </a:cubicBezTo>
                    <a:cubicBezTo>
                      <a:pt x="1152" y="719"/>
                      <a:pt x="1197" y="734"/>
                      <a:pt x="1197" y="734"/>
                    </a:cubicBezTo>
                    <a:cubicBezTo>
                      <a:pt x="1212" y="757"/>
                      <a:pt x="1227" y="779"/>
                      <a:pt x="1242" y="802"/>
                    </a:cubicBezTo>
                    <a:cubicBezTo>
                      <a:pt x="1257" y="825"/>
                      <a:pt x="1310" y="847"/>
                      <a:pt x="1310" y="847"/>
                    </a:cubicBezTo>
                    <a:cubicBezTo>
                      <a:pt x="1349" y="908"/>
                      <a:pt x="1310" y="861"/>
                      <a:pt x="1366" y="893"/>
                    </a:cubicBezTo>
                    <a:cubicBezTo>
                      <a:pt x="1390" y="906"/>
                      <a:pt x="1408" y="930"/>
                      <a:pt x="1434" y="938"/>
                    </a:cubicBezTo>
                    <a:cubicBezTo>
                      <a:pt x="1457" y="945"/>
                      <a:pt x="1479" y="952"/>
                      <a:pt x="1502" y="960"/>
                    </a:cubicBezTo>
                    <a:cubicBezTo>
                      <a:pt x="1513" y="964"/>
                      <a:pt x="1525" y="968"/>
                      <a:pt x="1536" y="972"/>
                    </a:cubicBezTo>
                    <a:cubicBezTo>
                      <a:pt x="1556" y="979"/>
                      <a:pt x="1603" y="979"/>
                      <a:pt x="1603" y="100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40000" y="4654440"/>
                <a:ext cx="2592360" cy="1376640"/>
              </a:xfrm>
              <a:custGeom>
                <a:avLst/>
                <a:gdLst/>
                <a:ahLst/>
                <a:rect l="l" t="t" r="r" b="b"/>
                <a:pathLst>
                  <a:path w="1542" h="826">
                    <a:moveTo>
                      <a:pt x="6" y="0"/>
                    </a:moveTo>
                    <a:cubicBezTo>
                      <a:pt x="27" y="65"/>
                      <a:pt x="0" y="6"/>
                      <a:pt x="51" y="57"/>
                    </a:cubicBezTo>
                    <a:cubicBezTo>
                      <a:pt x="126" y="132"/>
                      <a:pt x="15" y="51"/>
                      <a:pt x="107" y="113"/>
                    </a:cubicBezTo>
                    <a:cubicBezTo>
                      <a:pt x="152" y="179"/>
                      <a:pt x="180" y="156"/>
                      <a:pt x="265" y="147"/>
                    </a:cubicBezTo>
                    <a:cubicBezTo>
                      <a:pt x="303" y="151"/>
                      <a:pt x="341" y="149"/>
                      <a:pt x="378" y="158"/>
                    </a:cubicBezTo>
                    <a:cubicBezTo>
                      <a:pt x="424" y="169"/>
                      <a:pt x="406" y="185"/>
                      <a:pt x="423" y="215"/>
                    </a:cubicBezTo>
                    <a:cubicBezTo>
                      <a:pt x="464" y="287"/>
                      <a:pt x="449" y="275"/>
                      <a:pt x="502" y="294"/>
                    </a:cubicBezTo>
                    <a:cubicBezTo>
                      <a:pt x="551" y="366"/>
                      <a:pt x="625" y="373"/>
                      <a:pt x="706" y="384"/>
                    </a:cubicBezTo>
                    <a:cubicBezTo>
                      <a:pt x="771" y="405"/>
                      <a:pt x="778" y="440"/>
                      <a:pt x="830" y="474"/>
                    </a:cubicBezTo>
                    <a:cubicBezTo>
                      <a:pt x="851" y="539"/>
                      <a:pt x="824" y="480"/>
                      <a:pt x="875" y="531"/>
                    </a:cubicBezTo>
                    <a:cubicBezTo>
                      <a:pt x="885" y="541"/>
                      <a:pt x="888" y="555"/>
                      <a:pt x="898" y="565"/>
                    </a:cubicBezTo>
                    <a:cubicBezTo>
                      <a:pt x="962" y="628"/>
                      <a:pt x="1098" y="616"/>
                      <a:pt x="1169" y="621"/>
                    </a:cubicBezTo>
                    <a:cubicBezTo>
                      <a:pt x="1206" y="646"/>
                      <a:pt x="1222" y="676"/>
                      <a:pt x="1259" y="700"/>
                    </a:cubicBezTo>
                    <a:cubicBezTo>
                      <a:pt x="1267" y="711"/>
                      <a:pt x="1272" y="725"/>
                      <a:pt x="1282" y="734"/>
                    </a:cubicBezTo>
                    <a:cubicBezTo>
                      <a:pt x="1303" y="752"/>
                      <a:pt x="1350" y="779"/>
                      <a:pt x="1350" y="779"/>
                    </a:cubicBezTo>
                    <a:cubicBezTo>
                      <a:pt x="1357" y="790"/>
                      <a:pt x="1359" y="811"/>
                      <a:pt x="1372" y="813"/>
                    </a:cubicBezTo>
                    <a:cubicBezTo>
                      <a:pt x="1449" y="826"/>
                      <a:pt x="1477" y="791"/>
                      <a:pt x="1542" y="79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219320" y="59277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99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7998800">
            <a:off x="2179440" y="4381200"/>
            <a:ext cx="1752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4076640"/>
            <a:ext cx="40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7640" y="4545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4176720" cy="29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89000"/>
            <a:ext cx="9829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一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线，垂足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线，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大小关系，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427640" y="2781360"/>
            <a:ext cx="504720" cy="2160360"/>
            <a:chOff x="4427640" y="2781360"/>
            <a:chExt cx="504720" cy="2160360"/>
          </a:xfrm>
        </p:grpSpPr>
        <p:sp>
          <p:nvSpPr>
            <p:cNvPr id="120" name=""/>
            <p:cNvSpPr/>
            <p:nvPr/>
          </p:nvSpPr>
          <p:spPr>
            <a:xfrm>
              <a:off x="4716360" y="2781360"/>
              <a:ext cx="0" cy="21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16360" y="4221000"/>
              <a:ext cx="216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32360" y="4221000"/>
              <a:ext cx="0" cy="217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27640" y="4365720"/>
              <a:ext cx="2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00720" y="2924280"/>
            <a:ext cx="2735280" cy="1871640"/>
            <a:chOff x="4500720" y="2924280"/>
            <a:chExt cx="2735280" cy="1871640"/>
          </a:xfrm>
        </p:grpSpPr>
        <p:sp>
          <p:nvSpPr>
            <p:cNvPr id="125" name=""/>
            <p:cNvSpPr/>
            <p:nvPr/>
          </p:nvSpPr>
          <p:spPr>
            <a:xfrm>
              <a:off x="4500720" y="2924280"/>
              <a:ext cx="1223640" cy="187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59280" y="3213000"/>
              <a:ext cx="14436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859280" y="3357720"/>
              <a:ext cx="144360" cy="14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35640" y="40766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348000" y="3068640"/>
            <a:ext cx="5796000" cy="1736640"/>
            <a:chOff x="3348000" y="3068640"/>
            <a:chExt cx="5796000" cy="17366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348000" y="3068640"/>
              <a:ext cx="350532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6840360" y="443700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0920" y="404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堂反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197000"/>
            <a:ext cx="8064360" cy="249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到直线的距离是指这点到这条直线的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垂线段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垂线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垂线的长度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垂线段的长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如图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O⊥OR,OQ⊥PR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能表示点到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线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距离的线段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1311480" cy="2089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1280" y="5157720"/>
            <a:ext cx="82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一点，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，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=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则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距离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       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小于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      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大于等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        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小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72360" y="119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859280" y="3429000"/>
            <a:ext cx="1944720" cy="1531080"/>
            <a:chOff x="4859280" y="3429000"/>
            <a:chExt cx="1944720" cy="1531080"/>
          </a:xfrm>
        </p:grpSpPr>
        <p:sp>
          <p:nvSpPr>
            <p:cNvPr id="139" name=""/>
            <p:cNvSpPr/>
            <p:nvPr/>
          </p:nvSpPr>
          <p:spPr>
            <a:xfrm>
              <a:off x="5003640" y="3429000"/>
              <a:ext cx="0" cy="1224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59280" y="4653000"/>
              <a:ext cx="194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4653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8360" y="5157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1:10:07Z</dcterms:created>
  <dc:creator>User</dc:creator>
  <dc:description/>
  <dc:language>en-US</dc:language>
  <cp:lastModifiedBy>User</cp:lastModifiedBy>
  <dcterms:modified xsi:type="dcterms:W3CDTF">2014-12-24T14:23:00Z</dcterms:modified>
  <cp:revision>7</cp:revision>
  <dc:subject/>
  <dc:title>幻灯片 1</dc:title>
</cp:coreProperties>
</file>