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9.wmf" ContentType="image/x-wmf"/>
  <Override PartName="/ppt/media/image12.gif" ContentType="image/gif"/>
  <Override PartName="/ppt/media/image3.jpeg" ContentType="image/jpeg"/>
  <Override PartName="/ppt/media/image15.png" ContentType="image/png"/>
  <Override PartName="/ppt/media/image7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24.wmf" ContentType="image/x-wmf"/>
  <Override PartName="/ppt/media/image4.gif" ContentType="image/gif"/>
  <Override PartName="/ppt/media/image22.gif" ContentType="image/gif"/>
  <Override PartName="/ppt/media/image17.jpeg" ContentType="image/jpeg"/>
  <Override PartName="/ppt/media/image14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.png" ContentType="image/png"/>
  <Override PartName="/ppt/media/image11.jpeg" ContentType="image/jpeg"/>
  <Override PartName="/ppt/media/image2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311FA-AB84-4669-8EC7-1CDACD1F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8E764-6222-4898-A803-4C89E4E9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51D8B-E3A8-4167-A472-64355F8F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8C6C4-E94A-4C95-B703-1050FEF4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75CB0-9804-4C8F-8883-D29072CF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1BF2D-2A4C-4CDD-B765-2BCCAE1C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11139-AE4F-4E56-A8FF-71F01185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2BDC8-AC06-482C-8022-712E3CA4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E2399-40AC-485C-B1BE-82B8869A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C77A3-2AD9-414F-89BD-9BDC11BC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89A25-419C-4E81-98F8-E4120139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165CF-DC75-4F30-A175-F09A658F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E872A-16B4-4232-8C56-2D471D55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EF30E-83E4-44F9-9975-F059B149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1680E-A228-49DB-8AE6-EA7920D6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AC1EC-DCC2-4160-87B6-5F2765D8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8826A-5A1B-4252-B914-14DAF59B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BB06D-7D7C-4A8D-8F45-8E7AE4DE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05257-C140-4BBE-A702-DB5F9D68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24448-0ABB-4B27-97A8-EA52FBEB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AD56B-3CD1-455A-BD68-AE0F5F67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A34DA-EE0B-4B42-BDFC-5C06333A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D822E-5147-4565-ADDC-E5553DD2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A8CECC-5EF4-4B63-916C-B879AB41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8280" y="34920"/>
            <a:ext cx="192240" cy="193680"/>
          </a:xfrm>
          <a:custGeom>
            <a:avLst/>
            <a:gdLst/>
            <a:ahLst/>
            <a:rect l="l" t="t" r="r" b="b"/>
            <a:pathLst>
              <a:path w="121" h="122">
                <a:moveTo>
                  <a:pt x="62" y="0"/>
                </a:moveTo>
                <a:lnTo>
                  <a:pt x="61" y="0"/>
                </a:lnTo>
                <a:lnTo>
                  <a:pt x="61" y="0"/>
                </a:lnTo>
                <a:lnTo>
                  <a:pt x="49" y="1"/>
                </a:lnTo>
                <a:lnTo>
                  <a:pt x="37" y="5"/>
                </a:lnTo>
                <a:lnTo>
                  <a:pt x="27" y="10"/>
                </a:lnTo>
                <a:lnTo>
                  <a:pt x="18" y="18"/>
                </a:lnTo>
                <a:lnTo>
                  <a:pt x="10" y="27"/>
                </a:lnTo>
                <a:lnTo>
                  <a:pt x="5" y="37"/>
                </a:lnTo>
                <a:lnTo>
                  <a:pt x="1" y="49"/>
                </a:lnTo>
                <a:lnTo>
                  <a:pt x="0" y="61"/>
                </a:lnTo>
                <a:lnTo>
                  <a:pt x="1" y="73"/>
                </a:lnTo>
                <a:lnTo>
                  <a:pt x="5" y="85"/>
                </a:lnTo>
                <a:lnTo>
                  <a:pt x="10" y="95"/>
                </a:lnTo>
                <a:lnTo>
                  <a:pt x="18" y="104"/>
                </a:lnTo>
                <a:lnTo>
                  <a:pt x="27" y="112"/>
                </a:lnTo>
                <a:lnTo>
                  <a:pt x="37" y="117"/>
                </a:lnTo>
                <a:lnTo>
                  <a:pt x="49" y="121"/>
                </a:lnTo>
                <a:lnTo>
                  <a:pt x="61" y="122"/>
                </a:lnTo>
                <a:lnTo>
                  <a:pt x="73" y="121"/>
                </a:lnTo>
                <a:lnTo>
                  <a:pt x="84" y="117"/>
                </a:lnTo>
                <a:lnTo>
                  <a:pt x="94" y="112"/>
                </a:lnTo>
                <a:lnTo>
                  <a:pt x="103" y="104"/>
                </a:lnTo>
                <a:lnTo>
                  <a:pt x="110" y="96"/>
                </a:lnTo>
                <a:lnTo>
                  <a:pt x="116" y="85"/>
                </a:lnTo>
                <a:lnTo>
                  <a:pt x="119" y="74"/>
                </a:lnTo>
                <a:lnTo>
                  <a:pt x="121" y="62"/>
                </a:lnTo>
              </a:path>
            </a:pathLst>
          </a:custGeom>
          <a:noFill/>
          <a:ln w="93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133200"/>
            <a:ext cx="23464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3680" y="38160"/>
            <a:ext cx="0" cy="10825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229600" y="214200"/>
            <a:ext cx="784080" cy="700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6600" y="65214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建湖县建阳中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1160640" y="5879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6867360" y="4266720"/>
            <a:ext cx="2276280" cy="2324160"/>
            <a:chOff x="6867360" y="4266720"/>
            <a:chExt cx="2276280" cy="2324160"/>
          </a:xfrm>
        </p:grpSpPr>
        <p:sp>
          <p:nvSpPr>
            <p:cNvPr id="8" name=""/>
            <p:cNvSpPr/>
            <p:nvPr/>
          </p:nvSpPr>
          <p:spPr>
            <a:xfrm flipV="1">
              <a:off x="6867360" y="6491160"/>
              <a:ext cx="2276280" cy="79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8943480" y="4266720"/>
              <a:ext cx="6120" cy="2320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51680" y="6397200"/>
              <a:ext cx="191880" cy="19368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59" y="122"/>
                  </a:moveTo>
                  <a:lnTo>
                    <a:pt x="60" y="122"/>
                  </a:lnTo>
                  <a:lnTo>
                    <a:pt x="61" y="122"/>
                  </a:lnTo>
                  <a:lnTo>
                    <a:pt x="73" y="121"/>
                  </a:lnTo>
                  <a:lnTo>
                    <a:pt x="84" y="117"/>
                  </a:lnTo>
                  <a:lnTo>
                    <a:pt x="95" y="112"/>
                  </a:lnTo>
                  <a:lnTo>
                    <a:pt x="103" y="104"/>
                  </a:lnTo>
                  <a:lnTo>
                    <a:pt x="111" y="95"/>
                  </a:lnTo>
                  <a:lnTo>
                    <a:pt x="116" y="85"/>
                  </a:lnTo>
                  <a:lnTo>
                    <a:pt x="120" y="73"/>
                  </a:lnTo>
                  <a:lnTo>
                    <a:pt x="121" y="61"/>
                  </a:lnTo>
                  <a:lnTo>
                    <a:pt x="120" y="49"/>
                  </a:lnTo>
                  <a:lnTo>
                    <a:pt x="116" y="37"/>
                  </a:lnTo>
                  <a:lnTo>
                    <a:pt x="111" y="27"/>
                  </a:lnTo>
                  <a:lnTo>
                    <a:pt x="103" y="18"/>
                  </a:lnTo>
                  <a:lnTo>
                    <a:pt x="94" y="10"/>
                  </a:lnTo>
                  <a:lnTo>
                    <a:pt x="84" y="5"/>
                  </a:lnTo>
                  <a:lnTo>
                    <a:pt x="72" y="1"/>
                  </a:lnTo>
                  <a:lnTo>
                    <a:pt x="60" y="0"/>
                  </a:lnTo>
                  <a:lnTo>
                    <a:pt x="48" y="1"/>
                  </a:lnTo>
                  <a:lnTo>
                    <a:pt x="37" y="5"/>
                  </a:lnTo>
                  <a:lnTo>
                    <a:pt x="27" y="10"/>
                  </a:lnTo>
                  <a:lnTo>
                    <a:pt x="18" y="18"/>
                  </a:lnTo>
                  <a:lnTo>
                    <a:pt x="11" y="27"/>
                  </a:lnTo>
                  <a:lnTo>
                    <a:pt x="5" y="37"/>
                  </a:lnTo>
                  <a:lnTo>
                    <a:pt x="2" y="48"/>
                  </a:lnTo>
                  <a:lnTo>
                    <a:pt x="0" y="60"/>
                  </a:lnTo>
                </a:path>
              </a:pathLst>
            </a:cu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152280" y="1522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.1</a:t>
            </a:r>
            <a:r>
              <a:rPr b="1" lang="zh-CN" sz="1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图形的旋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F143-9EB5-4479-B393-0407CF83A8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93F1-3E76-464D-B5D9-E5DD16980F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25805;&#20316;1.gsp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25805;&#20316;1.gsp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18328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686800" cy="6296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600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29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日上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时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05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分“神九” 圆满返回，天宫与神九载人交会对接为中国航天史上掀开极具突破性的一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19320" y="4724280"/>
            <a:ext cx="73911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“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神九”飞船在太空中遨游的时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它的运动给你印象深刻的是什么呢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62120" y="838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如图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正方形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ABCD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中，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E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是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AD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上一点，将△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CDE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逆时针旋转后得到△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CB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21440" y="54133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64280" y="2808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700360" y="2820960"/>
            <a:ext cx="2592360" cy="3234960"/>
            <a:chOff x="2700360" y="2820960"/>
            <a:chExt cx="2592360" cy="3234960"/>
          </a:xfrm>
        </p:grpSpPr>
        <p:sp>
          <p:nvSpPr>
            <p:cNvPr id="196" name=""/>
            <p:cNvSpPr/>
            <p:nvPr/>
          </p:nvSpPr>
          <p:spPr>
            <a:xfrm>
              <a:off x="2857680" y="541332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32360" y="3325680"/>
              <a:ext cx="2160360" cy="2160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132000" y="3325680"/>
              <a:ext cx="216036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72000" y="282096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00360" y="383076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292720" y="548784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7120" y="3313080"/>
            <a:ext cx="934920" cy="2198880"/>
          </a:xfrm>
          <a:custGeom>
            <a:avLst/>
            <a:gdLst/>
            <a:ahLst/>
            <a:rect l="l" t="t" r="r" b="b"/>
            <a:pathLst>
              <a:path w="589" h="1385">
                <a:moveTo>
                  <a:pt x="0" y="0"/>
                </a:moveTo>
                <a:lnTo>
                  <a:pt x="589" y="13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3520" y="53578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057400"/>
            <a:ext cx="49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旋转中心是哪一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20574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⑵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旋转了多少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0200" y="20574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⑶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连结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EM,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那么△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CEM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是怎样的三角形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32000" y="4183200"/>
            <a:ext cx="3097440" cy="1295280"/>
          </a:xfrm>
          <a:prstGeom prst="line">
            <a:avLst/>
          </a:prstGeom>
          <a:ln w="4428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7720"/>
            <a:ext cx="2376360" cy="70344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随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50920" y="738000"/>
            <a:ext cx="878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    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如图，如果正方形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CDEF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旋转后能与正方形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ABCD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重合，那么图形所在的平面上可以作为旋转中心的点共有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______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个</a:t>
            </a:r>
            <a:r>
              <a:rPr b="1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.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216720"/>
            <a:ext cx="2376360" cy="70344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随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4248000" cy="29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19320" cy="6094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04920" y="4419720"/>
            <a:ext cx="68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⑸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连接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A’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线段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A’B’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就是线段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绕点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按逆时针方向旋转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00°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后的对应线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52760" y="2476800"/>
            <a:ext cx="4267440" cy="426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72" y="2433"/>
                </a:moveTo>
                <a:arcTo wR="10800" hR="10800" stAng="-7753056" swAng="985265"/>
                <a:lnTo>
                  <a:pt x="10800" y="10800"/>
                </a:lnTo>
                <a:close/>
              </a:path>
              <a:path fill="none" w="21600" h="21600">
                <a:moveTo>
                  <a:pt x="3972" y="2433"/>
                </a:moveTo>
                <a:arcTo wR="10800" hR="10800" stAng="-7753056" swAng="985265"/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24440" y="3048840"/>
            <a:ext cx="3123720" cy="312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56" y="535"/>
                </a:moveTo>
                <a:arcTo wR="10800" hR="10800" stAng="-4313774" swAng="1288753"/>
                <a:lnTo>
                  <a:pt x="10800" y="10800"/>
                </a:lnTo>
                <a:close/>
              </a:path>
              <a:path fill="none" w="21600" h="21600">
                <a:moveTo>
                  <a:pt x="14156" y="535"/>
                </a:moveTo>
                <a:arcTo wR="10800" hR="10800" stAng="-4313774" swAng="1288753"/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705800" y="3809880"/>
            <a:ext cx="761760" cy="1781280"/>
          </a:xfrm>
          <a:prstGeom prst="line">
            <a:avLst/>
          </a:prstGeom>
          <a:ln w="47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53200" y="2800440"/>
            <a:ext cx="1885680" cy="438120"/>
          </a:xfrm>
          <a:prstGeom prst="line">
            <a:avLst/>
          </a:prstGeom>
          <a:ln w="47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86480" y="4610160"/>
            <a:ext cx="1219320" cy="98100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486120" y="3809880"/>
            <a:ext cx="1981080" cy="80028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486480" y="2066760"/>
            <a:ext cx="1400400" cy="254340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1905120"/>
            <a:ext cx="1666800" cy="2676240"/>
          </a:xfrm>
          <a:prstGeom prst="line">
            <a:avLst/>
          </a:prstGeom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219800" y="3219480"/>
            <a:ext cx="47880" cy="47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4320" y="2666880"/>
            <a:ext cx="3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4120" y="2781360"/>
            <a:ext cx="47520" cy="47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97600" y="2847960"/>
            <a:ext cx="34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448840" y="3790800"/>
            <a:ext cx="47520" cy="47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534160" y="3352680"/>
            <a:ext cx="2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86720" y="5572080"/>
            <a:ext cx="47520" cy="475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760880" y="5543640"/>
            <a:ext cx="2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67400" y="4591080"/>
            <a:ext cx="47880" cy="475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4572000"/>
            <a:ext cx="355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19000" y="198108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848000" y="228600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984600">
            <a:off x="6065640" y="4243320"/>
            <a:ext cx="609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46" y="1661"/>
                </a:moveTo>
                <a:arcTo wR="10800" hR="10800" stAng="-7331744" swAng="6023660"/>
                <a:lnTo>
                  <a:pt x="10800" y="10800"/>
                </a:lnTo>
                <a:close/>
              </a:path>
              <a:path fill="none" w="21600" h="21600">
                <a:moveTo>
                  <a:pt x="5046" y="1661"/>
                </a:moveTo>
                <a:arcTo wR="10800" hR="10800" stAng="-7331744" swAng="6023660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58080" y="4214880"/>
            <a:ext cx="837720" cy="83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024" y="1347"/>
                </a:moveTo>
                <a:arcTo wR="10800" hR="10800" stAng="-3664415" swAng="5971637"/>
                <a:lnTo>
                  <a:pt x="10800" y="10800"/>
                </a:lnTo>
                <a:close/>
              </a:path>
              <a:path fill="none" w="21600" h="21600">
                <a:moveTo>
                  <a:pt x="16024" y="1347"/>
                </a:moveTo>
                <a:arcTo wR="10800" hR="10800" stAng="-3664415" swAng="5971637"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83808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已知线段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和点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O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，画出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绕点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O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逆时针旋转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100°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后的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19051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⑴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连接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2362320"/>
            <a:ext cx="31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⑵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作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AOC=100°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在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OC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上截取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OA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Arial"/>
              </a:rPr>
              <a:t>'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=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354348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⑷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作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BOD=100°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在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O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上截取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O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Arial"/>
              </a:rPr>
              <a:t>'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=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31240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⑶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连接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5805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注：作旋转后的图形可以转化为作旋转后的对应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08240" y="476280"/>
            <a:ext cx="693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出将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绕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按逆时针方向旋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的对应三角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411280" y="1628640"/>
            <a:ext cx="3917880" cy="2752560"/>
            <a:chOff x="2411280" y="1628640"/>
            <a:chExt cx="3917880" cy="2752560"/>
          </a:xfrm>
        </p:grpSpPr>
        <p:sp>
          <p:nvSpPr>
            <p:cNvPr id="244" name=""/>
            <p:cNvSpPr/>
            <p:nvPr/>
          </p:nvSpPr>
          <p:spPr>
            <a:xfrm>
              <a:off x="2842920" y="2276280"/>
              <a:ext cx="2819520" cy="1600200"/>
            </a:xfrm>
            <a:prstGeom prst="triangle">
              <a:avLst>
                <a:gd name="adj" fmla="val 32093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11280" y="38606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35280" y="16286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95640" y="34290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 flipH="1">
            <a:off x="5148360" y="3789360"/>
            <a:ext cx="503280" cy="28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9726000">
            <a:off x="5283360" y="3286800"/>
            <a:ext cx="430560" cy="86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600" y="2751"/>
                </a:moveTo>
                <a:arcTo wR="10800" hR="10800" stAng="-7908799" swAng="6706970"/>
                <a:lnTo>
                  <a:pt x="10800" y="10800"/>
                </a:lnTo>
                <a:close/>
              </a:path>
              <a:path fill="none" w="21600" h="21600">
                <a:moveTo>
                  <a:pt x="3600" y="2751"/>
                </a:moveTo>
                <a:arcTo wR="10800" hR="10800" stAng="-7908799" swAng="670697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5950080"/>
            <a:ext cx="21564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51640" y="3860640"/>
            <a:ext cx="1801800" cy="2592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020000" y="5876640"/>
            <a:ext cx="2872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219640" y="595008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43280" y="580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80360" y="580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292360" y="3860640"/>
            <a:ext cx="358920" cy="21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3860640"/>
            <a:ext cx="1512720" cy="21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4221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8288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0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7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24000" y="25920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如图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画出△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ABC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绕点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按逆时针方向旋转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90</a:t>
            </a:r>
            <a:r>
              <a:rPr b="1" lang="zh-CN" sz="40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后的对应三角形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750840" y="4105440"/>
            <a:ext cx="2346840" cy="1892160"/>
            <a:chOff x="3750840" y="4105440"/>
            <a:chExt cx="2346840" cy="1892160"/>
          </a:xfrm>
        </p:grpSpPr>
        <p:sp>
          <p:nvSpPr>
            <p:cNvPr id="262" name=""/>
            <p:cNvSpPr/>
            <p:nvPr/>
          </p:nvSpPr>
          <p:spPr>
            <a:xfrm>
              <a:off x="6095880" y="4105440"/>
              <a:ext cx="1800" cy="1892160"/>
            </a:xfrm>
            <a:prstGeom prst="line">
              <a:avLst/>
            </a:prstGeom>
            <a:ln w="42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51200" y="4713480"/>
              <a:ext cx="2344680" cy="1284120"/>
            </a:xfrm>
            <a:prstGeom prst="line">
              <a:avLst/>
            </a:prstGeom>
            <a:ln w="42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3750840" y="4105440"/>
              <a:ext cx="2344680" cy="608040"/>
            </a:xfrm>
            <a:prstGeom prst="line">
              <a:avLst/>
            </a:prstGeom>
            <a:ln w="42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441320" y="5286240"/>
            <a:ext cx="481320" cy="511920"/>
            <a:chOff x="4441320" y="5286240"/>
            <a:chExt cx="481320" cy="511920"/>
          </a:xfrm>
        </p:grpSpPr>
        <p:sp>
          <p:nvSpPr>
            <p:cNvPr id="266" name=""/>
            <p:cNvSpPr/>
            <p:nvPr/>
          </p:nvSpPr>
          <p:spPr>
            <a:xfrm>
              <a:off x="4851360" y="5286240"/>
              <a:ext cx="71280" cy="712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41320" y="5386320"/>
              <a:ext cx="3297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D'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717520" y="3664080"/>
            <a:ext cx="396000" cy="480960"/>
            <a:chOff x="5717520" y="3664080"/>
            <a:chExt cx="396000" cy="480960"/>
          </a:xfrm>
        </p:grpSpPr>
        <p:sp>
          <p:nvSpPr>
            <p:cNvPr id="269" name=""/>
            <p:cNvSpPr/>
            <p:nvPr/>
          </p:nvSpPr>
          <p:spPr>
            <a:xfrm>
              <a:off x="6041880" y="4073400"/>
              <a:ext cx="71640" cy="716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17520" y="3664080"/>
              <a:ext cx="3297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B'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411960" y="4483080"/>
            <a:ext cx="352440" cy="411840"/>
            <a:chOff x="6411960" y="4483080"/>
            <a:chExt cx="352440" cy="411840"/>
          </a:xfrm>
        </p:grpSpPr>
        <p:sp>
          <p:nvSpPr>
            <p:cNvPr id="272" name=""/>
            <p:cNvSpPr/>
            <p:nvPr/>
          </p:nvSpPr>
          <p:spPr>
            <a:xfrm>
              <a:off x="6694560" y="4794120"/>
              <a:ext cx="69840" cy="716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11960" y="44830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818320" y="3213000"/>
            <a:ext cx="2457360" cy="3094920"/>
            <a:chOff x="5818320" y="3213000"/>
            <a:chExt cx="2457360" cy="3094920"/>
          </a:xfrm>
        </p:grpSpPr>
        <p:sp>
          <p:nvSpPr>
            <p:cNvPr id="275" name=""/>
            <p:cNvSpPr/>
            <p:nvPr/>
          </p:nvSpPr>
          <p:spPr>
            <a:xfrm>
              <a:off x="6100920" y="5994360"/>
              <a:ext cx="1892160" cy="180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100560" y="3649680"/>
              <a:ext cx="1285560" cy="23446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386480" y="3649680"/>
              <a:ext cx="606600" cy="2344680"/>
            </a:xfrm>
            <a:prstGeom prst="line">
              <a:avLst/>
            </a:prstGeom>
            <a:ln w="42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18320" y="589608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28000" y="587700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36000" y="3213000"/>
              <a:ext cx="2476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492000" y="4221000"/>
            <a:ext cx="343080" cy="511200"/>
            <a:chOff x="3492000" y="4221000"/>
            <a:chExt cx="343080" cy="511200"/>
          </a:xfrm>
        </p:grpSpPr>
        <p:sp>
          <p:nvSpPr>
            <p:cNvPr id="282" name=""/>
            <p:cNvSpPr/>
            <p:nvPr/>
          </p:nvSpPr>
          <p:spPr>
            <a:xfrm>
              <a:off x="3492000" y="4221000"/>
              <a:ext cx="3297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63800" y="4660560"/>
              <a:ext cx="71280" cy="716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 flipV="1">
            <a:off x="6084720" y="4076640"/>
            <a:ext cx="0" cy="18734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80000" y="4724280"/>
            <a:ext cx="2344680" cy="1284480"/>
          </a:xfrm>
          <a:prstGeom prst="line">
            <a:avLst/>
          </a:prstGeom>
          <a:ln w="428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4000" y="2033640"/>
            <a:ext cx="86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⑵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如果点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AC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的中点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那么经过上述旋转后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点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旋转到什么位置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请在图中将点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的对应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D′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表示出来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208620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⑶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如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AD=1cm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那么点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旋转过的路径是多少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828800" cy="8398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438280" y="152280"/>
            <a:ext cx="304920" cy="15264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43098" h="21600">
                <a:moveTo>
                  <a:pt x="0" y="0"/>
                </a:moveTo>
                <a:lnTo>
                  <a:pt x="43098" y="0"/>
                </a:lnTo>
                <a:lnTo>
                  <a:pt x="43098" y="21600"/>
                </a:lnTo>
                <a:lnTo>
                  <a:pt x="0" y="21600"/>
                </a:lnTo>
                <a:close/>
              </a:path>
              <a:path fill="lightenLess" w="43098" h="21600">
                <a:moveTo>
                  <a:pt x="0" y="0"/>
                </a:moveTo>
                <a:lnTo>
                  <a:pt x="43098" y="0"/>
                </a:lnTo>
                <a:lnTo>
                  <a:pt x="41698" y="1400"/>
                </a:lnTo>
                <a:lnTo>
                  <a:pt x="1400" y="1400"/>
                </a:lnTo>
                <a:close/>
              </a:path>
              <a:path fill="darken" w="43098" h="21600">
                <a:moveTo>
                  <a:pt x="43098" y="0"/>
                </a:moveTo>
                <a:lnTo>
                  <a:pt x="43098" y="21600"/>
                </a:lnTo>
                <a:lnTo>
                  <a:pt x="41698" y="20200"/>
                </a:lnTo>
                <a:lnTo>
                  <a:pt x="41698" y="1400"/>
                </a:lnTo>
                <a:close/>
              </a:path>
              <a:path fill="darkenLess" w="43098" h="21600">
                <a:moveTo>
                  <a:pt x="43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8" y="20200"/>
                </a:lnTo>
                <a:close/>
              </a:path>
              <a:path fill="lighten" w="43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8" h="21600">
                <a:moveTo>
                  <a:pt x="14543" y="7301"/>
                </a:moveTo>
                <a:lnTo>
                  <a:pt x="15457" y="7301"/>
                </a:lnTo>
                <a:lnTo>
                  <a:pt x="15840" y="7667"/>
                </a:lnTo>
                <a:lnTo>
                  <a:pt x="25048" y="7667"/>
                </a:lnTo>
                <a:lnTo>
                  <a:pt x="25605" y="8224"/>
                </a:lnTo>
                <a:lnTo>
                  <a:pt x="25605" y="8772"/>
                </a:lnTo>
                <a:lnTo>
                  <a:pt x="27450" y="8772"/>
                </a:lnTo>
                <a:lnTo>
                  <a:pt x="27816" y="8224"/>
                </a:lnTo>
                <a:lnTo>
                  <a:pt x="28556" y="8224"/>
                </a:lnTo>
                <a:lnTo>
                  <a:pt x="28556" y="13376"/>
                </a:lnTo>
                <a:lnTo>
                  <a:pt x="27816" y="13376"/>
                </a:lnTo>
                <a:lnTo>
                  <a:pt x="27450" y="12828"/>
                </a:lnTo>
                <a:lnTo>
                  <a:pt x="25605" y="12828"/>
                </a:lnTo>
                <a:lnTo>
                  <a:pt x="25605" y="14107"/>
                </a:lnTo>
                <a:lnTo>
                  <a:pt x="16022" y="14107"/>
                </a:lnTo>
                <a:lnTo>
                  <a:pt x="16022" y="9877"/>
                </a:lnTo>
                <a:lnTo>
                  <a:pt x="15840" y="9877"/>
                </a:lnTo>
                <a:lnTo>
                  <a:pt x="15457" y="10243"/>
                </a:lnTo>
                <a:lnTo>
                  <a:pt x="14543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672160" y="2552040"/>
            <a:ext cx="3619080" cy="360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1" y="13680"/>
                </a:moveTo>
                <a:arcTo wR="10800" hR="10800" stAng="9872043" swAng="1045828"/>
                <a:lnTo>
                  <a:pt x="10800" y="10800"/>
                </a:lnTo>
                <a:close/>
              </a:path>
              <a:path fill="none" w="21600" h="21600">
                <a:moveTo>
                  <a:pt x="391" y="13680"/>
                </a:moveTo>
                <a:arcTo wR="10800" hR="10800" stAng="9872043" swAng="1045828"/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15680" y="969480"/>
            <a:ext cx="3616920" cy="362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123" y="20697"/>
                </a:moveTo>
                <a:arcTo wR="10800" hR="10800" stAng="3984311" swAng="1053256"/>
                <a:lnTo>
                  <a:pt x="10800" y="10800"/>
                </a:lnTo>
                <a:close/>
              </a:path>
              <a:path fill="none" w="21600" h="21600">
                <a:moveTo>
                  <a:pt x="15123" y="20697"/>
                </a:moveTo>
                <a:arcTo wR="10800" hR="10800" stAng="3984311" swAng="1053256"/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14600" y="969840"/>
            <a:ext cx="3619080" cy="361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07" y="8301"/>
                </a:moveTo>
                <a:arcTo wR="10800" hR="10800" stAng="-802712" swAng="1038799"/>
                <a:lnTo>
                  <a:pt x="10800" y="10800"/>
                </a:lnTo>
                <a:close/>
              </a:path>
              <a:path fill="none" w="21600" h="21600">
                <a:moveTo>
                  <a:pt x="21307" y="8301"/>
                </a:moveTo>
                <a:arcTo wR="10800" hR="10800" stAng="-802712" swAng="1038799"/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71800" y="2550960"/>
            <a:ext cx="3620160" cy="361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662" y="824"/>
                </a:moveTo>
                <a:arcTo wR="10800" hR="10800" stAng="-6751896" swAng="989457"/>
                <a:lnTo>
                  <a:pt x="10800" y="10800"/>
                </a:lnTo>
                <a:close/>
              </a:path>
              <a:path fill="none" w="21600" h="21600">
                <a:moveTo>
                  <a:pt x="6662" y="824"/>
                </a:moveTo>
                <a:arcTo wR="10800" hR="10800" stAng="-6751896" swAng="989457"/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01760" y="1728720"/>
            <a:ext cx="3606840" cy="360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780" y="21410"/>
                </a:moveTo>
                <a:arcTo wR="10800" hR="10800" stAng="6046634" swAng="1276576"/>
                <a:lnTo>
                  <a:pt x="10800" y="10800"/>
                </a:lnTo>
                <a:close/>
              </a:path>
              <a:path fill="none" w="21600" h="21600">
                <a:moveTo>
                  <a:pt x="8780" y="21410"/>
                </a:moveTo>
                <a:arcTo wR="10800" hR="10800" stAng="6046634" swAng="1276576"/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072520" y="2179440"/>
            <a:ext cx="3618000" cy="36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07" y="16606"/>
                </a:moveTo>
                <a:arcTo wR="10800" hR="10800" stAng="1951051" swAng="1146309"/>
                <a:lnTo>
                  <a:pt x="10800" y="10800"/>
                </a:lnTo>
                <a:close/>
              </a:path>
              <a:path fill="none" w="21600" h="21600">
                <a:moveTo>
                  <a:pt x="19907" y="16606"/>
                </a:moveTo>
                <a:arcTo wR="10800" hR="10800" stAng="1951051" swAng="1146309"/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62600" y="1731600"/>
            <a:ext cx="3609360" cy="361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71" y="4724"/>
                </a:moveTo>
                <a:arcTo wR="10800" hR="10800" stAng="-8745857" swAng="1030508"/>
                <a:lnTo>
                  <a:pt x="10800" y="10800"/>
                </a:lnTo>
                <a:close/>
              </a:path>
              <a:path fill="none" w="21600" h="21600">
                <a:moveTo>
                  <a:pt x="1871" y="4724"/>
                </a:moveTo>
                <a:arcTo wR="10800" hR="10800" stAng="-8745857" swAng="1030508"/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71800" y="2179440"/>
            <a:ext cx="3619440" cy="36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419" y="322"/>
                </a:moveTo>
                <a:arcTo wR="10800" hR="10800" stAng="-4557826" swAng="978420"/>
                <a:lnTo>
                  <a:pt x="10800" y="10800"/>
                </a:lnTo>
                <a:close/>
              </a:path>
              <a:path fill="none" w="21600" h="21600">
                <a:moveTo>
                  <a:pt x="13419" y="322"/>
                </a:moveTo>
                <a:arcTo wR="10800" hR="10800" stAng="-4557826" swAng="978420"/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881520" y="2779560"/>
            <a:ext cx="1342800" cy="1209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72320" y="3532320"/>
            <a:ext cx="1609560" cy="8190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881520" y="3532320"/>
            <a:ext cx="1990800" cy="4572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24320" y="2779560"/>
            <a:ext cx="2257560" cy="15717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462560" y="1922400"/>
            <a:ext cx="3038400" cy="4343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43480" y="1874880"/>
            <a:ext cx="981000" cy="429588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462800" y="4332240"/>
            <a:ext cx="47520" cy="475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853240" y="3513240"/>
            <a:ext cx="47520" cy="475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62440" y="3970440"/>
            <a:ext cx="47520" cy="475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05240" y="2760840"/>
            <a:ext cx="47880" cy="475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91200" y="5210280"/>
            <a:ext cx="31680" cy="47520"/>
          </a:xfrm>
          <a:prstGeom prst="ellipse">
            <a:avLst/>
          </a:prstGeom>
          <a:solidFill>
            <a:srgbClr val="ff0000"/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00760" y="5362560"/>
            <a:ext cx="279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00560" y="3686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3040" y="22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380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如图：画出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绕点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旋转后，线段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的对应线段是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′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B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′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试确定旋转中心点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的位置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320" y="1905120"/>
            <a:ext cx="31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旋转中心是满足什么样条件的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6320" y="2768760"/>
            <a:ext cx="327636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你能找出到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′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点距离相等的点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你能找出到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′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点距离相等的点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7760" y="469728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你能找出同时满足上面两个条件的点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410080" y="3048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38880" y="4205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B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011320" cy="121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2590920" y="457200"/>
            <a:ext cx="5105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本节课你有什么收获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/>
          <p:nvPr/>
        </p:nvSpPr>
        <p:spPr>
          <a:xfrm>
            <a:off x="581040" y="2046240"/>
            <a:ext cx="3236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752480" y="304920"/>
            <a:ext cx="534960" cy="40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371600" y="990720"/>
            <a:ext cx="7223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图，画出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绕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逆时针旋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的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拓展应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943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6324480" cy="29718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371600" y="990720"/>
            <a:ext cx="7223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图，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等边三角形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58920" y="1413000"/>
            <a:ext cx="752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过旋转后到达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CD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59280" y="2492280"/>
            <a:ext cx="460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旋转中心是哪一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59280" y="2924280"/>
            <a:ext cx="381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旋转了多少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59280" y="3429000"/>
            <a:ext cx="60847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如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的中点，那么经过上述旋转后，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转到了什么位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360" y="2060640"/>
            <a:ext cx="2994480" cy="2991600"/>
            <a:chOff x="-360" y="2060640"/>
            <a:chExt cx="2994480" cy="2991600"/>
          </a:xfrm>
        </p:grpSpPr>
        <p:sp>
          <p:nvSpPr>
            <p:cNvPr id="333" name=""/>
            <p:cNvSpPr/>
            <p:nvPr/>
          </p:nvSpPr>
          <p:spPr>
            <a:xfrm>
              <a:off x="1236240" y="2436480"/>
              <a:ext cx="1474920" cy="2292480"/>
            </a:xfrm>
            <a:custGeom>
              <a:avLst/>
              <a:gdLst/>
              <a:ahLst/>
              <a:rect l="l" t="t" r="r" b="b"/>
              <a:pathLst>
                <a:path w="852" h="1134">
                  <a:moveTo>
                    <a:pt x="0" y="0"/>
                  </a:moveTo>
                  <a:lnTo>
                    <a:pt x="654" y="1134"/>
                  </a:lnTo>
                  <a:lnTo>
                    <a:pt x="852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03680" y="2436480"/>
              <a:ext cx="1132200" cy="22924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4040" y="4728960"/>
              <a:ext cx="685440" cy="21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89120" y="2436480"/>
              <a:ext cx="446760" cy="22924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36240" y="2436480"/>
              <a:ext cx="1132200" cy="22924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368800" y="4037400"/>
              <a:ext cx="342720" cy="6912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36240" y="2436480"/>
              <a:ext cx="1474920" cy="16009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112680" y="2434320"/>
              <a:ext cx="2661120" cy="2383560"/>
              <a:chOff x="112680" y="2434320"/>
              <a:chExt cx="2661120" cy="2383560"/>
            </a:xfrm>
          </p:grpSpPr>
          <p:sp>
            <p:nvSpPr>
              <p:cNvPr id="341" name=""/>
              <p:cNvSpPr/>
              <p:nvPr/>
            </p:nvSpPr>
            <p:spPr>
              <a:xfrm>
                <a:off x="1298520" y="2525040"/>
                <a:ext cx="1475280" cy="2292840"/>
              </a:xfrm>
              <a:custGeom>
                <a:avLst/>
                <a:gdLst/>
                <a:ahLst/>
                <a:rect l="l" t="t" r="r" b="b"/>
                <a:pathLst>
                  <a:path w="852" h="1134">
                    <a:moveTo>
                      <a:pt x="0" y="0"/>
                    </a:moveTo>
                    <a:lnTo>
                      <a:pt x="654" y="1134"/>
                    </a:lnTo>
                    <a:lnTo>
                      <a:pt x="852" y="7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2680" y="2434320"/>
                <a:ext cx="1132560" cy="2292480"/>
              </a:xfrm>
              <a:custGeom>
                <a:avLst/>
                <a:gdLst/>
                <a:ahLst/>
                <a:rect l="l" t="t" r="r" b="b"/>
                <a:pathLst>
                  <a:path w="654" h="1134">
                    <a:moveTo>
                      <a:pt x="654" y="0"/>
                    </a:moveTo>
                    <a:lnTo>
                      <a:pt x="0" y="1134"/>
                    </a:lnTo>
                    <a:lnTo>
                      <a:pt x="396" y="1134"/>
                    </a:lnTo>
                    <a:lnTo>
                      <a:pt x="65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12680" y="4726800"/>
                <a:ext cx="2265120" cy="216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1236240" y="2436480"/>
              <a:ext cx="1132200" cy="22924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2368800" y="4037400"/>
              <a:ext cx="342720" cy="6912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36240" y="2436480"/>
              <a:ext cx="1474920" cy="16009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90640" y="4013280"/>
              <a:ext cx="51480" cy="60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47920" y="4705200"/>
              <a:ext cx="51480" cy="60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76600" y="3552480"/>
              <a:ext cx="51480" cy="60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620360" y="3382920"/>
              <a:ext cx="2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'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4040" y="3552480"/>
              <a:ext cx="51480" cy="60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4640" y="33343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90640" y="4013280"/>
              <a:ext cx="51480" cy="608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73800" y="3916440"/>
              <a:ext cx="22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47920" y="4705200"/>
              <a:ext cx="51480" cy="60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26680" y="47775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15360" y="2412000"/>
              <a:ext cx="51480" cy="60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42280" y="20606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160" y="4705200"/>
              <a:ext cx="51480" cy="60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-360" y="47656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8600" y="4705200"/>
              <a:ext cx="51480" cy="60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5960" y="47775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12640" y="2800440"/>
              <a:ext cx="52200" cy="60480"/>
            </a:xfrm>
            <a:prstGeom prst="ellipse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6836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拓展应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132000" y="4292640"/>
            <a:ext cx="460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A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AD’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的关系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03640" y="4724280"/>
            <a:ext cx="460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DAD’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为多少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600200" y="12952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81080" y="1219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下图是由正方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旋转而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657600" y="2060640"/>
            <a:ext cx="5486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旋转中心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旋转的角度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451640" y="1989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80360" y="3500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5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71640" y="2997360"/>
            <a:ext cx="380880" cy="38088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19640" y="4581360"/>
            <a:ext cx="501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若正方形的边长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’D=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435640" y="5013360"/>
                <a:ext cx="10810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971640" y="2997360"/>
            <a:ext cx="431640" cy="4302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374560" y="3398760"/>
            <a:ext cx="1019160" cy="1019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55760" y="3398760"/>
            <a:ext cx="1019160" cy="1019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74920" y="2379600"/>
            <a:ext cx="1019160" cy="1019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1355400" y="2379600"/>
            <a:ext cx="1019160" cy="1019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36720" y="2979720"/>
            <a:ext cx="1438200" cy="14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36720" y="2979720"/>
            <a:ext cx="1440" cy="14382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36720" y="4417920"/>
            <a:ext cx="1438200" cy="18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74920" y="2979720"/>
            <a:ext cx="1440" cy="14382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7640" y="2960640"/>
            <a:ext cx="47520" cy="475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256536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17640" y="4398840"/>
            <a:ext cx="47520" cy="47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88840" y="4465800"/>
            <a:ext cx="29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55840" y="2960640"/>
            <a:ext cx="47520" cy="475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08320" y="2674800"/>
            <a:ext cx="29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375000" y="3379680"/>
            <a:ext cx="47520" cy="47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60680" y="340848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355840" y="4398840"/>
            <a:ext cx="47520" cy="47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03360" y="444672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355840" y="2360520"/>
            <a:ext cx="47520" cy="47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79520" y="208440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36680" y="3379680"/>
            <a:ext cx="47520" cy="4788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260360" y="344664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27640" y="98100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124080" y="3809880"/>
            <a:ext cx="1608120" cy="216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0" y="3962520"/>
            <a:ext cx="3025800" cy="1701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3048120" y="6858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4800600" y="380988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6408720" y="3657600"/>
            <a:ext cx="2735280" cy="30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1295280" y="1066320"/>
            <a:ext cx="7315200" cy="579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画出△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ABC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绕点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按顺时针旋转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90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度后的对应三角形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	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700360" y="2637000"/>
            <a:ext cx="1295280" cy="18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700360" y="4292280"/>
            <a:ext cx="25192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995640" y="2637000"/>
            <a:ext cx="115272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08360" y="227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0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219640" y="400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038480" y="495288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8288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209680" y="1981080"/>
            <a:ext cx="662940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作业：</a:t>
            </a:r>
            <a:r>
              <a:rPr b="1" lang="zh-CN" sz="6600" spc="-1" strike="noStrike">
                <a:solidFill>
                  <a:srgbClr val="333399"/>
                </a:solidFill>
                <a:latin typeface="宋体"/>
              </a:rPr>
              <a:t>Ｐ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57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  <a:ea typeface="Times New Roman"/>
              </a:rPr>
              <a:t>练习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　　</a:t>
            </a:r>
            <a:r>
              <a:rPr b="1" lang="zh-CN" sz="6600" spc="-1" strike="noStrike">
                <a:solidFill>
                  <a:srgbClr val="333399"/>
                </a:solidFill>
                <a:latin typeface="宋体"/>
              </a:rPr>
              <a:t>Ｐ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58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习题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9.1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 1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87280" y="1413000"/>
            <a:ext cx="749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1" lang="zh-CN" sz="9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图形的旋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209680" y="54864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武进区洛阳初级中学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张志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3371760" cy="947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图形的旋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60020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平面内，将一个图形绕一个定点旋转一定的角度，这样的图形运动称为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图形的旋转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这个定点称为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旋转中心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旋转的角度称为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旋转角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8080" y="152280"/>
            <a:ext cx="1544400" cy="1060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" y="437292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图形的旋转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改变图形的形状、大小，只改变图形的位置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95280" y="2313000"/>
            <a:ext cx="8352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下列现象中属于旋转的有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(  )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地下水位逐年下降；②传送带的移动；③方向盘的转动；④水龙头开关的转动；⑤钟摆的运动；⑥荡秋千运动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A.2     B.3     C.4    D.5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228600"/>
            <a:ext cx="283824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随堂巩固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ShockwaveFlash1"/>
          <p:cNvGraphicFramePr/>
          <p:nvPr/>
        </p:nvGraphicFramePr>
        <p:xfrm>
          <a:off x="971640" y="2276640"/>
          <a:ext cx="345600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276640"/>
                    <a:ext cx="345600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42640" y="609120"/>
            <a:ext cx="7777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香港特别行政区区旗中央的紫荆花图案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相同的花瓣组成，它是由其中一瓣经过几次旋转得到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003640" y="2852640"/>
            <a:ext cx="28814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4200" y="405720"/>
            <a:ext cx="8534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     △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ABO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绕点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O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旋转，在这个过程中，你有什么发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65960" y="2057400"/>
            <a:ext cx="6985800" cy="4103640"/>
            <a:chOff x="1065960" y="2057400"/>
            <a:chExt cx="6985800" cy="4103640"/>
          </a:xfrm>
        </p:grpSpPr>
        <p:sp>
          <p:nvSpPr>
            <p:cNvPr id="158" name=""/>
            <p:cNvSpPr/>
            <p:nvPr/>
          </p:nvSpPr>
          <p:spPr>
            <a:xfrm>
              <a:off x="1325520" y="2419200"/>
              <a:ext cx="4888080" cy="2254320"/>
            </a:xfrm>
            <a:custGeom>
              <a:avLst/>
              <a:gdLst/>
              <a:ahLst/>
              <a:rect l="l" t="t" r="r" b="b"/>
              <a:pathLst>
                <a:path w="3079" h="1420">
                  <a:moveTo>
                    <a:pt x="2320" y="1420"/>
                  </a:moveTo>
                  <a:lnTo>
                    <a:pt x="0" y="1073"/>
                  </a:lnTo>
                  <a:lnTo>
                    <a:pt x="3079" y="0"/>
                  </a:lnTo>
                  <a:lnTo>
                    <a:pt x="2320" y="142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325520" y="2419200"/>
              <a:ext cx="4888080" cy="170352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5008320" y="2419200"/>
              <a:ext cx="1204920" cy="225432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25520" y="4122720"/>
              <a:ext cx="3683160" cy="55080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0600" y="4087800"/>
              <a:ext cx="87480" cy="85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65960" y="4122720"/>
              <a:ext cx="3268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78680" y="2384280"/>
              <a:ext cx="85680" cy="85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99280" y="2057400"/>
              <a:ext cx="279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73760" y="4638600"/>
              <a:ext cx="85680" cy="85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40280" y="4741920"/>
              <a:ext cx="279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04120" y="5873760"/>
              <a:ext cx="647640" cy="287280"/>
            </a:xfrm>
            <a:custGeom>
              <a:avLst/>
              <a:gdLst>
                <a:gd name="textAreaLeft" fmla="*/ 18360 w 647640"/>
                <a:gd name="textAreaRight" fmla="*/ 629280 w 64764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8661" h="21600">
                  <a:moveTo>
                    <a:pt x="0" y="0"/>
                  </a:moveTo>
                  <a:lnTo>
                    <a:pt x="48661" y="0"/>
                  </a:lnTo>
                  <a:lnTo>
                    <a:pt x="48661" y="21600"/>
                  </a:lnTo>
                  <a:lnTo>
                    <a:pt x="0" y="21600"/>
                  </a:lnTo>
                  <a:close/>
                </a:path>
                <a:path fill="lightenLess" w="48661" h="21600">
                  <a:moveTo>
                    <a:pt x="0" y="0"/>
                  </a:moveTo>
                  <a:lnTo>
                    <a:pt x="48661" y="0"/>
                  </a:lnTo>
                  <a:lnTo>
                    <a:pt x="47261" y="1400"/>
                  </a:lnTo>
                  <a:lnTo>
                    <a:pt x="1400" y="1400"/>
                  </a:lnTo>
                  <a:close/>
                </a:path>
                <a:path fill="darken" w="48661" h="21600">
                  <a:moveTo>
                    <a:pt x="48661" y="0"/>
                  </a:moveTo>
                  <a:lnTo>
                    <a:pt x="48661" y="21600"/>
                  </a:lnTo>
                  <a:lnTo>
                    <a:pt x="47261" y="20200"/>
                  </a:lnTo>
                  <a:lnTo>
                    <a:pt x="47261" y="1400"/>
                  </a:lnTo>
                  <a:close/>
                </a:path>
                <a:path fill="darkenLess" w="48661" h="21600">
                  <a:moveTo>
                    <a:pt x="4866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7261" y="20200"/>
                  </a:lnTo>
                  <a:close/>
                </a:path>
                <a:path fill="lighten" w="4866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8661" h="21600">
                  <a:moveTo>
                    <a:pt x="17324" y="7301"/>
                  </a:moveTo>
                  <a:lnTo>
                    <a:pt x="18238" y="7301"/>
                  </a:lnTo>
                  <a:lnTo>
                    <a:pt x="18621" y="7667"/>
                  </a:lnTo>
                  <a:lnTo>
                    <a:pt x="27829" y="7667"/>
                  </a:lnTo>
                  <a:lnTo>
                    <a:pt x="28386" y="8224"/>
                  </a:lnTo>
                  <a:lnTo>
                    <a:pt x="28386" y="8772"/>
                  </a:lnTo>
                  <a:lnTo>
                    <a:pt x="30232" y="8772"/>
                  </a:lnTo>
                  <a:lnTo>
                    <a:pt x="30597" y="8224"/>
                  </a:lnTo>
                  <a:lnTo>
                    <a:pt x="31337" y="8224"/>
                  </a:lnTo>
                  <a:lnTo>
                    <a:pt x="31337" y="13376"/>
                  </a:lnTo>
                  <a:lnTo>
                    <a:pt x="30597" y="13376"/>
                  </a:lnTo>
                  <a:lnTo>
                    <a:pt x="30232" y="12828"/>
                  </a:lnTo>
                  <a:lnTo>
                    <a:pt x="28386" y="12828"/>
                  </a:lnTo>
                  <a:lnTo>
                    <a:pt x="28386" y="14107"/>
                  </a:lnTo>
                  <a:lnTo>
                    <a:pt x="18804" y="14107"/>
                  </a:lnTo>
                  <a:lnTo>
                    <a:pt x="18804" y="9877"/>
                  </a:lnTo>
                  <a:lnTo>
                    <a:pt x="18621" y="9877"/>
                  </a:lnTo>
                  <a:lnTo>
                    <a:pt x="18238" y="10243"/>
                  </a:lnTo>
                  <a:lnTo>
                    <a:pt x="17324" y="10243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1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700200"/>
            <a:ext cx="8678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如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旋转中心在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外外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在这个旋转过程中，你有什么发现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40720" y="623736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7301"/>
                </a:moveTo>
                <a:lnTo>
                  <a:pt x="18238" y="7301"/>
                </a:lnTo>
                <a:lnTo>
                  <a:pt x="18621" y="7667"/>
                </a:lnTo>
                <a:lnTo>
                  <a:pt x="27829" y="7667"/>
                </a:lnTo>
                <a:lnTo>
                  <a:pt x="28386" y="8224"/>
                </a:lnTo>
                <a:lnTo>
                  <a:pt x="28386" y="8772"/>
                </a:lnTo>
                <a:lnTo>
                  <a:pt x="30232" y="8772"/>
                </a:lnTo>
                <a:lnTo>
                  <a:pt x="30597" y="8224"/>
                </a:lnTo>
                <a:lnTo>
                  <a:pt x="31337" y="8224"/>
                </a:lnTo>
                <a:lnTo>
                  <a:pt x="31337" y="13376"/>
                </a:lnTo>
                <a:lnTo>
                  <a:pt x="30597" y="13376"/>
                </a:lnTo>
                <a:lnTo>
                  <a:pt x="30232" y="12828"/>
                </a:lnTo>
                <a:lnTo>
                  <a:pt x="28386" y="12828"/>
                </a:lnTo>
                <a:lnTo>
                  <a:pt x="28386" y="14107"/>
                </a:lnTo>
                <a:lnTo>
                  <a:pt x="18804" y="14107"/>
                </a:lnTo>
                <a:lnTo>
                  <a:pt x="18804" y="9877"/>
                </a:lnTo>
                <a:lnTo>
                  <a:pt x="18621" y="9877"/>
                </a:lnTo>
                <a:lnTo>
                  <a:pt x="18238" y="10243"/>
                </a:lnTo>
                <a:lnTo>
                  <a:pt x="17324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402920" y="2421000"/>
            <a:ext cx="5512680" cy="3187440"/>
            <a:chOff x="1402920" y="2421000"/>
            <a:chExt cx="5512680" cy="3187440"/>
          </a:xfrm>
        </p:grpSpPr>
        <p:sp>
          <p:nvSpPr>
            <p:cNvPr id="173" name=""/>
            <p:cNvSpPr/>
            <p:nvPr/>
          </p:nvSpPr>
          <p:spPr>
            <a:xfrm>
              <a:off x="1662120" y="2782800"/>
              <a:ext cx="4888080" cy="2254320"/>
            </a:xfrm>
            <a:custGeom>
              <a:avLst/>
              <a:gdLst/>
              <a:ahLst/>
              <a:rect l="l" t="t" r="r" b="b"/>
              <a:pathLst>
                <a:path w="3079" h="1420">
                  <a:moveTo>
                    <a:pt x="2320" y="1420"/>
                  </a:moveTo>
                  <a:lnTo>
                    <a:pt x="0" y="1073"/>
                  </a:lnTo>
                  <a:lnTo>
                    <a:pt x="3079" y="0"/>
                  </a:lnTo>
                  <a:lnTo>
                    <a:pt x="2320" y="142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662120" y="2782800"/>
              <a:ext cx="4888080" cy="170352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5344920" y="2782800"/>
              <a:ext cx="1204920" cy="225432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62120" y="4486320"/>
              <a:ext cx="3683160" cy="550800"/>
            </a:xfrm>
            <a:prstGeom prst="line">
              <a:avLst/>
            </a:prstGeom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27200" y="4451400"/>
              <a:ext cx="87480" cy="85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02920" y="4486320"/>
              <a:ext cx="3038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15280" y="2747880"/>
              <a:ext cx="85680" cy="85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35880" y="2421000"/>
              <a:ext cx="279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10360" y="5002200"/>
              <a:ext cx="85680" cy="856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76880" y="5105520"/>
              <a:ext cx="279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68360" y="2637000"/>
              <a:ext cx="64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.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0"/>
            <a:ext cx="1981440" cy="11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55640" y="1052640"/>
            <a:ext cx="756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在上面两个实验中，△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ABC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在旋转过程中，哪些发生了变化？哪些没有改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华文中宋"/>
                <a:ea typeface="华文中宋"/>
              </a:rPr>
              <a:t>由实验还可得出哪些结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2781360"/>
            <a:ext cx="6553440" cy="20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旋转前、后的图形全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对应点到旋转中心的距离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每一对对应点与旋转中心的连线所成的角彼此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5113080" cy="3489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916360" y="3645000"/>
            <a:ext cx="2520720" cy="1720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523880" cy="733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981080" y="304920"/>
            <a:ext cx="381240" cy="228600"/>
          </a:xfrm>
          <a:custGeom>
            <a:avLst/>
            <a:gdLst>
              <a:gd name="textAreaLeft" fmla="*/ 14760 w 381240"/>
              <a:gd name="textAreaRight" fmla="*/ 366480 w 3812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6000" h="21600">
                <a:moveTo>
                  <a:pt x="0" y="0"/>
                </a:moveTo>
                <a:lnTo>
                  <a:pt x="36000" y="0"/>
                </a:lnTo>
                <a:lnTo>
                  <a:pt x="36000" y="21600"/>
                </a:lnTo>
                <a:lnTo>
                  <a:pt x="0" y="21600"/>
                </a:lnTo>
                <a:close/>
              </a:path>
              <a:path fill="lightenLess" w="36000" h="21600">
                <a:moveTo>
                  <a:pt x="0" y="0"/>
                </a:moveTo>
                <a:lnTo>
                  <a:pt x="36000" y="0"/>
                </a:lnTo>
                <a:lnTo>
                  <a:pt x="34600" y="1400"/>
                </a:lnTo>
                <a:lnTo>
                  <a:pt x="1400" y="1400"/>
                </a:lnTo>
                <a:close/>
              </a:path>
              <a:path fill="darken" w="36000" h="21600">
                <a:moveTo>
                  <a:pt x="36000" y="0"/>
                </a:moveTo>
                <a:lnTo>
                  <a:pt x="36000" y="21600"/>
                </a:lnTo>
                <a:lnTo>
                  <a:pt x="34600" y="20200"/>
                </a:lnTo>
                <a:lnTo>
                  <a:pt x="34600" y="1400"/>
                </a:lnTo>
                <a:close/>
              </a:path>
              <a:path fill="darkenLess" w="36000" h="21600">
                <a:moveTo>
                  <a:pt x="3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0" y="20200"/>
                </a:lnTo>
                <a:close/>
              </a:path>
              <a:path fill="lighten" w="3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00" h="21600">
                <a:moveTo>
                  <a:pt x="10994" y="7301"/>
                </a:moveTo>
                <a:lnTo>
                  <a:pt x="11907" y="7301"/>
                </a:lnTo>
                <a:lnTo>
                  <a:pt x="12290" y="7667"/>
                </a:lnTo>
                <a:lnTo>
                  <a:pt x="21499" y="7667"/>
                </a:lnTo>
                <a:lnTo>
                  <a:pt x="22056" y="8224"/>
                </a:lnTo>
                <a:lnTo>
                  <a:pt x="22056" y="8772"/>
                </a:lnTo>
                <a:lnTo>
                  <a:pt x="23901" y="8772"/>
                </a:lnTo>
                <a:lnTo>
                  <a:pt x="24267" y="8224"/>
                </a:lnTo>
                <a:lnTo>
                  <a:pt x="25006" y="8224"/>
                </a:lnTo>
                <a:lnTo>
                  <a:pt x="25006" y="13376"/>
                </a:lnTo>
                <a:lnTo>
                  <a:pt x="24267" y="13376"/>
                </a:lnTo>
                <a:lnTo>
                  <a:pt x="23901" y="12828"/>
                </a:lnTo>
                <a:lnTo>
                  <a:pt x="22056" y="12828"/>
                </a:lnTo>
                <a:lnTo>
                  <a:pt x="22056" y="14107"/>
                </a:lnTo>
                <a:lnTo>
                  <a:pt x="12473" y="14107"/>
                </a:lnTo>
                <a:lnTo>
                  <a:pt x="12473" y="9877"/>
                </a:lnTo>
                <a:lnTo>
                  <a:pt x="12290" y="9877"/>
                </a:lnTo>
                <a:lnTo>
                  <a:pt x="11907" y="10243"/>
                </a:lnTo>
                <a:lnTo>
                  <a:pt x="109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049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7301"/>
                </a:moveTo>
                <a:lnTo>
                  <a:pt x="15490" y="7301"/>
                </a:lnTo>
                <a:lnTo>
                  <a:pt x="15873" y="7667"/>
                </a:lnTo>
                <a:lnTo>
                  <a:pt x="25082" y="7667"/>
                </a:lnTo>
                <a:lnTo>
                  <a:pt x="25639" y="8224"/>
                </a:lnTo>
                <a:lnTo>
                  <a:pt x="25639" y="8772"/>
                </a:lnTo>
                <a:lnTo>
                  <a:pt x="27484" y="8772"/>
                </a:lnTo>
                <a:lnTo>
                  <a:pt x="27850" y="8224"/>
                </a:lnTo>
                <a:lnTo>
                  <a:pt x="28590" y="8224"/>
                </a:lnTo>
                <a:lnTo>
                  <a:pt x="28590" y="13376"/>
                </a:lnTo>
                <a:lnTo>
                  <a:pt x="27850" y="13376"/>
                </a:lnTo>
                <a:lnTo>
                  <a:pt x="27484" y="12828"/>
                </a:lnTo>
                <a:lnTo>
                  <a:pt x="25639" y="12828"/>
                </a:lnTo>
                <a:lnTo>
                  <a:pt x="25639" y="14107"/>
                </a:lnTo>
                <a:lnTo>
                  <a:pt x="16056" y="14107"/>
                </a:lnTo>
                <a:lnTo>
                  <a:pt x="16056" y="9877"/>
                </a:lnTo>
                <a:lnTo>
                  <a:pt x="15873" y="9877"/>
                </a:lnTo>
                <a:lnTo>
                  <a:pt x="15490" y="10243"/>
                </a:lnTo>
                <a:lnTo>
                  <a:pt x="1457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9711E-006 C 0.00174 -0.00578 0.00226 -0.01179 0.00486 -0.0171 C 0.00538 -0.01826 0.01094 -0.02289 0.01181 -0.02381 C 0.01788 -0.03052 0.01892 -0.03445 0.02761 -0.03699 C 0.03333 -0.04462 0.04045 -0.04855 0.0467 -0.05572 C 0.04879 -0.0578 0.04948 -0.06057 0.05191 -0.06219 C 0.05556 -0.06543 0.06129 -0.0645 0.0658 -0.06589 C 0.09445 -0.07421 0.05833 -0.06543 0.08125 -0.07075 C 0.1257 -0.07028 0.16962 -0.06913 0.21389 -0.06913 C 0.3033 -0.06913 0.27813 -0.06057 0.32031 -0.08739 C 0.32222 -0.09364 0.325 -0.09895 0.32899 -0.10427 C 0.33125 -0.11075 0.33438 -0.11815 0.33941 -0.12277 C 0.33837 -0.13895 0.34254 -0.15699 0.32726 -0.16647 C 0.32309 -0.17248 0.3191 -0.17595 0.3132 -0.17988 C 0.30868 -0.18843 0.30104 -0.1926 0.29583 -0.2 C 0.2934 -0.20346 0.29115 -0.20693 0.28872 -0.2104 C 0.2875 -0.21179 0.28542 -0.21526 0.28542 -0.21502 C 0.28663 -0.24254 0.28368 -0.23953 0.28872 -0.2541 C 0.29045 -0.25872 0.29722 -0.27213 0.30278 -0.27213 C 0.30695 -0.27213 0.31094 -0.27213 0.31493 -0.27213 E">
                                      <p:cBhvr>
                                        <p:cTn id="126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3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" nodeType="withEffect" fill="remove" presetClass="emph" presetID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remove" presetClass="emph" presetID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remove" presetClass="emph" presetID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indefinite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94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zg</dc:creator>
  <dc:description/>
  <dc:language>en-US</dc:language>
  <cp:lastModifiedBy>微软用户</cp:lastModifiedBy>
  <dcterms:modified xsi:type="dcterms:W3CDTF">2015-01-15T01:45:19Z</dcterms:modified>
  <cp:revision>156</cp:revision>
  <dc:subject/>
  <dc:title>幻灯片 1</dc:title>
</cp:coreProperties>
</file>