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21.wmf" ContentType="image/x-wmf"/>
  <Override PartName="/ppt/media/type.wav" ContentType="audio/x-wav"/>
  <Override PartName="/ppt/media/image6.jpeg" ContentType="image/jpeg"/>
  <Override PartName="/ppt/media/image19.jpeg" ContentType="image/jpeg"/>
  <Override PartName="/ppt/media/click.wav" ContentType="audio/x-wav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10.wmf" ContentType="image/x-wmf"/>
  <Override PartName="/ppt/media/image25.jpeg" ContentType="image/jpeg"/>
  <Override PartName="/ppt/media/image4.jpeg" ContentType="image/jpeg"/>
  <Override PartName="/ppt/media/image8.wmf" ContentType="image/x-wmf"/>
  <Override PartName="/ppt/media/image9.wmf" ContentType="image/x-wmf"/>
  <Override PartName="/ppt/media/image26.wmf" ContentType="image/x-wmf"/>
  <Override PartName="/ppt/media/image27.wmf" ContentType="image/x-wmf"/>
  <Override PartName="/ppt/media/image29.wmf" ContentType="image/x-wmf"/>
  <Override PartName="/ppt/media/image31.png" ContentType="image/png"/>
  <Override PartName="/ppt/media/image7.wmf" ContentType="image/x-wmf"/>
  <Override PartName="/ppt/media/chimes.wav" ContentType="audio/x-wav"/>
  <Override PartName="/ppt/media/image16.jpeg" ContentType="image/jpeg"/>
  <Override PartName="/ppt/media/image24.jpeg" ContentType="image/jpeg"/>
  <Override PartName="/ppt/media/image18.wmf" ContentType="image/x-wmf"/>
  <Override PartName="/ppt/media/hammer.wav" ContentType="audio/x-wav"/>
  <Override PartName="/ppt/media/image2.jpeg" ContentType="image/jpeg"/>
  <Override PartName="/ppt/media/image1.jpeg" ContentType="image/jpeg"/>
  <Override PartName="/ppt/media/image12.wmf" ContentType="image/x-wmf"/>
  <Override PartName="/ppt/media/image13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media/voltage.wav" ContentType="audio/x-wav"/>
  <Override PartName="/ppt/media/image15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微软用户" initials="微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08-10-20T21:40:51.578000000" idx="1">
    <p:pos x="1706" y="3923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7B08-011C-41FA-B2C9-E49FAAE3B7D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7C1-9AEF-44D6-B96A-48BDD88A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F6F-C8F7-4849-9ABD-19EE367C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C82-D3B7-4C9D-A817-1054C7DD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E24-F231-41E5-A5B1-5C712053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7971-845E-49B0-9D74-7D829DFC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8FED-5815-4390-9782-AB7D978F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D1A4-E4F6-4E19-B78D-C05D1A29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0DEA-75C5-427D-A05C-B143FAEA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B909-7DC8-450F-B32C-3067C9A9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C5B9-836E-44A0-BB92-365F8C87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1862-722D-423B-9A23-38545C8C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1328-009E-4725-965D-797BC562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C35A-1898-48A9-B498-E11FC6AA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4323-2D6A-49C7-AA0E-F7C1CE4C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F4D2-73F0-4023-B0C0-2D345439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08B6-1F24-40BE-88C0-35F87EDA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24BB-E83B-4BCC-A6D1-84331C7C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A71-D661-45D4-87F6-0BBC92C4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08E-3BEF-4447-AA41-7D91FFF0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653-D898-48F0-B422-BEC20E0E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F7D-A9E1-4614-A919-4C2B3C7C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598-AC5F-4386-BEB7-CE54D8A3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E578-DC8C-4DCC-92F3-33C69B2A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1C7-AFBF-47B8-8ED9-DFC1B706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5400-8E1E-4937-A0EE-884D80F942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A853-D169-4B86-9A92-4C3100C9BD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85280" y="-33480"/>
            <a:ext cx="10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浙教版数学九年级上册《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圆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audio" Target="../media/voltag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wmf"/><Relationship Id="rId3" Type="http://schemas.openxmlformats.org/officeDocument/2006/relationships/audio" Target="../media/click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audio" Target="../media/type.wav"/><Relationship Id="rId5" Type="http://schemas.openxmlformats.org/officeDocument/2006/relationships/audio" Target="../media/hammer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752480" y="1981080"/>
            <a:ext cx="5715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.2</a:t>
            </a:r>
            <a:r>
              <a:rPr b="1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圆的对称性</a:t>
            </a: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(2)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4495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武进区洛阳初级中学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张志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afterEffect" fill="hold" presetClass="emph" presetID="7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例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．某居民区一处圆形下水管道破裂，修理人员准备更换一段新管道．</a:t>
            </a:r>
            <a:br>
              <a:rPr sz="4000"/>
            </a:b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如图所示，污水水面宽度为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60cm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，水面至管道顶部距离为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10cm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，问修理人员应准备半径多大的管道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84720" y="4076640"/>
            <a:ext cx="27370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468360" y="3402000"/>
            <a:ext cx="3436920" cy="3456000"/>
            <a:chOff x="468360" y="3402000"/>
            <a:chExt cx="3436920" cy="3456000"/>
          </a:xfrm>
        </p:grpSpPr>
        <p:grpSp>
          <p:nvGrpSpPr>
            <p:cNvPr id="177" name=""/>
            <p:cNvGrpSpPr/>
            <p:nvPr/>
          </p:nvGrpSpPr>
          <p:grpSpPr>
            <a:xfrm>
              <a:off x="468360" y="3402000"/>
              <a:ext cx="3436920" cy="3456000"/>
              <a:chOff x="468360" y="3402000"/>
              <a:chExt cx="3436920" cy="3456000"/>
            </a:xfrm>
          </p:grpSpPr>
          <p:sp>
            <p:nvSpPr>
              <p:cNvPr id="178" name=""/>
              <p:cNvSpPr/>
              <p:nvPr/>
            </p:nvSpPr>
            <p:spPr>
              <a:xfrm>
                <a:off x="841320" y="470844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6960" y="4997520"/>
                <a:ext cx="244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5680" y="5213520"/>
                <a:ext cx="251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5680" y="5429160"/>
                <a:ext cx="259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6960" y="5718240"/>
                <a:ext cx="244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41320" y="600552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86040" y="6292800"/>
                <a:ext cx="187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273320" y="6508800"/>
                <a:ext cx="122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468360" y="3402000"/>
                <a:ext cx="3436920" cy="3456000"/>
                <a:chOff x="468360" y="3402000"/>
                <a:chExt cx="3436920" cy="3456000"/>
              </a:xfrm>
            </p:grpSpPr>
            <p:pic>
              <p:nvPicPr>
                <p:cNvPr id="1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68360" y="3402000"/>
                  <a:ext cx="3436920" cy="345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>
                  <a:off x="827280" y="450864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485080" y="450864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"/>
            <p:cNvSpPr/>
            <p:nvPr/>
          </p:nvSpPr>
          <p:spPr>
            <a:xfrm>
              <a:off x="971640" y="4565520"/>
              <a:ext cx="1871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835280" y="5300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flipV="1">
            <a:off x="6603840" y="2276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962600" y="2197080"/>
            <a:ext cx="3286080" cy="2948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411880" y="2997360"/>
            <a:ext cx="122400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88000" y="292428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162864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0"/>
            <a:ext cx="691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：过Ｏ点作ＯＥ⊥ＡＢ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并延长ＯＥ交⊙Ｏ于Ｆ，连接ＯＡ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179800" y="5445000"/>
          <a:ext cx="5503680" cy="103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79800" y="5445000"/>
                    <a:ext cx="55036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971640" y="260280"/>
            <a:ext cx="6553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垂径定理和勾股定理相结合，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造直角三角形，把圆的问题化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为直线形问题解决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41320" y="33670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6960" y="365616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5320" y="38718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5320" y="4087800"/>
            <a:ext cx="2592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6960" y="437688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1320" y="46641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85680" y="4951440"/>
            <a:ext cx="1872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73320" y="5167440"/>
            <a:ext cx="1223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76280" y="2048040"/>
            <a:ext cx="3436920" cy="3456000"/>
            <a:chOff x="476280" y="2048040"/>
            <a:chExt cx="3436920" cy="3456000"/>
          </a:xfrm>
        </p:grpSpPr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476280" y="2048040"/>
              <a:ext cx="343692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835200" y="315468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93000" y="3154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042920" y="32130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422100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4076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9917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-252360" y="4148640"/>
            <a:ext cx="990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四、圆的问题可以化归为直线型问题解决。这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一种研究数学的重要思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765440" cy="969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0920" y="2349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二、垂径定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981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一、圆是轴对称图形，其对称轴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66920" y="2349360"/>
            <a:ext cx="777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　　　　垂直于弦的直径平分这条弦，并且平分弦所对的弧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3429000"/>
            <a:ext cx="8353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三、垂径定理和勾股定理相结合，构造　　　　　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　　直角三角形，可解决计算弦长、半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　　径、圆心到弦的距离等问题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32000" y="981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　　　　　　　　　　　　　任意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条过圆心的直线（或直径所在直线．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194534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9780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在例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中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我们已计算出⊙Ｏ的半径Ｒ＝５０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cm,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如果水面宽度由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60cm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变为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80cm,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那么污水面下降了多少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c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79440" y="2886120"/>
            <a:ext cx="3436920" cy="3456000"/>
            <a:chOff x="379440" y="2886120"/>
            <a:chExt cx="3436920" cy="34560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379440" y="2886120"/>
              <a:ext cx="343692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38360" y="399276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96160" y="3992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60240" y="4221000"/>
            <a:ext cx="223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600" y="4437000"/>
            <a:ext cx="2447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486900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5040" y="511812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5040" y="53341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9720" y="577692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97000" y="59929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400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7680" y="5046840"/>
            <a:ext cx="86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59040" y="4614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6320" y="5549760"/>
            <a:ext cx="223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4149720"/>
            <a:ext cx="3600000" cy="646200"/>
            <a:chOff x="0" y="4149720"/>
            <a:chExt cx="3600000" cy="646200"/>
          </a:xfrm>
        </p:grpSpPr>
        <p:sp>
          <p:nvSpPr>
            <p:cNvPr id="242" name=""/>
            <p:cNvSpPr/>
            <p:nvPr/>
          </p:nvSpPr>
          <p:spPr>
            <a:xfrm>
              <a:off x="0" y="42145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52360" y="4149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579600" y="4438800"/>
            <a:ext cx="24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220500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两弦在圆心同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386064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两弦在圆心两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907440" y="4998960"/>
            <a:ext cx="2549880" cy="439560"/>
            <a:chOff x="3907440" y="4998960"/>
            <a:chExt cx="2549880" cy="439560"/>
          </a:xfrm>
        </p:grpSpPr>
        <p:sp>
          <p:nvSpPr>
            <p:cNvPr id="248" name=""/>
            <p:cNvSpPr/>
            <p:nvPr/>
          </p:nvSpPr>
          <p:spPr>
            <a:xfrm>
              <a:off x="6139440" y="49989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07440" y="50702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46480" y="5229000"/>
              <a:ext cx="201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067280" y="3774960"/>
            <a:ext cx="2160360" cy="2174760"/>
            <a:chOff x="4067280" y="3774960"/>
            <a:chExt cx="2160360" cy="2174760"/>
          </a:xfrm>
        </p:grpSpPr>
        <p:sp>
          <p:nvSpPr>
            <p:cNvPr id="252" name=""/>
            <p:cNvSpPr/>
            <p:nvPr/>
          </p:nvSpPr>
          <p:spPr>
            <a:xfrm>
              <a:off x="5149080" y="4726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4067280" y="3774960"/>
              <a:ext cx="2160360" cy="2174760"/>
              <a:chOff x="4067280" y="3774960"/>
              <a:chExt cx="2160360" cy="2174760"/>
            </a:xfrm>
          </p:grpSpPr>
          <p:sp>
            <p:nvSpPr>
              <p:cNvPr id="254" name=""/>
              <p:cNvSpPr/>
              <p:nvPr/>
            </p:nvSpPr>
            <p:spPr>
              <a:xfrm>
                <a:off x="4993560" y="458136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4067280" y="3774960"/>
                <a:ext cx="2160360" cy="2174760"/>
                <a:chOff x="4067280" y="3774960"/>
                <a:chExt cx="2160360" cy="21747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067280" y="3789360"/>
                  <a:ext cx="2160360" cy="2160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427280" y="4076640"/>
                  <a:ext cx="1439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843520" y="3774960"/>
                  <a:ext cx="31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186080" y="3774960"/>
                  <a:ext cx="31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0" name=""/>
          <p:cNvGrpSpPr/>
          <p:nvPr/>
        </p:nvGrpSpPr>
        <p:grpSpPr>
          <a:xfrm>
            <a:off x="4140000" y="3789360"/>
            <a:ext cx="1198080" cy="1809720"/>
            <a:chOff x="4140000" y="3789360"/>
            <a:chExt cx="1198080" cy="1809720"/>
          </a:xfrm>
        </p:grpSpPr>
        <p:grpSp>
          <p:nvGrpSpPr>
            <p:cNvPr id="261" name=""/>
            <p:cNvGrpSpPr/>
            <p:nvPr/>
          </p:nvGrpSpPr>
          <p:grpSpPr>
            <a:xfrm>
              <a:off x="5004720" y="3789360"/>
              <a:ext cx="320760" cy="1081080"/>
              <a:chOff x="5004720" y="3789360"/>
              <a:chExt cx="320760" cy="1081080"/>
            </a:xfrm>
          </p:grpSpPr>
          <p:sp>
            <p:nvSpPr>
              <p:cNvPr id="262" name=""/>
              <p:cNvSpPr/>
              <p:nvPr/>
            </p:nvSpPr>
            <p:spPr>
              <a:xfrm>
                <a:off x="5004720" y="378936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5147640" y="4078440"/>
                <a:ext cx="0" cy="79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005080" y="4870440"/>
              <a:ext cx="333000" cy="728640"/>
              <a:chOff x="5005080" y="4870440"/>
              <a:chExt cx="333000" cy="728640"/>
            </a:xfrm>
          </p:grpSpPr>
          <p:sp>
            <p:nvSpPr>
              <p:cNvPr id="265" name=""/>
              <p:cNvSpPr/>
              <p:nvPr/>
            </p:nvSpPr>
            <p:spPr>
              <a:xfrm>
                <a:off x="5005080" y="52308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47640" y="48704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H="1" flipV="1">
              <a:off x="4426920" y="4078440"/>
              <a:ext cx="720360" cy="79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140000" y="4870440"/>
              <a:ext cx="1007640" cy="360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788000" y="1557360"/>
            <a:ext cx="2160360" cy="2174760"/>
            <a:chOff x="4788000" y="1557360"/>
            <a:chExt cx="2160360" cy="2174760"/>
          </a:xfrm>
        </p:grpSpPr>
        <p:sp>
          <p:nvSpPr>
            <p:cNvPr id="270" name=""/>
            <p:cNvSpPr/>
            <p:nvPr/>
          </p:nvSpPr>
          <p:spPr>
            <a:xfrm>
              <a:off x="5869800" y="2508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788000" y="1557360"/>
              <a:ext cx="2160360" cy="2174760"/>
              <a:chOff x="4788000" y="1557360"/>
              <a:chExt cx="2160360" cy="2174760"/>
            </a:xfrm>
          </p:grpSpPr>
          <p:sp>
            <p:nvSpPr>
              <p:cNvPr id="272" name=""/>
              <p:cNvSpPr/>
              <p:nvPr/>
            </p:nvSpPr>
            <p:spPr>
              <a:xfrm>
                <a:off x="5714280" y="2363760"/>
                <a:ext cx="31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4788000" y="1557360"/>
                <a:ext cx="2160360" cy="2174760"/>
                <a:chOff x="4788000" y="1557360"/>
                <a:chExt cx="2160360" cy="2174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788000" y="1571760"/>
                  <a:ext cx="2160360" cy="21603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148000" y="1859040"/>
                  <a:ext cx="1439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564240" y="1557360"/>
                  <a:ext cx="31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906800" y="1557360"/>
                  <a:ext cx="31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8" name=""/>
          <p:cNvGrpSpPr/>
          <p:nvPr/>
        </p:nvGrpSpPr>
        <p:grpSpPr>
          <a:xfrm>
            <a:off x="4612320" y="1996920"/>
            <a:ext cx="2549880" cy="439560"/>
            <a:chOff x="4612320" y="1996920"/>
            <a:chExt cx="2549880" cy="439560"/>
          </a:xfrm>
        </p:grpSpPr>
        <p:sp>
          <p:nvSpPr>
            <p:cNvPr id="279" name=""/>
            <p:cNvSpPr/>
            <p:nvPr/>
          </p:nvSpPr>
          <p:spPr>
            <a:xfrm>
              <a:off x="6844320" y="199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12320" y="2068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1360" y="2226960"/>
              <a:ext cx="201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859280" y="1589040"/>
            <a:ext cx="1271520" cy="1081080"/>
            <a:chOff x="4859280" y="1589040"/>
            <a:chExt cx="1271520" cy="1081080"/>
          </a:xfrm>
        </p:grpSpPr>
        <p:grpSp>
          <p:nvGrpSpPr>
            <p:cNvPr id="283" name=""/>
            <p:cNvGrpSpPr/>
            <p:nvPr/>
          </p:nvGrpSpPr>
          <p:grpSpPr>
            <a:xfrm>
              <a:off x="5726160" y="1589040"/>
              <a:ext cx="404640" cy="1081080"/>
              <a:chOff x="5726160" y="1589040"/>
              <a:chExt cx="404640" cy="108108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5726160" y="1589040"/>
                <a:ext cx="320760" cy="1081080"/>
                <a:chOff x="5726160" y="1589040"/>
                <a:chExt cx="320760" cy="10810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5726160" y="158904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5869080" y="1878120"/>
                  <a:ext cx="0" cy="792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5797800" y="19494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5148360" y="1876320"/>
              <a:ext cx="720720" cy="79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59280" y="2236680"/>
              <a:ext cx="1009800" cy="431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649840" y="0"/>
            <a:ext cx="349416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Ｒ＝５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cm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ＣＤ＝８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7560" y="5342040"/>
            <a:ext cx="244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0" y="5157720"/>
            <a:ext cx="3600000" cy="646200"/>
            <a:chOff x="0" y="5157720"/>
            <a:chExt cx="3600000" cy="646200"/>
          </a:xfrm>
        </p:grpSpPr>
        <p:sp>
          <p:nvSpPr>
            <p:cNvPr id="293" name=""/>
            <p:cNvSpPr/>
            <p:nvPr/>
          </p:nvSpPr>
          <p:spPr>
            <a:xfrm>
              <a:off x="0" y="522252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52360" y="515772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68360" y="260280"/>
            <a:ext cx="673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作垂径，连半径，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直角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989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注意圆的对称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3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34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40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40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41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33156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如图，⊙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直径是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弦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长为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上的一个动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OP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取值范围是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27280" cy="12207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24000" y="2276640"/>
            <a:ext cx="8820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使线段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OP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长度为整数值的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位置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003640" y="3357720"/>
            <a:ext cx="3384720" cy="3165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867280" y="5661000"/>
            <a:ext cx="1225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48360" y="5734080"/>
            <a:ext cx="1225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16760" y="4941720"/>
            <a:ext cx="1224000" cy="1506240"/>
            <a:chOff x="6116760" y="4941720"/>
            <a:chExt cx="1224000" cy="1506240"/>
          </a:xfrm>
        </p:grpSpPr>
        <p:sp>
          <p:nvSpPr>
            <p:cNvPr id="304" name=""/>
            <p:cNvSpPr/>
            <p:nvPr/>
          </p:nvSpPr>
          <p:spPr>
            <a:xfrm>
              <a:off x="6116760" y="580536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332400" y="4941720"/>
              <a:ext cx="35892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H="1">
            <a:off x="5508360" y="4941720"/>
            <a:ext cx="1150920" cy="86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5480" y="494172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027480" y="4941720"/>
            <a:ext cx="647640" cy="863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75480" y="4941720"/>
            <a:ext cx="576360" cy="863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43640" y="580536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32000" y="422100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注意圆的轴对称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00680" y="4941720"/>
            <a:ext cx="1152720" cy="863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35640" y="1700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≤OP≤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24000" y="328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4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468080" y="1197000"/>
            <a:ext cx="6087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１．以矩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边ＡＢ为直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⊙Ｏ交ＣＤ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DE=1cm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EF=3cm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B=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979640" y="3189240"/>
            <a:ext cx="4174920" cy="36687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39640" y="26028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265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882720"/>
            <a:ext cx="68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63840"/>
            <a:ext cx="83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．如图，过⊙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内一点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作⊙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弦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使它以点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为中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-181080" y="4952880"/>
            <a:ext cx="875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140360" y="2349360"/>
            <a:ext cx="3000240" cy="3005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flipV="1">
            <a:off x="4427640" y="4508640"/>
            <a:ext cx="2449440" cy="7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51640" y="386064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851280" y="4221000"/>
            <a:ext cx="3960720" cy="775080"/>
            <a:chOff x="3851280" y="4221000"/>
            <a:chExt cx="3960720" cy="775080"/>
          </a:xfrm>
        </p:grpSpPr>
        <p:sp>
          <p:nvSpPr>
            <p:cNvPr id="326" name=""/>
            <p:cNvSpPr/>
            <p:nvPr/>
          </p:nvSpPr>
          <p:spPr>
            <a:xfrm>
              <a:off x="3851280" y="429264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04000" y="422100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5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11280" y="260280"/>
            <a:ext cx="1395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如上图，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直径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线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长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则过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所有弦中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最大弦长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最短弦长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弦长为整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有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条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27280" cy="12207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4219560" y="3500280"/>
            <a:ext cx="2665440" cy="2613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508720" y="3573360"/>
            <a:ext cx="71280" cy="244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00720" y="5373360"/>
            <a:ext cx="2158920" cy="142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148360" y="3059280"/>
            <a:ext cx="1655280" cy="3800520"/>
            <a:chOff x="5148360" y="3059280"/>
            <a:chExt cx="1655280" cy="3800520"/>
          </a:xfrm>
        </p:grpSpPr>
        <p:sp>
          <p:nvSpPr>
            <p:cNvPr id="334" name=""/>
            <p:cNvSpPr/>
            <p:nvPr/>
          </p:nvSpPr>
          <p:spPr>
            <a:xfrm>
              <a:off x="5148360" y="3059280"/>
              <a:ext cx="9363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Ａ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90920" y="6156360"/>
              <a:ext cx="151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851280" y="5013360"/>
            <a:ext cx="3457440" cy="919440"/>
            <a:chOff x="3851280" y="5013360"/>
            <a:chExt cx="3457440" cy="919440"/>
          </a:xfrm>
        </p:grpSpPr>
        <p:sp>
          <p:nvSpPr>
            <p:cNvPr id="337" name=""/>
            <p:cNvSpPr/>
            <p:nvPr/>
          </p:nvSpPr>
          <p:spPr>
            <a:xfrm>
              <a:off x="3851280" y="522936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88000" y="501336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Arial"/>
                </a:rPr>
                <a:t>Ｄ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H="1">
            <a:off x="4875120" y="4653000"/>
            <a:ext cx="1873440" cy="1224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16400" y="4869000"/>
            <a:ext cx="2016000" cy="936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64160" y="4869000"/>
            <a:ext cx="0" cy="5760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00720" y="4797360"/>
            <a:ext cx="1008000" cy="71928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4000" y="3860640"/>
            <a:ext cx="496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连半径，构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直角三角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6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7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0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95280" y="112536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C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直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B⊥C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于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E,CE=1,AB=10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41800" y="56610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68720" y="26370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17800" y="3357720"/>
            <a:ext cx="2926080" cy="2264760"/>
            <a:chOff x="2917800" y="3357720"/>
            <a:chExt cx="2926080" cy="2264760"/>
          </a:xfrm>
        </p:grpSpPr>
        <p:sp>
          <p:nvSpPr>
            <p:cNvPr id="348" name=""/>
            <p:cNvSpPr/>
            <p:nvPr/>
          </p:nvSpPr>
          <p:spPr>
            <a:xfrm>
              <a:off x="3349440" y="3357720"/>
              <a:ext cx="2087640" cy="2158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37080" y="5157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29080" y="3357720"/>
              <a:ext cx="0" cy="21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17800" y="479736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22880" y="479736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59240" y="44370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83240" y="386100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15240" y="3429000"/>
              <a:ext cx="462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95280" y="666720"/>
            <a:ext cx="80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如图，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OA=OB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AB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交⊙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与点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C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D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AC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与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BD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是否相等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537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3788640"/>
            <a:ext cx="905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我们采用什么操作方法研究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称图形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268280"/>
            <a:ext cx="79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一个图形沿着某一条直线折叠后，直线两旁的部分能够互相重合，那么这个图形叫做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称图形，这条直线叫做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515772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折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262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27640" y="2349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6360" y="28605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对称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0 0 C 0 0.04667 0.028 0.08267 0.062 0.08267 C 0.097 0.08267 0.125 0.04667 0.125 0 C 0.125 -0.04667 0.153 -0.08267 0.188 -0.08267 C 0.222 -0.08267 0.25 -0.04667 0.25 0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24000" y="1144800"/>
            <a:ext cx="8567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５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在直径为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650mm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的圆柱形油罐内装进一些油后，其横截面如图，若油面宽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AB=600mm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，求油的最大深度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340000" y="2852640"/>
            <a:ext cx="410364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76360" y="357336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　圆是轴对称图形，过圆心的直线（直径所在的直线）是它的对称轴，有无数条对称轴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．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4076640"/>
            <a:ext cx="655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692280"/>
            <a:ext cx="8064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圆是轴对称图形吗？如果是，它的对称轴是什么？你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找到多少条对称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0"/>
            <a:ext cx="2916360" cy="2005200"/>
            <a:chOff x="0" y="0"/>
            <a:chExt cx="2916360" cy="20052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6668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692360" y="692280"/>
              <a:ext cx="122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一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何确定圆形纸片的圆心？说说你的想法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42900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将圆纸片对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确定出圆的一条直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同样的方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再确定出圆的另一条直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两条直径的交点即为圆形纸片的圆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21240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判断下列图形是否具有对称性？如果是中心对称图形，指出它的对称中心，如果是轴对称图形，指出它的对称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41600" cy="1050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59772" t="0" r="0" b="0"/>
          <a:stretch/>
        </p:blipFill>
        <p:spPr>
          <a:xfrm>
            <a:off x="5724360" y="3906720"/>
            <a:ext cx="3600720" cy="295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19931" t="0" r="57497" b="0"/>
          <a:stretch/>
        </p:blipFill>
        <p:spPr>
          <a:xfrm>
            <a:off x="2124000" y="3933720"/>
            <a:ext cx="2063880" cy="292428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79280" y="3789360"/>
            <a:ext cx="2192400" cy="2736360"/>
            <a:chOff x="179280" y="3789360"/>
            <a:chExt cx="2192400" cy="2736360"/>
          </a:xfrm>
        </p:grpSpPr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179280" y="3789360"/>
              <a:ext cx="2192400" cy="24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030680" y="6145920"/>
              <a:ext cx="42552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956040" y="3828960"/>
            <a:ext cx="2087640" cy="2683080"/>
            <a:chOff x="3956040" y="3828960"/>
            <a:chExt cx="2087640" cy="2683080"/>
          </a:xfrm>
        </p:grpSpPr>
        <p:sp>
          <p:nvSpPr>
            <p:cNvPr id="116" name=""/>
            <p:cNvSpPr/>
            <p:nvPr/>
          </p:nvSpPr>
          <p:spPr>
            <a:xfrm>
              <a:off x="4735800" y="6154200"/>
              <a:ext cx="487440" cy="3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5"/>
            <a:stretch/>
          </p:blipFill>
          <p:spPr>
            <a:xfrm>
              <a:off x="3956040" y="3828960"/>
              <a:ext cx="2087640" cy="250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067280" y="4149720"/>
            <a:ext cx="1893960" cy="1946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309600" y="4076640"/>
            <a:ext cx="1876320" cy="1928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1052640"/>
            <a:ext cx="7742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如果一个对称图形与圆具有相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的对称中心或对称轴，那么它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圆组成的新图形也是对称图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animEffect filter="diamond(in)" transition="out">
                                      <p:cBhvr additive="repl">
                                        <p:cTn id="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765000"/>
            <a:ext cx="8459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弦，画直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B⊥C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垂足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将圆形纸片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对折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过折叠活动，你发现了哪些相等的线段和相等的弧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12000" y="3500280"/>
            <a:ext cx="4176720" cy="2742480"/>
            <a:chOff x="6012000" y="3500280"/>
            <a:chExt cx="4176720" cy="2742480"/>
          </a:xfrm>
        </p:grpSpPr>
        <p:sp>
          <p:nvSpPr>
            <p:cNvPr id="123" name=""/>
            <p:cNvSpPr/>
            <p:nvPr/>
          </p:nvSpPr>
          <p:spPr>
            <a:xfrm>
              <a:off x="6012000" y="3500280"/>
              <a:ext cx="4176720" cy="27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ff0000"/>
                  </a:solidFill>
                  <a:latin typeface="Arial"/>
                </a:rPr>
                <a:t>PC</a:t>
              </a:r>
              <a:r>
                <a:rPr b="0" lang="zh-CN" sz="40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r>
                <a:rPr b="0" i="1" lang="zh-CN" sz="4000" spc="-1" strike="noStrike">
                  <a:solidFill>
                    <a:srgbClr val="ff0000"/>
                  </a:solidFill>
                  <a:latin typeface="Arial"/>
                </a:rPr>
                <a:t>PD</a:t>
              </a:r>
              <a:r>
                <a:rPr b="0" lang="zh-CN" sz="4000" spc="-1" strike="noStrike">
                  <a:solidFill>
                    <a:srgbClr val="ff0000"/>
                  </a:solidFill>
                  <a:latin typeface="Arial"/>
                </a:rPr>
                <a:t>;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AC=AD;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0000"/>
                  </a:solidFill>
                  <a:latin typeface="Arial"/>
                </a:rPr>
                <a:t>BC=B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56720" y="4076640"/>
              <a:ext cx="100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ahoma"/>
                </a:rPr>
                <a:t>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4720" y="5084640"/>
              <a:ext cx="91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ahoma"/>
                </a:rPr>
                <a:t>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56720" y="5084640"/>
              <a:ext cx="91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ahoma"/>
                </a:rPr>
                <a:t>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37800" y="4076640"/>
              <a:ext cx="91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ahoma"/>
                </a:rPr>
                <a:t>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787480" cy="3573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92360" y="3284640"/>
            <a:ext cx="1976400" cy="35733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0" y="0"/>
            <a:ext cx="2916360" cy="1838160"/>
            <a:chOff x="0" y="0"/>
            <a:chExt cx="2916360" cy="1838160"/>
          </a:xfrm>
        </p:grpSpPr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6680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692360" y="69228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二</a:t>
              </a: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4010040"/>
            <a:ext cx="86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垂径定理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垂直于弦的直径平分这条弦，并且平分弦所对的弧</a:t>
            </a: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125360"/>
            <a:ext cx="7488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上述操作过程中</a:t>
            </a: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圆的直径与弦垂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时候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你会得出什么结论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727280" cy="1185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78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1341360"/>
            <a:ext cx="51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证明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134136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接ＯＣ、ＯＤ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060640"/>
            <a:ext cx="78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ＯＣ＝ＯＤ，ＯＰ⊥Ｃ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781360"/>
            <a:ext cx="102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∴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ＣＰ＝Ｄ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∠ＢＯＣ＝∠ＢＯ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716280"/>
            <a:ext cx="85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∵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ＢＯＣ＝∠ＢＯ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458136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ＡＯＣ＝∠ＡＯ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5013360"/>
            <a:ext cx="4968720" cy="1063800"/>
            <a:chOff x="395280" y="5013360"/>
            <a:chExt cx="4968720" cy="1063800"/>
          </a:xfrm>
        </p:grpSpPr>
        <p:grpSp>
          <p:nvGrpSpPr>
            <p:cNvPr id="144" name=""/>
            <p:cNvGrpSpPr/>
            <p:nvPr/>
          </p:nvGrpSpPr>
          <p:grpSpPr>
            <a:xfrm>
              <a:off x="1187280" y="5013360"/>
              <a:ext cx="4176720" cy="1063800"/>
              <a:chOff x="1187280" y="5013360"/>
              <a:chExt cx="4176720" cy="1063800"/>
            </a:xfrm>
          </p:grpSpPr>
          <p:sp>
            <p:nvSpPr>
              <p:cNvPr id="145" name=""/>
              <p:cNvSpPr/>
              <p:nvPr/>
            </p:nvSpPr>
            <p:spPr>
              <a:xfrm>
                <a:off x="1187280" y="5373720"/>
                <a:ext cx="4176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4000" spc="-1" strike="noStrike">
                    <a:solidFill>
                      <a:srgbClr val="cc0000"/>
                    </a:solidFill>
                    <a:latin typeface="Arial"/>
                  </a:rPr>
                  <a:t>BC=BD</a:t>
                </a:r>
                <a:r>
                  <a:rPr b="0" lang="en-GB" sz="4000" spc="-1" strike="noStrike">
                    <a:solidFill>
                      <a:srgbClr val="000000"/>
                    </a:solidFill>
                    <a:latin typeface="Arial"/>
                  </a:rPr>
                  <a:t> ; </a:t>
                </a:r>
                <a:r>
                  <a:rPr b="0" lang="en-GB" sz="4000" spc="-1" strike="noStrike">
                    <a:solidFill>
                      <a:srgbClr val="cc0000"/>
                    </a:solidFill>
                    <a:latin typeface="Arial"/>
                  </a:rPr>
                  <a:t>AC=A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60360" y="5013360"/>
                <a:ext cx="1008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c0000"/>
                    </a:solidFill>
                    <a:latin typeface="Tahoma"/>
                  </a:rPr>
                  <a:t>⌒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29080" y="5013360"/>
                <a:ext cx="914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c0000"/>
                    </a:solidFill>
                    <a:latin typeface="Tahoma"/>
                  </a:rPr>
                  <a:t>⌒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48000" y="5086080"/>
                <a:ext cx="914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c0000"/>
                    </a:solidFill>
                    <a:latin typeface="Tahoma"/>
                  </a:rPr>
                  <a:t>⌒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412720" y="5013360"/>
                <a:ext cx="914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c0000"/>
                    </a:solidFill>
                    <a:latin typeface="Tahoma"/>
                  </a:rPr>
                  <a:t>⌒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395280" y="52293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cc0000"/>
                  </a:solidFill>
                  <a:latin typeface="Arial"/>
                </a:rPr>
                <a:t>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56360" y="3281400"/>
            <a:ext cx="2790720" cy="3576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6500880" y="5084640"/>
            <a:ext cx="1008000" cy="704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61360" y="5084640"/>
            <a:ext cx="1008000" cy="7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35280" cy="10206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692360" y="1341360"/>
            <a:ext cx="4174920" cy="3527640"/>
            <a:chOff x="1692360" y="1341360"/>
            <a:chExt cx="4174920" cy="3527640"/>
          </a:xfrm>
        </p:grpSpPr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1692360" y="1341360"/>
              <a:ext cx="41749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539440" y="1681200"/>
              <a:ext cx="3032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cc0000"/>
                  </a:solidFill>
                  <a:latin typeface="Arial"/>
                  <a:ea typeface="华文行楷"/>
                </a:rPr>
                <a:t>你能证明定理吗？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654200" y="0"/>
            <a:ext cx="748980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垂径定理：垂直于弦的直径平分这条弦，并且平分弦所对的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6360" y="1773360"/>
            <a:ext cx="856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已知：在⊙Ｏ中，ＡＢ是直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ＣＤ是弦，ＡＢ⊥ＣＤ垂足为Ｐ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1197000"/>
            <a:ext cx="763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4360" y="3573360"/>
            <a:ext cx="5905440" cy="1832400"/>
            <a:chOff x="684360" y="3573360"/>
            <a:chExt cx="5905440" cy="1832400"/>
          </a:xfrm>
        </p:grpSpPr>
        <p:grpSp>
          <p:nvGrpSpPr>
            <p:cNvPr id="162" name=""/>
            <p:cNvGrpSpPr/>
            <p:nvPr/>
          </p:nvGrpSpPr>
          <p:grpSpPr>
            <a:xfrm>
              <a:off x="2413080" y="4341960"/>
              <a:ext cx="4176720" cy="1063800"/>
              <a:chOff x="2413080" y="4341960"/>
              <a:chExt cx="4176720" cy="1063800"/>
            </a:xfrm>
          </p:grpSpPr>
          <p:sp>
            <p:nvSpPr>
              <p:cNvPr id="163" name=""/>
              <p:cNvSpPr/>
              <p:nvPr/>
            </p:nvSpPr>
            <p:spPr>
              <a:xfrm>
                <a:off x="2413080" y="4702320"/>
                <a:ext cx="41767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cc0000"/>
                    </a:solidFill>
                    <a:latin typeface="Arial"/>
                  </a:rPr>
                  <a:t>BC=BD</a:t>
                </a: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GB" sz="4000" spc="-1" strike="noStrike">
                    <a:solidFill>
                      <a:srgbClr val="ff0000"/>
                    </a:solidFill>
                    <a:latin typeface="Arial"/>
                  </a:rPr>
                  <a:t>,</a:t>
                </a:r>
                <a:r>
                  <a:rPr b="1" lang="en-GB" sz="4000" spc="-1" strike="noStrike">
                    <a:solidFill>
                      <a:srgbClr val="cc0000"/>
                    </a:solidFill>
                    <a:latin typeface="Arial"/>
                  </a:rPr>
                  <a:t>AC=A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86160" y="4341960"/>
                <a:ext cx="1008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c0000"/>
                    </a:solidFill>
                    <a:latin typeface="Tahoma"/>
                  </a:rPr>
                  <a:t>⌒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654880" y="4341960"/>
                <a:ext cx="914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c0000"/>
                    </a:solidFill>
                    <a:latin typeface="Tahoma"/>
                  </a:rPr>
                  <a:t>⌒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73800" y="4414680"/>
                <a:ext cx="914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c0000"/>
                    </a:solidFill>
                    <a:latin typeface="Tahoma"/>
                  </a:rPr>
                  <a:t>⌒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38520" y="4341960"/>
                <a:ext cx="914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c0000"/>
                    </a:solidFill>
                    <a:latin typeface="Tahoma"/>
                  </a:rPr>
                  <a:t>⌒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684360" y="3573360"/>
              <a:ext cx="583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0000"/>
                  </a:solidFill>
                  <a:latin typeface="Arial"/>
                </a:rPr>
                <a:t>求证：</a:t>
              </a:r>
              <a:r>
                <a:rPr b="1" lang="zh-CN" sz="4800" spc="-1" strike="noStrike">
                  <a:solidFill>
                    <a:srgbClr val="cc0000"/>
                  </a:solidFill>
                  <a:latin typeface="Arial"/>
                </a:rPr>
                <a:t>PC</a:t>
              </a:r>
              <a:r>
                <a:rPr b="1" lang="zh-CN" sz="4800" spc="-1" strike="noStrike">
                  <a:solidFill>
                    <a:srgbClr val="cc0000"/>
                  </a:solidFill>
                  <a:latin typeface="Arial"/>
                </a:rPr>
                <a:t>＝</a:t>
              </a:r>
              <a:r>
                <a:rPr b="1" lang="zh-CN" sz="4800" spc="-1" strike="noStrike">
                  <a:solidFill>
                    <a:srgbClr val="cc0000"/>
                  </a:solidFill>
                  <a:latin typeface="Arial"/>
                </a:rPr>
                <a:t>PD</a:t>
              </a:r>
              <a:r>
                <a:rPr b="1" lang="zh-CN" sz="4800" spc="-1" strike="noStrike">
                  <a:solidFill>
                    <a:srgbClr val="cc0000"/>
                  </a:solidFill>
                  <a:latin typeface="Arial"/>
                </a:rPr>
                <a:t>，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403200"/>
            <a:ext cx="946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例１：如图，以点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O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为圆心的两个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心圆中，大圆的弦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AB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交小圆于点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C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AC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与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BD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相等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14400" y="331776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06840" y="2525760"/>
            <a:ext cx="3960720" cy="36687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548400" y="4405320"/>
            <a:ext cx="0" cy="5047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21600" y="464040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2:10:59Z</dcterms:created>
  <dc:creator>zzg</dc:creator>
  <dc:description/>
  <dc:language>en-US</dc:language>
  <cp:lastModifiedBy>微软用户</cp:lastModifiedBy>
  <dcterms:modified xsi:type="dcterms:W3CDTF">2015-01-14T12:36:33Z</dcterms:modified>
  <cp:revision>2</cp:revision>
  <dc:subject/>
  <dc:title>2.2圆的对称性(2)</dc:title>
</cp:coreProperties>
</file>