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0.wmf" ContentType="image/x-wmf"/>
  <Override PartName="/ppt/media/image19.wmf" ContentType="image/x-wmf"/>
  <Override PartName="/ppt/media/image14.wmf" ContentType="image/x-wmf"/>
  <Override PartName="/ppt/media/%E6%BB%91%E5%8A%A8.wav" ContentType="audio/x-wav"/>
  <Override PartName="/ppt/media/image18.png" ContentType="image/png"/>
  <Override PartName="/ppt/media/image4.wmf" ContentType="image/x-wmf"/>
  <Override PartName="/ppt/media/image16.png" ContentType="image/png"/>
  <Override PartName="/ppt/media/image15.wmf" ContentType="image/x-wmf"/>
  <Override PartName="/ppt/media/image22.png" ContentType="image/png"/>
  <Override PartName="/ppt/media/image21.jpeg" ContentType="image/jpeg"/>
  <Override PartName="/ppt/media/image17.gif" ContentType="image/gif"/>
  <Override PartName="/ppt/media/image2.wmf" ContentType="image/x-wm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CC4-9CB9-41D2-BEDF-E77E3EB3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9C1-8138-4013-84C5-AC2A5498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B84-60EE-4E91-802C-5718BC92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A28-EC2B-400E-9AE1-09E4889B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46C-489F-4BDA-8F1D-6250813C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C25-D944-4637-A223-F91ADB46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A7C1-1337-4BB8-9D6E-452362D6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9C59-2CF5-49EB-8AF2-541C3E11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8DA-40E7-4062-B1A8-CBAC6F37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A1A0-6A74-426A-B6F2-DAA1578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EF3-969B-490E-BB30-71D12E26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4BD-9ABE-42E2-94B5-0A5C2B98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6707-03EF-4E5B-9684-6BFD149FF9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&#28369;&#21160;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&#28369;&#21160;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"/>
              </a:rPr>
              <a:t>勾股定理复习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82"/>
          <p:cNvGrpSpPr/>
          <p:nvPr/>
        </p:nvGrpSpPr>
        <p:grpSpPr>
          <a:xfrm>
            <a:off x="2411280" y="76680"/>
            <a:ext cx="3618720" cy="4185720"/>
            <a:chOff x="2411280" y="76680"/>
            <a:chExt cx="3618720" cy="4185720"/>
          </a:xfrm>
        </p:grpSpPr>
        <p:grpSp>
          <p:nvGrpSpPr>
            <p:cNvPr id="43" name="Group 80"/>
            <p:cNvGrpSpPr/>
            <p:nvPr/>
          </p:nvGrpSpPr>
          <p:grpSpPr>
            <a:xfrm>
              <a:off x="2411280" y="1605240"/>
              <a:ext cx="1103040" cy="1137960"/>
              <a:chOff x="2411280" y="1605240"/>
              <a:chExt cx="1103040" cy="1137960"/>
            </a:xfrm>
          </p:grpSpPr>
          <p:grpSp>
            <p:nvGrpSpPr>
              <p:cNvPr id="44" name="Group 5"/>
              <p:cNvGrpSpPr/>
              <p:nvPr/>
            </p:nvGrpSpPr>
            <p:grpSpPr>
              <a:xfrm>
                <a:off x="2411280" y="1986120"/>
                <a:ext cx="1103040" cy="376200"/>
                <a:chOff x="2411280" y="1986120"/>
                <a:chExt cx="1103040" cy="376200"/>
              </a:xfrm>
            </p:grpSpPr>
            <p:sp>
              <p:nvSpPr>
                <p:cNvPr id="45" name="Rectangle 6"/>
                <p:cNvSpPr/>
                <p:nvPr/>
              </p:nvSpPr>
              <p:spPr>
                <a:xfrm>
                  <a:off x="3146760" y="198612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7"/>
                <p:cNvSpPr/>
                <p:nvPr/>
              </p:nvSpPr>
              <p:spPr>
                <a:xfrm>
                  <a:off x="2778840" y="1986120"/>
                  <a:ext cx="36792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Rectangle 8"/>
                <p:cNvSpPr/>
                <p:nvPr/>
              </p:nvSpPr>
              <p:spPr>
                <a:xfrm>
                  <a:off x="2411280" y="198612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Group 9"/>
              <p:cNvGrpSpPr/>
              <p:nvPr/>
            </p:nvGrpSpPr>
            <p:grpSpPr>
              <a:xfrm>
                <a:off x="2411280" y="2367000"/>
                <a:ext cx="1103040" cy="376200"/>
                <a:chOff x="2411280" y="2367000"/>
                <a:chExt cx="1103040" cy="376200"/>
              </a:xfrm>
            </p:grpSpPr>
            <p:sp>
              <p:nvSpPr>
                <p:cNvPr id="49" name="Rectangle 10"/>
                <p:cNvSpPr/>
                <p:nvPr/>
              </p:nvSpPr>
              <p:spPr>
                <a:xfrm>
                  <a:off x="3146760" y="236700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Rectangle 11"/>
                <p:cNvSpPr/>
                <p:nvPr/>
              </p:nvSpPr>
              <p:spPr>
                <a:xfrm>
                  <a:off x="2778840" y="2367000"/>
                  <a:ext cx="36792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Rectangle 12"/>
                <p:cNvSpPr/>
                <p:nvPr/>
              </p:nvSpPr>
              <p:spPr>
                <a:xfrm>
                  <a:off x="2411280" y="236700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" name="Group 13"/>
              <p:cNvGrpSpPr/>
              <p:nvPr/>
            </p:nvGrpSpPr>
            <p:grpSpPr>
              <a:xfrm>
                <a:off x="2411280" y="1605240"/>
                <a:ext cx="1103040" cy="376200"/>
                <a:chOff x="2411280" y="1605240"/>
                <a:chExt cx="1103040" cy="376200"/>
              </a:xfrm>
            </p:grpSpPr>
            <p:sp>
              <p:nvSpPr>
                <p:cNvPr id="53" name="Rectangle 14"/>
                <p:cNvSpPr/>
                <p:nvPr/>
              </p:nvSpPr>
              <p:spPr>
                <a:xfrm>
                  <a:off x="3146760" y="160524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Rectangle 15"/>
                <p:cNvSpPr/>
                <p:nvPr/>
              </p:nvSpPr>
              <p:spPr>
                <a:xfrm>
                  <a:off x="2778840" y="1605240"/>
                  <a:ext cx="36792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16"/>
                <p:cNvSpPr/>
                <p:nvPr/>
              </p:nvSpPr>
              <p:spPr>
                <a:xfrm>
                  <a:off x="2411280" y="160524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" name="Group 81"/>
            <p:cNvGrpSpPr/>
            <p:nvPr/>
          </p:nvGrpSpPr>
          <p:grpSpPr>
            <a:xfrm>
              <a:off x="3501720" y="2743200"/>
              <a:ext cx="1470960" cy="1519200"/>
              <a:chOff x="3501720" y="2743200"/>
              <a:chExt cx="1470960" cy="1519200"/>
            </a:xfrm>
          </p:grpSpPr>
          <p:grpSp>
            <p:nvGrpSpPr>
              <p:cNvPr id="57" name="Group 18"/>
              <p:cNvGrpSpPr/>
              <p:nvPr/>
            </p:nvGrpSpPr>
            <p:grpSpPr>
              <a:xfrm>
                <a:off x="3501720" y="2743200"/>
                <a:ext cx="1470960" cy="376200"/>
                <a:chOff x="3501720" y="2743200"/>
                <a:chExt cx="1470960" cy="376200"/>
              </a:xfrm>
            </p:grpSpPr>
            <p:sp>
              <p:nvSpPr>
                <p:cNvPr id="58" name="Rectangle 19"/>
                <p:cNvSpPr/>
                <p:nvPr/>
              </p:nvSpPr>
              <p:spPr>
                <a:xfrm>
                  <a:off x="4605120" y="274320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20"/>
                <p:cNvSpPr/>
                <p:nvPr/>
              </p:nvSpPr>
              <p:spPr>
                <a:xfrm>
                  <a:off x="4237200" y="2743200"/>
                  <a:ext cx="36792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21"/>
                <p:cNvSpPr/>
                <p:nvPr/>
              </p:nvSpPr>
              <p:spPr>
                <a:xfrm>
                  <a:off x="3869280" y="274320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22"/>
                <p:cNvSpPr/>
                <p:nvPr/>
              </p:nvSpPr>
              <p:spPr>
                <a:xfrm>
                  <a:off x="3501720" y="274320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23"/>
              <p:cNvGrpSpPr/>
              <p:nvPr/>
            </p:nvGrpSpPr>
            <p:grpSpPr>
              <a:xfrm>
                <a:off x="3501720" y="3124440"/>
                <a:ext cx="1470960" cy="376200"/>
                <a:chOff x="3501720" y="3124440"/>
                <a:chExt cx="1470960" cy="376200"/>
              </a:xfrm>
            </p:grpSpPr>
            <p:sp>
              <p:nvSpPr>
                <p:cNvPr id="63" name="Rectangle 24"/>
                <p:cNvSpPr/>
                <p:nvPr/>
              </p:nvSpPr>
              <p:spPr>
                <a:xfrm>
                  <a:off x="4605120" y="312444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Rectangle 25"/>
                <p:cNvSpPr/>
                <p:nvPr/>
              </p:nvSpPr>
              <p:spPr>
                <a:xfrm>
                  <a:off x="4237200" y="3124440"/>
                  <a:ext cx="36792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26"/>
                <p:cNvSpPr/>
                <p:nvPr/>
              </p:nvSpPr>
              <p:spPr>
                <a:xfrm>
                  <a:off x="3869280" y="312444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27"/>
                <p:cNvSpPr/>
                <p:nvPr/>
              </p:nvSpPr>
              <p:spPr>
                <a:xfrm>
                  <a:off x="3501720" y="312444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28"/>
              <p:cNvGrpSpPr/>
              <p:nvPr/>
            </p:nvGrpSpPr>
            <p:grpSpPr>
              <a:xfrm>
                <a:off x="3501720" y="3505320"/>
                <a:ext cx="1470960" cy="376200"/>
                <a:chOff x="3501720" y="3505320"/>
                <a:chExt cx="1470960" cy="376200"/>
              </a:xfrm>
            </p:grpSpPr>
            <p:sp>
              <p:nvSpPr>
                <p:cNvPr id="68" name="Rectangle 29"/>
                <p:cNvSpPr/>
                <p:nvPr/>
              </p:nvSpPr>
              <p:spPr>
                <a:xfrm>
                  <a:off x="4605120" y="350532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Rectangle 30"/>
                <p:cNvSpPr/>
                <p:nvPr/>
              </p:nvSpPr>
              <p:spPr>
                <a:xfrm>
                  <a:off x="4237200" y="3505320"/>
                  <a:ext cx="36792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Rectangle 31"/>
                <p:cNvSpPr/>
                <p:nvPr/>
              </p:nvSpPr>
              <p:spPr>
                <a:xfrm>
                  <a:off x="3869280" y="350532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32"/>
                <p:cNvSpPr/>
                <p:nvPr/>
              </p:nvSpPr>
              <p:spPr>
                <a:xfrm>
                  <a:off x="3501720" y="350532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33"/>
              <p:cNvGrpSpPr/>
              <p:nvPr/>
            </p:nvGrpSpPr>
            <p:grpSpPr>
              <a:xfrm>
                <a:off x="3501720" y="3886200"/>
                <a:ext cx="1470960" cy="376200"/>
                <a:chOff x="3501720" y="3886200"/>
                <a:chExt cx="1470960" cy="376200"/>
              </a:xfrm>
            </p:grpSpPr>
            <p:sp>
              <p:nvSpPr>
                <p:cNvPr id="73" name="Rectangle 34"/>
                <p:cNvSpPr/>
                <p:nvPr/>
              </p:nvSpPr>
              <p:spPr>
                <a:xfrm>
                  <a:off x="4605120" y="388620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35"/>
                <p:cNvSpPr/>
                <p:nvPr/>
              </p:nvSpPr>
              <p:spPr>
                <a:xfrm>
                  <a:off x="4237200" y="3886200"/>
                  <a:ext cx="36792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6"/>
                <p:cNvSpPr/>
                <p:nvPr/>
              </p:nvSpPr>
              <p:spPr>
                <a:xfrm>
                  <a:off x="3869280" y="388620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37"/>
                <p:cNvSpPr/>
                <p:nvPr/>
              </p:nvSpPr>
              <p:spPr>
                <a:xfrm>
                  <a:off x="3501720" y="3886200"/>
                  <a:ext cx="367560" cy="3762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79"/>
            <p:cNvGrpSpPr/>
            <p:nvPr/>
          </p:nvGrpSpPr>
          <p:grpSpPr>
            <a:xfrm>
              <a:off x="3463200" y="76680"/>
              <a:ext cx="2566800" cy="2633760"/>
              <a:chOff x="3463200" y="76680"/>
              <a:chExt cx="2566800" cy="2633760"/>
            </a:xfrm>
          </p:grpSpPr>
          <p:grpSp>
            <p:nvGrpSpPr>
              <p:cNvPr id="78" name="Group 39"/>
              <p:cNvGrpSpPr/>
              <p:nvPr/>
            </p:nvGrpSpPr>
            <p:grpSpPr>
              <a:xfrm>
                <a:off x="3463200" y="76680"/>
                <a:ext cx="1445400" cy="1722960"/>
                <a:chOff x="3463200" y="76680"/>
                <a:chExt cx="1445400" cy="1722960"/>
              </a:xfrm>
            </p:grpSpPr>
            <p:sp>
              <p:nvSpPr>
                <p:cNvPr id="79" name="Rectangle 40"/>
                <p:cNvSpPr/>
                <p:nvPr/>
              </p:nvSpPr>
              <p:spPr>
                <a:xfrm rot="18446400">
                  <a:off x="4226040" y="447840"/>
                  <a:ext cx="375480" cy="383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41"/>
                <p:cNvSpPr/>
                <p:nvPr/>
              </p:nvSpPr>
              <p:spPr>
                <a:xfrm rot="18446400">
                  <a:off x="3997800" y="746280"/>
                  <a:ext cx="375120" cy="383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Rectangle 42"/>
                <p:cNvSpPr/>
                <p:nvPr/>
              </p:nvSpPr>
              <p:spPr>
                <a:xfrm rot="18446400">
                  <a:off x="3769920" y="1044000"/>
                  <a:ext cx="375120" cy="383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43"/>
                <p:cNvSpPr/>
                <p:nvPr/>
              </p:nvSpPr>
              <p:spPr>
                <a:xfrm rot="18446400">
                  <a:off x="3541680" y="1341720"/>
                  <a:ext cx="375480" cy="383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44"/>
                <p:cNvSpPr/>
                <p:nvPr/>
              </p:nvSpPr>
              <p:spPr>
                <a:xfrm rot="18446400">
                  <a:off x="4454280" y="150120"/>
                  <a:ext cx="375120" cy="383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45"/>
              <p:cNvGrpSpPr/>
              <p:nvPr/>
            </p:nvGrpSpPr>
            <p:grpSpPr>
              <a:xfrm>
                <a:off x="3744360" y="305280"/>
                <a:ext cx="1445040" cy="1722600"/>
                <a:chOff x="3744360" y="305280"/>
                <a:chExt cx="1445040" cy="1722600"/>
              </a:xfrm>
            </p:grpSpPr>
            <p:sp>
              <p:nvSpPr>
                <p:cNvPr id="85" name="Rectangle 46"/>
                <p:cNvSpPr/>
                <p:nvPr/>
              </p:nvSpPr>
              <p:spPr>
                <a:xfrm rot="18446400">
                  <a:off x="4507200" y="676800"/>
                  <a:ext cx="375480" cy="383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47"/>
                <p:cNvSpPr/>
                <p:nvPr/>
              </p:nvSpPr>
              <p:spPr>
                <a:xfrm rot="18446400">
                  <a:off x="4278960" y="974880"/>
                  <a:ext cx="375120" cy="383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48"/>
                <p:cNvSpPr/>
                <p:nvPr/>
              </p:nvSpPr>
              <p:spPr>
                <a:xfrm rot="18446400">
                  <a:off x="4051080" y="1272600"/>
                  <a:ext cx="375120" cy="383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49"/>
                <p:cNvSpPr/>
                <p:nvPr/>
              </p:nvSpPr>
              <p:spPr>
                <a:xfrm rot="18446400">
                  <a:off x="3822840" y="1570680"/>
                  <a:ext cx="375480" cy="383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50"/>
                <p:cNvSpPr/>
                <p:nvPr/>
              </p:nvSpPr>
              <p:spPr>
                <a:xfrm rot="18446400">
                  <a:off x="4735440" y="378720"/>
                  <a:ext cx="375120" cy="383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51"/>
              <p:cNvGrpSpPr/>
              <p:nvPr/>
            </p:nvGrpSpPr>
            <p:grpSpPr>
              <a:xfrm>
                <a:off x="4025880" y="533880"/>
                <a:ext cx="1445040" cy="1722600"/>
                <a:chOff x="4025880" y="533880"/>
                <a:chExt cx="1445040" cy="1722600"/>
              </a:xfrm>
            </p:grpSpPr>
            <p:sp>
              <p:nvSpPr>
                <p:cNvPr id="91" name="Rectangle 52"/>
                <p:cNvSpPr/>
                <p:nvPr/>
              </p:nvSpPr>
              <p:spPr>
                <a:xfrm rot="18446400">
                  <a:off x="4788720" y="905400"/>
                  <a:ext cx="375480" cy="383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53"/>
                <p:cNvSpPr/>
                <p:nvPr/>
              </p:nvSpPr>
              <p:spPr>
                <a:xfrm rot="18446400">
                  <a:off x="4560480" y="1203480"/>
                  <a:ext cx="375120" cy="383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54"/>
                <p:cNvSpPr/>
                <p:nvPr/>
              </p:nvSpPr>
              <p:spPr>
                <a:xfrm rot="18446400">
                  <a:off x="4332600" y="1501200"/>
                  <a:ext cx="375120" cy="383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55"/>
                <p:cNvSpPr/>
                <p:nvPr/>
              </p:nvSpPr>
              <p:spPr>
                <a:xfrm rot="18446400">
                  <a:off x="4104360" y="1799280"/>
                  <a:ext cx="375480" cy="383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56"/>
                <p:cNvSpPr/>
                <p:nvPr/>
              </p:nvSpPr>
              <p:spPr>
                <a:xfrm rot="18446400">
                  <a:off x="5016960" y="607320"/>
                  <a:ext cx="375120" cy="3834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57"/>
              <p:cNvGrpSpPr/>
              <p:nvPr/>
            </p:nvGrpSpPr>
            <p:grpSpPr>
              <a:xfrm>
                <a:off x="4307040" y="762480"/>
                <a:ext cx="1445400" cy="1722960"/>
                <a:chOff x="4307040" y="762480"/>
                <a:chExt cx="1445400" cy="1722960"/>
              </a:xfrm>
            </p:grpSpPr>
            <p:sp>
              <p:nvSpPr>
                <p:cNvPr id="97" name="Rectangle 58"/>
                <p:cNvSpPr/>
                <p:nvPr/>
              </p:nvSpPr>
              <p:spPr>
                <a:xfrm rot="18446400">
                  <a:off x="5069880" y="1133640"/>
                  <a:ext cx="375480" cy="383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59"/>
                <p:cNvSpPr/>
                <p:nvPr/>
              </p:nvSpPr>
              <p:spPr>
                <a:xfrm rot="18446400">
                  <a:off x="4841640" y="1432080"/>
                  <a:ext cx="375120" cy="383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60"/>
                <p:cNvSpPr/>
                <p:nvPr/>
              </p:nvSpPr>
              <p:spPr>
                <a:xfrm rot="18446400">
                  <a:off x="4613760" y="1729800"/>
                  <a:ext cx="375120" cy="383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61"/>
                <p:cNvSpPr/>
                <p:nvPr/>
              </p:nvSpPr>
              <p:spPr>
                <a:xfrm rot="18446400">
                  <a:off x="4385520" y="2027520"/>
                  <a:ext cx="375480" cy="383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62"/>
                <p:cNvSpPr/>
                <p:nvPr/>
              </p:nvSpPr>
              <p:spPr>
                <a:xfrm rot="18446400">
                  <a:off x="5298120" y="835920"/>
                  <a:ext cx="375120" cy="38376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63"/>
              <p:cNvGrpSpPr/>
              <p:nvPr/>
            </p:nvGrpSpPr>
            <p:grpSpPr>
              <a:xfrm>
                <a:off x="4588920" y="991800"/>
                <a:ext cx="1441080" cy="1718640"/>
                <a:chOff x="4588920" y="991800"/>
                <a:chExt cx="1441080" cy="1718640"/>
              </a:xfrm>
            </p:grpSpPr>
            <p:sp>
              <p:nvSpPr>
                <p:cNvPr id="103" name="Rectangle 64"/>
                <p:cNvSpPr/>
                <p:nvPr/>
              </p:nvSpPr>
              <p:spPr>
                <a:xfrm rot="18446400">
                  <a:off x="5349600" y="1363320"/>
                  <a:ext cx="374760" cy="380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65"/>
                <p:cNvSpPr/>
                <p:nvPr/>
              </p:nvSpPr>
              <p:spPr>
                <a:xfrm rot="18446400">
                  <a:off x="5122080" y="1660680"/>
                  <a:ext cx="374400" cy="380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66"/>
                <p:cNvSpPr/>
                <p:nvPr/>
              </p:nvSpPr>
              <p:spPr>
                <a:xfrm rot="18446400">
                  <a:off x="4894560" y="1958040"/>
                  <a:ext cx="374400" cy="380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67"/>
                <p:cNvSpPr/>
                <p:nvPr/>
              </p:nvSpPr>
              <p:spPr>
                <a:xfrm rot="18446400">
                  <a:off x="4666320" y="2255400"/>
                  <a:ext cx="374760" cy="380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68"/>
                <p:cNvSpPr/>
                <p:nvPr/>
              </p:nvSpPr>
              <p:spPr>
                <a:xfrm rot="18446400">
                  <a:off x="5577840" y="1065600"/>
                  <a:ext cx="374400" cy="380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8" name=""/>
          <p:cNvSpPr/>
          <p:nvPr/>
        </p:nvSpPr>
        <p:spPr>
          <a:xfrm>
            <a:off x="2195640" y="53737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武进洛阳初中     虞舜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34880" y="1969560"/>
            <a:ext cx="8352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三边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满足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试判断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0" y="121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探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0" y="1143000"/>
            <a:ext cx="5580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葭赴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《九章算术》中的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有池方一丈，葭生其中央，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一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葭赴岸，适与岸齐。问水深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葭长各几何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33240" y="38088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探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古题鉴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2"/>
          <p:cNvPicPr/>
          <p:nvPr/>
        </p:nvPicPr>
        <p:blipFill>
          <a:blip r:embed="rId1"/>
          <a:stretch/>
        </p:blipFill>
        <p:spPr>
          <a:xfrm>
            <a:off x="5580000" y="3068640"/>
            <a:ext cx="3727440" cy="3902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newimage1"/>
          <p:cNvPicPr/>
          <p:nvPr/>
        </p:nvPicPr>
        <p:blipFill>
          <a:blip r:embed="rId2"/>
          <a:stretch/>
        </p:blipFill>
        <p:spPr>
          <a:xfrm>
            <a:off x="5486400" y="-316080"/>
            <a:ext cx="3657600" cy="3811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10960" y="2971800"/>
            <a:ext cx="5656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题意是：有一个边长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尺的正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池塘，在水池正中央有一根新生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芦苇，它高出水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尺，如果把这根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苇沿与水池边垂直的方向拉向岸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的顶端恰好到达岸边。请问这个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池的深度和这根芦苇的长度各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56275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芦苇长，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水深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池中心点距岸边的距离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92120" y="533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9"/>
          <p:cNvPicPr/>
          <p:nvPr/>
        </p:nvPicPr>
        <p:blipFill>
          <a:blip r:embed="rId1"/>
          <a:stretch/>
        </p:blipFill>
        <p:spPr>
          <a:xfrm>
            <a:off x="5627520" y="1371600"/>
            <a:ext cx="3029040" cy="31561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7526160" y="1371600"/>
            <a:ext cx="4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6823080" y="2514600"/>
            <a:ext cx="3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7456320" y="2743200"/>
            <a:ext cx="9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0920" y="2633760"/>
            <a:ext cx="602136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尺，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勾股定理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(x+1)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x+1)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 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=5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得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以芦苇长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尺）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深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芦苇长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尺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1219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如图，求四边形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ABCD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的周长和面积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0"/>
            <a:ext cx="228600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练习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2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652560" cy="403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14400" y="3032280"/>
            <a:ext cx="4267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周长是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68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面积是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246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；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68360" y="177336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，在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边上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692280"/>
            <a:ext cx="340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9"/>
          <p:cNvGrpSpPr/>
          <p:nvPr/>
        </p:nvGrpSpPr>
        <p:grpSpPr>
          <a:xfrm>
            <a:off x="5940360" y="1413000"/>
            <a:ext cx="2994120" cy="3657600"/>
            <a:chOff x="5940360" y="1413000"/>
            <a:chExt cx="2994120" cy="3657600"/>
          </a:xfrm>
        </p:grpSpPr>
        <p:sp>
          <p:nvSpPr>
            <p:cNvPr id="172" name="AutoShape 17"/>
            <p:cNvSpPr/>
            <p:nvPr/>
          </p:nvSpPr>
          <p:spPr>
            <a:xfrm>
              <a:off x="5940360" y="1413000"/>
              <a:ext cx="299412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9"/>
            <p:cNvSpPr/>
            <p:nvPr/>
          </p:nvSpPr>
          <p:spPr>
            <a:xfrm flipH="1">
              <a:off x="6578640" y="2189520"/>
              <a:ext cx="831600" cy="207792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>
              <a:off x="6578640" y="4267440"/>
              <a:ext cx="1608120" cy="144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>
              <a:off x="7410240" y="2189520"/>
              <a:ext cx="776520" cy="207792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2"/>
            <p:cNvSpPr/>
            <p:nvPr/>
          </p:nvSpPr>
          <p:spPr>
            <a:xfrm>
              <a:off x="7410240" y="2189520"/>
              <a:ext cx="1800" cy="207792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3"/>
            <p:cNvSpPr/>
            <p:nvPr/>
          </p:nvSpPr>
          <p:spPr>
            <a:xfrm>
              <a:off x="7177680" y="422136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4"/>
            <p:cNvSpPr/>
            <p:nvPr/>
          </p:nvSpPr>
          <p:spPr>
            <a:xfrm>
              <a:off x="8206920" y="4073760"/>
              <a:ext cx="221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5"/>
            <p:cNvSpPr/>
            <p:nvPr/>
          </p:nvSpPr>
          <p:spPr>
            <a:xfrm>
              <a:off x="6392160" y="4129200"/>
              <a:ext cx="203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6"/>
            <p:cNvSpPr/>
            <p:nvPr/>
          </p:nvSpPr>
          <p:spPr>
            <a:xfrm>
              <a:off x="7363440" y="1744920"/>
              <a:ext cx="203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1"/>
          <p:cNvGrpSpPr/>
          <p:nvPr/>
        </p:nvGrpSpPr>
        <p:grpSpPr>
          <a:xfrm>
            <a:off x="179280" y="2852640"/>
            <a:ext cx="6035760" cy="3332520"/>
            <a:chOff x="179280" y="2852640"/>
            <a:chExt cx="6035760" cy="3332520"/>
          </a:xfrm>
        </p:grpSpPr>
        <p:sp>
          <p:nvSpPr>
            <p:cNvPr id="182" name="Text Box 12"/>
            <p:cNvSpPr/>
            <p:nvPr/>
          </p:nvSpPr>
          <p:spPr>
            <a:xfrm>
              <a:off x="179280" y="285264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解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∵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是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边上的中线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8"/>
            <p:cNvSpPr/>
            <p:nvPr/>
          </p:nvSpPr>
          <p:spPr>
            <a:xfrm>
              <a:off x="641160" y="4613040"/>
              <a:ext cx="5573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＋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D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∴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∠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垂直平分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∴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26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5867280" y="2421000"/>
            <a:ext cx="2994120" cy="3657600"/>
            <a:chOff x="5867280" y="2421000"/>
            <a:chExt cx="2994120" cy="3657600"/>
          </a:xfrm>
        </p:grpSpPr>
        <p:sp>
          <p:nvSpPr>
            <p:cNvPr id="185" name="AutoShape 17"/>
            <p:cNvSpPr/>
            <p:nvPr/>
          </p:nvSpPr>
          <p:spPr>
            <a:xfrm>
              <a:off x="5867280" y="2421000"/>
              <a:ext cx="299412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9"/>
            <p:cNvSpPr/>
            <p:nvPr/>
          </p:nvSpPr>
          <p:spPr>
            <a:xfrm flipH="1">
              <a:off x="6505560" y="3197520"/>
              <a:ext cx="831600" cy="207792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0"/>
            <p:cNvSpPr/>
            <p:nvPr/>
          </p:nvSpPr>
          <p:spPr>
            <a:xfrm>
              <a:off x="6505560" y="5275440"/>
              <a:ext cx="1608120" cy="144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1"/>
            <p:cNvSpPr/>
            <p:nvPr/>
          </p:nvSpPr>
          <p:spPr>
            <a:xfrm>
              <a:off x="7337160" y="3197520"/>
              <a:ext cx="776520" cy="207792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7337160" y="3197520"/>
              <a:ext cx="1800" cy="2077920"/>
            </a:xfrm>
            <a:prstGeom prst="line">
              <a:avLst/>
            </a:prstGeom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3"/>
            <p:cNvSpPr/>
            <p:nvPr/>
          </p:nvSpPr>
          <p:spPr>
            <a:xfrm>
              <a:off x="7104600" y="5229360"/>
              <a:ext cx="2401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4"/>
            <p:cNvSpPr/>
            <p:nvPr/>
          </p:nvSpPr>
          <p:spPr>
            <a:xfrm>
              <a:off x="8133840" y="5081760"/>
              <a:ext cx="221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5"/>
            <p:cNvSpPr/>
            <p:nvPr/>
          </p:nvSpPr>
          <p:spPr>
            <a:xfrm>
              <a:off x="6319080" y="5137200"/>
              <a:ext cx="203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6"/>
            <p:cNvSpPr/>
            <p:nvPr/>
          </p:nvSpPr>
          <p:spPr>
            <a:xfrm>
              <a:off x="7290360" y="2752920"/>
              <a:ext cx="203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1"/>
          <p:cNvSpPr/>
          <p:nvPr/>
        </p:nvSpPr>
        <p:spPr>
          <a:xfrm>
            <a:off x="619200" y="33084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∴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7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7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1" lang="zh-CN" sz="24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67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19"/>
          <p:cNvGraphicFramePr/>
          <p:nvPr/>
        </p:nvGraphicFramePr>
        <p:xfrm>
          <a:off x="2471760" y="3171960"/>
          <a:ext cx="35712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1760" y="3171960"/>
                    <a:ext cx="3571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20"/>
          <p:cNvGraphicFramePr/>
          <p:nvPr/>
        </p:nvGraphicFramePr>
        <p:xfrm>
          <a:off x="3500280" y="3143160"/>
          <a:ext cx="35748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3143160"/>
                    <a:ext cx="3574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68360" y="476280"/>
            <a:ext cx="2303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=10,AC=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上的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D=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C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63640" y="48564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架长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m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梯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斜靠在墙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21932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⑴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若梯子的顶端距地面的垂直距离为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8m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则梯子的顶端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与它的底端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哪个距墙角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473868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2300400"/>
            <a:ext cx="0" cy="2438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2757600"/>
            <a:ext cx="1218960" cy="19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2224080"/>
            <a:ext cx="0" cy="533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2452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24680" y="4738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4738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048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⑵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⑴中如果梯子的顶端下滑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m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那么它的底端是否也滑动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960" y="434880"/>
            <a:ext cx="162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BB%91%E5%8A%A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485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架长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10m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梯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斜靠在墙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64832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1752480"/>
            <a:ext cx="0" cy="289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2666880"/>
            <a:ext cx="1219320" cy="198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2133720"/>
            <a:ext cx="0" cy="533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2362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0" y="4648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4648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15238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⑶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有人说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滑动过程中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梯子的底端滑动的距离总和顶端下滑的距离相同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你赞同吗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181480" y="3352680"/>
            <a:ext cx="3505320" cy="1816200"/>
            <a:chOff x="5181480" y="3352680"/>
            <a:chExt cx="3505320" cy="1816200"/>
          </a:xfrm>
        </p:grpSpPr>
        <p:sp>
          <p:nvSpPr>
            <p:cNvPr id="223" name=""/>
            <p:cNvSpPr/>
            <p:nvPr/>
          </p:nvSpPr>
          <p:spPr>
            <a:xfrm>
              <a:off x="5867280" y="3505320"/>
              <a:ext cx="2133720" cy="11430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81480" y="3352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72400" y="46483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B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BB%91%E5%8A%A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3324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种盛饮料的圆柱形杯（如图），测得内部底面直径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高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吸管放进杯里，杯口外面露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问吸管要做多长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23_调整大小"/>
          <p:cNvPicPr/>
          <p:nvPr/>
        </p:nvPicPr>
        <p:blipFill>
          <a:blip r:embed="rId1"/>
          <a:stretch/>
        </p:blipFill>
        <p:spPr>
          <a:xfrm>
            <a:off x="2700360" y="3716280"/>
            <a:ext cx="1801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8436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42920" y="297180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把勾股定理送到外星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与外星人进行数学交流 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华罗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250920" y="0"/>
            <a:ext cx="228600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试一试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457200" y="1214280"/>
            <a:ext cx="8686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，以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三边为直径向外作半圆，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试判断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形状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1"/>
          <a:stretch/>
        </p:blipFill>
        <p:spPr>
          <a:xfrm>
            <a:off x="3143160" y="3143160"/>
            <a:ext cx="2571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920" y="0"/>
            <a:ext cx="228600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小结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32" name=""/>
          <p:cNvSpPr/>
          <p:nvPr/>
        </p:nvSpPr>
        <p:spPr>
          <a:xfrm>
            <a:off x="76320" y="227016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数形结合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320" y="3551400"/>
            <a:ext cx="6781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转化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46944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勾股定理与其逆定理在应用上的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华罗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04920" y="2962440"/>
            <a:ext cx="89917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勤能补拙是良训，一分耕耘一分才。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0" y="1268280"/>
            <a:ext cx="59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79280" y="2271600"/>
            <a:ext cx="586764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果三角形的三边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满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那么这个三角形是直角三角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∵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直角三角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012000" y="1773360"/>
            <a:ext cx="31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4"/>
          <p:cNvGrpSpPr/>
          <p:nvPr/>
        </p:nvGrpSpPr>
        <p:grpSpPr>
          <a:xfrm>
            <a:off x="5940360" y="2708280"/>
            <a:ext cx="2522520" cy="3384720"/>
            <a:chOff x="5940360" y="2708280"/>
            <a:chExt cx="2522520" cy="3384720"/>
          </a:xfrm>
        </p:grpSpPr>
        <p:grpSp>
          <p:nvGrpSpPr>
            <p:cNvPr id="119" name="组合 3"/>
            <p:cNvGrpSpPr/>
            <p:nvPr/>
          </p:nvGrpSpPr>
          <p:grpSpPr>
            <a:xfrm>
              <a:off x="5940360" y="2708280"/>
              <a:ext cx="2522520" cy="3384720"/>
              <a:chOff x="5940360" y="2708280"/>
              <a:chExt cx="2522520" cy="3384720"/>
            </a:xfrm>
          </p:grpSpPr>
          <p:grpSp>
            <p:nvGrpSpPr>
              <p:cNvPr id="120" name="组合 2"/>
              <p:cNvGrpSpPr/>
              <p:nvPr/>
            </p:nvGrpSpPr>
            <p:grpSpPr>
              <a:xfrm>
                <a:off x="5940360" y="2708280"/>
                <a:ext cx="2522520" cy="3384720"/>
                <a:chOff x="5940360" y="2708280"/>
                <a:chExt cx="2522520" cy="3384720"/>
              </a:xfrm>
            </p:grpSpPr>
            <p:pic>
              <p:nvPicPr>
                <p:cNvPr id="121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940360" y="2708280"/>
                  <a:ext cx="2522520" cy="3384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TextBox 1"/>
                <p:cNvSpPr/>
                <p:nvPr/>
              </p:nvSpPr>
              <p:spPr>
                <a:xfrm>
                  <a:off x="6137280" y="2823120"/>
                  <a:ext cx="36648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TextBox 10"/>
              <p:cNvSpPr/>
              <p:nvPr/>
            </p:nvSpPr>
            <p:spPr>
              <a:xfrm>
                <a:off x="6094800" y="5239440"/>
                <a:ext cx="3834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Box 11"/>
            <p:cNvSpPr/>
            <p:nvPr/>
          </p:nvSpPr>
          <p:spPr>
            <a:xfrm>
              <a:off x="8022240" y="5253480"/>
              <a:ext cx="36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5"/>
          <p:cNvSpPr/>
          <p:nvPr/>
        </p:nvSpPr>
        <p:spPr>
          <a:xfrm>
            <a:off x="971640" y="18900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勾股定理的逆定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920" y="0"/>
            <a:ext cx="228600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议一议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勾股定理与它的逆定理在应用上有什么区别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819520"/>
            <a:ext cx="838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勾股定理主要应用于求线段的长度、图形的周长、面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勾股定理的逆定理用于判断三角形的形状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记得常用的勾股数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95280" y="1825920"/>
            <a:ext cx="81374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01720" indent="-80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列各数组中，不能作为直角三角形的三边长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（　  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；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；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981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1240" y="2333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68360" y="1259640"/>
            <a:ext cx="83516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01720" indent="-80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两边长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能使△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角三角形的第三边的平方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6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；　　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8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；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1720" indent="-80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；　　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6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8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5354640" y="178596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7" descr=""/>
          <p:cNvPicPr/>
          <p:nvPr/>
        </p:nvPicPr>
        <p:blipFill>
          <a:blip r:embed="rId1"/>
          <a:stretch/>
        </p:blipFill>
        <p:spPr>
          <a:xfrm>
            <a:off x="1428840" y="2928960"/>
            <a:ext cx="4162320" cy="30002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928440"/>
            <a:ext cx="8893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已知某校有一块四边形空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如图，现计划在该空地上种草皮，经测量∠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若每平方米草皮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问需投入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未知" descr=""/>
          <p:cNvPicPr/>
          <p:nvPr/>
        </p:nvPicPr>
        <p:blipFill>
          <a:blip r:embed="rId2"/>
          <a:stretch/>
        </p:blipFill>
        <p:spPr>
          <a:xfrm>
            <a:off x="1995480" y="4384800"/>
            <a:ext cx="1378080" cy="1393560"/>
          </a:xfrm>
          <a:prstGeom prst="rect">
            <a:avLst/>
          </a:prstGeom>
          <a:ln w="0">
            <a:noFill/>
          </a:ln>
        </p:spPr>
      </p:pic>
      <p:pic>
        <p:nvPicPr>
          <p:cNvPr id="139" name="未知" descr=""/>
          <p:cNvPicPr/>
          <p:nvPr/>
        </p:nvPicPr>
        <p:blipFill>
          <a:blip r:embed="rId3"/>
          <a:stretch/>
        </p:blipFill>
        <p:spPr>
          <a:xfrm>
            <a:off x="2508120" y="4856040"/>
            <a:ext cx="63720" cy="77760"/>
          </a:xfrm>
          <a:prstGeom prst="rect">
            <a:avLst/>
          </a:prstGeom>
          <a:ln w="0">
            <a:noFill/>
          </a:ln>
        </p:spPr>
      </p:pic>
      <p:pic>
        <p:nvPicPr>
          <p:cNvPr id="140" name="未知" descr=""/>
          <p:cNvPicPr/>
          <p:nvPr/>
        </p:nvPicPr>
        <p:blipFill>
          <a:blip r:embed="rId4"/>
          <a:stretch/>
        </p:blipFill>
        <p:spPr>
          <a:xfrm>
            <a:off x="3154320" y="5505480"/>
            <a:ext cx="63720" cy="360"/>
          </a:xfrm>
          <a:prstGeom prst="rect">
            <a:avLst/>
          </a:prstGeom>
          <a:ln w="0">
            <a:noFill/>
          </a:ln>
        </p:spPr>
      </p:pic>
      <p:pic>
        <p:nvPicPr>
          <p:cNvPr id="141" name="未知" descr=""/>
          <p:cNvPicPr/>
          <p:nvPr/>
        </p:nvPicPr>
        <p:blipFill>
          <a:blip r:embed="rId5"/>
          <a:stretch/>
        </p:blipFill>
        <p:spPr>
          <a:xfrm>
            <a:off x="3200400" y="5487840"/>
            <a:ext cx="360" cy="108000"/>
          </a:xfrm>
          <a:prstGeom prst="rect">
            <a:avLst/>
          </a:prstGeom>
          <a:ln w="0">
            <a:noFill/>
          </a:ln>
        </p:spPr>
      </p:pic>
      <p:pic>
        <p:nvPicPr>
          <p:cNvPr id="142" name="未知" descr=""/>
          <p:cNvPicPr/>
          <p:nvPr/>
        </p:nvPicPr>
        <p:blipFill>
          <a:blip r:embed="rId6"/>
          <a:stretch/>
        </p:blipFill>
        <p:spPr>
          <a:xfrm>
            <a:off x="2522520" y="4842000"/>
            <a:ext cx="49320" cy="77760"/>
          </a:xfrm>
          <a:prstGeom prst="rect">
            <a:avLst/>
          </a:prstGeom>
          <a:ln w="0">
            <a:noFill/>
          </a:ln>
        </p:spPr>
      </p:pic>
      <p:pic>
        <p:nvPicPr>
          <p:cNvPr id="143" name="未知" descr=""/>
          <p:cNvPicPr/>
          <p:nvPr/>
        </p:nvPicPr>
        <p:blipFill>
          <a:blip r:embed="rId7"/>
          <a:stretch/>
        </p:blipFill>
        <p:spPr>
          <a:xfrm>
            <a:off x="2049480" y="4395960"/>
            <a:ext cx="163440" cy="193680"/>
          </a:xfrm>
          <a:prstGeom prst="rect">
            <a:avLst/>
          </a:prstGeom>
          <a:ln w="0">
            <a:noFill/>
          </a:ln>
        </p:spPr>
      </p:pic>
      <p:pic>
        <p:nvPicPr>
          <p:cNvPr id="144" name="未知" descr=""/>
          <p:cNvPicPr/>
          <p:nvPr/>
        </p:nvPicPr>
        <p:blipFill>
          <a:blip r:embed="rId8"/>
          <a:stretch/>
        </p:blipFill>
        <p:spPr>
          <a:xfrm>
            <a:off x="2451240" y="4842000"/>
            <a:ext cx="106200" cy="120600"/>
          </a:xfrm>
          <a:prstGeom prst="rect">
            <a:avLst/>
          </a:prstGeom>
          <a:ln w="0">
            <a:noFill/>
          </a:ln>
        </p:spPr>
      </p:pic>
      <p:pic>
        <p:nvPicPr>
          <p:cNvPr id="145" name="未知" descr=""/>
          <p:cNvPicPr/>
          <p:nvPr/>
        </p:nvPicPr>
        <p:blipFill>
          <a:blip r:embed="rId9"/>
          <a:stretch/>
        </p:blipFill>
        <p:spPr>
          <a:xfrm>
            <a:off x="2567160" y="4956120"/>
            <a:ext cx="149040" cy="108000"/>
          </a:xfrm>
          <a:prstGeom prst="rect">
            <a:avLst/>
          </a:prstGeom>
          <a:ln w="0">
            <a:noFill/>
          </a:ln>
        </p:spPr>
      </p:pic>
      <p:pic>
        <p:nvPicPr>
          <p:cNvPr id="146" name="未知" descr=""/>
          <p:cNvPicPr/>
          <p:nvPr/>
        </p:nvPicPr>
        <p:blipFill>
          <a:blip r:embed="rId10"/>
          <a:stretch/>
        </p:blipFill>
        <p:spPr>
          <a:xfrm>
            <a:off x="2809800" y="5143680"/>
            <a:ext cx="77760" cy="91800"/>
          </a:xfrm>
          <a:prstGeom prst="rect">
            <a:avLst/>
          </a:prstGeom>
          <a:ln w="0">
            <a:noFill/>
          </a:ln>
        </p:spPr>
      </p:pic>
      <p:pic>
        <p:nvPicPr>
          <p:cNvPr id="147" name="未知" descr=""/>
          <p:cNvPicPr/>
          <p:nvPr/>
        </p:nvPicPr>
        <p:blipFill>
          <a:blip r:embed="rId11"/>
          <a:stretch/>
        </p:blipFill>
        <p:spPr>
          <a:xfrm>
            <a:off x="2824200" y="5143680"/>
            <a:ext cx="63360" cy="91800"/>
          </a:xfrm>
          <a:prstGeom prst="rect">
            <a:avLst/>
          </a:prstGeom>
          <a:ln w="0">
            <a:noFill/>
          </a:ln>
        </p:spPr>
      </p:pic>
      <p:pic>
        <p:nvPicPr>
          <p:cNvPr id="148" name="未知" descr=""/>
          <p:cNvPicPr/>
          <p:nvPr/>
        </p:nvPicPr>
        <p:blipFill>
          <a:blip r:embed="rId12"/>
          <a:stretch/>
        </p:blipFill>
        <p:spPr>
          <a:xfrm>
            <a:off x="2652840" y="5014800"/>
            <a:ext cx="77760" cy="106560"/>
          </a:xfrm>
          <a:prstGeom prst="rect">
            <a:avLst/>
          </a:prstGeom>
          <a:ln w="0">
            <a:noFill/>
          </a:ln>
        </p:spPr>
      </p:pic>
      <p:pic>
        <p:nvPicPr>
          <p:cNvPr id="149" name="未知" descr=""/>
          <p:cNvPicPr/>
          <p:nvPr/>
        </p:nvPicPr>
        <p:blipFill>
          <a:blip r:embed="rId13"/>
          <a:stretch/>
        </p:blipFill>
        <p:spPr>
          <a:xfrm>
            <a:off x="3125880" y="5487840"/>
            <a:ext cx="264960" cy="236520"/>
          </a:xfrm>
          <a:prstGeom prst="rect">
            <a:avLst/>
          </a:prstGeom>
          <a:ln w="0">
            <a:noFill/>
          </a:ln>
        </p:spPr>
      </p:pic>
      <p:sp>
        <p:nvSpPr>
          <p:cNvPr id="150" name="Line 17"/>
          <p:cNvSpPr/>
          <p:nvPr/>
        </p:nvSpPr>
        <p:spPr>
          <a:xfrm>
            <a:off x="1571760" y="4071960"/>
            <a:ext cx="1428480" cy="13572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1T10:25:01Z</dcterms:created>
  <dc:creator>User</dc:creator>
  <dc:description/>
  <dc:language>en-US</dc:language>
  <cp:lastModifiedBy>User</cp:lastModifiedBy>
  <dcterms:modified xsi:type="dcterms:W3CDTF">2014-11-06T00:52:59Z</dcterms:modified>
  <cp:revision>28</cp:revision>
  <dc:subject/>
  <dc:title>幻灯片 1</dc:title>
</cp:coreProperties>
</file>