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2.png" ContentType="image/png"/>
  <Override PartName="/ppt/media/image2.jpeg" ContentType="image/jpeg"/>
  <Override PartName="/ppt/media/image4.gif" ContentType="image/gif"/>
  <Override PartName="/ppt/media/image7.png" ContentType="image/png"/>
  <Override PartName="/ppt/media/image1.jpeg" ContentType="image/jpeg"/>
  <Override PartName="/ppt/media/type.wav" ContentType="audio/x-wav"/>
  <Override PartName="/ppt/media/image3.gif" ContentType="image/gif"/>
  <Override PartName="/ppt/media/image6.png" ContentType="image/png"/>
  <Override PartName="/ppt/media/image11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6F4-BCFE-4C62-9FD4-11EB7E65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747-473D-41EE-ACC0-C185C72E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4CF-B880-46B3-B4EA-0577D0DE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DFA-3AE1-4A4E-B15F-B764A92F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9CA-887E-4B75-83A7-7A40408A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6EE-BC1C-44F1-AF32-6CE91D23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6F9-64FE-4FF7-A228-AB963C62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2A9-46C9-4F2C-99E7-B6406B87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BB3-F083-4430-A23C-5D4EEA4B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133-4420-4213-A7D3-F9846960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1964-5572-420F-A85C-C32D204F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673-B74F-47C4-947A-12A748AD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18D7-269B-4A0F-9135-495CB1441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57160" y="2214720"/>
            <a:ext cx="828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.1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　圆（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7510680" y="500040"/>
            <a:ext cx="14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九年级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1" lang="zh-CN" sz="2000" spc="-1" strike="noStrike">
                <a:solidFill>
                  <a:srgbClr val="336600"/>
                </a:solidFill>
                <a:latin typeface="黑体"/>
                <a:ea typeface="黑体"/>
              </a:rPr>
              <a:t>上册</a:t>
            </a:r>
            <a:r>
              <a:rPr b="1" lang="en-US" sz="20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6372360" y="1557360"/>
            <a:ext cx="183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97852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黑体"/>
              </a:rPr>
              <a:t>初中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692360" y="3933720"/>
            <a:ext cx="74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00"/>
                </a:solidFill>
                <a:latin typeface="宋体"/>
              </a:rPr>
              <a:t>洛阳初中数学组  毛丽波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042920" y="1030320"/>
            <a:ext cx="18734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活动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635280" y="866880"/>
            <a:ext cx="2664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的相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900000" y="184464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概念辨析：判断下列说法是否正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直径是弦；                    （     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弦是直径；                  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半圆是弧，但弧不一定是半圆；  （     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半径相等的两个半圆是等弧；  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长度相等的两条弧是等弧；      （     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半圆是弧；                  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弧是半圆．                    （  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42920" y="1052640"/>
            <a:ext cx="18734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活动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635280" y="866880"/>
            <a:ext cx="2664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的相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3186000" y="3081240"/>
            <a:ext cx="1962360" cy="1962360"/>
            <a:chOff x="3186000" y="3081240"/>
            <a:chExt cx="1962360" cy="1962360"/>
          </a:xfrm>
        </p:grpSpPr>
        <p:sp>
          <p:nvSpPr>
            <p:cNvPr id="165" name="Oval 6"/>
            <p:cNvSpPr/>
            <p:nvPr/>
          </p:nvSpPr>
          <p:spPr>
            <a:xfrm>
              <a:off x="3186000" y="3081240"/>
              <a:ext cx="1962360" cy="196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4051080" y="382284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8"/>
          <p:cNvGrpSpPr/>
          <p:nvPr/>
        </p:nvGrpSpPr>
        <p:grpSpPr>
          <a:xfrm>
            <a:off x="2652840" y="2781360"/>
            <a:ext cx="1565280" cy="1506240"/>
            <a:chOff x="2652840" y="2781360"/>
            <a:chExt cx="1565280" cy="1506240"/>
          </a:xfrm>
        </p:grpSpPr>
        <p:sp>
          <p:nvSpPr>
            <p:cNvPr id="168" name="Line 9"/>
            <p:cNvSpPr/>
            <p:nvPr/>
          </p:nvSpPr>
          <p:spPr>
            <a:xfrm flipH="1" flipV="1">
              <a:off x="3697560" y="3217680"/>
              <a:ext cx="52056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0"/>
            <p:cNvSpPr/>
            <p:nvPr/>
          </p:nvSpPr>
          <p:spPr>
            <a:xfrm flipH="1" flipV="1">
              <a:off x="3160800" y="4021200"/>
              <a:ext cx="104472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"/>
            <p:cNvSpPr/>
            <p:nvPr/>
          </p:nvSpPr>
          <p:spPr>
            <a:xfrm>
              <a:off x="3332160" y="2781360"/>
              <a:ext cx="73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2"/>
            <p:cNvSpPr/>
            <p:nvPr/>
          </p:nvSpPr>
          <p:spPr>
            <a:xfrm>
              <a:off x="2652840" y="376704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3"/>
          <p:cNvSpPr/>
          <p:nvPr/>
        </p:nvSpPr>
        <p:spPr>
          <a:xfrm>
            <a:off x="971640" y="1989000"/>
            <a:ext cx="446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同圆或等圆的半径相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3276720" y="5229360"/>
            <a:ext cx="1655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187280" y="1052640"/>
            <a:ext cx="18734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活动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68360" y="1844640"/>
            <a:ext cx="7343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如图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直径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一点，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O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怎样的数量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Documents and Settings\Administrator\Application Data\Tencent\Users\519630079\QQ\WinTemp\RichOle\VHT%HZ}06F`MWAU`OPD6U2J.jpg"/>
          <p:cNvPicPr/>
          <p:nvPr/>
        </p:nvPicPr>
        <p:blipFill>
          <a:blip r:embed="rId2"/>
          <a:srcRect l="75005" t="-6232" r="0" b="0"/>
          <a:stretch/>
        </p:blipFill>
        <p:spPr>
          <a:xfrm>
            <a:off x="2916360" y="3645000"/>
            <a:ext cx="2519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403280" y="981000"/>
            <a:ext cx="21607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知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11280" y="1724040"/>
            <a:ext cx="7561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：如图，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别在同心圆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且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等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"/>
          <p:cNvPicPr/>
          <p:nvPr/>
        </p:nvPicPr>
        <p:blipFill>
          <a:blip r:embed="rId2"/>
          <a:stretch/>
        </p:blipFill>
        <p:spPr>
          <a:xfrm>
            <a:off x="4067280" y="3846600"/>
            <a:ext cx="1876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258920" y="1052640"/>
            <a:ext cx="21607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知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0920" y="162864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  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图中，画出⊙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两条直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次连接这两条直径的端点，得一个四边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这个四边形的形状，并说明理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348000" y="407664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00000" y="692280"/>
            <a:ext cx="21607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知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79280" y="1268280"/>
            <a:ext cx="813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扇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半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圆心角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弧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异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动点，过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连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线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，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求证：四边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G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平行四边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3059280" y="3860640"/>
            <a:ext cx="30254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87280" y="692280"/>
            <a:ext cx="21607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知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250920" y="1341360"/>
            <a:ext cx="8137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当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弧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运动时，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是否存在长度不变的线段？若存在，请求出该线段的长度，若不存在，请说明理由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2916360" y="3429000"/>
            <a:ext cx="3025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476360" y="1052640"/>
            <a:ext cx="12970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12720" y="1844640"/>
            <a:ext cx="7058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今天的学习，你能谈谈你的收获和困惑，对圆有什么新的认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042920" y="1030320"/>
            <a:ext cx="21607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课后作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270828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41-4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84360" y="1628640"/>
            <a:ext cx="7704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据统计，某个学校的同学上学方式是，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同学步行上学，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同学坐公共汽车上学，其他方式上学的同学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请你用扇形统计图反映这个学校学生的上学方式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332000" y="907920"/>
            <a:ext cx="19447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活动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说说你是如何做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042920" y="1030320"/>
            <a:ext cx="18734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活动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987640" y="866880"/>
            <a:ext cx="34387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的相关概念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340000" y="1917720"/>
            <a:ext cx="59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连接圆上任意两点间的线段叫做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弦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434880" y="2759040"/>
            <a:ext cx="1962360" cy="1962360"/>
            <a:chOff x="434880" y="2759040"/>
            <a:chExt cx="1962360" cy="1962360"/>
          </a:xfrm>
        </p:grpSpPr>
        <p:sp>
          <p:nvSpPr>
            <p:cNvPr id="57" name="Oval 7"/>
            <p:cNvSpPr/>
            <p:nvPr/>
          </p:nvSpPr>
          <p:spPr>
            <a:xfrm>
              <a:off x="434880" y="2759040"/>
              <a:ext cx="1962360" cy="196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8"/>
            <p:cNvSpPr/>
            <p:nvPr/>
          </p:nvSpPr>
          <p:spPr>
            <a:xfrm>
              <a:off x="1299960" y="350064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9"/>
          <p:cNvSpPr/>
          <p:nvPr/>
        </p:nvSpPr>
        <p:spPr>
          <a:xfrm>
            <a:off x="2359080" y="4078440"/>
            <a:ext cx="6453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经过圆心的弦叫做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直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直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0" y="34225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838080" y="2492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V="1">
            <a:off x="453960" y="2892600"/>
            <a:ext cx="438120" cy="666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3"/>
          <p:cNvGrpSpPr/>
          <p:nvPr/>
        </p:nvGrpSpPr>
        <p:grpSpPr>
          <a:xfrm>
            <a:off x="415800" y="3521160"/>
            <a:ext cx="2286000" cy="779760"/>
            <a:chOff x="415800" y="3521160"/>
            <a:chExt cx="2286000" cy="779760"/>
          </a:xfrm>
        </p:grpSpPr>
        <p:sp>
          <p:nvSpPr>
            <p:cNvPr id="64" name="Line 16"/>
            <p:cNvSpPr/>
            <p:nvPr/>
          </p:nvSpPr>
          <p:spPr>
            <a:xfrm>
              <a:off x="415800" y="3521160"/>
              <a:ext cx="1943280" cy="533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2320920" y="39020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6"/>
          <p:cNvGrpSpPr/>
          <p:nvPr/>
        </p:nvGrpSpPr>
        <p:grpSpPr>
          <a:xfrm>
            <a:off x="2016000" y="2666880"/>
            <a:ext cx="876240" cy="2887560"/>
            <a:chOff x="2016000" y="2666880"/>
            <a:chExt cx="876240" cy="2887560"/>
          </a:xfrm>
        </p:grpSpPr>
        <p:sp>
          <p:nvSpPr>
            <p:cNvPr id="67" name="Text Box 19"/>
            <p:cNvSpPr/>
            <p:nvPr/>
          </p:nvSpPr>
          <p:spPr>
            <a:xfrm>
              <a:off x="2016000" y="2666880"/>
              <a:ext cx="457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0"/>
            <p:cNvSpPr/>
            <p:nvPr/>
          </p:nvSpPr>
          <p:spPr>
            <a:xfrm>
              <a:off x="2511360" y="5157720"/>
              <a:ext cx="380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9"/>
          <p:cNvGrpSpPr/>
          <p:nvPr/>
        </p:nvGrpSpPr>
        <p:grpSpPr>
          <a:xfrm>
            <a:off x="3492360" y="260280"/>
            <a:ext cx="3581280" cy="685800"/>
            <a:chOff x="3492360" y="260280"/>
            <a:chExt cx="3581280" cy="685800"/>
          </a:xfrm>
        </p:grpSpPr>
        <p:grpSp>
          <p:nvGrpSpPr>
            <p:cNvPr id="70" name="Group 20"/>
            <p:cNvGrpSpPr/>
            <p:nvPr/>
          </p:nvGrpSpPr>
          <p:grpSpPr>
            <a:xfrm>
              <a:off x="3492360" y="306360"/>
              <a:ext cx="2362320" cy="461520"/>
              <a:chOff x="3492360" y="306360"/>
              <a:chExt cx="2362320" cy="461520"/>
            </a:xfrm>
          </p:grpSpPr>
          <p:sp>
            <p:nvSpPr>
              <p:cNvPr id="71" name="Rectangle 23"/>
              <p:cNvSpPr/>
              <p:nvPr/>
            </p:nvSpPr>
            <p:spPr>
              <a:xfrm>
                <a:off x="3492360" y="30816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读一读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P4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．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24"/>
              <p:cNvSpPr/>
              <p:nvPr/>
            </p:nvSpPr>
            <p:spPr>
              <a:xfrm>
                <a:off x="5372640" y="306360"/>
                <a:ext cx="18540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Picture 25" descr="678"/>
            <p:cNvPicPr/>
            <p:nvPr/>
          </p:nvPicPr>
          <p:blipFill>
            <a:blip r:embed="rId2"/>
            <a:stretch/>
          </p:blipFill>
          <p:spPr>
            <a:xfrm>
              <a:off x="5854680" y="26028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6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3492360" y="41256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42920" y="1030320"/>
            <a:ext cx="18734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活动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3635280" y="866880"/>
            <a:ext cx="2664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的相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627280" y="2133720"/>
            <a:ext cx="5621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圆上任意两点间的部分叫做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圆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称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6"/>
          <p:cNvGrpSpPr/>
          <p:nvPr/>
        </p:nvGrpSpPr>
        <p:grpSpPr>
          <a:xfrm>
            <a:off x="579600" y="3025800"/>
            <a:ext cx="1962000" cy="1962000"/>
            <a:chOff x="579600" y="3025800"/>
            <a:chExt cx="1962000" cy="1962000"/>
          </a:xfrm>
        </p:grpSpPr>
        <p:sp>
          <p:nvSpPr>
            <p:cNvPr id="80" name="Oval 11"/>
            <p:cNvSpPr/>
            <p:nvPr/>
          </p:nvSpPr>
          <p:spPr>
            <a:xfrm>
              <a:off x="579600" y="302580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2"/>
            <p:cNvSpPr/>
            <p:nvPr/>
          </p:nvSpPr>
          <p:spPr>
            <a:xfrm>
              <a:off x="1444680" y="3767400"/>
              <a:ext cx="7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179280" y="2781360"/>
            <a:ext cx="1231920" cy="1328760"/>
            <a:chOff x="179280" y="2781360"/>
            <a:chExt cx="1231920" cy="1328760"/>
          </a:xfrm>
        </p:grpSpPr>
        <p:sp>
          <p:nvSpPr>
            <p:cNvPr id="83" name="Text Box 14"/>
            <p:cNvSpPr/>
            <p:nvPr/>
          </p:nvSpPr>
          <p:spPr>
            <a:xfrm>
              <a:off x="179280" y="371124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5"/>
            <p:cNvSpPr/>
            <p:nvPr/>
          </p:nvSpPr>
          <p:spPr>
            <a:xfrm>
              <a:off x="1018080" y="2781360"/>
              <a:ext cx="30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rc 16"/>
            <p:cNvSpPr/>
            <p:nvPr/>
          </p:nvSpPr>
          <p:spPr>
            <a:xfrm flipH="1" flipV="1" rot="4748400">
              <a:off x="556920" y="3168360"/>
              <a:ext cx="771480" cy="805680"/>
            </a:xfrm>
            <a:custGeom>
              <a:avLst/>
              <a:gdLst>
                <a:gd name="textAreaLeft" fmla="*/ -360 w 771480"/>
                <a:gd name="textAreaRight" fmla="*/ 771480 w 771480"/>
                <a:gd name="textAreaTop" fmla="*/ 360 h 805680"/>
                <a:gd name="textAreaBottom" fmla="*/ 806400 h 805680"/>
              </a:gdLst>
              <a:ahLst/>
              <a:rect l="textAreaLeft" t="textAreaTop" r="textAreaRight" b="textAreaBottom"/>
              <a:pathLst>
                <a:path fill="none" w="20815" h="21149">
                  <a:moveTo>
                    <a:pt x="4390" y="0"/>
                  </a:moveTo>
                  <a:cubicBezTo>
                    <a:pt x="12313" y="1644"/>
                    <a:pt x="18652" y="7580"/>
                    <a:pt x="20814" y="15378"/>
                  </a:cubicBezTo>
                </a:path>
                <a:path stroke="0" w="20815" h="21149">
                  <a:moveTo>
                    <a:pt x="4390" y="0"/>
                  </a:moveTo>
                  <a:cubicBezTo>
                    <a:pt x="12313" y="1644"/>
                    <a:pt x="18652" y="7580"/>
                    <a:pt x="20814" y="15378"/>
                  </a:cubicBezTo>
                  <a:lnTo>
                    <a:pt x="0" y="21149"/>
                  </a:lnTo>
                  <a:lnTo>
                    <a:pt x="4390" y="0"/>
                  </a:lnTo>
                  <a:close/>
                </a:path>
              </a:pathLst>
            </a:cu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4"/>
          <p:cNvGrpSpPr/>
          <p:nvPr/>
        </p:nvGrpSpPr>
        <p:grpSpPr>
          <a:xfrm>
            <a:off x="3059280" y="3645000"/>
            <a:ext cx="5905440" cy="1373400"/>
            <a:chOff x="3059280" y="3645000"/>
            <a:chExt cx="5905440" cy="1373400"/>
          </a:xfrm>
        </p:grpSpPr>
        <p:sp>
          <p:nvSpPr>
            <p:cNvPr id="88" name="Text Box 5"/>
            <p:cNvSpPr/>
            <p:nvPr/>
          </p:nvSpPr>
          <p:spPr>
            <a:xfrm>
              <a:off x="3059280" y="3645000"/>
              <a:ext cx="5905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、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两点为端点的</a:t>
              </a:r>
              <a:r>
                <a:rPr b="1" lang="zh-CN" sz="2800" spc="-1" strike="noStrike">
                  <a:solidFill>
                    <a:srgbClr val="009999"/>
                  </a:solidFill>
                  <a:latin typeface="宋体"/>
                </a:rPr>
                <a:t>弧，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记作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读作“弧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”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矩形 3" descr=""/>
            <p:cNvPicPr/>
            <p:nvPr/>
          </p:nvPicPr>
          <p:blipFill>
            <a:blip r:embed="rId2"/>
            <a:stretch/>
          </p:blipFill>
          <p:spPr>
            <a:xfrm>
              <a:off x="3633120" y="4389120"/>
              <a:ext cx="621720" cy="55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42920" y="1030320"/>
            <a:ext cx="18734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活动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132000" y="814320"/>
            <a:ext cx="2664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的相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363600" y="3008160"/>
            <a:ext cx="1962000" cy="1962360"/>
            <a:chOff x="363600" y="3008160"/>
            <a:chExt cx="1962000" cy="1962360"/>
          </a:xfrm>
        </p:grpSpPr>
        <p:sp>
          <p:nvSpPr>
            <p:cNvPr id="94" name="Oval 7"/>
            <p:cNvSpPr/>
            <p:nvPr/>
          </p:nvSpPr>
          <p:spPr>
            <a:xfrm>
              <a:off x="363600" y="3008160"/>
              <a:ext cx="1962000" cy="1962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1228680" y="374976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-34920" y="2744640"/>
            <a:ext cx="1230840" cy="1365840"/>
            <a:chOff x="-34920" y="2744640"/>
            <a:chExt cx="1230840" cy="1365840"/>
          </a:xfrm>
        </p:grpSpPr>
        <p:sp>
          <p:nvSpPr>
            <p:cNvPr id="97" name="Text Box 18"/>
            <p:cNvSpPr/>
            <p:nvPr/>
          </p:nvSpPr>
          <p:spPr>
            <a:xfrm>
              <a:off x="-34920" y="3711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9"/>
            <p:cNvSpPr/>
            <p:nvPr/>
          </p:nvSpPr>
          <p:spPr>
            <a:xfrm>
              <a:off x="685800" y="274464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rc 20"/>
            <p:cNvSpPr/>
            <p:nvPr/>
          </p:nvSpPr>
          <p:spPr>
            <a:xfrm flipH="1" flipV="1" rot="4748400">
              <a:off x="342000" y="3169080"/>
              <a:ext cx="771480" cy="804960"/>
            </a:xfrm>
            <a:custGeom>
              <a:avLst/>
              <a:gdLst>
                <a:gd name="textAreaLeft" fmla="*/ -360 w 771480"/>
                <a:gd name="textAreaRight" fmla="*/ 771480 w 771480"/>
                <a:gd name="textAreaTop" fmla="*/ 360 h 804960"/>
                <a:gd name="textAreaBottom" fmla="*/ 805680 h 804960"/>
              </a:gdLst>
              <a:ahLst/>
              <a:rect l="textAreaLeft" t="textAreaTop" r="textAreaRight" b="textAreaBottom"/>
              <a:pathLst>
                <a:path fill="none" w="20815" h="21149">
                  <a:moveTo>
                    <a:pt x="4390" y="0"/>
                  </a:moveTo>
                  <a:cubicBezTo>
                    <a:pt x="12313" y="1644"/>
                    <a:pt x="18652" y="7580"/>
                    <a:pt x="20814" y="15378"/>
                  </a:cubicBezTo>
                </a:path>
                <a:path stroke="0" w="20815" h="21149">
                  <a:moveTo>
                    <a:pt x="4390" y="0"/>
                  </a:moveTo>
                  <a:cubicBezTo>
                    <a:pt x="12313" y="1644"/>
                    <a:pt x="18652" y="7580"/>
                    <a:pt x="20814" y="15378"/>
                  </a:cubicBezTo>
                  <a:lnTo>
                    <a:pt x="0" y="21149"/>
                  </a:lnTo>
                  <a:lnTo>
                    <a:pt x="4390" y="0"/>
                  </a:lnTo>
                  <a:close/>
                </a:path>
              </a:pathLst>
            </a:custGeom>
            <a:noFill/>
            <a:ln w="5724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Line 21"/>
          <p:cNvSpPr/>
          <p:nvPr/>
        </p:nvSpPr>
        <p:spPr>
          <a:xfrm flipV="1">
            <a:off x="382680" y="3141720"/>
            <a:ext cx="438120" cy="666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3"/>
          <p:cNvGrpSpPr/>
          <p:nvPr/>
        </p:nvGrpSpPr>
        <p:grpSpPr>
          <a:xfrm>
            <a:off x="344520" y="3770280"/>
            <a:ext cx="2286000" cy="779760"/>
            <a:chOff x="344520" y="3770280"/>
            <a:chExt cx="2286000" cy="779760"/>
          </a:xfrm>
        </p:grpSpPr>
        <p:sp>
          <p:nvSpPr>
            <p:cNvPr id="102" name="Line 23"/>
            <p:cNvSpPr/>
            <p:nvPr/>
          </p:nvSpPr>
          <p:spPr>
            <a:xfrm>
              <a:off x="344520" y="3770280"/>
              <a:ext cx="1943280" cy="5335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4"/>
            <p:cNvSpPr/>
            <p:nvPr/>
          </p:nvSpPr>
          <p:spPr>
            <a:xfrm>
              <a:off x="2249640" y="4151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6"/>
          <p:cNvGrpSpPr/>
          <p:nvPr/>
        </p:nvGrpSpPr>
        <p:grpSpPr>
          <a:xfrm>
            <a:off x="1944720" y="2916360"/>
            <a:ext cx="457200" cy="2012400"/>
            <a:chOff x="1944720" y="2916360"/>
            <a:chExt cx="457200" cy="2012400"/>
          </a:xfrm>
        </p:grpSpPr>
        <p:sp>
          <p:nvSpPr>
            <p:cNvPr id="105" name="Text Box 27"/>
            <p:cNvSpPr/>
            <p:nvPr/>
          </p:nvSpPr>
          <p:spPr>
            <a:xfrm>
              <a:off x="1944720" y="2916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8"/>
            <p:cNvSpPr/>
            <p:nvPr/>
          </p:nvSpPr>
          <p:spPr>
            <a:xfrm>
              <a:off x="2021040" y="4532040"/>
              <a:ext cx="380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9"/>
          <p:cNvGrpSpPr/>
          <p:nvPr/>
        </p:nvGrpSpPr>
        <p:grpSpPr>
          <a:xfrm>
            <a:off x="2482920" y="1800360"/>
            <a:ext cx="6192720" cy="1314360"/>
            <a:chOff x="2482920" y="1800360"/>
            <a:chExt cx="6192720" cy="1314360"/>
          </a:xfrm>
        </p:grpSpPr>
        <p:sp>
          <p:nvSpPr>
            <p:cNvPr id="108" name="Rectangle 5"/>
            <p:cNvSpPr/>
            <p:nvPr/>
          </p:nvSpPr>
          <p:spPr>
            <a:xfrm>
              <a:off x="2482920" y="1800360"/>
              <a:ext cx="6192720" cy="10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宋体"/>
                </a:rPr>
                <a:t>　　直径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将圆分成两部分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每一部分都叫做半圆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如弧　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矩形 1" descr=""/>
            <p:cNvPicPr/>
            <p:nvPr/>
          </p:nvPicPr>
          <p:blipFill>
            <a:blip r:embed="rId2"/>
            <a:stretch/>
          </p:blipFill>
          <p:spPr>
            <a:xfrm>
              <a:off x="4931640" y="2566440"/>
              <a:ext cx="1005840" cy="5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22"/>
          <p:cNvGrpSpPr/>
          <p:nvPr/>
        </p:nvGrpSpPr>
        <p:grpSpPr>
          <a:xfrm>
            <a:off x="2484360" y="3051000"/>
            <a:ext cx="6458040" cy="1291680"/>
            <a:chOff x="2484360" y="3051000"/>
            <a:chExt cx="6458040" cy="1291680"/>
          </a:xfrm>
        </p:grpSpPr>
        <p:sp>
          <p:nvSpPr>
            <p:cNvPr id="111" name="Text Box 12"/>
            <p:cNvSpPr/>
            <p:nvPr/>
          </p:nvSpPr>
          <p:spPr>
            <a:xfrm>
              <a:off x="2484360" y="3051000"/>
              <a:ext cx="6458040" cy="12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小于半圆的</a:t>
              </a:r>
              <a:r>
                <a:rPr b="1" lang="zh-CN" sz="2800" spc="-1" strike="noStrike">
                  <a:solidFill>
                    <a:srgbClr val="009999"/>
                  </a:solidFill>
                  <a:latin typeface="宋体"/>
                </a:rPr>
                <a:t>弧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叫做劣弧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如记作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用两个字母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矩形 2" descr=""/>
            <p:cNvPicPr/>
            <p:nvPr/>
          </p:nvPicPr>
          <p:blipFill>
            <a:blip r:embed="rId3"/>
            <a:stretch/>
          </p:blipFill>
          <p:spPr>
            <a:xfrm>
              <a:off x="8150400" y="3066120"/>
              <a:ext cx="780120" cy="5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25"/>
          <p:cNvGrpSpPr/>
          <p:nvPr/>
        </p:nvGrpSpPr>
        <p:grpSpPr>
          <a:xfrm>
            <a:off x="2430360" y="4365720"/>
            <a:ext cx="6678720" cy="1206720"/>
            <a:chOff x="2430360" y="4365720"/>
            <a:chExt cx="6678720" cy="1206720"/>
          </a:xfrm>
        </p:grpSpPr>
        <p:sp>
          <p:nvSpPr>
            <p:cNvPr id="114" name="Text Box 16"/>
            <p:cNvSpPr/>
            <p:nvPr/>
          </p:nvSpPr>
          <p:spPr>
            <a:xfrm>
              <a:off x="2430360" y="4365720"/>
              <a:ext cx="637488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大于半圆的</a:t>
              </a:r>
              <a:r>
                <a:rPr b="1" lang="zh-CN" sz="2800" spc="-1" strike="noStrike">
                  <a:solidFill>
                    <a:srgbClr val="009999"/>
                  </a:solidFill>
                  <a:latin typeface="宋体"/>
                </a:rPr>
                <a:t>弧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叫做优弧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如记作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用三个字母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矩形 3" descr=""/>
            <p:cNvPicPr/>
            <p:nvPr/>
          </p:nvPicPr>
          <p:blipFill>
            <a:blip r:embed="rId4"/>
            <a:stretch/>
          </p:blipFill>
          <p:spPr>
            <a:xfrm>
              <a:off x="8029800" y="4376880"/>
              <a:ext cx="1079280" cy="55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31640" y="1731960"/>
            <a:ext cx="7956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　　概念巩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⊙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直径，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在⊙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，那么，哪一段弧是优弧，哪一段弧是劣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1258920" y="981000"/>
            <a:ext cx="18730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活动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4067280" y="795240"/>
            <a:ext cx="2663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的相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3564000" y="3800520"/>
            <a:ext cx="2444760" cy="2592360"/>
            <a:chOff x="3564000" y="3800520"/>
            <a:chExt cx="2444760" cy="2592360"/>
          </a:xfrm>
        </p:grpSpPr>
        <p:sp>
          <p:nvSpPr>
            <p:cNvPr id="121" name="TextBox 11"/>
            <p:cNvSpPr/>
            <p:nvPr/>
          </p:nvSpPr>
          <p:spPr>
            <a:xfrm>
              <a:off x="4644000" y="5445360"/>
              <a:ext cx="36072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8"/>
            <p:cNvGrpSpPr/>
            <p:nvPr/>
          </p:nvGrpSpPr>
          <p:grpSpPr>
            <a:xfrm>
              <a:off x="3564000" y="3800520"/>
              <a:ext cx="2444760" cy="2592360"/>
              <a:chOff x="3564000" y="3800520"/>
              <a:chExt cx="2444760" cy="2592360"/>
            </a:xfrm>
          </p:grpSpPr>
          <p:pic>
            <p:nvPicPr>
              <p:cNvPr id="123" name="Picture 19" descr=""/>
              <p:cNvPicPr/>
              <p:nvPr/>
            </p:nvPicPr>
            <p:blipFill>
              <a:blip r:embed="rId2"/>
              <a:srcRect l="0" t="0" r="1827" b="20299"/>
              <a:stretch/>
            </p:blipFill>
            <p:spPr>
              <a:xfrm>
                <a:off x="3564000" y="3800520"/>
                <a:ext cx="2444760" cy="25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Box 2"/>
              <p:cNvSpPr/>
              <p:nvPr/>
            </p:nvSpPr>
            <p:spPr>
              <a:xfrm>
                <a:off x="4140000" y="3923640"/>
                <a:ext cx="28800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Box 10"/>
              <p:cNvSpPr/>
              <p:nvPr/>
            </p:nvSpPr>
            <p:spPr>
              <a:xfrm>
                <a:off x="4211640" y="3903480"/>
                <a:ext cx="28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Box 3"/>
              <p:cNvSpPr/>
              <p:nvPr/>
            </p:nvSpPr>
            <p:spPr>
              <a:xfrm>
                <a:off x="5508360" y="4293000"/>
                <a:ext cx="28800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Box 12"/>
              <p:cNvSpPr/>
              <p:nvPr/>
            </p:nvSpPr>
            <p:spPr>
              <a:xfrm>
                <a:off x="3707640" y="5999760"/>
                <a:ext cx="288000" cy="36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Box 13"/>
              <p:cNvSpPr/>
              <p:nvPr/>
            </p:nvSpPr>
            <p:spPr>
              <a:xfrm>
                <a:off x="5508360" y="4221000"/>
                <a:ext cx="28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Box 14"/>
              <p:cNvSpPr/>
              <p:nvPr/>
            </p:nvSpPr>
            <p:spPr>
              <a:xfrm>
                <a:off x="3635640" y="5877360"/>
                <a:ext cx="28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16"/>
            <p:cNvSpPr/>
            <p:nvPr/>
          </p:nvSpPr>
          <p:spPr>
            <a:xfrm>
              <a:off x="4694040" y="5428080"/>
              <a:ext cx="31068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23"/>
            <p:cNvSpPr/>
            <p:nvPr/>
          </p:nvSpPr>
          <p:spPr>
            <a:xfrm>
              <a:off x="4644000" y="51379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116000" y="2235240"/>
            <a:ext cx="669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圆心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顶点在圆心的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3041640" y="3338640"/>
            <a:ext cx="1962000" cy="1962000"/>
            <a:chOff x="3041640" y="3338640"/>
            <a:chExt cx="1962000" cy="1962000"/>
          </a:xfrm>
        </p:grpSpPr>
        <p:sp>
          <p:nvSpPr>
            <p:cNvPr id="135" name="Oval 5"/>
            <p:cNvSpPr/>
            <p:nvPr/>
          </p:nvSpPr>
          <p:spPr>
            <a:xfrm>
              <a:off x="3041640" y="333864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6"/>
            <p:cNvSpPr/>
            <p:nvPr/>
          </p:nvSpPr>
          <p:spPr>
            <a:xfrm>
              <a:off x="3906720" y="408024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9999"/>
                  </a:solidFill>
                  <a:latin typeface="Tahoma"/>
                </a:rPr>
                <a:t>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7"/>
          <p:cNvGrpSpPr/>
          <p:nvPr/>
        </p:nvGrpSpPr>
        <p:grpSpPr>
          <a:xfrm>
            <a:off x="2664000" y="3068640"/>
            <a:ext cx="1410840" cy="1504800"/>
            <a:chOff x="2664000" y="3068640"/>
            <a:chExt cx="1410840" cy="1504800"/>
          </a:xfrm>
        </p:grpSpPr>
        <p:sp>
          <p:nvSpPr>
            <p:cNvPr id="138" name="Line 8"/>
            <p:cNvSpPr/>
            <p:nvPr/>
          </p:nvSpPr>
          <p:spPr>
            <a:xfrm flipH="1" flipV="1">
              <a:off x="3524400" y="3517920"/>
              <a:ext cx="520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9"/>
            <p:cNvSpPr/>
            <p:nvPr/>
          </p:nvSpPr>
          <p:spPr>
            <a:xfrm flipH="1" flipV="1">
              <a:off x="3030480" y="4306680"/>
              <a:ext cx="104436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3132360" y="3068640"/>
              <a:ext cx="73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1"/>
            <p:cNvSpPr/>
            <p:nvPr/>
          </p:nvSpPr>
          <p:spPr>
            <a:xfrm>
              <a:off x="2664000" y="405288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1042920" y="1030320"/>
            <a:ext cx="18734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活动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635280" y="866880"/>
            <a:ext cx="2664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的相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042920" y="1030320"/>
            <a:ext cx="18734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活动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3635280" y="866880"/>
            <a:ext cx="2664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的相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900000" y="1989000"/>
            <a:ext cx="8991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圆心相同，半径不相等的两个圆叫做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同心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4140360" y="4435560"/>
            <a:ext cx="7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338560" y="2924280"/>
            <a:ext cx="3457440" cy="3457440"/>
          </a:xfrm>
          <a:custGeom>
            <a:avLst/>
            <a:gdLst>
              <a:gd name="textAreaLeft" fmla="*/ 506160 w 3457440"/>
              <a:gd name="textAreaRight" fmla="*/ 2951280 w 3457440"/>
              <a:gd name="textAreaTop" fmla="*/ 506160 h 3457440"/>
              <a:gd name="textAreaBottom" fmla="*/ 295128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3995640" y="472428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5"/>
          <p:cNvSpPr/>
          <p:nvPr/>
        </p:nvSpPr>
        <p:spPr>
          <a:xfrm>
            <a:off x="971640" y="189000"/>
            <a:ext cx="223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.1 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圆（</a:t>
            </a: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2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1042920" y="1030320"/>
            <a:ext cx="18734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活动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3635280" y="866880"/>
            <a:ext cx="26640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圆的相关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07920" y="2090880"/>
            <a:ext cx="625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够互相重合的两个圆叫做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等圆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2152800" y="3139920"/>
            <a:ext cx="1873080" cy="187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6"/>
          <p:cNvSpPr/>
          <p:nvPr/>
        </p:nvSpPr>
        <p:spPr>
          <a:xfrm>
            <a:off x="4427640" y="3139920"/>
            <a:ext cx="1873080" cy="187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12:49:52Z</dcterms:created>
  <dc:creator>www.12999.com; Administrator</dc:creator>
  <dc:description>www.12999.com</dc:description>
  <cp:keywords>www.12999.com</cp:keywords>
  <dc:language>en-US</dc:language>
  <cp:lastModifiedBy>lenovo</cp:lastModifiedBy>
  <dcterms:modified xsi:type="dcterms:W3CDTF">2015-01-15T07:17:19Z</dcterms:modified>
  <cp:revision>164</cp:revision>
  <dc:subject>www.12999.com</dc:subject>
  <dc:title>www.12999.com</dc:title>
</cp:coreProperties>
</file>