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8C4A-5CD3-4FB1-9F6D-AE7FA58FBD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CFC-F91F-4316-A930-64945E71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550-76D0-4632-B747-DC6A70B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0DA-440D-4161-B7D1-F51E1141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E73-6635-4B29-84DA-5F6866B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FFA-BDA9-4F97-88C0-A9B6882C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6071-9A15-4185-87A4-CA52D7D0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C6F-BE7D-4A45-A7C1-7BC3136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BAA-64F5-423E-B7D4-44F44B64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A25-09C7-4ED1-9D09-64D50FDB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B307-8743-46D3-A02C-544EEA14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F7F4-FC52-4347-BCEF-22013F9B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DC5-FB8B-4872-905C-E8E7A3FA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2DD-3733-4B90-A06E-A42F91A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1D69-206E-4C47-A1E1-DA3A8565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40C4-97DD-4353-B9E3-7BDBFBB6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70F0-8E22-405E-A776-D91194CE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0CF7-D026-4ED8-9D0D-144889A8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EE7-1516-4F8C-8DE3-A511109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F32-B5C5-4B28-92CC-2704A8B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5BE-DC1F-4F56-A403-E976FF59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B45-BE30-4E02-8AED-73FA206B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4A8-DABF-40DB-94D5-AF05D89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EE3-76D0-4163-8B61-DB8F979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C3D-9F27-4D3A-ADFC-B7C07D7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f9933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36395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f9933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3639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350-57A2-45E9-9460-8439C77BE3D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BDCD-E8C5-4CD8-AA89-EDD711CBE1B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36395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36395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slide" Target="slide41.xml"/><Relationship Id="rId8" Type="http://schemas.openxmlformats.org/officeDocument/2006/relationships/slide" Target="slide41.xml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" Target="slide40.xml"/><Relationship Id="rId7" Type="http://schemas.openxmlformats.org/officeDocument/2006/relationships/slide" Target="slide40.xml"/><Relationship Id="rId8" Type="http://schemas.openxmlformats.org/officeDocument/2006/relationships/slide" Target="slide40.xml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522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ad3f"/>
                </a:solidFill>
                <a:latin typeface="楷体_GB2312"/>
                <a:ea typeface="楷体_GB2312"/>
              </a:rPr>
              <a:t>执教：徐市中学  陈丽枫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58920" y="1484280"/>
            <a:ext cx="6769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WELLCO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581280" y="457200"/>
            <a:ext cx="49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Times New Roman"/>
                <a:ea typeface="黑体"/>
              </a:rPr>
              <a:t>等腰梯形的性质：</a:t>
            </a: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黑体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ubRRectCallout"/>
          <p:cNvSpPr/>
          <p:nvPr/>
        </p:nvSpPr>
        <p:spPr>
          <a:xfrm>
            <a:off x="1447920" y="609480"/>
            <a:ext cx="1655640" cy="935280"/>
          </a:xfrm>
          <a:custGeom>
            <a:avLst/>
            <a:gdLst>
              <a:gd name="textAreaLeft" fmla="*/ 10800 w 1655640"/>
              <a:gd name="textAreaRight" fmla="*/ 1641240 w 1655640"/>
              <a:gd name="textAreaTop" fmla="*/ 6120 h 935280"/>
              <a:gd name="textAreaBottom" fmla="*/ 740880 h 9352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162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请同学们拿出你亲自动手剪好等腰梯形，观察并思考下面的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66688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1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对称性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2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边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3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角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4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对角线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476360" y="3213000"/>
            <a:ext cx="6519600" cy="2692080"/>
            <a:chOff x="1476360" y="3213000"/>
            <a:chExt cx="6519600" cy="2692080"/>
          </a:xfrm>
        </p:grpSpPr>
        <p:sp>
          <p:nvSpPr>
            <p:cNvPr id="287" name=""/>
            <p:cNvSpPr/>
            <p:nvPr/>
          </p:nvSpPr>
          <p:spPr>
            <a:xfrm>
              <a:off x="4521600" y="5434560"/>
              <a:ext cx="4928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58240" y="3213000"/>
              <a:ext cx="4924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76360" y="5323320"/>
              <a:ext cx="4928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3480" y="5379120"/>
              <a:ext cx="49248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44040" y="3339000"/>
              <a:ext cx="4928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27520" y="3390840"/>
              <a:ext cx="4928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1666440" y="3657240"/>
              <a:ext cx="6027120" cy="1721880"/>
              <a:chOff x="1666440" y="3657240"/>
              <a:chExt cx="6027120" cy="1721880"/>
            </a:xfrm>
          </p:grpSpPr>
          <p:sp>
            <p:nvSpPr>
              <p:cNvPr id="294" name=""/>
              <p:cNvSpPr/>
              <p:nvPr/>
            </p:nvSpPr>
            <p:spPr>
              <a:xfrm>
                <a:off x="3309480" y="3657240"/>
                <a:ext cx="2850120" cy="1800"/>
              </a:xfrm>
              <a:prstGeom prst="line">
                <a:avLst/>
              </a:prstGeom>
              <a:ln w="63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1666440" y="3657240"/>
                <a:ext cx="1643040" cy="1721880"/>
              </a:xfrm>
              <a:prstGeom prst="line">
                <a:avLst/>
              </a:prstGeom>
              <a:ln w="63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666440" y="5379120"/>
                <a:ext cx="6027120" cy="0"/>
              </a:xfrm>
              <a:prstGeom prst="line">
                <a:avLst/>
              </a:prstGeom>
              <a:ln w="63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4624920" y="3657240"/>
                <a:ext cx="3068280" cy="1721880"/>
                <a:chOff x="4624920" y="3657240"/>
                <a:chExt cx="3068280" cy="1721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159600" y="3657240"/>
                  <a:ext cx="1533600" cy="1721880"/>
                </a:xfrm>
                <a:prstGeom prst="line">
                  <a:avLst/>
                </a:prstGeom>
                <a:ln w="63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24920" y="3657240"/>
                  <a:ext cx="0" cy="1721880"/>
                </a:xfrm>
                <a:prstGeom prst="line">
                  <a:avLst/>
                </a:prstGeom>
                <a:ln w="63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624920" y="3657240"/>
                  <a:ext cx="1534680" cy="0"/>
                </a:xfrm>
                <a:prstGeom prst="line">
                  <a:avLst/>
                </a:prstGeom>
                <a:ln w="63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624920" y="5379120"/>
                  <a:ext cx="3068280" cy="0"/>
                </a:xfrm>
                <a:prstGeom prst="line">
                  <a:avLst/>
                </a:prstGeom>
                <a:ln w="63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581280" y="457200"/>
            <a:ext cx="49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Times New Roman"/>
                <a:ea typeface="黑体"/>
              </a:rPr>
              <a:t>等腰梯形的性质：</a:t>
            </a:r>
            <a:r>
              <a:rPr b="0" lang="zh-CN" sz="5400" spc="-1" strike="noStrike">
                <a:solidFill>
                  <a:srgbClr val="ff9933"/>
                </a:solidFill>
                <a:latin typeface="Times New Roman"/>
                <a:ea typeface="黑体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ubRRectCallout"/>
          <p:cNvSpPr/>
          <p:nvPr/>
        </p:nvSpPr>
        <p:spPr>
          <a:xfrm>
            <a:off x="1447920" y="609480"/>
            <a:ext cx="1655640" cy="935280"/>
          </a:xfrm>
          <a:custGeom>
            <a:avLst/>
            <a:gdLst>
              <a:gd name="textAreaLeft" fmla="*/ 10800 w 1655640"/>
              <a:gd name="textAreaRight" fmla="*/ 1641240 w 1655640"/>
              <a:gd name="textAreaTop" fmla="*/ 6120 h 935280"/>
              <a:gd name="textAreaBottom" fmla="*/ 740880 h 93528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628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请同学们拿出你亲自动手剪好等腰梯形，观察并思考下面的问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266688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1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对称性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2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边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3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角： 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(4)</a:t>
            </a:r>
            <a:r>
              <a:rPr b="0" lang="zh-CN" sz="4000" spc="-1" strike="noStrike">
                <a:solidFill>
                  <a:srgbClr val="ff9933"/>
                </a:solidFill>
                <a:latin typeface="Times New Roman"/>
                <a:ea typeface="黑体"/>
              </a:rPr>
              <a:t>对角线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666800" y="3657600"/>
            <a:ext cx="1643040" cy="172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5373720"/>
            <a:ext cx="3121200" cy="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57880" y="3184560"/>
            <a:ext cx="3921120" cy="2692440"/>
            <a:chOff x="4457880" y="3184560"/>
            <a:chExt cx="3921120" cy="2692440"/>
          </a:xfrm>
        </p:grpSpPr>
        <p:sp>
          <p:nvSpPr>
            <p:cNvPr id="309" name=""/>
            <p:cNvSpPr/>
            <p:nvPr/>
          </p:nvSpPr>
          <p:spPr>
            <a:xfrm>
              <a:off x="4521240" y="5405400"/>
              <a:ext cx="4935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7880" y="3184560"/>
              <a:ext cx="4935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85080" y="5376960"/>
              <a:ext cx="493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02400" y="5349960"/>
              <a:ext cx="493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3680" y="3310200"/>
              <a:ext cx="49356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360" y="3289320"/>
              <a:ext cx="4935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59600" y="3629160"/>
              <a:ext cx="1533600" cy="172080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24560" y="3629160"/>
              <a:ext cx="0" cy="172080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24560" y="3629160"/>
              <a:ext cx="1535040" cy="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24560" y="5349960"/>
              <a:ext cx="3068640" cy="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20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22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37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</a:t>
            </a:r>
            <a:r>
              <a:rPr b="0" lang="zh-CN" sz="3200" spc="-1" strike="noStrike">
                <a:solidFill>
                  <a:srgbClr val="eff6ee"/>
                </a:solidFill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eff6ee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52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67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eff6ee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82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556000" y="3500280"/>
            <a:ext cx="3600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398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13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28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2072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44520" y="1557360"/>
            <a:ext cx="1311120" cy="1440000"/>
            <a:chOff x="1244520" y="1557360"/>
            <a:chExt cx="1311120" cy="1440000"/>
          </a:xfrm>
        </p:grpSpPr>
        <p:sp>
          <p:nvSpPr>
            <p:cNvPr id="94" name=""/>
            <p:cNvSpPr/>
            <p:nvPr/>
          </p:nvSpPr>
          <p:spPr>
            <a:xfrm flipH="1">
              <a:off x="1244520" y="1557360"/>
              <a:ext cx="303120" cy="14400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33600" y="1571760"/>
              <a:ext cx="64764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95280" y="1557360"/>
              <a:ext cx="360360" cy="14400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44520" y="2997360"/>
              <a:ext cx="12970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272280" y="2205000"/>
            <a:ext cx="1366920" cy="517680"/>
            <a:chOff x="6272280" y="2205000"/>
            <a:chExt cx="1366920" cy="517680"/>
          </a:xfrm>
        </p:grpSpPr>
        <p:sp>
          <p:nvSpPr>
            <p:cNvPr id="99" name=""/>
            <p:cNvSpPr/>
            <p:nvPr/>
          </p:nvSpPr>
          <p:spPr>
            <a:xfrm>
              <a:off x="6272280" y="2205000"/>
              <a:ext cx="13669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64360" y="2219400"/>
              <a:ext cx="432000" cy="5032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45240" y="2722680"/>
              <a:ext cx="5050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2205000"/>
              <a:ext cx="344520" cy="5032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64000" y="1484280"/>
            <a:ext cx="633240" cy="1224000"/>
            <a:chOff x="3564000" y="1484280"/>
            <a:chExt cx="633240" cy="1224000"/>
          </a:xfrm>
        </p:grpSpPr>
        <p:sp>
          <p:nvSpPr>
            <p:cNvPr id="104" name=""/>
            <p:cNvSpPr/>
            <p:nvPr/>
          </p:nvSpPr>
          <p:spPr>
            <a:xfrm flipH="1">
              <a:off x="3621240" y="1484280"/>
              <a:ext cx="288720" cy="10080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09960" y="1484280"/>
              <a:ext cx="287280" cy="730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981240" y="1557360"/>
              <a:ext cx="215640" cy="1150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2521080"/>
              <a:ext cx="431640" cy="14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0920" y="3429000"/>
            <a:ext cx="8893080" cy="3168720"/>
            <a:chOff x="250920" y="3429000"/>
            <a:chExt cx="8893080" cy="316872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3132360" y="3675240"/>
              <a:ext cx="2625480" cy="26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250920" y="3429000"/>
              <a:ext cx="252108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5738760" y="3573360"/>
              <a:ext cx="3405240" cy="30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94920" y="4828320"/>
            <a:ext cx="8512560" cy="1410480"/>
            <a:chOff x="394920" y="4828320"/>
            <a:chExt cx="8512560" cy="1410480"/>
          </a:xfrm>
        </p:grpSpPr>
        <p:grpSp>
          <p:nvGrpSpPr>
            <p:cNvPr id="113" name=""/>
            <p:cNvGrpSpPr/>
            <p:nvPr/>
          </p:nvGrpSpPr>
          <p:grpSpPr>
            <a:xfrm>
              <a:off x="394920" y="4941720"/>
              <a:ext cx="2233800" cy="1225440"/>
              <a:chOff x="394920" y="4941720"/>
              <a:chExt cx="2233800" cy="122544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394920" y="5014080"/>
                <a:ext cx="506520" cy="115092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901440" y="5014800"/>
                <a:ext cx="1150920" cy="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52720" y="4941720"/>
                <a:ext cx="576000" cy="122400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396720" y="6165720"/>
                <a:ext cx="2232000" cy="144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276720" y="4828320"/>
              <a:ext cx="2303280" cy="1367640"/>
              <a:chOff x="3276720" y="4828320"/>
              <a:chExt cx="2303280" cy="136764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3276720" y="4828320"/>
                <a:ext cx="431280" cy="136692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708000" y="4829040"/>
                <a:ext cx="1584000" cy="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92360" y="4828320"/>
                <a:ext cx="287280" cy="136692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276720" y="6195960"/>
                <a:ext cx="2303280" cy="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025680" y="5013360"/>
              <a:ext cx="2881800" cy="1225440"/>
              <a:chOff x="6025680" y="5013360"/>
              <a:chExt cx="2881800" cy="122544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025680" y="5013360"/>
                <a:ext cx="647640" cy="122400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673680" y="5013360"/>
                <a:ext cx="1657440" cy="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330400" y="5013360"/>
                <a:ext cx="576360" cy="122400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026040" y="6238800"/>
                <a:ext cx="2881440" cy="0"/>
              </a:xfrm>
              <a:prstGeom prst="line">
                <a:avLst/>
              </a:prstGeom>
              <a:ln w="63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你熟悉下列的图形吗？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43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两底边平行，两腰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6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58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两底边平行，两腰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角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73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两底边平行，两腰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角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同一底上的两个内角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488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两底边平行，两腰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角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同一底上的两个内角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角线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503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126972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</a:rPr>
              <a:t>等腰梯形的性质：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称性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 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对称图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称轴是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上下底中点所在的直线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它是中心对称图形吗？</a:t>
            </a:r>
            <a:r>
              <a:rPr b="0" lang="zh-CN" sz="3200" spc="-1" strike="noStrike" u="sng">
                <a:solidFill>
                  <a:srgbClr val="ff9933"/>
                </a:solidFill>
                <a:uFillTx/>
                <a:latin typeface="Arial"/>
              </a:rPr>
              <a:t>不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边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两底边平行，两腰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角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同一底上的两个内角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ff9933"/>
                </a:solidFill>
                <a:latin typeface="Arial"/>
              </a:rPr>
              <a:t>对角线：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等腰梯形的两条对角线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ubRRectCallout"/>
          <p:cNvSpPr/>
          <p:nvPr/>
        </p:nvSpPr>
        <p:spPr>
          <a:xfrm>
            <a:off x="395280" y="549360"/>
            <a:ext cx="1463760" cy="795240"/>
          </a:xfrm>
          <a:custGeom>
            <a:avLst/>
            <a:gdLst>
              <a:gd name="textAreaLeft" fmla="*/ 9720 w 1463760"/>
              <a:gd name="textAreaRight" fmla="*/ 1451160 w 1463760"/>
              <a:gd name="textAreaTop" fmla="*/ 5040 h 795240"/>
              <a:gd name="textAreaBottom" fmla="*/ 630000 h 795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e7eee6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</a:rPr>
              <a:t>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579640" y="668160"/>
            <a:ext cx="3191400" cy="2040120"/>
            <a:chOff x="5579640" y="668160"/>
            <a:chExt cx="3191400" cy="2040120"/>
          </a:xfrm>
        </p:grpSpPr>
        <p:sp>
          <p:nvSpPr>
            <p:cNvPr id="518" name=""/>
            <p:cNvSpPr/>
            <p:nvPr/>
          </p:nvSpPr>
          <p:spPr>
            <a:xfrm>
              <a:off x="6557400" y="910080"/>
              <a:ext cx="135756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14960" y="910080"/>
              <a:ext cx="70992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4600" y="2120400"/>
              <a:ext cx="2780280" cy="10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919120" y="898200"/>
              <a:ext cx="2046240" cy="12164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6575400" y="987120"/>
              <a:ext cx="1976040" cy="109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844240" y="939960"/>
              <a:ext cx="712440" cy="1162440"/>
            </a:xfrm>
            <a:prstGeom prst="line">
              <a:avLst/>
            </a:prstGeom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79640" y="1972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39480" y="215928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16480" y="66816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58960" y="668160"/>
              <a:ext cx="331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42320" y="1289520"/>
              <a:ext cx="38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7a77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916360" y="378936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过点</a:t>
            </a:r>
            <a:r>
              <a:rPr b="0" lang="en-US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D</a:t>
            </a: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作</a:t>
            </a:r>
            <a:r>
              <a:rPr b="0" lang="en-US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DE∥AB</a:t>
            </a: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交</a:t>
            </a:r>
            <a:r>
              <a:rPr b="0" lang="en-US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于点</a:t>
            </a:r>
            <a:r>
              <a:rPr b="0" lang="en-US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E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5640" y="2133720"/>
            <a:ext cx="838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已知：在等腰梯形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AB=DC</a:t>
            </a: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36395"/>
                </a:solidFill>
                <a:uFillTx/>
                <a:latin typeface="宋体"/>
                <a:hlinkClick r:id="rId2" action="ppaction://hlinksldjump"/>
              </a:rPr>
              <a:t>求证：∠</a:t>
            </a:r>
            <a:r>
              <a:rPr b="0" lang="en-US" sz="3200" spc="-1" strike="noStrike" u="sng">
                <a:solidFill>
                  <a:srgbClr val="636395"/>
                </a:solidFill>
                <a:uFillTx/>
                <a:latin typeface="宋体"/>
                <a:hlinkClick r:id="rId3" action="ppaction://hlinksldjump"/>
              </a:rPr>
              <a:t>B＝∠C，∠A＝∠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0200" y="3351240"/>
            <a:ext cx="3497400" cy="3067200"/>
            <a:chOff x="160200" y="3351240"/>
            <a:chExt cx="3497400" cy="3067200"/>
          </a:xfrm>
        </p:grpSpPr>
        <p:sp>
          <p:nvSpPr>
            <p:cNvPr id="532" name=""/>
            <p:cNvSpPr/>
            <p:nvPr/>
          </p:nvSpPr>
          <p:spPr>
            <a:xfrm>
              <a:off x="160200" y="56386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B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0800000">
              <a:off x="196560" y="3809520"/>
              <a:ext cx="3052800" cy="1901880"/>
            </a:xfrm>
            <a:custGeom>
              <a:avLst/>
              <a:gdLst>
                <a:gd name="textAreaLeft" fmla="*/ 671400 w 3052800"/>
                <a:gd name="textAreaRight" fmla="*/ 2381400 w 3052800"/>
                <a:gd name="textAreaTop" fmla="*/ 417960 h 1901880"/>
                <a:gd name="textAreaBottom" fmla="*/ 1483920 h 19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80" y="33526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A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20800" y="335124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D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79720" y="5715000"/>
              <a:ext cx="67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C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565440" y="4797360"/>
            <a:ext cx="5183280" cy="764280"/>
          </a:xfrm>
          <a:prstGeom prst="rect">
            <a:avLst/>
          </a:prstGeom>
          <a:solidFill>
            <a:srgbClr val="e7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华文新魏"/>
                <a:ea typeface="华文新魏"/>
              </a:rPr>
              <a:t>平移一腰是梯形常用的辅助线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3520" y="1143000"/>
            <a:ext cx="9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等腰梯形同一底边上的两个角相等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309120" y="476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Times New Roman"/>
              </a:rPr>
              <a:t>快验证你的发现吧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433880" y="3791880"/>
            <a:ext cx="1143360" cy="2560680"/>
            <a:chOff x="1433880" y="3791880"/>
            <a:chExt cx="1143360" cy="2560680"/>
          </a:xfrm>
        </p:grpSpPr>
        <p:sp>
          <p:nvSpPr>
            <p:cNvPr id="541" name=""/>
            <p:cNvSpPr/>
            <p:nvPr/>
          </p:nvSpPr>
          <p:spPr>
            <a:xfrm flipH="1">
              <a:off x="1731240" y="3791880"/>
              <a:ext cx="846000" cy="2033280"/>
            </a:xfrm>
            <a:prstGeom prst="line">
              <a:avLst/>
            </a:prstGeom>
            <a:ln w="5724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06800">
              <a:off x="1444680" y="5638680"/>
              <a:ext cx="68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E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539640" y="620640"/>
            <a:ext cx="352764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已知：在等腰梯形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D∥BC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B=DC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求证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∠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＝∠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C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，∠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＝∠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-360" y="2565360"/>
            <a:ext cx="3924720" cy="2541960"/>
            <a:chOff x="-360" y="2565360"/>
            <a:chExt cx="3924720" cy="2541960"/>
          </a:xfrm>
        </p:grpSpPr>
        <p:sp>
          <p:nvSpPr>
            <p:cNvPr id="545" name=""/>
            <p:cNvSpPr/>
            <p:nvPr/>
          </p:nvSpPr>
          <p:spPr>
            <a:xfrm rot="10800000">
              <a:off x="468000" y="2852280"/>
              <a:ext cx="2833560" cy="1656000"/>
            </a:xfrm>
            <a:custGeom>
              <a:avLst/>
              <a:gdLst>
                <a:gd name="textAreaLeft" fmla="*/ 623160 w 2833560"/>
                <a:gd name="textAreaRight" fmla="*/ 2210400 w 2833560"/>
                <a:gd name="textAreaTop" fmla="*/ 363960 h 1656000"/>
                <a:gd name="textAreaBottom" fmla="*/ 1292040 h 165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00360" y="2637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1619280" y="2781360"/>
              <a:ext cx="936360" cy="2325960"/>
              <a:chOff x="1619280" y="2781360"/>
              <a:chExt cx="936360" cy="232596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1839240" y="2781360"/>
                <a:ext cx="716400" cy="1764720"/>
              </a:xfrm>
              <a:prstGeom prst="line">
                <a:avLst/>
              </a:prstGeom>
              <a:ln w="5724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619280" y="4525920"/>
                <a:ext cx="44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7a77"/>
                    </a:solidFill>
                    <a:latin typeface="华文新魏"/>
                    <a:ea typeface="华文新魏"/>
                  </a:rPr>
                  <a:t>E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flipH="1">
              <a:off x="-720" y="4437000"/>
              <a:ext cx="5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6920" y="2565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48000" y="436572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24000" y="3933720"/>
              <a:ext cx="23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33"/>
                  </a:solidFill>
                  <a:latin typeface="华文新魏"/>
                  <a:ea typeface="华文新魏"/>
                </a:rPr>
                <a:t>1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138560" y="576000"/>
            <a:ext cx="48974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证明一：过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作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E∥AB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交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于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E∥AB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又 ∵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D∥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四边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BE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平行四边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B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E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E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又∵ ∠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+∠A=180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C+∠ADC=180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＝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D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539640" y="5013360"/>
            <a:ext cx="338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过点</a:t>
            </a:r>
            <a:r>
              <a:rPr b="1" lang="en-US" sz="3600" spc="-1" strike="noStrike">
                <a:solidFill>
                  <a:srgbClr val="ff9933"/>
                </a:solidFill>
                <a:latin typeface="宋体"/>
              </a:rPr>
              <a:t>D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作</a:t>
            </a:r>
            <a:r>
              <a:rPr b="1" lang="en-US" sz="3600" spc="-1" strike="noStrike">
                <a:solidFill>
                  <a:srgbClr val="ff9933"/>
                </a:solidFill>
                <a:latin typeface="宋体"/>
              </a:rPr>
              <a:t>DE∥AB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交</a:t>
            </a:r>
            <a:r>
              <a:rPr b="1" lang="en-US" sz="3600" spc="-1" strike="noStrike">
                <a:solidFill>
                  <a:srgbClr val="ff9933"/>
                </a:solidFill>
                <a:latin typeface="宋体"/>
              </a:rPr>
              <a:t>BC</a:t>
            </a:r>
            <a:r>
              <a:rPr b="1" lang="zh-CN" sz="3600" spc="-1" strike="noStrike">
                <a:solidFill>
                  <a:srgbClr val="ff9933"/>
                </a:solidFill>
                <a:latin typeface="宋体"/>
              </a:rPr>
              <a:t>于点</a:t>
            </a:r>
            <a:r>
              <a:rPr b="1" lang="en-US" sz="3600" spc="-1" strike="noStrike">
                <a:solidFill>
                  <a:srgbClr val="ff9933"/>
                </a:solidFill>
                <a:latin typeface="宋体"/>
              </a:rPr>
              <a:t>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304920" y="1752480"/>
            <a:ext cx="3352680" cy="2227680"/>
            <a:chOff x="304920" y="1752480"/>
            <a:chExt cx="3352680" cy="2227680"/>
          </a:xfrm>
        </p:grpSpPr>
        <p:sp>
          <p:nvSpPr>
            <p:cNvPr id="557" name=""/>
            <p:cNvSpPr/>
            <p:nvPr/>
          </p:nvSpPr>
          <p:spPr>
            <a:xfrm rot="10800000">
              <a:off x="609840" y="2239920"/>
              <a:ext cx="2590560" cy="1311120"/>
            </a:xfrm>
            <a:custGeom>
              <a:avLst/>
              <a:gdLst>
                <a:gd name="textAreaLeft" fmla="*/ 569520 w 2590560"/>
                <a:gd name="textAreaRight" fmla="*/ 2021040 w 2590560"/>
                <a:gd name="textAreaTop" fmla="*/ 288360 h 1311120"/>
                <a:gd name="textAreaBottom" fmla="*/ 102276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76600" y="1752480"/>
              <a:ext cx="41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90920" y="1874520"/>
              <a:ext cx="49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2640" y="3246120"/>
              <a:ext cx="534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920" y="33987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990720" y="2255760"/>
            <a:ext cx="1828800" cy="1800720"/>
            <a:chOff x="990720" y="2255760"/>
            <a:chExt cx="1828800" cy="1800720"/>
          </a:xfrm>
        </p:grpSpPr>
        <p:sp>
          <p:nvSpPr>
            <p:cNvPr id="563" name=""/>
            <p:cNvSpPr/>
            <p:nvPr/>
          </p:nvSpPr>
          <p:spPr>
            <a:xfrm>
              <a:off x="2362320" y="34750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90720" y="3475080"/>
              <a:ext cx="48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F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295280" y="2255760"/>
              <a:ext cx="1365480" cy="1295640"/>
              <a:chOff x="1295280" y="2255760"/>
              <a:chExt cx="1365480" cy="1295640"/>
            </a:xfrm>
          </p:grpSpPr>
          <p:sp>
            <p:nvSpPr>
              <p:cNvPr id="566" name=""/>
              <p:cNvSpPr/>
              <p:nvPr/>
            </p:nvSpPr>
            <p:spPr>
              <a:xfrm>
                <a:off x="1295280" y="2255760"/>
                <a:ext cx="0" cy="1295640"/>
              </a:xfrm>
              <a:prstGeom prst="line">
                <a:avLst/>
              </a:prstGeom>
              <a:ln w="5724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514600" y="2255760"/>
                <a:ext cx="38160" cy="1295640"/>
              </a:xfrm>
              <a:prstGeom prst="line">
                <a:avLst/>
              </a:prstGeom>
              <a:ln w="5724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95280" y="3322800"/>
                <a:ext cx="144720" cy="225360"/>
              </a:xfrm>
              <a:prstGeom prst="rect">
                <a:avLst/>
              </a:prstGeom>
              <a:noFill/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3322800"/>
                <a:ext cx="146160" cy="193680"/>
              </a:xfrm>
              <a:prstGeom prst="rect">
                <a:avLst/>
              </a:prstGeom>
              <a:noFill/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570" name=""/>
          <p:cNvSpPr/>
          <p:nvPr/>
        </p:nvSpPr>
        <p:spPr>
          <a:xfrm>
            <a:off x="380880" y="4267080"/>
            <a:ext cx="29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新魏"/>
                <a:ea typeface="华文新魏"/>
              </a:rPr>
              <a:t>过上底两端点作高也是梯形常用的辅助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2120" y="762120"/>
            <a:ext cx="777240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已知：在等腰梯形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D∥BC,AB=DC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求证：</a:t>
            </a:r>
            <a:r>
              <a:rPr b="0" lang="zh-CN" sz="2800" spc="-1" strike="noStrike" u="sng">
                <a:solidFill>
                  <a:srgbClr val="636395"/>
                </a:solidFill>
                <a:uFillTx/>
                <a:latin typeface="宋体"/>
                <a:hlinkClick r:id="rId2" action="ppaction://hlinksldjump"/>
              </a:rPr>
              <a:t>∠</a:t>
            </a:r>
            <a:r>
              <a:rPr b="0" lang="en-US" sz="2800" spc="-1" strike="noStrike" u="sng">
                <a:solidFill>
                  <a:srgbClr val="636395"/>
                </a:solidFill>
                <a:uFillTx/>
                <a:latin typeface="宋体"/>
                <a:hlinkClick r:id="rId3" action="ppaction://hlinksldjump"/>
              </a:rPr>
              <a:t>B＝∠C，∠A＝∠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352320" y="177300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证明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分别过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作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F⊥B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DE⊥BC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垂足为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F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∵ 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 AF=D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t△ABF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t△DC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F=DE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B=D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Rt△ABF≌ Rt△DCE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∴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= ∠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BAD=∠CD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348000" y="765000"/>
            <a:ext cx="57960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等腰梯形的性质定理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等腰梯形</a:t>
            </a: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同一底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上的两个内角相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3962520"/>
            <a:ext cx="54864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∵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梯形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ABCD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中，       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AD∥BC    AB=C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∴∠</a:t>
            </a: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A=∠D, ∠B=∠C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-360" y="1219320"/>
            <a:ext cx="3818520" cy="2320560"/>
            <a:chOff x="-360" y="1219320"/>
            <a:chExt cx="3818520" cy="2320560"/>
          </a:xfrm>
        </p:grpSpPr>
        <p:sp>
          <p:nvSpPr>
            <p:cNvPr id="576" name=""/>
            <p:cNvSpPr/>
            <p:nvPr/>
          </p:nvSpPr>
          <p:spPr>
            <a:xfrm>
              <a:off x="273240" y="3013200"/>
              <a:ext cx="3346200" cy="1440"/>
            </a:xfrm>
            <a:prstGeom prst="line">
              <a:avLst/>
            </a:prstGeom>
            <a:ln w="66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8600" y="1805040"/>
              <a:ext cx="1632960" cy="1440"/>
            </a:xfrm>
            <a:prstGeom prst="line">
              <a:avLst/>
            </a:prstGeom>
            <a:ln w="66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272880" y="1805040"/>
              <a:ext cx="855000" cy="1207800"/>
            </a:xfrm>
            <a:prstGeom prst="line">
              <a:avLst/>
            </a:prstGeom>
            <a:ln w="66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61920" y="1805040"/>
              <a:ext cx="857880" cy="1207800"/>
            </a:xfrm>
            <a:prstGeom prst="line">
              <a:avLst/>
            </a:prstGeom>
            <a:ln w="6660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-360" y="2960280"/>
              <a:ext cx="3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506400" y="2952360"/>
              <a:ext cx="311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0200" y="1219320"/>
              <a:ext cx="322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04760" y="1292400"/>
              <a:ext cx="349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04920" y="3809880"/>
            <a:ext cx="2160000" cy="711720"/>
            <a:chOff x="304920" y="3809880"/>
            <a:chExt cx="2160000" cy="711720"/>
          </a:xfrm>
        </p:grpSpPr>
        <p:grpSp>
          <p:nvGrpSpPr>
            <p:cNvPr id="585" name=""/>
            <p:cNvGrpSpPr/>
            <p:nvPr/>
          </p:nvGrpSpPr>
          <p:grpSpPr>
            <a:xfrm>
              <a:off x="304920" y="3825720"/>
              <a:ext cx="2148480" cy="695880"/>
              <a:chOff x="304920" y="3825720"/>
              <a:chExt cx="2148480" cy="695880"/>
            </a:xfrm>
          </p:grpSpPr>
          <p:sp>
            <p:nvSpPr>
              <p:cNvPr id="586" name=""/>
              <p:cNvSpPr/>
              <p:nvPr/>
            </p:nvSpPr>
            <p:spPr>
              <a:xfrm>
                <a:off x="304920" y="3825720"/>
                <a:ext cx="2148480" cy="6958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43880" y="3825720"/>
                <a:ext cx="1741680" cy="578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04920" y="3809880"/>
              <a:ext cx="2160000" cy="6426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</a:rPr>
                <a:t>几何语言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1332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36395"/>
                </a:solidFill>
                <a:latin typeface="Arial"/>
                <a:ea typeface="华文新魏"/>
              </a:rPr>
              <a:t>梯形的性质</a:t>
            </a:r>
            <a:endParaRPr b="0" lang="en-US" sz="6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24360" y="1413000"/>
            <a:ext cx="475128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3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ad3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梯形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ad3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3124080"/>
            <a:ext cx="4419000" cy="2935080"/>
            <a:chOff x="0" y="3124080"/>
            <a:chExt cx="4419000" cy="2935080"/>
          </a:xfrm>
        </p:grpSpPr>
        <p:grpSp>
          <p:nvGrpSpPr>
            <p:cNvPr id="590" name=""/>
            <p:cNvGrpSpPr/>
            <p:nvPr/>
          </p:nvGrpSpPr>
          <p:grpSpPr>
            <a:xfrm>
              <a:off x="0" y="3124080"/>
              <a:ext cx="4419000" cy="2935080"/>
              <a:chOff x="0" y="3124080"/>
              <a:chExt cx="4419000" cy="2935080"/>
            </a:xfrm>
          </p:grpSpPr>
          <p:sp>
            <p:nvSpPr>
              <p:cNvPr id="591" name=""/>
              <p:cNvSpPr/>
              <p:nvPr/>
            </p:nvSpPr>
            <p:spPr>
              <a:xfrm>
                <a:off x="0" y="5329080"/>
                <a:ext cx="103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华文新魏"/>
                    <a:ea typeface="华文新魏"/>
                  </a:rPr>
                  <a:t>B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0800000">
                <a:off x="269640" y="3697200"/>
                <a:ext cx="3384000" cy="1760400"/>
              </a:xfrm>
              <a:custGeom>
                <a:avLst/>
                <a:gdLst>
                  <a:gd name="textAreaLeft" fmla="*/ 744120 w 3384000"/>
                  <a:gd name="textAreaRight" fmla="*/ 2639880 w 3384000"/>
                  <a:gd name="textAreaTop" fmla="*/ 387000 h 1760400"/>
                  <a:gd name="textAreaBottom" fmla="*/ 1373400 h 176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77520" y="3127320"/>
                <a:ext cx="103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华文新魏"/>
                    <a:ea typeface="华文新魏"/>
                  </a:rPr>
                  <a:t>A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90360" y="3124080"/>
                <a:ext cx="1034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华文新魏"/>
                    <a:ea typeface="华文新魏"/>
                  </a:rPr>
                  <a:t>D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385800" y="5416560"/>
                <a:ext cx="103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华文新魏"/>
                    <a:ea typeface="华文新魏"/>
                  </a:rPr>
                  <a:t>C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066680" y="3733560"/>
              <a:ext cx="2540160" cy="176364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04560" y="3733560"/>
              <a:ext cx="2454480" cy="167472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00200" y="4419360"/>
              <a:ext cx="50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华文新魏"/>
                  <a:ea typeface="华文新魏"/>
                </a:rPr>
                <a:t>O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04560" y="3733920"/>
            <a:ext cx="3352680" cy="1763280"/>
            <a:chOff x="304560" y="3733920"/>
            <a:chExt cx="3352680" cy="1763280"/>
          </a:xfrm>
        </p:grpSpPr>
        <p:sp>
          <p:nvSpPr>
            <p:cNvPr id="600" name=""/>
            <p:cNvSpPr/>
            <p:nvPr/>
          </p:nvSpPr>
          <p:spPr>
            <a:xfrm flipH="1">
              <a:off x="304560" y="3733920"/>
              <a:ext cx="838440" cy="1763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04920" y="5407920"/>
              <a:ext cx="326736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43360" y="3733920"/>
              <a:ext cx="2513880" cy="1763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60280" y="3716280"/>
            <a:ext cx="3448080" cy="1828800"/>
            <a:chOff x="260280" y="3716280"/>
            <a:chExt cx="3448080" cy="1828800"/>
          </a:xfrm>
        </p:grpSpPr>
        <p:sp>
          <p:nvSpPr>
            <p:cNvPr id="604" name=""/>
            <p:cNvSpPr/>
            <p:nvPr/>
          </p:nvSpPr>
          <p:spPr>
            <a:xfrm>
              <a:off x="2851200" y="3792240"/>
              <a:ext cx="857160" cy="175284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6600" y="5468760"/>
              <a:ext cx="334152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60280" y="3716280"/>
              <a:ext cx="2571840" cy="17524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914400" y="1066680"/>
            <a:ext cx="655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等腰梯形的两条对角线相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430800" y="3808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Times New Roman"/>
              </a:rPr>
              <a:t>又来验证你的发现吧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5280" y="170028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已知：在梯形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中，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D∥BC,AB=DC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求证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C=B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48000" y="1989000"/>
            <a:ext cx="4896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证明： ∵在梯形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，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AD∥BC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,AB=D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∴ ∠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BC= ∠ DC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等腰梯形在同一底上的两 个角相等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又∵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BC=C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∴ △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BC≌ △ DC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SA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∴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C=D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838080" y="685800"/>
            <a:ext cx="716436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等腰梯形的性质定理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等腰梯形的两条对角线相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4000" y="4572000"/>
            <a:ext cx="828648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∵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梯形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中，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AD∥BC,AB=C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AC=BD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276720" y="1981080"/>
            <a:ext cx="5230800" cy="2643480"/>
            <a:chOff x="3276720" y="1981080"/>
            <a:chExt cx="5230800" cy="2643480"/>
          </a:xfrm>
        </p:grpSpPr>
        <p:grpSp>
          <p:nvGrpSpPr>
            <p:cNvPr id="614" name=""/>
            <p:cNvGrpSpPr/>
            <p:nvPr/>
          </p:nvGrpSpPr>
          <p:grpSpPr>
            <a:xfrm>
              <a:off x="3276720" y="1981080"/>
              <a:ext cx="5230800" cy="2643480"/>
              <a:chOff x="3276720" y="1981080"/>
              <a:chExt cx="5230800" cy="2643480"/>
            </a:xfrm>
          </p:grpSpPr>
          <p:sp>
            <p:nvSpPr>
              <p:cNvPr id="615" name=""/>
              <p:cNvSpPr/>
              <p:nvPr/>
            </p:nvSpPr>
            <p:spPr>
              <a:xfrm>
                <a:off x="3664800" y="4208040"/>
                <a:ext cx="4597920" cy="2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69000" y="2426760"/>
                <a:ext cx="2246040" cy="2880"/>
              </a:xfrm>
              <a:prstGeom prst="line">
                <a:avLst/>
              </a:prstGeom>
              <a:ln w="63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664800" y="2431800"/>
                <a:ext cx="1175760" cy="1775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86960" y="2431800"/>
                <a:ext cx="1175760" cy="1775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76720" y="406224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2680" y="413676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469760" y="198108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57240" y="1981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754440" y="2426760"/>
                <a:ext cx="3264480" cy="172944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>
                <a:off x="4869000" y="2501280"/>
                <a:ext cx="3269520" cy="166608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339880" y="2561760"/>
              <a:ext cx="877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85800" y="3429000"/>
            <a:ext cx="2160360" cy="711720"/>
            <a:chOff x="685800" y="3429000"/>
            <a:chExt cx="2160360" cy="711720"/>
          </a:xfrm>
        </p:grpSpPr>
        <p:grpSp>
          <p:nvGrpSpPr>
            <p:cNvPr id="627" name=""/>
            <p:cNvGrpSpPr/>
            <p:nvPr/>
          </p:nvGrpSpPr>
          <p:grpSpPr>
            <a:xfrm>
              <a:off x="685800" y="3444840"/>
              <a:ext cx="2148840" cy="695880"/>
              <a:chOff x="685800" y="3444840"/>
              <a:chExt cx="2148840" cy="695880"/>
            </a:xfrm>
          </p:grpSpPr>
          <p:sp>
            <p:nvSpPr>
              <p:cNvPr id="628" name=""/>
              <p:cNvSpPr/>
              <p:nvPr/>
            </p:nvSpPr>
            <p:spPr>
              <a:xfrm>
                <a:off x="685800" y="3444840"/>
                <a:ext cx="2148840" cy="6958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25120" y="3444840"/>
                <a:ext cx="1742040" cy="578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685800" y="3429000"/>
              <a:ext cx="2160360" cy="6426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</a:rPr>
                <a:t>几何语言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352680" y="11430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、找出图中还有哪些全等三角形？为什么？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宋体"/>
              </a:rPr>
              <a:t>                  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5240" y="3962520"/>
            <a:ext cx="548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找出图中有哪些等腰三角形？为什么？</a:t>
            </a:r>
            <a:r>
              <a:rPr b="1" lang="zh-CN" sz="4400" spc="-1" strike="noStrike" u="sng">
                <a:solidFill>
                  <a:srgbClr val="007a77"/>
                </a:solidFill>
                <a:uFillTx/>
                <a:latin typeface="宋体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-360" y="838080"/>
            <a:ext cx="3567960" cy="2253600"/>
            <a:chOff x="-360" y="838080"/>
            <a:chExt cx="3567960" cy="2253600"/>
          </a:xfrm>
        </p:grpSpPr>
        <p:grpSp>
          <p:nvGrpSpPr>
            <p:cNvPr id="634" name=""/>
            <p:cNvGrpSpPr/>
            <p:nvPr/>
          </p:nvGrpSpPr>
          <p:grpSpPr>
            <a:xfrm>
              <a:off x="-360" y="838080"/>
              <a:ext cx="3567960" cy="2253600"/>
              <a:chOff x="-360" y="838080"/>
              <a:chExt cx="3567960" cy="2253600"/>
            </a:xfrm>
          </p:grpSpPr>
          <p:sp>
            <p:nvSpPr>
              <p:cNvPr id="635" name=""/>
              <p:cNvSpPr/>
              <p:nvPr/>
            </p:nvSpPr>
            <p:spPr>
              <a:xfrm>
                <a:off x="257400" y="2662200"/>
                <a:ext cx="3049920" cy="21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056240" y="1203120"/>
                <a:ext cx="1489680" cy="2520"/>
              </a:xfrm>
              <a:prstGeom prst="line">
                <a:avLst/>
              </a:prstGeom>
              <a:ln w="63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257400" y="1207080"/>
                <a:ext cx="779760" cy="14547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27200" y="1207080"/>
                <a:ext cx="779760" cy="145476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-360" y="254304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272760" y="26038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91640" y="838080"/>
                <a:ext cx="27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39880" y="838080"/>
                <a:ext cx="29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316800" y="1203120"/>
                <a:ext cx="2165400" cy="14169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>
                <a:off x="1056240" y="1263960"/>
                <a:ext cx="2168640" cy="13647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1371960" y="1313640"/>
              <a:ext cx="57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09480" y="3200400"/>
            <a:ext cx="8077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△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ABD≌ △ DCA    △ABO≌ △ DC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51055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△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OD    △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685800"/>
            <a:ext cx="83055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练习：已知：梯形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=D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=110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则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D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110 </a:t>
            </a:r>
            <a:r>
              <a:rPr b="0" lang="zh-CN" sz="3600" spc="-1" strike="noStrike" u="sng">
                <a:solidFill>
                  <a:srgbClr val="eff6ee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B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C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8360" y="29973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提示：先画一个梯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410920" y="3645000"/>
            <a:ext cx="4657680" cy="2757600"/>
            <a:chOff x="2410920" y="3645000"/>
            <a:chExt cx="4657680" cy="2757600"/>
          </a:xfrm>
        </p:grpSpPr>
        <p:sp>
          <p:nvSpPr>
            <p:cNvPr id="651" name=""/>
            <p:cNvSpPr/>
            <p:nvPr/>
          </p:nvSpPr>
          <p:spPr>
            <a:xfrm>
              <a:off x="2754360" y="5986440"/>
              <a:ext cx="406440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818880" y="4113360"/>
              <a:ext cx="1985760" cy="324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75400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7872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410920" y="58341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73760" y="5914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66800" y="3645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30280" y="364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908000" y="2803680"/>
            <a:ext cx="100836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236000" y="2082960"/>
            <a:ext cx="10080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356000" y="2803680"/>
            <a:ext cx="10080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685800"/>
            <a:ext cx="83055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练习：已知：梯形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=D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=110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则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D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110  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B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eff6ee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C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68360" y="29973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提示：先画一个梯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410920" y="3645000"/>
            <a:ext cx="4657680" cy="2757600"/>
            <a:chOff x="2410920" y="3645000"/>
            <a:chExt cx="4657680" cy="2757600"/>
          </a:xfrm>
        </p:grpSpPr>
        <p:sp>
          <p:nvSpPr>
            <p:cNvPr id="665" name=""/>
            <p:cNvSpPr/>
            <p:nvPr/>
          </p:nvSpPr>
          <p:spPr>
            <a:xfrm>
              <a:off x="2754360" y="5986440"/>
              <a:ext cx="406440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18880" y="4113360"/>
              <a:ext cx="1985760" cy="324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75400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7872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410920" y="58341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73760" y="5914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66800" y="3645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30280" y="364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908000" y="2803680"/>
            <a:ext cx="100836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2803680"/>
            <a:ext cx="10080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533520" y="685800"/>
            <a:ext cx="83055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练习：已知：梯形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=D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=110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则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D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110  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B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C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cfefc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eff6ee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29973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提示：先画一个梯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54360" y="5986440"/>
            <a:ext cx="4064040" cy="1440"/>
          </a:xfrm>
          <a:prstGeom prst="line">
            <a:avLst/>
          </a:prstGeom>
          <a:ln w="63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10920" y="3645000"/>
            <a:ext cx="4658040" cy="2757960"/>
            <a:chOff x="2410920" y="3645000"/>
            <a:chExt cx="4658040" cy="2757960"/>
          </a:xfrm>
        </p:grpSpPr>
        <p:sp>
          <p:nvSpPr>
            <p:cNvPr id="679" name=""/>
            <p:cNvSpPr/>
            <p:nvPr/>
          </p:nvSpPr>
          <p:spPr>
            <a:xfrm>
              <a:off x="3819600" y="4113360"/>
              <a:ext cx="1985760" cy="288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2754360" y="4118040"/>
              <a:ext cx="1039680" cy="1868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78360" y="4118040"/>
              <a:ext cx="1040040" cy="18684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10920" y="58341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74120" y="59151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66800" y="3645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30640" y="364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427640" y="2803680"/>
            <a:ext cx="1008000" cy="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533520" y="685800"/>
            <a:ext cx="83055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练习：已知：梯形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B=DC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A=110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则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D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110  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B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70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∠C=</a:t>
            </a:r>
            <a:r>
              <a:rPr b="0" lang="zh-CN" sz="36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</a:t>
            </a:r>
            <a:r>
              <a:rPr b="0" lang="zh-CN" sz="3600" spc="-1" strike="noStrike" u="sng">
                <a:solidFill>
                  <a:srgbClr val="ff9933"/>
                </a:solidFill>
                <a:uFillTx/>
                <a:latin typeface="Arial"/>
                <a:ea typeface="黑体"/>
              </a:rPr>
              <a:t>70 °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68360" y="299736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提示：先画一个梯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410920" y="3645000"/>
            <a:ext cx="4657680" cy="2757600"/>
            <a:chOff x="2410920" y="3645000"/>
            <a:chExt cx="4657680" cy="2757600"/>
          </a:xfrm>
        </p:grpSpPr>
        <p:sp>
          <p:nvSpPr>
            <p:cNvPr id="690" name=""/>
            <p:cNvSpPr/>
            <p:nvPr/>
          </p:nvSpPr>
          <p:spPr>
            <a:xfrm>
              <a:off x="2754360" y="5986440"/>
              <a:ext cx="4064400" cy="1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18880" y="4113360"/>
              <a:ext cx="1985760" cy="3240"/>
            </a:xfrm>
            <a:prstGeom prst="line">
              <a:avLst/>
            </a:prstGeom>
            <a:ln w="63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275400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78720" y="4118400"/>
              <a:ext cx="1040040" cy="1867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0920" y="58341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73760" y="5914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66800" y="364500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930280" y="364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838080" y="304920"/>
            <a:ext cx="800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如图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延长等腰梯形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两腰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BA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与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CD,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相交于点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黑体"/>
              </a:rPr>
              <a:t>猜想△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黑体"/>
              </a:rPr>
              <a:t>EAD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黑体"/>
              </a:rPr>
              <a:t>和△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黑体"/>
              </a:rPr>
              <a:t>EBC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黑体"/>
              </a:rPr>
              <a:t>的形状？并说明理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381960" y="2743200"/>
            <a:ext cx="3057840" cy="3267360"/>
            <a:chOff x="381960" y="2743200"/>
            <a:chExt cx="3057840" cy="3267360"/>
          </a:xfrm>
        </p:grpSpPr>
        <p:sp>
          <p:nvSpPr>
            <p:cNvPr id="700" name=""/>
            <p:cNvSpPr/>
            <p:nvPr/>
          </p:nvSpPr>
          <p:spPr>
            <a:xfrm>
              <a:off x="381960" y="53679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28240" y="52725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708480" y="3381840"/>
              <a:ext cx="2299320" cy="2250000"/>
              <a:chOff x="708480" y="3381840"/>
              <a:chExt cx="2299320" cy="2250000"/>
            </a:xfrm>
          </p:grpSpPr>
          <p:sp>
            <p:nvSpPr>
              <p:cNvPr id="703" name=""/>
              <p:cNvSpPr/>
              <p:nvPr/>
            </p:nvSpPr>
            <p:spPr>
              <a:xfrm>
                <a:off x="708480" y="3381840"/>
                <a:ext cx="2299320" cy="2250000"/>
              </a:xfrm>
              <a:prstGeom prst="triangle">
                <a:avLst>
                  <a:gd name="adj" fmla="val 50000"/>
                </a:avLst>
              </a:prstGeom>
              <a:solidFill>
                <a:srgbClr val="e7eee6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284120" y="4435560"/>
                <a:ext cx="115020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92720" y="392940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435400" y="392940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7a77"/>
                    </a:solidFill>
                    <a:latin typeface="Arial"/>
                  </a:rPr>
                  <a:t>D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1613880" y="2743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14400" y="6858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如图，在等腰梯形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AD//BC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，已知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AD=4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AB=5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BC=9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。求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∠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C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-74520" y="2492280"/>
            <a:ext cx="4589280" cy="2516760"/>
            <a:chOff x="-74520" y="2492280"/>
            <a:chExt cx="4589280" cy="2516760"/>
          </a:xfrm>
        </p:grpSpPr>
        <p:sp>
          <p:nvSpPr>
            <p:cNvPr id="710" name=""/>
            <p:cNvSpPr/>
            <p:nvPr/>
          </p:nvSpPr>
          <p:spPr>
            <a:xfrm>
              <a:off x="-74520" y="4427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39920" y="4319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14360" y="2492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560" y="2708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336600" y="3016080"/>
              <a:ext cx="3803760" cy="1717920"/>
            </a:xfrm>
            <a:custGeom>
              <a:avLst/>
              <a:gdLst>
                <a:gd name="textAreaLeft" fmla="*/ 836280 w 3803760"/>
                <a:gd name="textAreaRight" fmla="*/ 2967480 w 3803760"/>
                <a:gd name="textAreaTop" fmla="*/ 377640 h 1717920"/>
                <a:gd name="textAreaBottom" fmla="*/ 1340280 h 17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7eee6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1903320" y="450540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09080" y="2565360"/>
            <a:ext cx="2818440" cy="3070800"/>
            <a:chOff x="109080" y="2565360"/>
            <a:chExt cx="2818440" cy="3070800"/>
          </a:xfrm>
        </p:grpSpPr>
        <p:sp>
          <p:nvSpPr>
            <p:cNvPr id="717" name=""/>
            <p:cNvSpPr/>
            <p:nvPr/>
          </p:nvSpPr>
          <p:spPr>
            <a:xfrm>
              <a:off x="2089080" y="5054760"/>
              <a:ext cx="8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080" y="36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187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94000" y="3068640"/>
            <a:ext cx="914400" cy="2262600"/>
            <a:chOff x="2394000" y="3068640"/>
            <a:chExt cx="914400" cy="2262600"/>
          </a:xfrm>
        </p:grpSpPr>
        <p:sp>
          <p:nvSpPr>
            <p:cNvPr id="721" name=""/>
            <p:cNvSpPr/>
            <p:nvPr/>
          </p:nvSpPr>
          <p:spPr>
            <a:xfrm>
              <a:off x="2394000" y="4749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484360" y="3068640"/>
              <a:ext cx="719280" cy="1655640"/>
            </a:xfrm>
            <a:prstGeom prst="line">
              <a:avLst/>
            </a:prstGeom>
            <a:ln w="63360">
              <a:solidFill>
                <a:srgbClr val="ff99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700200" y="457200"/>
            <a:ext cx="844380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=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延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到点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CE=A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连结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62120" y="1752480"/>
            <a:ext cx="88916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636395"/>
                </a:solidFill>
                <a:uFillTx/>
                <a:latin typeface="Arial"/>
                <a:hlinkClick r:id="rId2" action="ppaction://hlinksldjump"/>
              </a:rPr>
              <a:t>⑴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3" action="ppaction://hlinksldjump"/>
              </a:rPr>
              <a:t>试判断△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4" action="ppaction://hlinksldjump"/>
              </a:rPr>
              <a:t>BDE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5" action="ppaction://hlinksldjump"/>
              </a:rPr>
              <a:t>的形状。说明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Times New Roman"/>
                <a:hlinkClick r:id="rId6" action="ppaction://hlinksldjump"/>
              </a:rPr>
              <a:t>理由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7" action="ppaction://hlinksldjump"/>
              </a:rPr>
              <a:t>。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9"/>
          <a:stretch/>
        </p:blipFill>
        <p:spPr>
          <a:xfrm>
            <a:off x="684360" y="2708280"/>
            <a:ext cx="657216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643280" y="762120"/>
            <a:ext cx="4500720" cy="2533680"/>
            <a:chOff x="4643280" y="762120"/>
            <a:chExt cx="4500720" cy="2533680"/>
          </a:xfrm>
        </p:grpSpPr>
        <p:sp>
          <p:nvSpPr>
            <p:cNvPr id="132" name=""/>
            <p:cNvSpPr/>
            <p:nvPr/>
          </p:nvSpPr>
          <p:spPr>
            <a:xfrm>
              <a:off x="7691400" y="1170000"/>
              <a:ext cx="800280" cy="17143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3280" y="2496960"/>
              <a:ext cx="50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0000" y="833400"/>
              <a:ext cx="5335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07520" y="2509920"/>
              <a:ext cx="636480" cy="78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5178240" y="1170000"/>
              <a:ext cx="3394080" cy="1741320"/>
              <a:chOff x="5178240" y="1170000"/>
              <a:chExt cx="3394080" cy="1741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140880" y="1170000"/>
                <a:ext cx="159660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5178240" y="1196640"/>
                <a:ext cx="998280" cy="17146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2911320"/>
                <a:ext cx="33937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7756560" y="7621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09480" y="1371600"/>
            <a:ext cx="53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华文新魏"/>
                <a:ea typeface="华文新魏"/>
              </a:rPr>
              <a:t>只有</a:t>
            </a: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一组对边平行的四边形叫做</a:t>
            </a:r>
            <a:r>
              <a:rPr b="0" lang="zh-CN" sz="3600" spc="-1" strike="noStrike">
                <a:solidFill>
                  <a:srgbClr val="ff9933"/>
                </a:solidFill>
                <a:latin typeface="华文新魏"/>
                <a:ea typeface="华文新魏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5800" y="2819520"/>
            <a:ext cx="2160360" cy="711720"/>
            <a:chOff x="685800" y="2819520"/>
            <a:chExt cx="2160360" cy="711720"/>
          </a:xfrm>
        </p:grpSpPr>
        <p:grpSp>
          <p:nvGrpSpPr>
            <p:cNvPr id="143" name=""/>
            <p:cNvGrpSpPr/>
            <p:nvPr/>
          </p:nvGrpSpPr>
          <p:grpSpPr>
            <a:xfrm>
              <a:off x="685800" y="2835360"/>
              <a:ext cx="2148840" cy="695880"/>
              <a:chOff x="685800" y="2835360"/>
              <a:chExt cx="2148840" cy="6958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5800" y="2835360"/>
                <a:ext cx="2148840" cy="6958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25120" y="2835360"/>
                <a:ext cx="1742040" cy="578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85800" y="2819520"/>
              <a:ext cx="2160360" cy="6426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</a:rPr>
                <a:t>几何语言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38098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梯形</a:t>
            </a: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ABCD</a:t>
            </a: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中，</a:t>
            </a: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AB∥CD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由</a:t>
            </a: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AB∥CD</a:t>
            </a:r>
            <a:r>
              <a:rPr b="0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可以得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∠</a:t>
            </a:r>
            <a:r>
              <a:rPr b="0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A+∠D=180°∠B+∠C=180°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8580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华文新魏"/>
                <a:ea typeface="华文新魏"/>
              </a:rPr>
              <a:t>梯形的定义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81480" y="1125360"/>
            <a:ext cx="3276720" cy="1752840"/>
            <a:chOff x="5181480" y="1125360"/>
            <a:chExt cx="3276720" cy="1752840"/>
          </a:xfrm>
        </p:grpSpPr>
        <p:sp>
          <p:nvSpPr>
            <p:cNvPr id="150" name=""/>
            <p:cNvSpPr/>
            <p:nvPr/>
          </p:nvSpPr>
          <p:spPr>
            <a:xfrm>
              <a:off x="6156360" y="1125360"/>
              <a:ext cx="1539720" cy="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81480" y="2878200"/>
              <a:ext cx="3276720" cy="0"/>
            </a:xfrm>
            <a:prstGeom prst="line">
              <a:avLst/>
            </a:prstGeom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00200" y="457200"/>
            <a:ext cx="844380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=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延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到点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CE=A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连结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752480"/>
            <a:ext cx="88916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⑴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试判断△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的形状。说明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理由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40872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700200" y="457200"/>
            <a:ext cx="844380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=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延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到点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CE=A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连结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120" y="1752480"/>
            <a:ext cx="889164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636395"/>
                </a:solidFill>
                <a:uFillTx/>
                <a:latin typeface="Arial"/>
                <a:hlinkClick r:id="rId2" action="ppaction://hlinksldjump"/>
              </a:rPr>
              <a:t>⑴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3" action="ppaction://hlinksldjump"/>
              </a:rPr>
              <a:t>试判断△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4" action="ppaction://hlinksldjump"/>
              </a:rPr>
              <a:t>BDE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5" action="ppaction://hlinksldjump"/>
              </a:rPr>
              <a:t>的形状。说明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Times New Roman"/>
                <a:hlinkClick r:id="rId6" action="ppaction://hlinksldjump"/>
              </a:rPr>
              <a:t>理由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宋体"/>
                <a:hlinkClick r:id="rId7" action="ppaction://hlinksldjump"/>
              </a:rPr>
              <a:t>。</a:t>
            </a:r>
            <a:r>
              <a:rPr b="0" lang="zh-CN" sz="3600" spc="-1" strike="noStrike" u="sng">
                <a:solidFill>
                  <a:srgbClr val="636395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9"/>
          <a:stretch/>
        </p:blipFill>
        <p:spPr>
          <a:xfrm>
            <a:off x="826920" y="2781360"/>
            <a:ext cx="6548760" cy="3787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5651640" y="3716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连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295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=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延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到点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CE=A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连结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1773360"/>
            <a:ext cx="9144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若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C⊥DB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，说说△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BDE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形状？理由？当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C=6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，梯形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面积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62840" y="3200400"/>
            <a:ext cx="6040440" cy="3394080"/>
            <a:chOff x="762840" y="3200400"/>
            <a:chExt cx="6040440" cy="3394080"/>
          </a:xfrm>
        </p:grpSpPr>
        <p:sp>
          <p:nvSpPr>
            <p:cNvPr id="736" name=""/>
            <p:cNvSpPr/>
            <p:nvPr/>
          </p:nvSpPr>
          <p:spPr>
            <a:xfrm flipH="1">
              <a:off x="1177560" y="3674880"/>
              <a:ext cx="1268280" cy="2295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46200" y="3674880"/>
              <a:ext cx="1392480" cy="180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838680" y="3674880"/>
              <a:ext cx="1269720" cy="2295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77920" y="5970600"/>
              <a:ext cx="3930480" cy="144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08400" y="5970600"/>
              <a:ext cx="1392480" cy="1440"/>
            </a:xfrm>
            <a:prstGeom prst="line">
              <a:avLst/>
            </a:prstGeom>
            <a:ln w="46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46200" y="3674880"/>
              <a:ext cx="2662200" cy="2295720"/>
            </a:xfrm>
            <a:prstGeom prst="line">
              <a:avLst/>
            </a:prstGeom>
            <a:ln w="46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838680" y="3674880"/>
              <a:ext cx="2662200" cy="2295720"/>
            </a:xfrm>
            <a:prstGeom prst="line">
              <a:avLst/>
            </a:prstGeom>
            <a:ln w="46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177560" y="3674880"/>
              <a:ext cx="2660760" cy="2295720"/>
            </a:xfrm>
            <a:prstGeom prst="line">
              <a:avLst/>
            </a:prstGeom>
            <a:ln w="46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36880" y="4456080"/>
              <a:ext cx="168120" cy="182520"/>
            </a:xfrm>
            <a:prstGeom prst="line">
              <a:avLst/>
            </a:prstGeom>
            <a:ln w="46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3105000" y="4456080"/>
              <a:ext cx="244800" cy="182520"/>
            </a:xfrm>
            <a:prstGeom prst="line">
              <a:avLst/>
            </a:prstGeom>
            <a:ln w="4608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78520" y="5938920"/>
              <a:ext cx="75960" cy="777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85640" y="5938920"/>
              <a:ext cx="395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6240" y="5938920"/>
              <a:ext cx="759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2840" y="5786280"/>
              <a:ext cx="3650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16320" y="364500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48760" y="3262320"/>
              <a:ext cx="3650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08440" y="364500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13920" y="3200400"/>
              <a:ext cx="395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73320" y="4608360"/>
              <a:ext cx="76320" cy="76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69200" y="5938920"/>
              <a:ext cx="777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438240" y="5908680"/>
              <a:ext cx="3650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05200" y="4424400"/>
              <a:ext cx="777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17760" y="4424400"/>
              <a:ext cx="77760" cy="777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295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梯形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中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D∥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AB=C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延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C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到点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E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使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CE=A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，连结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BD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1773360"/>
            <a:ext cx="9144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⑵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若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C⊥DB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，说说△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BDE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形状？理由？当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C=6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，梯形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的面积是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194840" y="3048120"/>
            <a:ext cx="6001920" cy="3394080"/>
            <a:chOff x="1194840" y="3048120"/>
            <a:chExt cx="6001920" cy="3394080"/>
          </a:xfrm>
        </p:grpSpPr>
        <p:sp>
          <p:nvSpPr>
            <p:cNvPr id="762" name=""/>
            <p:cNvSpPr/>
            <p:nvPr/>
          </p:nvSpPr>
          <p:spPr>
            <a:xfrm>
              <a:off x="5388840" y="5767560"/>
              <a:ext cx="395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25040" y="3048120"/>
              <a:ext cx="39528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43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194840" y="3157560"/>
              <a:ext cx="6001920" cy="3284640"/>
              <a:chOff x="1194840" y="3157560"/>
              <a:chExt cx="6001920" cy="3284640"/>
            </a:xfrm>
          </p:grpSpPr>
          <p:sp>
            <p:nvSpPr>
              <p:cNvPr id="765" name=""/>
              <p:cNvSpPr/>
              <p:nvPr/>
            </p:nvSpPr>
            <p:spPr>
              <a:xfrm>
                <a:off x="2867040" y="3567240"/>
                <a:ext cx="4027320" cy="2279520"/>
              </a:xfrm>
              <a:custGeom>
                <a:avLst/>
                <a:gdLst/>
                <a:ahLst/>
                <a:rect l="l" t="t" r="r" b="b"/>
                <a:pathLst>
                  <a:path w="2537" h="1436">
                    <a:moveTo>
                      <a:pt x="0" y="0"/>
                    </a:moveTo>
                    <a:lnTo>
                      <a:pt x="871" y="0"/>
                    </a:lnTo>
                    <a:lnTo>
                      <a:pt x="2537" y="1436"/>
                    </a:lnTo>
                    <a:lnTo>
                      <a:pt x="1666" y="14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1604880" y="3567240"/>
                <a:ext cx="1262160" cy="227952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867040" y="3567240"/>
                <a:ext cx="1382760" cy="144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249800" y="3567240"/>
                <a:ext cx="1262160" cy="227952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04880" y="5846760"/>
                <a:ext cx="3907080" cy="1800"/>
              </a:xfrm>
              <a:prstGeom prst="line">
                <a:avLst/>
              </a:prstGeom>
              <a:ln w="46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511960" y="5846760"/>
                <a:ext cx="1382400" cy="1800"/>
              </a:xfrm>
              <a:prstGeom prst="line">
                <a:avLst/>
              </a:prstGeom>
              <a:ln w="46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867040" y="3567240"/>
                <a:ext cx="2644920" cy="2279520"/>
              </a:xfrm>
              <a:prstGeom prst="line">
                <a:avLst/>
              </a:prstGeom>
              <a:ln w="46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249800" y="3567240"/>
                <a:ext cx="2644560" cy="2279520"/>
              </a:xfrm>
              <a:prstGeom prst="line">
                <a:avLst/>
              </a:prstGeom>
              <a:ln w="46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1604520" y="3567240"/>
                <a:ext cx="2644920" cy="2279520"/>
              </a:xfrm>
              <a:prstGeom prst="line">
                <a:avLst/>
              </a:prstGeom>
              <a:ln w="46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382920" y="4311720"/>
                <a:ext cx="168480" cy="168480"/>
              </a:xfrm>
              <a:prstGeom prst="line">
                <a:avLst/>
              </a:prstGeom>
              <a:ln w="46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551040" y="4297320"/>
                <a:ext cx="166680" cy="182880"/>
              </a:xfrm>
              <a:prstGeom prst="line">
                <a:avLst/>
              </a:prstGeom>
              <a:ln w="4608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79920" y="581688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74640" y="581688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94840" y="5664240"/>
                <a:ext cx="3650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43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836800" y="3537000"/>
                <a:ext cx="745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71040" y="3157560"/>
                <a:ext cx="3650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43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219560" y="3537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519360" y="4449960"/>
                <a:ext cx="763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64480" y="5816880"/>
                <a:ext cx="74520" cy="75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831720" y="5786640"/>
                <a:ext cx="36504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43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52680" y="428148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687840" y="4267440"/>
                <a:ext cx="75960" cy="759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5181480"/>
            <a:ext cx="786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44560" y="53352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请同学们谈谈本节课的收获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03360" y="12189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１、定义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梯形：只有一组对边平行的四边形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直角梯形：有一个角是直角的梯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等腰梯形：两腰相等的梯形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、等腰梯形的性质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等腰梯形是轴对称图形，上下底中点所在的直线是对称轴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等腰梯形的同一底上的两个底角相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等腰梯形的两条对角线相等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5410080" y="1143000"/>
            <a:ext cx="1981080" cy="2424960"/>
            <a:chOff x="5410080" y="1143000"/>
            <a:chExt cx="1981080" cy="2424960"/>
          </a:xfrm>
        </p:grpSpPr>
        <p:sp>
          <p:nvSpPr>
            <p:cNvPr id="791" name=""/>
            <p:cNvSpPr/>
            <p:nvPr/>
          </p:nvSpPr>
          <p:spPr>
            <a:xfrm>
              <a:off x="6345360" y="1526760"/>
              <a:ext cx="408960" cy="84024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019560" y="1526760"/>
              <a:ext cx="325080" cy="841680"/>
            </a:xfrm>
            <a:prstGeom prst="line">
              <a:avLst/>
            </a:prstGeom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76600" y="1143000"/>
              <a:ext cx="2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410080" y="3104280"/>
              <a:ext cx="20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0800000">
              <a:off x="5653440" y="2356920"/>
              <a:ext cx="1469520" cy="891720"/>
            </a:xfrm>
            <a:custGeom>
              <a:avLst/>
              <a:gdLst>
                <a:gd name="textAreaLeft" fmla="*/ 322920 w 1469520"/>
                <a:gd name="textAreaRight" fmla="*/ 1146600 w 1469520"/>
                <a:gd name="textAreaTop" fmla="*/ 195840 h 891720"/>
                <a:gd name="textAreaBottom" fmla="*/ 695880 h 89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19320" y="2136600"/>
              <a:ext cx="2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34240" y="2136600"/>
              <a:ext cx="3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6840" y="3108240"/>
              <a:ext cx="1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57200" y="1219320"/>
            <a:ext cx="2743200" cy="1851840"/>
            <a:chOff x="457200" y="1219320"/>
            <a:chExt cx="2743200" cy="1851840"/>
          </a:xfrm>
        </p:grpSpPr>
        <p:sp>
          <p:nvSpPr>
            <p:cNvPr id="800" name=""/>
            <p:cNvSpPr/>
            <p:nvPr/>
          </p:nvSpPr>
          <p:spPr>
            <a:xfrm>
              <a:off x="457200" y="2440080"/>
              <a:ext cx="27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0800000">
              <a:off x="755280" y="1578240"/>
              <a:ext cx="1949400" cy="1030320"/>
            </a:xfrm>
            <a:custGeom>
              <a:avLst/>
              <a:gdLst>
                <a:gd name="textAreaLeft" fmla="*/ 428760 w 1949400"/>
                <a:gd name="textAreaRight" fmla="*/ 1520640 w 1949400"/>
                <a:gd name="textAreaTop" fmla="*/ 226440 h 1030320"/>
                <a:gd name="textAreaBottom" fmla="*/ 803880 h 103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969840" y="121932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187720" y="1219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763720" y="249876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1809360" y="1608120"/>
              <a:ext cx="414360" cy="1089000"/>
            </a:xfrm>
            <a:prstGeom prst="line">
              <a:avLst/>
            </a:prstGeom>
            <a:ln w="5724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68240" y="2611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200400" y="1219320"/>
            <a:ext cx="2362320" cy="1906200"/>
            <a:chOff x="3200400" y="1219320"/>
            <a:chExt cx="2362320" cy="1906200"/>
          </a:xfrm>
        </p:grpSpPr>
        <p:sp>
          <p:nvSpPr>
            <p:cNvPr id="808" name=""/>
            <p:cNvSpPr/>
            <p:nvPr/>
          </p:nvSpPr>
          <p:spPr>
            <a:xfrm>
              <a:off x="3200400" y="222264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宋体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3269880" y="1219320"/>
              <a:ext cx="2292840" cy="1906200"/>
              <a:chOff x="3269880" y="1219320"/>
              <a:chExt cx="2292840" cy="1906200"/>
            </a:xfrm>
          </p:grpSpPr>
          <p:sp>
            <p:nvSpPr>
              <p:cNvPr id="810" name=""/>
              <p:cNvSpPr/>
              <p:nvPr/>
            </p:nvSpPr>
            <p:spPr>
              <a:xfrm rot="10800000">
                <a:off x="3269880" y="1602000"/>
                <a:ext cx="1916280" cy="1114560"/>
              </a:xfrm>
              <a:custGeom>
                <a:avLst/>
                <a:gdLst>
                  <a:gd name="textAreaLeft" fmla="*/ 421200 w 1916280"/>
                  <a:gd name="textAreaRight" fmla="*/ 1495080 w 1916280"/>
                  <a:gd name="textAreaTop" fmla="*/ 245160 h 1114560"/>
                  <a:gd name="textAreaBottom" fmla="*/ 869400 h 11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538440" y="1219320"/>
                <a:ext cx="36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宋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72080" y="1219320"/>
                <a:ext cx="42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宋体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240160" y="2543400"/>
                <a:ext cx="3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宋体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95840" y="1606680"/>
                <a:ext cx="0" cy="1074960"/>
              </a:xfrm>
              <a:prstGeom prst="line">
                <a:avLst/>
              </a:prstGeom>
              <a:ln w="5724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03760" y="1635480"/>
                <a:ext cx="0" cy="1074600"/>
              </a:xfrm>
              <a:prstGeom prst="line">
                <a:avLst/>
              </a:prstGeom>
              <a:ln w="5724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659040" y="2664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宋体"/>
                  </a:rPr>
                  <a:t>E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541400" y="266580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宋体"/>
                  </a:rPr>
                  <a:t>F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"/>
          <p:cNvSpPr/>
          <p:nvPr/>
        </p:nvSpPr>
        <p:spPr>
          <a:xfrm>
            <a:off x="533520" y="3048120"/>
            <a:ext cx="2133360" cy="581400"/>
          </a:xfrm>
          <a:prstGeom prst="rect">
            <a:avLst/>
          </a:prstGeom>
          <a:solidFill>
            <a:srgbClr val="eff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平移一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33520" y="3581280"/>
            <a:ext cx="3674520" cy="2288520"/>
            <a:chOff x="533520" y="3581280"/>
            <a:chExt cx="3674520" cy="2288520"/>
          </a:xfrm>
        </p:grpSpPr>
        <p:sp>
          <p:nvSpPr>
            <p:cNvPr id="820" name=""/>
            <p:cNvSpPr/>
            <p:nvPr/>
          </p:nvSpPr>
          <p:spPr>
            <a:xfrm flipV="1">
              <a:off x="796680" y="4043160"/>
              <a:ext cx="1479240" cy="13986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79440" y="4038480"/>
              <a:ext cx="1428120" cy="140040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33520" y="3581280"/>
              <a:ext cx="3674520" cy="2288520"/>
              <a:chOff x="533520" y="3581280"/>
              <a:chExt cx="3674520" cy="2288520"/>
            </a:xfrm>
          </p:grpSpPr>
          <p:sp>
            <p:nvSpPr>
              <p:cNvPr id="823" name=""/>
              <p:cNvSpPr/>
              <p:nvPr/>
            </p:nvSpPr>
            <p:spPr>
              <a:xfrm rot="10800000">
                <a:off x="796680" y="4043160"/>
                <a:ext cx="1955520" cy="1398600"/>
              </a:xfrm>
              <a:custGeom>
                <a:avLst/>
                <a:gdLst>
                  <a:gd name="textAreaLeft" fmla="*/ 429840 w 1955520"/>
                  <a:gd name="textAreaRight" fmla="*/ 1525680 w 1955520"/>
                  <a:gd name="textAreaTop" fmla="*/ 307440 h 1398600"/>
                  <a:gd name="textAreaBottom" fmla="*/ 1091160 h 139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33520" y="5410080"/>
                <a:ext cx="47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90560" y="5410080"/>
                <a:ext cx="47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85640" y="3581280"/>
                <a:ext cx="47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66680" y="358128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590480" y="4525920"/>
                <a:ext cx="4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74480" y="4037040"/>
                <a:ext cx="1427040" cy="139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33560" y="5257800"/>
                <a:ext cx="474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769840" y="5438880"/>
                <a:ext cx="9507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6337440" y="5257800"/>
            <a:ext cx="2501640" cy="1108080"/>
            <a:chOff x="6337440" y="5257800"/>
            <a:chExt cx="2501640" cy="1108080"/>
          </a:xfrm>
        </p:grpSpPr>
        <p:sp>
          <p:nvSpPr>
            <p:cNvPr id="833" name=""/>
            <p:cNvSpPr/>
            <p:nvPr/>
          </p:nvSpPr>
          <p:spPr>
            <a:xfrm>
              <a:off x="6337440" y="5257800"/>
              <a:ext cx="2501640" cy="1108080"/>
            </a:xfrm>
            <a:prstGeom prst="cloudCallout">
              <a:avLst>
                <a:gd name="adj1" fmla="val -133439"/>
                <a:gd name="adj2" fmla="val 94412"/>
              </a:avLst>
            </a:prstGeom>
            <a:solidFill>
              <a:srgbClr val="e7eee6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05720" y="5562720"/>
              <a:ext cx="2073240" cy="5814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Arial"/>
                  <a:ea typeface="黑体"/>
                </a:rPr>
                <a:t>转化思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86200" y="3581280"/>
            <a:ext cx="2747160" cy="2382840"/>
            <a:chOff x="3886200" y="3581280"/>
            <a:chExt cx="2747160" cy="2382840"/>
          </a:xfrm>
        </p:grpSpPr>
        <p:sp>
          <p:nvSpPr>
            <p:cNvPr id="836" name=""/>
            <p:cNvSpPr/>
            <p:nvPr/>
          </p:nvSpPr>
          <p:spPr>
            <a:xfrm>
              <a:off x="4783320" y="3862800"/>
              <a:ext cx="462600" cy="10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91320" y="3862800"/>
              <a:ext cx="788400" cy="17190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91320" y="5582160"/>
              <a:ext cx="1910880" cy="108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242680" y="3862800"/>
              <a:ext cx="659520" cy="1719000"/>
            </a:xfrm>
            <a:prstGeom prst="line">
              <a:avLst/>
            </a:prstGeom>
            <a:ln w="33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628600" y="44020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0404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95600" y="36320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0404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86200" y="55908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0404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78440" y="5590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0404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546080" y="35812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0404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25600" y="5598000"/>
              <a:ext cx="453960" cy="1080"/>
            </a:xfrm>
            <a:prstGeom prst="line">
              <a:avLst/>
            </a:prstGeom>
            <a:ln w="334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802760" y="3878640"/>
              <a:ext cx="1576800" cy="1719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395040" y="55980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cc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7090560" y="1219320"/>
            <a:ext cx="13993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Times New Roman"/>
              </a:rPr>
              <a:t>方法比知识更重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62120" y="5943600"/>
            <a:ext cx="2514600" cy="581400"/>
          </a:xfrm>
          <a:prstGeom prst="rect">
            <a:avLst/>
          </a:prstGeom>
          <a:solidFill>
            <a:srgbClr val="eff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平移对角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445920" y="3048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作高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65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延长两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1260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33"/>
                </a:solidFill>
                <a:latin typeface="Arial"/>
                <a:ea typeface="黑体"/>
              </a:rPr>
              <a:t>平移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96000" y="668160"/>
            <a:ext cx="4935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思路和方法：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解决梯形问题的常用辅助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1332000" y="1989000"/>
            <a:ext cx="6337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大家</a:t>
            </a:r>
            <a:endParaRPr b="0" lang="en-US" sz="1800" spc="1" strike="noStrike">
              <a:ln w="1260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403280" y="2276640"/>
            <a:ext cx="5686560" cy="2450160"/>
            <a:chOff x="1403280" y="2276640"/>
            <a:chExt cx="5686560" cy="2450160"/>
          </a:xfrm>
        </p:grpSpPr>
        <p:sp>
          <p:nvSpPr>
            <p:cNvPr id="153" name="未知"/>
            <p:cNvSpPr/>
            <p:nvPr/>
          </p:nvSpPr>
          <p:spPr>
            <a:xfrm>
              <a:off x="1606320" y="2707920"/>
              <a:ext cx="4800600" cy="1564920"/>
            </a:xfrm>
            <a:custGeom>
              <a:avLst/>
              <a:gdLst/>
              <a:ahLst/>
              <a:rect l="l" t="t" r="r" b="b"/>
              <a:pathLst>
                <a:path w="5040" h="1968">
                  <a:moveTo>
                    <a:pt x="1104" y="0"/>
                  </a:moveTo>
                  <a:lnTo>
                    <a:pt x="3072" y="0"/>
                  </a:lnTo>
                  <a:lnTo>
                    <a:pt x="5040" y="1968"/>
                  </a:lnTo>
                  <a:lnTo>
                    <a:pt x="0" y="1968"/>
                  </a:lnTo>
                  <a:lnTo>
                    <a:pt x="1104" y="0"/>
                  </a:lnTo>
                  <a:close/>
                </a:path>
              </a:pathLst>
            </a:custGeom>
            <a:noFill/>
            <a:ln w="7632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03280" y="426708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70560" y="41004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90920" y="22766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6360" y="22939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619280" y="2708280"/>
            <a:ext cx="4824360" cy="1584360"/>
            <a:chOff x="1619280" y="2708280"/>
            <a:chExt cx="4824360" cy="1584360"/>
          </a:xfrm>
        </p:grpSpPr>
        <p:sp>
          <p:nvSpPr>
            <p:cNvPr id="159" name=""/>
            <p:cNvSpPr/>
            <p:nvPr/>
          </p:nvSpPr>
          <p:spPr>
            <a:xfrm>
              <a:off x="2698920" y="2708280"/>
              <a:ext cx="187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19280" y="4292640"/>
              <a:ext cx="482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47280" y="2708280"/>
            <a:ext cx="4824720" cy="1584360"/>
            <a:chOff x="1547280" y="2708280"/>
            <a:chExt cx="4824720" cy="1584360"/>
          </a:xfrm>
        </p:grpSpPr>
        <p:sp>
          <p:nvSpPr>
            <p:cNvPr id="162" name=""/>
            <p:cNvSpPr/>
            <p:nvPr/>
          </p:nvSpPr>
          <p:spPr>
            <a:xfrm flipH="1">
              <a:off x="1547280" y="2708280"/>
              <a:ext cx="1079640" cy="15843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00360" y="2708280"/>
              <a:ext cx="1871640" cy="15843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805120" y="2682720"/>
            <a:ext cx="147600" cy="1563840"/>
            <a:chOff x="2805120" y="2682720"/>
            <a:chExt cx="147600" cy="1563840"/>
          </a:xfrm>
        </p:grpSpPr>
        <p:sp>
          <p:nvSpPr>
            <p:cNvPr id="165" name=""/>
            <p:cNvSpPr/>
            <p:nvPr/>
          </p:nvSpPr>
          <p:spPr>
            <a:xfrm>
              <a:off x="2805120" y="2708280"/>
              <a:ext cx="3240" cy="1538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808360" y="2682720"/>
              <a:ext cx="144360" cy="1538280"/>
              <a:chOff x="2808360" y="2682720"/>
              <a:chExt cx="144360" cy="1538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08360" y="4089240"/>
                <a:ext cx="144360" cy="131760"/>
              </a:xfrm>
              <a:prstGeom prst="rect">
                <a:avLst/>
              </a:prstGeom>
              <a:solidFill>
                <a:srgbClr val="eff6ee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08360" y="2682720"/>
                <a:ext cx="144360" cy="131760"/>
              </a:xfrm>
              <a:prstGeom prst="rect">
                <a:avLst/>
              </a:prstGeom>
              <a:solidFill>
                <a:srgbClr val="eff6ee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"/>
          <p:cNvGrpSpPr/>
          <p:nvPr/>
        </p:nvGrpSpPr>
        <p:grpSpPr>
          <a:xfrm>
            <a:off x="2133720" y="2971800"/>
            <a:ext cx="4680000" cy="1519200"/>
            <a:chOff x="2133720" y="2971800"/>
            <a:chExt cx="4680000" cy="1519200"/>
          </a:xfrm>
        </p:grpSpPr>
        <p:sp>
          <p:nvSpPr>
            <p:cNvPr id="170" name=""/>
            <p:cNvSpPr/>
            <p:nvPr/>
          </p:nvSpPr>
          <p:spPr>
            <a:xfrm>
              <a:off x="5586480" y="4124160"/>
              <a:ext cx="122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3720" y="4059360"/>
              <a:ext cx="1227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21360" y="2971800"/>
              <a:ext cx="122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24280" y="2978280"/>
              <a:ext cx="1227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627280" y="4292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E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14479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只有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一组对边平行的四边形叫做</a:t>
            </a: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梯形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508720" y="2060640"/>
            <a:ext cx="1511280" cy="761760"/>
          </a:xfrm>
          <a:prstGeom prst="wedgeEllipseCallout">
            <a:avLst>
              <a:gd name="adj1" fmla="val 197685"/>
              <a:gd name="adj2" fmla="val -41250"/>
            </a:avLst>
          </a:prstGeom>
          <a:solidFill>
            <a:srgbClr val="eff6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上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11280" y="2636280"/>
            <a:ext cx="914400" cy="609480"/>
          </a:xfrm>
          <a:prstGeom prst="wedgeEllipseCallout">
            <a:avLst>
              <a:gd name="adj1" fmla="val -154861"/>
              <a:gd name="adj2" fmla="val -36981"/>
            </a:avLst>
          </a:prstGeom>
          <a:solidFill>
            <a:srgbClr val="eff6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63640" y="4653000"/>
            <a:ext cx="685800" cy="533520"/>
          </a:xfrm>
          <a:prstGeom prst="wedgeEllipseCallout">
            <a:avLst>
              <a:gd name="adj1" fmla="val 96523"/>
              <a:gd name="adj2" fmla="val 244342"/>
            </a:avLst>
          </a:prstGeom>
          <a:solidFill>
            <a:srgbClr val="eff6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3975840" y="4473000"/>
            <a:ext cx="1295640" cy="533160"/>
          </a:xfrm>
          <a:prstGeom prst="wedgeEllipseCallout">
            <a:avLst>
              <a:gd name="adj1" fmla="val 58208"/>
              <a:gd name="adj2" fmla="val 88986"/>
            </a:avLst>
          </a:prstGeom>
          <a:solidFill>
            <a:srgbClr val="eff6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下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886200" y="3124080"/>
            <a:ext cx="685800" cy="609840"/>
          </a:xfrm>
          <a:prstGeom prst="wedgeEllipseCallout">
            <a:avLst>
              <a:gd name="adj1" fmla="val 188884"/>
              <a:gd name="adj2" fmla="val -8856"/>
            </a:avLst>
          </a:prstGeom>
          <a:solidFill>
            <a:srgbClr val="eff6ee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3360" y="5331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让我们来回顾一下梯形的相关概念吧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5283360"/>
            <a:ext cx="82357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梯形的面积公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S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Arial"/>
              </a:rPr>
              <a:t>梯形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Arial"/>
              </a:rPr>
              <a:t>ABC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=1/2(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上底和下底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)×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rot="10800000">
            <a:off x="539280" y="2060640"/>
            <a:ext cx="2987640" cy="1295280"/>
          </a:xfrm>
          <a:custGeom>
            <a:avLst/>
            <a:gdLst>
              <a:gd name="textAreaLeft" fmla="*/ 695160 w 2987640"/>
              <a:gd name="textAreaRight" fmla="*/ 2292480 w 2987640"/>
              <a:gd name="textAreaTop" fmla="*/ 301320 h 1295280"/>
              <a:gd name="textAreaBottom" fmla="*/ 9939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03" y="21600"/>
                </a:lnTo>
                <a:lnTo>
                  <a:pt x="5897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3493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华文新魏"/>
                <a:ea typeface="华文新魏"/>
              </a:rPr>
              <a:t>等腰梯形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205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华文新魏"/>
                <a:ea typeface="华文新魏"/>
              </a:rPr>
              <a:t>直角梯形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125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宋体"/>
              </a:rPr>
              <a:t>我们小学还学过哪两种梯形呢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27640" y="1989000"/>
            <a:ext cx="2987280" cy="1368360"/>
            <a:chOff x="4427640" y="1989000"/>
            <a:chExt cx="2987280" cy="1368360"/>
          </a:xfrm>
        </p:grpSpPr>
        <p:sp>
          <p:nvSpPr>
            <p:cNvPr id="188" name="未知"/>
            <p:cNvSpPr/>
            <p:nvPr/>
          </p:nvSpPr>
          <p:spPr>
            <a:xfrm>
              <a:off x="4427640" y="1989000"/>
              <a:ext cx="2987280" cy="1368360"/>
            </a:xfrm>
            <a:custGeom>
              <a:avLst/>
              <a:gdLst/>
              <a:ahLst/>
              <a:rect l="l" t="t" r="r" b="b"/>
              <a:pathLst>
                <a:path w="2448" h="1536">
                  <a:moveTo>
                    <a:pt x="0" y="0"/>
                  </a:moveTo>
                  <a:lnTo>
                    <a:pt x="0" y="1536"/>
                  </a:lnTo>
                  <a:lnTo>
                    <a:pt x="2448" y="1536"/>
                  </a:lnTo>
                  <a:lnTo>
                    <a:pt x="124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27640" y="3083760"/>
              <a:ext cx="244080" cy="236160"/>
            </a:xfrm>
            <a:prstGeom prst="rect">
              <a:avLst/>
            </a:prstGeom>
            <a:solidFill>
              <a:srgbClr val="ff993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cc"/>
                </a:solidFill>
                <a:latin typeface="Arial"/>
              </a:rPr>
              <a:t>梯形的分类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3715920"/>
            <a:ext cx="8964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你能说说等腰梯形和直角梯形定义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两腰相等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的梯形是等腰梯形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有一个角是直角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的梯形是直角梯形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flipV="1" rot="21598200">
            <a:off x="3397320" y="2563560"/>
            <a:ext cx="2687400" cy="915840"/>
          </a:xfrm>
          <a:prstGeom prst="rightArrow">
            <a:avLst>
              <a:gd name="adj1" fmla="val 50000"/>
              <a:gd name="adj2" fmla="val 73359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>
            <a:off x="324000" y="2492280"/>
            <a:ext cx="3241440" cy="1427400"/>
          </a:xfrm>
          <a:custGeom>
            <a:avLst/>
            <a:gdLst/>
            <a:ahLst/>
            <a:rect l="l" t="t" r="r" b="b"/>
            <a:pathLst>
              <a:path w="5040" h="1968">
                <a:moveTo>
                  <a:pt x="1104" y="0"/>
                </a:moveTo>
                <a:lnTo>
                  <a:pt x="3072" y="0"/>
                </a:lnTo>
                <a:lnTo>
                  <a:pt x="5040" y="1968"/>
                </a:lnTo>
                <a:lnTo>
                  <a:pt x="0" y="1968"/>
                </a:lnTo>
                <a:lnTo>
                  <a:pt x="1104" y="0"/>
                </a:lnTo>
                <a:close/>
              </a:path>
            </a:pathLst>
          </a:custGeom>
          <a:solidFill>
            <a:srgbClr val="e7eee6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781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</a:rPr>
              <a:t>梯形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38040" y="2741760"/>
            <a:ext cx="17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两 腰 相 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229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梯形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ABCD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中，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AD∥BC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0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AB=DC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336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两腰相等</a:t>
            </a:r>
            <a:r>
              <a:rPr b="0" lang="zh-CN" sz="4800" spc="-1" strike="noStrike">
                <a:solidFill>
                  <a:srgbClr val="0066cc"/>
                </a:solidFill>
                <a:latin typeface="Arial"/>
              </a:rPr>
              <a:t>的梯形是等腰梯形。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24000" y="4221000"/>
            <a:ext cx="2160000" cy="711720"/>
            <a:chOff x="324000" y="4221000"/>
            <a:chExt cx="2160000" cy="711720"/>
          </a:xfrm>
        </p:grpSpPr>
        <p:grpSp>
          <p:nvGrpSpPr>
            <p:cNvPr id="199" name=""/>
            <p:cNvGrpSpPr/>
            <p:nvPr/>
          </p:nvGrpSpPr>
          <p:grpSpPr>
            <a:xfrm>
              <a:off x="324000" y="4236840"/>
              <a:ext cx="2148480" cy="695880"/>
              <a:chOff x="324000" y="4236840"/>
              <a:chExt cx="2148480" cy="695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4000" y="4236840"/>
                <a:ext cx="2148480" cy="6958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62960" y="4236840"/>
                <a:ext cx="1741680" cy="578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24000" y="4221000"/>
              <a:ext cx="2160000" cy="6426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</a:rPr>
                <a:t>几何语言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975280" y="27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华文新魏"/>
                <a:ea typeface="华文新魏"/>
              </a:rPr>
              <a:t>等腰梯形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292720" y="1916280"/>
            <a:ext cx="3527280" cy="2310120"/>
            <a:chOff x="5292720" y="1916280"/>
            <a:chExt cx="3527280" cy="2310120"/>
          </a:xfrm>
        </p:grpSpPr>
        <p:sp>
          <p:nvSpPr>
            <p:cNvPr id="205" name=""/>
            <p:cNvSpPr/>
            <p:nvPr/>
          </p:nvSpPr>
          <p:spPr>
            <a:xfrm rot="10800000">
              <a:off x="5724360" y="2420640"/>
              <a:ext cx="3060720" cy="1468440"/>
            </a:xfrm>
            <a:custGeom>
              <a:avLst/>
              <a:gdLst>
                <a:gd name="textAreaLeft" fmla="*/ 712080 w 3060720"/>
                <a:gd name="textAreaRight" fmla="*/ 2348640 w 3060720"/>
                <a:gd name="textAreaTop" fmla="*/ 341640 h 1468440"/>
                <a:gd name="textAreaBottom" fmla="*/ 1126800 h 146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703" y="21600"/>
                  </a:lnTo>
                  <a:lnTo>
                    <a:pt x="5897" y="21600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56360" y="191628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85080" y="19162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8360" y="3645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92720" y="364500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724360" y="2349360"/>
            <a:ext cx="3047400" cy="1523880"/>
            <a:chOff x="5724360" y="2349360"/>
            <a:chExt cx="3047400" cy="1523880"/>
          </a:xfrm>
        </p:grpSpPr>
        <p:sp>
          <p:nvSpPr>
            <p:cNvPr id="211" name=""/>
            <p:cNvSpPr/>
            <p:nvPr/>
          </p:nvSpPr>
          <p:spPr>
            <a:xfrm flipH="1">
              <a:off x="5724360" y="2349360"/>
              <a:ext cx="884160" cy="1523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7600" y="2349360"/>
              <a:ext cx="884160" cy="152388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Arial"/>
              </a:rPr>
              <a:t>有一个角是直角</a:t>
            </a:r>
            <a:r>
              <a:rPr b="0" lang="zh-CN" sz="4000" spc="-1" strike="noStrike">
                <a:solidFill>
                  <a:srgbClr val="0066cc"/>
                </a:solidFill>
                <a:latin typeface="Arial"/>
              </a:rPr>
              <a:t>的梯形是直角梯形。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5157360"/>
            <a:ext cx="854064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梯形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中，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AD∥BC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∠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B=90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8760" y="2276640"/>
            <a:ext cx="3333240" cy="1439280"/>
            <a:chOff x="158760" y="2276640"/>
            <a:chExt cx="3333240" cy="1439280"/>
          </a:xfrm>
        </p:grpSpPr>
        <p:sp>
          <p:nvSpPr>
            <p:cNvPr id="216" name="未知"/>
            <p:cNvSpPr/>
            <p:nvPr/>
          </p:nvSpPr>
          <p:spPr>
            <a:xfrm>
              <a:off x="158760" y="2276640"/>
              <a:ext cx="3333240" cy="1439280"/>
            </a:xfrm>
            <a:custGeom>
              <a:avLst/>
              <a:gdLst/>
              <a:ahLst/>
              <a:rect l="l" t="t" r="r" b="b"/>
              <a:pathLst>
                <a:path w="5040" h="1968">
                  <a:moveTo>
                    <a:pt x="1104" y="0"/>
                  </a:moveTo>
                  <a:lnTo>
                    <a:pt x="3072" y="0"/>
                  </a:lnTo>
                  <a:lnTo>
                    <a:pt x="5040" y="1968"/>
                  </a:lnTo>
                  <a:lnTo>
                    <a:pt x="0" y="1968"/>
                  </a:lnTo>
                  <a:lnTo>
                    <a:pt x="1104" y="0"/>
                  </a:lnTo>
                  <a:close/>
                </a:path>
              </a:pathLst>
            </a:custGeom>
            <a:solidFill>
              <a:srgbClr val="e7eee6"/>
            </a:solidFill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7520" y="2468880"/>
              <a:ext cx="2378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7a77"/>
                  </a:solidFill>
                  <a:latin typeface="Times New Roman"/>
                  <a:ea typeface="华文新魏"/>
                </a:rPr>
                <a:t>梯形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 rot="21598200">
            <a:off x="3130560" y="2498400"/>
            <a:ext cx="2521080" cy="915840"/>
          </a:xfrm>
          <a:prstGeom prst="rightArrow">
            <a:avLst>
              <a:gd name="adj1" fmla="val 50000"/>
              <a:gd name="adj2" fmla="val 68819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宋体"/>
              </a:rPr>
              <a:t>有一个角是直角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35640" y="1628640"/>
            <a:ext cx="3384360" cy="3029400"/>
            <a:chOff x="5435640" y="1628640"/>
            <a:chExt cx="3384360" cy="3029400"/>
          </a:xfrm>
        </p:grpSpPr>
        <p:sp>
          <p:nvSpPr>
            <p:cNvPr id="221" name="未知"/>
            <p:cNvSpPr/>
            <p:nvPr/>
          </p:nvSpPr>
          <p:spPr>
            <a:xfrm>
              <a:off x="5722920" y="2133720"/>
              <a:ext cx="3048120" cy="1828800"/>
            </a:xfrm>
            <a:custGeom>
              <a:avLst/>
              <a:gdLst/>
              <a:ahLst/>
              <a:rect l="l" t="t" r="r" b="b"/>
              <a:pathLst>
                <a:path w="2448" h="1536">
                  <a:moveTo>
                    <a:pt x="0" y="0"/>
                  </a:moveTo>
                  <a:lnTo>
                    <a:pt x="0" y="1536"/>
                  </a:lnTo>
                  <a:lnTo>
                    <a:pt x="2448" y="1536"/>
                  </a:lnTo>
                  <a:lnTo>
                    <a:pt x="124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35640" y="1628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36000" y="1628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15280" y="4076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5640" y="393372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7a77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24360" y="3629160"/>
            <a:ext cx="228600" cy="304560"/>
          </a:xfrm>
          <a:prstGeom prst="rect">
            <a:avLst/>
          </a:prstGeom>
          <a:solidFill>
            <a:srgbClr val="ff993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68360" y="4149720"/>
            <a:ext cx="2160360" cy="711720"/>
            <a:chOff x="468360" y="4149720"/>
            <a:chExt cx="2160360" cy="711720"/>
          </a:xfrm>
        </p:grpSpPr>
        <p:grpSp>
          <p:nvGrpSpPr>
            <p:cNvPr id="228" name=""/>
            <p:cNvGrpSpPr/>
            <p:nvPr/>
          </p:nvGrpSpPr>
          <p:grpSpPr>
            <a:xfrm>
              <a:off x="468360" y="4165560"/>
              <a:ext cx="2148840" cy="695880"/>
              <a:chOff x="468360" y="4165560"/>
              <a:chExt cx="2148840" cy="695880"/>
            </a:xfrm>
          </p:grpSpPr>
          <p:sp>
            <p:nvSpPr>
              <p:cNvPr id="229" name=""/>
              <p:cNvSpPr/>
              <p:nvPr/>
            </p:nvSpPr>
            <p:spPr>
              <a:xfrm>
                <a:off x="468360" y="4165560"/>
                <a:ext cx="2148840" cy="69588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07680" y="4165560"/>
                <a:ext cx="1742040" cy="5781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468360" y="4149720"/>
              <a:ext cx="2160360" cy="642600"/>
            </a:xfrm>
            <a:prstGeom prst="rect">
              <a:avLst/>
            </a:prstGeom>
            <a:solidFill>
              <a:srgbClr val="e7e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cc"/>
                  </a:solidFill>
                  <a:latin typeface="Arial"/>
                </a:rPr>
                <a:t>几何语言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580000" y="2708280"/>
            <a:ext cx="28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直角梯形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692280"/>
            <a:ext cx="43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四边形的分类图：</a:t>
            </a:r>
            <a:r>
              <a:rPr b="0" lang="zh-CN" sz="6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59280" y="5057640"/>
            <a:ext cx="2304720" cy="1800000"/>
            <a:chOff x="3059280" y="5057640"/>
            <a:chExt cx="2304720" cy="1800000"/>
          </a:xfrm>
        </p:grpSpPr>
        <p:grpSp>
          <p:nvGrpSpPr>
            <p:cNvPr id="235" name=""/>
            <p:cNvGrpSpPr/>
            <p:nvPr/>
          </p:nvGrpSpPr>
          <p:grpSpPr>
            <a:xfrm>
              <a:off x="3059280" y="5057640"/>
              <a:ext cx="2226960" cy="1800000"/>
              <a:chOff x="3059280" y="5057640"/>
              <a:chExt cx="2226960" cy="1800000"/>
            </a:xfrm>
          </p:grpSpPr>
          <p:sp>
            <p:nvSpPr>
              <p:cNvPr id="236" name=""/>
              <p:cNvSpPr/>
              <p:nvPr/>
            </p:nvSpPr>
            <p:spPr>
              <a:xfrm>
                <a:off x="3059280" y="5057640"/>
                <a:ext cx="394560" cy="54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98920" y="5057640"/>
                <a:ext cx="394560" cy="540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91680" y="6318000"/>
                <a:ext cx="39456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059280" y="6318000"/>
                <a:ext cx="394560" cy="5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3451680" y="5306760"/>
                <a:ext cx="1570320" cy="1296000"/>
                <a:chOff x="3451680" y="5306760"/>
                <a:chExt cx="1570320" cy="1296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451680" y="5306760"/>
                  <a:ext cx="0" cy="129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451680" y="6602760"/>
                  <a:ext cx="157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451680" y="5306760"/>
                  <a:ext cx="942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93800" y="5306760"/>
                  <a:ext cx="627840" cy="129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3276720" y="5575320"/>
              <a:ext cx="208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直角梯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855680" y="929160"/>
            <a:ext cx="1859040" cy="1721880"/>
            <a:chOff x="4855680" y="929160"/>
            <a:chExt cx="1859040" cy="1721880"/>
          </a:xfrm>
        </p:grpSpPr>
        <p:grpSp>
          <p:nvGrpSpPr>
            <p:cNvPr id="247" name=""/>
            <p:cNvGrpSpPr/>
            <p:nvPr/>
          </p:nvGrpSpPr>
          <p:grpSpPr>
            <a:xfrm>
              <a:off x="4855680" y="929160"/>
              <a:ext cx="1859040" cy="990720"/>
              <a:chOff x="4855680" y="929160"/>
              <a:chExt cx="1859040" cy="990720"/>
            </a:xfrm>
          </p:grpSpPr>
          <p:sp>
            <p:nvSpPr>
              <p:cNvPr id="248" name=""/>
              <p:cNvSpPr/>
              <p:nvPr/>
            </p:nvSpPr>
            <p:spPr>
              <a:xfrm flipH="1" flipV="1">
                <a:off x="5543640" y="929160"/>
                <a:ext cx="11710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855680" y="929520"/>
                <a:ext cx="68796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4937040" y="1792080"/>
                <a:ext cx="1777320" cy="12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4855680" y="998640"/>
                <a:ext cx="81360" cy="79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859280" y="1844640"/>
              <a:ext cx="1440000" cy="8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四边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68000" y="5343480"/>
            <a:ext cx="2233800" cy="1038240"/>
            <a:chOff x="468000" y="5343480"/>
            <a:chExt cx="2233800" cy="1038240"/>
          </a:xfrm>
        </p:grpSpPr>
        <p:sp>
          <p:nvSpPr>
            <p:cNvPr id="254" name=""/>
            <p:cNvSpPr/>
            <p:nvPr/>
          </p:nvSpPr>
          <p:spPr>
            <a:xfrm rot="10800000">
              <a:off x="468000" y="5343480"/>
              <a:ext cx="1679400" cy="1038240"/>
            </a:xfrm>
            <a:custGeom>
              <a:avLst/>
              <a:gdLst>
                <a:gd name="textAreaLeft" fmla="*/ 369360 w 1679400"/>
                <a:gd name="textAreaRight" fmla="*/ 1310040 w 1679400"/>
                <a:gd name="textAreaTop" fmla="*/ 228240 h 1038240"/>
                <a:gd name="textAreaBottom" fmla="*/ 810000 h 10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8360" y="5445000"/>
              <a:ext cx="2233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等腰梯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186920" y="2276640"/>
            <a:ext cx="2089800" cy="1885680"/>
            <a:chOff x="1186920" y="2276640"/>
            <a:chExt cx="2089800" cy="1885680"/>
          </a:xfrm>
        </p:grpSpPr>
        <p:grpSp>
          <p:nvGrpSpPr>
            <p:cNvPr id="257" name=""/>
            <p:cNvGrpSpPr/>
            <p:nvPr/>
          </p:nvGrpSpPr>
          <p:grpSpPr>
            <a:xfrm>
              <a:off x="1186920" y="2276640"/>
              <a:ext cx="1915200" cy="1106280"/>
              <a:chOff x="1186920" y="2276640"/>
              <a:chExt cx="1915200" cy="1106280"/>
            </a:xfrm>
          </p:grpSpPr>
          <p:sp>
            <p:nvSpPr>
              <p:cNvPr id="258" name=""/>
              <p:cNvSpPr/>
              <p:nvPr/>
            </p:nvSpPr>
            <p:spPr>
              <a:xfrm>
                <a:off x="1749960" y="2276640"/>
                <a:ext cx="39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1186920" y="2276640"/>
                <a:ext cx="562680" cy="11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44520" y="2276640"/>
                <a:ext cx="957240" cy="11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187280" y="3382920"/>
                <a:ext cx="19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692360" y="3357720"/>
              <a:ext cx="15843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梯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63840" y="3573000"/>
            <a:ext cx="2351520" cy="2589120"/>
            <a:chOff x="6063840" y="3573000"/>
            <a:chExt cx="2351520" cy="2589120"/>
          </a:xfrm>
        </p:grpSpPr>
        <p:grpSp>
          <p:nvGrpSpPr>
            <p:cNvPr id="264" name=""/>
            <p:cNvGrpSpPr/>
            <p:nvPr/>
          </p:nvGrpSpPr>
          <p:grpSpPr>
            <a:xfrm>
              <a:off x="6227280" y="3573000"/>
              <a:ext cx="1914480" cy="1990800"/>
              <a:chOff x="6227280" y="3573000"/>
              <a:chExt cx="1914480" cy="199080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6610320" y="3573000"/>
                <a:ext cx="1531440" cy="88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758720" y="3573360"/>
                <a:ext cx="382680" cy="110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227280" y="4457880"/>
                <a:ext cx="382680" cy="110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227640" y="4674960"/>
                <a:ext cx="1531440" cy="88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19529400">
              <a:off x="6012360" y="4936320"/>
              <a:ext cx="24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</a:rPr>
                <a:t>平行四边形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185200" y="649080"/>
            <a:ext cx="4000320" cy="2273400"/>
            <a:chOff x="2185200" y="649080"/>
            <a:chExt cx="4000320" cy="2273400"/>
          </a:xfrm>
        </p:grpSpPr>
        <p:sp>
          <p:nvSpPr>
            <p:cNvPr id="271" name=""/>
            <p:cNvSpPr/>
            <p:nvPr/>
          </p:nvSpPr>
          <p:spPr>
            <a:xfrm flipH="1">
              <a:off x="2916360" y="1773360"/>
              <a:ext cx="2087280" cy="10792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034000">
              <a:off x="2070360" y="1555560"/>
              <a:ext cx="422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9933"/>
                  </a:solidFill>
                  <a:latin typeface="Arial"/>
                </a:rPr>
                <a:t>只有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一组对边平行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32120" y="3357720"/>
            <a:ext cx="1344240" cy="2124720"/>
            <a:chOff x="132120" y="3357720"/>
            <a:chExt cx="1344240" cy="2124720"/>
          </a:xfrm>
        </p:grpSpPr>
        <p:sp>
          <p:nvSpPr>
            <p:cNvPr id="274" name=""/>
            <p:cNvSpPr/>
            <p:nvPr/>
          </p:nvSpPr>
          <p:spPr>
            <a:xfrm flipH="1">
              <a:off x="1042920" y="3357720"/>
              <a:ext cx="433440" cy="2016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757200">
              <a:off x="325440" y="3533400"/>
              <a:ext cx="9118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两条腰相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627280" y="3013200"/>
            <a:ext cx="1821600" cy="2486160"/>
            <a:chOff x="2627280" y="3013200"/>
            <a:chExt cx="1821600" cy="2486160"/>
          </a:xfrm>
        </p:grpSpPr>
        <p:sp>
          <p:nvSpPr>
            <p:cNvPr id="277" name=""/>
            <p:cNvSpPr/>
            <p:nvPr/>
          </p:nvSpPr>
          <p:spPr>
            <a:xfrm>
              <a:off x="2627280" y="3357720"/>
              <a:ext cx="936720" cy="18000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947600">
              <a:off x="3350880" y="2996280"/>
              <a:ext cx="54612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有一个角是直角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084720" y="1916280"/>
            <a:ext cx="1640520" cy="1944360"/>
            <a:chOff x="6084720" y="1916280"/>
            <a:chExt cx="1640520" cy="1944360"/>
          </a:xfrm>
        </p:grpSpPr>
        <p:sp>
          <p:nvSpPr>
            <p:cNvPr id="280" name=""/>
            <p:cNvSpPr/>
            <p:nvPr/>
          </p:nvSpPr>
          <p:spPr>
            <a:xfrm>
              <a:off x="6084720" y="1916280"/>
              <a:ext cx="1295640" cy="1944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3384000">
              <a:off x="6256800" y="270756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两组对边分别平行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3:40:08Z</dcterms:created>
  <dc:creator>zy</dc:creator>
  <dc:description/>
  <dc:language>en-US</dc:language>
  <cp:lastModifiedBy>csclf</cp:lastModifiedBy>
  <dcterms:modified xsi:type="dcterms:W3CDTF">2007-12-12T10:59:13Z</dcterms:modified>
  <cp:revision>62</cp:revision>
  <dc:subject/>
  <dc:title>幻灯片 1</dc:title>
</cp:coreProperties>
</file>