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type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camera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900-5A39-4360-9C51-829CE69B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F1E-8791-4908-A507-26975EE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350-23C7-4A89-B08D-75EF675D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1A2-0489-4685-AC6B-7D21E947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C8E3-317F-44D3-95DE-C7C7B2DF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FEA4-6C9C-474B-913B-6ACF1B3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3952-7B6C-44F2-A5EC-F1A54CE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6BE6-C539-44B7-AEDB-B08C0E07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4F7A-7039-4B8E-86B6-A9E2EDB7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18B-F1AE-42F1-AD39-4E312D19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F869-C026-46B9-8145-784905E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C5F-4ED4-4A69-B7FA-5A44C994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A53D-BCC4-4FFB-B380-C1BB58C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691E-46CB-42B0-A3F4-72834A5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4820-A9A8-4474-A242-6821684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3878-8C25-4081-8637-270EE27E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4C13-BAEE-4B12-A87E-12B10C54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CD76-80BE-485E-A2F5-C417E9B7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866A-A76D-4E91-984E-FCBFD79D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1E35-A9CD-4F83-8ECE-E2F2DBA7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C3E4-DCED-4320-B740-A7D80EB4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EA03-D001-421B-A6B9-6FD52E8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56E-D14F-4409-85E5-931FF90F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A996-B835-477A-B51D-E7289FD7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AFAF-C10E-435A-A365-E5FAA609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485E-8DA2-4A88-842B-E6A31505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EA42-B735-4656-84A1-8129E4E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A22B-DE35-4FA0-9E71-023A25EA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C79D-9484-49E6-BB0A-041D79D9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9437-0A77-4A6A-AD80-5F900E9A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593E5-55B3-45B8-AD87-6A794AC2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6A7D-7150-4400-8630-55137C5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E5C98-092A-4990-94A2-D509DA26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4BA-08DB-48CB-853E-2554A1CB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5403-17A8-4F09-A3B0-11106A54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4FA5-CA24-4B27-9325-9400E5B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3C0A-53AC-4BC1-9EE4-D45B43D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4864F-AB51-4E19-BF9A-BE22507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7D70-B21F-404E-9998-B9964246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5A1C-B53A-42F9-A115-54AD8C1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7E6C-0582-486C-A571-3AF6C866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68BC5-C4A3-42F9-BC31-F890A68F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D1C7-8AA6-43FC-9242-B4331539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A519-A88B-431B-BFAA-AEDA12E9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319-84A4-4A3D-8A04-ACF47699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5DAD8-CF71-4746-BA6F-54D77504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205B3-FC38-4F22-A00F-95B92A37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48B3D-8D1F-4B87-AE10-A95AAA51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1E8D0-5FC8-4D96-AAA0-868E4EE7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AAED-D62F-4A1E-B0F9-AAD20CC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77E6-B5DD-4927-97EC-0F96160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2C26D-B489-4CD0-A93D-F29F156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49A88-FCC7-4006-AF99-A307D47F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88FF-8C03-44F6-8643-4965C70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B569-2865-40EA-971B-25EB89FE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5E7-8D6C-4645-8389-AC1CBD93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E26E-A5A3-4E51-B450-A15D1865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FD2F2-B29F-4668-9DB6-97CF3094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B5296-226E-40AA-95E1-65F0E8B9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12B4D-E912-46DC-B4D7-9401413E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64403-6D2C-4E82-B07C-A6292A92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F7B7C-7AA0-4331-8031-D9A36317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D534-9EC9-40BA-8C76-B832B939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8F4D-6646-44AA-9110-01F0C2A5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8AFC-00CB-4BF7-BD10-F5267FC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922EB-2035-4CB7-B358-45DBF75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186-C197-4695-9C91-8E64D663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0F4FE-E11D-4B2A-BF68-8FA1F4E3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2BAF-DF05-4718-BF40-BC463825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85D27-201F-4F7E-B0F5-54C547E7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356-DA74-4376-A5F8-B90DA7A7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CAA-24CB-4203-BE42-DAA45AD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121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F32-2A4F-4F35-B25B-79BA55669D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5121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C951-9BF0-4F12-B77D-85775F619F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121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558E-D61A-4C2B-AFE1-D5B439A207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145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C873-6EE0-4AC5-8000-65B1E6B65C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7D59-CF16-4721-8763-6D8E56EFCF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145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F0FD-7337-4F7B-B5A0-DEF460384D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2049"/>
          <p:cNvSpPr/>
          <p:nvPr/>
        </p:nvSpPr>
        <p:spPr>
          <a:xfrm>
            <a:off x="609480" y="620640"/>
            <a:ext cx="533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回忆       鲁迅先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2050"/>
          <p:cNvSpPr/>
          <p:nvPr/>
        </p:nvSpPr>
        <p:spPr>
          <a:xfrm>
            <a:off x="2556000" y="47354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萧   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图片 2051" descr="luxun2"/>
          <p:cNvPicPr/>
          <p:nvPr/>
        </p:nvPicPr>
        <p:blipFill>
          <a:blip r:embed="rId1"/>
          <a:stretch/>
        </p:blipFill>
        <p:spPr>
          <a:xfrm>
            <a:off x="5796000" y="189000"/>
            <a:ext cx="3181320" cy="43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6"/>
          <p:cNvSpPr/>
          <p:nvPr/>
        </p:nvSpPr>
        <p:spPr>
          <a:xfrm>
            <a:off x="2050920" y="18900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27"/>
          <p:cNvSpPr/>
          <p:nvPr/>
        </p:nvSpPr>
        <p:spPr>
          <a:xfrm>
            <a:off x="1190520" y="2016000"/>
            <a:ext cx="287280" cy="18226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3480 h 1822680"/>
              <a:gd name="textAreaBottom" fmla="*/ 1789200 h 182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4"/>
                  <a:pt x="10800" y="1268"/>
                </a:cubicBezTo>
                <a:lnTo>
                  <a:pt x="10800" y="9532"/>
                </a:lnTo>
                <a:cubicBezTo>
                  <a:pt x="10800" y="10166"/>
                  <a:pt x="5400" y="10800"/>
                  <a:pt x="0" y="10800"/>
                </a:cubicBezTo>
                <a:cubicBezTo>
                  <a:pt x="5400" y="10800"/>
                  <a:pt x="10800" y="11434"/>
                  <a:pt x="10800" y="12068"/>
                </a:cubicBezTo>
                <a:lnTo>
                  <a:pt x="10800" y="20332"/>
                </a:lnTo>
                <a:cubicBezTo>
                  <a:pt x="10800" y="209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1547640" y="18320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堵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1547640" y="26020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边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1547640" y="338148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活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2486160" y="190512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2413080" y="2602080"/>
            <a:ext cx="159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à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2612880" y="3381480"/>
            <a:ext cx="149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ā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4103640" y="28605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35"/>
          <p:cNvSpPr/>
          <p:nvPr/>
        </p:nvSpPr>
        <p:spPr>
          <a:xfrm>
            <a:off x="4788000" y="1832040"/>
            <a:ext cx="106200" cy="2962080"/>
          </a:xfrm>
          <a:custGeom>
            <a:avLst/>
            <a:gdLst>
              <a:gd name="textAreaLeft" fmla="*/ 68040 w 106200"/>
              <a:gd name="textAreaRight" fmla="*/ 106560 w 106200"/>
              <a:gd name="textAreaTop" fmla="*/ 34920 h 2962080"/>
              <a:gd name="textAreaBottom" fmla="*/ 2927160 h 296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9"/>
                  <a:pt x="10800" y="817"/>
                </a:cubicBezTo>
                <a:lnTo>
                  <a:pt x="10800" y="9983"/>
                </a:lnTo>
                <a:cubicBezTo>
                  <a:pt x="10800" y="10392"/>
                  <a:pt x="5400" y="10800"/>
                  <a:pt x="0" y="10800"/>
                </a:cubicBezTo>
                <a:cubicBezTo>
                  <a:pt x="5400" y="10800"/>
                  <a:pt x="10800" y="11209"/>
                  <a:pt x="10800" y="11617"/>
                </a:cubicBezTo>
                <a:lnTo>
                  <a:pt x="10800" y="20783"/>
                </a:lnTo>
                <a:cubicBezTo>
                  <a:pt x="10800" y="211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5052960" y="1557360"/>
            <a:ext cx="204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差不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5175360" y="226368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差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5175360" y="295920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出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9"/>
          <p:cNvSpPr/>
          <p:nvPr/>
        </p:nvSpPr>
        <p:spPr>
          <a:xfrm>
            <a:off x="5199120" y="367668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参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0"/>
          <p:cNvSpPr/>
          <p:nvPr/>
        </p:nvSpPr>
        <p:spPr>
          <a:xfrm>
            <a:off x="4894200" y="4397400"/>
            <a:ext cx="22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大病差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1"/>
          <p:cNvSpPr/>
          <p:nvPr/>
        </p:nvSpPr>
        <p:spPr>
          <a:xfrm>
            <a:off x="6397560" y="2970360"/>
            <a:ext cx="167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ā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6443640" y="2263680"/>
            <a:ext cx="167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3"/>
          <p:cNvSpPr/>
          <p:nvPr/>
        </p:nvSpPr>
        <p:spPr>
          <a:xfrm>
            <a:off x="6826320" y="4397400"/>
            <a:ext cx="18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à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5"/>
          <p:cNvSpPr/>
          <p:nvPr/>
        </p:nvSpPr>
        <p:spPr>
          <a:xfrm>
            <a:off x="6419880" y="1557360"/>
            <a:ext cx="19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6"/>
          <p:cNvSpPr/>
          <p:nvPr/>
        </p:nvSpPr>
        <p:spPr>
          <a:xfrm>
            <a:off x="6443640" y="356724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7"/>
          <p:cNvSpPr/>
          <p:nvPr/>
        </p:nvSpPr>
        <p:spPr>
          <a:xfrm>
            <a:off x="568440" y="2602080"/>
            <a:ext cx="2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塞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539640" y="260280"/>
            <a:ext cx="73281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整体感知课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同学们快速浏览课文，说说鲁迅先生给你留下的总体印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回忆了鲁迅先生的哪些生活小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c00000"/>
                </a:solidFill>
                <a:latin typeface="华文行楷"/>
                <a:ea typeface="华文行楷"/>
              </a:rPr>
              <a:t>请给每一部分加上一个小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可以用文中的语句，也可自己概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920880" y="287280"/>
            <a:ext cx="73008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研读赏析细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你印象最深刻的是哪一个细节？</a:t>
            </a:r>
            <a:r>
              <a:rPr b="1" lang="zh-CN" sz="4400" spc="-1" strike="noStrike">
                <a:solidFill>
                  <a:srgbClr val="0066ff"/>
                </a:solidFill>
                <a:latin typeface="华文行楷"/>
                <a:ea typeface="华文行楷"/>
              </a:rPr>
              <a:t>最能看出他的什么性格特征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1"/>
          <p:cNvSpPr/>
          <p:nvPr/>
        </p:nvSpPr>
        <p:spPr>
          <a:xfrm>
            <a:off x="600120" y="3949560"/>
            <a:ext cx="71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文布局自由随意，作者用女性独有的敏锐目光悉心观察，捕捉到了鲁迅先生许多灵动传神的细节，以质朴浅白清新隽永的语言，写出了一个真实的、充满人情味的活生生的鲁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24000" y="1052640"/>
            <a:ext cx="251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的笑声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明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，是从心里的欢喜，若有人说了什么可笑的话，鲁迅先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笑得连烟卷都拿不住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常常是笑得咳嗽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268800" y="1052640"/>
            <a:ext cx="36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走路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轻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……他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抓起帽子拉往头上一扣，同时左腿就伸出去了，仿佛不顾一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走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928800" y="585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爽朗乐观、率真可亲、平易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7524720" y="1413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270240" y="3925800"/>
            <a:ext cx="465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饺子煮好，一上楼梯，就听到楼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明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鲁迅先生的笑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楼梯来，原来有几个朋友在楼上也正谈得热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869160" y="1413000"/>
            <a:ext cx="124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敏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坚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63480" y="33336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68360" y="476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可是鲁迅先生还是在饭桌上举着筷子问许先生：“我再吃几个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68360" y="1700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好久不见，好就不见。”一边说着一边向我点头。……转身坐在躺椅上才自己笑起来，他是在开着玩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156360" y="1700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尊重妻子幽默风趣可爱可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68360" y="4049640"/>
            <a:ext cx="71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许先生和鲁迅先生都笑着，一种对于冲破忧郁心境的展然的会心的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6713640" y="52164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2058120" y="52164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坚定乐观，向往光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663480" y="33336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04840" y="590400"/>
            <a:ext cx="750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青年人写信，写得太草率，鲁迅先生是深恶痛绝之的。……但他还是展读着每封由不同角落里投来的青年的信，眼睛不济时，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便戴起眼镜来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常常看到夜里很深的时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文本框 1"/>
          <p:cNvSpPr/>
          <p:nvPr/>
        </p:nvSpPr>
        <p:spPr>
          <a:xfrm>
            <a:off x="663480" y="4737240"/>
            <a:ext cx="68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对青年严格要求的同时又宽容关爱，寄予厚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7160" y="711000"/>
            <a:ext cx="7467480" cy="41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     </a:t>
            </a:r>
            <a:r>
              <a:rPr b="1" lang="zh-CN" sz="4800" spc="-1" strike="noStrike">
                <a:solidFill>
                  <a:srgbClr val="003300"/>
                </a:solidFill>
                <a:latin typeface="Arial Black"/>
              </a:rPr>
              <a:t>细节描写的魅力：</a:t>
            </a:r>
            <a:br>
              <a:rPr sz="4800"/>
            </a:br>
            <a:r>
              <a:rPr b="1" lang="zh-CN" sz="3600" spc="-1" strike="noStrike">
                <a:solidFill>
                  <a:srgbClr val="003300"/>
                </a:solidFill>
                <a:latin typeface="Arial Black"/>
              </a:rPr>
              <a:t>细节，即细小的动作或情节；</a:t>
            </a:r>
            <a:br>
              <a:rPr sz="3600"/>
            </a:br>
            <a:r>
              <a:rPr b="1" lang="zh-CN" sz="3600" spc="-1" strike="noStrike">
                <a:solidFill>
                  <a:srgbClr val="003300"/>
                </a:solidFill>
                <a:latin typeface="Arial Black"/>
              </a:rPr>
              <a:t>文艺作品中描绘人物性格、事件发展、自然景物、社会环境等最小的单位组成；</a:t>
            </a:r>
            <a:br>
              <a:rPr sz="3600"/>
            </a:br>
            <a:r>
              <a:rPr b="1" lang="zh-CN" sz="3600" spc="-1" strike="noStrike">
                <a:solidFill>
                  <a:srgbClr val="003300"/>
                </a:solidFill>
                <a:latin typeface="Arial Black"/>
              </a:rPr>
              <a:t>细节描写要求真实、生动，并服从主题思想的表达。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651960"/>
            <a:ext cx="746748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鲁迅先生是一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的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171440" y="1698120"/>
            <a:ext cx="60501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乐观开朗、平易近人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热情待客、细致周到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关爱青年、认真严谨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幽默风趣、敏捷干练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鞠躬尽瘁、死而后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伟大而平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6" descr="0014"/>
          <p:cNvPicPr/>
          <p:nvPr/>
        </p:nvPicPr>
        <p:blipFill>
          <a:blip r:embed="rId1"/>
          <a:stretch/>
        </p:blipFill>
        <p:spPr>
          <a:xfrm>
            <a:off x="6804000" y="620640"/>
            <a:ext cx="1457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750960" y="588960"/>
            <a:ext cx="73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本文除写鲁迅先生外，还写了其他什么人？写这些人有什么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文本框 1"/>
          <p:cNvSpPr/>
          <p:nvPr/>
        </p:nvSpPr>
        <p:spPr>
          <a:xfrm>
            <a:off x="600120" y="394956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文本框 2"/>
          <p:cNvSpPr/>
          <p:nvPr/>
        </p:nvSpPr>
        <p:spPr>
          <a:xfrm>
            <a:off x="3983040" y="467532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侧面烘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文本框 3"/>
          <p:cNvSpPr/>
          <p:nvPr/>
        </p:nvSpPr>
        <p:spPr>
          <a:xfrm>
            <a:off x="1565280" y="3105000"/>
            <a:ext cx="571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”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、海婴、许先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750960" y="588960"/>
            <a:ext cx="73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文中寄寓了萧红对鲁迅先生怎样的情感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1"/>
          <p:cNvSpPr/>
          <p:nvPr/>
        </p:nvSpPr>
        <p:spPr>
          <a:xfrm>
            <a:off x="600120" y="394956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2"/>
          <p:cNvSpPr/>
          <p:nvPr/>
        </p:nvSpPr>
        <p:spPr>
          <a:xfrm>
            <a:off x="600120" y="2739960"/>
            <a:ext cx="716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萧红搬到北四川路后，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就每夜饭后必到大陆新村来了，刮风的天，下雨的天，几乎没有间断的时候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可见对鲁迅充满了敬仰和亲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文本框 3"/>
          <p:cNvSpPr/>
          <p:nvPr/>
        </p:nvSpPr>
        <p:spPr>
          <a:xfrm>
            <a:off x="1716120" y="1909800"/>
            <a:ext cx="571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爱戴、赞美、景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4829040" y="762120"/>
            <a:ext cx="1190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6324480" y="2362320"/>
            <a:ext cx="671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0" y="189000"/>
            <a:ext cx="80247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鲁迅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88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93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，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20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世纪中国伟大的文学家、思想家和革命家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也是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世纪的文化巨人之一，鲁迅堪称现代中国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民族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文学不过是他传播思想的武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鲁迅的作品对人的精神创伤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病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进行无止境的发掘，对中国人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奴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进行了彻底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批判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是对现代中国人的灵魂的伟大拷问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他残酷地鞭打着人的灵魂，也反对任何形式的忍从，他始终维护人的思想的独立性和不妥协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23553"/>
          <p:cNvSpPr/>
          <p:nvPr/>
        </p:nvSpPr>
        <p:spPr>
          <a:xfrm>
            <a:off x="1619280" y="54936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文本框 23554"/>
          <p:cNvSpPr/>
          <p:nvPr/>
        </p:nvSpPr>
        <p:spPr>
          <a:xfrm>
            <a:off x="826920" y="36640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语言质朴浅白清新隽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文本框 23555"/>
          <p:cNvSpPr/>
          <p:nvPr/>
        </p:nvSpPr>
        <p:spPr>
          <a:xfrm>
            <a:off x="828720" y="1738440"/>
            <a:ext cx="72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善于撷取生活琐事捕捉细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文本框 23558"/>
          <p:cNvSpPr/>
          <p:nvPr/>
        </p:nvSpPr>
        <p:spPr>
          <a:xfrm>
            <a:off x="7667640" y="1413000"/>
            <a:ext cx="11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写作特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文本框 1"/>
          <p:cNvSpPr/>
          <p:nvPr/>
        </p:nvSpPr>
        <p:spPr>
          <a:xfrm>
            <a:off x="826920" y="270360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以小见大的写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6625"/>
          <p:cNvSpPr/>
          <p:nvPr/>
        </p:nvSpPr>
        <p:spPr>
          <a:xfrm>
            <a:off x="324000" y="692280"/>
            <a:ext cx="82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运用细节描写写你最熟悉的一个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文本框 1"/>
          <p:cNvSpPr/>
          <p:nvPr/>
        </p:nvSpPr>
        <p:spPr>
          <a:xfrm>
            <a:off x="828720" y="3448080"/>
            <a:ext cx="70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要求：采撷具有个性的生活细节，体现人物的个性特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1" descr="360截图20170214152439934"/>
          <p:cNvPicPr/>
          <p:nvPr/>
        </p:nvPicPr>
        <p:blipFill>
          <a:blip r:embed="rId1"/>
          <a:stretch/>
        </p:blipFill>
        <p:spPr>
          <a:xfrm>
            <a:off x="-44280" y="-11160"/>
            <a:ext cx="92325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1" descr="360截图20170214152451789"/>
          <p:cNvPicPr/>
          <p:nvPr/>
        </p:nvPicPr>
        <p:blipFill>
          <a:blip r:embed="rId1"/>
          <a:stretch/>
        </p:blipFill>
        <p:spPr>
          <a:xfrm>
            <a:off x="-4680" y="-15840"/>
            <a:ext cx="91789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619280" y="54936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板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000080" y="17146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语言    质朴浅白     清新隽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857160" y="27147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善于撷取生活琐事      捕捉细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71680" y="37148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印象中的鲁迅：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生活平凡随意、为人宽厚仁爱，待友真诚悉心，意志坚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 flipH="1">
            <a:off x="4286160" y="5072040"/>
            <a:ext cx="37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伟大而平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7358040" y="285840"/>
            <a:ext cx="11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写作特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826920" y="476280"/>
            <a:ext cx="7921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背诵鲁迅先生的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自题小像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和纪念鲁迅逝世三十周年臧克家写的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有的人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积累鲁迅先生的一些名言警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通过对本篇课文的学习，你对鲁迅有没有新的认识？请在随笔中写下你的体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观察和自己比较亲近的人的行为举止，采撷具有个性的生活细节，体现人物的个性特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179280" y="476280"/>
            <a:ext cx="5915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题小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灵台无计逃神矢，风雨如磐暗故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寄意寒星荃不察，我以我血荐轩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79280" y="52578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情未必真豪杰，怜子如何不丈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79280" y="33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横眉冷对千夫指，俯首甘为孺子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369280" y="457200"/>
            <a:ext cx="546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7688880" y="2565360"/>
            <a:ext cx="115524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 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7688880" y="5084640"/>
            <a:ext cx="1155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 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7683840" y="609480"/>
            <a:ext cx="11552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 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9" descr="19"/>
          <p:cNvPicPr/>
          <p:nvPr/>
        </p:nvPicPr>
        <p:blipFill>
          <a:blip r:embed="rId1"/>
          <a:stretch/>
        </p:blipFill>
        <p:spPr>
          <a:xfrm>
            <a:off x="6300720" y="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28"/>
          <p:cNvPicPr/>
          <p:nvPr/>
        </p:nvPicPr>
        <p:blipFill>
          <a:blip r:embed="rId2"/>
          <a:stretch/>
        </p:blipFill>
        <p:spPr>
          <a:xfrm>
            <a:off x="630072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1" descr="29"/>
          <p:cNvPicPr/>
          <p:nvPr/>
        </p:nvPicPr>
        <p:blipFill>
          <a:blip r:embed="rId3"/>
          <a:stretch/>
        </p:blipFill>
        <p:spPr>
          <a:xfrm>
            <a:off x="6300720" y="2286000"/>
            <a:ext cx="1676520" cy="2379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 Black"/>
              </a:rPr>
              <a:t>主要作品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小说集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呐喊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》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彷徨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》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故事新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散文集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朝花夕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诗集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野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杂文集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有书信、日记和学术著作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55297"/>
          <p:cNvSpPr/>
          <p:nvPr/>
        </p:nvSpPr>
        <p:spPr>
          <a:xfrm>
            <a:off x="39600" y="228600"/>
            <a:ext cx="2170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鲁迅先生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爱护青年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支持革命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童心未泯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体恤他人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博学广识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幽默风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文本框 55298"/>
          <p:cNvSpPr/>
          <p:nvPr/>
        </p:nvSpPr>
        <p:spPr>
          <a:xfrm>
            <a:off x="2209680" y="26668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1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在北京与全国儿童展览会会员合影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文本框 55299"/>
          <p:cNvSpPr/>
          <p:nvPr/>
        </p:nvSpPr>
        <p:spPr>
          <a:xfrm>
            <a:off x="2133720" y="64771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3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在上海和宋庆龄蔡元培在一起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图片 55300" descr="20"/>
          <p:cNvPicPr/>
          <p:nvPr/>
        </p:nvPicPr>
        <p:blipFill>
          <a:blip r:embed="rId1"/>
          <a:stretch/>
        </p:blipFill>
        <p:spPr>
          <a:xfrm>
            <a:off x="5867280" y="320040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55301"/>
          <p:cNvSpPr/>
          <p:nvPr/>
        </p:nvSpPr>
        <p:spPr>
          <a:xfrm>
            <a:off x="6172200" y="6324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在全国木刻展览会上和青年在一起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文本框 55302"/>
          <p:cNvSpPr/>
          <p:nvPr/>
        </p:nvSpPr>
        <p:spPr>
          <a:xfrm>
            <a:off x="5791320" y="26668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在北京师范大学演讲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图片 55303" descr="26"/>
          <p:cNvPicPr/>
          <p:nvPr/>
        </p:nvPicPr>
        <p:blipFill>
          <a:blip r:embed="rId2"/>
          <a:stretch/>
        </p:blipFill>
        <p:spPr>
          <a:xfrm>
            <a:off x="2246400" y="3200400"/>
            <a:ext cx="3163680" cy="32767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55304" descr="25"/>
          <p:cNvPicPr/>
          <p:nvPr/>
        </p:nvPicPr>
        <p:blipFill>
          <a:blip r:embed="rId3"/>
          <a:stretch/>
        </p:blipFill>
        <p:spPr>
          <a:xfrm>
            <a:off x="5791320" y="0"/>
            <a:ext cx="3047760" cy="266688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55305" descr="27"/>
          <p:cNvPicPr/>
          <p:nvPr/>
        </p:nvPicPr>
        <p:blipFill>
          <a:blip r:embed="rId4"/>
          <a:stretch/>
        </p:blipFill>
        <p:spPr>
          <a:xfrm>
            <a:off x="2286000" y="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9457"/>
          <p:cNvSpPr/>
          <p:nvPr/>
        </p:nvSpPr>
        <p:spPr>
          <a:xfrm>
            <a:off x="301680" y="2286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36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日鲁迅在上海逝世。广大群众争相奔赴万国殡仪馆瞻仰遗容，中共中央也来电吊唁。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日，送葬群众多达数万人。鲁迅遗体覆盖着上海民众所献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民族魂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旗子，安葬于虹桥万国公墓。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56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，鲁迅墓迁到上海虹口公园，由毛泽东题署墓碑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图片 19458" descr="C:\WINDOWS\Desktop\sunny\24.jpg"/>
          <p:cNvPicPr/>
          <p:nvPr/>
        </p:nvPicPr>
        <p:blipFill>
          <a:blip r:embed="rId1"/>
          <a:stretch/>
        </p:blipFill>
        <p:spPr>
          <a:xfrm>
            <a:off x="4803840" y="152280"/>
            <a:ext cx="3657600" cy="312444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19459"/>
          <p:cNvSpPr/>
          <p:nvPr/>
        </p:nvSpPr>
        <p:spPr>
          <a:xfrm>
            <a:off x="5029200" y="3276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鲁 迅 遗 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图片 19460" descr="C:\WINDOWS\Desktop\sunny\11.jpg"/>
          <p:cNvPicPr/>
          <p:nvPr/>
        </p:nvPicPr>
        <p:blipFill>
          <a:blip r:embed="rId2"/>
          <a:stretch/>
        </p:blipFill>
        <p:spPr>
          <a:xfrm>
            <a:off x="4727520" y="365760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19461"/>
          <p:cNvSpPr/>
          <p:nvPr/>
        </p:nvSpPr>
        <p:spPr>
          <a:xfrm>
            <a:off x="5410080" y="6400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上 海 鲁 迅 公 园 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54273" descr="9"/>
          <p:cNvPicPr/>
          <p:nvPr/>
        </p:nvPicPr>
        <p:blipFill>
          <a:blip r:embed="rId1"/>
          <a:stretch/>
        </p:blipFill>
        <p:spPr>
          <a:xfrm>
            <a:off x="74520" y="0"/>
            <a:ext cx="3587760" cy="56386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54274"/>
          <p:cNvSpPr/>
          <p:nvPr/>
        </p:nvSpPr>
        <p:spPr>
          <a:xfrm>
            <a:off x="457200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54275"/>
          <p:cNvSpPr/>
          <p:nvPr/>
        </p:nvSpPr>
        <p:spPr>
          <a:xfrm>
            <a:off x="3876840" y="6480"/>
            <a:ext cx="448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1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出生于黑龙江省呼兰县一个地主家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54276"/>
          <p:cNvSpPr/>
          <p:nvPr/>
        </p:nvSpPr>
        <p:spPr>
          <a:xfrm>
            <a:off x="3962520" y="990720"/>
            <a:ext cx="4257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30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为了反抗父母包办的婚姻离家出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54277"/>
          <p:cNvSpPr/>
          <p:nvPr/>
        </p:nvSpPr>
        <p:spPr>
          <a:xfrm>
            <a:off x="3962520" y="1981080"/>
            <a:ext cx="45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3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认识萧军并与之结为志同道合的伴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文本框 54278"/>
          <p:cNvSpPr/>
          <p:nvPr/>
        </p:nvSpPr>
        <p:spPr>
          <a:xfrm>
            <a:off x="3962520" y="2971800"/>
            <a:ext cx="45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34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在鲁迅的帮助下和萧军一起来到上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文本框 54279"/>
          <p:cNvSpPr/>
          <p:nvPr/>
        </p:nvSpPr>
        <p:spPr>
          <a:xfrm>
            <a:off x="3730680" y="3962520"/>
            <a:ext cx="465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抗战爆发后，上海沦陷，萧红到了香港，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4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年病逝于香港九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54280"/>
          <p:cNvSpPr/>
          <p:nvPr/>
        </p:nvSpPr>
        <p:spPr>
          <a:xfrm>
            <a:off x="74520" y="571032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萧      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1911—1942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文本框 54281"/>
          <p:cNvSpPr/>
          <p:nvPr/>
        </p:nvSpPr>
        <p:spPr>
          <a:xfrm>
            <a:off x="2544840" y="5638680"/>
            <a:ext cx="73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主要作品：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生死场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马伯乐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呼兰河传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小城三月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11040" y="1133640"/>
            <a:ext cx="77742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说过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看好花。一定要有好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曾表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能培一朵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不妨做会朽的腐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培育萧红这朵中国三四十年代中国女性文学园圃的奇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甘作春泥，甘为人梯，在她的作品中倾注了大量心血；鲁迅去世之后，萧红从悲痛中振作起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续出版和发表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伯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鲁迅先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兰河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名篇佳作。这些作品又像春泥一样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799560" y="303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创作背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  <p:sndAc>
      <p:stSnd>
        <p:snd r:embed="rId1" name="camera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60280"/>
            <a:ext cx="760104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滋养着中国文坛的茂林佳卉。鲁迅和萧红之间的情谊已经成为文坛佳话，被千千万万的读者传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林林总总的鲁迅回忆录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萧红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鲁迅先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枝独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不仅是鲁迅回忆录中的珍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是中国现代怀人散文的典范，是敬献于鲁迅墓前的一个永不凋谢的花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作者萧红跟回忆对象鲁迅之间有着直接交往，对回忆对象充满着缅怀崇敬之情，素材又来自于亲历、亲闻，因此作品不仅富于史传性，而且也富于文学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06360" y="439200"/>
            <a:ext cx="6051600" cy="8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 Black"/>
                <a:ea typeface="华文行楷"/>
              </a:rPr>
              <a:t>读准下列字词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1280" y="1262160"/>
            <a:ext cx="79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ǎo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āi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ié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碟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ǔn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é sou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咳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iáo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ēn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调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jiǎo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绞肉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īn jīn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薪金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jiào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校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uài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草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zǎo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洗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ōu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悠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fēn fù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吩咐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ǒ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抹杀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ē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疙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ēn wù tònɡ jué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深恶痛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éi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以为然   阖一阖眼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6"/>
          <p:cNvSpPr/>
          <p:nvPr/>
        </p:nvSpPr>
        <p:spPr>
          <a:xfrm>
            <a:off x="2050920" y="18900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3:24:55Z</dcterms:created>
  <dc:creator>206</dc:creator>
  <dc:description/>
  <dc:language>en-US</dc:language>
  <cp:lastModifiedBy>Administrator</cp:lastModifiedBy>
  <dcterms:modified xsi:type="dcterms:W3CDTF">2018-06-14T09:57:07Z</dcterms:modified>
  <cp:revision>1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