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8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B95-A6E1-4F69-A144-1C958A7E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F1F-BCCE-490E-A7B9-8E9FF2E5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6599C-E586-4A21-B5A9-5278FBDF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24831-C813-4D1F-9B1C-7CC947E4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EFAA4-A488-4949-A38F-8B768435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6A10A-9FFB-4467-9862-8BCAC3C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C34EE-DFF5-4F93-B4D8-6C77E49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AB5B7-B381-4E98-8AB9-10200BD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93FA0-703C-4B4B-B7C7-C35A75B0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183C1-4BBE-456C-83DF-CCF11EB9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5874B-F82A-4FDC-8159-EA9AE882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21C7A-8B23-4944-826B-5F7BDB8F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BBE-0E0B-4362-ADD5-A60C7525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2CDC5-9366-432D-887D-6021868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E312D-C70F-41AA-BE9B-9F5B3F15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BC77F-C215-4851-8543-9C38C54D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5B59C-2776-487A-84DD-234FA43A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D8590-1252-48F2-BCF7-F384EF08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94C70-C888-430A-B9DB-113682F4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B8491-1385-4B73-8E34-A4CA56A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45B35-CF19-40CE-8990-F43C8381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29B3D-E581-483D-A609-86F62DA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8F91D-952D-4C5C-8950-84CAE1BE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E02-1D21-4B56-A87C-045D8FD4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7A4F8-F5A9-44D1-9687-41E47004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E9FB5-A3E3-4BDA-87E4-81C2332A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8F210-48A8-440F-8E2E-90B2E2BB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F2F56-CFB1-41DC-9A7C-60D7C5D3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5F71C-7EF5-41AD-9349-820BC5F6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D9649-21F9-4AA6-B80B-DA8F787F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A391F-0903-4FCF-A542-BD531DBC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56304-E2C2-47DB-BF73-E913975D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646B7-4F99-4078-BE87-67D681B3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F09F-95F0-4F3B-9679-B72FBD77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F78D-6D66-4BD0-BE18-14FFF8C7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13C03-42EE-404A-A52B-A20F1E0F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45078-08B7-4401-A0C5-AA7F38D6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54DC6-D0F7-4A49-A6B3-56561F10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B1B70-3423-4703-8A85-91C56577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522DA-1AE1-401D-881E-F7316748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9421D-EB68-45FE-91B7-A155CC62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3AAC7-73C7-4F2C-BA0F-49FA722D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C64BC-6048-4024-A57B-88E95815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E4B08-4B27-4531-8174-FF300C1A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6F2F6-9398-44F7-9970-EA5E2938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E519-2310-4118-8A4C-063BFDF7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5602B-0B20-49C2-8983-1BF50B3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82C81-792B-4DD4-976E-E4A0B5E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261EC-EBDD-4625-B725-D09AA237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8B093-FB52-4DB7-AA3A-BAC75B23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AB0CA-B087-403B-8263-7563B268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79D02-737F-4E1D-B087-6342001F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5E0E0-FC9B-41F8-BD30-8BD6E7F3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5934C-A52A-4FA7-8B09-567CF9C3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2D6FE-FA8D-49A6-9ED3-C9AE2769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5179A-8816-40D7-9535-E8685F2B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24C1-9FDB-4101-A5F8-A225C608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C6168-CB36-421A-B959-5549521E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65E59-C269-4DD7-AC01-7DFDBA46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9C3C8-491F-42D8-8A3B-9224407E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32486-EE44-43F6-A83B-A32EF809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1DB5A-415C-4214-81D6-2598546E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19AD3-267A-4E2C-B9A8-929D7197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93CCA-F136-4DFD-AB9B-EE3EC788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E5458-6055-4B1E-AA96-EA8DB858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31677-9449-4736-934A-D0043960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E3AC9-79E2-4951-A5AC-B0D6709E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3143-99B5-4979-BAC4-9CCB6326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60D4F-9ACB-42D8-AA9E-73B8CFEE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F77A6-CCDE-4A5B-9A8D-519DF9E2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8458D-ABB1-4503-9B8B-4F77CF07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76312-7289-4978-BBAB-586AE4E4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9CFA9-3372-47D6-8ECC-53FC8DC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370C1-AE4D-4CE1-A6DE-448F89CC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0AB61-0CB2-45B2-B6E3-AB4A913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9BB56-9B8E-4149-8837-347B9F4D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FDF29-DB1B-4023-B83D-FABCC153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01EE0-BBAB-4466-B262-F7FAED98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EF41-800D-4F88-9B8A-26EF5293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63504-E312-4ABD-A8A1-AE8E84A3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7A7E3-CFBA-43EE-9B98-8AABADAD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36846-FB3F-4840-8739-E56E9EBB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A177E8-C28D-4826-9FED-EDD3ED80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4CFFF7-1BD7-4A64-A1E0-17791490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D1AF4-4EDA-492D-8712-632DDCC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DD691-15AB-4E57-9FCC-9BCD066D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DE7C0-8C76-4840-A095-7088ADED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9DBE3-864E-45FE-8A2E-A966B4AB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50B43-FDE7-406C-9B7F-EE9C764D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49A3-0C11-4599-9E66-92BFF36B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26682-DC78-4442-A511-951EA5F3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F004B-2CE0-457A-BAB5-4434728D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6A7BA-0271-4DE4-9A34-47CE7904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9818D-171F-4C5A-B177-73A64540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E5F6A-24CF-4EB2-8148-BE556549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ECF7A-531E-4438-A7F2-ED46F0B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7300B-7B45-4D6F-840C-3E401000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90778-5E49-4C2B-A0A3-0BBD0960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726BF-C340-4408-9663-7D9D663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D79AF-99F5-437C-8612-AC0CD76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3F16-1DDE-4504-B139-2E1B6FBC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C6EA9-BDAC-4A7D-83B3-1AC8E306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0AEE0-ECD2-48A8-A5F8-A1750FCD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2C3ED-4AE9-4D4E-B919-253CE7F7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48E6F-EC9B-474F-B489-5F9451AD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4E755-8593-4822-9901-B8A1A982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A2CE8-19B8-4677-859E-521D0886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44CA1-6B4D-441F-99F7-6239CDF9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76B79-82D5-4EA2-B2B7-03EA115F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ECE3B-7DAE-4893-9D64-A4AB5165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64EA8-C445-4249-A29C-447691E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585-57CC-4153-9CAF-DD65AE2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79C8-6886-4CB5-B438-0494B1F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B7BB9-B2D0-4D6B-8C49-638BCE1E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910F1-5C2E-40B6-B2DB-4152B97A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15941-51A9-46F2-A52C-5998EFA1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10378-175D-4418-963A-11851D28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049BF-C635-4A4A-B837-F7C245EF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5301D-A0BC-469D-8C97-7472071B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FB032-6EC8-4C69-8A5E-0CFBCFEF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4A41D-3FE1-4CCE-A8E0-25269DB0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87555-309C-424B-9D94-2923007D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487E3-E8F8-4E54-864E-2071928B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31E5-A109-4196-9185-5C0158C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C7690-29CC-4921-BB14-8DA0A194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3ECCC-8E86-421C-85B1-11BDFEE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AA876-0C21-4FF8-9077-090B36B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A71A7-9C53-4167-AC60-CA9E725A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B3A3E-D6A7-48DF-8484-3274B20A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F0E86-7424-4EA7-9F12-069FB976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7404B2-4927-4950-A5FA-A36E82B7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15A61E-F746-414C-AFC4-9B44B768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876AD-7EE1-4AE5-8B9C-29D9624C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344099-9348-4B30-9D0C-8F5254A7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A522-82AA-4DC5-A261-A9E7698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A8B8B-D178-48AE-9B21-6BE68948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FBBA9-F750-418A-901C-5BC2DB75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806AE-CD71-4EF7-8B55-67C3EFFE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62DC4-75F1-4E8D-B73C-6629580A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D63C7F-77F8-430F-9FAC-D20F6E0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E1D2C-508D-430B-AB1E-396776E0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0298A-0447-4FB2-A4C3-23F912E8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3E9E4-7D17-4655-A2F5-B62DBAD1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3FFAB1-A96A-4ACA-BA7D-9D745C4B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80A34-0DA5-4D9B-BD5C-D756C27D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4FA1-9EDD-47CA-A337-0A8B5636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58F1A-2A1A-4336-BFC9-D72BC97D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2723F-8860-4BB2-AA65-55EEEB38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53747-9CEF-4390-8F2D-61A494B7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7037B-D5B8-471A-9A58-6CE99D7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E16CD-2CB5-4F4F-A556-E4B1CBF3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D2ED9D-E4BC-46A0-8663-2B7C8DD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5DF24-0770-49CE-9E5B-314B1724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772B0B-B3C6-48FF-891B-760ABC90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D62E6-660E-405F-9D5B-C08EAF9D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F5836-3602-4C93-A0DF-E13A90C2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3D5D-2D10-4B48-8DC8-E9E678FA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8BB1E-54AF-4926-94EA-FD874684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43ADD-5123-44A1-A6A9-918AE252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FE7CF-0A0A-4BB3-9CFF-E83B4F43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C9E1F3-B144-45EC-A1F7-4E3D3D63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30FA5C-C904-4DFB-8A7B-D543942E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DFE406-06B2-439A-AD54-7D06DA74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ADCC6-2269-42A7-8909-91D599DA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B35E4-CD1A-4294-87F9-3B0210C2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FB6FA-F248-465F-98AA-00E84E4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4CF71-1782-4C64-BDC5-971DE857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2308-3475-483C-B845-40224D2D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FFCADA-7309-4DE9-AAE5-E9F1790D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777562-252B-473D-9D96-883BA37F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FC73B-4CC5-46A5-9C96-7B591212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1952D4-12EB-4EEC-9F07-D39D11E1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6B37F-CF04-4CFA-86BC-4784E0E2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B034E8-9D8A-4870-BBAC-B68319C0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9308A4-7BEC-42A5-AF64-B32275C7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AB34E-69FF-448D-A3BA-A855C972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DC0B32-C7E2-48F1-9C31-D9DDED97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726F39-C173-46C3-A6A2-3092BCE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CB3D-62DA-486A-A677-CCCD43A8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C7B2C5-4680-4FA8-A9F8-D70E0E08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012A4-286B-498C-8E6E-E0A221C4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EBDF7-C310-44AF-806D-8EA58B3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4A3140-9D7F-4266-B564-1E18CEAA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9121BF-770E-4B59-8013-4FDFCB15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CC48BF-12E4-4538-845A-43FAE2A8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3D32D8-CC51-48C8-B790-8220FE92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A4F8F4-7534-46C3-A343-49FB1277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D32C5D-D793-443D-88BE-D1D444AB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935CB9-C4E3-4435-A9A1-B8B6C48A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CC6E-DD95-4766-A9C5-45EF76F2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5D2235-7495-480D-96B1-66DBFA58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D4D200-040E-4DF0-A8F6-7F733834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B06E1F-21AF-44E0-9D95-27DEE8E5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FD948-3A6C-41AA-BEAB-E4A74B0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16EB90-79E9-4B48-8916-ABE60A2F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44BC0C-6451-4753-AE74-C5D97C2C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53D0D2-39AE-4990-A0CE-6FA4A93C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67CEE7-3736-44B5-9900-EE0766C0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803BB5-E282-487F-A8AB-9B229A18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80237B-0C03-4F05-A658-4A92E7B6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277E-0705-421C-AB4F-743C16D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660E45-9730-495C-BD82-9C72C410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AA573B-A7D8-4DD3-A1AE-2CB719A6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99A54B-F7ED-44A5-B59D-EF7EF8F7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0C27B2-9FED-4F0D-B416-5F825CA1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CEF4D8-F9D4-4185-809D-380F4C07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37EDA4-6651-460B-9A94-9A83654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5A1B35-9092-4339-89DE-EC0605BE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81AC4B-FE52-4991-8F39-336DA986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E6D1F6-18FD-4A36-8582-FBA649C5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EDBBDD-8185-44E6-A310-C0132E12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1644-C78B-448F-B61B-EFF14AE9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5DA88C-01E4-404A-9812-138BF5A9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8C57FE-D2C9-4F0F-9799-3C07C57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79C11B-84EB-4534-A991-2537C7FA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5397EF-662F-4AFF-BF2C-7BD80726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7881AD-A325-42A4-AE58-B43F469D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1F5D2A-24BF-4D12-8907-65EEF7B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A057BC-E113-44A5-95AD-6B422315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EE2991-0D2E-40D3-8CBF-6D0885B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340C31-C7CE-45C9-9A84-C4FC8F5D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05C210-EDAF-40A5-9157-6E6CC387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06D-D846-4DA9-A718-DE5668F2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C90C-8618-4271-8B3B-9DD91079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4A43BB-FC8A-4866-BA0E-80B99E46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1BC055-EBC0-4965-A8E1-A8A9DF61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6BE518-E1D4-412A-9934-56F43134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EAA1D8-B316-423B-AC2D-68AC120D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24BC19-D560-426D-84FB-DC1EE6B1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3E5D20-3F80-44FB-B56B-2ABCA143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EFEDB9-C0AD-4859-9669-36EE48BA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C907DB-FE06-4413-9B37-69E84F9B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EB0B52-509B-4C02-9454-E4C9324F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1F5E22-A79F-49D4-BBD0-CBE461F7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27D5-73A0-4E08-8C52-7E99B20C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AABBDA-D456-4C97-88B5-0EE20394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07694B-C5DC-4A95-9562-93A17041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2B70AD-DFA0-4580-AF24-D7ADC1DE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CF0915-73C5-4563-85CE-5C571465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9DF65F-655B-4827-A6DD-2AA7EC92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5F5E76-D39E-4187-BE32-DDB7659B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83BBB0-4E25-43F9-B2F6-99095390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DA081F-2CB4-432B-B780-F7C97FD3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216170-E0E5-4E4F-86CF-86625348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1C2B01-9A67-4AE9-9F8C-18C9608F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CD74-9055-45D1-A1DA-943A71D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0E7F0D-07BC-4D32-8EC8-706FFD5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B0806D-1105-40D3-A21B-884FC9E6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110AB2-2F69-4AB8-9A3C-A6D0DE18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87D7AD-CC96-46E7-88E5-7CB0D0D5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C682E1-617C-4FF6-9D81-C308F7E2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FF324E-7CE8-48DA-8676-AF41D79E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B56AF0-DAF5-4FCF-8290-9AADA7D6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2D55A8-BFDA-4198-9105-E12FBA39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50A2F2-14A2-4AA9-8A70-AAE3D948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37725D-5728-4E8B-8E84-4DAAFB0C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CF86-2E69-4676-AD37-E72772D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E40517-5F80-4126-8059-A5FF0C8F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A9D7A8-0C28-40BD-ADB4-B71C3345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D7405A-2F28-48F1-8E68-0E5AD40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5C3C1E-E017-405A-A1FF-CF6CD816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3FC58B-2591-40BE-9E56-810D7FC9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75F7D4-4C7C-4598-8B8D-1EF085B0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29C0C4-8D97-42B4-BB53-EB94A987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3F2B2F-44A9-415F-A2DB-EA10D211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2F2AEB-C0A0-4A59-9C1C-EAE9B903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F1D649-FF69-407F-BA9B-69E96F45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48A5-126A-4956-986D-8AD7129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3113EF-71BB-492C-B135-56554947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1A2EEE-81CD-4FCA-B8EF-757F83CF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BD7E20-B3A8-4FAE-9E17-670C56AB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D9E6B6-EFAF-43DC-9DCF-A188BC9D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156695-4ECF-468F-A278-CA0283C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07864C-299F-48B6-842E-60F34CF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E4FA9E-165E-4B22-B357-589943C3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8325AC-A7AB-48B9-A53B-89BF1789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F7AF89-32C8-4891-A771-25940BCB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BD97BB-A1F8-4CB9-B6C2-587D2A4A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188D-5DDB-4218-8BD1-3132FA26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BBB7F3-166E-40E2-8A3C-AF5C1A50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7BC364-7183-4A03-A818-54C8E8CF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0E8C34-2E9F-419F-A545-F28CC684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ACD489-421B-47A2-9523-C289DF1A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E02298-86BE-4FB5-9BAA-5774FE40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EF7A2E-284C-48FC-A5AF-A9A4996E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50DEC0-ADC7-42AF-A15C-1941499D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B228D2-AFA4-47C7-AD1F-FFE04AF3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B9EEB9-7298-465E-8FFB-9B264CC9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7D4898-B2AB-46BF-8640-704C9CEB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2967-A1EE-4FF1-8E60-9E186411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00A6BA-16B4-48F4-9E48-66DA0C1D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C0F24C-F682-4072-B3FC-665D9FA3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D7C22F-3ABA-4E34-B519-37AB42DA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B16E05-0FEA-4971-AB34-0ACA08BD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849C6C-D55F-4517-BD7A-3019022E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A08AEF-8B85-49C5-941D-24D1754B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8ABEE5-3FA3-472D-996F-FD5A089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1CB037-7F4A-422D-AFB2-B3C30E88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A31BBF-8682-4CB2-A046-5DA3D6F3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F49C81-2853-4887-BECF-E38B26E7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C314-DE29-459D-BB74-98323836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20C01D-8CF0-4400-9CCD-FFF8FBC7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D1348A-8A32-4FCD-8AC1-2633475E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6B8003-B7D5-482E-89C5-FD9BE828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CA0A43-A1C1-4619-B0B7-21CAEAD4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F862B1-034A-4F80-8A9F-0BF0F883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ED9645-BA5E-48B2-8A8E-A820C098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F48BFB-BB99-423E-A80A-C5D6A0EA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211853-1A3F-419A-AF5F-418693F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431548-021B-4824-BA41-D4637ED5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5261BC-F01A-472D-9E41-BBC5BB6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7F1F-F86D-49F0-9447-9635EF19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01F163-7498-495A-ADB3-DEAE388A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49ACD9-3B4B-4AF7-A6E1-52C31F96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36D261-4D66-49FB-9037-F174AEE9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4CA324-36D6-4A80-8852-9908ABD7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12BE95-EDB4-431E-A5F8-8D073189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39D643-778E-4A4C-8234-A08E22CE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062715-56E3-4C10-AF38-29640E49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88CD76-65E0-4AEB-A5E1-BC9887F8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7F6685-6A30-4F94-97BF-80071481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F6FEA6-841E-4B7C-ABC0-1A000911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D013-0E59-4B69-9DA3-ED8A387E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2BF6DA-0263-46A6-80D4-A311BC9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3E23FB-957A-4078-9430-6A5D68B1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5B963C-F0A8-4DA6-90DC-C9BF046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4BF4FB-7A20-4012-B92A-BCE03D4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8D7CCD-58DC-454C-A8D0-53A091FC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8DFC7F-3B1B-4F23-90DE-874AED38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8EDA57-F749-4C67-A23A-FDD81A62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CE1AA6-3098-4E39-A83D-F64983BD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59B27D-4981-4290-A819-E2AB07F9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A315DE-1CCA-41C4-8BF9-9F4F4C06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16B-BA5C-4041-B12C-B5E74CBE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72EE-69BD-47B5-8209-40868F0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A2EBF9-3CF4-464C-AFB3-1305C044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C37413-F10B-4BE9-92F0-F6F9B5D2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9A00B2-69AA-4D1C-B5C3-E959133A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084C37-1C4B-463A-9F39-466FDFA5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8D88BC-E94C-4537-A03A-7152DBA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16BC00-674C-4272-BCB5-444590B7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55C299-F70C-4AF8-B46D-3EFCCAD0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78BB1D-93E0-4491-B46C-07D88690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496093-A506-4D2F-80DF-CA24D8AC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73F789-85B6-4009-9401-9199714C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2CA8B-BBC4-49A3-8829-541A5527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069A96-F985-4284-B49B-F598F75B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DAE58F-35EC-4AD4-BC2F-161F3FD7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4A252E-E9A2-4ADF-8ADF-34A37BC3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D4D91A-482A-4FA6-89C4-D347F68A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603D82-1540-44C4-AD6D-BBFB7BA0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1F50E4-D23E-4883-9D43-A27CADD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C74627-4838-401E-A5E0-A1DE4105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16AE7A-5210-4A51-AE57-4726EE41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A83F37-F66E-4BBB-938C-AC5D7AF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BA4A6A-665E-42DA-9BA2-DB52F674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09714-924B-4A9E-BAC4-830B69F9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DE0BF9-0271-495D-B63A-C37BDF2E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86170F-E601-4410-8881-A9F60A04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E2D89E-378B-4A26-A75A-0440B86E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7CC352-A65C-4AFC-83DB-688DC64C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CE45AE-B029-42CF-AFB5-5E6A5B17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1763D0-2E31-4EDA-AB26-213C5A66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7811A5-B150-4890-8A85-FB9AD2EF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8F71AC-0ABD-490D-88B7-28DC222A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97A6C1-769E-4D65-8290-348CDD9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8E6256-48DF-41DF-A1AB-42B425F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20A5-A41C-4CE9-B9E9-03A4CA6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06E03F-A01B-4666-8C62-D2EB0921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987F49-49E5-4345-8843-B930AAAA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9AA3C2-F9DE-404F-B660-0C4F1A64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0F6687-E2CA-4987-B7BE-B28D2FFB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62CA4E-D14D-411A-994A-7A3198FB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0FFAFA-BA0E-469C-94F9-7FB7635A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F71E23-A004-47F6-A9A2-E9B9CEB4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AF9060F-24BC-4584-97A7-86F87BB8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FFE136-4312-46F4-BDA4-6AF0891E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2B7D53-E819-4D17-BA1D-C63961A1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E3BD0-3D97-4643-B1E4-3B74FDEA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0D2C24-932C-493B-8C96-891991A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8CC7B9-6470-440E-AF78-5C4B5E8F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36B3D6-25E2-4206-966A-21951691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6F7DBA-EF79-403A-9E84-A56FB7A3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04D261-AECF-47B1-93C6-9122FF27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BD16AC-88C8-4E6D-9306-6CD6E1DC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EEF3EA-3B0B-4E1F-8ED2-7EDF5A9B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ABA615-5958-4838-9FD8-4755CE4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5345FD-83BD-4099-8E05-292E7324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01A5C7-1968-4598-9CEF-E5C05766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72A0-F6EB-47E7-B6C2-646AF475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FB414D-5614-47FC-87BF-48544843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9891CA-2A77-4331-A459-C171ED71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7FE742-954E-4652-9300-480AE7E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4462BA-01D2-4008-96E0-0D396E88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497BE3-DBD6-43EF-8703-226E9589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D0D7C3-38CB-46B8-9889-32492493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0C13B0-C7C2-4B85-9BE8-FCCE7D3F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27AF4-2340-4FC0-BFB1-63DC5A28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EC06-9C60-454B-A6CE-F8C4EFE4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8567-009E-4A93-8462-B9026F67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3339-D113-45FC-89B1-10A6E450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976-92D9-4BD2-A2A7-3F40E5A0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C29DD-0E3A-4A42-9FD5-A8CFA911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9E9AA-1915-44CE-AA26-2EE388A8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3C87-3430-4CB2-AEA8-E54E3B2E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08E7A-2618-4C88-BF37-BF88AAE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1F5C4-B38F-408B-845B-913A31BE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4AF02-75B7-4DA6-A14F-F132D513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16DB-571C-4AB0-8C44-149F0A00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62334-F253-4984-BB32-0A736A9E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3EC5B-5070-4C16-826D-78ED84DF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47E95-88D2-4AEE-9529-F341A030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B63-8F07-43BF-AA9A-A8172D8E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DC52-2F61-4428-A000-035FA28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43299-306A-42E4-AAE2-6ACCAE54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E11F6-5C8D-4B34-9E5B-945657C9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EAC81-1FE9-49E4-A764-386A5035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CC2D3-5881-4820-AE11-FA1A6B5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3BF44-0017-4218-95E1-1C1824C7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2197B-406D-4FEA-A928-E6495B96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A968-BC9B-421C-AE45-8E4FC87D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85871-8F3C-49B6-8980-A82D760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8CCA9-9AF0-4A80-AEB5-3C7D9C60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4B9-EBBA-4DF0-A648-05AB491F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3B07-FE50-413C-BA46-3EB97F6B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740AC-0731-4771-92CF-1AC9BFB9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05EA7-8F21-4EF5-B445-61C1914B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1BCDB-9B44-4C56-8DBA-9CD7E4AD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9B995-A003-4476-A64C-44DF8350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803A-1331-41E4-91A3-AFCBE440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DB9D4-02EF-4670-832F-D9314AEA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D7ED-041A-4412-BACD-A41F869E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0031-C3D5-478E-9ED2-C7BE3972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70F42-B282-48AC-A9D0-D2702AC6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36E-4F22-4138-9162-82A93B0A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86A84-3660-49E6-B55A-04047DE2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3F655-3454-4715-B5E8-D369F73E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B3DBB-6397-47A7-B2E1-FDD9A7F9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BC046-9A23-48D3-8231-B7C9C0A8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6E96E-44BC-4CF0-99D8-DDA31232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EE677-9177-4E77-B848-4689884B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CAA30-30A2-486F-8285-6ECD147F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DEBCD-60F7-4E33-8559-C8A15DBC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C1A5E-3BFF-4C10-AF06-4F846BE0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2EA83-C584-4DBE-B553-85604CE2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19C-3B7D-41A2-B538-AF90F99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51903-8A20-425C-8511-11CE9C33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73EE-88D1-4618-8144-7578BBCF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CBABC-1614-48B7-8D08-C7F9CD11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5B10D-B4F1-4BBC-99EE-F0AB2A1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6844E-B28D-43F4-A350-CF22396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B0E0B-6E72-4DC1-91D5-1661909D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7167D-9954-4246-BF0E-1EDC806A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C92F1-EE97-4AF1-85C5-05CFD56A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FF840-E62A-42FE-9B1F-8A4E53D1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274DD-5E57-4672-A01C-B0F21926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79EF-29E2-4D85-A037-ED2AB686452F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AB9E-A0B5-473E-A724-D8C1DBA0120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8B8E-58D9-4A18-8D38-4E03CE1C522B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B038-70DF-44F5-A6AA-FAE79B41E1C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D9A3-5C77-4554-8C76-69EF903C98C3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1852-B88B-418C-B961-F0E34ECB64C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4425-163F-48B8-B830-25A3F0965C96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8178-4FF0-411A-8CF7-4494E19D719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A9F7-1F1E-49A9-ADFD-071EEF7EBBF8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2C5A-FAB6-4148-A85C-D0021FBA2B7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9B45-5843-40A2-8FB2-D6FDC3A617B3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BF60-2556-4833-9E1D-4E192BA3B0A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822E-AB4C-4B7F-ACAB-5D070FAD01D7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ECB2-CC9D-4509-920D-90E224F30FA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60FB-C49C-495A-AA22-8C540F30DE7F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684B-6091-4F4C-BC35-958F60E30F0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A471-2D28-4665-98B1-878077FDC3E2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08EC-AFED-4C42-B9D3-4F4FC64A69D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B940-3D6B-417E-999D-B7208C9482B0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9FE0-9346-4ADD-885F-EE60F9C9A96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9DA2-C0B8-4754-A087-3110A5B3D575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F073-3603-4709-AA26-453087B0703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B24C-01A0-4DE4-BB7B-B8FEF453C5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DA27-CA9B-4FFA-B59A-66777145B9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3C0-E7ED-4B16-9368-AD4D2623D667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29E3-C3FD-4099-A106-561DD750E05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image 103" descr=""/>
          <p:cNvPicPr/>
          <p:nvPr/>
        </p:nvPicPr>
        <p:blipFill>
          <a:blip r:embed="rId3"/>
          <a:stretch/>
        </p:blipFill>
        <p:spPr>
          <a:xfrm>
            <a:off x="585720" y="6375240"/>
            <a:ext cx="2981520" cy="1296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8390-AC82-4ED5-BFB5-C6C67DE79C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939F-1417-47AE-AB48-957DEFF087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8DB8-8BE2-4D8E-9182-F20A13C3E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4AFC-3564-45A1-AB96-B314760EB9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3626-DABC-4BCE-B0CC-6C0B38A8C8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A98-B262-44BA-ACC5-73157379D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9F96-D9E2-4DE5-B8F0-AB75C178C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5038-2E1E-47B4-9AD2-FC527C72C6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C011-E72C-430C-82FC-0963A2BFED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9B5C-9F75-4933-883E-0A5306C1F9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A8BB-BFBE-4614-8240-1E13F81A4E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3AFD-432E-49E4-935F-50288CAF50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48B6-5D52-4EBD-A8FA-FB1BC16EE3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FB82-B7D3-4CBB-94C6-35502A9353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EF6E-B6F2-4B4C-AB4C-D9BC155F51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DDE4-DF72-4F72-BD23-22B6E43616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E696-B789-4C64-AF92-697B9CA89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5E04-336A-42A2-9532-830F3F8BC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 103" descr=""/>
          <p:cNvPicPr/>
          <p:nvPr/>
        </p:nvPicPr>
        <p:blipFill>
          <a:blip r:embed="rId3"/>
          <a:stretch/>
        </p:blipFill>
        <p:spPr>
          <a:xfrm>
            <a:off x="585720" y="6375240"/>
            <a:ext cx="2981520" cy="1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B17A-AD09-48E0-A456-769DF71B8D87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02F2-2CC1-4F91-95D0-CE9F6E40603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83F8-1248-4AE4-BEB2-4E46E9BB16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EC00-0F3F-494F-9435-B3F0F51BD3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CFA7-00E4-42A9-AB25-AC61D9BE45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DD74-CB01-411C-A02F-F8C7C43274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9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26C1-C95A-4BEE-A4ED-2D1F806A07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9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9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E223-865B-4C02-81C5-DCCDF85B2E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9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E2F4-06E3-4551-8D0F-27BE9EF4FF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9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9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706-E2DA-40E5-982D-73665044E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10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1EFC-9799-4764-9B98-C314E8E76F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10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02CC-4806-409D-BC89-E15B418D96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8229-8D79-4AD6-8492-001442C399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1127-D286-4D42-8D99-C691741C1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 type="dt" idx="10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B30B-2F28-4854-B062-0D363D0A31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 type="ftr" idx="10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0220-4EBA-4D08-A697-23CF5BF6B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10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D6F2-F114-4F2D-85BD-22C210E716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11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AB7A-7767-4BDA-B092-410FC6E3CC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5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 type="dt" idx="11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F01C-C900-431C-9F63-7E521EC0B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 type="ftr" idx="11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35A5-F2BC-4F2C-B5B8-C88D18E093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B99-0253-4601-B022-0A65176C1A94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22C-B4FA-4613-B0B7-8FE36959398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0A40-F49C-4EC8-BEBB-0C8DA71CD8EC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6253-8963-47EE-8BD6-02B51670586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7F77-17BB-4FB2-A8FB-B0AE8A4F015B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DDC1-C5F6-41FF-A6BC-74EF915E6A5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2860-2BC0-497E-AC1F-977836A8EF53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0902-640F-4904-BCD9-5E4BE3DA805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353C-34A9-4849-A591-9FDDCEBF9A90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12CC-16EA-403A-B47E-057F9451734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002060"/>
          </a:solidFill>
          <a:ln w="1260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716C-1D5B-4BF0-9D8F-07E0DB007FE8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7596-142D-4104-9EAE-DF4AA6DD6B8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0360" y="2376360"/>
            <a:ext cx="896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微软雅黑"/>
              </a:rPr>
              <a:t>中小学（幼儿园）教师专业技术资格 评审申报表网络生成流程（</a:t>
            </a:r>
            <a:r>
              <a:rPr b="1" lang="en-US" sz="3600" spc="-1" strike="noStrike">
                <a:solidFill>
                  <a:srgbClr val="002060"/>
                </a:solidFill>
                <a:latin typeface="微软雅黑"/>
              </a:rPr>
              <a:t>V4.0</a:t>
            </a:r>
            <a:r>
              <a:rPr b="1" lang="zh-CN" sz="3600" spc="-1" strike="noStrike">
                <a:solidFill>
                  <a:srgbClr val="002060"/>
                </a:solidFill>
                <a:latin typeface="微软雅黑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加学术团体信息、社会兼职情况及奖惩情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08260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"/>
          <p:cNvSpPr/>
          <p:nvPr/>
        </p:nvSpPr>
        <p:spPr>
          <a:xfrm>
            <a:off x="654120" y="1801800"/>
            <a:ext cx="82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参加学术团体信息、社会兼职情况及奖惩情况三项目无需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工作经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文本框 5"/>
          <p:cNvSpPr/>
          <p:nvPr/>
        </p:nvSpPr>
        <p:spPr>
          <a:xfrm>
            <a:off x="779400" y="3927600"/>
            <a:ext cx="73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作经历如实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图片 1" descr=""/>
          <p:cNvPicPr/>
          <p:nvPr/>
        </p:nvPicPr>
        <p:blipFill>
          <a:blip r:embed="rId1"/>
          <a:stretch/>
        </p:blipFill>
        <p:spPr>
          <a:xfrm>
            <a:off x="372960" y="1278000"/>
            <a:ext cx="81741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继续教育情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文本框 5"/>
          <p:cNvSpPr/>
          <p:nvPr/>
        </p:nvSpPr>
        <p:spPr>
          <a:xfrm>
            <a:off x="923760" y="3551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继续教育仅需上传：任现职以来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公共科目合格证汇总表（常州市人社局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具体张数以继续教育证书查询网站计算结果为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继续教育证书查询网站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s://www.czpx.cn/info.do?op=learn_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余继续教育材料无需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1" descr=""/>
          <p:cNvPicPr/>
          <p:nvPr/>
        </p:nvPicPr>
        <p:blipFill>
          <a:blip r:embed="rId1"/>
          <a:stretch/>
        </p:blipFill>
        <p:spPr>
          <a:xfrm>
            <a:off x="615960" y="885960"/>
            <a:ext cx="7912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现职以来完成教学工作情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274680" y="5457600"/>
            <a:ext cx="8367840" cy="882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填写课时工作量情况，需上传佐证材料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课堂教学满意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度教学质量考核结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无需填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1" name="图片 4" descr=""/>
          <p:cNvPicPr/>
          <p:nvPr/>
        </p:nvPicPr>
        <p:blipFill>
          <a:blip r:embed="rId1"/>
          <a:stretch/>
        </p:blipFill>
        <p:spPr>
          <a:xfrm>
            <a:off x="439560" y="1031760"/>
            <a:ext cx="78613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现职以来教学主要业绩成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274680" y="5457600"/>
            <a:ext cx="8367840" cy="882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填写公开课、评优课信息，需上传佐证材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4" name="图片 2" descr=""/>
          <p:cNvPicPr/>
          <p:nvPr/>
        </p:nvPicPr>
        <p:blipFill>
          <a:blip r:embed="rId1"/>
          <a:stretch/>
        </p:blipFill>
        <p:spPr>
          <a:xfrm>
            <a:off x="625320" y="1181160"/>
            <a:ext cx="7893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现职以来承担班主任及其他教育管理工作情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274680" y="5457600"/>
            <a:ext cx="8367840" cy="882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填写班主任及其他教育管理工作情况，需上传佐证材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图片 2" descr=""/>
          <p:cNvPicPr/>
          <p:nvPr/>
        </p:nvPicPr>
        <p:blipFill>
          <a:blip r:embed="rId1"/>
          <a:stretch/>
        </p:blipFill>
        <p:spPr>
          <a:xfrm>
            <a:off x="257040" y="1517760"/>
            <a:ext cx="83854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现职以来组织课外活动和综合实践活动情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74680" y="5457600"/>
            <a:ext cx="8367840" cy="882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填写组织课外活动和综合实践活动情况，需上传佐证材料，如没有此项经历，无需填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" descr=""/>
          <p:cNvPicPr/>
          <p:nvPr/>
        </p:nvPicPr>
        <p:blipFill>
          <a:blip r:embed="rId1"/>
          <a:stretch/>
        </p:blipFill>
        <p:spPr>
          <a:xfrm>
            <a:off x="411120" y="1208160"/>
            <a:ext cx="8094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现职以来指导青年教师情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274680" y="5457600"/>
            <a:ext cx="8367840" cy="882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填写指导青年教师情况，仅需申报高级老师填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3" name="图片 2" descr=""/>
          <p:cNvPicPr/>
          <p:nvPr/>
        </p:nvPicPr>
        <p:blipFill>
          <a:blip r:embed="rId1"/>
          <a:stretch/>
        </p:blipFill>
        <p:spPr>
          <a:xfrm>
            <a:off x="411120" y="1208160"/>
            <a:ext cx="8094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术成果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5" name="图片 4" descr=""/>
          <p:cNvPicPr/>
          <p:nvPr/>
        </p:nvPicPr>
        <p:blipFill>
          <a:blip r:embed="rId1"/>
          <a:stretch/>
        </p:blipFill>
        <p:spPr>
          <a:xfrm>
            <a:off x="433440" y="1046160"/>
            <a:ext cx="8575560" cy="2562120"/>
          </a:xfrm>
          <a:prstGeom prst="rect">
            <a:avLst/>
          </a:prstGeom>
          <a:ln w="0">
            <a:noFill/>
          </a:ln>
        </p:spPr>
      </p:pic>
      <p:sp>
        <p:nvSpPr>
          <p:cNvPr id="1666" name="文本框 5"/>
          <p:cNvSpPr/>
          <p:nvPr/>
        </p:nvSpPr>
        <p:spPr>
          <a:xfrm>
            <a:off x="746280" y="4056120"/>
            <a:ext cx="78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术成果信息上传任现职以来发表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论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息，填写基本信息并完成佐证材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工作总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9" name="内容占位符 4" descr=""/>
          <p:cNvPicPr/>
          <p:nvPr/>
        </p:nvPicPr>
        <p:blipFill>
          <a:blip r:embed="rId1"/>
          <a:stretch/>
        </p:blipFill>
        <p:spPr>
          <a:xfrm>
            <a:off x="628560" y="1214280"/>
            <a:ext cx="8218440" cy="3044880"/>
          </a:xfrm>
          <a:prstGeom prst="rect">
            <a:avLst/>
          </a:prstGeom>
          <a:ln w="0">
            <a:noFill/>
          </a:ln>
        </p:spPr>
      </p:pic>
      <p:sp>
        <p:nvSpPr>
          <p:cNvPr id="1670" name="文本框 5"/>
          <p:cNvSpPr/>
          <p:nvPr/>
        </p:nvSpPr>
        <p:spPr>
          <a:xfrm>
            <a:off x="596880" y="432108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填写任现职以来个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教育教学方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作总结，注意字数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登录与注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8269560" cy="4527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系统网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s://rs.jshrss.jiangsu.gov.cn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使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浏览器极速模式或谷歌浏览器登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3" name="图片 4" descr=""/>
          <p:cNvPicPr/>
          <p:nvPr/>
        </p:nvPicPr>
        <p:blipFill>
          <a:blip r:embed="rId1"/>
          <a:stretch/>
        </p:blipFill>
        <p:spPr>
          <a:xfrm>
            <a:off x="1106640" y="2281320"/>
            <a:ext cx="3027240" cy="3608280"/>
          </a:xfrm>
          <a:prstGeom prst="rect">
            <a:avLst/>
          </a:prstGeom>
          <a:ln w="0">
            <a:noFill/>
          </a:ln>
        </p:spPr>
      </p:pic>
      <p:pic>
        <p:nvPicPr>
          <p:cNvPr id="1614" name="图片 7" descr=""/>
          <p:cNvPicPr/>
          <p:nvPr/>
        </p:nvPicPr>
        <p:blipFill>
          <a:blip r:embed="rId2"/>
          <a:stretch/>
        </p:blipFill>
        <p:spPr>
          <a:xfrm>
            <a:off x="5253120" y="2297160"/>
            <a:ext cx="324648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考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文本框 1"/>
          <p:cNvSpPr/>
          <p:nvPr/>
        </p:nvSpPr>
        <p:spPr>
          <a:xfrm>
            <a:off x="1000080" y="3825720"/>
            <a:ext cx="71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传任现职以来年度考核信息并上传佐证材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任现职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的，填写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年度考核信息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图片 1" descr=""/>
          <p:cNvPicPr/>
          <p:nvPr/>
        </p:nvPicPr>
        <p:blipFill>
          <a:blip r:embed="rId1"/>
          <a:stretch/>
        </p:blipFill>
        <p:spPr>
          <a:xfrm>
            <a:off x="747720" y="1790640"/>
            <a:ext cx="7713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校综合考核意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239760" y="4975200"/>
            <a:ext cx="8324640" cy="161280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填写学校综合考核意见（不超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），无需上传附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6" name="图片 4" descr=""/>
          <p:cNvPicPr/>
          <p:nvPr/>
        </p:nvPicPr>
        <p:blipFill>
          <a:blip r:embed="rId1"/>
          <a:stretch/>
        </p:blipFill>
        <p:spPr>
          <a:xfrm>
            <a:off x="584280" y="1006560"/>
            <a:ext cx="79801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校（单位）推荐意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664920" y="5366880"/>
            <a:ext cx="7977240" cy="97308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填写教师测评、学生测评和学校推荐小组测评意见。学校推荐意见处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意推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无需上传附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9" name="图片 4" descr=""/>
          <p:cNvPicPr/>
          <p:nvPr/>
        </p:nvPicPr>
        <p:blipFill>
          <a:blip r:embed="rId1"/>
          <a:stretch/>
        </p:blipFill>
        <p:spPr>
          <a:xfrm>
            <a:off x="184320" y="1012680"/>
            <a:ext cx="85453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社保缴费证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41360" y="3917520"/>
            <a:ext cx="8058240" cy="141444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江苏省内参保的无需上传附件，点击自动获取，系统自动生成社保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2" name="图片 1" descr=""/>
          <p:cNvPicPr/>
          <p:nvPr/>
        </p:nvPicPr>
        <p:blipFill>
          <a:blip r:embed="rId1"/>
          <a:stretch/>
        </p:blipFill>
        <p:spPr>
          <a:xfrm>
            <a:off x="131760" y="981000"/>
            <a:ext cx="817704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位公示及结果报告证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5" name="内容占位符 4" descr=""/>
          <p:cNvPicPr/>
          <p:nvPr/>
        </p:nvPicPr>
        <p:blipFill>
          <a:blip r:embed="rId1"/>
          <a:stretch/>
        </p:blipFill>
        <p:spPr>
          <a:xfrm>
            <a:off x="368280" y="1413000"/>
            <a:ext cx="8406000" cy="1825560"/>
          </a:xfrm>
          <a:prstGeom prst="rect">
            <a:avLst/>
          </a:prstGeom>
          <a:ln w="0">
            <a:noFill/>
          </a:ln>
        </p:spPr>
      </p:pic>
      <p:sp>
        <p:nvSpPr>
          <p:cNvPr id="1686" name="文本框 5"/>
          <p:cNvSpPr/>
          <p:nvPr/>
        </p:nvSpPr>
        <p:spPr>
          <a:xfrm>
            <a:off x="577800" y="350208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将以上两项模板下载，由单位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填写相关内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签字盖章后（所有页均需盖章）进行材料上传。单位同意申报证明的落款时间必须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晚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示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破格申报材料及其他材料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8464680" cy="435132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宋体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破格申报材料及其他材料项目无需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9" name="图片 4" descr=""/>
          <p:cNvPicPr/>
          <p:nvPr/>
        </p:nvPicPr>
        <p:blipFill>
          <a:blip r:embed="rId1"/>
          <a:stretch/>
        </p:blipFill>
        <p:spPr>
          <a:xfrm>
            <a:off x="1409760" y="4254480"/>
            <a:ext cx="6324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申报表预览及提交重要提醒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57000" y="952560"/>
            <a:ext cx="7985160" cy="5387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以上所有信息填写完成，申报人核实无误后，</a:t>
            </a: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务必点击</a:t>
            </a:r>
            <a:r>
              <a:rPr b="0" lang="en-US" sz="12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申报表预览</a:t>
            </a:r>
            <a:r>
              <a:rPr b="0" lang="en-US" sz="12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进行核对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个人仔细核实无误后，请</a:t>
            </a: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单位负责职评人员进行审核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（审核人员可用申报人账号登录系统查看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单位负责职评人员无误后，申报人方可点击</a:t>
            </a:r>
            <a:r>
              <a:rPr b="0" lang="en-US" sz="12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提交</a:t>
            </a:r>
            <a:r>
              <a:rPr b="0" lang="en-US" sz="12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进入教育行政部门审核环节，此时方可进行申报表下载及打印操作。提交后申报人无法退回修改，请申报人务必</a:t>
            </a: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慎重点击</a:t>
            </a:r>
            <a:r>
              <a:rPr b="0" lang="en-US" sz="12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提交</a:t>
            </a:r>
            <a:r>
              <a:rPr b="0" lang="en-US" sz="12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按钮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如确需进行修改，请联系所属辖市区教育行政部门退回需要修改的</a:t>
            </a:r>
            <a:r>
              <a:rPr b="0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具体模块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关说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文本框 7"/>
          <p:cNvSpPr/>
          <p:nvPr/>
        </p:nvSpPr>
        <p:spPr>
          <a:xfrm>
            <a:off x="563400" y="1349280"/>
            <a:ext cx="84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以上填写内容及佐证附件仅用作生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中小学（幼儿园）教师专业技术资格评审申报表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后续打印职称证书使用，不用做具体评审。具体评审仍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州市教育局职称评审系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上传材料为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以上所有项目信息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提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，个人无法撤回修改，如需修改，请根据隶属关系联系各辖市区教育行政部门（直属学校联系市教育局）职称负责人员进行退回后方可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申报入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15920" y="1722240"/>
            <a:ext cx="3425760" cy="435132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册成功后，即可登录，然后在主页面点“个人办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才人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专业技术人员管理服务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职称评审申报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申报”，进入申报界面，然后按个人实际情况进行网上申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7" name="图片 1" descr=""/>
          <p:cNvPicPr/>
          <p:nvPr/>
        </p:nvPicPr>
        <p:blipFill>
          <a:blip r:embed="rId1"/>
          <a:stretch/>
        </p:blipFill>
        <p:spPr>
          <a:xfrm>
            <a:off x="3673440" y="1395360"/>
            <a:ext cx="5202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基本信息填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501480" y="944640"/>
            <a:ext cx="8141040" cy="5387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文本框 5"/>
          <p:cNvSpPr/>
          <p:nvPr/>
        </p:nvSpPr>
        <p:spPr>
          <a:xfrm>
            <a:off x="446040" y="5467320"/>
            <a:ext cx="82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是否委托评审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所属行政区划选择，市教育局直属学校选市本级，区属学校选择到辖市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其余项目如实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1" name="图片 2" descr=""/>
          <p:cNvPicPr/>
          <p:nvPr/>
        </p:nvPicPr>
        <p:blipFill>
          <a:blip r:embed="rId1"/>
          <a:stretch/>
        </p:blipFill>
        <p:spPr>
          <a:xfrm>
            <a:off x="501480" y="782640"/>
            <a:ext cx="813924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基本信息填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356760" y="4768560"/>
            <a:ext cx="8285400" cy="157140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键信息按以上要求填写，其余项目如实填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工作单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栏务必选择到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实际工作单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务必填写正确，以免影响聘岗。如某非在编老师参保单位（一般为系统自动获取）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力资源中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则工作单位应填写现工作学校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而不应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力资源中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4" name="图片占位符 4" descr=""/>
          <p:cNvPicPr/>
          <p:nvPr/>
        </p:nvPicPr>
        <p:blipFill>
          <a:blip r:embed="rId1"/>
          <a:stretch/>
        </p:blipFill>
        <p:spPr>
          <a:xfrm>
            <a:off x="169920" y="777960"/>
            <a:ext cx="8334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01120" y="10908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申报基本信息填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6" name="图片 4" descr=""/>
          <p:cNvPicPr/>
          <p:nvPr/>
        </p:nvPicPr>
        <p:blipFill>
          <a:blip r:embed="rId1"/>
          <a:stretch/>
        </p:blipFill>
        <p:spPr>
          <a:xfrm>
            <a:off x="162000" y="468360"/>
            <a:ext cx="8820000" cy="3101760"/>
          </a:xfrm>
          <a:prstGeom prst="rect">
            <a:avLst/>
          </a:prstGeom>
          <a:ln w="0">
            <a:noFill/>
          </a:ln>
        </p:spPr>
      </p:pic>
      <p:sp>
        <p:nvSpPr>
          <p:cNvPr id="1627" name="文本框 1"/>
          <p:cNvSpPr/>
          <p:nvPr/>
        </p:nvSpPr>
        <p:spPr>
          <a:xfrm>
            <a:off x="501480" y="3467160"/>
            <a:ext cx="7140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关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申报类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：如乡村教师按照乡村教师类别申报，申报类型选择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正常申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”，是否乡村教师选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如乡村教师按照普通教师类别申报，申报类型选择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正常申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”。是否乡村教师选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非乡村教师申报类别一律选择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正常申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”。是否乡村教师选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关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申报评委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常州大市副高级申报人员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江苏省常州市中小学教师高级专业技术资格（副高）评审委员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常州市教育局直属单位中级申报人员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常州市中小学（幼儿园）教师中级专业技术资格评审委员会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其他辖市区学校中级申报人员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择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相应的辖市区中级专业技术资格评审委员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参评人申报类型和申报评委会请务必正确选择，否则会影响后续评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02920" y="442440"/>
            <a:ext cx="81392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申报基本信息填写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79640" y="952200"/>
            <a:ext cx="396252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人基本信息和申报基本信息填写无误后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按钮进入下一项信息填写。注意此时务必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不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确认提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后面所有项目填写完毕，申报表预览无误后，方可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确认提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一旦点击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确认提交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，则申报人无法对填报内容进行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后，申报人数如退出登录。在重新登录后，进入首页点击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待提交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，然后点击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修改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按钮即可以继续完善申报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图片占位符 6" descr=""/>
          <p:cNvPicPr/>
          <p:nvPr/>
        </p:nvPicPr>
        <p:blipFill>
          <a:blip r:embed="rId1"/>
          <a:stretch/>
        </p:blipFill>
        <p:spPr>
          <a:xfrm>
            <a:off x="660240" y="1309680"/>
            <a:ext cx="3353040" cy="1019160"/>
          </a:xfrm>
          <a:prstGeom prst="rect">
            <a:avLst/>
          </a:prstGeom>
          <a:ln w="0">
            <a:noFill/>
          </a:ln>
        </p:spPr>
      </p:pic>
      <p:pic>
        <p:nvPicPr>
          <p:cNvPr id="1631" name="图片 1" descr=""/>
          <p:cNvPicPr/>
          <p:nvPr/>
        </p:nvPicPr>
        <p:blipFill>
          <a:blip r:embed="rId2"/>
          <a:stretch/>
        </p:blipFill>
        <p:spPr>
          <a:xfrm>
            <a:off x="1055520" y="3413160"/>
            <a:ext cx="3029040" cy="1431720"/>
          </a:xfrm>
          <a:prstGeom prst="rect">
            <a:avLst/>
          </a:prstGeom>
          <a:ln w="0">
            <a:noFill/>
          </a:ln>
        </p:spPr>
      </p:pic>
      <p:pic>
        <p:nvPicPr>
          <p:cNvPr id="1632" name="图片 2" descr=""/>
          <p:cNvPicPr/>
          <p:nvPr/>
        </p:nvPicPr>
        <p:blipFill>
          <a:blip r:embed="rId3"/>
          <a:stretch/>
        </p:blipFill>
        <p:spPr>
          <a:xfrm>
            <a:off x="1055520" y="4776840"/>
            <a:ext cx="3002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历学位信息填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9"/>
          <p:cNvSpPr/>
          <p:nvPr/>
        </p:nvSpPr>
        <p:spPr>
          <a:xfrm>
            <a:off x="584280" y="4483080"/>
            <a:ext cx="83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步骤只需填写大学及以上学历学位信息即可，高中经历无需填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填写完成后，点击暂存进入下一项目填写（每一项目均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图片 1" descr=""/>
          <p:cNvPicPr/>
          <p:nvPr/>
        </p:nvPicPr>
        <p:blipFill>
          <a:blip r:embed="rId1"/>
          <a:stretch/>
        </p:blipFill>
        <p:spPr>
          <a:xfrm>
            <a:off x="927000" y="1035000"/>
            <a:ext cx="70995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专业技术资格（职业资格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内容占位符 4" descr=""/>
          <p:cNvPicPr/>
          <p:nvPr/>
        </p:nvPicPr>
        <p:blipFill>
          <a:blip r:embed="rId1"/>
          <a:stretch/>
        </p:blipFill>
        <p:spPr>
          <a:xfrm>
            <a:off x="14400" y="1662120"/>
            <a:ext cx="9115200" cy="379872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1"/>
          <p:cNvSpPr/>
          <p:nvPr/>
        </p:nvSpPr>
        <p:spPr>
          <a:xfrm>
            <a:off x="1036800" y="5602320"/>
            <a:ext cx="74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填写基本信息后，还需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证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01:27Z</dcterms:created>
  <dc:creator/>
  <dc:description/>
  <dc:language>en-US</dc:language>
  <cp:lastModifiedBy>admin</cp:lastModifiedBy>
  <dcterms:modified xsi:type="dcterms:W3CDTF">2024-09-30T02:58:38Z</dcterms:modified>
  <cp:revision>196</cp:revision>
  <dc:subject/>
  <dc:title>职称评审系统使用（申报者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F3C339488514D6F8F27FFD8FB01A04B</vt:lpwstr>
  </property>
  <property fmtid="{D5CDD505-2E9C-101B-9397-08002B2CF9AE}" pid="3" name="KSOProductBuildVer">
    <vt:lpwstr>2052-11.3.0.8513</vt:lpwstr>
  </property>
</Properties>
</file>