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D35-3FCD-4131-8152-1256107C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928-0D24-44CF-96C5-B9FD1A94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444-CFA2-43AC-9DDC-2EDE4E2A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CA3-C786-4701-82F7-238B40E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AC9-3F4A-4689-A103-DD7CA10E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CB4-1EE1-43D5-A293-59EF954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131-13D9-46EC-88D9-91788783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232-8BB5-4ABD-9254-3177452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9C1-FA1D-4831-AE5E-63277648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0E5-035F-4D4D-A115-C78E9D7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DB6-0974-40D8-BFD8-B2ADEC4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3CA-C3E2-461E-9B4D-4F18B05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3A13-E391-4F1F-AE0C-4E79417B16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628640"/>
            <a:ext cx="2159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2349360"/>
            <a:ext cx="496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争当文明小乘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5157720"/>
            <a:ext cx="208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7520" y="5300640"/>
            <a:ext cx="61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Arial"/>
                <a:ea typeface="楷体_GB2312"/>
              </a:rPr>
              <a:t>霞浦县第三小学一（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  <a:ea typeface="楷体_GB2312"/>
              </a:rPr>
              <a:t>）班    钟  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487600" cy="403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1413000"/>
            <a:ext cx="518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警察叔叔对我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不带易燃、易爆等危险物品乘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不搭乘超载车及非法营运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95640" y="260280"/>
            <a:ext cx="46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跟我读儿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2421000"/>
            <a:ext cx="655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公民，守公德。文明乘坐公交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上车时，排好队，见了老幼要让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果皮儿，不乱扔。车上扶手紧紧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下车时，不拥挤。先让病残和老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是文明小乘客，请你跟我学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9080" y="112536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每个同学，都能够自觉遵守乘车要求，做个文明小乘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48000" y="2997360"/>
            <a:ext cx="396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26028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故事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77336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星期一早晨，安安吃过早餐，背起书包准备去上学。妈妈一边洗碗，一边叮嘱安安：“路上小心点儿，坐车小心点儿”安安一边回答“知道了”，一边背着书包往外走，安安很快来到离家不远的公交站台。今天等车的人可真多呀！整个站台上都站满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26028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故事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773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车来啦！车来啦！”大家迫不及待地往行车道挤，都想第一个上车，抢个好座位。车辆缓缓地向站台驶来，又向前滑行了几米，还有几个人跟着车奔跑呢。车停稳了，“嘎”的一声，车门打开，人们争先恐后地往上挤，互不相让，把车门堵得死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24000" y="26028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故事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177336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安安个儿小，被人群挤来挤去，一直上不了车。“啪”，安安的书包掉到了地上，原来书包的背带被挤断了。“我的书包，我的书包。”安安俯身去捡书包，“哎呦，我的手，我的手……”不知是谁一脚踩在安安的手背上，安安痛得哇哇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6028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故事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1995480"/>
            <a:ext cx="69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当安安抱着书包上了车，车上已经没有空座位了，只好拉着扶手，忍着疼痛去上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安安想：要是大家都文明乘车，那该多好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916360" y="260280"/>
            <a:ext cx="3217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安全宝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8428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定点候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乘坐公交车时，必须在公交车站点候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乘坐出租车时，必须在人行道或路边招手，千万不要在车行道上招呼出租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3600360" cy="249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3384720" cy="253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16360" y="260280"/>
            <a:ext cx="3217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安全宝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484280"/>
            <a:ext cx="403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有序上下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坚持先下后上的原则，按先后顺序上车，不要慌忙，不要拥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上车时要注意旁边来往车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定要在车停稳后，有序下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车后，应立即走上人行道，不能在车前或车尾急穿马路，以防被其他车辆撞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19640" y="377028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24000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16360" y="260280"/>
            <a:ext cx="3217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安全宝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文明乘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乘车时应自觉买票或刷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进入车内拉好扶手，坐好座位；不要在车内随意走动、嬉戏或叫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能根据自己的实际情况，给老人、病人、残疾人、孕妇或怀抱婴儿的乘客让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在车上吃零食，不在车内乱扔杂物，注意保持车内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向车外抛投物品或吐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916360" y="260280"/>
            <a:ext cx="3217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安全宝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48428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将头、手等身体任何部位伸出窗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乘坐小轿车、微型客车时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以下的儿童应当坐在后座椅，并系好安全带。不要坐在副驾驶位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3782880" cy="2782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1T03:11:21Z</dcterms:created>
  <dc:creator>微软用户</dc:creator>
  <dc:description/>
  <dc:language>en-US</dc:language>
  <cp:lastModifiedBy>微软用户</cp:lastModifiedBy>
  <dcterms:modified xsi:type="dcterms:W3CDTF">2014-01-01T14:58:36Z</dcterms:modified>
  <cp:revision>6</cp:revision>
  <dc:subject/>
  <dc:title>幻灯片 1</dc:title>
</cp:coreProperties>
</file>