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659-D70A-4794-A5F0-A76A283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157-93AA-48F3-A3F0-0ADEF74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6E-158F-4894-AC61-7CA8198F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D28-9D88-4BDC-84C4-BDD2803A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4CDC-7951-424F-A508-A0B27127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352E-9FF1-45BF-83C1-967CEA5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061-6E5E-4A69-8893-D3B7A51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743-6840-4C73-A0B0-CB2879C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10E-7DB7-4697-BB62-CD695EB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A3E2-828F-4C6D-9545-50342B4B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F931-33C0-461A-8E7B-9770CEA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842-1AD9-4F41-85CC-C17916A9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37B-27A9-4908-AEAA-9B679859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9710-873D-40C2-A7FB-135DDC9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203-A59F-4DC0-9160-EE5DE381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9622-F8CE-4C72-ADEF-5D5E777F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52E5-C016-4C22-B37C-0BC86FB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7B4A-B1EF-4618-B956-5A2B2611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93FC-668F-412C-B96B-8A0876A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8B8F-2D05-44A1-96E4-1939353B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36CD-72E1-4726-B6AF-E68CE08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3B31-4868-4CAB-9613-4756C3B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2C7-393E-4866-A9F6-F13A1CD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76FD-7CD6-4905-B96E-E65EDF70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6BEC-4944-4B97-A9E9-A95528D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A76D-3BCA-4319-A947-1D6658AB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D3E8-7844-41BD-8EEB-7995E8B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51C1-D22D-41D4-8F25-0E4BD7C0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7D08-BF5E-4653-B7D3-6F796182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7391-6ACA-4AA1-AAE1-529AEF70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9E07-1F65-4E89-8239-F485B718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1944-C556-4084-8AA4-0380CD5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104C-8B64-4330-B1C3-0582460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79D-1948-4D26-B4D2-D0BD5EC2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A0DD-B2F4-4A20-BC18-75BB560C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CC40-1599-4E7E-B06F-11DFA1B6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C1AB-879B-4230-A006-3912510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6D3C-8944-4598-8206-87A33BC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4B12-3A4A-4E82-9053-2ABDCD6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30E3-142E-452D-8360-474D731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940A-FA15-46BC-84DF-4576CE0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3FE4-9FDE-46AF-A38E-438E3B05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0FDB-B74D-4686-A794-F998683E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380-2E7E-4656-A204-4F97559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21C-ECB7-4369-BD17-9F6B08D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1FC-3C82-4E93-AF42-65684CF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E4C-7663-4E9D-B6D0-23349FA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6CB-F387-499A-9C7F-E1CC7356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494D-9807-4F1B-AD9C-CC1D30B406BE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B3F-9F92-4FB0-B7BD-5E0F40C15965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FC2-384B-4371-8DE6-7DFCB7F5DCC3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5D0-8F25-4E1F-84DA-82ACB09EC232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图片 3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矩形 4" descr=""/>
          <p:cNvPicPr/>
          <p:nvPr/>
        </p:nvPicPr>
        <p:blipFill>
          <a:blip r:embed="rId2"/>
          <a:stretch/>
        </p:blipFill>
        <p:spPr>
          <a:xfrm>
            <a:off x="463680" y="1725480"/>
            <a:ext cx="7785000" cy="17128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3851280" y="5229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小一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" descr="a262433agdaec492d587d&amp;690.jpg"/>
          <p:cNvPicPr/>
          <p:nvPr/>
        </p:nvPicPr>
        <p:blipFill>
          <a:blip r:embed="rId2"/>
          <a:stretch/>
        </p:blipFill>
        <p:spPr>
          <a:xfrm>
            <a:off x="0" y="0"/>
            <a:ext cx="7748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" descr="201332285545495.jpg"/>
          <p:cNvPicPr/>
          <p:nvPr/>
        </p:nvPicPr>
        <p:blipFill>
          <a:blip r:embed="rId2"/>
          <a:stretch/>
        </p:blipFill>
        <p:spPr>
          <a:xfrm>
            <a:off x="0" y="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a262433agdaec3109509e&amp;690.jpg"/>
          <p:cNvPicPr/>
          <p:nvPr/>
        </p:nvPicPr>
        <p:blipFill>
          <a:blip r:embed="rId2"/>
          <a:stretch/>
        </p:blipFill>
        <p:spPr>
          <a:xfrm>
            <a:off x="190440" y="146160"/>
            <a:ext cx="876312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4" descr="QQ图片20151116215716.jp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1908000" y="836640"/>
            <a:ext cx="64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森林公交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7" descr="2015013010425457943.jpg"/>
          <p:cNvPicPr/>
          <p:nvPr/>
        </p:nvPicPr>
        <p:blipFill>
          <a:blip r:embed="rId2"/>
          <a:stretch/>
        </p:blipFill>
        <p:spPr>
          <a:xfrm>
            <a:off x="684360" y="404640"/>
            <a:ext cx="81738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9" descr="620x0_1_q87_20150624091002399.jpg"/>
          <p:cNvPicPr/>
          <p:nvPr/>
        </p:nvPicPr>
        <p:blipFill>
          <a:blip r:embed="rId2"/>
          <a:stretch/>
        </p:blipFill>
        <p:spPr>
          <a:xfrm>
            <a:off x="250920" y="174600"/>
            <a:ext cx="85690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5" descr="bbc57676f4230c072370fb7fb1ce9adb.jpg"/>
          <p:cNvPicPr/>
          <p:nvPr/>
        </p:nvPicPr>
        <p:blipFill>
          <a:blip r:embed="rId2"/>
          <a:stretch/>
        </p:blipFill>
        <p:spPr>
          <a:xfrm>
            <a:off x="0" y="476280"/>
            <a:ext cx="8902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4" descr="201006010850267368.jpg"/>
          <p:cNvPicPr/>
          <p:nvPr/>
        </p:nvPicPr>
        <p:blipFill>
          <a:blip r:embed="rId2"/>
          <a:stretch/>
        </p:blipFill>
        <p:spPr>
          <a:xfrm>
            <a:off x="539640" y="404640"/>
            <a:ext cx="85359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4" descr="2009316132321295.jpg"/>
          <p:cNvPicPr/>
          <p:nvPr/>
        </p:nvPicPr>
        <p:blipFill>
          <a:blip r:embed="rId2"/>
          <a:stretch/>
        </p:blipFill>
        <p:spPr>
          <a:xfrm>
            <a:off x="0" y="0"/>
            <a:ext cx="7236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201332285622171.jpg"/>
          <p:cNvPicPr/>
          <p:nvPr/>
        </p:nvPicPr>
        <p:blipFill>
          <a:blip r:embed="rId2"/>
          <a:stretch/>
        </p:blipFill>
        <p:spPr>
          <a:xfrm>
            <a:off x="0" y="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4" descr="201332285610299.jpg"/>
          <p:cNvPicPr/>
          <p:nvPr/>
        </p:nvPicPr>
        <p:blipFill>
          <a:blip r:embed="rId2"/>
          <a:stretch/>
        </p:blipFill>
        <p:spPr>
          <a:xfrm>
            <a:off x="0" y="0"/>
            <a:ext cx="7548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图片 6" descr="20104622314752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4" descr="201332285559139.jpg"/>
          <p:cNvPicPr/>
          <p:nvPr/>
        </p:nvPicPr>
        <p:blipFill>
          <a:blip r:embed="rId2"/>
          <a:stretch/>
        </p:blipFill>
        <p:spPr>
          <a:xfrm>
            <a:off x="0" y="0"/>
            <a:ext cx="7548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8:14:40Z</dcterms:created>
  <dc:creator>小一班</dc:creator>
  <dc:description/>
  <dc:language>en-US</dc:language>
  <cp:lastModifiedBy>Administrator</cp:lastModifiedBy>
  <dcterms:modified xsi:type="dcterms:W3CDTF">2015-11-16T13:58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