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4.png" ContentType="image/png"/>
  <Override PartName="/ppt/media/image3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C18-53F2-435D-8A26-FC743F20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1C9-364A-4F59-92E6-780973AE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721-1D15-4436-811D-25E8B192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91E-02DC-4B06-9BEB-3C5C8AE5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248E-B07E-4F33-99FF-31A9A783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CD2E-97CE-44A4-B66F-70FA5C3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6043-54F3-46B6-A699-7942A88F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1D5A-2F77-40B9-9ACB-165FBB6E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9D1A-8EA6-48F1-8BDD-70D64533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A34B-1A3E-4C33-8832-113700ED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DEDD-CD35-4921-9AE1-C4C27739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50B-1755-4C50-9162-4BDA869B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D7FC-E7D8-4566-836D-8A0C92A5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9CA8-B40E-4578-9308-5AEA04D0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356C-41CE-456B-BC68-AD7955F2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4A20-3336-42A5-9D9B-0EF3A5F1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FF55-4521-43A1-9DFD-8AA63768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AB0-BFDC-4BCF-8433-E3052831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523-3A38-45D9-9CBC-01C34BDD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9F2-342F-4B16-A500-C1B3C942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8DD-C271-4BA3-A39C-474E39A6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92E-545D-44C0-A347-D0EC83FF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4AB-749F-4D77-8BB9-46D0B3AF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A77-49FE-47E2-9F67-B50966C2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960"/>
            <a:ext cx="2966400" cy="3296880"/>
            <a:chOff x="6273360" y="-21960"/>
            <a:chExt cx="2966400" cy="329688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960"/>
              <a:ext cx="2966400" cy="3296880"/>
              <a:chOff x="6273360" y="-21960"/>
              <a:chExt cx="2966400" cy="32968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320" y="843120"/>
                  <a:ext cx="1064520" cy="1141200"/>
                  <a:chOff x="7834320" y="843120"/>
                  <a:chExt cx="1064520" cy="114120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160" y="1133640"/>
                    <a:ext cx="8863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3840" y="1600560"/>
                    <a:ext cx="4755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120"/>
                  <a:ext cx="1065240" cy="1140480"/>
                  <a:chOff x="6537960" y="906120"/>
                  <a:chExt cx="1065240" cy="114048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640"/>
                    <a:ext cx="8866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6680" y="1663560"/>
                    <a:ext cx="4755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480"/>
                  <a:ext cx="608040" cy="785520"/>
                  <a:chOff x="7111800" y="15480"/>
                  <a:chExt cx="608040" cy="78552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38520" y="476280"/>
                    <a:ext cx="5662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600" y="103320"/>
                    <a:ext cx="30420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960"/>
                  <a:ext cx="466560" cy="810360"/>
                  <a:chOff x="7287840" y="-21960"/>
                  <a:chExt cx="466560" cy="8103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1040" y="458280"/>
                    <a:ext cx="5457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5240" y="59040"/>
                    <a:ext cx="29340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3480" y="479880"/>
                  <a:ext cx="52776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840" y="-11880"/>
                  <a:ext cx="497160" cy="791280"/>
                  <a:chOff x="7665840" y="-11880"/>
                  <a:chExt cx="497160" cy="79128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4600" y="466560"/>
                    <a:ext cx="54288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6680"/>
                    <a:ext cx="29124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7800"/>
                  <a:ext cx="785880" cy="748440"/>
                  <a:chOff x="7662600" y="37800"/>
                  <a:chExt cx="785880" cy="7484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080" y="118800"/>
                    <a:ext cx="31788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080"/>
                  <a:ext cx="177480" cy="745560"/>
                  <a:chOff x="7708680" y="-1080"/>
                  <a:chExt cx="1774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840" y="478080"/>
                    <a:ext cx="4870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2560" y="98280"/>
                    <a:ext cx="26136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30240"/>
                  <a:ext cx="914040" cy="1248480"/>
                  <a:chOff x="6711120" y="930240"/>
                  <a:chExt cx="914040" cy="12484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6760"/>
                    <a:ext cx="8859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6680"/>
                    <a:ext cx="475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2320" y="1001160"/>
                  <a:ext cx="364320" cy="1218240"/>
                  <a:chOff x="7312320" y="1001160"/>
                  <a:chExt cx="364320" cy="12182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5200" y="1328040"/>
                    <a:ext cx="78660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4360" y="1875600"/>
                    <a:ext cx="42192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320" y="909360"/>
                  <a:ext cx="950400" cy="1229400"/>
                  <a:chOff x="7798320" y="909360"/>
                  <a:chExt cx="950400" cy="1229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240" y="1229040"/>
                    <a:ext cx="886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5600" y="1746720"/>
                    <a:ext cx="47556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240" cy="1262160"/>
                  <a:chOff x="7786440" y="956160"/>
                  <a:chExt cx="732240" cy="12621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7320" y="1289880"/>
                    <a:ext cx="8467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79120" y="1839960"/>
                    <a:ext cx="45396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560" y="1005120"/>
                  <a:ext cx="510840" cy="1242360"/>
                  <a:chOff x="7756560" y="1005120"/>
                  <a:chExt cx="510840" cy="12423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5880" y="1351800"/>
                    <a:ext cx="82260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0600" y="1402200"/>
                    <a:ext cx="73944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000" y="1928520"/>
                    <a:ext cx="39672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600" y="911880"/>
                <a:ext cx="218052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68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0520" y="5994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480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52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F5D4-3AFB-443F-B7F7-BC968487783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4800"/>
            <a:ext cx="7128000" cy="7923960"/>
            <a:chOff x="2010960" y="244800"/>
            <a:chExt cx="7128000" cy="792396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4800"/>
              <a:ext cx="7128000" cy="7706880"/>
              <a:chOff x="2010960" y="244800"/>
              <a:chExt cx="7128000" cy="7706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4800"/>
                <a:ext cx="6891120" cy="5452200"/>
                <a:chOff x="2010960" y="24480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4800"/>
                  <a:ext cx="6891120" cy="5452200"/>
                  <a:chOff x="2010960" y="24480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2360"/>
                    <a:ext cx="2560320" cy="2743200"/>
                    <a:chOff x="5761080" y="2322360"/>
                    <a:chExt cx="2560320" cy="274320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3240" y="3020760"/>
                      <a:ext cx="213012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1600" y="4143240"/>
                      <a:ext cx="1143000" cy="60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360" y="2474640"/>
                    <a:ext cx="2558880" cy="2741040"/>
                    <a:chOff x="2646360" y="2474640"/>
                    <a:chExt cx="255888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2960" y="3173400"/>
                      <a:ext cx="2130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1720" y="4295160"/>
                      <a:ext cx="114300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600" y="334800"/>
                    <a:ext cx="1462680" cy="1887120"/>
                    <a:chOff x="4026600" y="334800"/>
                    <a:chExt cx="1462680" cy="188712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3680" y="1441080"/>
                      <a:ext cx="136080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3116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4800"/>
                    <a:ext cx="1123200" cy="1946880"/>
                    <a:chOff x="4448160" y="244800"/>
                    <a:chExt cx="1123200" cy="194688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2560" y="1397880"/>
                      <a:ext cx="131220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8640" y="439200"/>
                      <a:ext cx="70524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0280" y="146016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88720" y="532440"/>
                    <a:ext cx="68040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7160" y="269280"/>
                    <a:ext cx="1194480" cy="1901880"/>
                    <a:chOff x="5357160" y="269280"/>
                    <a:chExt cx="1194480" cy="190188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90400" y="1419480"/>
                      <a:ext cx="130500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7800" y="483120"/>
                      <a:ext cx="70020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800" y="387720"/>
                    <a:ext cx="1890720" cy="1798200"/>
                    <a:chOff x="5347800" y="387720"/>
                    <a:chExt cx="1890720" cy="17982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8440" y="1388520"/>
                      <a:ext cx="1423800" cy="33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2960" y="582840"/>
                      <a:ext cx="764280" cy="52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7320" cy="1795320"/>
                    <a:chOff x="5458320" y="292680"/>
                    <a:chExt cx="42732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8680" y="1447560"/>
                      <a:ext cx="117216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3560" y="532440"/>
                      <a:ext cx="6289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160" y="2530800"/>
                    <a:ext cx="2197800" cy="3002400"/>
                    <a:chOff x="3062160" y="2530800"/>
                    <a:chExt cx="2197800" cy="300240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18200" y="3315960"/>
                      <a:ext cx="2129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8640" y="4590360"/>
                      <a:ext cx="11426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8640" y="2703240"/>
                    <a:ext cx="875160" cy="2927520"/>
                    <a:chOff x="4508640" y="2703240"/>
                    <a:chExt cx="87516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3480" y="3489120"/>
                      <a:ext cx="1890360" cy="34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9320" y="4804920"/>
                      <a:ext cx="1014120" cy="54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6840" y="2482920"/>
                    <a:ext cx="2282040" cy="2954160"/>
                    <a:chOff x="5676840" y="2482920"/>
                    <a:chExt cx="2282040" cy="29541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4400" y="3251160"/>
                      <a:ext cx="212976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798240" y="4495680"/>
                      <a:ext cx="114264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760" y="2593080"/>
                    <a:ext cx="1757520" cy="3033720"/>
                    <a:chOff x="5648760" y="2593080"/>
                    <a:chExt cx="1757520" cy="303372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6800" y="3394800"/>
                      <a:ext cx="2034360" cy="37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0400" y="4717800"/>
                      <a:ext cx="1091160" cy="58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5680" y="2710800"/>
                    <a:ext cx="1225800" cy="2986200"/>
                    <a:chOff x="5575680" y="2710800"/>
                    <a:chExt cx="1225800" cy="298620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5040" y="3544920"/>
                      <a:ext cx="19778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6280" y="488016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840" cy="2717640"/>
                    <a:chOff x="4960800" y="2887560"/>
                    <a:chExt cx="66384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29880" y="3666600"/>
                      <a:ext cx="177588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200" y="4930560"/>
                      <a:ext cx="9529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9120"/>
                <a:chOff x="2175120" y="682560"/>
                <a:chExt cx="6963840" cy="7269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9120"/>
                  <a:chOff x="2175120" y="682560"/>
                  <a:chExt cx="6963840" cy="72691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88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40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440"/>
              <a:ext cx="6410160" cy="7456320"/>
              <a:chOff x="2342880" y="71244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24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184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000"/>
                <a:ext cx="36730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280"/>
                <a:ext cx="5824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60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63F7-7D54-4153-BF09-E8CC6820105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file:///tmp/home/.config/libreoffice/4/user/gallery/coin.wav" TargetMode="External"/><Relationship Id="rId3" Type="http://schemas.microsoft.com/office/2007/relationships/media" Target="file:///tmp/home/.config/libreoffice/4/user/gallery/coin.wav" TargetMode="External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24000" y="4869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黑体"/>
              </a:rPr>
              <a:t>济南市历城区董家镇温家小学　亓恒猛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689520" cy="28321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H="1">
            <a:off x="1619280" y="1557360"/>
            <a:ext cx="1224000" cy="1224000"/>
          </a:xfrm>
          <a:prstGeom prst="lightningBolt">
            <a:avLst/>
          </a:prstGeom>
          <a:solidFill>
            <a:srgbClr val="ff8b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安全用电标志"/>
          <p:cNvPicPr/>
          <p:nvPr/>
        </p:nvPicPr>
        <p:blipFill>
          <a:blip r:embed="rId1"/>
          <a:stretch/>
        </p:blipFill>
        <p:spPr>
          <a:xfrm>
            <a:off x="1219320" y="3200400"/>
            <a:ext cx="7010280" cy="3102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142"/>
          <p:cNvPicPr/>
          <p:nvPr/>
        </p:nvPicPr>
        <p:blipFill>
          <a:blip r:embed="rId2"/>
          <a:stretch/>
        </p:blipFill>
        <p:spPr>
          <a:xfrm>
            <a:off x="2971800" y="-304920"/>
            <a:ext cx="3352680" cy="335304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6666840" y="83808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红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-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禁止触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6737040" y="167652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黄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注意安全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24000" y="1171440"/>
            <a:ext cx="8640720" cy="54975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390" name=""/>
          <p:cNvSpPr/>
          <p:nvPr/>
        </p:nvSpPr>
        <p:spPr>
          <a:xfrm rot="1580400">
            <a:off x="5650920" y="980640"/>
            <a:ext cx="3112920" cy="2974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Arial"/>
                <a:ea typeface="黑体"/>
              </a:rPr>
              <a:t>错</a:t>
            </a:r>
            <a:endParaRPr b="0" lang="en-US" sz="18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9280" y="40464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攀爬到家门口的变压箱上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85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85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50920" y="1266840"/>
            <a:ext cx="8569080" cy="54021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393" name=""/>
          <p:cNvSpPr/>
          <p:nvPr/>
        </p:nvSpPr>
        <p:spPr>
          <a:xfrm rot="1580400">
            <a:off x="5650920" y="980640"/>
            <a:ext cx="3112920" cy="2974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Arial"/>
                <a:ea typeface="黑体"/>
              </a:rPr>
              <a:t>错</a:t>
            </a:r>
            <a:endParaRPr b="0" lang="en-US" sz="18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920" y="40464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在输电线周围放风筝、玩耍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85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385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38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38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68360" y="617400"/>
            <a:ext cx="8064360" cy="624060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sp>
        <p:nvSpPr>
          <p:cNvPr id="396" name=""/>
          <p:cNvSpPr/>
          <p:nvPr/>
        </p:nvSpPr>
        <p:spPr>
          <a:xfrm>
            <a:off x="826920" y="69228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 Black"/>
              </a:rPr>
              <a:t>用湿手、湿巾擦带电的灯头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580400">
            <a:off x="1331280" y="1052280"/>
            <a:ext cx="3112920" cy="2974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  <a:ea typeface="黑体"/>
              </a:rPr>
              <a:t>错</a:t>
            </a:r>
            <a:endParaRPr b="0" lang="en-US" sz="189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85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385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385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385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135640" cy="52848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399" name=""/>
          <p:cNvSpPr/>
          <p:nvPr/>
        </p:nvSpPr>
        <p:spPr>
          <a:xfrm rot="1580400">
            <a:off x="5147640" y="1988640"/>
            <a:ext cx="3112920" cy="2974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Arial"/>
                <a:ea typeface="黑体"/>
              </a:rPr>
              <a:t>错</a:t>
            </a:r>
            <a:endParaRPr b="0" lang="en-US" sz="18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9280" y="40464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电器起火了，用水把火扑灭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85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385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385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385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193080"/>
          </a:xfrm>
          <a:prstGeom prst="rect">
            <a:avLst/>
          </a:prstGeom>
          <a:ln w="9360">
            <a:solidFill>
              <a:srgbClr val="9933ff"/>
            </a:solidFill>
            <a:miter/>
          </a:ln>
          <a:effectLst>
            <a:outerShdw dist="17819" dir="2700000" blurRad="0" rotWithShape="0">
              <a:srgbClr val="ff8b17"/>
            </a:outerShdw>
          </a:effectLst>
        </p:spPr>
      </p:pic>
      <p:sp>
        <p:nvSpPr>
          <p:cNvPr id="402" name=""/>
          <p:cNvSpPr/>
          <p:nvPr/>
        </p:nvSpPr>
        <p:spPr>
          <a:xfrm rot="1580400">
            <a:off x="5650920" y="980640"/>
            <a:ext cx="3112920" cy="2974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8b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Arial"/>
                <a:ea typeface="黑体"/>
              </a:rPr>
              <a:t>对</a:t>
            </a:r>
            <a:endParaRPr b="0" lang="en-US" sz="18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26920" y="40464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1f08"/>
                </a:solidFill>
                <a:latin typeface="Arial Black"/>
              </a:rPr>
              <a:t>出门前记得一定要关灯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85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385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385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385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24000" y="1252440"/>
            <a:ext cx="8424720" cy="5561280"/>
          </a:xfrm>
          <a:prstGeom prst="rect">
            <a:avLst/>
          </a:prstGeom>
          <a:ln w="28440">
            <a:solidFill>
              <a:srgbClr val="00cc00"/>
            </a:solidFill>
            <a:miter/>
          </a:ln>
        </p:spPr>
      </p:pic>
      <p:sp>
        <p:nvSpPr>
          <p:cNvPr id="405" name=""/>
          <p:cNvSpPr/>
          <p:nvPr/>
        </p:nvSpPr>
        <p:spPr>
          <a:xfrm rot="1580400">
            <a:off x="5650920" y="980640"/>
            <a:ext cx="3112920" cy="2974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Arial"/>
                <a:ea typeface="黑体"/>
              </a:rPr>
              <a:t>错</a:t>
            </a:r>
            <a:endParaRPr b="0" lang="en-US" sz="18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40464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插排同时插很多的插头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85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385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385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385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24000" y="1133640"/>
            <a:ext cx="8424720" cy="5391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08" name=""/>
          <p:cNvSpPr/>
          <p:nvPr/>
        </p:nvSpPr>
        <p:spPr>
          <a:xfrm rot="1580400">
            <a:off x="5650920" y="980640"/>
            <a:ext cx="3112920" cy="2974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Arial"/>
                <a:ea typeface="黑体"/>
              </a:rPr>
              <a:t>错</a:t>
            </a:r>
            <a:endParaRPr b="0" lang="en-US" sz="18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33336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拔插头时直接拽电线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85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385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385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56360" cy="5329440"/>
          </a:xfrm>
          <a:prstGeom prst="rect">
            <a:avLst/>
          </a:prstGeom>
          <a:ln w="28440">
            <a:solidFill>
              <a:srgbClr val="ff8b17"/>
            </a:solidFill>
            <a:miter/>
          </a:ln>
        </p:spPr>
      </p:pic>
      <p:sp>
        <p:nvSpPr>
          <p:cNvPr id="411" name=""/>
          <p:cNvSpPr/>
          <p:nvPr/>
        </p:nvSpPr>
        <p:spPr>
          <a:xfrm rot="1580400">
            <a:off x="5650920" y="1177560"/>
            <a:ext cx="3112920" cy="2974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Arial"/>
                <a:ea typeface="黑体"/>
              </a:rPr>
              <a:t>错</a:t>
            </a:r>
            <a:endParaRPr b="0" lang="en-US" sz="18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40464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在输电线上晾晒衣服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85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385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385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385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151160" cy="4419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445788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068640" cy="4149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00000" y="765000"/>
            <a:ext cx="5329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 Black"/>
                <a:ea typeface="隶书"/>
              </a:rPr>
              <a:t>谜语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看不见，听不到，吃不得，碰不得，各种电器需要它，生活生产作用大。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24360" y="5157720"/>
            <a:ext cx="162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1f08"/>
                </a:solidFill>
                <a:latin typeface="Arial"/>
                <a:ea typeface="楷体_GB2312"/>
              </a:rPr>
              <a:t>(</a:t>
            </a:r>
            <a:r>
              <a:rPr b="1" lang="zh-CN" sz="6600" spc="-1" strike="noStrike">
                <a:solidFill>
                  <a:srgbClr val="fe1f08"/>
                </a:solidFill>
                <a:latin typeface="Arial"/>
                <a:ea typeface="楷体_GB2312"/>
              </a:rPr>
              <a:t>电</a:t>
            </a:r>
            <a:r>
              <a:rPr b="1" lang="en-US" sz="6600" spc="-1" strike="noStrike">
                <a:solidFill>
                  <a:srgbClr val="fe1f08"/>
                </a:solidFill>
                <a:latin typeface="Arial"/>
                <a:ea typeface="楷体_GB2312"/>
              </a:rPr>
              <a:t>)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76720" y="333360"/>
            <a:ext cx="4967280" cy="5975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-1323360" y="476280"/>
            <a:ext cx="519696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安全用电小警长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669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6" descr=""/>
          <p:cNvPicPr/>
          <p:nvPr/>
        </p:nvPicPr>
        <p:blipFill>
          <a:blip r:embed="rId1"/>
          <a:stretch/>
        </p:blipFill>
        <p:spPr>
          <a:xfrm>
            <a:off x="1511280" y="2419200"/>
            <a:ext cx="6012000" cy="37371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14"/>
          <p:cNvSpPr/>
          <p:nvPr/>
        </p:nvSpPr>
        <p:spPr>
          <a:xfrm>
            <a:off x="1601640" y="1689120"/>
            <a:ext cx="59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Calibri"/>
                <a:ea typeface="宋体"/>
              </a:rPr>
              <a:t>在下面图中找一找，“电老虎”藏在哪里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21" name="组合 25"/>
          <p:cNvGrpSpPr/>
          <p:nvPr/>
        </p:nvGrpSpPr>
        <p:grpSpPr>
          <a:xfrm>
            <a:off x="612720" y="620640"/>
            <a:ext cx="6912000" cy="287280"/>
            <a:chOff x="612720" y="620640"/>
            <a:chExt cx="6912000" cy="287280"/>
          </a:xfrm>
        </p:grpSpPr>
        <p:sp>
          <p:nvSpPr>
            <p:cNvPr id="422" name="同侧圆角矩形 26"/>
            <p:cNvSpPr/>
            <p:nvPr/>
          </p:nvSpPr>
          <p:spPr>
            <a:xfrm>
              <a:off x="612720" y="620640"/>
              <a:ext cx="1152360" cy="287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安全小问号</a:t>
              </a:r>
              <a:endParaRPr b="0" lang="en-US" sz="12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同侧圆角矩形 27"/>
            <p:cNvSpPr/>
            <p:nvPr/>
          </p:nvSpPr>
          <p:spPr>
            <a:xfrm>
              <a:off x="1765080" y="620640"/>
              <a:ext cx="1150920" cy="287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电咋会是老虎</a:t>
              </a:r>
              <a:endParaRPr b="0" lang="en-US" sz="12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同侧圆角矩形 28"/>
            <p:cNvSpPr/>
            <p:nvPr/>
          </p:nvSpPr>
          <p:spPr>
            <a:xfrm>
              <a:off x="2916000" y="620640"/>
              <a:ext cx="1152360" cy="287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心电老虎</a:t>
              </a:r>
              <a:endParaRPr b="0" lang="en-US" sz="12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同侧圆角矩形 29"/>
            <p:cNvSpPr/>
            <p:nvPr/>
          </p:nvSpPr>
          <p:spPr>
            <a:xfrm>
              <a:off x="6372360" y="620640"/>
              <a:ext cx="1152360" cy="287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安全活动延伸</a:t>
              </a:r>
              <a:endParaRPr b="0" lang="en-US" sz="12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同侧圆角矩形 30"/>
            <p:cNvSpPr/>
            <p:nvPr/>
          </p:nvSpPr>
          <p:spPr>
            <a:xfrm>
              <a:off x="5221440" y="620640"/>
              <a:ext cx="1150920" cy="287280"/>
            </a:xfrm>
            <a:custGeom>
              <a:avLst/>
              <a:gdLst/>
              <a:ahLst/>
              <a:rect l="l" t="t" r="r" b="b"/>
              <a:pathLst>
                <a:path w="1150921" h="288000">
                  <a:moveTo>
                    <a:pt x="48001" y="0"/>
                  </a:moveTo>
                  <a:lnTo>
                    <a:pt x="1102920" y="0"/>
                  </a:lnTo>
                  <a:cubicBezTo>
                    <a:pt x="1129430" y="0"/>
                    <a:pt x="1150921" y="21491"/>
                    <a:pt x="1150921" y="48001"/>
                  </a:cubicBezTo>
                  <a:lnTo>
                    <a:pt x="1150921" y="288000"/>
                  </a:lnTo>
                  <a:lnTo>
                    <a:pt x="1150921" y="288000"/>
                  </a:lnTo>
                  <a:lnTo>
                    <a:pt x="0" y="288000"/>
                  </a:lnTo>
                  <a:lnTo>
                    <a:pt x="0" y="288000"/>
                  </a:lnTo>
                  <a:lnTo>
                    <a:pt x="0" y="48001"/>
                  </a:lnTo>
                  <a:cubicBezTo>
                    <a:pt x="0" y="21491"/>
                    <a:pt x="21491" y="0"/>
                    <a:pt x="4800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同侧圆角矩形 31"/>
            <p:cNvSpPr/>
            <p:nvPr/>
          </p:nvSpPr>
          <p:spPr>
            <a:xfrm>
              <a:off x="4068720" y="620640"/>
              <a:ext cx="1152360" cy="287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安全视屏链接</a:t>
              </a:r>
              <a:endParaRPr b="0" lang="en-US" sz="12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28" name="圆角矩形 2"/>
          <p:cNvSpPr/>
          <p:nvPr/>
        </p:nvSpPr>
        <p:spPr>
          <a:xfrm>
            <a:off x="4030560" y="2604960"/>
            <a:ext cx="90036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圆角矩形 32"/>
          <p:cNvSpPr/>
          <p:nvPr/>
        </p:nvSpPr>
        <p:spPr>
          <a:xfrm>
            <a:off x="3430440" y="3687840"/>
            <a:ext cx="576360" cy="358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圆角矩形 33"/>
          <p:cNvSpPr/>
          <p:nvPr/>
        </p:nvSpPr>
        <p:spPr>
          <a:xfrm>
            <a:off x="2108160" y="4106880"/>
            <a:ext cx="1542960" cy="122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圆角矩形 34"/>
          <p:cNvSpPr/>
          <p:nvPr/>
        </p:nvSpPr>
        <p:spPr>
          <a:xfrm>
            <a:off x="4125960" y="3300480"/>
            <a:ext cx="133200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圆角矩形标注 3"/>
          <p:cNvSpPr/>
          <p:nvPr/>
        </p:nvSpPr>
        <p:spPr>
          <a:xfrm>
            <a:off x="6516720" y="5330880"/>
            <a:ext cx="2016000" cy="690480"/>
          </a:xfrm>
          <a:prstGeom prst="wedgeRoundRectCallout">
            <a:avLst>
              <a:gd name="adj1" fmla="val -171833"/>
              <a:gd name="adj2" fmla="val -220777"/>
              <a:gd name="adj3" fmla="val 16667"/>
            </a:avLst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电线里也有哦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横卷形 17"/>
          <p:cNvSpPr/>
          <p:nvPr/>
        </p:nvSpPr>
        <p:spPr>
          <a:xfrm>
            <a:off x="179280" y="692280"/>
            <a:ext cx="1979640" cy="79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一找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38" nodeType="after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http://www.xxjxsj.cn/article/UploadPic/2010-4/20104622333448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矩形 2"/>
          <p:cNvSpPr/>
          <p:nvPr/>
        </p:nvSpPr>
        <p:spPr>
          <a:xfrm>
            <a:off x="609480" y="53352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用电歌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电，真方便，安全常识记心间，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源线，要完整，裸露电线不触碰；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拔插头，捏上端，绝缘部分不放松；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湿手，湿抹布，坚决不沾带电体；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用过，断电源，移动电器不例外；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电器，一插座，集中使用问题多；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电路，严用料，保险丝与绝缘布；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压线，变压器，生活玩耍要远离；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断电，再救人，自身安全放第一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11280" y="549360"/>
            <a:ext cx="75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  <a:ea typeface="幼圆"/>
              </a:rPr>
              <a:t>作业：做一张安全用电温馨提示卡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826920" y="1341360"/>
            <a:ext cx="7561440" cy="4998960"/>
            <a:chOff x="826920" y="1341360"/>
            <a:chExt cx="7561440" cy="4998960"/>
          </a:xfrm>
        </p:grpSpPr>
        <p:pic>
          <p:nvPicPr>
            <p:cNvPr id="438" name="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561440" cy="43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971280" y="1341360"/>
              <a:ext cx="6408720" cy="49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00"/>
                  </a:solidFill>
                  <a:latin typeface="Arial Black"/>
                </a:rPr>
                <a:t>             </a:t>
              </a:r>
              <a:endParaRPr b="0" lang="en-US" sz="32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ff"/>
                  </a:solidFill>
                  <a:latin typeface="Arial Black"/>
                </a:rPr>
                <a:t>               </a:t>
              </a:r>
              <a:r>
                <a:rPr b="0" lang="zh-CN" sz="3200" spc="-1" strike="noStrike">
                  <a:solidFill>
                    <a:srgbClr val="3333ff"/>
                  </a:solidFill>
                  <a:latin typeface="Arial Black"/>
                  <a:ea typeface="隶书"/>
                </a:rPr>
                <a:t>温馨提示卡</a:t>
              </a:r>
              <a:endParaRPr b="0" lang="en-US" sz="32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1f08"/>
                  </a:solidFill>
                  <a:latin typeface="Arial Black"/>
                </a:rPr>
                <a:t>      </a:t>
              </a:r>
              <a:r>
                <a:rPr b="1" lang="zh-CN" sz="3200" spc="-1" strike="noStrike">
                  <a:solidFill>
                    <a:srgbClr val="fe1f08"/>
                  </a:solidFill>
                  <a:latin typeface="Arial Black"/>
                </a:rPr>
                <a:t>爸爸，换灯泡的时候记得</a:t>
              </a:r>
              <a:endParaRPr b="0" lang="en-US" sz="32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e1f08"/>
                  </a:solidFill>
                  <a:latin typeface="Arial Black"/>
                </a:rPr>
                <a:t>一定要先关闭电源。</a:t>
              </a:r>
              <a:endParaRPr b="0" lang="en-US" sz="32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1f08"/>
                  </a:solidFill>
                  <a:latin typeface="Arial Black"/>
                </a:rPr>
                <a:t>                      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 Black"/>
                  <a:ea typeface="隶书"/>
                </a:rPr>
                <a:t>提示人：乐乐</a:t>
              </a:r>
              <a:endParaRPr b="0" lang="en-US" sz="28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5800" y="990720"/>
            <a:ext cx="7391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00">
                    <a:alpha val="70000"/>
                  </a:srgbClr>
                </a:soli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安全用电，开启幸福生活！</a:t>
            </a:r>
            <a:endParaRPr b="1" lang="en-US" sz="4000" spc="-1" strike="noStrike">
              <a:ln w="9360">
                <a:solidFill>
                  <a:srgbClr val="ffcc00"/>
                </a:solidFill>
                <a:miter/>
              </a:ln>
              <a:solidFill>
                <a:srgbClr val="ffff00">
                  <a:alpha val="70000"/>
                </a:srgbClr>
              </a:soli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763640" y="206064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cc00"/>
                </a:solidFill>
                <a:latin typeface="Arial"/>
                <a:ea typeface="隶书"/>
              </a:rPr>
              <a:t>谢谢！</a:t>
            </a:r>
            <a:endParaRPr b="0" lang="en-US" sz="8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248360" cy="3311280"/>
          </a:xfrm>
          <a:prstGeom prst="rect">
            <a:avLst/>
          </a:prstGeom>
          <a:ln w="0">
            <a:noFill/>
          </a:ln>
        </p:spPr>
      </p:pic>
      <p:sp>
        <p:nvSpPr>
          <p:cNvPr id="357" name="矩形 4"/>
          <p:cNvSpPr/>
          <p:nvPr/>
        </p:nvSpPr>
        <p:spPr>
          <a:xfrm>
            <a:off x="395280" y="333360"/>
            <a:ext cx="77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Franklin Gothic Book"/>
              </a:rPr>
              <a:t>电有哪些用处？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76720" y="4941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华文新魏"/>
              </a:rPr>
              <a:t>使夜晚更加美丽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2"/>
          <a:srcRect l="5827" t="2840" r="4795" b="7598"/>
          <a:stretch/>
        </p:blipFill>
        <p:spPr>
          <a:xfrm>
            <a:off x="324000" y="1341360"/>
            <a:ext cx="4176720" cy="3311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900000" y="4869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华文新魏"/>
              </a:rPr>
              <a:t>为村庄送去光明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4"/>
          <p:cNvSpPr/>
          <p:nvPr/>
        </p:nvSpPr>
        <p:spPr>
          <a:xfrm>
            <a:off x="395280" y="333360"/>
            <a:ext cx="77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Franklin Gothic Book"/>
              </a:rPr>
              <a:t>电有哪些用处？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7280" y="486900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华文新魏"/>
              </a:rPr>
              <a:t>使生活更加便捷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0" t="0" r="0" b="4362"/>
          <a:stretch/>
        </p:blipFill>
        <p:spPr>
          <a:xfrm>
            <a:off x="324000" y="1413000"/>
            <a:ext cx="4248000" cy="3240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5688000" y="54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华文新魏"/>
              </a:rPr>
              <a:t>。。。。。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rcRect l="10746" t="0" r="5329" b="6248"/>
          <a:stretch/>
        </p:blipFill>
        <p:spPr>
          <a:xfrm>
            <a:off x="4716360" y="1413000"/>
            <a:ext cx="4176720" cy="33112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435640" y="4869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华文新魏"/>
              </a:rPr>
              <a:t>使生产得以进行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956720" y="981000"/>
            <a:ext cx="1187280" cy="12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373720"/>
            <a:ext cx="1908000" cy="148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7777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      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836640"/>
            <a:ext cx="83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去年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日晚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分许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家住长沙市的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华文新魏"/>
              </a:rPr>
              <a:t>岁的李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峥嵘准备洗澡，他把衣服脱下交给站在一旁的母亲后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就伸手拿喷头。就在他手拿喷头、打开电热水器的一瞬间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一股电流突然袭过来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他的身子立即抽搐起来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见此情形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母亲一把夺过儿子手中的喷头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并奋力将他往外猛地一推。小峥嵘就这样昏了过去。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小时后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他苏醒过来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发现自己躺在厕所的地板上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而母亲毫不动弹、双目紧闭。小峥嵘立即起身向邻居求救。    </a:t>
            </a:r>
            <a:br>
              <a:rPr sz="2800"/>
            </a:b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     邻居赶来，发现母亲已全身冰凉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膝盖、背上多处出现被火烧伤的水疱，就赶紧拨打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急救电话。约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分钟后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急救人员赶到现场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发现小峥嵘的母亲已死亡近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个小时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826920" y="763560"/>
            <a:ext cx="7490160" cy="56196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704000" cy="58960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755640" y="620640"/>
            <a:ext cx="7704000" cy="5904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684360" y="620640"/>
            <a:ext cx="7775280" cy="5904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921800" cy="58881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539640" y="620640"/>
            <a:ext cx="7920000" cy="5975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468360" y="620640"/>
            <a:ext cx="7993080" cy="6048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</p:spTree>
  </p:cSld>
  <p:transition advTm="10000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380880"/>
            <a:ext cx="8305920" cy="5943600"/>
          </a:xfrm>
          <a:prstGeom prst="rect">
            <a:avLst/>
          </a:prstGeom>
          <a:solidFill>
            <a:srgbClr val="000000">
              <a:alpha val="8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2590920" y="533520"/>
            <a:ext cx="5410080" cy="34909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1600200" y="3352680"/>
            <a:ext cx="4800600" cy="2903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01280" cy="7029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11280" y="765000"/>
            <a:ext cx="76327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据统计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我国每年因触电而死亡的人数超过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300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.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2009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日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潍坊某工厂因电器使用不当发生火灾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造成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人死亡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4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人重伤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201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日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山东某市场因电器漏电</a:t>
            </a:r>
            <a:r>
              <a:rPr b="1" lang="zh-CN" sz="3600" spc="-1" strike="noStrike">
                <a:solidFill>
                  <a:srgbClr val="ffff00"/>
                </a:solidFill>
                <a:latin typeface="Arial Black"/>
                <a:ea typeface="楷体_GB2312"/>
              </a:rPr>
              <a:t>发生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特大火灾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经济损失高达上千万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     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24000" y="242100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1280" y="73080"/>
            <a:ext cx="8964720" cy="6524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5:18:09Z</dcterms:created>
  <dc:creator>User</dc:creator>
  <dc:description/>
  <dc:language>en-US</dc:language>
  <cp:lastModifiedBy>微软用户</cp:lastModifiedBy>
  <dcterms:modified xsi:type="dcterms:W3CDTF">2015-04-28T08:23:50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