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DCC-8821-4873-AC9F-18EDD40B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7DB-0AE3-4778-BD9A-6C23C31E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796-E526-4ACA-93B5-2F8C1FFE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FAA-CD1D-42F2-A667-7D62E4D0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51F-64B0-4448-B5D5-E8FF6F2E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420-75AA-4FE1-88E8-6D87BCAA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044-BCB8-4C08-8D02-220228E4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4B3-DD15-48C3-83CF-9DC3494B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3B3-4890-4014-B80A-6B5FCF69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5BC-B45C-42C1-B669-A2E4ADCC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560-A964-4940-B8EC-501D7802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BE8-BAC1-4077-9115-666E15BB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CBCB-1DFA-490C-95CD-21A2BAEA9F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557360"/>
            <a:ext cx="56167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预防流感有办法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476280"/>
            <a:ext cx="73152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珍爱生命，健康成长”微课系列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29080" y="3860640"/>
            <a:ext cx="32004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主讲人：刘贤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08000" y="4870440"/>
            <a:ext cx="45720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武冈市光明小学微课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Arial"/>
              </a:rPr>
              <a:t>我们应该怎样预防流感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847800"/>
            <a:ext cx="3456000" cy="3146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765000"/>
            <a:ext cx="3876840" cy="2951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0920" y="4076640"/>
            <a:ext cx="3600360" cy="2576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716360" y="3909960"/>
            <a:ext cx="41594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0"/>
            <a:ext cx="360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健康小行动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052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自查自己的行为习惯是否有利于预防流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95280" y="1700280"/>
          <a:ext cx="7201080" cy="4087800"/>
        </p:xfrm>
        <a:graphic>
          <a:graphicData uri="http://schemas.openxmlformats.org/drawingml/2006/table">
            <a:tbl>
              <a:tblPr/>
              <a:tblGrid>
                <a:gridCol w="5040360"/>
                <a:gridCol w="1081080"/>
                <a:gridCol w="10796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平时具有的习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在家和在教室里经常打开窗户，保持空气流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饭前便后洗手，生吃水果 、且洗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经常参加体育运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流感发生时不到人群密集的地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咳嗽或打喷嚏时掩住口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332000" y="1773360"/>
            <a:ext cx="5833800" cy="26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8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通过学习知道流感具有很强的传染性，意识到流感的危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懂得流感是由流感病毒引起的，其主要传播途径是飞沫传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掌握预防流感的一般方法，养成良好的卫生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11280" y="333360"/>
            <a:ext cx="367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学习目标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同学们听说过流感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89000"/>
            <a:ext cx="302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健康问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557360"/>
            <a:ext cx="770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西班牙流行性感冒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西班牙型流行性感冒是人类历史上最致命的传染病，在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18</a:t>
            </a:r>
            <a:r>
              <a:rPr b="0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－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19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曾经造成全世界约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亿人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感染，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千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百万到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千万人死亡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当时世界人口约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7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亿人）；其全球平均致死率约为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.5%-5%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和一般流感的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0.1%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比较起来较为致命。其名字的由来并不是因为此流感从西班牙爆发；而是因为当时西班牙有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约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百万人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感染了此病，甚至连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西班牙国王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也感染了此病，所以被称为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西班牙型流行性感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79786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亚洲流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89000"/>
            <a:ext cx="55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最近的几次大型流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01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你们觉得流感可怕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27664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香港流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3789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009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年甲型流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0920" y="0"/>
            <a:ext cx="338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健康小博士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流感是通过空气飞沫或直接接触病人唾沫、鼻腔分泌物而感染的呼吸道传染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3284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发热、头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9079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什么是流感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56536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流感的症状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32130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全身酸痛、疲倦无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0766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鼻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4005360"/>
            <a:ext cx="23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流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86900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嗓子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4869000"/>
            <a:ext cx="24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咳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009</a:t>
            </a:r>
            <a:r>
              <a:rPr b="0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甲流采取的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009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年甲流流行期间，各国政府都采取了各种措施加强公共卫生防范，比如，我国要求发热病人必须隔离，学校每天报告学生到校情况和是否有发热情况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5292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如果患了流感怎么办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0"/>
            <a:ext cx="37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健康小卫士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4140000" cy="2760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11280" y="4437000"/>
            <a:ext cx="3311280" cy="2222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338436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508720" y="333360"/>
            <a:ext cx="3025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为什么外出时要戴口罩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458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因为流感具有很强的传染性，它是通过空气飞沫传播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459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流行性感冒的传染性很强，流感病毒可以通过飞沫、接触在人群中迅速扩散，引起流感流行。在人群密集、空气不够流通的场所，流感的传染性就更强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47628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健康小提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DWM</cp:lastModifiedBy>
  <dcterms:modified xsi:type="dcterms:W3CDTF">2015-02-13T05:04:49Z</dcterms:modified>
  <cp:revision>2</cp:revision>
  <dc:subject/>
  <dc:title>幻灯片 1</dc:title>
</cp:coreProperties>
</file>