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C8E-CF65-4E77-AFF4-47E27308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65E-C886-4118-B67E-9E362D3B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63D-A5EC-4164-ACD9-FD52C22E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73E-1586-47F0-88FA-DC663AEB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46E-CEBB-41ED-A0A1-E706DDAE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40B-2A3F-4F9A-8653-EA4ED4D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B2D-0165-41D8-9F7A-5B4470BE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377-5616-426F-8CC0-4CCF1AD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45D-A0EE-41FF-B1C1-B1BC37D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8A4-3655-45A6-82C1-9F1E2D6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1A1-3C34-4DF3-91F6-FCC979D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AD0-7B51-4504-95E7-F051116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6372-95C2-4FC9-AF4B-69B5F50E0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9&#1337;&#1339;%A2&amp;in=498&amp;cl=2&amp;lm=-1&amp;pn=14&amp;rn=1&amp;di=59138607285&amp;ln=2000&amp;fr=&amp;fmq=&amp;ic=0&amp;s=0&amp;se=1&amp;sme=0&amp;tab=&amp;width=&amp;height=&amp;face=0&amp;is=&amp;istype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.baidu.com/i?ct=503316480&amp;z=0&amp;tn=baiduimagedetail&amp;word=%D0%D7%C3&#885;%C4%C0&#1019;%A2&amp;in=13138&amp;cl=2&amp;lm=-1&amp;pn=6&amp;rn=1&amp;di=64294069830&amp;ln=2000&amp;fr=&amp;fmq=&amp;ic=&amp;s=&amp;se=&amp;sme=0&amp;tab=&amp;width=&amp;height=&amp;face=&amp;is=&amp;istype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0%B2&#555;%D3&#245;%E7&#892;%D0&#945;%EA&#1470;&amp;in=28904&amp;cl=2&amp;lm=-1&amp;pn=8&amp;rn=1&amp;di=6046324342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.baidu.com/i?ct=503316480&amp;z=&amp;tn=baiduimagedetail&amp;word=%B0%B2&#555;%D3&#245;%E7&#892;%D0&#945;%EA&#1470;&amp;in=24579&amp;cl=2&amp;lm=-1&amp;pn=9&amp;rn=1&amp;di=13591925085&amp;ln=2000&amp;fr=ala0&amp;fmq=&amp;ic=&amp;s=&amp;se=&amp;sme=0&amp;tab=&amp;width=&amp;height=&amp;face=&amp;is=&amp;istype=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.baidu.com/i?ct=503316480&amp;z=&amp;tn=baiduimagedetail&amp;word=%B0%B2&#555;%D3&#245;%E7&#892;%D0&#945;%EA&#1470;&amp;in=24579&amp;cl=2&amp;lm=-1&amp;pn=11&amp;rn=1&amp;di=58307446995&amp;ln=2000&amp;fr=ala0&amp;fmq=&amp;ic=&amp;s=&amp;se=&amp;sme=0&amp;tab=&amp;width=&amp;height=&amp;face=&amp;is=&amp;istype=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.baidu.com/i?ct=503316480&amp;z=&amp;tn=baiduimagedetail&amp;word=%B0%B2&#555;%D3&#245;%E7&#892;%D0&#945;%EA&#1470;&amp;in=22150&amp;cl=2&amp;lm=-1&amp;pn=47&amp;rn=1&amp;di=54231740250&amp;ln=2000&amp;fr=ala0&amp;fmq=&amp;ic=&amp;s=&amp;se=&amp;sme=0&amp;tab=&amp;width=&amp;height=&amp;face=&amp;is=&amp;istype=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.baidu.com/i?ct=503316480&amp;z=&amp;tn=baiduimagedetail&amp;word=%B0%B2&#555;%D3&#245;%E7&#892;%D0&#945;%EA&#1470;&amp;in=22150&amp;cl=2&amp;lm=-1&amp;pn=54&amp;rn=1&amp;di=32442337320&amp;ln=2000&amp;fr=ala0&amp;fmq=&amp;ic=&amp;s=&amp;se=&amp;sme=0&amp;tab=&amp;width=&amp;height=&amp;face=&amp;is=&amp;istype=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.baidu.com/i?ct=503316480&amp;z=&amp;tn=baiduimagedetail&amp;word=%B1%D8%D0%EB%B4%F8%B0%B2&#555;&#241;&amp;in=22911&amp;cl=2&amp;lm=-1&amp;pn=1&amp;rn=1&amp;di=56744715675&amp;ln=958&amp;fr=ala0&amp;fmq=&amp;ic=0&amp;s=0&amp;se=1&amp;sme=0&amp;tab=&amp;width=&amp;height=&amp;face=0&amp;is=&amp;istype=2" TargetMode="External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81212065265207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u=3546640227,708727731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4756320"/>
            <a:ext cx="2667240" cy="172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u=2398597557,2506744528&amp;fm=0&amp;gp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457200"/>
            <a:ext cx="25909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课     电老虎  乖乖虎</a:t>
            </a:r>
            <a:br>
              <a:rPr sz="5400"/>
            </a:br>
            <a:br>
              <a:rPr sz="5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年级安全教育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学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2633112_204416095_2"/>
          <p:cNvPicPr/>
          <p:nvPr/>
        </p:nvPicPr>
        <p:blipFill>
          <a:blip r:embed="rId1"/>
          <a:stretch/>
        </p:blipFill>
        <p:spPr>
          <a:xfrm>
            <a:off x="135000" y="0"/>
            <a:ext cx="9534600" cy="684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685800" y="5943600"/>
            <a:ext cx="7772400" cy="685800"/>
          </a:xfrm>
          <a:prstGeom prst="wedgeRectCallout">
            <a:avLst>
              <a:gd name="adj1" fmla="val -46629"/>
              <a:gd name="adj2" fmla="val 47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禁私自从公用线路上接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20070901_fc7f1a27c4a44cdcc553cCX9aoXcWN4m"/>
          <p:cNvPicPr/>
          <p:nvPr/>
        </p:nvPicPr>
        <p:blipFill>
          <a:blip r:embed="rId1"/>
          <a:stretch/>
        </p:blipFill>
        <p:spPr>
          <a:xfrm>
            <a:off x="0" y="0"/>
            <a:ext cx="9390240" cy="67611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8153280" y="228600"/>
            <a:ext cx="914400" cy="6629400"/>
          </a:xfrm>
          <a:prstGeom prst="borderCallout1">
            <a:avLst>
              <a:gd name="adj1" fmla="val 18750"/>
              <a:gd name="adj2" fmla="val -8333"/>
              <a:gd name="adj3" fmla="val 1722"/>
              <a:gd name="adj4" fmla="val 11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禁私拉乱接电器设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0070901_9c49f68a9585b02e4138zlNCucvSrFc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/>
          <p:cNvSpPr/>
          <p:nvPr/>
        </p:nvSpPr>
        <p:spPr>
          <a:xfrm>
            <a:off x="8001000" y="76320"/>
            <a:ext cx="914400" cy="6629400"/>
          </a:xfrm>
          <a:prstGeom prst="borderCallout1">
            <a:avLst>
              <a:gd name="adj1" fmla="val 18750"/>
              <a:gd name="adj2" fmla="val -8333"/>
              <a:gd name="adj3" fmla="val 1722"/>
              <a:gd name="adj4" fmla="val 11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禁私拉乱接电器设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0070901_ec15c4e9892663da7687RqV7TmrluE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8001000" y="0"/>
            <a:ext cx="1066680" cy="6705720"/>
          </a:xfrm>
          <a:prstGeom prst="borderCallout1">
            <a:avLst>
              <a:gd name="adj1" fmla="val 18750"/>
              <a:gd name="adj2" fmla="val -8333"/>
              <a:gd name="adj3" fmla="val 569"/>
              <a:gd name="adj4" fmla="val 107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严禁攀登变压器台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2009042015365721"/>
          <p:cNvPicPr/>
          <p:nvPr/>
        </p:nvPicPr>
        <p:blipFill>
          <a:blip r:embed="rId1"/>
          <a:stretch/>
        </p:blipFill>
        <p:spPr>
          <a:xfrm>
            <a:off x="0" y="0"/>
            <a:ext cx="883908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886200" y="685800"/>
            <a:ext cx="4343400" cy="2133720"/>
          </a:xfrm>
          <a:prstGeom prst="wedgeEllipseCallout">
            <a:avLst>
              <a:gd name="adj1" fmla="val -45393"/>
              <a:gd name="adj2" fmla="val 60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朋友不可以玩电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4773644_145717069667_2"/>
          <p:cNvPicPr/>
          <p:nvPr/>
        </p:nvPicPr>
        <p:blipFill>
          <a:blip r:embed="rId1"/>
          <a:stretch/>
        </p:blipFill>
        <p:spPr>
          <a:xfrm>
            <a:off x="-304920" y="-119160"/>
            <a:ext cx="9753840" cy="70963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1"/>
          <p:cNvSpPr/>
          <p:nvPr/>
        </p:nvSpPr>
        <p:spPr>
          <a:xfrm>
            <a:off x="-533520" y="6172200"/>
            <a:ext cx="9906120" cy="685800"/>
          </a:xfrm>
          <a:prstGeom prst="wedgeRectCallout">
            <a:avLst>
              <a:gd name="adj1" fmla="val -54245"/>
              <a:gd name="adj2" fmla="val -59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树上不能绑电线，树摇线断有危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2207_4_6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94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2633112_200639042_2"/>
          <p:cNvPicPr/>
          <p:nvPr/>
        </p:nvPicPr>
        <p:blipFill>
          <a:blip r:embed="rId2"/>
          <a:stretch/>
        </p:blipFill>
        <p:spPr>
          <a:xfrm>
            <a:off x="-390600" y="609480"/>
            <a:ext cx="9534600" cy="76010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"/>
          <p:cNvSpPr/>
          <p:nvPr/>
        </p:nvSpPr>
        <p:spPr>
          <a:xfrm>
            <a:off x="0" y="304920"/>
            <a:ext cx="5029200" cy="685800"/>
          </a:xfrm>
          <a:prstGeom prst="wedgeRectCallout">
            <a:avLst>
              <a:gd name="adj1" fmla="val 23388"/>
              <a:gd name="adj2" fmla="val 81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能在高压线附近玩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633112_214732076_2"/>
          <p:cNvPicPr/>
          <p:nvPr/>
        </p:nvPicPr>
        <p:blipFill>
          <a:blip r:embed="rId1"/>
          <a:stretch/>
        </p:blipFill>
        <p:spPr>
          <a:xfrm>
            <a:off x="-195120" y="61920"/>
            <a:ext cx="9534240" cy="67341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0" y="5257800"/>
            <a:ext cx="7162920" cy="685800"/>
          </a:xfrm>
          <a:prstGeom prst="wedgeRectCallout">
            <a:avLst>
              <a:gd name="adj1" fmla="val 1726"/>
              <a:gd name="adj2" fmla="val 40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要在电线杆附近堆放易燃易爆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0090707302087"/>
          <p:cNvPicPr/>
          <p:nvPr/>
        </p:nvPicPr>
        <p:blipFill>
          <a:blip r:embed="rId1"/>
          <a:stretch/>
        </p:blipFill>
        <p:spPr>
          <a:xfrm>
            <a:off x="228600" y="619200"/>
            <a:ext cx="8686800" cy="5619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960200" y="304200"/>
            <a:ext cx="4582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不要用手够落在电线上的衣物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773644_150338047531_2"/>
          <p:cNvPicPr/>
          <p:nvPr/>
        </p:nvPicPr>
        <p:blipFill>
          <a:blip r:embed="rId1"/>
          <a:stretch/>
        </p:blipFill>
        <p:spPr>
          <a:xfrm>
            <a:off x="-380880" y="-237960"/>
            <a:ext cx="9753480" cy="7095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0" y="6019920"/>
            <a:ext cx="7696080" cy="533160"/>
          </a:xfrm>
          <a:prstGeom prst="wedgeRectCallout">
            <a:avLst>
              <a:gd name="adj1" fmla="val -1856"/>
              <a:gd name="adj2" fmla="val -75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电线旁砍伐树木，安全距离要留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0095220168676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68580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一：电老虎脾气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4094319_093406096412_2"/>
          <p:cNvPicPr/>
          <p:nvPr/>
        </p:nvPicPr>
        <p:blipFill>
          <a:blip r:embed="rId1"/>
          <a:stretch/>
        </p:blipFill>
        <p:spPr>
          <a:xfrm>
            <a:off x="0" y="-236232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1066680" y="762120"/>
            <a:ext cx="7162920" cy="685800"/>
          </a:xfrm>
          <a:prstGeom prst="wedgeRectCallout">
            <a:avLst>
              <a:gd name="adj1" fmla="val 1726"/>
              <a:gd name="adj2" fmla="val 40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车间要带安全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20070901_67452e5712cb75238d18FR29KHFs9e6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7772400" y="76320"/>
            <a:ext cx="1143000" cy="6629400"/>
          </a:xfrm>
          <a:prstGeom prst="borderCallout1">
            <a:avLst>
              <a:gd name="adj1" fmla="val 18750"/>
              <a:gd name="adj2" fmla="val -8333"/>
              <a:gd name="adj3" fmla="val 1722"/>
              <a:gd name="adj4" fmla="val 11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现有人触电应立即切断电源，进行急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标志分为颜色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红色：传递禁止、停止、危险或提示消防设备、设施的信息。如信号灯、信号旗、机器上的紧急停机按纽等，都是用红色传递“禁止”的信息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黄色：传递注意、警告的信息。如用来标识“注意安全”、“危险”之意，如“当心触电！”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绿色：传递表示安全的提示性信息，如用来标识“可在此工作”、“已接地”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蓝色：传递必须遵守规定的指令性信息，如“必须带安全帽”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色：用于安全标志的文字、图像符号和警告标志的几何边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色：作为安全标志红、蓝、绿的背景色，也可用于安全标志的文字和图形符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28600" y="3049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阅读与拓展</a:t>
            </a:r>
            <a:endParaRPr b="0" lang="en-US" sz="43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u=4278478057,2509372641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1905120" cy="194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=4095074477,2572828428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905120"/>
            <a:ext cx="1676160" cy="1523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u=1202436710,652248581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3657600"/>
            <a:ext cx="1971720" cy="26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u=1915333418,428546509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18288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u=1797995496,706684300&amp;fm=0&amp;gp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419720"/>
            <a:ext cx="2057400" cy="16477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16"/>
          <p:cNvSpPr txBox="1"/>
          <p:nvPr/>
        </p:nvSpPr>
        <p:spPr>
          <a:xfrm>
            <a:off x="152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阅读与拓展</a:t>
            </a:r>
            <a:endParaRPr b="0" lang="en-US" sz="43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Picture 18" descr="u=2785203256,1770090585&amp;fm=0&amp;gp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95480" y="4114800"/>
            <a:ext cx="2514600" cy="1714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2666880" y="838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全用电图形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0095220168676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80880" y="19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二：别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u=595027645,1419273267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477120" y="457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月的一天，一位妇女熨完衣服后，未切断电源便将电熨斗随手放在桌上，自己就出去购物了。结果，由于长时间通电，电熨斗温度过高，引燃了桌子。大火蔓延开来，不但自家的家具、家电、衣物等财产全部化为灰烬，也使邻居家蒙受了损失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三：宣传安全用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2009042317522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80880" y="2286000"/>
            <a:ext cx="83822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3300"/>
                </a:solidFill>
                <a:latin typeface="Arial"/>
              </a:rPr>
              <a:t>养成用电好习惯，做到人走电源断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的一个周日上午，家住蜀山区南岗镇的范竞到某水库钓鱼，下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左右，范竞准备收拾回家。但在起杆时，鱼竿上的部件碰到了头顶上方的高压线，范竞当场触电身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2633112_220054032_2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0102505473749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杰正在使用的洗衣机突然不转了，请来了本村的“能人”小李。小李虽不懂多少电器知识，但胆子大，敢动手。洗衣机锈迹斑斑，放在厨房的一角，洗衣机电源线插头插在不远处墙上的两孔插座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李没断电就打开洗衣机，用手东摸西找，弄得满地是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小李身子一颤，倒在洗衣机上。张杰吓坏了！直奔门外，在慌乱中，终于找到了卫生院的王医生。王医生赶到现场，切断了电源，但小李心脏已停止心跳，经抢救无效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10091007403745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10102807055845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0112605331239"/>
          <p:cNvPicPr/>
          <p:nvPr/>
        </p:nvPicPr>
        <p:blipFill>
          <a:blip r:embed="rId1"/>
          <a:stretch/>
        </p:blipFill>
        <p:spPr>
          <a:xfrm>
            <a:off x="0" y="0"/>
            <a:ext cx="89154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0102706351113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u=2398597557,2506744528&amp;fm=0&amp;gp=0"/>
          <p:cNvPicPr/>
          <p:nvPr/>
        </p:nvPicPr>
        <p:blipFill>
          <a:blip r:embed="rId1"/>
          <a:stretch/>
        </p:blipFill>
        <p:spPr>
          <a:xfrm>
            <a:off x="0" y="24382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u=3546640227,708727731&amp;fm=0&amp;gp=0"/>
          <p:cNvPicPr/>
          <p:nvPr/>
        </p:nvPicPr>
        <p:blipFill>
          <a:blip r:embed="rId2"/>
          <a:stretch/>
        </p:blipFill>
        <p:spPr>
          <a:xfrm>
            <a:off x="6705720" y="2438280"/>
            <a:ext cx="2438280" cy="2102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6"/>
          <p:cNvSpPr/>
          <p:nvPr/>
        </p:nvSpPr>
        <p:spPr>
          <a:xfrm>
            <a:off x="1905120" y="3581280"/>
            <a:ext cx="4495680" cy="304920"/>
          </a:xfrm>
          <a:prstGeom prst="rightArrow">
            <a:avLst>
              <a:gd name="adj1" fmla="val 50000"/>
              <a:gd name="adj2" fmla="val 3685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752480" y="2438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摸清电老虎的脾气，小心一点谨慎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0" y="4876920"/>
            <a:ext cx="1905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3333ff"/>
                </a:solidFill>
                <a:latin typeface="Arial"/>
              </a:rPr>
              <a:t>电老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934320" y="4952880"/>
            <a:ext cx="1904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3333ff"/>
                </a:solidFill>
                <a:latin typeface="Arial"/>
              </a:rPr>
              <a:t>乖乖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20095220168676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55960" y="154620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33720" y="23623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活动三：宣传安全用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2008102214491144231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谢 谢 大家，再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要用湿手、湿布触摸、擦拭电器外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检查和修理家用电器时，必须先断开电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提醒父母经常检查家里的电线、开关、电器，发现有损坏或老化的情况，及时请专业人员维修更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要乱动损坏的电线、灯头、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要私自乱接电线，不要随便移动带电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养成安全用电的好习惯，做到人走电源断，停电开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有人触电，应赶快找到开头断电；如离开关太远，不是高压电，可用干燥的衣帽垫手，把触电人拉开，或用干燥的木棒等把电线挑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落地的电线，不要用手去拾，应离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以外，请电工来处理，以防他人走进发生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07711183627682"/>
          <p:cNvPicPr/>
          <p:nvPr/>
        </p:nvPicPr>
        <p:blipFill>
          <a:blip r:embed="rId1"/>
          <a:stretch/>
        </p:blipFill>
        <p:spPr>
          <a:xfrm>
            <a:off x="0" y="0"/>
            <a:ext cx="10287000" cy="64562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2514600" y="5181480"/>
            <a:ext cx="6400800" cy="1143000"/>
          </a:xfrm>
          <a:prstGeom prst="wedgeRectCallout">
            <a:avLst>
              <a:gd name="adj1" fmla="val -7194"/>
              <a:gd name="adj2" fmla="val -12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要在电线上晾晒、搭挂衣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W020100129605676773044"/>
          <p:cNvPicPr/>
          <p:nvPr/>
        </p:nvPicPr>
        <p:blipFill>
          <a:blip r:embed="rId1"/>
          <a:stretch/>
        </p:blipFill>
        <p:spPr>
          <a:xfrm>
            <a:off x="135000" y="0"/>
            <a:ext cx="9009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3429000" y="533520"/>
            <a:ext cx="4191120" cy="685800"/>
          </a:xfrm>
          <a:prstGeom prst="wedgeRectCallout">
            <a:avLst>
              <a:gd name="adj1" fmla="val -43518"/>
              <a:gd name="adj2" fmla="val 47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别用湿毛巾擦灯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W02010012960567677737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0" y="-152280"/>
            <a:ext cx="91440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780" y="1473"/>
                </a:moveTo>
                <a:lnTo>
                  <a:pt x="22009" y="1473"/>
                </a:lnTo>
                <a:lnTo>
                  <a:pt x="22009" y="4173"/>
                </a:lnTo>
                <a:lnTo>
                  <a:pt x="5940" y="687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打雷时，尽可能不要使用电器，并将电源、信号线断开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20070901_6642fa4732c92e52239365q9TLvEjF1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9"/>
          <p:cNvSpPr/>
          <p:nvPr/>
        </p:nvSpPr>
        <p:spPr>
          <a:xfrm>
            <a:off x="7696080" y="76320"/>
            <a:ext cx="1295640" cy="6629400"/>
          </a:xfrm>
          <a:prstGeom prst="borderCallout1">
            <a:avLst>
              <a:gd name="adj1" fmla="val 18750"/>
              <a:gd name="adj2" fmla="val -8333"/>
              <a:gd name="adj3" fmla="val 1722"/>
              <a:gd name="adj4" fmla="val 10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家庭用电禁止私自乱接灯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009042015371309"/>
          <p:cNvPicPr/>
          <p:nvPr/>
        </p:nvPicPr>
        <p:blipFill>
          <a:blip r:embed="rId1"/>
          <a:stretch/>
        </p:blipFill>
        <p:spPr>
          <a:xfrm>
            <a:off x="304920" y="-19080"/>
            <a:ext cx="8839080" cy="68770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3352680" y="1447920"/>
            <a:ext cx="4343400" cy="1676160"/>
          </a:xfrm>
          <a:prstGeom prst="wedgeEllipseCallout">
            <a:avLst>
              <a:gd name="adj1" fmla="val -38375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能私自乱接电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34KI1P-6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4038480" y="990720"/>
            <a:ext cx="3733920" cy="1676160"/>
          </a:xfrm>
          <a:prstGeom prst="wedgeEllipseCallout">
            <a:avLst>
              <a:gd name="adj1" fmla="val -52805"/>
              <a:gd name="adj2" fmla="val 86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能私自乱接电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8-08-31T07:38:0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