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8CF7-8A0A-4070-BA2A-49D4D85BE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5BAA-248B-48DE-8741-8346975E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0D65-A5FF-45FA-A5D6-C5F08A7A0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1B2D-B6A6-4D83-B451-A9FB5FFED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AAF3-FC28-4097-9222-162FA9A4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6515-D7E0-403E-B6C9-871B7EF6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78A6-0802-40D9-99DC-964188E5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B734-E16E-4A27-8C86-290013EF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931D-D71C-4BD9-819C-AAF99EE2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82F8-DA69-4AFC-A04A-5E2921EF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828F-5CC0-4CD8-B547-59EE2B06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981E-6CD4-43B9-8D0E-37AA4CD2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2A2F-97F8-4C33-824B-874594E745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613600" y="141300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华文琥珀"/>
              </a:rPr>
              <a:t>我劳动，我美丽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76360" y="1268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说说我们身边劳动创造了哪些美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332000" y="141300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6200" y="1125360"/>
            <a:ext cx="389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琥珀"/>
              </a:rPr>
              <a:t>故事：懒惰的小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450440" y="5493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琥珀"/>
              </a:rPr>
              <a:t>劳动节的由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134136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国际劳动节又称“五一国际劳动节”、“国际示威游行日” ，是世界上大多数国家的劳动节。定在每年的五月一日。它是全世界劳动人民共同拥有的节日。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889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，由恩格斯领导的第二国际在巴黎举行代表大会。会议通过决议，规定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89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日国际劳动者举行游行，并决定把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日这一天定为国际劳动节。中央人民政府政务院于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949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作出决定，将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日确定为劳动节，全国放假一天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332000" y="141300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59400" y="981000"/>
            <a:ext cx="526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琥珀"/>
              </a:rPr>
              <a:t>名人故事：爱劳动的朱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023840" y="482760"/>
            <a:ext cx="268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一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4643280" cy="5329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643280" y="1268280"/>
            <a:ext cx="450072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琥珀"/>
              </a:rPr>
              <a:t>儿   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今天我是值日生，晚上放学不忙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先洒水，后扫地；擦黑板，抹桌椅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对齐课桌倒垃圾；清洁工具地方整齐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教室整洁我出力，做好值日真光荣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琥珀"/>
              </a:rPr>
              <a:t>辨一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红今天做值日生，她扫地扫得很仔细。这时妈妈来接她回家，看到小红还没扫完地，就对她说：“小红，时间不早了，我来帮你扫，这样可以早点回家，反正你已经扫过了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星期二的值日生真能干！大部分小朋友把自己的事做完了，只剩下玲玲和芳芳还没有把桌子对整齐。军军背起书包对组长说：“我们已经做完了，可以回家了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讨论：①这时小红该怎么办？为什么？②你说军军这样做对吗？如果你是军军该怎么做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琥珀"/>
              </a:rPr>
              <a:t>拍手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拍一，我拍一，热爱劳动莫忘记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拍二，我拍二，自己的事儿自己做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拍三，我拍三，不会的事学着它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拍四，我拍四，服务他人牢牢记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拍五，我拍五，团结友爱讲互助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拍六，我拍六，我们劳动最美丽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03:16:08Z</dcterms:created>
  <dc:creator>User</dc:creator>
  <dc:description/>
  <dc:language>en-US</dc:language>
  <cp:lastModifiedBy>User</cp:lastModifiedBy>
  <dcterms:modified xsi:type="dcterms:W3CDTF">2011-11-21T03:19:49Z</dcterms:modified>
  <cp:revision>2</cp:revision>
  <dc:subject/>
  <dc:title>幻灯片 1</dc:title>
</cp:coreProperties>
</file>