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0.gif" ContentType="image/gif"/>
  <Override PartName="/ppt/media/image13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5.png" ContentType="image/png"/>
  <Override PartName="/ppt/media/image2.gif" ContentType="image/gif"/>
  <Override PartName="/ppt/media/image4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23.gif" ContentType="image/gif"/>
  <Override PartName="/ppt/media/image24.png" ContentType="image/png"/>
  <Override PartName="/ppt/media/image19.gif" ContentType="image/gif"/>
  <Override PartName="/ppt/media/image1.png" ContentType="image/png"/>
  <Override PartName="/ppt/media/image18.png" ContentType="image/png"/>
  <Override PartName="/ppt/media/image7.jpeg" ContentType="image/jpeg"/>
  <Override PartName="/ppt/media/image3.gif" ContentType="image/gif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FCD1-C859-420C-908C-F5F25CDE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B852-B239-45F6-9563-8CD9A07D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3C5E-38DC-4E7A-8803-484C2D65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BF52-C3C4-46A9-A6A9-C19379ED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ADEB-4973-4B11-BE33-3838B2C7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1523-256E-406B-BA60-DA5AD0F3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DC7-4DFF-4165-8AC0-C021F496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8C19-81B5-4D6B-A05E-73961A84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6325-F8E0-4587-A96C-1A064989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26F5-C518-4D59-B3F3-5CDEF853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E80C-ED6D-4C83-B4B4-0F3790B6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BDCA-9E03-44A3-9FC6-33421F59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B434-A82A-463C-96E5-09BE48F834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9.xml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3lian.com/img2009/04/16/2004822551347.gif" TargetMode="Externa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0"/>
          <p:cNvPicPr/>
          <p:nvPr/>
        </p:nvPicPr>
        <p:blipFill>
          <a:blip r:embed="rId2"/>
          <a:stretch/>
        </p:blipFill>
        <p:spPr>
          <a:xfrm>
            <a:off x="1752480" y="5105520"/>
            <a:ext cx="1201680" cy="1420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42"/>
          <p:cNvPicPr/>
          <p:nvPr/>
        </p:nvPicPr>
        <p:blipFill>
          <a:blip r:embed="rId3"/>
          <a:stretch/>
        </p:blipFill>
        <p:spPr>
          <a:xfrm>
            <a:off x="6948360" y="4797360"/>
            <a:ext cx="1270080" cy="15242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539640" y="91548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1258920" y="1773360"/>
            <a:ext cx="6840360" cy="245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男孩女孩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619280" y="1773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539640" y="1413000"/>
            <a:ext cx="8209080" cy="2837880"/>
          </a:xfrm>
          <a:prstGeom prst="rect">
            <a:avLst/>
          </a:prstGeom>
          <a:noFill/>
          <a:ln cap="rnd" w="15840">
            <a:solidFill>
              <a:srgbClr val="99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每个同学在一张纸上写出自己的名字，并按性别分为两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男生女生分别从异性组中抽取一张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按照纸上同学的名字想一想，他（她）有哪些值得称赞和赞赏的地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写出三句称赞这个同学的话，不写自己的名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将纸条集中在一起，大家读一读纸上的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3"/>
          <p:cNvSpPr txBox="1"/>
          <p:nvPr/>
        </p:nvSpPr>
        <p:spPr>
          <a:xfrm>
            <a:off x="395280" y="44280"/>
            <a:ext cx="230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活动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562720" y="730080"/>
            <a:ext cx="1839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1332000" y="1557360"/>
            <a:ext cx="669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同桌，我想对你说：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324000" y="3789360"/>
            <a:ext cx="8424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句真诚的赞美，一份由衷的关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点善意的忠告，增进彼此的友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031215mc002s圣诞节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-1217520" y="0"/>
            <a:ext cx="103615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0" y="1916280"/>
            <a:ext cx="8839080" cy="1556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同学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在青春这个美丽的季节里，总有一种关怀让我们心存感激， 如果把男生比做热情的红色，坦率的蓝色，那么女生就是活泼的黄色，纯洁的白色，让我们用青春的调色板调出和谐的颜色，为我们的校园描绘出最精彩绚丽的画卷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295280" y="54864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Times New Roman"/>
              </a:rPr>
              <a:t>        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2004dxl002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0" y="5105520"/>
            <a:ext cx="1654200" cy="1752480"/>
          </a:xfrm>
          <a:prstGeom prst="rect">
            <a:avLst/>
          </a:prstGeom>
          <a:ln w="0">
            <a:noFill/>
          </a:ln>
        </p:spPr>
      </p:pic>
      <p:sp>
        <p:nvSpPr>
          <p:cNvPr id="89" name="WordArt 6"/>
          <p:cNvSpPr txBox="1"/>
          <p:nvPr/>
        </p:nvSpPr>
        <p:spPr>
          <a:xfrm>
            <a:off x="2627280" y="476280"/>
            <a:ext cx="3438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老师的祝福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3203640" y="4387680"/>
            <a:ext cx="7524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333399"/>
                </a:solidFill>
                <a:latin typeface="Times New Roman"/>
                <a:ea typeface="华文彩云"/>
              </a:rPr>
              <a:t>再 见！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 rot="21474000">
            <a:off x="1402920" y="981000"/>
            <a:ext cx="518472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64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64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Q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WordArt 3" descr=""/>
          <p:cNvPicPr/>
          <p:nvPr/>
        </p:nvPicPr>
        <p:blipFill>
          <a:blip r:embed="rId2"/>
          <a:stretch/>
        </p:blipFill>
        <p:spPr>
          <a:xfrm>
            <a:off x="792000" y="517680"/>
            <a:ext cx="3621240" cy="2219040"/>
          </a:xfrm>
          <a:prstGeom prst="rect">
            <a:avLst/>
          </a:prstGeom>
          <a:ln w="0">
            <a:noFill/>
          </a:ln>
        </p:spPr>
      </p:pic>
      <p:pic>
        <p:nvPicPr>
          <p:cNvPr id="48" name="WordArt 4" descr=""/>
          <p:cNvPicPr/>
          <p:nvPr/>
        </p:nvPicPr>
        <p:blipFill>
          <a:blip r:embed="rId3"/>
          <a:stretch/>
        </p:blipFill>
        <p:spPr>
          <a:xfrm>
            <a:off x="1060560" y="3114720"/>
            <a:ext cx="3584520" cy="20667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5292720" y="620640"/>
            <a:ext cx="2879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我有优势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5580000" y="3141720"/>
            <a:ext cx="280836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我有优势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61"/>
          <p:cNvPicPr/>
          <p:nvPr/>
        </p:nvPicPr>
        <p:blipFill>
          <a:blip r:embed="rId1"/>
          <a:srcRect l="0" t="0" r="0" b="-62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250920" y="2057400"/>
            <a:ext cx="523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女孩子温柔、细腻，善于关心他人，乐于奉献，勤奋刻苦、专心用功、责任心比较强，认真踏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WordArt 4" descr=""/>
          <p:cNvPicPr/>
          <p:nvPr/>
        </p:nvPicPr>
        <p:blipFill>
          <a:blip r:embed="rId2"/>
          <a:stretch/>
        </p:blipFill>
        <p:spPr>
          <a:xfrm>
            <a:off x="341280" y="-60480"/>
            <a:ext cx="49197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031"/>
          <p:cNvPicPr/>
          <p:nvPr/>
        </p:nvPicPr>
        <p:blipFill>
          <a:blip r:embed="rId1"/>
          <a:srcRect l="0" t="0" r="0" b="-63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55" name="WordArt 3"/>
          <p:cNvSpPr txBox="1"/>
          <p:nvPr/>
        </p:nvSpPr>
        <p:spPr>
          <a:xfrm>
            <a:off x="1981080" y="457200"/>
            <a:ext cx="4876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男生的优势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295280" y="2057400"/>
            <a:ext cx="66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开朗、坚强、勇敢、富有责任感，好问好想。在女孩子遇到困难的时候，愿意挺身而出，帮助女孩子解决她们所不能解决的问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20048225513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3320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476360" y="692280"/>
            <a:ext cx="7667640" cy="49950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3399"/>
                </a:solidFill>
                <a:latin typeface="Times New Roman"/>
                <a:ea typeface="华文彩云"/>
              </a:rPr>
              <a:t>大家写一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你欣赏怎样的男生或女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我欣赏这样的男生：—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我不喜欢这样的男生：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我欣赏这样的女生：—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我不喜欢这样的女生：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-395280" y="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28"/>
          <p:cNvPicPr/>
          <p:nvPr/>
        </p:nvPicPr>
        <p:blipFill>
          <a:blip r:embed="rId2"/>
          <a:stretch/>
        </p:blipFill>
        <p:spPr>
          <a:xfrm>
            <a:off x="7696080" y="135576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61" name="WordArt 4" descr=""/>
          <p:cNvPicPr/>
          <p:nvPr/>
        </p:nvPicPr>
        <p:blipFill>
          <a:blip r:embed="rId3"/>
          <a:stretch/>
        </p:blipFill>
        <p:spPr>
          <a:xfrm>
            <a:off x="603360" y="281160"/>
            <a:ext cx="3987720" cy="2309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7929720" y="4292640"/>
            <a:ext cx="458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7524720" y="4869000"/>
            <a:ext cx="161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476360" y="3068640"/>
            <a:ext cx="698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0" y="3213000"/>
            <a:ext cx="8820000" cy="1312920"/>
          </a:xfrm>
          <a:prstGeom prst="rect">
            <a:avLst/>
          </a:prstGeom>
          <a:solidFill>
            <a:srgbClr val="efaf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现实生活中人们对男孩和女孩在要求或态度上有什么不同，产生这些不同的原因是什么呢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14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324000" y="549360"/>
            <a:ext cx="8497800" cy="13813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议一议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怎样才能做一个让别人喜欢的好男孩或好女孩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539640" y="3068640"/>
            <a:ext cx="79995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男生女生正常交往：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有利于班集体的团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有利于少男少女身心健康和发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FR80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990720" y="14479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2411280" y="692280"/>
            <a:ext cx="44960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男生和女生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547640" y="1916280"/>
            <a:ext cx="633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男女同学之间的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正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交往，可以增进我们对异性的了解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优势互补，取长补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完善自己的个性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促进自己个性的充分发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扩大交往范围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锻炼交往能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学习如何适应社会对不同性别的要求，增进自己的性别意识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培养健康的性心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4467"/>
          <p:cNvPicPr/>
          <p:nvPr/>
        </p:nvPicPr>
        <p:blipFill>
          <a:blip r:embed="rId1">
            <a:lum contrast="-6000"/>
          </a:blip>
          <a:srcRect l="0" t="0" r="0" b="15"/>
          <a:stretch/>
        </p:blipFill>
        <p:spPr>
          <a:xfrm>
            <a:off x="0" y="19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1763640" y="620640"/>
            <a:ext cx="738036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男孩女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男孩是土地，坚定中充满锐利</a:t>
            </a:r>
            <a:br>
              <a:rPr sz="2800"/>
            </a:b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女孩是春雨，善感而美丽</a:t>
            </a:r>
            <a:br>
              <a:rPr sz="2800"/>
            </a:b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男孩爱在绿茵场上驰骋</a:t>
            </a:r>
            <a:br>
              <a:rPr sz="2800"/>
            </a:b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女孩喜在阳光下嬉戏</a:t>
            </a:r>
            <a:br>
              <a:rPr sz="2800"/>
            </a:b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男孩会自我鼓励说：我要坚强，我要执著</a:t>
            </a:r>
            <a:br>
              <a:rPr sz="2800"/>
            </a:b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女孩常对潮流讲：我会欣赏，我能把握</a:t>
            </a:r>
            <a:br>
              <a:rPr sz="2800"/>
            </a:b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男孩的目光在网络中穿梭</a:t>
            </a:r>
            <a:br>
              <a:rPr sz="2800"/>
            </a:b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女孩的手指在键盘上流淌</a:t>
            </a:r>
            <a:br>
              <a:rPr sz="2800"/>
            </a:b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如今的男孩女孩呀……共撑一片蓝天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WordArt 4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2322720" cy="1414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B_023"/>
          <p:cNvPicPr/>
          <p:nvPr/>
        </p:nvPicPr>
        <p:blipFill>
          <a:blip r:embed="rId3"/>
          <a:stretch/>
        </p:blipFill>
        <p:spPr>
          <a:xfrm>
            <a:off x="6551640" y="404640"/>
            <a:ext cx="2592360" cy="2530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1332000" y="5803920"/>
            <a:ext cx="752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0066"/>
                </a:solidFill>
                <a:latin typeface="Arial"/>
                <a:ea typeface="楷体_GB2312"/>
              </a:rPr>
              <a:t>希望我们班的男生、女生携起手来，共同构筑温暖、友爱的大集体。愿我们的友谊地久天长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2T15:22:13Z</dcterms:created>
  <dc:creator>Administrators</dc:creator>
  <dc:description/>
  <cp:keywords/>
  <dc:language>en-US</dc:language>
  <cp:lastModifiedBy>Administrator</cp:lastModifiedBy>
  <dcterms:modified xsi:type="dcterms:W3CDTF">2018-04-10T03:06:37Z</dcterms:modified>
  <cp:revision>5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  <property fmtid="{D5CDD505-2E9C-101B-9397-08002B2CF9AE}" pid="3" name="NXTAG2">
    <vt:lpwstr>0008009808000000000001024120</vt:lpwstr>
  </property>
</Properties>
</file>