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5B8-7720-4DCA-B098-CCD463C4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AC1-2EF3-42C2-B6C3-E3BA8AC7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5FF-AE3D-4F89-AB9C-F6B99CF6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79D-40BA-49D9-A43B-265D5C78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605-E468-43F0-A081-904134A6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E1C-9086-49FA-A0D8-7047009E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304-54F2-4C9F-BB60-D031E06F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32B-806D-41D1-BD0F-1C70420C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2F7-C815-4251-A4E9-B9E05A47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AB7D-31E4-4139-8931-B4AD37BD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851-2FCC-40C5-A8E6-398D01DE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6C5-E062-4039-BA0A-8B6E6E50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2C2C-7613-4CFA-B329-11A1CB25F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1606680" y="1071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墙角数枝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4178160" y="1071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兴尽晚回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6708960" y="1071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待到重阳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1519200" y="177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间四月芳菲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1590480" y="2500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竹外桃花三两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5162400" y="2500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天莲叶无穷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1590480" y="31431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塞山前白鹭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5174640" y="1773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色满园关不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3"/>
          <p:cNvSpPr/>
          <p:nvPr/>
        </p:nvSpPr>
        <p:spPr>
          <a:xfrm>
            <a:off x="1622520" y="39290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乱花渐欲迷人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>
            <a:off x="5091120" y="39290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年今日此门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5091120" y="3214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要人夸好颜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1542960" y="4714920"/>
            <a:ext cx="20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梅须逊雪三分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8"/>
          <p:cNvSpPr/>
          <p:nvPr/>
        </p:nvSpPr>
        <p:spPr>
          <a:xfrm>
            <a:off x="2192760" y="5429160"/>
            <a:ext cx="7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经一番寒彻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9"/>
          <p:cNvSpPr/>
          <p:nvPr/>
        </p:nvSpPr>
        <p:spPr>
          <a:xfrm>
            <a:off x="5094000" y="54291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得梅花扑鼻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5091120" y="4714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雪却输梅一段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Administrator\Desktop\广玉兰第一课时\广玉兰第二课时王霞\刚刚绽放.png"/>
          <p:cNvPicPr/>
          <p:nvPr/>
        </p:nvPicPr>
        <p:blipFill>
          <a:blip r:embed="rId1"/>
          <a:srcRect l="11764" t="0" r="8823" b="11537"/>
          <a:stretch/>
        </p:blipFill>
        <p:spPr>
          <a:xfrm>
            <a:off x="0" y="0"/>
            <a:ext cx="4429080" cy="340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http://img611.ph.126.net/ZAS0GM7QZoG4x9ClG0f3Pw==/1921911140982228264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http://static.qjwb.com.cn/2010-5/20105292036718130.jpg"/>
          <p:cNvPicPr/>
          <p:nvPr/>
        </p:nvPicPr>
        <p:blipFill>
          <a:blip r:embed="rId3"/>
          <a:srcRect l="20417" t="33815" r="15677" b="13292"/>
          <a:stretch/>
        </p:blipFill>
        <p:spPr>
          <a:xfrm>
            <a:off x="5286240" y="328608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http://s6.sinaimg.cn/bmiddle/001kTCgCzy6SjKbGjwp85&amp;690"/>
          <p:cNvPicPr/>
          <p:nvPr/>
        </p:nvPicPr>
        <p:blipFill>
          <a:blip r:embed="rId4"/>
          <a:srcRect l="0" t="0" r="0" b="9690"/>
          <a:stretch/>
        </p:blipFill>
        <p:spPr>
          <a:xfrm>
            <a:off x="0" y="3357720"/>
            <a:ext cx="52862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285840" y="1071720"/>
            <a:ext cx="8643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无法用文字准确形容那花瓣的色彩，说它纯白吧，又似乎有一种淡淡的青绿色渗透出来；我也无法用文字准确形容那花瓣的质感，说它玉琢冰雕吧，它又显得那样柔韧而有弹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85840" y="1071720"/>
            <a:ext cx="8643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无法用文字准确形容那花瓣的色彩，说它纯白吧，又似乎有一种淡淡的青绿色渗透出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285840" y="500040"/>
            <a:ext cx="864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无法用文字准确形容那花瓣的色彩，说它纯白吧，又似乎有一种淡淡的青绿色渗透出来；我也无法用文字准确形容那花瓣的质感，说它玉琢冰雕吧，它又显得那样柔韧而有弹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85840" y="4429080"/>
            <a:ext cx="864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之，只凭几个优美的词句是不能概括它的全部内涵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第二小节朗读.mp3" descr=""/>
          <p:cNvPicPr/>
          <p:nvPr/>
        </p:nvPicPr>
        <p:blipFill>
          <a:blip r:embed="rId1"/>
          <a:stretch/>
        </p:blipFill>
        <p:spPr>
          <a:xfrm>
            <a:off x="7929720" y="5786280"/>
            <a:ext cx="7236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5709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285840" y="1081080"/>
            <a:ext cx="864396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六月份是广玉兰花盛开的季节。在绿油油的叶丛中，花朵是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无法用文字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说它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又似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我也无法用文字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说它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它又显得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之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               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3540240" y="9288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选择其中的一条练习写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85840" y="1703160"/>
            <a:ext cx="8429400" cy="44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我真是无法说清爸爸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他和蔼吧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他严厉吧，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）我家大花猫的性格确实有些古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说它老实吧，它有时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说它贪玩吧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说它胆小吧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116000" y="1484280"/>
            <a:ext cx="6985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练习有感情地朗读课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继续尝试给课文随文批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468360" y="692280"/>
            <a:ext cx="834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一天晚上，我独自在丛林中散步，感到一股淡淡的幽香在空气中荡漾。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原来，在林阴道两旁，有许多开着白色花朵的高大树木，那一阵阵幽香就是从这儿散发出来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2005511190448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7380360" y="1052640"/>
            <a:ext cx="140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微软雅黑"/>
              </a:rPr>
              <a:t>广玉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01300000335934127009432846051.jpg"/>
          <p:cNvPicPr/>
          <p:nvPr/>
        </p:nvPicPr>
        <p:blipFill>
          <a:blip r:embed="rId1"/>
          <a:stretch/>
        </p:blipFill>
        <p:spPr>
          <a:xfrm>
            <a:off x="0" y="928800"/>
            <a:ext cx="3286080" cy="4929120"/>
          </a:xfrm>
          <a:prstGeom prst="rect">
            <a:avLst/>
          </a:prstGeom>
          <a:ln w="0">
            <a:noFill/>
          </a:ln>
        </p:spPr>
      </p:pic>
      <p:sp>
        <p:nvSpPr>
          <p:cNvPr id="60" name="矩形 4"/>
          <p:cNvSpPr/>
          <p:nvPr/>
        </p:nvSpPr>
        <p:spPr>
          <a:xfrm>
            <a:off x="3286080" y="642960"/>
            <a:ext cx="585792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陈荒煤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91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月－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996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月），湖北襄阳人，我国著名的作家、文艺评论家，在中国当代文学史上占有重要位置。先后创作出版了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多部著作，其中，散文集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荒野中的地火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获得了全国优秀散文大奖。他的文笔行如流水，细腻而传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1123200" y="1556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荡漾  内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4721760" y="157104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绽放  花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149840" y="249948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  圆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799160" y="2502360"/>
            <a:ext cx="193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铁锈    凋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088000" y="3431160"/>
            <a:ext cx="38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世同堂        生生不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2028960" y="4359960"/>
            <a:ext cx="38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琢冰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迫不及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1"/>
          <p:cNvSpPr/>
          <p:nvPr/>
        </p:nvSpPr>
        <p:spPr>
          <a:xfrm>
            <a:off x="1749240" y="4363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3"/>
          <p:cNvSpPr/>
          <p:nvPr/>
        </p:nvSpPr>
        <p:spPr>
          <a:xfrm>
            <a:off x="1573200" y="1357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2317680" y="1357200"/>
            <a:ext cx="1245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4567320" y="1357200"/>
            <a:ext cx="2649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雕刻玉石，使成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索考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3447720" y="2984760"/>
            <a:ext cx="2257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妈的话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磨了很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不成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589120" y="40687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"/>
          <p:cNvSpPr/>
          <p:nvPr/>
        </p:nvSpPr>
        <p:spPr>
          <a:xfrm>
            <a:off x="4313160" y="28544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123200" y="1556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荡漾  内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721760" y="157104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绽放  花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49840" y="249948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  圆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799160" y="2502360"/>
            <a:ext cx="193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铁锈    凋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088000" y="3431160"/>
            <a:ext cx="38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世同堂        生生不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028960" y="4359960"/>
            <a:ext cx="38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琢冰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迫不及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1"/>
          <p:cNvSpPr/>
          <p:nvPr/>
        </p:nvSpPr>
        <p:spPr>
          <a:xfrm>
            <a:off x="1749240" y="4363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"/>
          <p:cNvSpPr/>
          <p:nvPr/>
        </p:nvSpPr>
        <p:spPr>
          <a:xfrm>
            <a:off x="857160" y="2597040"/>
            <a:ext cx="742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桌互读课文，一人读一段，伙伴及时给予纠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642960" y="1714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检查朗读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214200" y="1428840"/>
            <a:ext cx="8643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圆茎上面缀满了像细珠似的紫红色的小颗粒，这就是孕育着新生命的种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"/>
          <p:cNvSpPr/>
          <p:nvPr/>
        </p:nvSpPr>
        <p:spPr>
          <a:xfrm flipH="1">
            <a:off x="4857840" y="1714680"/>
            <a:ext cx="71280" cy="57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3"/>
          <p:cNvSpPr/>
          <p:nvPr/>
        </p:nvSpPr>
        <p:spPr>
          <a:xfrm flipH="1">
            <a:off x="7500960" y="1714680"/>
            <a:ext cx="71280" cy="57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85840" y="1071720"/>
            <a:ext cx="8643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广玉兰的叶片富有光泽，好像涂了层蜡，再配上有着铁锈色短柔毛的叶背和那微呈波状的边缘，使人觉得另有一番情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3"/>
          <p:cNvSpPr/>
          <p:nvPr/>
        </p:nvSpPr>
        <p:spPr>
          <a:xfrm flipH="1">
            <a:off x="4000680" y="2214720"/>
            <a:ext cx="71280" cy="57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7"/>
          <p:cNvSpPr/>
          <p:nvPr/>
        </p:nvSpPr>
        <p:spPr>
          <a:xfrm flipH="1">
            <a:off x="1428840" y="3143160"/>
            <a:ext cx="71280" cy="571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05:52:25Z</dcterms:created>
  <dc:creator>微软用户</dc:creator>
  <dc:description/>
  <cp:keywords/>
  <dc:language>en-US</dc:language>
  <cp:lastModifiedBy>微软用户</cp:lastModifiedBy>
  <dcterms:modified xsi:type="dcterms:W3CDTF">2018-04-17T01:16:01Z</dcterms:modified>
  <cp:revision>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