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CCE-7109-46E1-AAAB-EEFD40A6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117-8666-420B-93BA-F42D2A98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E11-9AFA-4826-BA8E-5DA1E640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CE2-E301-4D79-B212-2DB498E2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05EA-9213-4F98-B08E-097875D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8C64-1D97-452A-A318-8799BD5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FBD1-E149-4403-95D0-91401E9B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685-C53D-43CF-80D4-36AC41E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4B7D-FC2E-4B5A-B41E-6B3CD31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B8CC-6251-4B46-838B-D735670D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B70A-8F92-422D-B7FC-8009646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2DF-CC1C-4DE5-9B17-22B99790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7770-93D8-4985-8EB1-494897F6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786B-86DD-42D2-ABE9-0B59D94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FECF-5BD6-4DA5-A86F-1C9C5D52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3DAA-C6AB-4C47-A44E-4D360098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4579-8F45-43C0-BFA4-22D9EB95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1E11-4015-413E-BB5F-C032EE17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0C19-67EC-4027-ADBB-81667159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E6FF-81CA-47BC-A420-FF56FA6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F2BF-3383-420D-AB74-85E3A52D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2B5B-4B4C-407A-9B9D-24E2AC44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A59-DE44-44A8-8F9C-EAE016C6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B799-0862-4D01-9224-E8BC0BC9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3CEF-F55A-4156-8B77-3F8BDF8E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9DE0-2CB3-4D5B-BAE5-6814D2D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7A3C-91C6-4895-A00A-0F1CFB0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CA1F-7726-42F9-B84D-827053B2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3C58-FDBF-49C0-B913-7D68C605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EDEA-3709-4BF9-A5F3-800C9AF5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6A2-0713-4D75-AE07-F6A32DCD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D9A-7253-4744-92DE-AB3FDE0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E48-3125-4AA5-9640-3FF20CB9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D6F-0394-4B54-BCD8-F623CEF9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BFF-3739-4053-BE7B-A86C9903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EC6-9803-4E30-BAD4-63EA41D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4B32-11E3-4436-B916-9D614EDED6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E72-1A7F-4097-823E-306CFC1A52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5701-4E6E-4870-A59B-B8113AE9E4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6145"/>
          <p:cNvSpPr/>
          <p:nvPr/>
        </p:nvSpPr>
        <p:spPr>
          <a:xfrm>
            <a:off x="1066680" y="1752480"/>
            <a:ext cx="76806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学科教学常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——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作业批改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99"/>
          <p:cNvSpPr/>
          <p:nvPr/>
        </p:nvSpPr>
        <p:spPr>
          <a:xfrm>
            <a:off x="228600" y="533520"/>
            <a:ext cx="8547120" cy="352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七）大作小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批改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错别字圈出来，在订正栏画“同”字框，学生在里面订正后封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好词好句在下面画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”，加上双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每篇作文总批达两行字，眉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处，在题目右上角打上作文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小作批改略简。眉批和总批任选一种，眉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处，总批不少于一行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99"/>
          <p:cNvSpPr/>
          <p:nvPr/>
        </p:nvSpPr>
        <p:spPr>
          <a:xfrm>
            <a:off x="380880" y="2057400"/>
            <a:ext cx="854712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八）单元归类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. 4-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级统一时间使用单元归类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要校对，要批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9"/>
          <p:cNvSpPr/>
          <p:nvPr/>
        </p:nvSpPr>
        <p:spPr>
          <a:xfrm>
            <a:off x="228600" y="304920"/>
            <a:ext cx="8547120" cy="411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低年级课堂常规训练小口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课口令：铃声响 进课堂 坐端正 等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立口令：抬头挺胸看前面，小手垂直放两边，前后保持一条线，小嘴闭牢不发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姿口令：半张凳子脚着地，小手平放腰挺直，亮眼睛，看老师，耳朵听，用心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读口令：把书翻到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页，抹平书角，左手按，右手指，眼睛看，嘴巴读，用心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举手发言口令：要说话，先举手，老师请你再开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99"/>
          <p:cNvSpPr/>
          <p:nvPr/>
        </p:nvSpPr>
        <p:spPr>
          <a:xfrm>
            <a:off x="304920" y="762120"/>
            <a:ext cx="8547120" cy="26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写字书空口令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举起手指，跟着老师，请你跟我这样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写字执笔口令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拇指食指面对面，中指在下面，牶心留空，手腕摆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写字坐姿口令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正 肩平 臂开 足安  一拳 一尺 一寸  边说边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99"/>
          <p:cNvSpPr/>
          <p:nvPr/>
        </p:nvSpPr>
        <p:spPr>
          <a:xfrm>
            <a:off x="304920" y="76320"/>
            <a:ext cx="8547120" cy="521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开火车口令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火车火车哪里开？火车火车这里开。我的火车请你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请求帮助口令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我请谁来帮帮我。 请你跟我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学习生字口令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谁会学？ 我会记（结构  比一比  加一加  减一减 换一换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我会写漂亮  （宽窄  高矮  关键笔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我会组词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我会说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我会找近、反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99"/>
          <p:cNvSpPr/>
          <p:nvPr/>
        </p:nvSpPr>
        <p:spPr>
          <a:xfrm>
            <a:off x="304920" y="380880"/>
            <a:ext cx="8547120" cy="470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一）习字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书写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-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年全描全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-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级只描生字，句子不描，再在空格内书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批改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书写漂亮的字在右上角打“★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错字圈出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订正后再打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√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并抄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批改等第有：优、优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优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★★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上、中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99"/>
          <p:cNvSpPr/>
          <p:nvPr/>
        </p:nvSpPr>
        <p:spPr>
          <a:xfrm>
            <a:off x="304920" y="380880"/>
            <a:ext cx="8547120" cy="354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二）默写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默写之前先写课题；每次默写中间空两行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田字格、方格本默写词语时词语与词语之间要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-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格；使用双线超一折四，每行默写四个词语；默写古诗一行两句；默写段落段首空两个字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字圈出来，在原处订正后打上“√”，并抄写，一般不要超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-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批改要有分数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-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级由老师批改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-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级可以交互批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默写后请学生在扉页的左侧登记序号和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99"/>
          <p:cNvSpPr/>
          <p:nvPr/>
        </p:nvSpPr>
        <p:spPr>
          <a:xfrm>
            <a:off x="228600" y="304920"/>
            <a:ext cx="8547120" cy="368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抄写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田字格（包括拼音格带田字格）方格、作文格等练习本，汉字一律居中写，大小适度，四面不撑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横行的练习本（包括无行距、有行距）上写字，一般在格子中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点符号占一个字位置，点的位置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抄写段落或课文时，第一行第一个字退后两格，另起一句或另起一节、一段时，要另起一行，开头也退后两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句中、文中标点要规范，一行要写到句子、课文正好抄完，标点符号就点在最后一个字边，不另换一行。一行抄到末一个字如果是句子，文章中的“道”、“说”等字，后面要用冒号、引号的，冒号写在该字后，引号写到下一行的第一格里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3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错字圈出来，订正后打上“√”。一面作业至少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-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“√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99"/>
          <p:cNvSpPr/>
          <p:nvPr/>
        </p:nvSpPr>
        <p:spPr>
          <a:xfrm>
            <a:off x="380880" y="2057400"/>
            <a:ext cx="854712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四）书后习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 在课堂上老师的指导下完成，要呈现答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一定要批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9"/>
          <p:cNvSpPr/>
          <p:nvPr/>
        </p:nvSpPr>
        <p:spPr>
          <a:xfrm>
            <a:off x="304920" y="76320"/>
            <a:ext cx="8547120" cy="412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补充习题和练习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 1-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级统一铅笔书写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-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级黑色钢笔或水笔书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题时，回答的词句写在横线上的，字下部齐下线，字体大小适中、匀称，答句在两行以上的，第一行第一个字要退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字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答问题：答句子标点符号要规范使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题中标点、题后问号都要规范，齐全。一个问题中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以上问句的，答完一个问句，答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时，都要另起一行并退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字的位置开始写。如果写不下的话，几个问题要表上序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括号里写“√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有关词语，都要居中写，括号上下对齐的，回答的符号、汉字也要上下对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9"/>
          <p:cNvSpPr/>
          <p:nvPr/>
        </p:nvSpPr>
        <p:spPr>
          <a:xfrm>
            <a:off x="228600" y="228600"/>
            <a:ext cx="8547120" cy="239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多变生动活泼的练习题，教师按实际规定解答规范，全班以至年级，力求格式一致，绝不能各做各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题目中要画横线，都要用小尺画（包括破折号），虚线也要用小尺沿着尺点出线。括号一般用圆括号（  ），有特殊需要，教师按实际另作规定，用尖括号﹤  ﹥或方括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[  ]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完后在右下角写上日期，画         ，打上等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字圈出来，错误的答案打“？”，在原处订正后再打“√”。可在订正栏里抄写错误的词语不多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99"/>
          <p:cNvSpPr/>
          <p:nvPr/>
        </p:nvSpPr>
        <p:spPr>
          <a:xfrm>
            <a:off x="304920" y="263520"/>
            <a:ext cx="8547120" cy="54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六）写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书写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每一篇都要有题目，篇与篇之间空两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段首空行，正确书写标点符号，标点符号占一格，不回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写完后在右下方写上日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批改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圈出错别字，在原处修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好词好句在下面“   ”，加上双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题目右上方写上分数，在篇末也可以写上鼓励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一、二年级每学期摘抄长句或段落不少于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8—1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次，写话不少于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0—1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次（一年级第一学期不作要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36865"/>
          <p:cNvSpPr/>
          <p:nvPr/>
        </p:nvSpPr>
        <p:spPr>
          <a:xfrm>
            <a:off x="3505320" y="762120"/>
            <a:ext cx="487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99"/>
          <p:cNvSpPr/>
          <p:nvPr/>
        </p:nvSpPr>
        <p:spPr>
          <a:xfrm>
            <a:off x="228600" y="228600"/>
            <a:ext cx="85471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七）大作小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书写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页第一行正中间写上“目录”两字，靠左侧写上序号和作文题目，行末写上作文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页开始写第一篇作文，一页的第一行正中间写上题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文抄写后在右下方写上日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、内容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三至六年级每学期大作、小作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3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篇，摘抄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次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三、四年级摘抄段落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5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字以上，鼓励有选择性地在摘抄下尝试写读书感受，所写感受字数不作要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）五、六年级摘抄段落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20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字以上，有选择性地让学生在摘抄下写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150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字以上的读书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eclipse</dc:creator>
  <dc:description/>
  <dc:language>en-US</dc:language>
  <cp:lastModifiedBy>Administrator</cp:lastModifiedBy>
  <dcterms:modified xsi:type="dcterms:W3CDTF">2018-08-22T07:53:04Z</dcterms:modified>
  <cp:revision>88</cp:revision>
  <dc:subject/>
  <dc:title>Golden Glo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