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2.png" ContentType="image/png"/>
  <Override PartName="/ppt/media/image21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chimes.wav" ContentType="audio/x-wav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964-FD52-4794-B99B-2DB0AB93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81C-21DF-4BE3-827D-8CEFDF1D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5C1C-8459-4BF1-A956-3A8168ED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5D5-41B0-491D-875C-92C46CA8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F87E-9AA4-43E2-8239-2E86AF73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CE9-82E6-458E-9C31-ACA91C11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B31B-89AC-442D-8748-FB8D3D52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8A9-C125-4911-AF85-7F3BA9EB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16CB-8924-4A65-A2F3-3F8F87F6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CE6-9C10-455F-B925-25226C59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082-F500-4AD6-99E8-C2DD0C1D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0AE-87F7-4E03-A95C-77217AC5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250A-2927-4264-8F82-140E64168D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3622680" y="1905120"/>
            <a:ext cx="215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第</a:t>
            </a: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章《物态变化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单元复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5"/>
          <p:cNvSpPr/>
          <p:nvPr/>
        </p:nvSpPr>
        <p:spPr>
          <a:xfrm>
            <a:off x="1066680" y="2209680"/>
            <a:ext cx="6696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烧开水时壶嘴冒出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白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冬天人在室外呼出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白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雾、露的形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0492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液化的两种方式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490080" y="380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加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4737600" y="380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降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1986840" y="13716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常见的液化现象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81532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12" descr=""/>
          <p:cNvPicPr/>
          <p:nvPr/>
        </p:nvPicPr>
        <p:blipFill>
          <a:blip r:embed="rId1"/>
          <a:stretch/>
        </p:blipFill>
        <p:spPr>
          <a:xfrm>
            <a:off x="1066680" y="4776840"/>
            <a:ext cx="3132360" cy="20811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3"/>
          <p:cNvSpPr/>
          <p:nvPr/>
        </p:nvSpPr>
        <p:spPr>
          <a:xfrm>
            <a:off x="5867280" y="42670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2362320" y="426708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7" descr=""/>
          <p:cNvPicPr/>
          <p:nvPr/>
        </p:nvPicPr>
        <p:blipFill>
          <a:blip r:embed="rId2"/>
          <a:stretch/>
        </p:blipFill>
        <p:spPr>
          <a:xfrm>
            <a:off x="4572000" y="4718160"/>
            <a:ext cx="2878200" cy="213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826920" y="119700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比较两个灯泡，你能提出问题，并解释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630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4"/>
          <p:cNvGrpSpPr/>
          <p:nvPr/>
        </p:nvGrpSpPr>
        <p:grpSpPr>
          <a:xfrm>
            <a:off x="1233360" y="2155680"/>
            <a:ext cx="6629040" cy="2209680"/>
            <a:chOff x="1233360" y="2155680"/>
            <a:chExt cx="6629040" cy="2209680"/>
          </a:xfrm>
        </p:grpSpPr>
        <p:sp>
          <p:nvSpPr>
            <p:cNvPr id="184" name="Text Box 5"/>
            <p:cNvSpPr/>
            <p:nvPr/>
          </p:nvSpPr>
          <p:spPr>
            <a:xfrm>
              <a:off x="3960720" y="2612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cc"/>
                  </a:solidFill>
                  <a:latin typeface="Times New Roman"/>
                </a:rPr>
                <a:t>用久之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Group 6"/>
            <p:cNvGrpSpPr/>
            <p:nvPr/>
          </p:nvGrpSpPr>
          <p:grpSpPr>
            <a:xfrm>
              <a:off x="1233360" y="2155680"/>
              <a:ext cx="1981080" cy="2209680"/>
              <a:chOff x="1233360" y="2155680"/>
              <a:chExt cx="1981080" cy="2209680"/>
            </a:xfrm>
          </p:grpSpPr>
          <p:sp>
            <p:nvSpPr>
              <p:cNvPr id="186" name="Rectangle 7"/>
              <p:cNvSpPr/>
              <p:nvPr/>
            </p:nvSpPr>
            <p:spPr>
              <a:xfrm>
                <a:off x="1233360" y="2155680"/>
                <a:ext cx="1981080" cy="2209680"/>
              </a:xfrm>
              <a:prstGeom prst="rect">
                <a:avLst/>
              </a:prstGeom>
              <a:noFill/>
              <a:ln w="3816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" name="Group 8"/>
              <p:cNvGrpSpPr/>
              <p:nvPr/>
            </p:nvGrpSpPr>
            <p:grpSpPr>
              <a:xfrm>
                <a:off x="1309680" y="2231640"/>
                <a:ext cx="1828800" cy="2057040"/>
                <a:chOff x="1309680" y="2231640"/>
                <a:chExt cx="1828800" cy="2057040"/>
              </a:xfrm>
            </p:grpSpPr>
            <p:pic>
              <p:nvPicPr>
                <p:cNvPr id="188" name="Picture 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309680" y="2231640"/>
                  <a:ext cx="1828800" cy="2057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Line 10"/>
                <p:cNvSpPr/>
                <p:nvPr/>
              </p:nvSpPr>
              <p:spPr>
                <a:xfrm>
                  <a:off x="1309680" y="2231640"/>
                  <a:ext cx="0" cy="2057040"/>
                </a:xfrm>
                <a:prstGeom prst="line">
                  <a:avLst/>
                </a:prstGeom>
                <a:ln w="57240">
                  <a:solidFill>
                    <a:srgbClr val="99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Line 11"/>
                <p:cNvSpPr/>
                <p:nvPr/>
              </p:nvSpPr>
              <p:spPr>
                <a:xfrm>
                  <a:off x="3138480" y="2231640"/>
                  <a:ext cx="0" cy="2057040"/>
                </a:xfrm>
                <a:prstGeom prst="line">
                  <a:avLst/>
                </a:prstGeom>
                <a:ln w="57240">
                  <a:solidFill>
                    <a:srgbClr val="99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12"/>
                <p:cNvSpPr/>
                <p:nvPr/>
              </p:nvSpPr>
              <p:spPr>
                <a:xfrm>
                  <a:off x="1309680" y="4288680"/>
                  <a:ext cx="1828800" cy="0"/>
                </a:xfrm>
                <a:prstGeom prst="line">
                  <a:avLst/>
                </a:prstGeom>
                <a:ln w="57240">
                  <a:solidFill>
                    <a:srgbClr val="99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13"/>
                <p:cNvSpPr/>
                <p:nvPr/>
              </p:nvSpPr>
              <p:spPr>
                <a:xfrm>
                  <a:off x="1309680" y="2231640"/>
                  <a:ext cx="1828800" cy="0"/>
                </a:xfrm>
                <a:prstGeom prst="line">
                  <a:avLst/>
                </a:prstGeom>
                <a:ln w="57240">
                  <a:solidFill>
                    <a:srgbClr val="99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" name="AutoShape 14"/>
            <p:cNvSpPr/>
            <p:nvPr/>
          </p:nvSpPr>
          <p:spPr>
            <a:xfrm>
              <a:off x="3443040" y="3146400"/>
              <a:ext cx="2133720" cy="304560"/>
            </a:xfrm>
            <a:prstGeom prst="rightArrow">
              <a:avLst>
                <a:gd name="adj1" fmla="val 50000"/>
                <a:gd name="adj2" fmla="val 175148"/>
              </a:avLst>
            </a:prstGeom>
            <a:solidFill>
              <a:srgbClr val="ccccff"/>
            </a:solidFill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Group 15"/>
            <p:cNvGrpSpPr/>
            <p:nvPr/>
          </p:nvGrpSpPr>
          <p:grpSpPr>
            <a:xfrm>
              <a:off x="5881320" y="2155680"/>
              <a:ext cx="1981080" cy="2209680"/>
              <a:chOff x="5881320" y="2155680"/>
              <a:chExt cx="1981080" cy="2209680"/>
            </a:xfrm>
          </p:grpSpPr>
          <p:grpSp>
            <p:nvGrpSpPr>
              <p:cNvPr id="195" name="Group 16"/>
              <p:cNvGrpSpPr/>
              <p:nvPr/>
            </p:nvGrpSpPr>
            <p:grpSpPr>
              <a:xfrm>
                <a:off x="5957640" y="2231640"/>
                <a:ext cx="1828800" cy="2057040"/>
                <a:chOff x="5957640" y="2231640"/>
                <a:chExt cx="1828800" cy="2057040"/>
              </a:xfrm>
            </p:grpSpPr>
            <p:pic>
              <p:nvPicPr>
                <p:cNvPr id="196" name="Picture 17" descr=""/>
                <p:cNvPicPr/>
                <p:nvPr/>
              </p:nvPicPr>
              <p:blipFill>
                <a:blip r:embed="rId3"/>
                <a:srcRect l="9462" t="0" r="12038" b="0"/>
                <a:stretch/>
              </p:blipFill>
              <p:spPr>
                <a:xfrm>
                  <a:off x="5957640" y="2231640"/>
                  <a:ext cx="1828800" cy="20570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97" name="Group 18"/>
                <p:cNvGrpSpPr/>
                <p:nvPr/>
              </p:nvGrpSpPr>
              <p:grpSpPr>
                <a:xfrm>
                  <a:off x="5957640" y="2231640"/>
                  <a:ext cx="1828800" cy="2057040"/>
                  <a:chOff x="5957640" y="2231640"/>
                  <a:chExt cx="1828800" cy="2057040"/>
                </a:xfrm>
              </p:grpSpPr>
              <p:sp>
                <p:nvSpPr>
                  <p:cNvPr id="198" name="Line 19"/>
                  <p:cNvSpPr/>
                  <p:nvPr/>
                </p:nvSpPr>
                <p:spPr>
                  <a:xfrm>
                    <a:off x="7786440" y="2231640"/>
                    <a:ext cx="0" cy="2057040"/>
                  </a:xfrm>
                  <a:prstGeom prst="line">
                    <a:avLst/>
                  </a:prstGeom>
                  <a:ln w="57240">
                    <a:solidFill>
                      <a:srgbClr val="99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Line 20"/>
                  <p:cNvSpPr/>
                  <p:nvPr/>
                </p:nvSpPr>
                <p:spPr>
                  <a:xfrm>
                    <a:off x="5957640" y="2231640"/>
                    <a:ext cx="0" cy="2057040"/>
                  </a:xfrm>
                  <a:prstGeom prst="line">
                    <a:avLst/>
                  </a:prstGeom>
                  <a:ln w="57240">
                    <a:solidFill>
                      <a:srgbClr val="99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Line 21"/>
                  <p:cNvSpPr/>
                  <p:nvPr/>
                </p:nvSpPr>
                <p:spPr>
                  <a:xfrm>
                    <a:off x="5957640" y="4288680"/>
                    <a:ext cx="1828800" cy="0"/>
                  </a:xfrm>
                  <a:prstGeom prst="line">
                    <a:avLst/>
                  </a:prstGeom>
                  <a:ln w="57240">
                    <a:solidFill>
                      <a:srgbClr val="99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Line 22"/>
                  <p:cNvSpPr/>
                  <p:nvPr/>
                </p:nvSpPr>
                <p:spPr>
                  <a:xfrm>
                    <a:off x="5957640" y="2231640"/>
                    <a:ext cx="1828800" cy="0"/>
                  </a:xfrm>
                  <a:prstGeom prst="line">
                    <a:avLst/>
                  </a:prstGeom>
                  <a:ln w="57240">
                    <a:solidFill>
                      <a:srgbClr val="99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2" name="Rectangle 23"/>
              <p:cNvSpPr/>
              <p:nvPr/>
            </p:nvSpPr>
            <p:spPr>
              <a:xfrm>
                <a:off x="5881320" y="2155680"/>
                <a:ext cx="1981080" cy="2209680"/>
              </a:xfrm>
              <a:prstGeom prst="rect">
                <a:avLst/>
              </a:prstGeom>
              <a:noFill/>
              <a:ln w="3816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03" name="Picture 24" descr=""/>
          <p:cNvPicPr/>
          <p:nvPr/>
        </p:nvPicPr>
        <p:blipFill>
          <a:blip r:embed="rId4"/>
          <a:stretch/>
        </p:blipFill>
        <p:spPr>
          <a:xfrm>
            <a:off x="8077320" y="5257800"/>
            <a:ext cx="106668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35"/>
          <p:cNvGrpSpPr/>
          <p:nvPr/>
        </p:nvGrpSpPr>
        <p:grpSpPr>
          <a:xfrm>
            <a:off x="609480" y="228600"/>
            <a:ext cx="2057400" cy="685800"/>
            <a:chOff x="609480" y="228600"/>
            <a:chExt cx="2057400" cy="685800"/>
          </a:xfrm>
        </p:grpSpPr>
        <p:sp>
          <p:nvSpPr>
            <p:cNvPr id="205" name="AutoShape 26"/>
            <p:cNvSpPr/>
            <p:nvPr/>
          </p:nvSpPr>
          <p:spPr>
            <a:xfrm>
              <a:off x="609480" y="228600"/>
              <a:ext cx="2057400" cy="685800"/>
            </a:xfrm>
            <a:custGeom>
              <a:avLst/>
              <a:gdLst>
                <a:gd name="textAreaLeft" fmla="*/ 335520 w 2057400"/>
                <a:gd name="textAreaRight" fmla="*/ 1721880 w 2057400"/>
                <a:gd name="textAreaTop" fmla="*/ 0 h 685800"/>
                <a:gd name="textAreaBottom" fmla="*/ 4906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6222" y="15450"/>
                  </a:moveTo>
                  <a:lnTo>
                    <a:pt x="6222" y="20063"/>
                  </a:lnTo>
                  <a:cubicBezTo>
                    <a:pt x="6222" y="20831"/>
                    <a:pt x="5802" y="21600"/>
                    <a:pt x="5382" y="21600"/>
                  </a:cubicBezTo>
                  <a:lnTo>
                    <a:pt x="0" y="21600"/>
                  </a:lnTo>
                  <a:lnTo>
                    <a:pt x="2750" y="13875"/>
                  </a:lnTo>
                  <a:lnTo>
                    <a:pt x="0" y="6150"/>
                  </a:lnTo>
                  <a:lnTo>
                    <a:pt x="3522" y="6150"/>
                  </a:lnTo>
                  <a:lnTo>
                    <a:pt x="3522" y="1538"/>
                  </a:lnTo>
                  <a:cubicBezTo>
                    <a:pt x="3522" y="769"/>
                    <a:pt x="3942" y="0"/>
                    <a:pt x="4362" y="0"/>
                  </a:cubicBezTo>
                  <a:lnTo>
                    <a:pt x="17238" y="0"/>
                  </a:lnTo>
                  <a:cubicBezTo>
                    <a:pt x="17658" y="0"/>
                    <a:pt x="18078" y="769"/>
                    <a:pt x="18078" y="1538"/>
                  </a:cubicBezTo>
                  <a:lnTo>
                    <a:pt x="18078" y="6150"/>
                  </a:lnTo>
                  <a:lnTo>
                    <a:pt x="21600" y="6150"/>
                  </a:lnTo>
                  <a:lnTo>
                    <a:pt x="18850" y="13875"/>
                  </a:lnTo>
                  <a:lnTo>
                    <a:pt x="21600" y="21600"/>
                  </a:lnTo>
                  <a:lnTo>
                    <a:pt x="16218" y="21600"/>
                  </a:lnTo>
                  <a:cubicBezTo>
                    <a:pt x="15798" y="21600"/>
                    <a:pt x="15378" y="20831"/>
                    <a:pt x="15378" y="20063"/>
                  </a:cubicBezTo>
                  <a:lnTo>
                    <a:pt x="15378" y="15450"/>
                  </a:lnTo>
                  <a:close/>
                </a:path>
                <a:path fill="darkenLess" w="21600" h="21600">
                  <a:moveTo>
                    <a:pt x="6222" y="15450"/>
                  </a:moveTo>
                  <a:lnTo>
                    <a:pt x="6222" y="20063"/>
                  </a:lnTo>
                  <a:cubicBezTo>
                    <a:pt x="6222" y="19294"/>
                    <a:pt x="5802" y="18525"/>
                    <a:pt x="5382" y="18525"/>
                  </a:cubicBezTo>
                  <a:lnTo>
                    <a:pt x="4362" y="18525"/>
                  </a:lnTo>
                  <a:cubicBezTo>
                    <a:pt x="3942" y="18525"/>
                    <a:pt x="3522" y="17756"/>
                    <a:pt x="3522" y="16988"/>
                  </a:cubicBezTo>
                  <a:cubicBezTo>
                    <a:pt x="3522" y="16219"/>
                    <a:pt x="3942" y="15450"/>
                    <a:pt x="4362" y="15450"/>
                  </a:cubicBezTo>
                  <a:close/>
                </a:path>
                <a:path fill="darkenLess" w="21600" h="21600">
                  <a:moveTo>
                    <a:pt x="15378" y="15450"/>
                  </a:moveTo>
                  <a:lnTo>
                    <a:pt x="15378" y="20063"/>
                  </a:lnTo>
                  <a:cubicBezTo>
                    <a:pt x="15378" y="19294"/>
                    <a:pt x="15798" y="18525"/>
                    <a:pt x="16218" y="18525"/>
                  </a:cubicBezTo>
                  <a:lnTo>
                    <a:pt x="17238" y="18525"/>
                  </a:lnTo>
                  <a:cubicBezTo>
                    <a:pt x="17658" y="18525"/>
                    <a:pt x="18078" y="17756"/>
                    <a:pt x="18078" y="16988"/>
                  </a:cubicBezTo>
                  <a:cubicBezTo>
                    <a:pt x="18078" y="16219"/>
                    <a:pt x="17658" y="15450"/>
                    <a:pt x="17238" y="15450"/>
                  </a:cubicBezTo>
                  <a:close/>
                </a:path>
                <a:path fill="darkenLess" w="21600" h="21600">
                  <a:moveTo>
                    <a:pt x="3522" y="16988"/>
                  </a:moveTo>
                  <a:lnTo>
                    <a:pt x="3522" y="6150"/>
                  </a:lnTo>
                </a:path>
                <a:path fill="darkenLess" w="21600" h="21600">
                  <a:moveTo>
                    <a:pt x="18078" y="16988"/>
                  </a:moveTo>
                  <a:lnTo>
                    <a:pt x="18078" y="615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WordArt 27"/>
            <p:cNvSpPr txBox="1"/>
            <p:nvPr/>
          </p:nvSpPr>
          <p:spPr>
            <a:xfrm>
              <a:off x="990720" y="228600"/>
              <a:ext cx="1334880" cy="442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6"/>
                    <a:srcRect/>
                    <a:stretch/>
                  </a:blipFill>
                  <a:latin typeface="隶书"/>
                </a:rPr>
                <a:t>探究</a:t>
              </a:r>
              <a:endPara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隶书"/>
                <a:ea typeface="隶书"/>
              </a:endParaRPr>
            </a:p>
          </p:txBody>
        </p:sp>
      </p:grpSp>
      <p:grpSp>
        <p:nvGrpSpPr>
          <p:cNvPr id="207" name="Group 28"/>
          <p:cNvGrpSpPr/>
          <p:nvPr/>
        </p:nvGrpSpPr>
        <p:grpSpPr>
          <a:xfrm>
            <a:off x="2665080" y="4869000"/>
            <a:ext cx="4005720" cy="916920"/>
            <a:chOff x="2665080" y="4869000"/>
            <a:chExt cx="4005720" cy="916920"/>
          </a:xfrm>
        </p:grpSpPr>
        <p:sp>
          <p:nvSpPr>
            <p:cNvPr id="208" name="Text Box 29"/>
            <p:cNvSpPr/>
            <p:nvPr/>
          </p:nvSpPr>
          <p:spPr>
            <a:xfrm>
              <a:off x="2665080" y="5326200"/>
              <a:ext cx="729360" cy="459720"/>
            </a:xfrm>
            <a:prstGeom prst="rect">
              <a:avLst/>
            </a:prstGeom>
            <a:noFill/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固态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30"/>
            <p:cNvSpPr/>
            <p:nvPr/>
          </p:nvSpPr>
          <p:spPr>
            <a:xfrm>
              <a:off x="5941440" y="5249880"/>
              <a:ext cx="729360" cy="459720"/>
            </a:xfrm>
            <a:prstGeom prst="rect">
              <a:avLst/>
            </a:prstGeom>
            <a:noFill/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钨蒸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31"/>
            <p:cNvSpPr/>
            <p:nvPr/>
          </p:nvSpPr>
          <p:spPr>
            <a:xfrm>
              <a:off x="3754440" y="5478480"/>
              <a:ext cx="1746360" cy="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32"/>
            <p:cNvSpPr/>
            <p:nvPr/>
          </p:nvSpPr>
          <p:spPr>
            <a:xfrm flipH="1">
              <a:off x="3754080" y="5630760"/>
              <a:ext cx="174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33"/>
            <p:cNvSpPr/>
            <p:nvPr/>
          </p:nvSpPr>
          <p:spPr>
            <a:xfrm>
              <a:off x="4321440" y="48690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直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63036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2362320" y="39337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冷的冬天，室内玻璃窗上常常会结出冰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2217600" y="2997360"/>
            <a:ext cx="545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冬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冰冻的湿衣服能晾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17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1238400" cy="100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8"/>
          <p:cNvSpPr/>
          <p:nvPr/>
        </p:nvSpPr>
        <p:spPr>
          <a:xfrm>
            <a:off x="2195640" y="457200"/>
            <a:ext cx="51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冬天，地面的霜是怎样形成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20" descr=""/>
          <p:cNvPicPr/>
          <p:nvPr/>
        </p:nvPicPr>
        <p:blipFill>
          <a:blip r:embed="rId3"/>
          <a:stretch/>
        </p:blipFill>
        <p:spPr>
          <a:xfrm>
            <a:off x="830160" y="3978360"/>
            <a:ext cx="1150920" cy="1150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1"/>
          <p:cNvSpPr/>
          <p:nvPr/>
        </p:nvSpPr>
        <p:spPr>
          <a:xfrm>
            <a:off x="3065400" y="557676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冰棍外表为何有”白粉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22" descr=""/>
          <p:cNvPicPr/>
          <p:nvPr/>
        </p:nvPicPr>
        <p:blipFill>
          <a:blip r:embed="rId4"/>
          <a:stretch/>
        </p:blipFill>
        <p:spPr>
          <a:xfrm>
            <a:off x="758880" y="2754360"/>
            <a:ext cx="1154160" cy="1150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3" descr=""/>
          <p:cNvPicPr/>
          <p:nvPr/>
        </p:nvPicPr>
        <p:blipFill>
          <a:blip r:embed="rId5"/>
          <a:stretch/>
        </p:blipFill>
        <p:spPr>
          <a:xfrm>
            <a:off x="808200" y="5248440"/>
            <a:ext cx="1174680" cy="1152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8" descr=""/>
          <p:cNvPicPr/>
          <p:nvPr/>
        </p:nvPicPr>
        <p:blipFill>
          <a:blip r:embed="rId6"/>
          <a:stretch/>
        </p:blipFill>
        <p:spPr>
          <a:xfrm>
            <a:off x="758880" y="138600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9" descr=""/>
          <p:cNvPicPr/>
          <p:nvPr/>
        </p:nvPicPr>
        <p:blipFill>
          <a:blip r:embed="rId7"/>
          <a:stretch/>
        </p:blipFill>
        <p:spPr>
          <a:xfrm>
            <a:off x="7620120" y="1295280"/>
            <a:ext cx="1177920" cy="15098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0"/>
          <p:cNvSpPr/>
          <p:nvPr/>
        </p:nvSpPr>
        <p:spPr>
          <a:xfrm>
            <a:off x="2195640" y="1770120"/>
            <a:ext cx="470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箱子里的樟脑丸变小了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380880" y="304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干冰是固态的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二氧化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它是将二氧化碳气体压缩、冷却而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5257800" y="4724280"/>
            <a:ext cx="2666880" cy="1752840"/>
          </a:xfrm>
          <a:custGeom>
            <a:avLst/>
            <a:gdLst>
              <a:gd name="textAreaLeft" fmla="*/ 627480 w 2666880"/>
              <a:gd name="textAreaRight" fmla="*/ 2039400 w 2666880"/>
              <a:gd name="textAreaTop" fmla="*/ 412200 h 1752840"/>
              <a:gd name="textAreaBottom" fmla="*/ 134064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302" y="13829"/>
                </a:lnTo>
                <a:lnTo>
                  <a:pt x="3163" y="18437"/>
                </a:lnTo>
                <a:lnTo>
                  <a:pt x="7640" y="18244"/>
                </a:lnTo>
                <a:lnTo>
                  <a:pt x="10800" y="21600"/>
                </a:lnTo>
                <a:lnTo>
                  <a:pt x="13829" y="18298"/>
                </a:lnTo>
                <a:lnTo>
                  <a:pt x="18437" y="18437"/>
                </a:lnTo>
                <a:lnTo>
                  <a:pt x="18244" y="13960"/>
                </a:lnTo>
                <a:lnTo>
                  <a:pt x="21600" y="10800"/>
                </a:lnTo>
                <a:lnTo>
                  <a:pt x="18298" y="7771"/>
                </a:lnTo>
                <a:lnTo>
                  <a:pt x="18437" y="3163"/>
                </a:lnTo>
                <a:lnTo>
                  <a:pt x="13960" y="3356"/>
                </a:lnTo>
                <a:lnTo>
                  <a:pt x="10800" y="0"/>
                </a:lnTo>
                <a:lnTo>
                  <a:pt x="7771" y="3302"/>
                </a:lnTo>
                <a:lnTo>
                  <a:pt x="3163" y="3163"/>
                </a:lnTo>
                <a:lnTo>
                  <a:pt x="3356" y="764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0"/>
          </a:gra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存食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7"/>
          <p:cNvGrpSpPr/>
          <p:nvPr/>
        </p:nvGrpSpPr>
        <p:grpSpPr>
          <a:xfrm>
            <a:off x="4114800" y="2362320"/>
            <a:ext cx="3352680" cy="1981080"/>
            <a:chOff x="4114800" y="2362320"/>
            <a:chExt cx="3352680" cy="1981080"/>
          </a:xfrm>
        </p:grpSpPr>
        <p:sp>
          <p:nvSpPr>
            <p:cNvPr id="228" name="AutoShape 8">
              <a:hlinkClick r:id="" action="ppaction://hlinkshowjump?jump=nextslide"/>
            </p:cNvPr>
            <p:cNvSpPr/>
            <p:nvPr/>
          </p:nvSpPr>
          <p:spPr>
            <a:xfrm>
              <a:off x="4114800" y="2362320"/>
              <a:ext cx="3352680" cy="1981080"/>
            </a:xfrm>
            <a:prstGeom prst="irregularSeal1">
              <a:avLst/>
            </a:prstGeom>
            <a:gradFill rotWithShape="0">
              <a:gsLst>
                <a:gs pos="0">
                  <a:srgbClr val="ccffcc"/>
                </a:gs>
                <a:gs pos="50000">
                  <a:srgbClr val="ffffff"/>
                </a:gs>
                <a:gs pos="100000">
                  <a:srgbClr val="ccffcc"/>
                </a:gs>
              </a:gsLst>
              <a:lin ang="18900000"/>
            </a:gradFill>
            <a:ln w="381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9"/>
            <p:cNvSpPr/>
            <p:nvPr/>
          </p:nvSpPr>
          <p:spPr>
            <a:xfrm>
              <a:off x="5283000" y="30481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舞台白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10"/>
          <p:cNvGrpSpPr/>
          <p:nvPr/>
        </p:nvGrpSpPr>
        <p:grpSpPr>
          <a:xfrm>
            <a:off x="1600200" y="5029200"/>
            <a:ext cx="2819520" cy="1371600"/>
            <a:chOff x="1600200" y="5029200"/>
            <a:chExt cx="2819520" cy="1371600"/>
          </a:xfrm>
        </p:grpSpPr>
        <p:sp>
          <p:nvSpPr>
            <p:cNvPr id="231" name="AutoShape 11"/>
            <p:cNvSpPr/>
            <p:nvPr/>
          </p:nvSpPr>
          <p:spPr>
            <a:xfrm>
              <a:off x="1600200" y="5029200"/>
              <a:ext cx="2819520" cy="1371600"/>
            </a:xfrm>
            <a:prstGeom prst="cloudCallout">
              <a:avLst>
                <a:gd name="adj1" fmla="val 63458"/>
                <a:gd name="adj2" fmla="val 29050"/>
              </a:avLst>
            </a:prstGeom>
            <a:gradFill rotWithShape="0">
              <a:gsLst>
                <a:gs pos="0">
                  <a:srgbClr val="ccffff"/>
                </a:gs>
                <a:gs pos="50000">
                  <a:srgbClr val="ffffff"/>
                </a:gs>
                <a:gs pos="100000">
                  <a:srgbClr val="ccffff"/>
                </a:gs>
              </a:gsLst>
              <a:lin ang="18900000"/>
            </a:gra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2387520" y="54104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人工降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Text Box 17"/>
          <p:cNvSpPr/>
          <p:nvPr/>
        </p:nvSpPr>
        <p:spPr>
          <a:xfrm>
            <a:off x="999720" y="26668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685800" y="1600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1905120" y="1600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易升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8838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6993" y="3794"/>
                </a:lnTo>
                <a:lnTo>
                  <a:pt x="6993" y="17806"/>
                </a:lnTo>
                <a:lnTo>
                  <a:pt x="533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1402920" y="52578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融的冰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5029200" y="1295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冰凌形成过程中包含哪些物态变化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383040" y="228600"/>
            <a:ext cx="19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练习一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45720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下列现象中，属于液化的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[     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洒在地上的水干了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寒冬的早晨，屋顶的瓦上结了一层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阴雨天，黑板湿润甚至出现小水珠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冬天，室外冰冻的衣服干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04920" y="3352680"/>
            <a:ext cx="8458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水壶中的水沸腾后仍给它继续加热，水壶中水的温度将　　　　　　　　　（　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Ａ．继续升高           Ｂ．保持不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Ｃ．缓慢降低           Ｄ．忽高忽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934320" y="38862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6172200" y="4572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228600" y="1295280"/>
            <a:ext cx="8915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夏天在教室里洒些水，会感到凉爽些，主要原因是　　　　　　　     　（　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Ａ．凉水的温度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Ｂ．洒在地上的水蒸发时吸热，使空气温度降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Ｃ．空气中的水蒸气减少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Ｄ．是人的心理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791320" y="18288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52280" y="533520"/>
            <a:ext cx="877896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根据表中所列出的各种晶体的熔点，判断下列说法中错误的是（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1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氢是固态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纯金掉在钢水中不会熔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不能应用水银温度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灯丝用钨制成是因为它的熔点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80880" y="1676520"/>
          <a:ext cx="8534520" cy="1495440"/>
        </p:xfrm>
        <a:graphic>
          <a:graphicData uri="http://schemas.openxmlformats.org/drawingml/2006/table">
            <a:tbl>
              <a:tblPr/>
              <a:tblGrid>
                <a:gridCol w="1295640"/>
                <a:gridCol w="1218960"/>
                <a:gridCol w="1447920"/>
                <a:gridCol w="1447920"/>
                <a:gridCol w="990360"/>
                <a:gridCol w="990720"/>
                <a:gridCol w="114300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晶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态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态酒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态水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熔点／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Text Box 29"/>
          <p:cNvSpPr/>
          <p:nvPr/>
        </p:nvSpPr>
        <p:spPr>
          <a:xfrm>
            <a:off x="2411280" y="785880"/>
            <a:ext cx="17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1798920" y="304920"/>
            <a:ext cx="486612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关于熔化的说法中正确的是（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只有晶体会熔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晶体熔化也要吸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晶体熔化温度不变无须吸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各种晶体的熔点都相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5851800" y="268200"/>
            <a:ext cx="180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65040" y="3809880"/>
            <a:ext cx="877896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在对无线电的印刷电路板进行焊接时，焊锡在焊上板时发生的物态变化是（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凝固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熔化后凝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凝固后熔化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熔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6280200" y="4114800"/>
            <a:ext cx="180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3321000" y="32544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某物质加热时间与温度的表格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52280" y="960480"/>
          <a:ext cx="8686800" cy="1888920"/>
        </p:xfrm>
        <a:graphic>
          <a:graphicData uri="http://schemas.openxmlformats.org/drawingml/2006/table">
            <a:tbl>
              <a:tblPr/>
              <a:tblGrid>
                <a:gridCol w="1359000"/>
                <a:gridCol w="596880"/>
                <a:gridCol w="596880"/>
                <a:gridCol w="596880"/>
                <a:gridCol w="596880"/>
                <a:gridCol w="596880"/>
                <a:gridCol w="596880"/>
                <a:gridCol w="622440"/>
                <a:gridCol w="609480"/>
                <a:gridCol w="609840"/>
                <a:gridCol w="609480"/>
                <a:gridCol w="685800"/>
                <a:gridCol w="609480"/>
              </a:tblGrid>
              <a:tr h="94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间（分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温度（℃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Text Box 47"/>
          <p:cNvSpPr/>
          <p:nvPr/>
        </p:nvSpPr>
        <p:spPr>
          <a:xfrm>
            <a:off x="2446200" y="3146400"/>
            <a:ext cx="21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该物质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晶体、非晶体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8"/>
          <p:cNvSpPr/>
          <p:nvPr/>
        </p:nvSpPr>
        <p:spPr>
          <a:xfrm>
            <a:off x="1692000" y="388944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该物质的熔点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9"/>
          <p:cNvSpPr/>
          <p:nvPr/>
        </p:nvSpPr>
        <p:spPr>
          <a:xfrm>
            <a:off x="1852920" y="463392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当加热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时，该物质的状态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0"/>
          <p:cNvSpPr/>
          <p:nvPr/>
        </p:nvSpPr>
        <p:spPr>
          <a:xfrm>
            <a:off x="1852920" y="532764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当加热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时，该物质的状态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1"/>
          <p:cNvSpPr/>
          <p:nvPr/>
        </p:nvSpPr>
        <p:spPr>
          <a:xfrm>
            <a:off x="275652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晶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52"/>
          <p:cNvSpPr/>
          <p:nvPr/>
        </p:nvSpPr>
        <p:spPr>
          <a:xfrm>
            <a:off x="3735360" y="38354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53"/>
          <p:cNvSpPr/>
          <p:nvPr/>
        </p:nvSpPr>
        <p:spPr>
          <a:xfrm>
            <a:off x="7242840" y="4449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固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4"/>
          <p:cNvSpPr/>
          <p:nvPr/>
        </p:nvSpPr>
        <p:spPr>
          <a:xfrm>
            <a:off x="7601040" y="52578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固、液共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55"/>
          <p:cNvSpPr/>
          <p:nvPr/>
        </p:nvSpPr>
        <p:spPr>
          <a:xfrm>
            <a:off x="1876680" y="603396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当加热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时，该物质的状态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56"/>
          <p:cNvSpPr/>
          <p:nvPr/>
        </p:nvSpPr>
        <p:spPr>
          <a:xfrm>
            <a:off x="7175880" y="5961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液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474120" y="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黑体"/>
              </a:rPr>
              <a:t>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727200" y="2608560"/>
            <a:ext cx="54612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水的三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09680" y="1600200"/>
          <a:ext cx="5486400" cy="3041640"/>
        </p:xfrm>
        <a:graphic>
          <a:graphicData uri="http://schemas.openxmlformats.org/drawingml/2006/table">
            <a:tbl>
              <a:tblPr/>
              <a:tblGrid>
                <a:gridCol w="1905120"/>
                <a:gridCol w="1828800"/>
                <a:gridCol w="1752480"/>
              </a:tblGrid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状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形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体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Text Box 231"/>
          <p:cNvSpPr/>
          <p:nvPr/>
        </p:nvSpPr>
        <p:spPr>
          <a:xfrm>
            <a:off x="2769840" y="2514600"/>
            <a:ext cx="729360" cy="459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水蒸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232"/>
          <p:cNvSpPr/>
          <p:nvPr/>
        </p:nvSpPr>
        <p:spPr>
          <a:xfrm>
            <a:off x="2646360" y="3238560"/>
            <a:ext cx="363600" cy="459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233"/>
          <p:cNvSpPr/>
          <p:nvPr/>
        </p:nvSpPr>
        <p:spPr>
          <a:xfrm>
            <a:off x="2646360" y="3962520"/>
            <a:ext cx="363600" cy="459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253"/>
          <p:cNvGrpSpPr/>
          <p:nvPr/>
        </p:nvGrpSpPr>
        <p:grpSpPr>
          <a:xfrm>
            <a:off x="1294920" y="2728800"/>
            <a:ext cx="1258920" cy="1538280"/>
            <a:chOff x="1294920" y="2728800"/>
            <a:chExt cx="1258920" cy="1538280"/>
          </a:xfrm>
        </p:grpSpPr>
        <p:sp>
          <p:nvSpPr>
            <p:cNvPr id="50" name="Line 49"/>
            <p:cNvSpPr/>
            <p:nvPr/>
          </p:nvSpPr>
          <p:spPr>
            <a:xfrm>
              <a:off x="1752480" y="2728800"/>
              <a:ext cx="0" cy="15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234"/>
            <p:cNvSpPr/>
            <p:nvPr/>
          </p:nvSpPr>
          <p:spPr>
            <a:xfrm flipH="1">
              <a:off x="1294920" y="3490920"/>
              <a:ext cx="1258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235"/>
            <p:cNvSpPr/>
            <p:nvPr/>
          </p:nvSpPr>
          <p:spPr>
            <a:xfrm flipH="1">
              <a:off x="1752120" y="2743200"/>
              <a:ext cx="801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236"/>
            <p:cNvSpPr/>
            <p:nvPr/>
          </p:nvSpPr>
          <p:spPr>
            <a:xfrm flipH="1">
              <a:off x="1752120" y="4238640"/>
              <a:ext cx="801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Text Box 241"/>
          <p:cNvSpPr/>
          <p:nvPr/>
        </p:nvSpPr>
        <p:spPr>
          <a:xfrm>
            <a:off x="4701600" y="2514600"/>
            <a:ext cx="7293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固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42"/>
          <p:cNvSpPr/>
          <p:nvPr/>
        </p:nvSpPr>
        <p:spPr>
          <a:xfrm>
            <a:off x="6454440" y="2514600"/>
            <a:ext cx="7293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固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43"/>
          <p:cNvSpPr/>
          <p:nvPr/>
        </p:nvSpPr>
        <p:spPr>
          <a:xfrm>
            <a:off x="4701600" y="3238560"/>
            <a:ext cx="7293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固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44"/>
          <p:cNvSpPr/>
          <p:nvPr/>
        </p:nvSpPr>
        <p:spPr>
          <a:xfrm>
            <a:off x="6392520" y="3238560"/>
            <a:ext cx="546480" cy="4597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固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45"/>
          <p:cNvSpPr/>
          <p:nvPr/>
        </p:nvSpPr>
        <p:spPr>
          <a:xfrm>
            <a:off x="6392520" y="3962520"/>
            <a:ext cx="546480" cy="4597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固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6"/>
          <p:cNvSpPr/>
          <p:nvPr/>
        </p:nvSpPr>
        <p:spPr>
          <a:xfrm>
            <a:off x="4640040" y="3962520"/>
            <a:ext cx="546480" cy="4597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固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0" y="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很多宾馆和饭店的卫生间装有热风干手器，洗手后用它可以很快把手烘干，如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—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所示．请你说出它能很快把手烘干的两个理由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1143000" y="2112840"/>
            <a:ext cx="6019920" cy="23828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57240" y="443556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如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示，甲、乙两个房间里相同的电炉上，相同的两壶水都已烧开，我们可以根据所观察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房间壶嘴的上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较多，判断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房间的气温较高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27360" y="2286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练习二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403200" y="990720"/>
            <a:ext cx="833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冰来使热的物体冷却，哪一种效果好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411120" y="2057400"/>
            <a:ext cx="832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答：冰的冷却效果好，因为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0℃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的冰熔化成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0℃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的水时多了个吸热的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457200" y="4114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为什么人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蒸气烫伤要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烫伤要更加严重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9">
            <a:hlinkClick r:id="" action="ppaction://hlinkshowjump?jump=las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6781680" y="2514600"/>
            <a:ext cx="1419120" cy="3105000"/>
            <a:chOff x="6781680" y="2514600"/>
            <a:chExt cx="1419120" cy="3105000"/>
          </a:xfrm>
        </p:grpSpPr>
        <p:pic>
          <p:nvPicPr>
            <p:cNvPr id="275" name="Picture 3" descr=""/>
            <p:cNvPicPr/>
            <p:nvPr/>
          </p:nvPicPr>
          <p:blipFill>
            <a:blip r:embed="rId1"/>
            <a:stretch/>
          </p:blipFill>
          <p:spPr>
            <a:xfrm>
              <a:off x="6781680" y="2514600"/>
              <a:ext cx="1419120" cy="31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Rectangle 4"/>
            <p:cNvSpPr/>
            <p:nvPr/>
          </p:nvSpPr>
          <p:spPr>
            <a:xfrm>
              <a:off x="6891120" y="3733920"/>
              <a:ext cx="1219320" cy="561960"/>
            </a:xfrm>
            <a:prstGeom prst="rect">
              <a:avLst/>
            </a:prstGeom>
            <a:solidFill>
              <a:srgbClr val="b2b2b2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Text Box 5"/>
          <p:cNvSpPr/>
          <p:nvPr/>
        </p:nvSpPr>
        <p:spPr>
          <a:xfrm>
            <a:off x="166680" y="704880"/>
            <a:ext cx="86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图，装有少量的冰的试管放入装有冰水混合物的烧杯中，用酒精灯对烧杯进行加热，当烧杯中的冰开始熔化时，试管中的冰会熔化吗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0">
            <a:hlinkClick r:id="" action="ppaction://hlinkshowjump?jump=las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3"/>
          <p:cNvSpPr/>
          <p:nvPr/>
        </p:nvSpPr>
        <p:spPr>
          <a:xfrm>
            <a:off x="304920" y="30492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某物质被加热时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0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始熔化，一直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才熔化结束，则此物质是晶体还是非晶体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380880" y="3733920"/>
            <a:ext cx="855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冬天当我们用嘴对手呵气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们会感到暖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但是当我们对手吹气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们却会感到手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又是为什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15">
            <a:hlinkClick r:id="" action="ppaction://hlinkshowjump?jump=las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"/>
          <p:cNvPicPr/>
          <p:nvPr/>
        </p:nvPicPr>
        <p:blipFill>
          <a:blip r:embed="rId1">
            <a:lum contrast="18000"/>
          </a:blip>
          <a:srcRect l="12742" t="4810" r="14551" b="4810"/>
          <a:stretch/>
        </p:blipFill>
        <p:spPr>
          <a:xfrm>
            <a:off x="228600" y="2590920"/>
            <a:ext cx="1747800" cy="327636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5"/>
          <p:cNvSpPr/>
          <p:nvPr/>
        </p:nvSpPr>
        <p:spPr>
          <a:xfrm>
            <a:off x="0" y="228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如图所示，煤气瓶中的煤气是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存在的，它是通过对煤气在常温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方法，使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后贮存在煤气瓶中的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6">
            <a:hlinkClick r:id="" action="ppaction://hlinkshowjump?jump=las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1143000" y="3276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5" descr=""/>
          <p:cNvPicPr/>
          <p:nvPr/>
        </p:nvPicPr>
        <p:blipFill>
          <a:blip r:embed="rId1"/>
          <a:stretch/>
        </p:blipFill>
        <p:spPr>
          <a:xfrm>
            <a:off x="2819520" y="3809880"/>
            <a:ext cx="2774880" cy="3048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7"/>
          <p:cNvSpPr/>
          <p:nvPr/>
        </p:nvSpPr>
        <p:spPr>
          <a:xfrm>
            <a:off x="0" y="228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照图甲那样，把小铃铛拴在线上，线上端穿过橡皮塞，照图乙那样，把橡皮塞塞到烧瓶上，然后摇动烧瓶，记住小铃铛的铃声有多么响，再取下橡皮塞，向烧瓶中倒少量水，给烧瓶加热，水沸腾，在瓶中水快要没有时停止加热，并迅速照图乙那样塞紧皮塞，冷却一会儿再摇动烧瓶听铃铛的响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第二次听到的响声比上一次听到的响声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些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这个实验可以近似地说明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8">
            <a:hlinkClick r:id="" action="ppaction://hlinkshowjump?jump=las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如图所示，是张岩和刘芳在科技活动中设计的提纯酒精的装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回答下列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提纯的原理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选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水浴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加热的优点是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此实验中涉及哪些物态变化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9" descr=""/>
          <p:cNvPicPr/>
          <p:nvPr/>
        </p:nvPicPr>
        <p:blipFill>
          <a:blip r:embed="rId1"/>
          <a:stretch/>
        </p:blipFill>
        <p:spPr>
          <a:xfrm>
            <a:off x="1828800" y="3141720"/>
            <a:ext cx="3886200" cy="371628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11">
            <a:hlinkClick r:id="" action="ppaction://hlinkshowjump?jump=las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3321000" cy="5904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5"/>
          <p:cNvSpPr/>
          <p:nvPr/>
        </p:nvSpPr>
        <p:spPr>
          <a:xfrm>
            <a:off x="5545800" y="48096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实验的目的的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6"/>
          <p:cNvSpPr/>
          <p:nvPr/>
        </p:nvSpPr>
        <p:spPr>
          <a:xfrm>
            <a:off x="476280" y="380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533520" y="1295280"/>
            <a:ext cx="80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萘与海波两种晶体混合在一起，已知萘的熔点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0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海波的熔点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8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怎样将他们分离开来？说说你的方法和理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727200" y="2532240"/>
            <a:ext cx="54612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态变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490640" y="5067360"/>
            <a:ext cx="546480" cy="459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固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490640" y="3200400"/>
            <a:ext cx="546480" cy="459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液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490640" y="1295280"/>
            <a:ext cx="546480" cy="459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气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7"/>
          <p:cNvSpPr/>
          <p:nvPr/>
        </p:nvSpPr>
        <p:spPr>
          <a:xfrm rot="16200000">
            <a:off x="4572000" y="4343040"/>
            <a:ext cx="1066680" cy="1522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8"/>
          <p:cNvSpPr/>
          <p:nvPr/>
        </p:nvSpPr>
        <p:spPr>
          <a:xfrm rot="16200000">
            <a:off x="4571640" y="2438280"/>
            <a:ext cx="1067040" cy="15228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9"/>
          <p:cNvSpPr/>
          <p:nvPr/>
        </p:nvSpPr>
        <p:spPr>
          <a:xfrm rot="5400000">
            <a:off x="3885480" y="2438280"/>
            <a:ext cx="1067040" cy="15228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0"/>
          <p:cNvSpPr/>
          <p:nvPr/>
        </p:nvSpPr>
        <p:spPr>
          <a:xfrm rot="5400000">
            <a:off x="3885840" y="4343400"/>
            <a:ext cx="1066680" cy="1522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573360" y="4191120"/>
            <a:ext cx="5464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凝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2">
            <a:hlinkClick r:id="rId1" action="ppaction://hlinksldjump"/>
          </p:cNvPr>
          <p:cNvSpPr/>
          <p:nvPr/>
        </p:nvSpPr>
        <p:spPr>
          <a:xfrm>
            <a:off x="3573360" y="2286000"/>
            <a:ext cx="5464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液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>
            <a:hlinkClick r:id="rId2" action="ppaction://hlinksldjump"/>
          </p:cNvPr>
          <p:cNvSpPr/>
          <p:nvPr/>
        </p:nvSpPr>
        <p:spPr>
          <a:xfrm>
            <a:off x="5402160" y="2286000"/>
            <a:ext cx="5464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汽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>
            <a:hlinkClick r:id="rId3" action="ppaction://hlinksldjump"/>
          </p:cNvPr>
          <p:cNvSpPr/>
          <p:nvPr/>
        </p:nvSpPr>
        <p:spPr>
          <a:xfrm>
            <a:off x="5402160" y="4191120"/>
            <a:ext cx="5464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熔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2971800" y="1523880"/>
            <a:ext cx="1219320" cy="76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6"/>
          <p:cNvSpPr/>
          <p:nvPr/>
        </p:nvSpPr>
        <p:spPr>
          <a:xfrm rot="5400000">
            <a:off x="1256760" y="3314520"/>
            <a:ext cx="3504960" cy="228600"/>
          </a:xfrm>
          <a:custGeom>
            <a:avLst/>
            <a:gdLst>
              <a:gd name="textAreaLeft" fmla="*/ 547560 w 3504960"/>
              <a:gd name="textAreaRight" fmla="*/ 3418560 w 3504960"/>
              <a:gd name="textAreaTop" fmla="*/ 75600 h 228600"/>
              <a:gd name="textAreaBottom" fmla="*/ 153000 h 228600"/>
            </a:gdLst>
            <a:ahLst/>
            <a:rect l="textAreaLeft" t="textAreaTop" r="textAreaRight" b="textAreaBottom"/>
            <a:pathLst>
              <a:path w="21600" h="21600">
                <a:moveTo>
                  <a:pt x="20029" y="0"/>
                </a:moveTo>
                <a:lnTo>
                  <a:pt x="20029" y="7135"/>
                </a:lnTo>
                <a:lnTo>
                  <a:pt x="3375" y="7135"/>
                </a:lnTo>
                <a:lnTo>
                  <a:pt x="3375" y="14465"/>
                </a:lnTo>
                <a:lnTo>
                  <a:pt x="20029" y="14465"/>
                </a:lnTo>
                <a:lnTo>
                  <a:pt x="20029" y="21600"/>
                </a:lnTo>
                <a:lnTo>
                  <a:pt x="21600" y="10800"/>
                </a:lnTo>
                <a:lnTo>
                  <a:pt x="20029" y="0"/>
                </a:lnTo>
                <a:close/>
              </a:path>
              <a:path w="21600" h="21600">
                <a:moveTo>
                  <a:pt x="1350" y="7135"/>
                </a:moveTo>
                <a:lnTo>
                  <a:pt x="1350" y="14465"/>
                </a:lnTo>
                <a:lnTo>
                  <a:pt x="2700" y="14465"/>
                </a:lnTo>
                <a:lnTo>
                  <a:pt x="2700" y="7135"/>
                </a:lnTo>
                <a:lnTo>
                  <a:pt x="1350" y="7135"/>
                </a:lnTo>
                <a:close/>
              </a:path>
              <a:path w="21600" h="21600">
                <a:moveTo>
                  <a:pt x="0" y="7135"/>
                </a:moveTo>
                <a:lnTo>
                  <a:pt x="0" y="14465"/>
                </a:lnTo>
                <a:lnTo>
                  <a:pt x="675" y="14465"/>
                </a:lnTo>
                <a:lnTo>
                  <a:pt x="675" y="7135"/>
                </a:lnTo>
                <a:lnTo>
                  <a:pt x="0" y="7135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2971800" y="5257800"/>
            <a:ext cx="1219320" cy="76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>
            <a:hlinkClick r:id="rId4" action="ppaction://hlinksldjump"/>
          </p:cNvPr>
          <p:cNvSpPr/>
          <p:nvPr/>
        </p:nvSpPr>
        <p:spPr>
          <a:xfrm>
            <a:off x="2327400" y="2967480"/>
            <a:ext cx="546120" cy="923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凝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5334120" y="1523880"/>
            <a:ext cx="1218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0"/>
          <p:cNvSpPr/>
          <p:nvPr/>
        </p:nvSpPr>
        <p:spPr>
          <a:xfrm flipV="1" rot="16200000">
            <a:off x="4762080" y="3314520"/>
            <a:ext cx="3504960" cy="228600"/>
          </a:xfrm>
          <a:custGeom>
            <a:avLst/>
            <a:gdLst>
              <a:gd name="textAreaLeft" fmla="*/ 547560 w 3504960"/>
              <a:gd name="textAreaRight" fmla="*/ 3418560 w 3504960"/>
              <a:gd name="textAreaTop" fmla="*/ 75600 h 228600"/>
              <a:gd name="textAreaBottom" fmla="*/ 153000 h 228600"/>
            </a:gdLst>
            <a:ahLst/>
            <a:rect l="textAreaLeft" t="textAreaTop" r="textAreaRight" b="textAreaBottom"/>
            <a:pathLst>
              <a:path w="21600" h="21600">
                <a:moveTo>
                  <a:pt x="20029" y="0"/>
                </a:moveTo>
                <a:lnTo>
                  <a:pt x="20029" y="7135"/>
                </a:lnTo>
                <a:lnTo>
                  <a:pt x="3375" y="7135"/>
                </a:lnTo>
                <a:lnTo>
                  <a:pt x="3375" y="14465"/>
                </a:lnTo>
                <a:lnTo>
                  <a:pt x="20029" y="14465"/>
                </a:lnTo>
                <a:lnTo>
                  <a:pt x="20029" y="21600"/>
                </a:lnTo>
                <a:lnTo>
                  <a:pt x="21600" y="10800"/>
                </a:lnTo>
                <a:lnTo>
                  <a:pt x="20029" y="0"/>
                </a:lnTo>
                <a:close/>
              </a:path>
              <a:path w="21600" h="21600">
                <a:moveTo>
                  <a:pt x="1350" y="7135"/>
                </a:moveTo>
                <a:lnTo>
                  <a:pt x="1350" y="14465"/>
                </a:lnTo>
                <a:lnTo>
                  <a:pt x="2700" y="14465"/>
                </a:lnTo>
                <a:lnTo>
                  <a:pt x="2700" y="7135"/>
                </a:lnTo>
                <a:lnTo>
                  <a:pt x="1350" y="7135"/>
                </a:lnTo>
                <a:close/>
              </a:path>
              <a:path w="21600" h="21600">
                <a:moveTo>
                  <a:pt x="0" y="7135"/>
                </a:moveTo>
                <a:lnTo>
                  <a:pt x="0" y="14465"/>
                </a:lnTo>
                <a:lnTo>
                  <a:pt x="675" y="14465"/>
                </a:lnTo>
                <a:lnTo>
                  <a:pt x="675" y="7135"/>
                </a:lnTo>
                <a:lnTo>
                  <a:pt x="0" y="713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5334120" y="5257800"/>
            <a:ext cx="1218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2">
            <a:hlinkClick r:id="rId5" action="ppaction://hlinksldjump"/>
          </p:cNvPr>
          <p:cNvSpPr/>
          <p:nvPr/>
        </p:nvSpPr>
        <p:spPr>
          <a:xfrm>
            <a:off x="6692760" y="2967480"/>
            <a:ext cx="546120" cy="923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升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5489640" y="2895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黑体"/>
              </a:rPr>
              <a:t>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3355920" y="2895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1222200" y="1569960"/>
            <a:ext cx="3276720" cy="2286000"/>
            <a:chOff x="1222200" y="1569960"/>
            <a:chExt cx="3276720" cy="2286000"/>
          </a:xfrm>
        </p:grpSpPr>
        <p:sp>
          <p:nvSpPr>
            <p:cNvPr id="83" name="Line 3"/>
            <p:cNvSpPr/>
            <p:nvPr/>
          </p:nvSpPr>
          <p:spPr>
            <a:xfrm flipV="1">
              <a:off x="1236600" y="156996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4"/>
            <p:cNvSpPr/>
            <p:nvPr/>
          </p:nvSpPr>
          <p:spPr>
            <a:xfrm>
              <a:off x="1222200" y="3855960"/>
              <a:ext cx="327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5"/>
          <p:cNvSpPr/>
          <p:nvPr/>
        </p:nvSpPr>
        <p:spPr>
          <a:xfrm>
            <a:off x="202320" y="103680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温度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909520" y="3932280"/>
            <a:ext cx="23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时间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7"/>
          <p:cNvGrpSpPr/>
          <p:nvPr/>
        </p:nvGrpSpPr>
        <p:grpSpPr>
          <a:xfrm>
            <a:off x="1241280" y="2027160"/>
            <a:ext cx="1823760" cy="1219320"/>
            <a:chOff x="1241280" y="2027160"/>
            <a:chExt cx="1823760" cy="1219320"/>
          </a:xfrm>
        </p:grpSpPr>
        <p:sp>
          <p:nvSpPr>
            <p:cNvPr id="88" name="Line 8"/>
            <p:cNvSpPr/>
            <p:nvPr/>
          </p:nvSpPr>
          <p:spPr>
            <a:xfrm>
              <a:off x="1774440" y="2636640"/>
              <a:ext cx="7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1241280" y="2636640"/>
              <a:ext cx="533160" cy="60984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336" y="0"/>
                  </a:moveTo>
                  <a:cubicBezTo>
                    <a:pt x="292" y="88"/>
                    <a:pt x="248" y="176"/>
                    <a:pt x="192" y="240"/>
                  </a:cubicBezTo>
                  <a:cubicBezTo>
                    <a:pt x="136" y="304"/>
                    <a:pt x="68" y="344"/>
                    <a:pt x="0" y="38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531880" y="2027160"/>
              <a:ext cx="533160" cy="60948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336" y="0"/>
                  </a:moveTo>
                  <a:cubicBezTo>
                    <a:pt x="292" y="88"/>
                    <a:pt x="248" y="176"/>
                    <a:pt x="192" y="240"/>
                  </a:cubicBezTo>
                  <a:cubicBezTo>
                    <a:pt x="136" y="304"/>
                    <a:pt x="68" y="344"/>
                    <a:pt x="0" y="38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Line 11"/>
          <p:cNvSpPr/>
          <p:nvPr/>
        </p:nvSpPr>
        <p:spPr>
          <a:xfrm flipH="1">
            <a:off x="1222200" y="2637000"/>
            <a:ext cx="533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-106200" y="2394000"/>
            <a:ext cx="200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8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-114120" y="3056040"/>
            <a:ext cx="200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0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35160" y="3816360"/>
            <a:ext cx="15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1770120" y="263700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2517840" y="263700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959040" y="3787920"/>
            <a:ext cx="15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1725840" y="3773520"/>
            <a:ext cx="15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1262880" y="4205160"/>
            <a:ext cx="16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5910840" y="4114800"/>
            <a:ext cx="16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1"/>
          <p:cNvSpPr/>
          <p:nvPr/>
        </p:nvSpPr>
        <p:spPr>
          <a:xfrm>
            <a:off x="571680" y="317016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992880" y="2284560"/>
            <a:ext cx="15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1708560" y="226044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2276640" y="167940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479520" y="4959360"/>
            <a:ext cx="75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由图象可知，甲属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乙属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26"/>
          <p:cNvGrpSpPr/>
          <p:nvPr/>
        </p:nvGrpSpPr>
        <p:grpSpPr>
          <a:xfrm>
            <a:off x="4001400" y="960480"/>
            <a:ext cx="5549760" cy="3355200"/>
            <a:chOff x="4001400" y="960480"/>
            <a:chExt cx="5549760" cy="3355200"/>
          </a:xfrm>
        </p:grpSpPr>
        <p:grpSp>
          <p:nvGrpSpPr>
            <p:cNvPr id="107" name="Group 27"/>
            <p:cNvGrpSpPr/>
            <p:nvPr/>
          </p:nvGrpSpPr>
          <p:grpSpPr>
            <a:xfrm>
              <a:off x="4496760" y="960480"/>
              <a:ext cx="5054400" cy="3355200"/>
              <a:chOff x="4496760" y="960480"/>
              <a:chExt cx="5054400" cy="3355200"/>
            </a:xfrm>
          </p:grpSpPr>
          <p:grpSp>
            <p:nvGrpSpPr>
              <p:cNvPr id="108" name="Group 28"/>
              <p:cNvGrpSpPr/>
              <p:nvPr/>
            </p:nvGrpSpPr>
            <p:grpSpPr>
              <a:xfrm>
                <a:off x="5440320" y="1493640"/>
                <a:ext cx="3276720" cy="2286000"/>
                <a:chOff x="5440320" y="1493640"/>
                <a:chExt cx="3276720" cy="2286000"/>
              </a:xfrm>
            </p:grpSpPr>
            <p:sp>
              <p:nvSpPr>
                <p:cNvPr id="109" name="Line 29"/>
                <p:cNvSpPr/>
                <p:nvPr/>
              </p:nvSpPr>
              <p:spPr>
                <a:xfrm flipV="1">
                  <a:off x="5454720" y="1493640"/>
                  <a:ext cx="0" cy="228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Line 30"/>
                <p:cNvSpPr/>
                <p:nvPr/>
              </p:nvSpPr>
              <p:spPr>
                <a:xfrm>
                  <a:off x="5440320" y="3779640"/>
                  <a:ext cx="3276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Freeform 31"/>
              <p:cNvSpPr/>
              <p:nvPr/>
            </p:nvSpPr>
            <p:spPr>
              <a:xfrm>
                <a:off x="5440320" y="1950840"/>
                <a:ext cx="1524240" cy="1067040"/>
              </a:xfrm>
              <a:custGeom>
                <a:avLst/>
                <a:gdLst/>
                <a:ahLst/>
                <a:rect l="l" t="t" r="r" b="b"/>
                <a:pathLst>
                  <a:path w="960" h="672">
                    <a:moveTo>
                      <a:pt x="0" y="672"/>
                    </a:moveTo>
                    <a:cubicBezTo>
                      <a:pt x="112" y="512"/>
                      <a:pt x="224" y="352"/>
                      <a:pt x="384" y="240"/>
                    </a:cubicBezTo>
                    <a:cubicBezTo>
                      <a:pt x="544" y="128"/>
                      <a:pt x="752" y="64"/>
                      <a:pt x="96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Text Box 32"/>
              <p:cNvSpPr/>
              <p:nvPr/>
            </p:nvSpPr>
            <p:spPr>
              <a:xfrm>
                <a:off x="4496760" y="960480"/>
                <a:ext cx="207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Times New Roman"/>
                  </a:rPr>
                  <a:t>温度℃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Text Box 33"/>
              <p:cNvSpPr/>
              <p:nvPr/>
            </p:nvSpPr>
            <p:spPr>
              <a:xfrm>
                <a:off x="7203600" y="3855960"/>
                <a:ext cx="23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Times New Roman"/>
                  </a:rPr>
                  <a:t>时间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m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Text Box 34"/>
            <p:cNvSpPr/>
            <p:nvPr/>
          </p:nvSpPr>
          <p:spPr>
            <a:xfrm>
              <a:off x="4015800" y="2801880"/>
              <a:ext cx="20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42 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35"/>
            <p:cNvSpPr/>
            <p:nvPr/>
          </p:nvSpPr>
          <p:spPr>
            <a:xfrm flipH="1">
              <a:off x="5418000" y="1955880"/>
              <a:ext cx="1486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6"/>
            <p:cNvSpPr/>
            <p:nvPr/>
          </p:nvSpPr>
          <p:spPr>
            <a:xfrm>
              <a:off x="6904080" y="1955880"/>
              <a:ext cx="0" cy="1844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37"/>
            <p:cNvSpPr/>
            <p:nvPr/>
          </p:nvSpPr>
          <p:spPr>
            <a:xfrm>
              <a:off x="4001400" y="1774800"/>
              <a:ext cx="20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80 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38"/>
            <p:cNvSpPr/>
            <p:nvPr/>
          </p:nvSpPr>
          <p:spPr>
            <a:xfrm>
              <a:off x="4631040" y="3753000"/>
              <a:ext cx="155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39"/>
            <p:cNvSpPr/>
            <p:nvPr/>
          </p:nvSpPr>
          <p:spPr>
            <a:xfrm>
              <a:off x="6121800" y="3738600"/>
              <a:ext cx="155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Text Box 40"/>
          <p:cNvSpPr/>
          <p:nvPr/>
        </p:nvSpPr>
        <p:spPr>
          <a:xfrm>
            <a:off x="893520" y="133200"/>
            <a:ext cx="57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甲乙两种物质的熔化图象如下图所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1"/>
          <p:cNvSpPr/>
          <p:nvPr/>
        </p:nvSpPr>
        <p:spPr>
          <a:xfrm>
            <a:off x="754920" y="5676840"/>
            <a:ext cx="52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甲图中你可以得到哪些信息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251360" y="1731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2125800" y="15382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616840" y="119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晶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533680" y="2286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非晶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338000" y="1197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固定的熔化温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381920" y="22924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有固定的熔化温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240160" y="1623960"/>
            <a:ext cx="7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如：冰、食盐、明矾、各种金属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5024880" y="2857680"/>
            <a:ext cx="7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如：松香、玻璃、沥青、石蜡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892800" y="3781440"/>
            <a:ext cx="9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熔点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2639160" y="37339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晶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熔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的温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369720" y="135000"/>
            <a:ext cx="3594240" cy="825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晶体和非晶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1441440" y="46483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晶体熔化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必要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1456920" y="5213520"/>
            <a:ext cx="66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________     ②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2269080" y="515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达到熔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5643000" y="5114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能够继续吸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1199160" y="5881680"/>
            <a:ext cx="49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晶体凝固的必要条件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7"/>
          <p:cNvSpPr/>
          <p:nvPr/>
        </p:nvSpPr>
        <p:spPr>
          <a:xfrm>
            <a:off x="237960" y="380880"/>
            <a:ext cx="180648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一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52280" y="32767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将一块正在熔化的冰拿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房里，此冰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能，不能）继续熔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28600" y="160020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在炎热的夏天，从冰箱里取出一块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 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冰，那么此冰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会，不会）立即熔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024720" y="1957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776520" y="3654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1532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3"/>
          <p:cNvSpPr/>
          <p:nvPr/>
        </p:nvSpPr>
        <p:spPr>
          <a:xfrm>
            <a:off x="30492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汽化的两种方式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6490080" y="380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沸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4737600" y="380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蒸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12840" y="2209680"/>
          <a:ext cx="8526240" cy="3795840"/>
        </p:xfrm>
        <a:graphic>
          <a:graphicData uri="http://schemas.openxmlformats.org/drawingml/2006/table">
            <a:tbl>
              <a:tblPr/>
              <a:tblGrid>
                <a:gridCol w="609480"/>
                <a:gridCol w="1905120"/>
                <a:gridCol w="1981080"/>
                <a:gridCol w="4030560"/>
              </a:tblGrid>
              <a:tr h="69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蒸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沸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715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发生部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温度条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剧烈程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联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Text Box 60"/>
          <p:cNvSpPr/>
          <p:nvPr/>
        </p:nvSpPr>
        <p:spPr>
          <a:xfrm>
            <a:off x="2903400" y="2930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液体表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1"/>
          <p:cNvSpPr/>
          <p:nvPr/>
        </p:nvSpPr>
        <p:spPr>
          <a:xfrm>
            <a:off x="4941720" y="2930400"/>
            <a:ext cx="30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液体内部和表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29718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任何温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3"/>
          <p:cNvSpPr/>
          <p:nvPr/>
        </p:nvSpPr>
        <p:spPr>
          <a:xfrm>
            <a:off x="4952880" y="36241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达到沸点，继续吸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4"/>
          <p:cNvSpPr/>
          <p:nvPr/>
        </p:nvSpPr>
        <p:spPr>
          <a:xfrm>
            <a:off x="3360600" y="4309920"/>
            <a:ext cx="10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缓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5"/>
          <p:cNvSpPr/>
          <p:nvPr/>
        </p:nvSpPr>
        <p:spPr>
          <a:xfrm>
            <a:off x="6256440" y="4309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剧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6"/>
          <p:cNvSpPr/>
          <p:nvPr/>
        </p:nvSpPr>
        <p:spPr>
          <a:xfrm>
            <a:off x="2141640" y="51814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都是汽化现象，都要吸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7"/>
          <p:cNvSpPr/>
          <p:nvPr/>
        </p:nvSpPr>
        <p:spPr>
          <a:xfrm>
            <a:off x="2709720" y="1371600"/>
            <a:ext cx="8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蒸发、沸腾的区别和联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6"/>
          <p:cNvSpPr/>
          <p:nvPr/>
        </p:nvSpPr>
        <p:spPr>
          <a:xfrm>
            <a:off x="1447920" y="32004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液体表面上方空气流动的快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380880" y="304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影响蒸发快慢的因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2073960" y="1190520"/>
            <a:ext cx="26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液体本身的温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9"/>
          <p:cNvSpPr/>
          <p:nvPr/>
        </p:nvSpPr>
        <p:spPr>
          <a:xfrm>
            <a:off x="1981800" y="2181240"/>
            <a:ext cx="23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液体的表面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91440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液体蒸发时要从周围物体（包括自身）吸热，因此液体蒸发有致冷作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1"/>
          <p:cNvSpPr/>
          <p:nvPr/>
        </p:nvSpPr>
        <p:spPr>
          <a:xfrm>
            <a:off x="822600" y="4191120"/>
            <a:ext cx="15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蒸发致冷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057400" y="762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沸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51960" y="1902960"/>
            <a:ext cx="729000" cy="13410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沸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133720" y="19051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液体沸腾时的特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133720" y="37339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影响沸点高低的因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038480" y="762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液体沸腾时的温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2819520" y="26668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液体沸腾时保持温度不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895480" y="4495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液面上方的气压越大，沸点越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600200" y="106668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81532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书本</cp:lastModifiedBy>
  <dcterms:modified xsi:type="dcterms:W3CDTF">2024-01-22T04:38:20Z</dcterms:modified>
  <cp:revision>94</cp:revision>
  <dc:subject/>
  <dc:title>PowerPoint Presentation</dc:title>
</cp:coreProperties>
</file>