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6.gif" ContentType="image/gif"/>
  <Override PartName="/ppt/media/image27.png" ContentType="image/pn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3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E43-1783-4520-8698-BC6A752F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356A-3387-440A-9F2F-9D14E8D3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83069-4660-4CA7-992F-E8BC5686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B1BCD-397F-414C-8925-1573E43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BF31B-4D01-4EB2-9BD6-DA1ED368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E2CD7-3282-470A-B410-9909E2C0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3C61F-EA1A-41CE-A75F-3C89807E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EF66D-6DA1-4ACC-A0B1-0A4BE722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57542-A594-48DA-B739-728904F1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84E0A-0494-40C0-86EB-6E696B61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217B7-BCD0-43F5-B8D6-5D2C871E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85F8C-1A34-46BE-999D-C8D78F3A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A22-2F86-43A5-B53E-61F51A5F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5124D-B896-4DAC-BC21-A061D9E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8EF12-38EC-4C4C-9376-381DF134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48FC6-C5FA-45D6-A1BF-DE44F80E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34C37-37A7-4000-94EE-416BD4DD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A5602-60B3-49F9-AE5C-22513FAC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DD3BE-7852-4505-90A8-11AF7CF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34798-EDAD-43D0-B59B-166EFAB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0A710-2623-4621-BB66-060F246C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C149A-00C2-4467-9B16-B6ACCEC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F7704-BF9F-4E56-BA5C-6CED359A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487-CD2C-4064-B549-E0D68319B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4B8D6-FEC3-463B-8059-EC1C2F379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8D8B53-39FE-4264-A7A9-5A6E984B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3D211-67A8-4199-9EBF-AF372F9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E14B3-B182-4485-8FDA-D13F8CB2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6B61F-6E42-4118-80F3-0CEB887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883BB-7D43-4829-8318-7E54F79D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9B0DB-F59B-4126-A544-61CB649A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DA2E1-D4E9-4F85-9451-C8C3282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8182E-2495-4295-97D1-7C23E3E5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41D1D-EB5B-4DC9-B036-D303163F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08488-91AE-4E36-B4D3-57EE04D6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062D-B9F9-4397-988D-75C4133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B746E-368D-4022-BE56-3993357C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FE322-1C53-46AF-8DF1-9D7BC563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4A536-7390-41A1-9420-BEE9291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2B48-37C6-4A54-997A-10A6EAFB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6C43-5833-4F4E-B48D-77D859E7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273C-22A0-4332-8385-F1A6A7CF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463C-7580-4051-9956-B97CF2FD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4D82-B8C5-43B0-8AB0-08AFA48C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7F9-6FA8-4439-AB0F-AFCD5253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3EC5-58D9-4396-992E-D3B14B33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9C9-0E09-4E2B-9113-3AB00845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6354-DAB9-454A-81DB-39A2EE71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D51C-CBCE-4F82-805E-6F3F28CB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179-7CF7-41AD-8F3E-C625D27B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99147-26FB-43E5-A33F-4271B810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B86C1-B69D-4017-AF91-60F2B3F1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1E626-1AC1-407B-872E-1AB78B28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3E788-C3EC-4D3B-8377-C24CA179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6C6C-6C5D-454A-BA09-05071BBC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F0CB-FE93-4CF2-B998-B4595DFC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60CC-7544-4551-9124-0D118C56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DBA9F-767A-496E-8C83-819E1C4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656DE-E0CB-414B-AC98-FA73DE78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4A56-2404-4233-8BF7-AE53824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0CFBA-ADDA-4CFA-BE23-F794E720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18887-9319-4BEB-AD61-4364E872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02FD-4901-486D-BD0F-DABE98F1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42A3-6884-4D33-A998-7F8E4ED4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44185-8DBD-423A-9901-DF68981D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B3747-A6D6-407C-B89C-51A77FDC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DAD-0B02-4355-BEF7-5D6158E5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4FBE7-A6B8-4FA0-8529-938FF3A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43C23-834F-42BC-B932-F42FD572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7FA9-C4CE-4646-809F-449EF678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35106-54BC-415B-8332-523C030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E8022-4D53-4BFA-83F7-A7CCA079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09E2-B1E1-4094-B708-2E1128A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15A0F-33B6-49FF-BF31-779A8033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048E-8CA2-4166-9271-4A0D067B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73F4-171B-40DE-A2D3-E68FCDB2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F4D84-F9DC-432A-82AD-7E151426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464-E346-4797-8401-52611037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18E0-39C6-4968-A90C-C0605B2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BE572-20B4-4CC9-AA13-B33A16FA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EF914-8E3F-4506-9C85-573EF893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D411F-B118-4EA3-BA34-089AF67F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89E2B-2C43-4149-9879-978A113D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A2A6A-F665-43A0-8945-C600C9C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D3EBB-5E66-486E-B651-CABC6879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E2AEF-7C61-4CE0-9966-3C1B9841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65B41-BC7F-416C-BBD9-27CBA3F5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EEA3-3662-4959-A93B-576893E4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B116-C989-4C3F-BDB1-A3CDEBFB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4DFC-F8CE-4EDD-8CFD-14034D1D9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0DD97-DA66-4FA8-A3AE-255820B3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39A2-61EE-4B4E-865F-29F5E93D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83774-7C3F-4C7F-80F3-9C01E87F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614BA-2503-4A20-8E21-4C87DBB4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45C48-575A-47F7-A269-641DB8F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972D9-8D47-4BE9-8993-22462BE0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451D6-73DC-4F32-AFA2-9EDBDD58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A67FA-79D4-41F4-968A-A374E8FE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4C819-501A-47F5-B829-27FF9B37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9145-44C5-4FF5-AF12-C9B1399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34B24-99B2-4E56-82DE-292D271D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7F042-EC81-43FC-A18F-4E6253C1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BB606-911A-490A-8EA6-AE9E5B6F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547FF-7237-4D51-BD7B-C0FDB71D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0AF9B-FD2F-4ED4-881F-B0E7D332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0C076-8823-44B6-AAC1-AF2CDF40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CEF72-2C1C-4707-9979-824C3C21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8D1F0-03FE-492E-BD51-226A0201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286F-5DAF-48B3-91F0-92989FAE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F6B1-C039-46F3-8370-4FF569B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723-588A-4DF2-B6FA-0B355E8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B0663-AE8F-4D3A-84A9-425D02BB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334A1-3046-46E4-9EBB-D1687404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762CA-46D8-4889-B192-C7E222C4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9F65-206E-4425-B394-9737834A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C525-00A4-42CD-9C51-D1E248D6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AD67D-6885-4092-B4C0-837F19F0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61E31-8E2F-4D1C-8677-90DC3EDD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2BE6F-D50D-4239-85E6-0D749FDE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023BC-74D6-4C7B-9C58-5DF8D374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080B-A1FF-4884-8F2C-CBFCA9F6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D0F-2A45-491C-83B7-D67FA64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F33C7-2D1B-4526-BC81-887797C2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E06F0-DD71-4EC8-83A8-F734A483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E189A-2874-4C95-8B57-CDECFB8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D535B-D885-4ACC-BCBF-67B240B7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42CAC-B9A3-4E39-9311-4FAD2824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31917-9FC5-49A7-866F-D2C7577F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03A74-A84F-4094-97E5-3BC426BA6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A0CF-B9A9-460B-983C-83A03A18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C4779-19FD-4878-9558-2AD756C6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F283B-40DB-4B75-B2FA-9C3AEF5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9EAE-BBCB-4FD6-B171-06CDB1CBD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组合 116737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06" name="矩形 116738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任意多边形 116739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任意多边形 116740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任意多边形 116741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任意多边形 116742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任意多边形 116743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任意多边形 116744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任意多边形 116745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任意多边形 116746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任意多边形 116747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任意多边形 116748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任意多边形 116749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任意多边形 116750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任意多边形 116751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任意多边形 116752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0098-D7DE-4150-8402-5CC843DEA204}" type="datetime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D36-5EA7-4962-A682-927BD9E4301B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组合 116737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63" name="矩形 116738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任意多边形 116739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任意多边形 116740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任意多边形 116741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任意多边形 116742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任意多边形 116743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任意多边形 116744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任意多边形 116745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任意多边形 116746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任意多边形 116747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任意多边形 116748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任意多边形 116749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任意多边形 116750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任意多边形 116751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任意多边形 116752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A4DB-0D9F-4255-87D4-BFD0C9723018}" type="datetime"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0B3-F832-4F07-AEBF-F46BF8906AD2}" type="slidenum">
              <a:rPr b="0" lang="zh-CN" sz="1200" spc="-1" strike="noStrike">
                <a:solidFill>
                  <a:srgbClr val="ffffff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2C88-2D4C-4084-8907-E6AAC75C6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76DC-1C04-4AA1-ADAE-1D06DF63728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A7F2-8E86-4150-BEC3-40BC3482C0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48B7-FEAE-49A5-BA9D-992B281CF048}" type="datetime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2EBD-9EDE-4627-9E10-DCA3238B1F76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任意多边形 111622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直接连接符 111623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15713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67" name="矩形 115714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115715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115716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任意多边形 115717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任意多边形 115718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任意多边形 115719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任意多边形 115720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任意多边形 115721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任意多边形 115722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任意多边形 115723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任意多边形 115724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任意多边形 115725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任意多边形 115726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任意多边形 115727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任意多边形 115728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C2A0-2DAA-4025-92AC-FEB9F74610AD}" type="datetime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2278-187D-4A1D-9562-5A41B3891505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5E69-75E8-421D-B4F3-F68256D4D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组合 115713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65" name="矩形 115714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任意多边形 115715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任意多边形 115716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任意多边形 115717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任意多边形 115718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任意多边形 115719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任意多边形 115720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任意多边形 115721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115722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任意多边形 115723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任意多边形 115724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任意多边形 115725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任意多边形 115726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任意多边形 115727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任意多边形 115728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246D-2CC1-4DC7-A146-47A591924E5B}" type="datetime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F47B-C17F-4856-BC7F-C166218B5F88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F11F-06CD-425F-821E-D81A7B63A25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0EB5-0943-4950-90CB-ACE0152839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任意多边形 112646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直接连接符 112647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BF7F-BEB6-424A-9486-4B1D4A30F63C}" type="datetime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B57B-EBFD-42B7-9B54-ABDF5804C742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4099" descr="1"/>
          <p:cNvPicPr/>
          <p:nvPr/>
        </p:nvPicPr>
        <p:blipFill>
          <a:blip r:embed="rId2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13"/>
          <p:cNvSpPr txBox="1"/>
          <p:nvPr/>
        </p:nvSpPr>
        <p:spPr>
          <a:xfrm>
            <a:off x="1332000" y="260280"/>
            <a:ext cx="6696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Unit 2 Colours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21" name="WordArt 12"/>
          <p:cNvSpPr txBox="1"/>
          <p:nvPr/>
        </p:nvSpPr>
        <p:spPr>
          <a:xfrm>
            <a:off x="2340000" y="3068640"/>
            <a:ext cx="4753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Grammar</a:t>
            </a:r>
            <a:endParaRPr b="1" lang="en-US" sz="44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522" name="图片 4101" descr="hudie1"/>
          <p:cNvPicPr/>
          <p:nvPr/>
        </p:nvPicPr>
        <p:blipFill>
          <a:blip r:embed="rId3"/>
          <a:stretch/>
        </p:blipFill>
        <p:spPr>
          <a:xfrm>
            <a:off x="3924360" y="2997360"/>
            <a:ext cx="8650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Box 7"/>
          <p:cNvSpPr/>
          <p:nvPr/>
        </p:nvSpPr>
        <p:spPr>
          <a:xfrm>
            <a:off x="395280" y="3933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Comic Sans MS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olours really influence our moods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0" y="4869000"/>
            <a:ext cx="18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7"/>
          <p:cNvSpPr/>
          <p:nvPr/>
        </p:nvSpPr>
        <p:spPr>
          <a:xfrm>
            <a:off x="2805120" y="4941720"/>
            <a:ext cx="63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lours really influence our moods</a:t>
            </a: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7"/>
          <p:cNvSpPr/>
          <p:nvPr/>
        </p:nvSpPr>
        <p:spPr>
          <a:xfrm>
            <a:off x="971640" y="501336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Comic Sans MS"/>
              </a:rPr>
              <a:t>if/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文本框 16394"/>
          <p:cNvSpPr/>
          <p:nvPr/>
        </p:nvSpPr>
        <p:spPr>
          <a:xfrm rot="20047200">
            <a:off x="0" y="3357720"/>
            <a:ext cx="118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99"/>
                </a:solidFill>
                <a:latin typeface="Arial"/>
              </a:rPr>
              <a:t>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椭圆 18"/>
          <p:cNvSpPr/>
          <p:nvPr/>
        </p:nvSpPr>
        <p:spPr>
          <a:xfrm>
            <a:off x="1042920" y="4869000"/>
            <a:ext cx="1943280" cy="863640"/>
          </a:xfrm>
          <a:prstGeom prst="ellipse">
            <a:avLst/>
          </a:pr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直接连接符 16396"/>
          <p:cNvSpPr/>
          <p:nvPr/>
        </p:nvSpPr>
        <p:spPr>
          <a:xfrm>
            <a:off x="7093080" y="4292640"/>
            <a:ext cx="1800000" cy="86364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WordArt 4"/>
          <p:cNvSpPr txBox="1"/>
          <p:nvPr/>
        </p:nvSpPr>
        <p:spPr>
          <a:xfrm>
            <a:off x="468360" y="189000"/>
            <a:ext cx="767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Object clauses introduced by if/ whether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4" name="矩形 16400"/>
          <p:cNvSpPr/>
          <p:nvPr/>
        </p:nvSpPr>
        <p:spPr>
          <a:xfrm>
            <a:off x="466560" y="1954080"/>
            <a:ext cx="8426520" cy="971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peopl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eliev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olours  can influence our moo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125954"/>
          <p:cNvSpPr/>
          <p:nvPr/>
        </p:nvSpPr>
        <p:spPr>
          <a:xfrm>
            <a:off x="609480" y="1828800"/>
            <a:ext cx="5410440" cy="609480"/>
          </a:xfrm>
          <a:prstGeom prst="rect">
            <a:avLst/>
          </a:prstGeom>
          <a:solidFill>
            <a:srgbClr val="996600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我问他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楷体"/>
              </a:rPr>
              <a:t>是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想去游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左大括号 125955"/>
          <p:cNvSpPr/>
          <p:nvPr/>
        </p:nvSpPr>
        <p:spPr>
          <a:xfrm rot="16200000">
            <a:off x="2476440" y="2933640"/>
            <a:ext cx="609840" cy="2819520"/>
          </a:xfrm>
          <a:custGeom>
            <a:avLst/>
            <a:gdLst>
              <a:gd name="textAreaLeft" fmla="*/ 389520 w 609840"/>
              <a:gd name="textAreaRight" fmla="*/ 610200 w 609840"/>
              <a:gd name="textAreaTop" fmla="*/ 73080 h 2819520"/>
              <a:gd name="textAreaBottom" fmla="*/ 274644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8745"/>
                </a:lnTo>
                <a:cubicBezTo>
                  <a:pt x="10800" y="9644"/>
                  <a:pt x="5400" y="10542"/>
                  <a:pt x="0" y="10542"/>
                </a:cubicBezTo>
                <a:cubicBezTo>
                  <a:pt x="5400" y="10542"/>
                  <a:pt x="10800" y="11441"/>
                  <a:pt x="10800" y="12339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左箭头标注 125956"/>
          <p:cNvSpPr/>
          <p:nvPr/>
        </p:nvSpPr>
        <p:spPr>
          <a:xfrm>
            <a:off x="4876920" y="3505320"/>
            <a:ext cx="4267080" cy="1523880"/>
          </a:xfrm>
          <a:prstGeom prst="leftArrowCallout">
            <a:avLst>
              <a:gd name="adj1" fmla="val 25002"/>
              <a:gd name="adj2" fmla="val 25000"/>
              <a:gd name="adj3" fmla="val 46630"/>
              <a:gd name="adj4" fmla="val 66673"/>
            </a:avLst>
          </a:prstGeom>
          <a:solidFill>
            <a:srgbClr val="cc99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改为陈述句语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/whethe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连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椭圆 125957"/>
          <p:cNvSpPr/>
          <p:nvPr/>
        </p:nvSpPr>
        <p:spPr>
          <a:xfrm>
            <a:off x="1143000" y="1752480"/>
            <a:ext cx="1066680" cy="1067040"/>
          </a:xfrm>
          <a:prstGeom prst="ellipse">
            <a:avLst/>
          </a:prstGeom>
          <a:solidFill>
            <a:srgbClr val="ff9900">
              <a:alpha val="51000"/>
            </a:srgbClr>
          </a:solidFill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直接连接符 125958"/>
          <p:cNvSpPr/>
          <p:nvPr/>
        </p:nvSpPr>
        <p:spPr>
          <a:xfrm flipH="1">
            <a:off x="1600200" y="2819520"/>
            <a:ext cx="76320" cy="457200"/>
          </a:xfrm>
          <a:prstGeom prst="line">
            <a:avLst/>
          </a:prstGeom>
          <a:ln w="57240">
            <a:solidFill>
              <a:srgbClr val="996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矩形 125959"/>
          <p:cNvSpPr/>
          <p:nvPr/>
        </p:nvSpPr>
        <p:spPr>
          <a:xfrm>
            <a:off x="685800" y="3276720"/>
            <a:ext cx="1638360" cy="609480"/>
          </a:xfrm>
          <a:prstGeom prst="rect">
            <a:avLst/>
          </a:prstGeom>
          <a:solidFill>
            <a:srgbClr val="cc9900">
              <a:alpha val="6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椭圆 125960"/>
          <p:cNvSpPr/>
          <p:nvPr/>
        </p:nvSpPr>
        <p:spPr>
          <a:xfrm>
            <a:off x="2268360" y="1484280"/>
            <a:ext cx="3429000" cy="1371600"/>
          </a:xfrm>
          <a:prstGeom prst="ellipse">
            <a:avLst/>
          </a:prstGeom>
          <a:solidFill>
            <a:srgbClr val="cc9900">
              <a:alpha val="16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直接连接符 125961"/>
          <p:cNvSpPr/>
          <p:nvPr/>
        </p:nvSpPr>
        <p:spPr>
          <a:xfrm>
            <a:off x="4191120" y="2743200"/>
            <a:ext cx="152280" cy="60948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矩形 125962"/>
          <p:cNvSpPr/>
          <p:nvPr/>
        </p:nvSpPr>
        <p:spPr>
          <a:xfrm>
            <a:off x="2438280" y="3276720"/>
            <a:ext cx="3810240" cy="60948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Does he want to go swimmin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直接连接符 125963"/>
          <p:cNvSpPr/>
          <p:nvPr/>
        </p:nvSpPr>
        <p:spPr>
          <a:xfrm>
            <a:off x="4800600" y="39625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椭圆 125964"/>
          <p:cNvSpPr/>
          <p:nvPr/>
        </p:nvSpPr>
        <p:spPr>
          <a:xfrm>
            <a:off x="4191120" y="5105520"/>
            <a:ext cx="3886200" cy="990360"/>
          </a:xfrm>
          <a:prstGeom prst="ellipse">
            <a:avLst/>
          </a:prstGeom>
          <a:solidFill>
            <a:srgbClr val="00ffff">
              <a:alpha val="28000"/>
            </a:srgbClr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he wants to go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椭圆 125965"/>
          <p:cNvSpPr/>
          <p:nvPr/>
        </p:nvSpPr>
        <p:spPr>
          <a:xfrm>
            <a:off x="2362320" y="5181480"/>
            <a:ext cx="1752480" cy="914400"/>
          </a:xfrm>
          <a:prstGeom prst="ellipse">
            <a:avLst/>
          </a:prstGeom>
          <a:solidFill>
            <a:srgbClr val="00ffff">
              <a:alpha val="28000"/>
            </a:srgbClr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if/wh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矩形 125966"/>
          <p:cNvSpPr/>
          <p:nvPr/>
        </p:nvSpPr>
        <p:spPr>
          <a:xfrm>
            <a:off x="685800" y="5257800"/>
            <a:ext cx="1638360" cy="609480"/>
          </a:xfrm>
          <a:prstGeom prst="rect">
            <a:avLst/>
          </a:prstGeom>
          <a:solidFill>
            <a:srgbClr val="cc9900">
              <a:alpha val="65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s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5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矩形 14"/>
          <p:cNvSpPr/>
          <p:nvPr/>
        </p:nvSpPr>
        <p:spPr>
          <a:xfrm>
            <a:off x="1461600" y="2714760"/>
            <a:ext cx="50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宾语从句中要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____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语序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5348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Conclus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4" descr="Ar_017"/>
          <p:cNvPicPr/>
          <p:nvPr/>
        </p:nvPicPr>
        <p:blipFill>
          <a:blip r:embed="rId2"/>
          <a:stretch/>
        </p:blipFill>
        <p:spPr>
          <a:xfrm>
            <a:off x="285840" y="1428840"/>
            <a:ext cx="549360" cy="44604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5"/>
          <p:cNvSpPr/>
          <p:nvPr/>
        </p:nvSpPr>
        <p:spPr>
          <a:xfrm>
            <a:off x="285840" y="3929040"/>
            <a:ext cx="8643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注意：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whether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if</a:t>
            </a:r>
            <a:r>
              <a:rPr b="1" lang="zh-CN" sz="3200" spc="-1" strike="noStrike">
                <a:solidFill>
                  <a:srgbClr val="002060"/>
                </a:solidFill>
                <a:latin typeface="Times New Roman"/>
                <a:ea typeface="宋体"/>
              </a:rPr>
              <a:t>都是“是否”的意思，一般情况下两者可以换用，但有区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Picture 8" descr="Ar_017"/>
          <p:cNvPicPr/>
          <p:nvPr/>
        </p:nvPicPr>
        <p:blipFill>
          <a:blip r:embed="rId3"/>
          <a:stretch/>
        </p:blipFill>
        <p:spPr>
          <a:xfrm>
            <a:off x="357120" y="2714760"/>
            <a:ext cx="549360" cy="44604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9"/>
          <p:cNvSpPr/>
          <p:nvPr/>
        </p:nvSpPr>
        <p:spPr>
          <a:xfrm>
            <a:off x="684360" y="1341360"/>
            <a:ext cx="86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一般疑问句我们要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或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_______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来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Box 8"/>
          <p:cNvSpPr/>
          <p:nvPr/>
        </p:nvSpPr>
        <p:spPr>
          <a:xfrm>
            <a:off x="5003640" y="134136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9"/>
          <p:cNvSpPr/>
          <p:nvPr/>
        </p:nvSpPr>
        <p:spPr>
          <a:xfrm>
            <a:off x="4609440" y="2714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陈述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矩形 10"/>
          <p:cNvSpPr/>
          <p:nvPr/>
        </p:nvSpPr>
        <p:spPr>
          <a:xfrm>
            <a:off x="6085080" y="13413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4"/>
          <p:cNvSpPr/>
          <p:nvPr/>
        </p:nvSpPr>
        <p:spPr>
          <a:xfrm>
            <a:off x="179280" y="189000"/>
            <a:ext cx="8964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的用法区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引导的从句常与连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 not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直接连用，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般不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正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me know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can com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5654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 me know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can come or no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108000" y="3897360"/>
            <a:ext cx="874872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wheth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及其引导的成分可放于介词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后，作介词的宾语，但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正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orr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urt her feel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orry abou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urt her feeling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395280" y="312840"/>
            <a:ext cx="8353440" cy="61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当宾语从句提到句首时，只能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引导，而不能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正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ethe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true or not, I can’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e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误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t is true or not, I can’t tel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 whethe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可以引导带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的不定式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f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不能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正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wheth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ccept 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fu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误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accept or refu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6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3" dur="500"/>
                                        <p:tgtEl>
                                          <p:spTgt spid="6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6" dur="500"/>
                                        <p:tgtEl>
                                          <p:spTgt spid="6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9" dur="500"/>
                                        <p:tgtEl>
                                          <p:spTgt spid="6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1. I haven’t decide ____ I’ll go out </a:t>
            </a:r>
            <a:r>
              <a:rPr b="1" lang="en-US" sz="3000" spc="-1" strike="noStrike">
                <a:solidFill>
                  <a:srgbClr val="ff0000"/>
                </a:solidFill>
                <a:latin typeface="Comic Sans MS"/>
              </a:rPr>
              <a:t>or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tay at ho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. if              B. when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. why            D. wh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2. I want to know ___ you love Englis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. that           B. what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. if               D. w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4211640" y="32130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971640" y="530064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WordArt 11"/>
          <p:cNvSpPr txBox="1"/>
          <p:nvPr/>
        </p:nvSpPr>
        <p:spPr>
          <a:xfrm>
            <a:off x="3348000" y="117360"/>
            <a:ext cx="280836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Exercises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3. I wonder ____ to come to his birthday par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. whether        B. why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. where           D. 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4. I’d like to know ________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. whether will he come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. whether has he 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. whether he will come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. that he will 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1547640" y="1125360"/>
            <a:ext cx="83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474920" y="429264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宋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00000" y="2492280"/>
            <a:ext cx="74898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The Class 1, Grade 9 students are shopping. Complete the sentences by using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if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or 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whether</a:t>
            </a:r>
            <a:r>
              <a:rPr b="1" i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to make object cla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WordArt 4"/>
          <p:cNvSpPr txBox="1"/>
          <p:nvPr/>
        </p:nvSpPr>
        <p:spPr>
          <a:xfrm>
            <a:off x="900000" y="979560"/>
            <a:ext cx="7272360" cy="11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cc0099"/>
                </a:solidFill>
                <a:latin typeface="Arial"/>
              </a:rPr>
              <a:t>Problems about shopping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p:transition>
    <p:pull dir="u"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图片 93185" descr="Gramma01"/>
          <p:cNvPicPr/>
          <p:nvPr/>
        </p:nvPicPr>
        <p:blipFill>
          <a:blip r:embed="rId2"/>
          <a:stretch/>
        </p:blipFill>
        <p:spPr>
          <a:xfrm>
            <a:off x="4859280" y="1916280"/>
            <a:ext cx="2873520" cy="21556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2"/>
          <p:cNvSpPr/>
          <p:nvPr/>
        </p:nvSpPr>
        <p:spPr>
          <a:xfrm>
            <a:off x="250920" y="3995640"/>
            <a:ext cx="8713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Kitty cannot decide ______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755640" y="3933720"/>
            <a:ext cx="75963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if/whether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she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hould choose the red dress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5"/>
          <p:cNvSpPr/>
          <p:nvPr/>
        </p:nvSpPr>
        <p:spPr>
          <a:xfrm>
            <a:off x="108000" y="333360"/>
            <a:ext cx="8675640" cy="1511280"/>
          </a:xfrm>
          <a:prstGeom prst="cloudCallout">
            <a:avLst>
              <a:gd name="adj1" fmla="val 5773"/>
              <a:gd name="adj2" fmla="val 8371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choose the red dress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393840" y="4140360"/>
            <a:ext cx="84992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Sandy does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t know 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3"/>
          <p:cNvSpPr/>
          <p:nvPr/>
        </p:nvSpPr>
        <p:spPr>
          <a:xfrm>
            <a:off x="866880" y="4140360"/>
            <a:ext cx="76658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  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if/whether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white clothes suit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5"/>
          <p:cNvSpPr/>
          <p:nvPr/>
        </p:nvSpPr>
        <p:spPr>
          <a:xfrm>
            <a:off x="1979640" y="725400"/>
            <a:ext cx="6985080" cy="1096920"/>
          </a:xfrm>
          <a:prstGeom prst="cloudCallout">
            <a:avLst>
              <a:gd name="adj1" fmla="val -27523"/>
              <a:gd name="adj2" fmla="val 117148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o white clothes </a:t>
            </a:r>
            <a:r>
              <a:rPr b="1" i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sui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m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6"/>
          <p:cNvSpPr/>
          <p:nvPr/>
        </p:nvSpPr>
        <p:spPr>
          <a:xfrm>
            <a:off x="5653080" y="2276640"/>
            <a:ext cx="2664000" cy="576000"/>
          </a:xfrm>
          <a:prstGeom prst="wedgeRoundRectCallout">
            <a:avLst>
              <a:gd name="adj1" fmla="val -14004"/>
              <a:gd name="adj2" fmla="val -167907"/>
              <a:gd name="adj3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vt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宋体"/>
              </a:rPr>
              <a:t>适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图片 94213" descr="Gramma02"/>
          <p:cNvPicPr/>
          <p:nvPr/>
        </p:nvPicPr>
        <p:blipFill>
          <a:blip r:embed="rId2"/>
          <a:stretch/>
        </p:blipFill>
        <p:spPr>
          <a:xfrm>
            <a:off x="393840" y="1916280"/>
            <a:ext cx="2954160" cy="22161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53601" descr="11"/>
          <p:cNvPicPr/>
          <p:nvPr/>
        </p:nvPicPr>
        <p:blipFill>
          <a:blip r:embed="rId1"/>
          <a:stretch/>
        </p:blipFill>
        <p:spPr>
          <a:xfrm>
            <a:off x="900000" y="3933720"/>
            <a:ext cx="3241800" cy="2774880"/>
          </a:xfrm>
          <a:prstGeom prst="rect">
            <a:avLst/>
          </a:prstGeom>
          <a:ln w="0">
            <a:noFill/>
          </a:ln>
        </p:spPr>
      </p:pic>
      <p:pic>
        <p:nvPicPr>
          <p:cNvPr id="524" name="图片 153602" descr="pluto07a"/>
          <p:cNvPicPr/>
          <p:nvPr/>
        </p:nvPicPr>
        <p:blipFill>
          <a:blip r:embed="rId2"/>
          <a:stretch/>
        </p:blipFill>
        <p:spPr>
          <a:xfrm>
            <a:off x="5724360" y="4365720"/>
            <a:ext cx="2387880" cy="2266920"/>
          </a:xfrm>
          <a:prstGeom prst="rect">
            <a:avLst/>
          </a:prstGeom>
          <a:ln w="0">
            <a:noFill/>
          </a:ln>
        </p:spPr>
      </p:pic>
      <p:pic>
        <p:nvPicPr>
          <p:cNvPr id="525" name="图片 153603" descr="x27"/>
          <p:cNvPicPr/>
          <p:nvPr/>
        </p:nvPicPr>
        <p:blipFill>
          <a:blip r:embed="rId3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526" name="Cloud"/>
          <p:cNvSpPr/>
          <p:nvPr/>
        </p:nvSpPr>
        <p:spPr>
          <a:xfrm>
            <a:off x="-420840" y="1484280"/>
            <a:ext cx="5453280" cy="1773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 am the king of the fo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Cloud"/>
          <p:cNvSpPr/>
          <p:nvPr/>
        </p:nvSpPr>
        <p:spPr>
          <a:xfrm>
            <a:off x="4743360" y="2276640"/>
            <a:ext cx="4400640" cy="17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es the lion s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文本框 153606"/>
          <p:cNvSpPr/>
          <p:nvPr/>
        </p:nvSpPr>
        <p:spPr>
          <a:xfrm>
            <a:off x="250920" y="260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ion s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文本框 153611"/>
          <p:cNvSpPr/>
          <p:nvPr/>
        </p:nvSpPr>
        <p:spPr>
          <a:xfrm>
            <a:off x="3564000" y="26028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is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king of the fo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文本框 153612"/>
          <p:cNvSpPr/>
          <p:nvPr/>
        </p:nvSpPr>
        <p:spPr>
          <a:xfrm>
            <a:off x="2627280" y="260280"/>
            <a:ext cx="9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直接连接符 153613"/>
          <p:cNvSpPr/>
          <p:nvPr/>
        </p:nvSpPr>
        <p:spPr>
          <a:xfrm flipV="1">
            <a:off x="1042920" y="692280"/>
            <a:ext cx="2665440" cy="1224000"/>
          </a:xfrm>
          <a:prstGeom prst="line">
            <a:avLst/>
          </a:prstGeom>
          <a:ln w="44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直接连接符 153614"/>
          <p:cNvSpPr/>
          <p:nvPr/>
        </p:nvSpPr>
        <p:spPr>
          <a:xfrm flipV="1">
            <a:off x="1547640" y="765000"/>
            <a:ext cx="2665440" cy="122400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WordArt 12"/>
          <p:cNvSpPr txBox="1"/>
          <p:nvPr/>
        </p:nvSpPr>
        <p:spPr>
          <a:xfrm>
            <a:off x="4643280" y="260280"/>
            <a:ext cx="4248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 </a:t>
            </a:r>
            <a:r>
              <a:rPr b="1" lang="en-US" sz="2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Object Clause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34" name="椭圆 18"/>
          <p:cNvSpPr/>
          <p:nvPr/>
        </p:nvSpPr>
        <p:spPr>
          <a:xfrm>
            <a:off x="0" y="115920"/>
            <a:ext cx="8388360" cy="936720"/>
          </a:xfrm>
          <a:prstGeom prst="ellipse">
            <a:avLst/>
          </a:pr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5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395280" y="4500720"/>
            <a:ext cx="8497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Amy is asking _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974880" y="4437000"/>
            <a:ext cx="75578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if/whether the sports bag is made of cotton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5"/>
          <p:cNvSpPr/>
          <p:nvPr/>
        </p:nvSpPr>
        <p:spPr>
          <a:xfrm>
            <a:off x="611280" y="171360"/>
            <a:ext cx="8281800" cy="1096920"/>
          </a:xfrm>
          <a:prstGeom prst="cloudCallout">
            <a:avLst>
              <a:gd name="adj1" fmla="val -3671"/>
              <a:gd name="adj2" fmla="val 17691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s the sports bag made of cotto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图片 95236" descr="Gramma03"/>
          <p:cNvPicPr/>
          <p:nvPr/>
        </p:nvPicPr>
        <p:blipFill>
          <a:blip r:embed="rId2"/>
          <a:stretch/>
        </p:blipFill>
        <p:spPr>
          <a:xfrm>
            <a:off x="395280" y="1736640"/>
            <a:ext cx="3600360" cy="270036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图片 96257" descr="Gramma04"/>
          <p:cNvPicPr/>
          <p:nvPr/>
        </p:nvPicPr>
        <p:blipFill>
          <a:blip r:embed="rId2"/>
          <a:stretch/>
        </p:blipFill>
        <p:spPr>
          <a:xfrm>
            <a:off x="179280" y="190332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2"/>
          <p:cNvSpPr/>
          <p:nvPr/>
        </p:nvSpPr>
        <p:spPr>
          <a:xfrm>
            <a:off x="395280" y="4356000"/>
            <a:ext cx="83534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Simon is not sure _______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900000" y="4294080"/>
            <a:ext cx="772488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if/whether the green T-shirt matches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his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trousers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539640" y="250920"/>
            <a:ext cx="8353440" cy="1296720"/>
          </a:xfrm>
          <a:prstGeom prst="cloudCallout">
            <a:avLst>
              <a:gd name="adj1" fmla="val -13152"/>
              <a:gd name="adj2" fmla="val 9222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Does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the green T-shirt match 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my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trousers</a:t>
            </a: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97281" descr="Gramma05"/>
          <p:cNvPicPr/>
          <p:nvPr/>
        </p:nvPicPr>
        <p:blipFill>
          <a:blip r:embed="rId2"/>
          <a:stretch/>
        </p:blipFill>
        <p:spPr>
          <a:xfrm>
            <a:off x="250920" y="17240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678" name="Text Box 2"/>
          <p:cNvSpPr/>
          <p:nvPr/>
        </p:nvSpPr>
        <p:spPr>
          <a:xfrm>
            <a:off x="322200" y="4002120"/>
            <a:ext cx="87138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 Daniel often wonders ____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898560" y="3932280"/>
            <a:ext cx="7848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 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if/whether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he </a:t>
            </a:r>
            <a:r>
              <a:rPr b="1" i="1" lang="zh-CN" sz="3600" spc="-1" strike="noStrike">
                <a:solidFill>
                  <a:srgbClr val="3333ff"/>
                </a:solidFill>
                <a:latin typeface="Times New Roman"/>
                <a:ea typeface="宋体"/>
              </a:rPr>
              <a:t>should 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stay at home instead of going shopping with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his </a:t>
            </a: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classmates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5"/>
          <p:cNvSpPr/>
          <p:nvPr/>
        </p:nvSpPr>
        <p:spPr>
          <a:xfrm>
            <a:off x="684360" y="189000"/>
            <a:ext cx="8062920" cy="2066760"/>
          </a:xfrm>
          <a:prstGeom prst="cloudCallout">
            <a:avLst>
              <a:gd name="adj1" fmla="val -13967"/>
              <a:gd name="adj2" fmla="val 709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Should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stay at home instead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going shopping with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my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classmates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图片 28" descr="四角绿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2" name="WordArt 4"/>
          <p:cNvSpPr txBox="1"/>
          <p:nvPr/>
        </p:nvSpPr>
        <p:spPr>
          <a:xfrm>
            <a:off x="611280" y="189000"/>
            <a:ext cx="3849480" cy="66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Arial"/>
              </a:rPr>
              <a:t>Make a conclusion: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395280" y="1413000"/>
            <a:ext cx="89064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左大括号 4"/>
          <p:cNvSpPr/>
          <p:nvPr/>
        </p:nvSpPr>
        <p:spPr>
          <a:xfrm>
            <a:off x="1382760" y="692280"/>
            <a:ext cx="236520" cy="5067000"/>
          </a:xfrm>
          <a:custGeom>
            <a:avLst/>
            <a:gdLst>
              <a:gd name="textAreaLeft" fmla="*/ 151200 w 236520"/>
              <a:gd name="textAreaRight" fmla="*/ 236880 w 236520"/>
              <a:gd name="textAreaTop" fmla="*/ 8280 h 5067000"/>
              <a:gd name="textAreaBottom" fmla="*/ 5058720 h 50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8"/>
                  <a:pt x="10800" y="116"/>
                </a:cubicBezTo>
                <a:lnTo>
                  <a:pt x="10800" y="10684"/>
                </a:lnTo>
                <a:cubicBezTo>
                  <a:pt x="10800" y="10742"/>
                  <a:pt x="5400" y="10800"/>
                  <a:pt x="0" y="10800"/>
                </a:cubicBezTo>
                <a:cubicBezTo>
                  <a:pt x="5400" y="10800"/>
                  <a:pt x="10800" y="10858"/>
                  <a:pt x="10800" y="10916"/>
                </a:cubicBezTo>
                <a:lnTo>
                  <a:pt x="10800" y="21484"/>
                </a:lnTo>
                <a:cubicBezTo>
                  <a:pt x="10800" y="2154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1619280" y="755640"/>
            <a:ext cx="6508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连接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1547640" y="50846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0"/>
          <p:cNvSpPr/>
          <p:nvPr/>
        </p:nvSpPr>
        <p:spPr>
          <a:xfrm>
            <a:off x="1633680" y="2276640"/>
            <a:ext cx="8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微软雅黑"/>
                <a:ea typeface="微软雅黑"/>
              </a:rPr>
              <a:t>语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左大括号 8"/>
          <p:cNvSpPr/>
          <p:nvPr/>
        </p:nvSpPr>
        <p:spPr>
          <a:xfrm>
            <a:off x="2538360" y="804960"/>
            <a:ext cx="225360" cy="969840"/>
          </a:xfrm>
          <a:custGeom>
            <a:avLst/>
            <a:gdLst>
              <a:gd name="textAreaLeft" fmla="*/ 144000 w 225360"/>
              <a:gd name="textAreaRight" fmla="*/ 225720 w 225360"/>
              <a:gd name="textAreaTop" fmla="*/ 7560 h 969840"/>
              <a:gd name="textAreaBottom" fmla="*/ 962280 h 96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0"/>
          <p:cNvSpPr/>
          <p:nvPr/>
        </p:nvSpPr>
        <p:spPr>
          <a:xfrm>
            <a:off x="2765520" y="60804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10"/>
          <p:cNvSpPr/>
          <p:nvPr/>
        </p:nvSpPr>
        <p:spPr>
          <a:xfrm>
            <a:off x="2797200" y="1442880"/>
            <a:ext cx="27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if/wh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0"/>
          <p:cNvSpPr/>
          <p:nvPr/>
        </p:nvSpPr>
        <p:spPr>
          <a:xfrm>
            <a:off x="4086360" y="59688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陈述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10"/>
          <p:cNvSpPr/>
          <p:nvPr/>
        </p:nvSpPr>
        <p:spPr>
          <a:xfrm>
            <a:off x="5292720" y="134136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一般疑问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左大括号 14"/>
          <p:cNvSpPr/>
          <p:nvPr/>
        </p:nvSpPr>
        <p:spPr>
          <a:xfrm>
            <a:off x="2124000" y="4156200"/>
            <a:ext cx="293760" cy="2701800"/>
          </a:xfrm>
          <a:custGeom>
            <a:avLst/>
            <a:gdLst>
              <a:gd name="textAreaLeft" fmla="*/ 187560 w 293760"/>
              <a:gd name="textAreaRight" fmla="*/ 294120 w 293760"/>
              <a:gd name="textAreaTop" fmla="*/ 10080 h 2701800"/>
              <a:gd name="textAreaBottom" fmla="*/ 2691720 h 27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0"/>
                  <a:pt x="10800" y="259"/>
                </a:cubicBezTo>
                <a:lnTo>
                  <a:pt x="10800" y="10541"/>
                </a:lnTo>
                <a:cubicBezTo>
                  <a:pt x="10800" y="10671"/>
                  <a:pt x="5400" y="10800"/>
                  <a:pt x="0" y="10800"/>
                </a:cubicBezTo>
                <a:cubicBezTo>
                  <a:pt x="5400" y="10800"/>
                  <a:pt x="10800" y="10930"/>
                  <a:pt x="10800" y="11059"/>
                </a:cubicBezTo>
                <a:lnTo>
                  <a:pt x="10800" y="21341"/>
                </a:lnTo>
                <a:cubicBezTo>
                  <a:pt x="10800" y="2147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2124000" y="3716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主句为一般现在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2195640" y="4724280"/>
            <a:ext cx="34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主句为一般过去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左大括号 19"/>
          <p:cNvSpPr/>
          <p:nvPr/>
        </p:nvSpPr>
        <p:spPr>
          <a:xfrm>
            <a:off x="6227640" y="4292640"/>
            <a:ext cx="214560" cy="1771560"/>
          </a:xfrm>
          <a:custGeom>
            <a:avLst/>
            <a:gdLst>
              <a:gd name="textAreaLeft" fmla="*/ 137160 w 214560"/>
              <a:gd name="textAreaRight" fmla="*/ 214920 w 214560"/>
              <a:gd name="textAreaTop" fmla="*/ 7200 h 1771560"/>
              <a:gd name="textAreaBottom" fmla="*/ 1764360 h 177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5148360" y="3716280"/>
            <a:ext cx="365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从句可为任何时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6588000" y="4149720"/>
            <a:ext cx="24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般过去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10"/>
          <p:cNvSpPr/>
          <p:nvPr/>
        </p:nvSpPr>
        <p:spPr>
          <a:xfrm>
            <a:off x="6588000" y="458136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去将来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6588000" y="5013360"/>
            <a:ext cx="27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去进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0"/>
          <p:cNvSpPr/>
          <p:nvPr/>
        </p:nvSpPr>
        <p:spPr>
          <a:xfrm>
            <a:off x="6516720" y="5445000"/>
            <a:ext cx="29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过去完成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10"/>
          <p:cNvSpPr/>
          <p:nvPr/>
        </p:nvSpPr>
        <p:spPr>
          <a:xfrm>
            <a:off x="2268360" y="591192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宋体"/>
                <a:ea typeface="宋体"/>
              </a:rPr>
              <a:t>客观真理、自然现象、名言警句仍然用一般现在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2484360" y="2349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宾语从句的语序都为陈述句语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矩形 156696"/>
          <p:cNvSpPr/>
          <p:nvPr/>
        </p:nvSpPr>
        <p:spPr>
          <a:xfrm>
            <a:off x="5405760" y="46530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0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001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时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539280" y="1125000"/>
            <a:ext cx="8001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主句是一般现在时，从句根据句意可用各种时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not sure if he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ill com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two hou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 all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know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that) he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a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rn in Shangha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主句是过去时，从句用过去的某种时态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sai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that) he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was writ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o To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当从句是客观真理、事实时，无论主句是什么时态，从句一律用一般现在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e teacher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tol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 (that) the sun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ris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 the e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447840" y="3994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AutoShape 5"/>
          <p:cNvSpPr/>
          <p:nvPr/>
        </p:nvSpPr>
        <p:spPr>
          <a:xfrm>
            <a:off x="395280" y="3789360"/>
            <a:ext cx="326880" cy="897120"/>
          </a:xfrm>
          <a:custGeom>
            <a:avLst/>
            <a:gdLst/>
            <a:ahLst/>
            <a:rect l="l" t="t" r="r" b="b"/>
            <a:pathLst>
              <a:path w="327025" h="896937">
                <a:moveTo>
                  <a:pt x="0" y="342598"/>
                </a:moveTo>
                <a:lnTo>
                  <a:pt x="124913" y="342601"/>
                </a:lnTo>
                <a:lnTo>
                  <a:pt x="163512" y="0"/>
                </a:lnTo>
                <a:lnTo>
                  <a:pt x="202111" y="342601"/>
                </a:lnTo>
                <a:lnTo>
                  <a:pt x="327024" y="342598"/>
                </a:lnTo>
                <a:lnTo>
                  <a:pt x="225967" y="554335"/>
                </a:lnTo>
                <a:lnTo>
                  <a:pt x="264568" y="896935"/>
                </a:lnTo>
                <a:lnTo>
                  <a:pt x="163512" y="685194"/>
                </a:lnTo>
                <a:lnTo>
                  <a:pt x="62456" y="896935"/>
                </a:lnTo>
                <a:lnTo>
                  <a:pt x="101057" y="5543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内容占位符 164865" descr="35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0" name="矩形 164866"/>
          <p:cNvSpPr txBox="1"/>
          <p:nvPr/>
        </p:nvSpPr>
        <p:spPr>
          <a:xfrm>
            <a:off x="324000" y="1989000"/>
            <a:ext cx="8362800" cy="214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t's do  exercises on P28.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2"/>
          <p:cNvSpPr/>
          <p:nvPr/>
        </p:nvSpPr>
        <p:spPr>
          <a:xfrm>
            <a:off x="884160" y="2421000"/>
            <a:ext cx="75042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anie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nts to tell his online friend Tommy about colours. Help him complete his email using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a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ethe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WordArt 4"/>
          <p:cNvSpPr txBox="1"/>
          <p:nvPr/>
        </p:nvSpPr>
        <p:spPr>
          <a:xfrm>
            <a:off x="468360" y="1052640"/>
            <a:ext cx="8151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Arial"/>
              </a:rPr>
              <a:t>How much do you know about colours?</a:t>
            </a:r>
            <a:endParaRPr b="1" lang="en-US" sz="24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pull dir="u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250920" y="431640"/>
            <a:ext cx="867564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ear T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y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Have you ever noticed the colours around you? Colours are really interesting. A report says (1)_____ blue can help us feel relaxed because it represents peace. You may wonder (2)__________ it represents anything else. Yes. Blue also means sadness. I do not know (3)___________ you li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gre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3274920" y="244800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3506760" y="37512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3795840" y="511956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250920" y="404640"/>
            <a:ext cx="8712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ome people think (4)____ green can give us energy, but it also represents envy. Did you know(5)____ red represents good luck in China?It is often used for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elebr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lease tell me your favourite colour and (6)___________ you know anything else about colours. Write back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est wish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Dani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4645080" y="404640"/>
            <a:ext cx="916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2789280" y="1670040"/>
            <a:ext cx="916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046880" y="3573360"/>
            <a:ext cx="2109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7020000" y="5302080"/>
            <a:ext cx="1871640" cy="863640"/>
          </a:xfrm>
          <a:prstGeom prst="wedgeRoundRectCallout">
            <a:avLst>
              <a:gd name="adj1" fmla="val -59837"/>
              <a:gd name="adj2" fmla="val -306064"/>
              <a:gd name="adj3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  <a:ea typeface="宋体"/>
              </a:rPr>
              <a:t>庆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611280" y="1343160"/>
            <a:ext cx="78501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Daniel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as some questions about colours to ask his dad, but his dad has not come home yet. Help him write a note for his d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22" descr="四角绿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2"/>
          <p:cNvSpPr/>
          <p:nvPr/>
        </p:nvSpPr>
        <p:spPr>
          <a:xfrm>
            <a:off x="407520" y="1197000"/>
            <a:ext cx="320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知道 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  <a:ea typeface="微软雅黑"/>
              </a:rPr>
              <a:t>姚明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3"/>
          <p:cNvSpPr/>
          <p:nvPr/>
        </p:nvSpPr>
        <p:spPr>
          <a:xfrm>
            <a:off x="-346680" y="1844640"/>
            <a:ext cx="5583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We know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  <a:ea typeface="微软雅黑"/>
              </a:rPr>
              <a:t>You M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WordArt 12"/>
          <p:cNvSpPr txBox="1"/>
          <p:nvPr/>
        </p:nvSpPr>
        <p:spPr>
          <a:xfrm>
            <a:off x="971640" y="333360"/>
            <a:ext cx="7020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Think about: what is the object?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39" name="直接连接符 10"/>
          <p:cNvSpPr/>
          <p:nvPr/>
        </p:nvSpPr>
        <p:spPr>
          <a:xfrm>
            <a:off x="250920" y="2349360"/>
            <a:ext cx="750960" cy="12960"/>
          </a:xfrm>
          <a:prstGeom prst="line">
            <a:avLst/>
          </a:prstGeom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直接连接符 11"/>
          <p:cNvSpPr/>
          <p:nvPr/>
        </p:nvSpPr>
        <p:spPr>
          <a:xfrm>
            <a:off x="1332000" y="2349360"/>
            <a:ext cx="750960" cy="14400"/>
          </a:xfrm>
          <a:prstGeom prst="line">
            <a:avLst/>
          </a:prstGeom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14"/>
          <p:cNvSpPr/>
          <p:nvPr/>
        </p:nvSpPr>
        <p:spPr>
          <a:xfrm>
            <a:off x="250920" y="2565360"/>
            <a:ext cx="60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16"/>
          <p:cNvSpPr/>
          <p:nvPr/>
        </p:nvSpPr>
        <p:spPr>
          <a:xfrm>
            <a:off x="1332000" y="2492280"/>
            <a:ext cx="6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椭圆 18"/>
          <p:cNvSpPr/>
          <p:nvPr/>
        </p:nvSpPr>
        <p:spPr>
          <a:xfrm>
            <a:off x="2268360" y="1628640"/>
            <a:ext cx="2664000" cy="936720"/>
          </a:xfrm>
          <a:prstGeom prst="ellipse">
            <a:avLst/>
          </a:pr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Box 20"/>
          <p:cNvSpPr/>
          <p:nvPr/>
        </p:nvSpPr>
        <p:spPr>
          <a:xfrm>
            <a:off x="3132000" y="2708280"/>
            <a:ext cx="6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图片 151563" descr=""/>
          <p:cNvPicPr/>
          <p:nvPr/>
        </p:nvPicPr>
        <p:blipFill>
          <a:blip r:embed="rId2"/>
          <a:stretch/>
        </p:blipFill>
        <p:spPr>
          <a:xfrm>
            <a:off x="5940360" y="1285920"/>
            <a:ext cx="2592360" cy="3465360"/>
          </a:xfrm>
          <a:prstGeom prst="rect">
            <a:avLst/>
          </a:prstGeom>
          <a:ln w="0">
            <a:noFill/>
          </a:ln>
        </p:spPr>
      </p:pic>
      <p:sp>
        <p:nvSpPr>
          <p:cNvPr id="546" name="矩形 36"/>
          <p:cNvSpPr/>
          <p:nvPr/>
        </p:nvSpPr>
        <p:spPr>
          <a:xfrm>
            <a:off x="3655800" y="4940280"/>
            <a:ext cx="1456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宾语是动作、行为的对象，是动作（动词）的承受者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324000" y="476280"/>
            <a:ext cx="8423280" cy="6513120"/>
          </a:xfrm>
          <a:prstGeom prst="rect">
            <a:avLst/>
          </a:prstGeom>
          <a:solidFill>
            <a:srgbClr val="ccffff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Dad knows a lot about col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Is red just the colour of heat and pow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Was yellow once the colour of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ulers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ncient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Did the rulers i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anci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urope like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ea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purp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Do all the doctors in the world wear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6993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t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unifor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"/>
          <p:cNvSpPr/>
          <p:nvPr/>
        </p:nvSpPr>
        <p:spPr>
          <a:xfrm>
            <a:off x="5508720" y="4149720"/>
            <a:ext cx="3095640" cy="865080"/>
          </a:xfrm>
          <a:prstGeom prst="wedgeEllipseCallout">
            <a:avLst>
              <a:gd name="adj1" fmla="val -70462"/>
              <a:gd name="adj2" fmla="val -5642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adj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古代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1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318960" y="800280"/>
            <a:ext cx="864576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I believe</a:t>
            </a:r>
            <a:r>
              <a:rPr b="1" i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_______________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I wonder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 _______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I want to know (3) ________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__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I do not know (4) _______________________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I am not certain (5) _____________________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3489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______________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3"/>
          <p:cNvSpPr/>
          <p:nvPr/>
        </p:nvSpPr>
        <p:spPr>
          <a:xfrm>
            <a:off x="468360" y="1449360"/>
            <a:ext cx="8305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 red 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is just the colour of heat and pow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2484720" y="839880"/>
            <a:ext cx="6400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that Dad knows a lot about colou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464040" y="2576520"/>
            <a:ext cx="8431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 yellow was onc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the colour of the rulers in ancient Chin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466560" y="3703680"/>
            <a:ext cx="78649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 the rulers in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ancient Europe like</a:t>
            </a:r>
            <a:r>
              <a:rPr b="1" i="1" lang="en-US" sz="3400" spc="-1" strike="noStrike">
                <a:solidFill>
                  <a:srgbClr val="ff0000"/>
                </a:solidFill>
                <a:latin typeface="Times New Roman"/>
              </a:rPr>
              <a:t>d to wear purp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365400" y="4857840"/>
            <a:ext cx="8529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             </a:t>
            </a: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if/whether all the doctors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400" spc="-1" strike="noStrike">
                <a:solidFill>
                  <a:srgbClr val="ff0000"/>
                </a:solidFill>
                <a:latin typeface="Times New Roman"/>
                <a:ea typeface="宋体"/>
              </a:rPr>
              <a:t>in the world wear white unifor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68000" y="2709360"/>
            <a:ext cx="67676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 how to use object clauses introduced by ‘that ’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the relevant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WordArt 4"/>
          <p:cNvSpPr txBox="1"/>
          <p:nvPr/>
        </p:nvSpPr>
        <p:spPr>
          <a:xfrm>
            <a:off x="1187280" y="1125360"/>
            <a:ext cx="331344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Picture 4" descr="npo00010a"/>
          <p:cNvPicPr/>
          <p:nvPr/>
        </p:nvPicPr>
        <p:blipFill>
          <a:blip r:embed="rId1"/>
          <a:stretch/>
        </p:blipFill>
        <p:spPr>
          <a:xfrm>
            <a:off x="395280" y="476280"/>
            <a:ext cx="8424720" cy="5905440"/>
          </a:xfrm>
          <a:prstGeom prst="rect">
            <a:avLst/>
          </a:prstGeom>
          <a:ln w="0">
            <a:noFill/>
          </a:ln>
        </p:spPr>
      </p:pic>
      <p:sp>
        <p:nvSpPr>
          <p:cNvPr id="734" name="矩形 165890"/>
          <p:cNvSpPr txBox="1"/>
          <p:nvPr/>
        </p:nvSpPr>
        <p:spPr>
          <a:xfrm>
            <a:off x="1835280" y="1928880"/>
            <a:ext cx="5903640" cy="923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cc"/>
                </a:solidFill>
                <a:latin typeface="宋体"/>
              </a:rPr>
              <a:t>Goodbye!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99cc"/>
              </a:solidFill>
              <a:latin typeface="宋体"/>
              <a:ea typeface="宋体"/>
            </a:endParaRPr>
          </a:p>
        </p:txBody>
      </p:sp>
      <p:sp>
        <p:nvSpPr>
          <p:cNvPr id="735" name="文本框 165891"/>
          <p:cNvSpPr/>
          <p:nvPr/>
        </p:nvSpPr>
        <p:spPr>
          <a:xfrm>
            <a:off x="3182040" y="3338640"/>
            <a:ext cx="320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Script MT Bold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图片 165892" descr="图片2"/>
          <p:cNvPicPr/>
          <p:nvPr/>
        </p:nvPicPr>
        <p:blipFill>
          <a:blip r:embed="rId2"/>
          <a:stretch/>
        </p:blipFill>
        <p:spPr>
          <a:xfrm>
            <a:off x="324000" y="404640"/>
            <a:ext cx="1574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22" descr="四角绿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文本框 114689"/>
          <p:cNvSpPr/>
          <p:nvPr/>
        </p:nvSpPr>
        <p:spPr>
          <a:xfrm>
            <a:off x="324000" y="0"/>
            <a:ext cx="8353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What is your favourite colou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文本框 114690"/>
          <p:cNvSpPr/>
          <p:nvPr/>
        </p:nvSpPr>
        <p:spPr>
          <a:xfrm>
            <a:off x="324000" y="1557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: He says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is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vourite colour is 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文本框 114692"/>
          <p:cNvSpPr/>
          <p:nvPr/>
        </p:nvSpPr>
        <p:spPr>
          <a:xfrm>
            <a:off x="32400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M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vourite colour is red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文本框 114693"/>
          <p:cNvSpPr/>
          <p:nvPr/>
        </p:nvSpPr>
        <p:spPr>
          <a:xfrm>
            <a:off x="3240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What does he say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文本框 114694"/>
          <p:cNvSpPr/>
          <p:nvPr/>
        </p:nvSpPr>
        <p:spPr>
          <a:xfrm>
            <a:off x="971640" y="55627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…    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文本框 114696"/>
          <p:cNvSpPr/>
          <p:nvPr/>
        </p:nvSpPr>
        <p:spPr>
          <a:xfrm>
            <a:off x="395280" y="2781360"/>
            <a:ext cx="8353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What colour do you like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文本框 114698"/>
          <p:cNvSpPr/>
          <p:nvPr/>
        </p:nvSpPr>
        <p:spPr>
          <a:xfrm>
            <a:off x="395280" y="3213000"/>
            <a:ext cx="8353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006e6b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ik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d bes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文本框 114699"/>
          <p:cNvSpPr/>
          <p:nvPr/>
        </p:nvSpPr>
        <p:spPr>
          <a:xfrm>
            <a:off x="395280" y="3716280"/>
            <a:ext cx="8353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What does he sa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文本框 114700"/>
          <p:cNvSpPr/>
          <p:nvPr/>
        </p:nvSpPr>
        <p:spPr>
          <a:xfrm>
            <a:off x="468360" y="4221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: He says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red be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2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80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8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9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0" dur="8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5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6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7" dur="8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2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3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80"/>
                                        <p:tgtEl>
                                          <p:spTgt spid="7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6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7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80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5" dur="80"/>
                                        <p:tgtEl>
                                          <p:spTgt spid="7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图片 22" descr="四角绿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8" name="文本框 155650"/>
          <p:cNvSpPr/>
          <p:nvPr/>
        </p:nvSpPr>
        <p:spPr>
          <a:xfrm>
            <a:off x="324000" y="476280"/>
            <a:ext cx="8820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 Is red your favourite colour?/ Do you like r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文本框 155651"/>
          <p:cNvSpPr/>
          <p:nvPr/>
        </p:nvSpPr>
        <p:spPr>
          <a:xfrm>
            <a:off x="250920" y="1989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: He asks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 if /whe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vourite colour is r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文本框 155652"/>
          <p:cNvSpPr/>
          <p:nvPr/>
        </p:nvSpPr>
        <p:spPr>
          <a:xfrm>
            <a:off x="684360" y="285264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 about in gro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文本框 155654"/>
          <p:cNvSpPr/>
          <p:nvPr/>
        </p:nvSpPr>
        <p:spPr>
          <a:xfrm>
            <a:off x="324000" y="11253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 What does he ask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文本框 155655"/>
          <p:cNvSpPr/>
          <p:nvPr/>
        </p:nvSpPr>
        <p:spPr>
          <a:xfrm>
            <a:off x="900000" y="3933720"/>
            <a:ext cx="64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rt(s)…   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3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4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5" dur="80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0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1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2" dur="80"/>
                                        <p:tgtEl>
                                          <p:spTgt spid="7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7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80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4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80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6" descr="Ar_013"/>
          <p:cNvPicPr/>
          <p:nvPr/>
        </p:nvPicPr>
        <p:blipFill>
          <a:blip r:embed="rId2"/>
          <a:stretch/>
        </p:blipFill>
        <p:spPr>
          <a:xfrm>
            <a:off x="179280" y="1700280"/>
            <a:ext cx="549360" cy="33156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7"/>
          <p:cNvSpPr/>
          <p:nvPr/>
        </p:nvSpPr>
        <p:spPr>
          <a:xfrm>
            <a:off x="900000" y="141300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宾语从句在复合句中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或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宾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从句放在主句之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前后不用逗号分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0116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Conclusion(1)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Box 9"/>
          <p:cNvSpPr/>
          <p:nvPr/>
        </p:nvSpPr>
        <p:spPr>
          <a:xfrm>
            <a:off x="72000" y="907920"/>
            <a:ext cx="47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omic Sans MS"/>
              </a:rPr>
              <a:t>What is Object Cla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Box 7"/>
          <p:cNvSpPr/>
          <p:nvPr/>
        </p:nvSpPr>
        <p:spPr>
          <a:xfrm>
            <a:off x="0" y="321300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陈述句用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  <a:ea typeface="宋体"/>
              </a:rPr>
              <a:t>来引导，在口语中常可省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Box 8"/>
          <p:cNvSpPr/>
          <p:nvPr/>
        </p:nvSpPr>
        <p:spPr>
          <a:xfrm>
            <a:off x="2918520" y="314172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327240" y="4508640"/>
            <a:ext cx="811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. I think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blue is better than p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. “I’m feeling blue”mean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“I’m feeling sad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. Do you think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your favourite colour 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your characteristic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22" descr="四角绿花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矩形 2"/>
          <p:cNvSpPr/>
          <p:nvPr/>
        </p:nvSpPr>
        <p:spPr>
          <a:xfrm>
            <a:off x="407520" y="1197000"/>
            <a:ext cx="3201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知道 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  <a:ea typeface="微软雅黑"/>
              </a:rPr>
              <a:t>姚明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-327600" y="1844640"/>
            <a:ext cx="5558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We know </a:t>
            </a:r>
            <a:r>
              <a:rPr b="1" lang="en-US" sz="3600" spc="-1" strike="noStrike">
                <a:solidFill>
                  <a:srgbClr val="ff0066"/>
                </a:solidFill>
                <a:latin typeface="Comic Sans MS"/>
                <a:ea typeface="微软雅黑"/>
              </a:rPr>
              <a:t>Yao M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WordArt 12"/>
          <p:cNvSpPr txBox="1"/>
          <p:nvPr/>
        </p:nvSpPr>
        <p:spPr>
          <a:xfrm>
            <a:off x="900000" y="260280"/>
            <a:ext cx="6210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Think about: what is the Object Clause?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551" name="直接连接符 10"/>
          <p:cNvSpPr/>
          <p:nvPr/>
        </p:nvSpPr>
        <p:spPr>
          <a:xfrm>
            <a:off x="250920" y="2349360"/>
            <a:ext cx="750960" cy="12960"/>
          </a:xfrm>
          <a:prstGeom prst="line">
            <a:avLst/>
          </a:prstGeom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直接连接符 11"/>
          <p:cNvSpPr/>
          <p:nvPr/>
        </p:nvSpPr>
        <p:spPr>
          <a:xfrm>
            <a:off x="1332000" y="2349360"/>
            <a:ext cx="750960" cy="14400"/>
          </a:xfrm>
          <a:prstGeom prst="line">
            <a:avLst/>
          </a:prstGeom>
          <a:ln w="7632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250920" y="2565360"/>
            <a:ext cx="60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主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Box 16"/>
          <p:cNvSpPr/>
          <p:nvPr/>
        </p:nvSpPr>
        <p:spPr>
          <a:xfrm>
            <a:off x="1332000" y="2575080"/>
            <a:ext cx="6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椭圆 18"/>
          <p:cNvSpPr/>
          <p:nvPr/>
        </p:nvSpPr>
        <p:spPr>
          <a:xfrm>
            <a:off x="2268360" y="1628640"/>
            <a:ext cx="2664000" cy="936720"/>
          </a:xfrm>
          <a:prstGeom prst="ellipse">
            <a:avLst/>
          </a:prstGeom>
          <a:noFill/>
          <a:ln w="5724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Box 20"/>
          <p:cNvSpPr/>
          <p:nvPr/>
        </p:nvSpPr>
        <p:spPr>
          <a:xfrm>
            <a:off x="3132000" y="2629080"/>
            <a:ext cx="6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图片 142357" descr=""/>
          <p:cNvPicPr/>
          <p:nvPr/>
        </p:nvPicPr>
        <p:blipFill>
          <a:blip r:embed="rId2"/>
          <a:stretch/>
        </p:blipFill>
        <p:spPr>
          <a:xfrm>
            <a:off x="5691240" y="900000"/>
            <a:ext cx="2841480" cy="3132360"/>
          </a:xfrm>
          <a:prstGeom prst="rect">
            <a:avLst/>
          </a:prstGeom>
          <a:ln w="0">
            <a:noFill/>
          </a:ln>
        </p:spPr>
      </p:pic>
      <p:sp>
        <p:nvSpPr>
          <p:cNvPr id="558" name="矩形 2"/>
          <p:cNvSpPr/>
          <p:nvPr/>
        </p:nvSpPr>
        <p:spPr>
          <a:xfrm>
            <a:off x="2353680" y="4076640"/>
            <a:ext cx="31096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 知道 </a:t>
            </a:r>
            <a:r>
              <a:rPr b="1" lang="zh-CN" sz="3600" spc="-1" strike="noStrike">
                <a:solidFill>
                  <a:srgbClr val="ff0066"/>
                </a:solidFill>
                <a:latin typeface="微软雅黑"/>
                <a:ea typeface="微软雅黑"/>
              </a:rPr>
              <a:t>姚明是一个篮球运动员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矩形 3"/>
          <p:cNvSpPr/>
          <p:nvPr/>
        </p:nvSpPr>
        <p:spPr>
          <a:xfrm>
            <a:off x="-515880" y="4724280"/>
            <a:ext cx="318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微软雅黑"/>
              </a:rPr>
              <a:t>We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矩形 3"/>
          <p:cNvSpPr/>
          <p:nvPr/>
        </p:nvSpPr>
        <p:spPr>
          <a:xfrm>
            <a:off x="2913120" y="4797360"/>
            <a:ext cx="6692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微软雅黑"/>
              </a:rPr>
              <a:t>Yao Ming is a basketball play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矩形 3"/>
          <p:cNvSpPr/>
          <p:nvPr/>
        </p:nvSpPr>
        <p:spPr>
          <a:xfrm>
            <a:off x="1524240" y="4724280"/>
            <a:ext cx="237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  <a:ea typeface="微软雅黑"/>
              </a:rPr>
              <a:t>(tha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2"/>
          <p:cNvSpPr/>
          <p:nvPr/>
        </p:nvSpPr>
        <p:spPr>
          <a:xfrm>
            <a:off x="250920" y="5445000"/>
            <a:ext cx="8539200" cy="64260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楷体"/>
                <a:ea typeface="楷体"/>
              </a:rPr>
              <a:t>宾语从句是指在复合句中充当宾语的句子，并有一个连接词引导。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that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无实义，常省略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468360" y="189000"/>
            <a:ext cx="7670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Object clauses introduced by that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64" name="矩形 163849"/>
          <p:cNvSpPr/>
          <p:nvPr/>
        </p:nvSpPr>
        <p:spPr>
          <a:xfrm>
            <a:off x="394200" y="1197000"/>
            <a:ext cx="286776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eopl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lie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矩形 163850"/>
          <p:cNvSpPr/>
          <p:nvPr/>
        </p:nvSpPr>
        <p:spPr>
          <a:xfrm>
            <a:off x="250560" y="1844640"/>
            <a:ext cx="446004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urs can influence our m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矩形 163851"/>
          <p:cNvSpPr/>
          <p:nvPr/>
        </p:nvSpPr>
        <p:spPr>
          <a:xfrm>
            <a:off x="249840" y="2349360"/>
            <a:ext cx="279144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eopl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矩形 163852"/>
          <p:cNvSpPr/>
          <p:nvPr/>
        </p:nvSpPr>
        <p:spPr>
          <a:xfrm>
            <a:off x="686160" y="3357720"/>
            <a:ext cx="114696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矩形 163853"/>
          <p:cNvSpPr/>
          <p:nvPr/>
        </p:nvSpPr>
        <p:spPr>
          <a:xfrm>
            <a:off x="756000" y="3789360"/>
            <a:ext cx="332460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ue is better than p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矩形 163854"/>
          <p:cNvSpPr/>
          <p:nvPr/>
        </p:nvSpPr>
        <p:spPr>
          <a:xfrm>
            <a:off x="470160" y="4437000"/>
            <a:ext cx="107064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矩形 163855"/>
          <p:cNvSpPr/>
          <p:nvPr/>
        </p:nvSpPr>
        <p:spPr>
          <a:xfrm>
            <a:off x="2340720" y="4437000"/>
            <a:ext cx="329112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ue is better than pin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矩形 163856"/>
          <p:cNvSpPr/>
          <p:nvPr/>
        </p:nvSpPr>
        <p:spPr>
          <a:xfrm>
            <a:off x="1477440" y="4365720"/>
            <a:ext cx="9867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(tha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矩形 163857"/>
          <p:cNvSpPr/>
          <p:nvPr/>
        </p:nvSpPr>
        <p:spPr>
          <a:xfrm>
            <a:off x="2988720" y="2349360"/>
            <a:ext cx="98676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(that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矩形 163858"/>
          <p:cNvSpPr/>
          <p:nvPr/>
        </p:nvSpPr>
        <p:spPr>
          <a:xfrm>
            <a:off x="3995280" y="2349360"/>
            <a:ext cx="4460040" cy="386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ours can influence our mo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4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2"/>
          <p:cNvSpPr/>
          <p:nvPr/>
        </p:nvSpPr>
        <p:spPr>
          <a:xfrm>
            <a:off x="357120" y="1071720"/>
            <a:ext cx="87868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Some people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lie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olours can influence our mo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I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hink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blue is better than p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2"/>
          <p:cNvSpPr/>
          <p:nvPr/>
        </p:nvSpPr>
        <p:spPr>
          <a:xfrm>
            <a:off x="500040" y="3643200"/>
            <a:ext cx="84247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He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l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he walls in his room are bl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She is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ur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Comic Sans MS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ellow can bring her good lu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WordArt 4"/>
          <p:cNvSpPr txBox="1"/>
          <p:nvPr/>
        </p:nvSpPr>
        <p:spPr>
          <a:xfrm>
            <a:off x="1357200" y="285840"/>
            <a:ext cx="655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Object clauses introduced by that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2500200"/>
            <a:ext cx="9144000" cy="873720"/>
          </a:xfrm>
          <a:prstGeom prst="rect">
            <a:avLst/>
          </a:prstGeom>
          <a:solidFill>
            <a:srgbClr val="c2e49c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宾语从句放在及物动词后做宾语，如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say,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find,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know, think, believe, hope, notice</a:t>
            </a:r>
            <a:r>
              <a:rPr b="1" i="1" lang="zh-CN" sz="3200" spc="-1" strike="noStrike">
                <a:solidFill>
                  <a:srgbClr val="ff0000"/>
                </a:solidFill>
                <a:latin typeface="Comic Sans MS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0" y="5286240"/>
            <a:ext cx="9144000" cy="873720"/>
          </a:xfrm>
          <a:prstGeom prst="rect">
            <a:avLst/>
          </a:prstGeom>
          <a:solidFill>
            <a:srgbClr val="c2e49c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宾语从句也可以放在这些形容词后：如</a:t>
            </a: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certain, sure, sad, satisfied, gla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2"/>
          <p:cNvSpPr/>
          <p:nvPr/>
        </p:nvSpPr>
        <p:spPr>
          <a:xfrm>
            <a:off x="250920" y="148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andy is chatting online with Millie about room colours. Try to add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each object cl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WordArt 4"/>
          <p:cNvSpPr txBox="1"/>
          <p:nvPr/>
        </p:nvSpPr>
        <p:spPr>
          <a:xfrm>
            <a:off x="2916360" y="260280"/>
            <a:ext cx="3457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round/>
                </a:ln>
                <a:gradFill rotWithShape="0">
                  <a:gsLst>
                    <a:gs pos="0">
                      <a:srgbClr val="76e7f6">
                        <a:alpha val="50196"/>
                      </a:srgbClr>
                    </a:gs>
                    <a:gs pos="100000">
                      <a:srgbClr val="0066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Comic Sans MS"/>
              </a:rPr>
              <a:t>Practice</a:t>
            </a:r>
            <a:endParaRPr b="1" lang="en-US" sz="2400" spc="1" strike="noStrike">
              <a:ln w="12600">
                <a:solidFill>
                  <a:srgbClr val="000000"/>
                </a:solidFill>
                <a:round/>
              </a:ln>
              <a:gradFill rotWithShape="0">
                <a:gsLst>
                  <a:gs pos="0">
                    <a:srgbClr val="76e7f6">
                      <a:alpha val="50196"/>
                    </a:srgbClr>
                  </a:gs>
                  <a:gs pos="100000">
                    <a:srgbClr val="0066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Group 8"/>
          <p:cNvGrpSpPr/>
          <p:nvPr/>
        </p:nvGrpSpPr>
        <p:grpSpPr>
          <a:xfrm>
            <a:off x="2987640" y="2997360"/>
            <a:ext cx="2592000" cy="2493720"/>
            <a:chOff x="2987640" y="2997360"/>
            <a:chExt cx="2592000" cy="2493720"/>
          </a:xfrm>
        </p:grpSpPr>
        <p:grpSp>
          <p:nvGrpSpPr>
            <p:cNvPr id="582" name="Group 9"/>
            <p:cNvGrpSpPr/>
            <p:nvPr/>
          </p:nvGrpSpPr>
          <p:grpSpPr>
            <a:xfrm>
              <a:off x="5164200" y="4228200"/>
              <a:ext cx="415440" cy="1024920"/>
              <a:chOff x="5164200" y="4228200"/>
              <a:chExt cx="415440" cy="1024920"/>
            </a:xfrm>
          </p:grpSpPr>
          <p:sp>
            <p:nvSpPr>
              <p:cNvPr id="583" name="Line 10"/>
              <p:cNvSpPr/>
              <p:nvPr/>
            </p:nvSpPr>
            <p:spPr>
              <a:xfrm>
                <a:off x="5567400" y="4228200"/>
                <a:ext cx="6480" cy="1024920"/>
              </a:xfrm>
              <a:prstGeom prst="line">
                <a:avLst/>
              </a:prstGeom>
              <a:ln w="507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11"/>
              <p:cNvSpPr/>
              <p:nvPr/>
            </p:nvSpPr>
            <p:spPr>
              <a:xfrm>
                <a:off x="5164200" y="4238640"/>
                <a:ext cx="415440" cy="0"/>
              </a:xfrm>
              <a:prstGeom prst="line">
                <a:avLst/>
              </a:prstGeom>
              <a:ln w="50760">
                <a:solidFill>
                  <a:srgbClr val="0840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12"/>
            <p:cNvGrpSpPr/>
            <p:nvPr/>
          </p:nvGrpSpPr>
          <p:grpSpPr>
            <a:xfrm>
              <a:off x="2987640" y="2997360"/>
              <a:ext cx="2265480" cy="2493720"/>
              <a:chOff x="2987640" y="2997360"/>
              <a:chExt cx="2265480" cy="2493720"/>
            </a:xfrm>
          </p:grpSpPr>
          <p:sp>
            <p:nvSpPr>
              <p:cNvPr id="586" name="Line 13"/>
              <p:cNvSpPr/>
              <p:nvPr/>
            </p:nvSpPr>
            <p:spPr>
              <a:xfrm>
                <a:off x="2999880" y="4243320"/>
                <a:ext cx="0" cy="1171080"/>
              </a:xfrm>
              <a:prstGeom prst="line">
                <a:avLst/>
              </a:prstGeom>
              <a:ln w="507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87" name="Picture 14" descr="CO-017-0131"/>
              <p:cNvPicPr/>
              <p:nvPr/>
            </p:nvPicPr>
            <p:blipFill>
              <a:blip r:embed="rId2"/>
              <a:stretch/>
            </p:blipFill>
            <p:spPr>
              <a:xfrm>
                <a:off x="3400560" y="2997360"/>
                <a:ext cx="1852560" cy="249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Line 15"/>
              <p:cNvSpPr/>
              <p:nvPr/>
            </p:nvSpPr>
            <p:spPr>
              <a:xfrm>
                <a:off x="2987640" y="4255560"/>
                <a:ext cx="514080" cy="0"/>
              </a:xfrm>
              <a:prstGeom prst="line">
                <a:avLst/>
              </a:prstGeom>
              <a:ln w="507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89" name="Picture 16" descr=""/>
          <p:cNvPicPr/>
          <p:nvPr/>
        </p:nvPicPr>
        <p:blipFill>
          <a:blip r:embed="rId3"/>
          <a:srcRect l="0" t="0" r="27517" b="17636"/>
          <a:stretch/>
        </p:blipFill>
        <p:spPr>
          <a:xfrm>
            <a:off x="5292720" y="5373720"/>
            <a:ext cx="888840" cy="1079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7" descr=""/>
          <p:cNvPicPr/>
          <p:nvPr/>
        </p:nvPicPr>
        <p:blipFill>
          <a:blip r:embed="rId4"/>
          <a:srcRect l="6905" t="0" r="0" b="0"/>
          <a:stretch/>
        </p:blipFill>
        <p:spPr>
          <a:xfrm>
            <a:off x="2411280" y="5373720"/>
            <a:ext cx="960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3"/>
          <p:cNvSpPr/>
          <p:nvPr/>
        </p:nvSpPr>
        <p:spPr>
          <a:xfrm>
            <a:off x="108000" y="620640"/>
            <a:ext cx="9036000" cy="6121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lie: Did you know there is a relationship betwe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lours and moo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dy: Certainly. I think colours influence our everyday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ves in many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lie: How should we choose the colours for the roo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a ho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dy: Most people think light colours are bett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rk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lie: Yes. I notice light colours make rooms seem lar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dy: Sure. I also know blue can make us feel rela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illie: Yes. My mum says blue is suitable for bedroo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also find some people prefer orange for the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ning roo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andy: True, but it 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pends on personal taste</a:t>
            </a: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nyway,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we should choose the colour which makes us feel comfor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2771640" y="836640"/>
            <a:ext cx="936720" cy="46584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3706920" y="1413000"/>
            <a:ext cx="936360" cy="46584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3564000" y="2997360"/>
            <a:ext cx="936720" cy="46584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2771640" y="3792600"/>
            <a:ext cx="936720" cy="4356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3564000" y="4184640"/>
            <a:ext cx="936720" cy="40464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3564000" y="4800600"/>
            <a:ext cx="936720" cy="4356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2556000" y="5160960"/>
            <a:ext cx="936360" cy="4356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7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Comic Sans MS"/>
              </a:rPr>
              <a:t>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th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文本框 1"/>
          <p:cNvSpPr/>
          <p:nvPr/>
        </p:nvSpPr>
        <p:spPr>
          <a:xfrm>
            <a:off x="3998880" y="5397480"/>
            <a:ext cx="29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取决于个人品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直接连接符 2"/>
          <p:cNvSpPr/>
          <p:nvPr/>
        </p:nvSpPr>
        <p:spPr>
          <a:xfrm>
            <a:off x="2152800" y="2131920"/>
            <a:ext cx="2058840" cy="1800"/>
          </a:xfrm>
          <a:prstGeom prst="line">
            <a:avLst/>
          </a:prstGeom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直接连接符 3"/>
          <p:cNvSpPr/>
          <p:nvPr/>
        </p:nvSpPr>
        <p:spPr>
          <a:xfrm flipV="1">
            <a:off x="5292720" y="4005360"/>
            <a:ext cx="3456000" cy="1440"/>
          </a:xfrm>
          <a:prstGeom prst="line">
            <a:avLst/>
          </a:prstGeom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117761" descr="11"/>
          <p:cNvPicPr/>
          <p:nvPr/>
        </p:nvPicPr>
        <p:blipFill>
          <a:blip r:embed="rId1"/>
          <a:stretch/>
        </p:blipFill>
        <p:spPr>
          <a:xfrm>
            <a:off x="5364000" y="3645000"/>
            <a:ext cx="3386160" cy="277488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117762" descr="pluto07a"/>
          <p:cNvPicPr/>
          <p:nvPr/>
        </p:nvPicPr>
        <p:blipFill>
          <a:blip r:embed="rId2"/>
          <a:stretch/>
        </p:blipFill>
        <p:spPr>
          <a:xfrm>
            <a:off x="755640" y="4005360"/>
            <a:ext cx="2387520" cy="22669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117763" descr="x27"/>
          <p:cNvPicPr/>
          <p:nvPr/>
        </p:nvPicPr>
        <p:blipFill>
          <a:blip r:embed="rId3"/>
          <a:stretch/>
        </p:blipFill>
        <p:spPr>
          <a:xfrm>
            <a:off x="0" y="653400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606" name="Cloud"/>
          <p:cNvSpPr/>
          <p:nvPr/>
        </p:nvSpPr>
        <p:spPr>
          <a:xfrm>
            <a:off x="0" y="2205000"/>
            <a:ext cx="6300720" cy="17733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re you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king of the forest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Cloud"/>
          <p:cNvSpPr/>
          <p:nvPr/>
        </p:nvSpPr>
        <p:spPr>
          <a:xfrm>
            <a:off x="5148360" y="1844640"/>
            <a:ext cx="4392360" cy="1728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does the dog as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文本框 117766"/>
          <p:cNvSpPr/>
          <p:nvPr/>
        </p:nvSpPr>
        <p:spPr>
          <a:xfrm>
            <a:off x="0" y="1197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g 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直接连接符 117767"/>
          <p:cNvSpPr/>
          <p:nvPr/>
        </p:nvSpPr>
        <p:spPr>
          <a:xfrm flipV="1">
            <a:off x="3708360" y="549000"/>
            <a:ext cx="64764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直接连接符 117768"/>
          <p:cNvSpPr/>
          <p:nvPr/>
        </p:nvSpPr>
        <p:spPr>
          <a:xfrm flipH="1" flipV="1">
            <a:off x="3564000" y="620280"/>
            <a:ext cx="100800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文本框 117769"/>
          <p:cNvSpPr/>
          <p:nvPr/>
        </p:nvSpPr>
        <p:spPr>
          <a:xfrm>
            <a:off x="324000" y="1890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g ask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文本框 117770"/>
          <p:cNvSpPr/>
          <p:nvPr/>
        </p:nvSpPr>
        <p:spPr>
          <a:xfrm>
            <a:off x="284328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re you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king of the forest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文本框 117771"/>
          <p:cNvSpPr/>
          <p:nvPr/>
        </p:nvSpPr>
        <p:spPr>
          <a:xfrm>
            <a:off x="3059280" y="1190520"/>
            <a:ext cx="57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you ar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king of the fores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文本框 117772"/>
          <p:cNvSpPr/>
          <p:nvPr/>
        </p:nvSpPr>
        <p:spPr>
          <a:xfrm>
            <a:off x="2411280" y="907920"/>
            <a:ext cx="2051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if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wh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直接连接符 117773"/>
          <p:cNvSpPr/>
          <p:nvPr/>
        </p:nvSpPr>
        <p:spPr>
          <a:xfrm flipH="1" flipV="1">
            <a:off x="8388360" y="549000"/>
            <a:ext cx="7128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3T05:17:56Z</dcterms:created>
  <dc:creator>apple wang</dc:creator>
  <dc:description/>
  <dc:language>en-US</dc:language>
  <cp:lastModifiedBy>渔樵江渚</cp:lastModifiedBy>
  <dcterms:modified xsi:type="dcterms:W3CDTF">2023-09-19T06:55:54Z</dcterms:modified>
  <cp:revision>246</cp:revision>
  <dc:subject/>
  <dc:title>9A Unit 2 Grammar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54EFDCB9D21445B9B4D1B531C6E56453_12</vt:lpwstr>
  </property>
  <property fmtid="{D5CDD505-2E9C-101B-9397-08002B2CF9AE}" pid="3" name="KSOProductBuildVer">
    <vt:lpwstr>2052-12.1.0.15673</vt:lpwstr>
  </property>
</Properties>
</file>