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CBD8-126F-4E65-B96D-C8CCE2BC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0763-E635-4068-8736-6DD022C3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C84A-4994-41B0-B105-A60245DE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E7D8-D359-40F5-8B77-E9B42197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ADCE-8241-4378-B97E-C9CE267D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41FE-9A85-477A-98C4-EFA2A023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C74B-2BE4-4EAD-BB80-48FCEE92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7075-2B0D-4F19-8835-32111D59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572E-5C24-4BE7-9B5C-58AD98A4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FE47-77D1-4F17-8560-9A1E62B7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0440-FF9B-45BF-8DEB-67FC4B68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CB04-6529-46E3-86ED-BED2975E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2006-7389-487A-8160-8BD7DFE0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950A-38B9-4644-BE26-D08104BB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AB2D-05B2-445F-B0BB-79F0AD30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35B7-AFD9-479D-B9FA-19540E2E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8A20-AC7E-485F-A8CC-48E8223E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14D4-40DA-4792-9002-032E1B67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FC24-9708-43DB-AFB9-7CB9D935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7268-478D-4B88-BF3C-E8A74759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7E8B-4B98-47C6-9B8E-D5D54850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CE0C-0DC5-408B-8056-94C56B65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0828-D6B5-4537-AF6A-F578CC60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A2BD-714B-4B27-9829-9731BD57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3434-236C-44AF-8B47-9E4D79EC7A4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40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52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40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52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640" y="32004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40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52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640" y="48816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760" y="488160"/>
              <a:ext cx="119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40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52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640" y="65592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40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520" y="824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640" y="82404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760" y="824040"/>
              <a:ext cx="1195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180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40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52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640" y="99180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40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520" y="11595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640" y="115956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400" y="132768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640" y="132768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0FA9-62B6-4342-9B6B-544873A6FDB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4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520" y="32763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48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52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60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44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4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520" y="44114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hyperlink" Target="file:///&#24050;&#32463;&#21046;&#20316;&#23436;&#25104;&#34920;&#26684;.xls" TargetMode="External"/><Relationship Id="rId7" Type="http://schemas.openxmlformats.org/officeDocument/2006/relationships/hyperlink" Target="file:///&#23398;&#29983;&#25968;&#25454;&#23548;&#20837;&#26684;&#24335;.xls" TargetMode="External"/><Relationship Id="rId8" Type="http://schemas.openxmlformats.org/officeDocument/2006/relationships/hyperlink" Target="file:///&#23398;&#29983;&#25968;&#25454;&#23548;&#20837;&#26684;&#24335;.xls" TargetMode="External"/><Relationship Id="rId9" Type="http://schemas.openxmlformats.org/officeDocument/2006/relationships/hyperlink" Target="file:///&#23398;&#29983;&#25968;&#25454;&#23548;&#20837;&#26684;&#24335;.xls" TargetMode="Externa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2057400"/>
            <a:ext cx="306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1640" y="1881360"/>
            <a:ext cx="701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  <a:ea typeface="方正水黑简体"/>
              </a:rPr>
              <a:t>毕业设计指导交流系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27280" y="296064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b879f"/>
                </a:solidFill>
                <a:latin typeface="Arial"/>
                <a:ea typeface="经典综艺体简"/>
              </a:rPr>
              <a:t>使用流程介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34920" y="1233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5502"/>
                </a:solidFill>
                <a:latin typeface="Arial"/>
                <a:ea typeface="方正水黑简体"/>
              </a:rPr>
              <a:t>江苏广播电视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11160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689120" y="1916280"/>
            <a:ext cx="6373800" cy="828360"/>
          </a:xfrm>
          <a:prstGeom prst="roundRect">
            <a:avLst>
              <a:gd name="adj" fmla="val 16667"/>
            </a:avLst>
          </a:prstGeom>
          <a:solidFill>
            <a:srgbClr val="ffff66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学生上传论文时，必须以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rar</a:t>
            </a:r>
            <a:r>
              <a:rPr b="1" lang="en-US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或“</a:t>
            </a:r>
            <a:r>
              <a:rPr b="1" lang="en-US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zip</a:t>
            </a:r>
            <a:r>
              <a:rPr b="1" lang="en-US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压缩文件形式进行上传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45720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  <a:ea typeface="经典综艺体简"/>
              </a:rPr>
              <a:t>流程介绍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b879f"/>
                </a:solidFill>
                <a:latin typeface="Arial"/>
                <a:ea typeface="方正水黑简体"/>
              </a:rPr>
              <a:t>毕业设计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64000" y="620640"/>
            <a:ext cx="469800" cy="453960"/>
          </a:xfrm>
          <a:prstGeom prst="ellipse">
            <a:avLst/>
          </a:prstGeom>
          <a:solidFill>
            <a:srgbClr val="ffff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56000" y="58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方正毡笔黑简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42920" y="1197000"/>
            <a:ext cx="63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注意事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03280" y="2924280"/>
            <a:ext cx="6840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401840" y="2023920"/>
            <a:ext cx="303120" cy="3254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934920" y="1449360"/>
            <a:ext cx="144720" cy="144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406520" y="3033720"/>
            <a:ext cx="303120" cy="324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692360" y="2997360"/>
            <a:ext cx="6373800" cy="649080"/>
          </a:xfrm>
          <a:prstGeom prst="roundRect">
            <a:avLst>
              <a:gd name="adj" fmla="val 16667"/>
            </a:avLst>
          </a:prstGeom>
          <a:solidFill>
            <a:srgbClr val="ccffff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交流平台中，发消息时所带附件必须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wor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形式进行上传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008000" y="2023920"/>
            <a:ext cx="6877080" cy="614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0066"/>
                </a:solidFill>
                <a:latin typeface="Arial"/>
              </a:rPr>
              <a:t>所有用户的初始密码为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111</a:t>
            </a:r>
            <a:r>
              <a:rPr b="1" lang="zh-CN" sz="2000" spc="-1" strike="noStrike">
                <a:solidFill>
                  <a:srgbClr val="330066"/>
                </a:solidFill>
                <a:latin typeface="Arial"/>
              </a:rPr>
              <a:t>，请各位登陆系统以后自行修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08000" y="3033720"/>
            <a:ext cx="6877080" cy="614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0066"/>
                </a:solidFill>
                <a:latin typeface="Arial"/>
              </a:rPr>
              <a:t>学生的用户名默认的是小写字母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s + </a:t>
            </a:r>
            <a:r>
              <a:rPr b="1" lang="zh-CN" sz="2000" spc="-1" strike="noStrike">
                <a:solidFill>
                  <a:srgbClr val="330066"/>
                </a:solidFill>
                <a:latin typeface="Arial"/>
              </a:rPr>
              <a:t>学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879640" y="3645000"/>
            <a:ext cx="4321440" cy="1366560"/>
          </a:xfrm>
          <a:prstGeom prst="roundRect">
            <a:avLst>
              <a:gd name="adj" fmla="val 9292"/>
            </a:avLst>
          </a:prstGeom>
          <a:solidFill>
            <a:srgbClr val="ffff66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47920" y="2057400"/>
            <a:ext cx="306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8000" y="1952640"/>
            <a:ext cx="478800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b879f"/>
                </a:solidFill>
                <a:latin typeface="经典综艺体简"/>
                <a:ea typeface="经典综艺体简"/>
              </a:rPr>
              <a:t>谢  谢 ！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95640" y="368136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方正毡笔黑简体"/>
                <a:ea typeface="方正毡笔黑简体"/>
              </a:rPr>
              <a:t>联系人：和莉  杜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95640" y="440064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方正毡笔黑简体"/>
                <a:ea typeface="方正毡笔黑简体"/>
              </a:rPr>
              <a:t>联系电话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025-862655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664000" y="3429000"/>
            <a:ext cx="466560" cy="360360"/>
          </a:xfrm>
          <a:prstGeom prst="roundRect">
            <a:avLst>
              <a:gd name="adj" fmla="val 0"/>
            </a:avLst>
          </a:prstGeom>
          <a:solidFill>
            <a:srgbClr val="00008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24360" y="3429000"/>
            <a:ext cx="215640" cy="227160"/>
          </a:xfrm>
          <a:custGeom>
            <a:avLst/>
            <a:gdLst>
              <a:gd name="textAreaLeft" fmla="*/ 0 w 215640"/>
              <a:gd name="textAreaRight" fmla="*/ 216000 w 215640"/>
              <a:gd name="textAreaTop" fmla="*/ 0 h 227160"/>
              <a:gd name="textAreaBottom" fmla="*/ 227160 h 227160"/>
            </a:gdLst>
            <a:ahLst/>
            <a:rect l="textAreaLeft" t="textAreaTop" r="textAreaRight" b="textAreaBottom"/>
            <a:pathLst>
              <a:path w="21600" h="22752">
                <a:moveTo>
                  <a:pt x="0" y="0"/>
                </a:moveTo>
                <a:arcTo wR="0" hR="0" stAng="16200000" swAng="-5400000"/>
                <a:lnTo>
                  <a:pt x="0" y="22752"/>
                </a:lnTo>
                <a:arcTo wR="0" hR="0" stAng="10800000" swAng="-5400000"/>
                <a:lnTo>
                  <a:pt x="21600" y="2275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095640" y="3357720"/>
            <a:ext cx="216000" cy="179280"/>
          </a:xfrm>
          <a:prstGeom prst="roundRect">
            <a:avLst>
              <a:gd name="adj" fmla="val 0"/>
            </a:avLst>
          </a:prstGeom>
          <a:solidFill>
            <a:srgbClr val="c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00360" y="3321000"/>
            <a:ext cx="144720" cy="1080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16360" y="3284640"/>
            <a:ext cx="71280" cy="7128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95640" y="3357720"/>
            <a:ext cx="71640" cy="7128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56000" y="3176640"/>
            <a:ext cx="71640" cy="7128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87640" y="3392640"/>
            <a:ext cx="108000" cy="107640"/>
          </a:xfrm>
          <a:prstGeom prst="rect">
            <a:avLst/>
          </a:prstGeom>
          <a:solidFill>
            <a:srgbClr val="cccc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32360" y="3105000"/>
            <a:ext cx="71280" cy="7164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651640" y="3284640"/>
            <a:ext cx="71280" cy="7128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119640" y="2960640"/>
            <a:ext cx="71640" cy="7164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35640" y="3105000"/>
            <a:ext cx="107640" cy="108000"/>
          </a:xfrm>
          <a:prstGeom prst="rect">
            <a:avLst/>
          </a:prstGeom>
          <a:solidFill>
            <a:srgbClr val="cccc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256360" y="3321000"/>
            <a:ext cx="107640" cy="108000"/>
          </a:xfrm>
          <a:prstGeom prst="rect">
            <a:avLst/>
          </a:prstGeom>
          <a:solidFill>
            <a:srgbClr val="cccc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00720" y="2924280"/>
            <a:ext cx="108000" cy="108000"/>
          </a:xfrm>
          <a:prstGeom prst="rect">
            <a:avLst/>
          </a:prstGeom>
          <a:solidFill>
            <a:srgbClr val="cccc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08360" y="2708280"/>
            <a:ext cx="108000" cy="108000"/>
          </a:xfrm>
          <a:prstGeom prst="rect">
            <a:avLst/>
          </a:prstGeom>
          <a:solidFill>
            <a:srgbClr val="cccc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32720" y="2600280"/>
            <a:ext cx="71280" cy="7164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4000" y="3284640"/>
            <a:ext cx="71640" cy="7128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48360" y="3068640"/>
            <a:ext cx="108000" cy="108000"/>
          </a:xfrm>
          <a:prstGeom prst="rect">
            <a:avLst/>
          </a:prstGeom>
          <a:solidFill>
            <a:srgbClr val="cccc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80000" y="2781360"/>
            <a:ext cx="108000" cy="142920"/>
          </a:xfrm>
          <a:prstGeom prst="rect">
            <a:avLst/>
          </a:prstGeom>
          <a:solidFill>
            <a:srgbClr val="cccc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48360" y="2421000"/>
            <a:ext cx="108000" cy="108000"/>
          </a:xfrm>
          <a:prstGeom prst="rect">
            <a:avLst/>
          </a:prstGeom>
          <a:solidFill>
            <a:srgbClr val="cccc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77080" y="2023920"/>
            <a:ext cx="71280" cy="7164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335640" y="2060640"/>
            <a:ext cx="71640" cy="7128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24720" y="2313000"/>
            <a:ext cx="71280" cy="36360"/>
          </a:xfrm>
          <a:prstGeom prst="rect">
            <a:avLst/>
          </a:prstGeom>
          <a:solidFill>
            <a:srgbClr val="cccc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627280" y="3716280"/>
            <a:ext cx="144360" cy="21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45720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  <a:ea typeface="经典综艺体简"/>
              </a:rPr>
              <a:t>流程介绍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b879f"/>
                </a:solidFill>
                <a:latin typeface="Arial"/>
                <a:ea typeface="方正水黑简体"/>
              </a:rPr>
              <a:t>如何登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64000" y="620640"/>
            <a:ext cx="469800" cy="453960"/>
          </a:xfrm>
          <a:prstGeom prst="ellipse">
            <a:avLst/>
          </a:prstGeom>
          <a:solidFill>
            <a:srgbClr val="ffff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56000" y="58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方正毡笔黑简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1640" y="177336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66"/>
                </a:solidFill>
                <a:uFillTx/>
                <a:latin typeface="Arial"/>
                <a:ea typeface="方正毡笔黑简体"/>
              </a:rPr>
              <a:t>请按以下地址进行登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3280" y="2708280"/>
            <a:ext cx="7632720" cy="1728720"/>
          </a:xfrm>
          <a:prstGeom prst="flowChartAlternateProcess">
            <a:avLst/>
          </a:prstGeom>
          <a:solidFill>
            <a:srgbClr val="ffff66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2816280"/>
            <a:ext cx="7559640" cy="1528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http://210.28.216.35:8080/bysj/index.ht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45720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  <a:ea typeface="经典综艺体简"/>
              </a:rPr>
              <a:t>流程介绍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b879f"/>
                </a:solidFill>
                <a:latin typeface="Arial"/>
                <a:ea typeface="方正水黑简体"/>
              </a:rPr>
              <a:t>流程概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64000" y="620640"/>
            <a:ext cx="469800" cy="453960"/>
          </a:xfrm>
          <a:prstGeom prst="ellipse">
            <a:avLst/>
          </a:prstGeom>
          <a:solidFill>
            <a:srgbClr val="ffff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58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方正毡笔黑简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042920" y="2421000"/>
            <a:ext cx="7043760" cy="1728720"/>
            <a:chOff x="1042920" y="2421000"/>
            <a:chExt cx="7043760" cy="1728720"/>
          </a:xfrm>
        </p:grpSpPr>
        <p:sp>
          <p:nvSpPr>
            <p:cNvPr id="164" name=""/>
            <p:cNvSpPr/>
            <p:nvPr/>
          </p:nvSpPr>
          <p:spPr>
            <a:xfrm>
              <a:off x="1042920" y="3033720"/>
              <a:ext cx="792360" cy="735120"/>
            </a:xfrm>
            <a:prstGeom prst="ellipse">
              <a:avLst/>
            </a:prstGeom>
            <a:solidFill>
              <a:srgbClr val="e2a908">
                <a:alpha val="8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经典圆体简"/>
                </a:rPr>
                <a:t>开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49320" y="3105000"/>
              <a:ext cx="1008360" cy="576360"/>
            </a:xfrm>
            <a:custGeom>
              <a:avLst/>
              <a:gdLst>
                <a:gd name="textAreaLeft" fmla="*/ 157320 w 1008360"/>
                <a:gd name="textAreaRight" fmla="*/ 834120 w 1008360"/>
                <a:gd name="textAreaTop" fmla="*/ 144360 h 576360"/>
                <a:gd name="textAreaBottom" fmla="*/ 4320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15"/>
                  </a:moveTo>
                  <a:lnTo>
                    <a:pt x="14113" y="5415"/>
                  </a:lnTo>
                  <a:lnTo>
                    <a:pt x="14113" y="0"/>
                  </a:lnTo>
                  <a:lnTo>
                    <a:pt x="21600" y="10800"/>
                  </a:lnTo>
                  <a:lnTo>
                    <a:pt x="14113" y="21600"/>
                  </a:lnTo>
                  <a:lnTo>
                    <a:pt x="14113" y="16185"/>
                  </a:lnTo>
                  <a:lnTo>
                    <a:pt x="3375" y="16185"/>
                  </a:lnTo>
                  <a:close/>
                </a:path>
                <a:path w="21600" h="21600">
                  <a:moveTo>
                    <a:pt x="0" y="5415"/>
                  </a:moveTo>
                  <a:lnTo>
                    <a:pt x="675" y="5415"/>
                  </a:lnTo>
                  <a:lnTo>
                    <a:pt x="675" y="16185"/>
                  </a:lnTo>
                  <a:lnTo>
                    <a:pt x="0" y="16185"/>
                  </a:lnTo>
                  <a:close/>
                </a:path>
                <a:path w="21600" h="21600">
                  <a:moveTo>
                    <a:pt x="1350" y="5415"/>
                  </a:moveTo>
                  <a:lnTo>
                    <a:pt x="2700" y="5415"/>
                  </a:lnTo>
                  <a:lnTo>
                    <a:pt x="2700" y="16185"/>
                  </a:lnTo>
                  <a:lnTo>
                    <a:pt x="1350" y="16185"/>
                  </a:lnTo>
                  <a:close/>
                </a:path>
              </a:pathLst>
            </a:custGeom>
            <a:solidFill>
              <a:srgbClr val="c80000">
                <a:alpha val="8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57680" y="2457360"/>
              <a:ext cx="1368360" cy="1692360"/>
            </a:xfrm>
            <a:prstGeom prst="cube">
              <a:avLst>
                <a:gd name="adj" fmla="val 17518"/>
              </a:avLst>
            </a:prstGeom>
            <a:solidFill>
              <a:srgbClr val="ad5bff">
                <a:alpha val="6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22400" y="2817720"/>
              <a:ext cx="118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92929"/>
                  </a:solidFill>
                  <a:latin typeface="Arial"/>
                  <a:ea typeface="经典圆体简"/>
                </a:rPr>
                <a:t>基础数据录入阶 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83120" y="2997360"/>
              <a:ext cx="971640" cy="576000"/>
            </a:xfrm>
            <a:custGeom>
              <a:avLst/>
              <a:gdLst>
                <a:gd name="textAreaLeft" fmla="*/ 151560 w 971640"/>
                <a:gd name="textAreaRight" fmla="*/ 803880 w 971640"/>
                <a:gd name="textAreaTop" fmla="*/ 144360 h 576000"/>
                <a:gd name="textAreaBottom" fmla="*/ 4316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15"/>
                  </a:moveTo>
                  <a:lnTo>
                    <a:pt x="14113" y="5415"/>
                  </a:lnTo>
                  <a:lnTo>
                    <a:pt x="14113" y="0"/>
                  </a:lnTo>
                  <a:lnTo>
                    <a:pt x="21600" y="10800"/>
                  </a:lnTo>
                  <a:lnTo>
                    <a:pt x="14113" y="21600"/>
                  </a:lnTo>
                  <a:lnTo>
                    <a:pt x="14113" y="16185"/>
                  </a:lnTo>
                  <a:lnTo>
                    <a:pt x="3375" y="16185"/>
                  </a:lnTo>
                  <a:close/>
                </a:path>
                <a:path w="21600" h="21600">
                  <a:moveTo>
                    <a:pt x="0" y="5415"/>
                  </a:moveTo>
                  <a:lnTo>
                    <a:pt x="675" y="5415"/>
                  </a:lnTo>
                  <a:lnTo>
                    <a:pt x="675" y="16185"/>
                  </a:lnTo>
                  <a:lnTo>
                    <a:pt x="0" y="16185"/>
                  </a:lnTo>
                  <a:close/>
                </a:path>
                <a:path w="21600" h="21600">
                  <a:moveTo>
                    <a:pt x="1350" y="5415"/>
                  </a:moveTo>
                  <a:lnTo>
                    <a:pt x="2700" y="5415"/>
                  </a:lnTo>
                  <a:lnTo>
                    <a:pt x="2700" y="16185"/>
                  </a:lnTo>
                  <a:lnTo>
                    <a:pt x="1350" y="16185"/>
                  </a:lnTo>
                  <a:close/>
                </a:path>
              </a:pathLst>
            </a:custGeom>
            <a:solidFill>
              <a:srgbClr val="c80000">
                <a:alpha val="8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54760" y="2421000"/>
              <a:ext cx="1368360" cy="1692360"/>
            </a:xfrm>
            <a:prstGeom prst="cube">
              <a:avLst>
                <a:gd name="adj" fmla="val 17518"/>
              </a:avLst>
            </a:prstGeom>
            <a:solidFill>
              <a:srgbClr val="94adec">
                <a:alpha val="6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18040" y="2889360"/>
              <a:ext cx="118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92929"/>
                  </a:solidFill>
                  <a:latin typeface="Arial"/>
                  <a:ea typeface="经典圆体简"/>
                </a:rPr>
                <a:t>毕业设计阶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78400" y="2997360"/>
              <a:ext cx="1008360" cy="576000"/>
            </a:xfrm>
            <a:custGeom>
              <a:avLst/>
              <a:gdLst>
                <a:gd name="textAreaLeft" fmla="*/ 157320 w 1008360"/>
                <a:gd name="textAreaRight" fmla="*/ 834120 w 1008360"/>
                <a:gd name="textAreaTop" fmla="*/ 144360 h 576000"/>
                <a:gd name="textAreaBottom" fmla="*/ 4316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15"/>
                  </a:moveTo>
                  <a:lnTo>
                    <a:pt x="14113" y="5415"/>
                  </a:lnTo>
                  <a:lnTo>
                    <a:pt x="14113" y="0"/>
                  </a:lnTo>
                  <a:lnTo>
                    <a:pt x="21600" y="10800"/>
                  </a:lnTo>
                  <a:lnTo>
                    <a:pt x="14113" y="21600"/>
                  </a:lnTo>
                  <a:lnTo>
                    <a:pt x="14113" y="16185"/>
                  </a:lnTo>
                  <a:lnTo>
                    <a:pt x="3375" y="16185"/>
                  </a:lnTo>
                  <a:close/>
                </a:path>
                <a:path w="21600" h="21600">
                  <a:moveTo>
                    <a:pt x="0" y="5415"/>
                  </a:moveTo>
                  <a:lnTo>
                    <a:pt x="675" y="5415"/>
                  </a:lnTo>
                  <a:lnTo>
                    <a:pt x="675" y="16185"/>
                  </a:lnTo>
                  <a:lnTo>
                    <a:pt x="0" y="16185"/>
                  </a:lnTo>
                  <a:close/>
                </a:path>
                <a:path w="21600" h="21600">
                  <a:moveTo>
                    <a:pt x="1350" y="5415"/>
                  </a:moveTo>
                  <a:lnTo>
                    <a:pt x="2700" y="5415"/>
                  </a:lnTo>
                  <a:lnTo>
                    <a:pt x="2700" y="16185"/>
                  </a:lnTo>
                  <a:lnTo>
                    <a:pt x="1350" y="16185"/>
                  </a:lnTo>
                  <a:close/>
                </a:path>
              </a:pathLst>
            </a:custGeom>
            <a:solidFill>
              <a:srgbClr val="c80000">
                <a:alpha val="8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08720" y="2889360"/>
              <a:ext cx="777960" cy="755640"/>
            </a:xfrm>
            <a:prstGeom prst="ellipse">
              <a:avLst/>
            </a:prstGeom>
            <a:solidFill>
              <a:srgbClr val="e2a908">
                <a:alpha val="8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经典圆体简"/>
                </a:rPr>
                <a:t>结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03280" y="44136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  <a:ea typeface="经典综艺体简"/>
              </a:rPr>
              <a:t>流程介绍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b879f"/>
                </a:solidFill>
                <a:latin typeface="Arial"/>
                <a:ea typeface="方正水黑简体"/>
              </a:rPr>
              <a:t>角色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64000" y="620640"/>
            <a:ext cx="469800" cy="453960"/>
          </a:xfrm>
          <a:prstGeom prst="ellipse">
            <a:avLst/>
          </a:prstGeom>
          <a:solidFill>
            <a:srgbClr val="ffff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56000" y="58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方正毡笔黑简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1521000"/>
            <a:ext cx="18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016000" y="1736640"/>
            <a:ext cx="792360" cy="792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987640" y="1808280"/>
            <a:ext cx="22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66"/>
                </a:solidFill>
                <a:latin typeface="Arial"/>
                <a:ea typeface="方正毡笔黑简体"/>
              </a:rPr>
              <a:t>教务人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016000" y="2673360"/>
            <a:ext cx="828720" cy="82872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1908000" y="3681360"/>
            <a:ext cx="1044360" cy="864720"/>
            <a:chOff x="1908000" y="3681360"/>
            <a:chExt cx="1044360" cy="864720"/>
          </a:xfrm>
        </p:grpSpPr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1908000" y="3681360"/>
              <a:ext cx="911160" cy="84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4"/>
            <a:stretch/>
          </p:blipFill>
          <p:spPr>
            <a:xfrm>
              <a:off x="2159280" y="3814560"/>
              <a:ext cx="793080" cy="73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"/>
          <p:cNvSpPr/>
          <p:nvPr/>
        </p:nvSpPr>
        <p:spPr>
          <a:xfrm>
            <a:off x="3095640" y="3824280"/>
            <a:ext cx="17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66"/>
                </a:solidFill>
                <a:latin typeface="Arial"/>
                <a:ea typeface="方正毡笔黑简体"/>
              </a:rPr>
              <a:t>学  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87640" y="2781360"/>
            <a:ext cx="19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0066"/>
                </a:solidFill>
                <a:latin typeface="Arial"/>
                <a:ea typeface="方正毡笔黑简体"/>
              </a:rPr>
              <a:t>指导教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55840" y="5234040"/>
            <a:ext cx="32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3520" y="45720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  <a:ea typeface="经典综艺体简"/>
              </a:rPr>
              <a:t>流程介绍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b879f"/>
                </a:solidFill>
                <a:latin typeface="Arial"/>
                <a:ea typeface="方正水黑简体"/>
              </a:rPr>
              <a:t>基础数据录入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64000" y="620640"/>
            <a:ext cx="469800" cy="453960"/>
          </a:xfrm>
          <a:prstGeom prst="ellipse">
            <a:avLst/>
          </a:prstGeom>
          <a:solidFill>
            <a:srgbClr val="ffff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58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方正毡笔黑简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92360" y="3897360"/>
            <a:ext cx="2411280" cy="1150920"/>
          </a:xfrm>
          <a:prstGeom prst="can">
            <a:avLst>
              <a:gd name="adj" fmla="val 34703"/>
            </a:avLst>
          </a:prstGeom>
          <a:solidFill>
            <a:srgbClr val="a827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08000" y="436572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2e802"/>
                </a:solidFill>
                <a:latin typeface="Arial"/>
                <a:ea typeface="经典圆体简"/>
              </a:rPr>
              <a:t>教师信息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03640" y="3860640"/>
            <a:ext cx="2411640" cy="1150920"/>
          </a:xfrm>
          <a:prstGeom prst="can">
            <a:avLst>
              <a:gd name="adj" fmla="val 34703"/>
            </a:avLst>
          </a:prstGeom>
          <a:solidFill>
            <a:srgbClr val="a827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56360" y="432900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2e802"/>
                </a:solidFill>
                <a:latin typeface="Arial"/>
                <a:ea typeface="经典圆体简"/>
              </a:rPr>
              <a:t>学生信息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1521000"/>
            <a:ext cx="18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959280" y="148428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572000" y="1700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0066"/>
                </a:solidFill>
                <a:latin typeface="Arial"/>
                <a:ea typeface="方正毡笔黑简体"/>
              </a:rPr>
              <a:t>教务人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2826600">
            <a:off x="3502440" y="2266200"/>
            <a:ext cx="179640" cy="2073240"/>
          </a:xfrm>
          <a:prstGeom prst="downArrow">
            <a:avLst>
              <a:gd name="adj1" fmla="val 50000"/>
              <a:gd name="adj2" fmla="val 28852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8642000">
            <a:off x="5362920" y="2210400"/>
            <a:ext cx="192240" cy="2159280"/>
          </a:xfrm>
          <a:prstGeom prst="downArrow">
            <a:avLst>
              <a:gd name="adj1" fmla="val 50000"/>
              <a:gd name="adj2" fmla="val 28080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33520" y="45720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  <a:ea typeface="经典综艺体简"/>
              </a:rPr>
              <a:t>流程介绍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b879f"/>
                </a:solidFill>
                <a:latin typeface="Arial"/>
                <a:ea typeface="方正水黑简体"/>
              </a:rPr>
              <a:t>基础数据录入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64000" y="620640"/>
            <a:ext cx="469800" cy="453960"/>
          </a:xfrm>
          <a:prstGeom prst="ellipse">
            <a:avLst/>
          </a:prstGeom>
          <a:solidFill>
            <a:srgbClr val="ffff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56000" y="58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方正毡笔黑简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42920" y="1197000"/>
            <a:ext cx="63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学生信息注意事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40000" y="2313000"/>
            <a:ext cx="61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58920" y="1665360"/>
            <a:ext cx="68403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每个专业学生数据只能导入一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使用导入方式提交学生数据时，必须使用标准</a:t>
            </a:r>
            <a:r>
              <a:rPr b="0" lang="en-US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Excel</a:t>
            </a:r>
            <a:r>
              <a:rPr b="0" lang="zh-CN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表格格式，每个单元格均设置为文本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毡笔黑简体"/>
              </a:rPr>
              <a:t>导入前需去除表头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     “</a:t>
            </a:r>
            <a:r>
              <a:rPr b="0" lang="zh-CN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所属学校”和“所属专业”必须以教学处给出的标准名称输入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所有为空项目必须输入“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进行填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403280" y="2313000"/>
            <a:ext cx="270000" cy="2890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934920" y="1449360"/>
            <a:ext cx="144720" cy="1443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1476360" y="3753000"/>
            <a:ext cx="270000" cy="288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1476360" y="4292640"/>
            <a:ext cx="270000" cy="288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1476360" y="5229360"/>
            <a:ext cx="270000" cy="2887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448000" y="5589720"/>
            <a:ext cx="4895640" cy="654120"/>
          </a:xfrm>
          <a:prstGeom prst="rect">
            <a:avLst/>
          </a:prstGeom>
          <a:solidFill>
            <a:srgbClr val="333399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e9ce8"/>
                </a:solidFill>
                <a:uFillTx/>
                <a:latin typeface="Arial"/>
                <a:ea typeface="黑体"/>
                <a:hlinkClick r:id="rId6"/>
              </a:rPr>
              <a:t>已制作完成可以进行导入的表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11280" y="3033720"/>
            <a:ext cx="4896000" cy="654120"/>
          </a:xfrm>
          <a:prstGeom prst="rect">
            <a:avLst/>
          </a:prstGeom>
          <a:solidFill>
            <a:srgbClr val="333399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e9ce8"/>
                </a:solidFill>
                <a:uFillTx/>
                <a:latin typeface="黑体"/>
                <a:ea typeface="黑体"/>
                <a:hlinkClick r:id="rId7"/>
              </a:rPr>
              <a:t>标准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黑体"/>
                <a:ea typeface="黑体"/>
                <a:hlinkClick r:id="rId8"/>
              </a:rPr>
              <a:t>Excel</a:t>
            </a:r>
            <a:r>
              <a:rPr b="0" lang="zh-CN" sz="2400" spc="-1" strike="noStrike" u="sng">
                <a:solidFill>
                  <a:srgbClr val="7e9ce8"/>
                </a:solidFill>
                <a:uFillTx/>
                <a:latin typeface="黑体"/>
                <a:ea typeface="黑体"/>
                <a:hlinkClick r:id="rId9"/>
              </a:rPr>
              <a:t>表格格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0"/>
          <a:stretch/>
        </p:blipFill>
        <p:spPr>
          <a:xfrm>
            <a:off x="1403280" y="1736640"/>
            <a:ext cx="27000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3520" y="45720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  <a:ea typeface="经典综艺体简"/>
              </a:rPr>
              <a:t>流程介绍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b879f"/>
                </a:solidFill>
                <a:latin typeface="Arial"/>
                <a:ea typeface="方正水黑简体"/>
              </a:rPr>
              <a:t>基础数据录入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64000" y="620640"/>
            <a:ext cx="469800" cy="453960"/>
          </a:xfrm>
          <a:prstGeom prst="ellipse">
            <a:avLst/>
          </a:prstGeom>
          <a:solidFill>
            <a:srgbClr val="ffff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56000" y="58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方正毡笔黑简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42920" y="1197000"/>
            <a:ext cx="63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教师信息注意事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40000" y="2313000"/>
            <a:ext cx="61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58920" y="2097000"/>
            <a:ext cx="6840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用户名必须是字母、数字和下划线的组合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方正毡笔黑简体"/>
                <a:ea typeface="方正毡笔黑简体"/>
              </a:rPr>
              <a:t>用户名的设定建议和统一身份认证的保持一致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403280" y="2168640"/>
            <a:ext cx="270000" cy="288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934920" y="1449360"/>
            <a:ext cx="144720" cy="144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03280" y="2744640"/>
            <a:ext cx="27000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33520" y="45720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  <a:ea typeface="经典综艺体简"/>
              </a:rPr>
              <a:t>流程介绍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b879f"/>
                </a:solidFill>
                <a:latin typeface="Arial"/>
                <a:ea typeface="方正水黑简体"/>
              </a:rPr>
              <a:t>毕业设计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64000" y="620640"/>
            <a:ext cx="469800" cy="453960"/>
          </a:xfrm>
          <a:prstGeom prst="ellipse">
            <a:avLst/>
          </a:prstGeom>
          <a:solidFill>
            <a:srgbClr val="ffff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56000" y="58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方正毡笔黑简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3280" y="3105000"/>
            <a:ext cx="718920" cy="684360"/>
          </a:xfrm>
          <a:prstGeom prst="ellipse">
            <a:avLst/>
          </a:prstGeom>
          <a:solidFill>
            <a:srgbClr val="ffcc00">
              <a:alpha val="83000"/>
            </a:srgbClr>
          </a:solidFill>
          <a:ln w="28440">
            <a:solidFill>
              <a:srgbClr val="b49200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经典圆体简"/>
              </a:rPr>
              <a:t>开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868480" y="2585880"/>
            <a:ext cx="828720" cy="1692360"/>
            <a:chOff x="2868480" y="2585880"/>
            <a:chExt cx="828720" cy="1692360"/>
          </a:xfrm>
        </p:grpSpPr>
        <p:sp>
          <p:nvSpPr>
            <p:cNvPr id="226" name=""/>
            <p:cNvSpPr/>
            <p:nvPr/>
          </p:nvSpPr>
          <p:spPr>
            <a:xfrm>
              <a:off x="2882880" y="2585880"/>
              <a:ext cx="812520" cy="1692360"/>
            </a:xfrm>
            <a:prstGeom prst="cube">
              <a:avLst>
                <a:gd name="adj" fmla="val 4523"/>
              </a:avLst>
            </a:prstGeom>
            <a:solidFill>
              <a:srgbClr val="94adec">
                <a:alpha val="6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68480" y="2895480"/>
              <a:ext cx="82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92929"/>
                  </a:solidFill>
                  <a:latin typeface="Arial"/>
                  <a:ea typeface="经典圆体简"/>
                </a:rPr>
                <a:t>导师学生分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595520" y="2585880"/>
            <a:ext cx="911160" cy="1692360"/>
            <a:chOff x="1595520" y="2585880"/>
            <a:chExt cx="911160" cy="1692360"/>
          </a:xfrm>
        </p:grpSpPr>
        <p:sp>
          <p:nvSpPr>
            <p:cNvPr id="229" name=""/>
            <p:cNvSpPr/>
            <p:nvPr/>
          </p:nvSpPr>
          <p:spPr>
            <a:xfrm>
              <a:off x="1656000" y="2585880"/>
              <a:ext cx="850680" cy="1692360"/>
            </a:xfrm>
            <a:prstGeom prst="cube">
              <a:avLst>
                <a:gd name="adj" fmla="val 4523"/>
              </a:avLst>
            </a:prstGeom>
            <a:solidFill>
              <a:srgbClr val="ad5bff">
                <a:alpha val="6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95520" y="2909880"/>
              <a:ext cx="90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92929"/>
                  </a:solidFill>
                  <a:latin typeface="Arial"/>
                  <a:ea typeface="经典圆体简"/>
                </a:rPr>
                <a:t>导师资格申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043520" y="2585880"/>
            <a:ext cx="911160" cy="1692360"/>
            <a:chOff x="4043520" y="2585880"/>
            <a:chExt cx="911160" cy="1692360"/>
          </a:xfrm>
        </p:grpSpPr>
        <p:sp>
          <p:nvSpPr>
            <p:cNvPr id="232" name=""/>
            <p:cNvSpPr/>
            <p:nvPr/>
          </p:nvSpPr>
          <p:spPr>
            <a:xfrm>
              <a:off x="4103640" y="2585880"/>
              <a:ext cx="851040" cy="1692360"/>
            </a:xfrm>
            <a:prstGeom prst="cube">
              <a:avLst>
                <a:gd name="adj" fmla="val 4523"/>
              </a:avLst>
            </a:prstGeom>
            <a:solidFill>
              <a:srgbClr val="d8d8ec">
                <a:alpha val="6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43520" y="2909880"/>
              <a:ext cx="90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92929"/>
                  </a:solidFill>
                  <a:latin typeface="Arial"/>
                  <a:ea typeface="经典圆体简"/>
                </a:rPr>
                <a:t>选题审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286240" y="2563920"/>
            <a:ext cx="911160" cy="1692000"/>
            <a:chOff x="5286240" y="2563920"/>
            <a:chExt cx="911160" cy="1692000"/>
          </a:xfrm>
        </p:grpSpPr>
        <p:sp>
          <p:nvSpPr>
            <p:cNvPr id="235" name=""/>
            <p:cNvSpPr/>
            <p:nvPr/>
          </p:nvSpPr>
          <p:spPr>
            <a:xfrm>
              <a:off x="5346720" y="2563920"/>
              <a:ext cx="850680" cy="1692000"/>
            </a:xfrm>
            <a:prstGeom prst="cube">
              <a:avLst>
                <a:gd name="adj" fmla="val 4523"/>
              </a:avLst>
            </a:prstGeom>
            <a:solidFill>
              <a:srgbClr val="ff9933">
                <a:alpha val="6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86240" y="2887560"/>
              <a:ext cx="90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92929"/>
                  </a:solidFill>
                  <a:latin typeface="Arial"/>
                  <a:ea typeface="经典圆体简"/>
                </a:rPr>
                <a:t>师生交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583320" y="2529000"/>
            <a:ext cx="910800" cy="1692000"/>
            <a:chOff x="6583320" y="2529000"/>
            <a:chExt cx="910800" cy="1692000"/>
          </a:xfrm>
        </p:grpSpPr>
        <p:sp>
          <p:nvSpPr>
            <p:cNvPr id="238" name=""/>
            <p:cNvSpPr/>
            <p:nvPr/>
          </p:nvSpPr>
          <p:spPr>
            <a:xfrm>
              <a:off x="6643440" y="2529000"/>
              <a:ext cx="850680" cy="1692000"/>
            </a:xfrm>
            <a:prstGeom prst="cube">
              <a:avLst>
                <a:gd name="adj" fmla="val 4523"/>
              </a:avLst>
            </a:prstGeom>
            <a:solidFill>
              <a:srgbClr val="e686d8">
                <a:alpha val="6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83320" y="2852280"/>
              <a:ext cx="90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92929"/>
                  </a:solidFill>
                  <a:latin typeface="Arial"/>
                  <a:ea typeface="经典圆体简"/>
                </a:rPr>
                <a:t>论文审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459160" y="3306600"/>
            <a:ext cx="431640" cy="252720"/>
          </a:xfrm>
          <a:custGeom>
            <a:avLst/>
            <a:gdLst>
              <a:gd name="textAreaLeft" fmla="*/ 67320 w 431640"/>
              <a:gd name="textAreaRight" fmla="*/ 341640 w 431640"/>
              <a:gd name="textAreaTop" fmla="*/ 72360 h 252720"/>
              <a:gd name="textAreaBottom" fmla="*/ 180360 h 252720"/>
            </a:gdLst>
            <a:ahLst/>
            <a:rect l="textAreaLeft" t="textAreaTop" r="textAreaRight" b="textAreaBottom"/>
            <a:pathLst>
              <a:path w="21600" h="21600">
                <a:moveTo>
                  <a:pt x="3375" y="6185"/>
                </a:moveTo>
                <a:lnTo>
                  <a:pt x="11054" y="6185"/>
                </a:lnTo>
                <a:lnTo>
                  <a:pt x="11054" y="0"/>
                </a:lnTo>
                <a:lnTo>
                  <a:pt x="21600" y="10800"/>
                </a:lnTo>
                <a:lnTo>
                  <a:pt x="11054" y="21600"/>
                </a:lnTo>
                <a:lnTo>
                  <a:pt x="11054" y="15415"/>
                </a:lnTo>
                <a:lnTo>
                  <a:pt x="3375" y="15415"/>
                </a:lnTo>
                <a:close/>
              </a:path>
              <a:path w="21600" h="21600">
                <a:moveTo>
                  <a:pt x="0" y="6185"/>
                </a:moveTo>
                <a:lnTo>
                  <a:pt x="675" y="6185"/>
                </a:lnTo>
                <a:lnTo>
                  <a:pt x="675" y="15415"/>
                </a:lnTo>
                <a:lnTo>
                  <a:pt x="0" y="15415"/>
                </a:lnTo>
                <a:close/>
              </a:path>
              <a:path w="21600" h="21600">
                <a:moveTo>
                  <a:pt x="1350" y="6185"/>
                </a:moveTo>
                <a:lnTo>
                  <a:pt x="2700" y="6185"/>
                </a:lnTo>
                <a:lnTo>
                  <a:pt x="2700" y="15415"/>
                </a:lnTo>
                <a:lnTo>
                  <a:pt x="1350" y="15415"/>
                </a:lnTo>
                <a:close/>
              </a:path>
            </a:pathLst>
          </a:custGeom>
          <a:solidFill>
            <a:srgbClr val="c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60840" y="3270240"/>
            <a:ext cx="431640" cy="252360"/>
          </a:xfrm>
          <a:custGeom>
            <a:avLst/>
            <a:gdLst>
              <a:gd name="textAreaLeft" fmla="*/ 67320 w 431640"/>
              <a:gd name="textAreaRight" fmla="*/ 341640 w 431640"/>
              <a:gd name="textAreaTop" fmla="*/ 72360 h 252360"/>
              <a:gd name="textAreaBottom" fmla="*/ 180000 h 252360"/>
            </a:gdLst>
            <a:ahLst/>
            <a:rect l="textAreaLeft" t="textAreaTop" r="textAreaRight" b="textAreaBottom"/>
            <a:pathLst>
              <a:path w="21600" h="21600">
                <a:moveTo>
                  <a:pt x="3375" y="6185"/>
                </a:moveTo>
                <a:lnTo>
                  <a:pt x="11054" y="6185"/>
                </a:lnTo>
                <a:lnTo>
                  <a:pt x="11054" y="0"/>
                </a:lnTo>
                <a:lnTo>
                  <a:pt x="21600" y="10800"/>
                </a:lnTo>
                <a:lnTo>
                  <a:pt x="11054" y="21600"/>
                </a:lnTo>
                <a:lnTo>
                  <a:pt x="11054" y="15415"/>
                </a:lnTo>
                <a:lnTo>
                  <a:pt x="3375" y="15415"/>
                </a:lnTo>
                <a:close/>
              </a:path>
              <a:path w="21600" h="21600">
                <a:moveTo>
                  <a:pt x="0" y="6185"/>
                </a:moveTo>
                <a:lnTo>
                  <a:pt x="675" y="6185"/>
                </a:lnTo>
                <a:lnTo>
                  <a:pt x="675" y="15415"/>
                </a:lnTo>
                <a:lnTo>
                  <a:pt x="0" y="15415"/>
                </a:lnTo>
                <a:close/>
              </a:path>
              <a:path w="21600" h="21600">
                <a:moveTo>
                  <a:pt x="1350" y="6185"/>
                </a:moveTo>
                <a:lnTo>
                  <a:pt x="2700" y="6185"/>
                </a:lnTo>
                <a:lnTo>
                  <a:pt x="2700" y="15415"/>
                </a:lnTo>
                <a:lnTo>
                  <a:pt x="1350" y="15415"/>
                </a:lnTo>
                <a:close/>
              </a:path>
            </a:pathLst>
          </a:custGeom>
          <a:solidFill>
            <a:srgbClr val="c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06800" y="3270240"/>
            <a:ext cx="432000" cy="252360"/>
          </a:xfrm>
          <a:custGeom>
            <a:avLst/>
            <a:gdLst>
              <a:gd name="textAreaLeft" fmla="*/ 67320 w 432000"/>
              <a:gd name="textAreaRight" fmla="*/ 342000 w 432000"/>
              <a:gd name="textAreaTop" fmla="*/ 72360 h 252360"/>
              <a:gd name="textAreaBottom" fmla="*/ 180000 h 252360"/>
            </a:gdLst>
            <a:ahLst/>
            <a:rect l="textAreaLeft" t="textAreaTop" r="textAreaRight" b="textAreaBottom"/>
            <a:pathLst>
              <a:path w="21600" h="21600">
                <a:moveTo>
                  <a:pt x="3375" y="6185"/>
                </a:moveTo>
                <a:lnTo>
                  <a:pt x="11054" y="6185"/>
                </a:lnTo>
                <a:lnTo>
                  <a:pt x="11054" y="0"/>
                </a:lnTo>
                <a:lnTo>
                  <a:pt x="21600" y="10800"/>
                </a:lnTo>
                <a:lnTo>
                  <a:pt x="11054" y="21600"/>
                </a:lnTo>
                <a:lnTo>
                  <a:pt x="11054" y="15415"/>
                </a:lnTo>
                <a:lnTo>
                  <a:pt x="3375" y="15415"/>
                </a:lnTo>
                <a:close/>
              </a:path>
              <a:path w="21600" h="21600">
                <a:moveTo>
                  <a:pt x="0" y="6185"/>
                </a:moveTo>
                <a:lnTo>
                  <a:pt x="675" y="6185"/>
                </a:lnTo>
                <a:lnTo>
                  <a:pt x="675" y="15415"/>
                </a:lnTo>
                <a:lnTo>
                  <a:pt x="0" y="15415"/>
                </a:lnTo>
                <a:close/>
              </a:path>
              <a:path w="21600" h="21600">
                <a:moveTo>
                  <a:pt x="1350" y="6185"/>
                </a:moveTo>
                <a:lnTo>
                  <a:pt x="2700" y="6185"/>
                </a:lnTo>
                <a:lnTo>
                  <a:pt x="2700" y="15415"/>
                </a:lnTo>
                <a:lnTo>
                  <a:pt x="1350" y="15415"/>
                </a:lnTo>
                <a:close/>
              </a:path>
            </a:pathLst>
          </a:custGeom>
          <a:solidFill>
            <a:srgbClr val="c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03880" y="3270240"/>
            <a:ext cx="432000" cy="252360"/>
          </a:xfrm>
          <a:custGeom>
            <a:avLst/>
            <a:gdLst>
              <a:gd name="textAreaLeft" fmla="*/ 67320 w 432000"/>
              <a:gd name="textAreaRight" fmla="*/ 342000 w 432000"/>
              <a:gd name="textAreaTop" fmla="*/ 72360 h 252360"/>
              <a:gd name="textAreaBottom" fmla="*/ 180000 h 252360"/>
            </a:gdLst>
            <a:ahLst/>
            <a:rect l="textAreaLeft" t="textAreaTop" r="textAreaRight" b="textAreaBottom"/>
            <a:pathLst>
              <a:path w="21600" h="21600">
                <a:moveTo>
                  <a:pt x="3375" y="6185"/>
                </a:moveTo>
                <a:lnTo>
                  <a:pt x="11054" y="6185"/>
                </a:lnTo>
                <a:lnTo>
                  <a:pt x="11054" y="0"/>
                </a:lnTo>
                <a:lnTo>
                  <a:pt x="21600" y="10800"/>
                </a:lnTo>
                <a:lnTo>
                  <a:pt x="11054" y="21600"/>
                </a:lnTo>
                <a:lnTo>
                  <a:pt x="11054" y="15415"/>
                </a:lnTo>
                <a:lnTo>
                  <a:pt x="3375" y="15415"/>
                </a:lnTo>
                <a:close/>
              </a:path>
              <a:path w="21600" h="21600">
                <a:moveTo>
                  <a:pt x="0" y="6185"/>
                </a:moveTo>
                <a:lnTo>
                  <a:pt x="675" y="6185"/>
                </a:lnTo>
                <a:lnTo>
                  <a:pt x="675" y="15415"/>
                </a:lnTo>
                <a:lnTo>
                  <a:pt x="0" y="15415"/>
                </a:lnTo>
                <a:close/>
              </a:path>
              <a:path w="21600" h="21600">
                <a:moveTo>
                  <a:pt x="1350" y="6185"/>
                </a:moveTo>
                <a:lnTo>
                  <a:pt x="2700" y="6185"/>
                </a:lnTo>
                <a:lnTo>
                  <a:pt x="2700" y="15415"/>
                </a:lnTo>
                <a:lnTo>
                  <a:pt x="1350" y="15415"/>
                </a:lnTo>
                <a:close/>
              </a:path>
            </a:pathLst>
          </a:custGeom>
          <a:solidFill>
            <a:srgbClr val="c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464600" y="3270240"/>
            <a:ext cx="431640" cy="252360"/>
          </a:xfrm>
          <a:custGeom>
            <a:avLst/>
            <a:gdLst>
              <a:gd name="textAreaLeft" fmla="*/ 67320 w 431640"/>
              <a:gd name="textAreaRight" fmla="*/ 341640 w 431640"/>
              <a:gd name="textAreaTop" fmla="*/ 72360 h 252360"/>
              <a:gd name="textAreaBottom" fmla="*/ 180000 h 252360"/>
            </a:gdLst>
            <a:ahLst/>
            <a:rect l="textAreaLeft" t="textAreaTop" r="textAreaRight" b="textAreaBottom"/>
            <a:pathLst>
              <a:path w="21600" h="21600">
                <a:moveTo>
                  <a:pt x="3375" y="6185"/>
                </a:moveTo>
                <a:lnTo>
                  <a:pt x="11054" y="6185"/>
                </a:lnTo>
                <a:lnTo>
                  <a:pt x="11054" y="0"/>
                </a:lnTo>
                <a:lnTo>
                  <a:pt x="21600" y="10800"/>
                </a:lnTo>
                <a:lnTo>
                  <a:pt x="11054" y="21600"/>
                </a:lnTo>
                <a:lnTo>
                  <a:pt x="11054" y="15415"/>
                </a:lnTo>
                <a:lnTo>
                  <a:pt x="3375" y="15415"/>
                </a:lnTo>
                <a:close/>
              </a:path>
              <a:path w="21600" h="21600">
                <a:moveTo>
                  <a:pt x="0" y="6185"/>
                </a:moveTo>
                <a:lnTo>
                  <a:pt x="675" y="6185"/>
                </a:lnTo>
                <a:lnTo>
                  <a:pt x="675" y="15415"/>
                </a:lnTo>
                <a:lnTo>
                  <a:pt x="0" y="15415"/>
                </a:lnTo>
                <a:close/>
              </a:path>
              <a:path w="21600" h="21600">
                <a:moveTo>
                  <a:pt x="1350" y="6185"/>
                </a:moveTo>
                <a:lnTo>
                  <a:pt x="2700" y="6185"/>
                </a:lnTo>
                <a:lnTo>
                  <a:pt x="2700" y="15415"/>
                </a:lnTo>
                <a:lnTo>
                  <a:pt x="1350" y="15415"/>
                </a:lnTo>
                <a:close/>
              </a:path>
            </a:pathLst>
          </a:custGeom>
          <a:solidFill>
            <a:srgbClr val="c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24000" y="3319560"/>
            <a:ext cx="431640" cy="252360"/>
          </a:xfrm>
          <a:custGeom>
            <a:avLst/>
            <a:gdLst>
              <a:gd name="textAreaLeft" fmla="*/ 67320 w 431640"/>
              <a:gd name="textAreaRight" fmla="*/ 341640 w 431640"/>
              <a:gd name="textAreaTop" fmla="*/ 72360 h 252360"/>
              <a:gd name="textAreaBottom" fmla="*/ 180000 h 252360"/>
            </a:gdLst>
            <a:ahLst/>
            <a:rect l="textAreaLeft" t="textAreaTop" r="textAreaRight" b="textAreaBottom"/>
            <a:pathLst>
              <a:path w="21600" h="21600">
                <a:moveTo>
                  <a:pt x="3375" y="6185"/>
                </a:moveTo>
                <a:lnTo>
                  <a:pt x="11054" y="6185"/>
                </a:lnTo>
                <a:lnTo>
                  <a:pt x="11054" y="0"/>
                </a:lnTo>
                <a:lnTo>
                  <a:pt x="21600" y="10800"/>
                </a:lnTo>
                <a:lnTo>
                  <a:pt x="11054" y="21600"/>
                </a:lnTo>
                <a:lnTo>
                  <a:pt x="11054" y="15415"/>
                </a:lnTo>
                <a:lnTo>
                  <a:pt x="3375" y="15415"/>
                </a:lnTo>
                <a:close/>
              </a:path>
              <a:path w="21600" h="21600">
                <a:moveTo>
                  <a:pt x="0" y="6185"/>
                </a:moveTo>
                <a:lnTo>
                  <a:pt x="675" y="6185"/>
                </a:lnTo>
                <a:lnTo>
                  <a:pt x="675" y="15415"/>
                </a:lnTo>
                <a:lnTo>
                  <a:pt x="0" y="15415"/>
                </a:lnTo>
                <a:close/>
              </a:path>
              <a:path w="21600" h="21600">
                <a:moveTo>
                  <a:pt x="1350" y="6185"/>
                </a:moveTo>
                <a:lnTo>
                  <a:pt x="2700" y="6185"/>
                </a:lnTo>
                <a:lnTo>
                  <a:pt x="2700" y="15415"/>
                </a:lnTo>
                <a:lnTo>
                  <a:pt x="1350" y="15415"/>
                </a:lnTo>
                <a:close/>
              </a:path>
            </a:pathLst>
          </a:custGeom>
          <a:solidFill>
            <a:srgbClr val="c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97680" y="3021120"/>
            <a:ext cx="719280" cy="684000"/>
          </a:xfrm>
          <a:prstGeom prst="ellipse">
            <a:avLst/>
          </a:prstGeom>
          <a:solidFill>
            <a:srgbClr val="ffcc00">
              <a:alpha val="83000"/>
            </a:srgbClr>
          </a:solidFill>
          <a:ln w="28440">
            <a:solidFill>
              <a:srgbClr val="b49200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经典圆体简"/>
              </a:rPr>
              <a:t>结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3520" y="45720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  <a:ea typeface="经典综艺体简"/>
              </a:rPr>
              <a:t>流程介绍</a:t>
            </a: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3b879f"/>
                </a:solidFill>
                <a:latin typeface="Arial"/>
                <a:ea typeface="方正水黑简体"/>
              </a:rPr>
              <a:t>毕业设计阶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04920" y="1521000"/>
          <a:ext cx="8458200" cy="4802040"/>
        </p:xfrm>
        <a:graphic>
          <a:graphicData uri="http://schemas.openxmlformats.org/drawingml/2006/table">
            <a:tbl>
              <a:tblPr/>
              <a:tblGrid>
                <a:gridCol w="1396800"/>
                <a:gridCol w="1285920"/>
                <a:gridCol w="1274760"/>
                <a:gridCol w="1474920"/>
                <a:gridCol w="1550880"/>
                <a:gridCol w="147492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经典圆体简"/>
                        </a:rPr>
                        <a:t>子流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经典圆体简"/>
                        </a:rPr>
                        <a:t>角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方正水黑简体"/>
                        </a:rPr>
                        <a:t>导师资格申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方正水黑简体"/>
                        </a:rPr>
                        <a:t>导师学生分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方正水黑简体"/>
                        </a:rPr>
                        <a:t>选题审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方正水黑简体"/>
                        </a:rPr>
                        <a:t>交流平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方正水黑简体"/>
                        </a:rPr>
                        <a:t>论文审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99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经典综艺体简"/>
                        </a:rPr>
                        <a:t>学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>
                        <a:alpha val="65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方正毡笔黑简体"/>
                          <a:ea typeface="方正毡笔黑简体"/>
                        </a:rPr>
                        <a:t>上报选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方正毡笔黑简体"/>
                          <a:ea typeface="方正毡笔黑简体"/>
                        </a:rPr>
                        <a:t>收发消息与导师交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方正毡笔黑简体"/>
                          <a:ea typeface="方正毡笔黑简体"/>
                        </a:rPr>
                        <a:t>上传论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ff99"/>
                    </a:solidFill>
                  </a:tcPr>
                </a:tc>
              </a:tr>
              <a:tr h="99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经典综艺体简"/>
                        </a:rPr>
                        <a:t>指导教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方正毡笔黑简体"/>
                          <a:ea typeface="方正毡笔黑简体"/>
                        </a:rPr>
                        <a:t>审核学生 选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方正毡笔黑简体"/>
                          <a:ea typeface="方正毡笔黑简体"/>
                        </a:rPr>
                        <a:t>收发消息与学生交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方正毡笔黑简体"/>
                          <a:ea typeface="方正毡笔黑简体"/>
                        </a:rPr>
                        <a:t>初审成绩 录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99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经典综艺体简"/>
                        </a:rPr>
                        <a:t>教务人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6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方正毡笔黑简体"/>
                        </a:rPr>
                        <a:t>提交导师资格申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方正毡笔黑简体"/>
                          <a:ea typeface="方正毡笔黑简体"/>
                        </a:rPr>
                        <a:t>分配导师学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方正毡笔黑简体"/>
                          <a:ea typeface="方正毡笔黑简体"/>
                        </a:rPr>
                        <a:t>答辩、总评成绩录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</a:tr>
              <a:tr h="99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经典综艺体简"/>
                        </a:rPr>
                        <a:t>专业负责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>
                        <a:alpha val="6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方正毡笔黑简体"/>
                        </a:rPr>
                        <a:t>审核导师资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方正毡笔黑简体"/>
                          <a:ea typeface="方正毡笔黑简体"/>
                        </a:rPr>
                        <a:t>审核学生 选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方正毡笔黑简体"/>
                          <a:ea typeface="方正毡笔黑简体"/>
                        </a:rPr>
                        <a:t>查看师生交流情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方正毡笔黑简体"/>
                          <a:ea typeface="方正毡笔黑简体"/>
                        </a:rPr>
                        <a:t>查看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方正毡笔黑简体"/>
                          <a:ea typeface="方正毡笔黑简体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方正毡笔黑简体"/>
                          <a:ea typeface="方正毡笔黑简体"/>
                        </a:rPr>
                        <a:t>审核学生论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2664000" y="620640"/>
            <a:ext cx="469800" cy="453960"/>
          </a:xfrm>
          <a:prstGeom prst="ellipse">
            <a:avLst/>
          </a:prstGeom>
          <a:solidFill>
            <a:srgbClr val="ffff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56000" y="58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方正毡笔黑简体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40000" y="5049720"/>
            <a:ext cx="0" cy="541440"/>
          </a:xfrm>
          <a:prstGeom prst="line">
            <a:avLst/>
          </a:prstGeom>
          <a:ln w="34920">
            <a:solidFill>
              <a:srgbClr val="8000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03640" y="2997360"/>
            <a:ext cx="0" cy="541080"/>
          </a:xfrm>
          <a:prstGeom prst="line">
            <a:avLst/>
          </a:prstGeom>
          <a:ln w="34920">
            <a:solidFill>
              <a:srgbClr val="8000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03640" y="4113360"/>
            <a:ext cx="0" cy="1439640"/>
          </a:xfrm>
          <a:prstGeom prst="line">
            <a:avLst/>
          </a:prstGeom>
          <a:ln w="34920">
            <a:solidFill>
              <a:srgbClr val="8000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28000" y="2960640"/>
            <a:ext cx="0" cy="647640"/>
          </a:xfrm>
          <a:prstGeom prst="line">
            <a:avLst/>
          </a:prstGeom>
          <a:ln w="34920">
            <a:solidFill>
              <a:srgbClr val="8000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028000" y="4113360"/>
            <a:ext cx="0" cy="647640"/>
          </a:xfrm>
          <a:prstGeom prst="line">
            <a:avLst/>
          </a:prstGeom>
          <a:ln w="34920">
            <a:solidFill>
              <a:srgbClr val="8000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028000" y="5049720"/>
            <a:ext cx="0" cy="574920"/>
          </a:xfrm>
          <a:prstGeom prst="line">
            <a:avLst/>
          </a:prstGeom>
          <a:ln w="34920">
            <a:solidFill>
              <a:srgbClr val="800000"/>
            </a:solidFill>
            <a:prstDash val="sysDot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您的用户名</cp:lastModifiedBy>
  <dcterms:modified xsi:type="dcterms:W3CDTF">2009-02-19T02:07:44Z</dcterms:modified>
  <cp:revision>1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  <property fmtid="{D5CDD505-2E9C-101B-9397-08002B2CF9AE}" pid="3" name="Version">
    <vt:r8>1</vt:r8>
  </property>
</Properties>
</file>