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817-F4B6-49B7-8194-447BACFD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F5C-43A7-44B5-86C8-80A0D0E5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B09-B552-426D-8054-7B80509A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1AD-89A5-4D84-9C41-28CCB0C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331-379E-4C07-8D7F-FA5F5E81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95F-E866-4F3E-AF21-09247B2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AF7-E3AD-4D7D-A4B6-863CAEF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A2A-8A3C-4972-8B9A-46CF57E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A17-CA0F-4D21-BDAC-6865B75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081-9303-4082-9788-ED967BF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843-24C5-4263-8904-81C58F61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F7E-677F-4C99-A80B-987EEADA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3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直接连接符 6"/>
          <p:cNvSpPr/>
          <p:nvPr/>
        </p:nvSpPr>
        <p:spPr>
          <a:xfrm>
            <a:off x="-34920" y="6599160"/>
            <a:ext cx="73058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7293600" y="64594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45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TextBox 12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5152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72C-67C5-407A-BE8F-CBA82EB545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12"/>
          <p:cNvSpPr/>
          <p:nvPr/>
        </p:nvSpPr>
        <p:spPr>
          <a:xfrm>
            <a:off x="0" y="3041640"/>
            <a:ext cx="7740720" cy="349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78"/>
          <p:cNvSpPr/>
          <p:nvPr/>
        </p:nvSpPr>
        <p:spPr>
          <a:xfrm>
            <a:off x="4859280" y="2960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736040" y="2573280"/>
            <a:ext cx="291960" cy="503280"/>
            <a:chOff x="7736040" y="2573280"/>
            <a:chExt cx="291960" cy="503280"/>
          </a:xfrm>
        </p:grpSpPr>
        <p:sp>
          <p:nvSpPr>
            <p:cNvPr id="95" name="直接连接符 9"/>
            <p:cNvSpPr/>
            <p:nvPr/>
          </p:nvSpPr>
          <p:spPr>
            <a:xfrm>
              <a:off x="8028000" y="2573280"/>
              <a:ext cx="0" cy="50328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10"/>
            <p:cNvSpPr/>
            <p:nvPr/>
          </p:nvSpPr>
          <p:spPr>
            <a:xfrm>
              <a:off x="7875000" y="2716920"/>
              <a:ext cx="0" cy="3596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1"/>
            <p:cNvSpPr/>
            <p:nvPr/>
          </p:nvSpPr>
          <p:spPr>
            <a:xfrm>
              <a:off x="7736040" y="2896920"/>
              <a:ext cx="0" cy="1796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885080" y="1197000"/>
            <a:ext cx="647640" cy="453960"/>
            <a:chOff x="7885080" y="1197000"/>
            <a:chExt cx="647640" cy="453960"/>
          </a:xfrm>
        </p:grpSpPr>
        <p:sp>
          <p:nvSpPr>
            <p:cNvPr id="99" name="AutoShape 129"/>
            <p:cNvSpPr/>
            <p:nvPr/>
          </p:nvSpPr>
          <p:spPr>
            <a:xfrm>
              <a:off x="8172360" y="13399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30"/>
            <p:cNvSpPr/>
            <p:nvPr/>
          </p:nvSpPr>
          <p:spPr>
            <a:xfrm>
              <a:off x="7885080" y="1197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02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03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07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11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13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14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15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16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17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18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19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0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1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2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3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4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5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6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7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8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7c80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9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0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1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2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3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4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ccff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5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6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7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8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9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0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ff99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1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2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3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0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1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2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3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4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5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6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7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8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9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0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1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2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3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4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5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6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7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8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9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9999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0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1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172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73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75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79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82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85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89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AutoShape 26"/>
          <p:cNvSpPr/>
          <p:nvPr/>
        </p:nvSpPr>
        <p:spPr>
          <a:xfrm>
            <a:off x="4572000" y="363060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78"/>
          <p:cNvSpPr/>
          <p:nvPr/>
        </p:nvSpPr>
        <p:spPr>
          <a:xfrm>
            <a:off x="665964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1773360"/>
            <a:ext cx="73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中小企业会计从业人员素能提升专题培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168720" y="6491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华文新魏"/>
              </a:rPr>
              <a:t>常州开放大学财经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534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538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555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55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56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56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56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6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6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570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57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2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2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2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62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2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7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62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63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63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63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64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88480" y="1616040"/>
            <a:ext cx="7111080" cy="1096920"/>
            <a:chOff x="888480" y="1616040"/>
            <a:chExt cx="7111080" cy="1096920"/>
          </a:xfrm>
        </p:grpSpPr>
        <p:grpSp>
          <p:nvGrpSpPr>
            <p:cNvPr id="652" name=""/>
            <p:cNvGrpSpPr/>
            <p:nvPr/>
          </p:nvGrpSpPr>
          <p:grpSpPr>
            <a:xfrm>
              <a:off x="888480" y="1616040"/>
              <a:ext cx="1103040" cy="1096920"/>
              <a:chOff x="888480" y="1616040"/>
              <a:chExt cx="1103040" cy="1096920"/>
            </a:xfrm>
          </p:grpSpPr>
          <p:sp>
            <p:nvSpPr>
              <p:cNvPr id="653" name="椭圆 44"/>
              <p:cNvSpPr/>
              <p:nvPr/>
            </p:nvSpPr>
            <p:spPr>
              <a:xfrm rot="691200">
                <a:off x="971640" y="1699920"/>
                <a:ext cx="936360" cy="92880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椭圆 45"/>
              <p:cNvSpPr/>
              <p:nvPr/>
            </p:nvSpPr>
            <p:spPr>
              <a:xfrm rot="691200">
                <a:off x="1312920" y="2045160"/>
                <a:ext cx="248760" cy="238320"/>
              </a:xfrm>
              <a:prstGeom prst="ellipse">
                <a:avLst/>
              </a:prstGeom>
              <a:solidFill>
                <a:srgbClr val="d99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直接连接符 51"/>
            <p:cNvSpPr/>
            <p:nvPr/>
          </p:nvSpPr>
          <p:spPr>
            <a:xfrm>
              <a:off x="1547640" y="2185920"/>
              <a:ext cx="17305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10800000">
              <a:off x="3349800" y="1627560"/>
              <a:ext cx="46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全流程成本控制：市场需求分析、研究与开发、产品设计、材料采购、生产、质量检验、销售、售后服务等的成本，又叫价值链成本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089000" y="2962440"/>
            <a:ext cx="7278480" cy="2095920"/>
            <a:chOff x="1089000" y="2962440"/>
            <a:chExt cx="7278480" cy="2095920"/>
          </a:xfrm>
        </p:grpSpPr>
        <p:grpSp>
          <p:nvGrpSpPr>
            <p:cNvPr id="658" name=""/>
            <p:cNvGrpSpPr/>
            <p:nvPr/>
          </p:nvGrpSpPr>
          <p:grpSpPr>
            <a:xfrm>
              <a:off x="7049520" y="3740040"/>
              <a:ext cx="1317960" cy="1318320"/>
              <a:chOff x="7049520" y="3740040"/>
              <a:chExt cx="1317960" cy="1318320"/>
            </a:xfrm>
          </p:grpSpPr>
          <p:sp>
            <p:nvSpPr>
              <p:cNvPr id="659" name="椭圆 64"/>
              <p:cNvSpPr/>
              <p:nvPr/>
            </p:nvSpPr>
            <p:spPr>
              <a:xfrm rot="13633200">
                <a:off x="7239240" y="3935520"/>
                <a:ext cx="938520" cy="92700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椭圆 65"/>
              <p:cNvSpPr/>
              <p:nvPr/>
            </p:nvSpPr>
            <p:spPr>
              <a:xfrm rot="13633200">
                <a:off x="7585200" y="4281840"/>
                <a:ext cx="249120" cy="2379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1" name="直接连接符 66"/>
            <p:cNvSpPr/>
            <p:nvPr/>
          </p:nvSpPr>
          <p:spPr>
            <a:xfrm flipH="1">
              <a:off x="551772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TextBox 58" descr=""/>
            <p:cNvPicPr/>
            <p:nvPr/>
          </p:nvPicPr>
          <p:blipFill>
            <a:blip r:embed="rId1"/>
            <a:stretch/>
          </p:blipFill>
          <p:spPr>
            <a:xfrm>
              <a:off x="4281480" y="2962440"/>
              <a:ext cx="1311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1089000" y="38815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339966"/>
                  </a:solidFill>
                  <a:latin typeface="楷体_GB2312"/>
                  <a:ea typeface="楷体_GB2312"/>
                </a:rPr>
                <a:t>全面成本控制：筹资、投资、收益分配中的成本控制制造成本、期间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665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669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686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687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691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695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698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99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0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701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702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3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4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5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6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7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8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9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0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1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2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3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4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5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6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7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8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9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0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1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2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3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4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5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6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7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8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9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0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1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2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3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4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5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6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7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8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9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0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1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2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3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4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5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6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7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8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9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0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1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2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53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4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5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756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57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8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759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763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766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769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773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6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8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-36360" y="1006560"/>
          <a:ext cx="9180360" cy="5172120"/>
        </p:xfrm>
        <a:graphic>
          <a:graphicData uri="http://schemas.openxmlformats.org/drawingml/2006/table">
            <a:tbl>
              <a:tblPr/>
              <a:tblGrid>
                <a:gridCol w="350640"/>
                <a:gridCol w="792360"/>
                <a:gridCol w="1952640"/>
                <a:gridCol w="2808000"/>
                <a:gridCol w="1441440"/>
                <a:gridCol w="1835280"/>
              </a:tblGrid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要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控制什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怎么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谁来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备查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产品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目标销售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目标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部件、零件、外购、外协分解细化，汇制成表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设计、技术、工艺、财会协调。事先与采购供应联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相关国家、行业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无相应文件参照惯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零部件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、行业、通用性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通用性、便利性选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尽量少采用难采购、单价高的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佳性价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价值工程导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签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法性及内容审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与合同法发生冲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大利己性和可接受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评审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法及相关法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格供方内或可靠论证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方评定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交货和质量的可靠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执行情况跟踪，异常后立即采取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检验规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执行记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数量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提前、不缺货、不压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与生产需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与生产部门沟通掌握进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货款结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期、延缓付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互利合作为前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"/>
          <p:cNvSpPr/>
          <p:nvPr/>
        </p:nvSpPr>
        <p:spPr>
          <a:xfrm>
            <a:off x="-2268360" y="333360"/>
            <a:ext cx="130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/>
          <p:nvPr/>
        </p:nvSpPr>
        <p:spPr>
          <a:xfrm>
            <a:off x="-2268360" y="333360"/>
            <a:ext cx="130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0" y="1052640"/>
          <a:ext cx="9144000" cy="5108400"/>
        </p:xfrm>
        <a:graphic>
          <a:graphicData uri="http://schemas.openxmlformats.org/drawingml/2006/table">
            <a:tbl>
              <a:tblPr/>
              <a:tblGrid>
                <a:gridCol w="324000"/>
                <a:gridCol w="739800"/>
                <a:gridCol w="1431720"/>
                <a:gridCol w="2903400"/>
                <a:gridCol w="1944720"/>
                <a:gridCol w="18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 </a:t>
                      </a: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要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控制什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怎么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谁来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备查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减少自备车，尽量委托第三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行政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委托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降低吨公里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行政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价格核算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定额，领料改送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劳动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时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技术、工艺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时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序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指导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在制品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手持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艺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消耗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动力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位消耗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消耗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培养多能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星员工评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适用性，避免过度包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销、供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审核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品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适量性，多批次小量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销、供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贮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贮存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多不少，不早不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压库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以上不动用处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盘存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788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792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6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809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810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2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814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818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821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22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23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824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825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6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7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8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9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0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1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2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3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4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5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6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7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8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9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0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1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2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3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4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5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6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7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8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9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0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1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2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3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4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5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6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7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8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9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0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1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2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3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4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5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6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7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8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9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0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1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2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3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4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5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76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7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8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879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80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81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882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886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889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892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896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1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一个企业要核算和控制好成本，绝对不仅仅是财会部门的事情，而是企业的成本管理机构和各级管理人员，上至厂部和最高管理层，下至班组和一般职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79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0" y="890640"/>
            <a:ext cx="4984920" cy="1098360"/>
            <a:chOff x="0" y="890640"/>
            <a:chExt cx="4984920" cy="1098360"/>
          </a:xfrm>
        </p:grpSpPr>
        <p:pic>
          <p:nvPicPr>
            <p:cNvPr id="909" name="矩形 21" descr=""/>
            <p:cNvPicPr/>
            <p:nvPr/>
          </p:nvPicPr>
          <p:blipFill>
            <a:blip r:embed="rId1"/>
            <a:stretch/>
          </p:blipFill>
          <p:spPr>
            <a:xfrm>
              <a:off x="524160" y="1451880"/>
              <a:ext cx="530280" cy="44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0" name=""/>
            <p:cNvGrpSpPr/>
            <p:nvPr/>
          </p:nvGrpSpPr>
          <p:grpSpPr>
            <a:xfrm>
              <a:off x="0" y="890640"/>
              <a:ext cx="4984920" cy="1098360"/>
              <a:chOff x="0" y="890640"/>
              <a:chExt cx="4984920" cy="1098360"/>
            </a:xfrm>
          </p:grpSpPr>
          <p:pic>
            <p:nvPicPr>
              <p:cNvPr id="911" name="矩形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90640"/>
                <a:ext cx="1109520" cy="10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TextBox 24"/>
              <p:cNvSpPr/>
              <p:nvPr/>
            </p:nvSpPr>
            <p:spPr>
              <a:xfrm>
                <a:off x="771480" y="1488960"/>
                <a:ext cx="421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3399ff"/>
                    </a:solidFill>
                    <a:latin typeface="微软雅黑"/>
                    <a:ea typeface="微软雅黑"/>
                  </a:rPr>
                  <a:t>分级归口管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TextBox 25"/>
              <p:cNvSpPr/>
              <p:nvPr/>
            </p:nvSpPr>
            <p:spPr>
              <a:xfrm>
                <a:off x="384120" y="1558800"/>
                <a:ext cx="850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调动全员的积极性，必须明确各级组织和各部门费用管理的权责，建立健全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费用管理责任制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其性质和内容层层分解，既分解到各职能部门，又逐级落实到各级组织。形成一个上下左右、纵横交错、人人负责的费用管理体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05560" y="1037160"/>
            <a:ext cx="6116040" cy="4844880"/>
            <a:chOff x="2905560" y="1037160"/>
            <a:chExt cx="6116040" cy="4844880"/>
          </a:xfrm>
        </p:grpSpPr>
        <p:sp>
          <p:nvSpPr>
            <p:cNvPr id="916" name=""/>
            <p:cNvSpPr/>
            <p:nvPr/>
          </p:nvSpPr>
          <p:spPr>
            <a:xfrm>
              <a:off x="4969440" y="1306080"/>
              <a:ext cx="19252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制订标准成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69440" y="205488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职能部门执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69440" y="352044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核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69440" y="4282200"/>
              <a:ext cx="19252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差异分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05560" y="1524600"/>
              <a:ext cx="915840" cy="30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69440" y="278208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表单记录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2" name=""/>
            <p:cNvCxnSpPr>
              <a:stCxn id="916" idx="2"/>
              <a:endCxn id="917" idx="0"/>
            </p:cNvCxnSpPr>
            <p:nvPr/>
          </p:nvCxnSpPr>
          <p:spPr>
            <a:xfrm>
              <a:off x="5932080" y="1855080"/>
              <a:ext cx="1080" cy="20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7" idx="2"/>
              <a:endCxn id="921" idx="0"/>
            </p:cNvCxnSpPr>
            <p:nvPr/>
          </p:nvCxnSpPr>
          <p:spPr>
            <a:xfrm>
              <a:off x="5932080" y="2604240"/>
              <a:ext cx="108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21" idx="2"/>
              <a:endCxn id="918" idx="0"/>
            </p:cNvCxnSpPr>
            <p:nvPr/>
          </p:nvCxnSpPr>
          <p:spPr>
            <a:xfrm>
              <a:off x="5932080" y="3331440"/>
              <a:ext cx="1080" cy="18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8" idx="2"/>
              <a:endCxn id="919" idx="0"/>
            </p:cNvCxnSpPr>
            <p:nvPr/>
          </p:nvCxnSpPr>
          <p:spPr>
            <a:xfrm>
              <a:off x="5932080" y="4070160"/>
              <a:ext cx="1080" cy="21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7" idx="2"/>
              <a:endCxn id="916" idx="0"/>
            </p:cNvCxnSpPr>
            <p:nvPr/>
          </p:nvCxnSpPr>
          <p:spPr>
            <a:xfrm flipV="1" rot="16200000">
              <a:off x="3783600" y="3453480"/>
              <a:ext cx="4308840" cy="12240"/>
            </a:xfrm>
            <a:prstGeom prst="bentConnector5">
              <a:avLst>
                <a:gd name="adj1" fmla="val -6224"/>
                <a:gd name="adj2" fmla="val -25906060"/>
                <a:gd name="adj3" fmla="val 1062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>
              <a:off x="4981320" y="5065200"/>
              <a:ext cx="192492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降低措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8" name=""/>
            <p:cNvCxnSpPr>
              <a:stCxn id="919" idx="2"/>
              <a:endCxn id="927" idx="0"/>
            </p:cNvCxnSpPr>
            <p:nvPr/>
          </p:nvCxnSpPr>
          <p:spPr>
            <a:xfrm>
              <a:off x="5932440" y="4831200"/>
              <a:ext cx="12240" cy="23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7374960" y="2079720"/>
              <a:ext cx="1571760" cy="570240"/>
            </a:xfrm>
            <a:prstGeom prst="leftArrow">
              <a:avLst>
                <a:gd name="adj1" fmla="val 50000"/>
                <a:gd name="adj2" fmla="val 689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执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93680" y="132552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协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93680" y="280224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总管理部门汇总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07080" y="3440160"/>
              <a:ext cx="2238120" cy="1499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93680" y="392328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财务部分析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93680" y="510696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协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794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-900000" y="836640"/>
            <a:ext cx="5565600" cy="1095480"/>
            <a:chOff x="-900000" y="836640"/>
            <a:chExt cx="5565600" cy="1095480"/>
          </a:xfrm>
        </p:grpSpPr>
        <p:pic>
          <p:nvPicPr>
            <p:cNvPr id="937" name="矩形 9" descr=""/>
            <p:cNvPicPr/>
            <p:nvPr/>
          </p:nvPicPr>
          <p:blipFill>
            <a:blip r:embed="rId1"/>
            <a:stretch/>
          </p:blipFill>
          <p:spPr>
            <a:xfrm>
              <a:off x="361800" y="1402560"/>
              <a:ext cx="597240" cy="43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"/>
            <p:cNvGrpSpPr/>
            <p:nvPr/>
          </p:nvGrpSpPr>
          <p:grpSpPr>
            <a:xfrm>
              <a:off x="-900000" y="836640"/>
              <a:ext cx="5565600" cy="1095480"/>
              <a:chOff x="-900000" y="836640"/>
              <a:chExt cx="5565600" cy="1095480"/>
            </a:xfrm>
          </p:grpSpPr>
          <p:pic>
            <p:nvPicPr>
              <p:cNvPr id="939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41560" y="836640"/>
                <a:ext cx="1194840" cy="10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TextBox 12"/>
              <p:cNvSpPr/>
              <p:nvPr/>
            </p:nvSpPr>
            <p:spPr>
              <a:xfrm>
                <a:off x="717480" y="1431720"/>
                <a:ext cx="394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质量成本控制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TextBox 13"/>
              <p:cNvSpPr/>
              <p:nvPr/>
            </p:nvSpPr>
            <p:spPr>
              <a:xfrm>
                <a:off x="-900000" y="1425600"/>
                <a:ext cx="112968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2" name=""/>
          <p:cNvSpPr/>
          <p:nvPr/>
        </p:nvSpPr>
        <p:spPr>
          <a:xfrm>
            <a:off x="250920" y="2735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预定的质量成本目标，对实际发生的所有质量成本，进行指导、限制和监督，及时发现问题，采取措施，或不断推广先进经验，以促进产品质量成本不断下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116000" y="4365720"/>
            <a:ext cx="7523280" cy="1112760"/>
            <a:chOff x="1116000" y="4365720"/>
            <a:chExt cx="7523280" cy="1112760"/>
          </a:xfrm>
        </p:grpSpPr>
        <p:sp>
          <p:nvSpPr>
            <p:cNvPr id="944" name="TextBox 46"/>
            <p:cNvSpPr/>
            <p:nvPr/>
          </p:nvSpPr>
          <p:spPr>
            <a:xfrm>
              <a:off x="2657520" y="4651560"/>
              <a:ext cx="18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检验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TextBox 47"/>
            <p:cNvSpPr/>
            <p:nvPr/>
          </p:nvSpPr>
          <p:spPr>
            <a:xfrm>
              <a:off x="4127400" y="4662720"/>
              <a:ext cx="22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楷体_GB2312"/>
                  <a:ea typeface="楷体_GB2312"/>
                </a:rPr>
                <a:t>内部缺陷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TextBox 48"/>
            <p:cNvSpPr/>
            <p:nvPr/>
          </p:nvSpPr>
          <p:spPr>
            <a:xfrm>
              <a:off x="6156360" y="4683240"/>
              <a:ext cx="24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外部缺陷成本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50"/>
            <p:cNvSpPr/>
            <p:nvPr/>
          </p:nvSpPr>
          <p:spPr>
            <a:xfrm flipH="1">
              <a:off x="2511000" y="4365720"/>
              <a:ext cx="1800" cy="10717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TextBox 52"/>
            <p:cNvSpPr/>
            <p:nvPr/>
          </p:nvSpPr>
          <p:spPr>
            <a:xfrm>
              <a:off x="1116000" y="4665960"/>
              <a:ext cx="23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预防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53"/>
            <p:cNvSpPr/>
            <p:nvPr/>
          </p:nvSpPr>
          <p:spPr>
            <a:xfrm flipH="1">
              <a:off x="4056120" y="4380120"/>
              <a:ext cx="1440" cy="1071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54"/>
            <p:cNvSpPr/>
            <p:nvPr/>
          </p:nvSpPr>
          <p:spPr>
            <a:xfrm flipH="1">
              <a:off x="6084360" y="4407120"/>
              <a:ext cx="1800" cy="1071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635280" y="404640"/>
            <a:ext cx="5329440" cy="2455560"/>
            <a:chOff x="3635280" y="404640"/>
            <a:chExt cx="5329440" cy="2455560"/>
          </a:xfrm>
        </p:grpSpPr>
        <p:grpSp>
          <p:nvGrpSpPr>
            <p:cNvPr id="952" name=""/>
            <p:cNvGrpSpPr/>
            <p:nvPr/>
          </p:nvGrpSpPr>
          <p:grpSpPr>
            <a:xfrm>
              <a:off x="3635280" y="404640"/>
              <a:ext cx="714600" cy="1643400"/>
              <a:chOff x="3635280" y="404640"/>
              <a:chExt cx="714600" cy="1643400"/>
            </a:xfrm>
          </p:grpSpPr>
          <p:pic>
            <p:nvPicPr>
              <p:cNvPr id="953" name="矩形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5280" y="404640"/>
                <a:ext cx="651600" cy="158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8280" y="462960"/>
                <a:ext cx="651600" cy="158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5" name="矩形 42"/>
            <p:cNvSpPr/>
            <p:nvPr/>
          </p:nvSpPr>
          <p:spPr>
            <a:xfrm>
              <a:off x="4140360" y="1052640"/>
              <a:ext cx="431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向质量要效益！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2006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日财政部第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4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号令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企业财务通则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要求企业“推行质量成本控制办法”，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2007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日起施行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8250120" y="1196640"/>
              <a:ext cx="714600" cy="1663560"/>
              <a:chOff x="8250120" y="1196640"/>
              <a:chExt cx="714600" cy="1663560"/>
            </a:xfrm>
          </p:grpSpPr>
          <p:pic>
            <p:nvPicPr>
              <p:cNvPr id="957" name="矩形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8250120" y="1270440"/>
                <a:ext cx="651240" cy="158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8313480" y="1196640"/>
                <a:ext cx="651240" cy="158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6666ff"/>
                </a:solidFill>
                <a:latin typeface="Calibri"/>
              </a:rPr>
              <a:t>质量</a:t>
            </a:r>
            <a:r>
              <a:rPr b="1" lang="ja-JP" sz="2400" spc="-1" strike="noStrike">
                <a:solidFill>
                  <a:srgbClr val="6666ff"/>
                </a:solidFill>
                <a:latin typeface="Calibri"/>
              </a:rPr>
              <a:t>成本</a:t>
            </a:r>
            <a:r>
              <a:rPr b="1" lang="zh-CN" sz="2400" spc="-1" strike="noStrike">
                <a:solidFill>
                  <a:srgbClr val="6666ff"/>
                </a:solidFill>
                <a:latin typeface="Calibri"/>
              </a:rPr>
              <a:t>核算的费用分摊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277920" y="1300320"/>
            <a:ext cx="93549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计科目设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鉴定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内部故障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常账务处理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：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：库存现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存款     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末结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：制造费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                 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：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"/>
          <p:cNvSpPr/>
          <p:nvPr/>
        </p:nvSpPr>
        <p:spPr>
          <a:xfrm>
            <a:off x="4788000" y="1484280"/>
            <a:ext cx="398304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35" y="22922"/>
                </a:moveTo>
                <a:lnTo>
                  <a:pt x="-447" y="6348"/>
                </a:lnTo>
              </a:path>
              <a:path w="21600" h="21600">
                <a:moveTo>
                  <a:pt x="-447" y="0"/>
                </a:moveTo>
                <a:lnTo>
                  <a:pt x="-447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质量计划编制费、质量管理培训教育费、质量计划编制费、质量管理培训教育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/>
          <p:nvPr/>
        </p:nvSpPr>
        <p:spPr>
          <a:xfrm>
            <a:off x="4788000" y="1989000"/>
            <a:ext cx="396216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41" y="11285"/>
                </a:moveTo>
                <a:lnTo>
                  <a:pt x="-450" y="6348"/>
                </a:lnTo>
              </a:path>
              <a:path w="21600" h="21600">
                <a:moveTo>
                  <a:pt x="-450" y="0"/>
                </a:moveTo>
                <a:lnTo>
                  <a:pt x="-450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产品评审费、鉴定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/>
          <p:nvPr/>
        </p:nvSpPr>
        <p:spPr>
          <a:xfrm>
            <a:off x="5364000" y="2492280"/>
            <a:ext cx="334656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53" y="11285"/>
                </a:moveTo>
                <a:lnTo>
                  <a:pt x="-533" y="6348"/>
                </a:lnTo>
              </a:path>
              <a:path w="21600" h="21600">
                <a:moveTo>
                  <a:pt x="-533" y="0"/>
                </a:moveTo>
                <a:lnTo>
                  <a:pt x="-533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报废损失、返工返修、停工损失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/>
          <p:nvPr/>
        </p:nvSpPr>
        <p:spPr>
          <a:xfrm>
            <a:off x="5292720" y="2997360"/>
            <a:ext cx="334476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64" y="4408"/>
                </a:moveTo>
                <a:lnTo>
                  <a:pt x="-533" y="6348"/>
                </a:lnTo>
              </a:path>
              <a:path w="21600" h="21600">
                <a:moveTo>
                  <a:pt x="-533" y="0"/>
                </a:moveTo>
                <a:lnTo>
                  <a:pt x="-533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投诉费、产品售后服务及保修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/>
          <p:nvPr/>
        </p:nvSpPr>
        <p:spPr>
          <a:xfrm>
            <a:off x="5076720" y="5373720"/>
            <a:ext cx="360864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05" y="26361"/>
                </a:moveTo>
                <a:lnTo>
                  <a:pt x="-494" y="6348"/>
                </a:lnTo>
              </a:path>
              <a:path w="21600" h="21600">
                <a:moveTo>
                  <a:pt x="-494" y="0"/>
                </a:moveTo>
                <a:lnTo>
                  <a:pt x="-494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报废损失、修理费、差旅费、办公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50"/>
          <p:cNvSpPr/>
          <p:nvPr/>
        </p:nvSpPr>
        <p:spPr>
          <a:xfrm flipH="1">
            <a:off x="324000" y="3471840"/>
            <a:ext cx="8604000" cy="28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直接连接符 50"/>
          <p:cNvSpPr/>
          <p:nvPr/>
        </p:nvSpPr>
        <p:spPr>
          <a:xfrm flipH="1">
            <a:off x="324000" y="5056200"/>
            <a:ext cx="8604000" cy="28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标题 1"/>
          <p:cNvSpPr/>
          <p:nvPr/>
        </p:nvSpPr>
        <p:spPr>
          <a:xfrm>
            <a:off x="8794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468360" y="-100080"/>
            <a:ext cx="4424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本控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34200" y="1773360"/>
            <a:ext cx="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做到成本最低，就不能做到价格最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做到价格最低，就不能做到全球最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029360" y="4000680"/>
            <a:ext cx="2114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未知"/>
          <p:cNvSpPr/>
          <p:nvPr/>
        </p:nvSpPr>
        <p:spPr>
          <a:xfrm>
            <a:off x="785880" y="2055960"/>
            <a:ext cx="3892320" cy="191268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未知"/>
          <p:cNvSpPr/>
          <p:nvPr/>
        </p:nvSpPr>
        <p:spPr>
          <a:xfrm flipV="1">
            <a:off x="785880" y="4087800"/>
            <a:ext cx="3892320" cy="191304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未知"/>
          <p:cNvSpPr/>
          <p:nvPr/>
        </p:nvSpPr>
        <p:spPr>
          <a:xfrm flipH="1">
            <a:off x="4782240" y="2055960"/>
            <a:ext cx="3892680" cy="191268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未知"/>
          <p:cNvSpPr/>
          <p:nvPr/>
        </p:nvSpPr>
        <p:spPr>
          <a:xfrm flipH="1" flipV="1">
            <a:off x="4782240" y="4087800"/>
            <a:ext cx="3892680" cy="191304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/>
          <p:nvPr/>
        </p:nvSpPr>
        <p:spPr>
          <a:xfrm>
            <a:off x="3870360" y="3108240"/>
            <a:ext cx="1700280" cy="1841760"/>
          </a:xfrm>
          <a:prstGeom prst="ellipse">
            <a:avLst/>
          </a:prstGeom>
          <a:solidFill>
            <a:srgbClr val="b3b3ff"/>
          </a:solidFill>
          <a:ln w="0">
            <a:noFill/>
          </a:ln>
          <a:effectLst>
            <a:outerShdw dist="17819" dir="2700000" blurRad="0" rotWithShape="0">
              <a:srgbClr val="6a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标题 1"/>
          <p:cNvSpPr/>
          <p:nvPr/>
        </p:nvSpPr>
        <p:spPr>
          <a:xfrm>
            <a:off x="879480" y="3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/>
          <p:nvPr/>
        </p:nvSpPr>
        <p:spPr>
          <a:xfrm>
            <a:off x="4230720" y="369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策  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1600200" y="2611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树立质量成本导向的思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"/>
          <p:cNvSpPr/>
          <p:nvPr/>
        </p:nvSpPr>
        <p:spPr>
          <a:xfrm>
            <a:off x="6023520" y="26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质量成本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/>
          <p:nvPr/>
        </p:nvSpPr>
        <p:spPr>
          <a:xfrm>
            <a:off x="1528560" y="4797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产品的设计质量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"/>
          <p:cNvSpPr/>
          <p:nvPr/>
        </p:nvSpPr>
        <p:spPr>
          <a:xfrm>
            <a:off x="5851440" y="4797360"/>
            <a:ext cx="200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产品使用寿命周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最佳质量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省下的成本就等于是公司的利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产品应该物美价廉，物美需要提高产品质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物美不一定非要提高成本，降低成本照样可以达到物美：技术与经济相结合、质量与成本相结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标题 1"/>
          <p:cNvSpPr/>
          <p:nvPr/>
        </p:nvSpPr>
        <p:spPr>
          <a:xfrm>
            <a:off x="879480" y="25884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116000" y="2708280"/>
            <a:ext cx="647640" cy="453960"/>
            <a:chOff x="1116000" y="2708280"/>
            <a:chExt cx="647640" cy="453960"/>
          </a:xfrm>
        </p:grpSpPr>
        <p:sp>
          <p:nvSpPr>
            <p:cNvPr id="984" name="AutoShape 129"/>
            <p:cNvSpPr/>
            <p:nvPr/>
          </p:nvSpPr>
          <p:spPr>
            <a:xfrm>
              <a:off x="1403280" y="28512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AutoShape 130"/>
            <p:cNvSpPr/>
            <p:nvPr/>
          </p:nvSpPr>
          <p:spPr>
            <a:xfrm>
              <a:off x="1116000" y="2708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042920" y="3933720"/>
            <a:ext cx="647640" cy="453960"/>
            <a:chOff x="1042920" y="3933720"/>
            <a:chExt cx="647640" cy="453960"/>
          </a:xfrm>
        </p:grpSpPr>
        <p:sp>
          <p:nvSpPr>
            <p:cNvPr id="987" name="AutoShape 129"/>
            <p:cNvSpPr/>
            <p:nvPr/>
          </p:nvSpPr>
          <p:spPr>
            <a:xfrm>
              <a:off x="1330200" y="40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cc99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AutoShape 130"/>
            <p:cNvSpPr/>
            <p:nvPr/>
          </p:nvSpPr>
          <p:spPr>
            <a:xfrm>
              <a:off x="1042920" y="39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99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240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12"/>
          <p:cNvSpPr/>
          <p:nvPr/>
        </p:nvSpPr>
        <p:spPr>
          <a:xfrm>
            <a:off x="0" y="3141720"/>
            <a:ext cx="6372360" cy="349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6443640" y="2709720"/>
            <a:ext cx="291960" cy="503280"/>
            <a:chOff x="6443640" y="2709720"/>
            <a:chExt cx="291960" cy="503280"/>
          </a:xfrm>
        </p:grpSpPr>
        <p:sp>
          <p:nvSpPr>
            <p:cNvPr id="993" name="直接连接符 9"/>
            <p:cNvSpPr/>
            <p:nvPr/>
          </p:nvSpPr>
          <p:spPr>
            <a:xfrm>
              <a:off x="6735600" y="2709720"/>
              <a:ext cx="0" cy="50328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直接连接符 10"/>
            <p:cNvSpPr/>
            <p:nvPr/>
          </p:nvSpPr>
          <p:spPr>
            <a:xfrm>
              <a:off x="6582600" y="2853360"/>
              <a:ext cx="0" cy="3596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直接连接符 11"/>
            <p:cNvSpPr/>
            <p:nvPr/>
          </p:nvSpPr>
          <p:spPr>
            <a:xfrm>
              <a:off x="6443640" y="3033360"/>
              <a:ext cx="0" cy="1796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997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000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001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005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007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009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010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011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012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013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014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015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016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7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8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9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0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1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2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3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4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5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6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7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8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9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0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1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2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3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4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5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6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7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8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9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0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1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2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3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4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5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6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7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8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9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0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1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2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3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4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5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6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7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8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9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0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1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2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3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4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5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6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67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68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69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1070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1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72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073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077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080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083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087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2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"/>
          <p:cNvSpPr/>
          <p:nvPr/>
        </p:nvSpPr>
        <p:spPr>
          <a:xfrm>
            <a:off x="584280" y="2276640"/>
            <a:ext cx="694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66ff"/>
                </a:solidFill>
                <a:latin typeface="华文新魏"/>
                <a:ea typeface="华文新魏"/>
              </a:rPr>
              <a:t>    </a:t>
            </a:r>
            <a:r>
              <a:rPr b="0" lang="zh-CN" sz="6000" spc="-1" strike="noStrike">
                <a:solidFill>
                  <a:srgbClr val="6666ff"/>
                </a:solidFill>
                <a:latin typeface="华文新魏"/>
                <a:ea typeface="华文新魏"/>
              </a:rPr>
              <a:t>祝您工作顺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5" name="Picture 5" descr="未标题-2"/>
          <p:cNvPicPr/>
          <p:nvPr/>
        </p:nvPicPr>
        <p:blipFill>
          <a:blip r:embed="rId1"/>
          <a:stretch/>
        </p:blipFill>
        <p:spPr>
          <a:xfrm>
            <a:off x="5904000" y="3716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成本知识对接与概念回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03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（一）经济学上的成本表述及其分类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经济学上，成本是指特定主体为了达成特定目的所作出的</a:t>
              </a:r>
              <a:r>
                <a:rPr b="0" lang="zh-CN" sz="2400" spc="-1" strike="noStrike">
                  <a:solidFill>
                    <a:srgbClr val="9900ff"/>
                  </a:solidFill>
                  <a:latin typeface="微软雅黑"/>
                  <a:ea typeface="微软雅黑"/>
                </a:rPr>
                <a:t>牺牲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的经济主体，使用不同的成本命题。人力成本、财务成本、物质成本、技术成本、信息成本、知识成本等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的管理目的，需要不同成本命题。 质量成本、标准成本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07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（二）会计学上的成本表述及其分类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成本：产品成本是以销售为目的而购入或制造产品的相关成本。包括直接材料、直接人工和制造费用，简称“料工费”。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期间费用（成本）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期间费用是与特定期间相联系，在一定期间内与产品生产数量没有直接联系，其发生额在损益表中摊销，而不必追溯到特定产品上的成本。包括管理费用、销售费用和财务费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11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（三）</a:t>
              </a:r>
              <a:r>
                <a:rPr b="1" lang="zh-CN" sz="2400" spc="-1" strike="noStrike">
                  <a:solidFill>
                    <a:srgbClr val="ff9933"/>
                  </a:solidFill>
                  <a:latin typeface="Arial"/>
                  <a:ea typeface="微软雅黑"/>
                </a:rPr>
                <a:t>会计上的成本流动与财务报表的关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880" y="1914480"/>
            <a:ext cx="8458200" cy="3962520"/>
            <a:chOff x="380880" y="1914480"/>
            <a:chExt cx="8458200" cy="3962520"/>
          </a:xfrm>
        </p:grpSpPr>
        <p:sp>
          <p:nvSpPr>
            <p:cNvPr id="215" name=""/>
            <p:cNvSpPr/>
            <p:nvPr/>
          </p:nvSpPr>
          <p:spPr>
            <a:xfrm>
              <a:off x="4343400" y="221940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接材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400" y="282888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接工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343836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制造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2676600"/>
              <a:ext cx="838440" cy="2361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成本费用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9320" y="389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2448000"/>
              <a:ext cx="457200" cy="121896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52680" y="3057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1914480"/>
              <a:ext cx="1219320" cy="7621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资产负债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2676600"/>
              <a:ext cx="1447920" cy="609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生产成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0200" y="2828880"/>
              <a:ext cx="457200" cy="20574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19720" y="420048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营业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80996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管理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720" y="541980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财务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4429080"/>
              <a:ext cx="457200" cy="121932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5038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4657680"/>
              <a:ext cx="1447920" cy="609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期间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20667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存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1320" y="2219400"/>
              <a:ext cx="228600" cy="144756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60120 h 1447560"/>
                <a:gd name="textAreaBottom" fmla="*/ 13874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22953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19920" y="3438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800" y="32860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销售成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0120" y="4962600"/>
              <a:ext cx="1218960" cy="761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现金流量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480" y="4962600"/>
              <a:ext cx="1067040" cy="761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利润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4352760"/>
              <a:ext cx="228600" cy="144792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60120 h 1447920"/>
                <a:gd name="textAreaBottom" fmla="*/ 138780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5343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5200" y="5267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38955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3280" y="26002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244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-2736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248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265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26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27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27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27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7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7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28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3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3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3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3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3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33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37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33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34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34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34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111600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1" name="直接箭头连接符 3"/>
          <p:cNvCxnSpPr/>
          <p:nvPr/>
        </p:nvCxnSpPr>
        <p:spPr>
          <a:xfrm>
            <a:off x="755280" y="3615840"/>
            <a:ext cx="7201800" cy="1080"/>
          </a:xfrm>
          <a:prstGeom prst="straightConnector1">
            <a:avLst/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62" name="直接连接符 6"/>
          <p:cNvSpPr/>
          <p:nvPr/>
        </p:nvSpPr>
        <p:spPr>
          <a:xfrm>
            <a:off x="1776240" y="159552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2"/>
          <p:cNvSpPr/>
          <p:nvPr/>
        </p:nvSpPr>
        <p:spPr>
          <a:xfrm>
            <a:off x="1874880" y="119700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  <a:ea typeface="楷体_GB2312"/>
              </a:rPr>
              <a:t>在广东创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流程图: 联系 31"/>
          <p:cNvSpPr/>
          <p:nvPr/>
        </p:nvSpPr>
        <p:spPr>
          <a:xfrm>
            <a:off x="1692360" y="1413000"/>
            <a:ext cx="16812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4"/>
          <p:cNvSpPr/>
          <p:nvPr/>
        </p:nvSpPr>
        <p:spPr>
          <a:xfrm>
            <a:off x="2771640" y="2176560"/>
            <a:ext cx="0" cy="1671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2811600" y="1628640"/>
            <a:ext cx="55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攻下上海市场，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月“爱多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VCD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，好功夫”的广告走进央视，花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8200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万元争得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秒钟的播放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流程图: 联系 36"/>
          <p:cNvSpPr/>
          <p:nvPr/>
        </p:nvSpPr>
        <p:spPr>
          <a:xfrm>
            <a:off x="2700360" y="1989000"/>
            <a:ext cx="168120" cy="169920"/>
          </a:xfrm>
          <a:prstGeom prst="flowChartConnector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7"/>
          <p:cNvSpPr/>
          <p:nvPr/>
        </p:nvSpPr>
        <p:spPr>
          <a:xfrm>
            <a:off x="212400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8"/>
          <p:cNvSpPr/>
          <p:nvPr/>
        </p:nvSpPr>
        <p:spPr>
          <a:xfrm>
            <a:off x="378000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3852720" y="234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销售额从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亿骤增到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亿，年底荷兰飞利浦公司以“私人飞机加红地毯”的规格接待了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流程图: 联系 40"/>
          <p:cNvSpPr/>
          <p:nvPr/>
        </p:nvSpPr>
        <p:spPr>
          <a:xfrm>
            <a:off x="3708360" y="2467080"/>
            <a:ext cx="169920" cy="169920"/>
          </a:xfrm>
          <a:prstGeom prst="flowChartConnector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1"/>
          <p:cNvSpPr/>
          <p:nvPr/>
        </p:nvSpPr>
        <p:spPr>
          <a:xfrm>
            <a:off x="3154320" y="356220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0"/>
          <p:cNvSpPr/>
          <p:nvPr/>
        </p:nvSpPr>
        <p:spPr>
          <a:xfrm>
            <a:off x="1258920" y="4290840"/>
            <a:ext cx="394020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为打垮新科推出“买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1000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送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700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礼品”半年耗掉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1.5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亿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60"/>
          <p:cNvSpPr/>
          <p:nvPr/>
        </p:nvSpPr>
        <p:spPr>
          <a:xfrm>
            <a:off x="507672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流程图: 联系 62"/>
          <p:cNvSpPr/>
          <p:nvPr/>
        </p:nvSpPr>
        <p:spPr>
          <a:xfrm>
            <a:off x="5003640" y="4619520"/>
            <a:ext cx="169920" cy="169920"/>
          </a:xfrm>
          <a:prstGeom prst="flowChartConnector">
            <a:avLst/>
          </a:prstGeom>
          <a:solidFill>
            <a:srgbClr val="339966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63"/>
          <p:cNvSpPr/>
          <p:nvPr/>
        </p:nvSpPr>
        <p:spPr>
          <a:xfrm>
            <a:off x="4427640" y="328464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66"/>
          <p:cNvSpPr/>
          <p:nvPr/>
        </p:nvSpPr>
        <p:spPr>
          <a:xfrm>
            <a:off x="615636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67"/>
          <p:cNvSpPr/>
          <p:nvPr/>
        </p:nvSpPr>
        <p:spPr>
          <a:xfrm>
            <a:off x="900000" y="4929120"/>
            <a:ext cx="5186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高调举行豪华婚礼，同年占有</a:t>
            </a:r>
            <a:r>
              <a:rPr b="1" lang="en-US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45%</a:t>
            </a:r>
            <a:r>
              <a:rPr b="1" lang="zh-CN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股份的合伙人陈天南要求退股，霎时供销商、传媒一起发难，爱多没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流程图: 联系 68"/>
          <p:cNvSpPr/>
          <p:nvPr/>
        </p:nvSpPr>
        <p:spPr>
          <a:xfrm>
            <a:off x="6084720" y="5065560"/>
            <a:ext cx="169920" cy="169920"/>
          </a:xfrm>
          <a:prstGeom prst="flowChartConnector">
            <a:avLst/>
          </a:prstGeom>
          <a:solidFill>
            <a:srgbClr val="cc99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69"/>
          <p:cNvSpPr/>
          <p:nvPr/>
        </p:nvSpPr>
        <p:spPr>
          <a:xfrm>
            <a:off x="5492880" y="3284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70"/>
          <p:cNvSpPr/>
          <p:nvPr/>
        </p:nvSpPr>
        <p:spPr>
          <a:xfrm>
            <a:off x="6608880" y="3284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72"/>
          <p:cNvSpPr/>
          <p:nvPr/>
        </p:nvSpPr>
        <p:spPr>
          <a:xfrm>
            <a:off x="3348000" y="5734080"/>
            <a:ext cx="40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心想成为中国的松下的青年才俊胡志标被判入狱</a:t>
            </a:r>
            <a:r>
              <a:rPr b="1" lang="en-US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，泪撒爱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73"/>
          <p:cNvSpPr/>
          <p:nvPr/>
        </p:nvSpPr>
        <p:spPr>
          <a:xfrm>
            <a:off x="730872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流程图: 联系 96"/>
          <p:cNvSpPr/>
          <p:nvPr/>
        </p:nvSpPr>
        <p:spPr>
          <a:xfrm>
            <a:off x="7236000" y="5572080"/>
            <a:ext cx="169560" cy="169920"/>
          </a:xfrm>
          <a:prstGeom prst="flowChartConnector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篇案例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一掷千金”忽视成本控制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雨爱多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圆角矩形 16"/>
          <p:cNvSpPr/>
          <p:nvPr/>
        </p:nvSpPr>
        <p:spPr>
          <a:xfrm>
            <a:off x="395280" y="2205000"/>
            <a:ext cx="82803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3000"/>
            </a:srgbClr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败的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689040" y="2362320"/>
            <a:ext cx="22921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战略上的失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3424320" y="2362320"/>
            <a:ext cx="22939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采购系统混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6161040" y="2362320"/>
            <a:ext cx="22924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成本控制观念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投得第二次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，“阳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划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价”“阳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划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材料囤积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购行为非常随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既无经济批量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购料需求计划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多的零部件组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费、回扣现象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误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58920" y="1557360"/>
            <a:ext cx="6400800" cy="772920"/>
            <a:chOff x="1258920" y="1557360"/>
            <a:chExt cx="6400800" cy="772920"/>
          </a:xfrm>
        </p:grpSpPr>
        <p:sp>
          <p:nvSpPr>
            <p:cNvPr id="398" name="TextBox 25"/>
            <p:cNvSpPr/>
            <p:nvPr/>
          </p:nvSpPr>
          <p:spPr>
            <a:xfrm>
              <a:off x="1470600" y="1724760"/>
              <a:ext cx="61891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强化成本意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14"/>
            <p:cNvSpPr/>
            <p:nvPr/>
          </p:nvSpPr>
          <p:spPr>
            <a:xfrm>
              <a:off x="125892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62160" y="2565360"/>
            <a:ext cx="6421320" cy="811080"/>
            <a:chOff x="1262160" y="2565360"/>
            <a:chExt cx="6421320" cy="811080"/>
          </a:xfrm>
        </p:grpSpPr>
        <p:sp>
          <p:nvSpPr>
            <p:cNvPr id="401" name="TextBox 29"/>
            <p:cNvSpPr/>
            <p:nvPr/>
          </p:nvSpPr>
          <p:spPr>
            <a:xfrm>
              <a:off x="1496160" y="277092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明确成本控制目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5"/>
            <p:cNvSpPr/>
            <p:nvPr/>
          </p:nvSpPr>
          <p:spPr>
            <a:xfrm>
              <a:off x="1262160" y="2565360"/>
              <a:ext cx="501840" cy="50220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58920" y="3645000"/>
            <a:ext cx="6424560" cy="792000"/>
            <a:chOff x="1258920" y="3645000"/>
            <a:chExt cx="6424560" cy="792000"/>
          </a:xfrm>
        </p:grpSpPr>
        <p:sp>
          <p:nvSpPr>
            <p:cNvPr id="404" name="TextBox 31"/>
            <p:cNvSpPr/>
            <p:nvPr/>
          </p:nvSpPr>
          <p:spPr>
            <a:xfrm>
              <a:off x="1495080" y="3831480"/>
              <a:ext cx="618840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实施重点控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18"/>
            <p:cNvSpPr/>
            <p:nvPr/>
          </p:nvSpPr>
          <p:spPr>
            <a:xfrm>
              <a:off x="1258920" y="3645000"/>
              <a:ext cx="52416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58920" y="4724280"/>
            <a:ext cx="6424560" cy="792360"/>
            <a:chOff x="1258920" y="4724280"/>
            <a:chExt cx="6424560" cy="792360"/>
          </a:xfrm>
        </p:grpSpPr>
        <p:sp>
          <p:nvSpPr>
            <p:cNvPr id="407" name="TextBox 34"/>
            <p:cNvSpPr/>
            <p:nvPr/>
          </p:nvSpPr>
          <p:spPr>
            <a:xfrm>
              <a:off x="1495080" y="4910760"/>
              <a:ext cx="618840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成本控制创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椭圆 35"/>
            <p:cNvSpPr/>
            <p:nvPr/>
          </p:nvSpPr>
          <p:spPr>
            <a:xfrm>
              <a:off x="1258920" y="4724280"/>
              <a:ext cx="524160" cy="524520"/>
            </a:xfrm>
            <a:prstGeom prst="ellipse">
              <a:avLst/>
            </a:prstGeom>
            <a:solidFill>
              <a:srgbClr val="d99694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410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414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1" action="ppaction://hlinksldjump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431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432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4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436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440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443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4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5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446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447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48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49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0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1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2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3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4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5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6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7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8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9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0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1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2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3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4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5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6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7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8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9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0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1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2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3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4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5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6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7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8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9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0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1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2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3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4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5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6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7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8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9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0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1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2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3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4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5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6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7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8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9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0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501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02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504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508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511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514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518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1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圆角矩形 16"/>
          <p:cNvSpPr/>
          <p:nvPr/>
        </p:nvSpPr>
        <p:spPr>
          <a:xfrm>
            <a:off x="395280" y="1413000"/>
            <a:ext cx="8280360" cy="4895640"/>
          </a:xfrm>
          <a:prstGeom prst="roundRect">
            <a:avLst>
              <a:gd name="adj" fmla="val 4116"/>
            </a:avLst>
          </a:prstGeom>
          <a:solidFill>
            <a:srgbClr val="f2f2f2">
              <a:alpha val="33000"/>
            </a:srgbClr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现代成本费用控制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1195560" y="1773360"/>
            <a:ext cx="337644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全过程成本费用控制理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5025960" y="1773360"/>
            <a:ext cx="336240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建立全员成本费用控制理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700200" y="2565360"/>
            <a:ext cx="3727440" cy="352764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上游成本控制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发与设计阶段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价值工程和质量成本控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经营成本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、工、费消耗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定额预算和作业成本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下游成本控制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销售和客户的服务成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理财目标控制销售和管理费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4716360" y="2565360"/>
            <a:ext cx="3743280" cy="345600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本费用控制需要建立责任中心，指标分解，全员参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案例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戴尔要求每个员工有这样的观念：控制费用和控制质量一样，从商业活动的最上游开始并贯穿整个过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美菱模式“人人参与”成本，个个追求效益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3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/>
  <dc:description/>
  <cp:keywords/>
  <dc:language>en-US</dc:language>
  <cp:lastModifiedBy>User</cp:lastModifiedBy>
  <dcterms:modified xsi:type="dcterms:W3CDTF">2013-11-22T04:50:39Z</dcterms:modified>
  <cp:revision>7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