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5FC-A7A0-4F23-9045-C4277BF0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FF6-980C-4142-B256-163CC0D6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5CB-D413-4CB0-B09F-DF1C723B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088-27C7-41F8-A63B-64DF6599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A66D-D8F8-452A-82F6-9823F13C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2B9B-6232-4FC7-B2C4-C80C3054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B04E-20FC-4931-9D52-8C751A48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1B38-0212-446C-AF42-225F9B99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7392-55CD-45F9-98F9-27F953E3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6E58-FF24-4CF8-AC05-AAC2B471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EA85-880E-484A-BCCD-7B74C09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0D4-00CD-4F62-AA69-6AA9D43D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B747-AEEE-4920-9F5C-F24E3C53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DC99-222E-4FAB-BFEA-F1F5795D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B23B-7A4E-4EEE-812E-07FAE656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2D83-33C6-4045-BCE5-52C22FC5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3025-A285-4CD1-976C-3C0DEFF7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038-A062-46BE-89C4-44AC3197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CE3-9387-48DA-B43F-240FC10B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7BA-B5C8-492B-AB9E-ABD8DAB1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6F0-B0AB-4071-845E-943B5F4C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039-8EF9-4074-9C62-BA2CA20B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554-7F1F-4487-8F3A-4FE0C30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A7D-EDBC-4E63-803F-5BB1BD41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AAD-964C-41E3-AF5F-93848AFBEA1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B149-30C9-44C8-B39D-4A310B02BD0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常州市中小企业会计从业人员素能提升公益专题培训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997360"/>
            <a:ext cx="755964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容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财务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讲人         吕华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责部门       常州开大财经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.11.2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四、成长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1900080"/>
            <a:ext cx="835344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常州市中小企业会计从业人员素能提升公益专题培训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财  务  分  析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565360"/>
            <a:ext cx="7559640" cy="52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感谢您们的聆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希望您们的建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期待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您们的再次光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州开大财经学院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常州市中小企业会计从业人员素能提升公益专题培训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---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财  务  分  析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2205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421000"/>
            <a:ext cx="755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一、偿债能力的简要计算和简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二、获利能力的简要计算和简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三、营运能力的简要计算和简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四、成长能力的简要计算和简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一、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偿债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631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一、偿债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425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二、获利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0643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二、获利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133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407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三、营运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2852640"/>
            <a:ext cx="741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根据以上两表资料思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可否通过计算存货周转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和应收账款周转次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指标简要分析公司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运能力的变化，如果可以请大家尝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三、营运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116080"/>
            <a:ext cx="91440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四、成长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2276640"/>
            <a:ext cx="785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根据以上两表资料思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可否通过计算相应指标简要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析公司成长能力的变化，如果可以请大家尝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28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4:09:01Z</dcterms:created>
  <dc:creator>lenovo</dc:creator>
  <dc:description/>
  <dc:language>en-US</dc:language>
  <cp:lastModifiedBy>猪猪猫.CN</cp:lastModifiedBy>
  <dcterms:modified xsi:type="dcterms:W3CDTF">2013-11-22T05:23:33Z</dcterms:modified>
  <cp:revision>29</cp:revision>
  <dc:subject/>
  <dc:title>财务管理</dc:title>
</cp:coreProperties>
</file>