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5B62-1A97-42C7-B19F-782139CD6C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9279-4690-46C4-A979-303AB3EB813A}" type="slidenum">
              <a:rPr b="0" lang="zh-CN" sz="12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01B-AE25-432A-A783-BA2EFCB6D02C}" type="slidenum">
              <a:rPr b="0" lang="zh-CN" sz="12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AFB0-772E-4739-BC7D-8A7F0BA14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7495-EEAF-44DB-BD08-2B91B7F5D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8861-7E8B-4DB1-8186-F0CB709E8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AD94-5D3B-4E34-9C2A-DA17440A2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BB4F-4E43-4429-9FC5-4A1FD77B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34684-793C-4472-BF85-8BE1596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062F2-D990-40B6-9E25-F4D26481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74DD-EA95-46D4-ADD7-7977B5C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983F8-A224-49CF-BBF0-0A785CC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FA30B-732D-4E77-B5BF-54AB8F0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226B4-AF35-4281-BC8D-C4CA559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E0EF-4A56-49F7-881F-A21765B60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CCC4-C0D9-4561-91D2-A4A7FFB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41F50-BB63-4F0C-B452-8D71594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D3BC-7FE5-4A99-9249-502A89E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F487E-2BD3-47C2-8B44-0E5C15D5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F2DD9-B82C-453F-A79E-91B72032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2176-9C37-4907-AE86-155E3CCB9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890B-6FC7-4C27-B0F1-4657BB7FE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EE53-E8EF-4DF0-8844-2CD220C59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E902-2552-4A73-90A6-14D395FD7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6126-E4A8-4C8F-A5D6-3C484648D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4A07-3614-4FD3-912D-18FCF9BC9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3FA3-FB22-44FC-B230-53CA90082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693-8A22-4F66-AB7E-32E6CCC298F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D13B-EFC6-41B7-A0F4-1E9B69D8EEE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23920" y="407664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隶书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隶书"/>
                <a:ea typeface="隶书"/>
              </a:rPr>
              <a:t>财务预算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5280" y="3047760"/>
            <a:ext cx="8640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中小企业会计从业人员素能提升专题培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副标题 2"/>
          <p:cNvSpPr/>
          <p:nvPr/>
        </p:nvSpPr>
        <p:spPr>
          <a:xfrm>
            <a:off x="2382840" y="5141880"/>
            <a:ext cx="5181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常月琴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2013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年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11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月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22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宋体"/>
                <a:ea typeface="华文宋体"/>
              </a:rPr>
              <a:t>     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如果该公司单位产品材料用量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4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千克，每千克单价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1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元，各季末材料存货量为下一季度生产需要量的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20%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，年初预计材料存货量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84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千克，年末预计材料存货量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92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千克，各季度购材料款当季支付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40%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，下季度偿还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60%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，应付账款年初余额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1200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元。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华文宋体"/>
                <a:ea typeface="华文宋体"/>
              </a:rPr>
              <a:t>直接材料预算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3141720"/>
          <a:ext cx="8064360" cy="3290760"/>
        </p:xfrm>
        <a:graphic>
          <a:graphicData uri="http://schemas.openxmlformats.org/drawingml/2006/table">
            <a:tbl>
              <a:tblPr/>
              <a:tblGrid>
                <a:gridCol w="1871640"/>
                <a:gridCol w="1296720"/>
                <a:gridCol w="1224000"/>
                <a:gridCol w="1224000"/>
                <a:gridCol w="1224000"/>
                <a:gridCol w="1224000"/>
              </a:tblGrid>
              <a:tr h="3661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全  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生产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产品耗用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材料耗用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加：期末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3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9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9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减：期初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3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采购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3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80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材料单价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采购金额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3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80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</a:tbl>
          </a:graphicData>
        </a:graphic>
      </p:graphicFrame>
      <p:cxnSp>
        <p:nvCxnSpPr>
          <p:cNvPr id="129" name="直接箭头连接符 5"/>
          <p:cNvCxnSpPr/>
          <p:nvPr/>
        </p:nvCxnSpPr>
        <p:spPr>
          <a:xfrm flipH="1">
            <a:off x="3780000" y="4436640"/>
            <a:ext cx="576360" cy="3610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30" name="直接箭头连接符 8"/>
          <p:cNvCxnSpPr/>
          <p:nvPr/>
        </p:nvCxnSpPr>
        <p:spPr>
          <a:xfrm flipH="1">
            <a:off x="5002920" y="4409640"/>
            <a:ext cx="577080" cy="359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31" name="直接箭头连接符 9"/>
          <p:cNvCxnSpPr/>
          <p:nvPr/>
        </p:nvCxnSpPr>
        <p:spPr>
          <a:xfrm flipH="1">
            <a:off x="6226920" y="4436640"/>
            <a:ext cx="577080" cy="3610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32" name="直接箭头连接符 7"/>
          <p:cNvCxnSpPr/>
          <p:nvPr/>
        </p:nvCxnSpPr>
        <p:spPr>
          <a:xfrm>
            <a:off x="3831840" y="4836600"/>
            <a:ext cx="57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直接箭头连接符 12"/>
          <p:cNvCxnSpPr/>
          <p:nvPr/>
        </p:nvCxnSpPr>
        <p:spPr>
          <a:xfrm>
            <a:off x="5003280" y="4838400"/>
            <a:ext cx="57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直接箭头连接符 13"/>
          <p:cNvCxnSpPr/>
          <p:nvPr/>
        </p:nvCxnSpPr>
        <p:spPr>
          <a:xfrm>
            <a:off x="6318360" y="4843080"/>
            <a:ext cx="576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26792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预计材料采购现金支出表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916280"/>
          <a:ext cx="8064360" cy="4070160"/>
        </p:xfrm>
        <a:graphic>
          <a:graphicData uri="http://schemas.openxmlformats.org/drawingml/2006/table">
            <a:tbl>
              <a:tblPr/>
              <a:tblGrid>
                <a:gridCol w="1847880"/>
                <a:gridCol w="1255680"/>
                <a:gridCol w="1288800"/>
                <a:gridCol w="1192320"/>
                <a:gridCol w="1255680"/>
                <a:gridCol w="1224000"/>
              </a:tblGrid>
              <a:tr h="58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初应付账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240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240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9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8800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现金支出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74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该公司在预算期内所需要的人工只有一个工种，单位产品需要用工时为</a:t>
            </a:r>
            <a:r>
              <a:rPr b="1" lang="en-US" sz="2400" spc="-1" strike="noStrike">
                <a:solidFill>
                  <a:srgbClr val="003366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小时，每小时人工成本为</a:t>
            </a:r>
            <a:r>
              <a:rPr b="1" lang="en-US" sz="2400" spc="-1" strike="noStrike">
                <a:solidFill>
                  <a:srgbClr val="00336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元。假定每季度需用的直接人工小时可以按当季预计产品生产量计算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                             </a:t>
            </a:r>
            <a:r>
              <a:rPr b="1" lang="zh-CN" sz="2400" spc="-1" strike="noStrike">
                <a:solidFill>
                  <a:srgbClr val="f14f3d"/>
                </a:solidFill>
                <a:latin typeface="华文中宋"/>
                <a:ea typeface="华文中宋"/>
              </a:rPr>
              <a:t>直接人工预算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5640" y="3141720"/>
          <a:ext cx="7848720" cy="3240000"/>
        </p:xfrm>
        <a:graphic>
          <a:graphicData uri="http://schemas.openxmlformats.org/drawingml/2006/table">
            <a:tbl>
              <a:tblPr/>
              <a:tblGrid>
                <a:gridCol w="2016000"/>
                <a:gridCol w="1224000"/>
                <a:gridCol w="1224000"/>
                <a:gridCol w="1224000"/>
                <a:gridCol w="1081080"/>
                <a:gridCol w="107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生产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产品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工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4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每小时人工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直接人工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9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内容占位符 3" descr=""/>
          <p:cNvPicPr/>
          <p:nvPr/>
        </p:nvPicPr>
        <p:blipFill>
          <a:blip r:embed="rId1"/>
          <a:stretch/>
        </p:blipFill>
        <p:spPr>
          <a:xfrm>
            <a:off x="365040" y="1341360"/>
            <a:ext cx="83948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2600" y="476280"/>
          <a:ext cx="9131400" cy="6365880"/>
        </p:xfrm>
        <a:graphic>
          <a:graphicData uri="http://schemas.openxmlformats.org/drawingml/2006/table">
            <a:tbl>
              <a:tblPr/>
              <a:tblGrid>
                <a:gridCol w="478080"/>
                <a:gridCol w="1563480"/>
                <a:gridCol w="1139760"/>
                <a:gridCol w="1162080"/>
                <a:gridCol w="1152720"/>
                <a:gridCol w="1224000"/>
                <a:gridCol w="1150920"/>
                <a:gridCol w="1260360"/>
              </a:tblGrid>
              <a:tr h="374760"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项  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分配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6200">
                <a:tc row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变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间接材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修理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水电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华文中宋"/>
                          <a:ea typeface="华文中宋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 row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固定制造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修理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折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管理人员工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保险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华文中宋"/>
                          <a:ea typeface="华文中宋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减：折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36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华文中宋"/>
                          <a:ea typeface="华文中宋"/>
                        </a:rPr>
                        <a:t>现金支出的制造费用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4680"/>
            <a:ext cx="73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制造费用预算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产品单位成本预算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6920" y="2060640"/>
          <a:ext cx="7705800" cy="4176720"/>
        </p:xfrm>
        <a:graphic>
          <a:graphicData uri="http://schemas.openxmlformats.org/drawingml/2006/table">
            <a:tbl>
              <a:tblPr/>
              <a:tblGrid>
                <a:gridCol w="648000"/>
                <a:gridCol w="1728720"/>
                <a:gridCol w="1152360"/>
                <a:gridCol w="1152720"/>
                <a:gridCol w="1368360"/>
                <a:gridCol w="1655640"/>
              </a:tblGrid>
              <a:tr h="5223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成本项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计量单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耗数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金额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成本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产品单位成本预算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直接材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千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变动制造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产品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末存货成本预算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末存货数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产品单位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末存货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该公司预算期内发生销售人员工资、运杂费、办公费等变动成本预计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240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元。发生广告费、保险费、财产税等固定费用为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160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元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销售及管理费用预算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3068640"/>
          <a:ext cx="7704000" cy="3313080"/>
        </p:xfrm>
        <a:graphic>
          <a:graphicData uri="http://schemas.openxmlformats.org/drawingml/2006/table">
            <a:tbl>
              <a:tblPr/>
              <a:tblGrid>
                <a:gridCol w="1584000"/>
                <a:gridCol w="1151280"/>
                <a:gridCol w="1296720"/>
                <a:gridCol w="1295640"/>
                <a:gridCol w="1224000"/>
                <a:gridCol w="115236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</a:tr>
              <a:tr h="55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销售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单位变动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变动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固定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5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合  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</a:tr>
            </a:tbl>
          </a:graphicData>
        </a:graphic>
      </p:graphicFrame>
      <p:pic>
        <p:nvPicPr>
          <p:cNvPr id="151" name="矩形标注 4" descr=""/>
          <p:cNvPicPr/>
          <p:nvPr/>
        </p:nvPicPr>
        <p:blipFill>
          <a:blip r:embed="rId1"/>
          <a:stretch/>
        </p:blipFill>
        <p:spPr>
          <a:xfrm>
            <a:off x="2060640" y="3554280"/>
            <a:ext cx="2225520" cy="816120"/>
          </a:xfrm>
          <a:prstGeom prst="rect">
            <a:avLst/>
          </a:prstGeom>
          <a:ln w="0">
            <a:noFill/>
          </a:ln>
        </p:spPr>
      </p:pic>
      <p:pic>
        <p:nvPicPr>
          <p:cNvPr id="152" name="圆角矩形标注 5" descr=""/>
          <p:cNvPicPr/>
          <p:nvPr/>
        </p:nvPicPr>
        <p:blipFill>
          <a:blip r:embed="rId2"/>
          <a:stretch/>
        </p:blipFill>
        <p:spPr>
          <a:xfrm>
            <a:off x="1719360" y="4438800"/>
            <a:ext cx="22064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如果该公司各季度末至少备有现金余额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1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，如果资金不足或多余，可以从银行借入资金，年利率为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10%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，在季度初借入，每季度末还款，借款利息于偿还时一起支付。每月所得税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8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。年初现金余额为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34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。该公司计划在预算年度内购买设备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5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，其中第一季度支付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2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，以后每季度支付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1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现金预算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drawingml/2006/table">
            <a:tbl>
              <a:tblPr/>
              <a:tblGrid>
                <a:gridCol w="2411280"/>
                <a:gridCol w="1297080"/>
                <a:gridCol w="1368360"/>
                <a:gridCol w="1224000"/>
                <a:gridCol w="1319400"/>
                <a:gridCol w="1523880"/>
              </a:tblGrid>
              <a:tr h="37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全  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期初余额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2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本期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1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7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4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777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收入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7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42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58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5842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18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本期支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材料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2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374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3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9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制造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9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销售及管理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所得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购买设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支出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99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421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5044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424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1649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现金结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-23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1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96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6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银行借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3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8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偿还借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8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8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支付利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华文中宋"/>
                        </a:rPr>
                        <a:t>27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7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期末余额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2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96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96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云形标注 1" descr=""/>
          <p:cNvPicPr/>
          <p:nvPr/>
        </p:nvPicPr>
        <p:blipFill>
          <a:blip r:embed="rId1"/>
          <a:stretch/>
        </p:blipFill>
        <p:spPr>
          <a:xfrm>
            <a:off x="1023840" y="4565520"/>
            <a:ext cx="6016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272360" cy="865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5"/>
          <p:cNvSpPr/>
          <p:nvPr/>
        </p:nvSpPr>
        <p:spPr>
          <a:xfrm>
            <a:off x="1476360" y="1341360"/>
            <a:ext cx="6408720" cy="4464000"/>
          </a:xfrm>
          <a:prstGeom prst="rect">
            <a:avLst/>
          </a:prstGeom>
          <a:solidFill>
            <a:srgbClr val="dddddd">
              <a:alpha val="6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预算之于企业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犹如食物之于身体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财务预算之于企业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犹如顾客之于商家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3166920" y="4478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隶书"/>
                <a:ea typeface="隶书"/>
              </a:rPr>
              <a:t>结  束  语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1c99d"/>
              </a:gs>
              <a:gs pos="100000">
                <a:srgbClr val="3ca05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培训内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77a0cd">
                  <a:alpha val="12156"/>
                </a:srgbClr>
              </a:gs>
              <a:gs pos="50000">
                <a:srgbClr val="1f63ad"/>
              </a:gs>
              <a:gs pos="100000">
                <a:srgbClr val="77a0cd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809880" y="2286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的概念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的关系图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全面预算的关系图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80988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实例剖析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的编制方法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344320" y="350532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隶书"/>
              </a:rPr>
              <a:t>目 录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2268360" y="2708280"/>
            <a:ext cx="525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00000"/>
                  </a:solidFill>
                  <a:miter/>
                </a:ln>
                <a:solidFill>
                  <a:srgbClr val="e3e3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隶书"/>
              </a:rPr>
              <a:t>谢谢！</a:t>
            </a:r>
            <a:endParaRPr b="1" lang="en-US" sz="1800" spc="1" strike="noStrike">
              <a:ln w="12600">
                <a:solidFill>
                  <a:srgbClr val="c00000"/>
                </a:solidFill>
                <a:miter/>
              </a:ln>
              <a:solidFill>
                <a:srgbClr val="e3e3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的概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37760"/>
            <a:ext cx="822960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预算：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指用货币计量的方式，将决策目标所涉及的经济资源进行配置，以计划的形式具体地、系统地反映出来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全面预算：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以企业的经营目标为基础，以销售预算为起点，进而扩展到采购、生产、成本、资金等各个方面的预算，从而形成一个体系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财务预算：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企业全面预算的重要组成部分，它和其他预算是联系在一起的，构成一个完整的全面预算体系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的编制方法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1628640"/>
          <a:ext cx="8280360" cy="434520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648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固定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静态预算 ，适用于非营利组织和业务水平比较稳定的企业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</a:tr>
              <a:tr h="1326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弹性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在成本习性分类的基础上，根据本量利之间的依存关系，考虑到计划期业务量可能发生的变动，编制出一套适应多种业务量的费用预算，以便分别反映在各该业务量情况下所应支出的费用水平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</a:tr>
              <a:tr h="91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零基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190b"/>
                          </a:solidFill>
                          <a:latin typeface="宋体"/>
                        </a:rPr>
                        <a:t>一切从零做起，从实际需要与可能出发，逐项审议各种费用开支的必要性与合理性，进行综合平衡，从而确定预算费用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</a:tr>
              <a:tr h="63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滚动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28302"/>
                          </a:solidFill>
                          <a:latin typeface="宋体"/>
                        </a:rPr>
                        <a:t>基本特点是预算期连续不断变动，但始终保持一定期限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</a:tr>
              <a:tr h="82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概率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根据变动出现的可能性，计算其期望值，编制预算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的构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639720" y="1700280"/>
            <a:ext cx="7961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全面预算的关系图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246" descr=""/>
          <p:cNvPicPr/>
          <p:nvPr/>
        </p:nvPicPr>
        <p:blipFill>
          <a:blip r:embed="rId1"/>
          <a:stretch/>
        </p:blipFill>
        <p:spPr>
          <a:xfrm>
            <a:off x="450720" y="1341360"/>
            <a:ext cx="8474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某公司生产和销售一种产品，预算期聂预计销售量为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12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，其中预计四个季度销售量分别为：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2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、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3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、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4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、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3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。预计销售价格为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16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元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/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。预计每季度销售的产品在当季可收回货款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，其余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40%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要在下季收讫。该公司期初应收账款为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5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元。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                                          </a:t>
            </a:r>
            <a:r>
              <a:rPr b="1" lang="zh-CN" sz="2000" spc="-1" strike="noStrike">
                <a:solidFill>
                  <a:srgbClr val="7030a0"/>
                </a:solidFill>
                <a:latin typeface="Times New Roman"/>
                <a:ea typeface="宋体"/>
              </a:rPr>
              <a:t>销售预算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4360" y="3716280"/>
          <a:ext cx="7559640" cy="2160720"/>
        </p:xfrm>
        <a:graphic>
          <a:graphicData uri="http://schemas.openxmlformats.org/drawingml/2006/table">
            <a:tbl>
              <a:tblPr/>
              <a:tblGrid>
                <a:gridCol w="1584000"/>
                <a:gridCol w="935280"/>
                <a:gridCol w="1260360"/>
                <a:gridCol w="1260360"/>
                <a:gridCol w="1258920"/>
                <a:gridCol w="126072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销售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价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销售收入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预计现金收入表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89000"/>
          <a:ext cx="8209080" cy="4032360"/>
        </p:xfrm>
        <a:graphic>
          <a:graphicData uri="http://schemas.openxmlformats.org/drawingml/2006/table">
            <a:tbl>
              <a:tblPr/>
              <a:tblGrid>
                <a:gridCol w="1863720"/>
                <a:gridCol w="1266840"/>
                <a:gridCol w="1300320"/>
                <a:gridCol w="1203120"/>
                <a:gridCol w="1268280"/>
                <a:gridCol w="1306800"/>
              </a:tblGrid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项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全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初应收账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3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3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62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36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3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现金收入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7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7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宋体"/>
                <a:ea typeface="华文宋体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如果该公司预算期内每季度末存货占其下季度销售量的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10%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，年初存货为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2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台，预计年末存货量为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2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台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生产预算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3213000"/>
          <a:ext cx="7417080" cy="2460600"/>
        </p:xfrm>
        <a:graphic>
          <a:graphicData uri="http://schemas.openxmlformats.org/drawingml/2006/table">
            <a:tbl>
              <a:tblPr/>
              <a:tblGrid>
                <a:gridCol w="1800360"/>
                <a:gridCol w="1224000"/>
                <a:gridCol w="1152360"/>
                <a:gridCol w="1079640"/>
                <a:gridCol w="1152360"/>
                <a:gridCol w="1008360"/>
              </a:tblGrid>
              <a:tr h="59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全  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销售量（台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加：期末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减：期初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生产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cxnSp>
        <p:nvCxnSpPr>
          <p:cNvPr id="121" name="直接箭头连接符 2"/>
          <p:cNvCxnSpPr/>
          <p:nvPr/>
        </p:nvCxnSpPr>
        <p:spPr>
          <a:xfrm>
            <a:off x="3851280" y="4292280"/>
            <a:ext cx="72144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直接箭头连接符 6"/>
          <p:cNvCxnSpPr/>
          <p:nvPr/>
        </p:nvCxnSpPr>
        <p:spPr>
          <a:xfrm>
            <a:off x="4984920" y="4285800"/>
            <a:ext cx="72144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直接箭头连接符 7"/>
          <p:cNvCxnSpPr/>
          <p:nvPr/>
        </p:nvCxnSpPr>
        <p:spPr>
          <a:xfrm>
            <a:off x="6091200" y="4292280"/>
            <a:ext cx="72144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4" name="直接箭头连接符 8"/>
          <p:cNvCxnSpPr/>
          <p:nvPr/>
        </p:nvCxnSpPr>
        <p:spPr>
          <a:xfrm flipV="1">
            <a:off x="7235640" y="4265280"/>
            <a:ext cx="635400" cy="2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5" name="肘形连接符 25"/>
          <p:cNvCxnSpPr/>
          <p:nvPr/>
        </p:nvCxnSpPr>
        <p:spPr>
          <a:xfrm>
            <a:off x="3846600" y="5030640"/>
            <a:ext cx="3939120" cy="13680"/>
          </a:xfrm>
          <a:prstGeom prst="bentConnector3">
            <a:avLst>
              <a:gd name="adj1" fmla="val 49995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2:14:36Z</dcterms:created>
  <dc:creator>news</dc:creator>
  <dc:description/>
  <dc:language>en-US</dc:language>
  <cp:lastModifiedBy>news</cp:lastModifiedBy>
  <dcterms:modified xsi:type="dcterms:W3CDTF">2013-11-22T03:37:17Z</dcterms:modified>
  <cp:revision>60</cp:revision>
  <dc:subject/>
  <dc:title>PowerPoint 演示文稿</dc:title>
</cp:coreProperties>
</file>