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A86-0113-4D5C-999D-B0E5A8C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4CD-4A82-436B-86A9-6BE87A6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8A0-08D2-4A81-8011-277C776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1AC-90C9-46A5-BFAA-1BF186A0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05C3-0AE3-4D25-998F-02B08C69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692D-5CEA-4404-976A-2D899387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B59-D5B7-4D93-BBD5-A931F83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2B1-274C-432C-81F4-CACE2A6C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2A03-78D5-4FB5-9CF4-61ACAB0E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A7C-EE51-4019-BC77-EFCBB0D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90D-587D-4665-9FDE-A668089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038-F3D3-4D45-86AD-FC30683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5008-C6BA-4DEC-8CB4-B838A8F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EB3-DCE2-4697-A81E-ED78133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7AB-8958-4294-B5F5-B6DE02C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7B14-4DB9-40D1-AAB0-53A116BF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D26-3350-496C-B138-9D9382EE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C6D-35F8-4505-82A4-E902DDB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F2D-555A-45B7-B7A6-FA29435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D94-7145-4D1A-A202-4C8BB92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DF2-CE28-4F38-803A-A49FCD5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7BE-7702-4124-B3E5-065E00D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B6C-2273-407B-B7CB-40881C0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274-6015-44DE-8C44-4D7A844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F852-5BDA-41AC-AD4A-6FABFCF5DF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4B4-8EC2-4111-95FF-98D20DB8E59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997360"/>
            <a:ext cx="755964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容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财务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讲人         吕华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部门       常州开大财经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.11.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900080"/>
            <a:ext cx="835344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财  务  分  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565360"/>
            <a:ext cx="755964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感谢您们的聆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希望您们的建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期待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您们的再次光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州开大财经学院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常州市中小企业会计从业人员素能提升公益专题培训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---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财  务  分  析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205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421000"/>
            <a:ext cx="755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一、偿债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一、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偿债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631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一、偿债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42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0643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二、获利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2133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407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2852640"/>
            <a:ext cx="741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以上两表资料思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否通过计算存货周转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和应收账款周转次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两指标简要分析公司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运能力的变化，如果可以请大家尝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三、营运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276640"/>
            <a:ext cx="78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9144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四、成长能力的简要计算和简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2276640"/>
            <a:ext cx="785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以上两表资料思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可否通过计算相应指标简要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析公司成长能力的变化，如果可以请大家尝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242100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936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3480" y="313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28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09:01Z</dcterms:created>
  <dc:creator>lenovo</dc:creator>
  <dc:description/>
  <dc:language>en-US</dc:language>
  <cp:lastModifiedBy>猪猪猫.CN</cp:lastModifiedBy>
  <dcterms:modified xsi:type="dcterms:W3CDTF">2013-11-22T05:23:33Z</dcterms:modified>
  <cp:revision>29</cp:revision>
  <dc:subject/>
  <dc:title>财务管理</dc:title>
</cp:coreProperties>
</file>