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8121-0786-4FB0-BAAA-CCDFD7C83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43E8-817B-40CB-BB76-53D14D1F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1C37-2B6B-4A0B-AC07-91A9F49CD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DBAB-4A56-4757-995B-FA46E647D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9EB5-36E1-4912-911F-8A6096D0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91E2-FE11-4150-8189-C91E59DD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2F8F-8DF4-4272-A5A2-E3B7FD2F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192D-5B6C-490D-A775-CD93685F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0886-7991-49A2-A8EF-1A30B19B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E5DC-C4ED-49E7-AB32-5EE89B1C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3C1D-EECA-4922-AF32-DB38C06D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94D8-EA65-4AD3-88C8-A1611A42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18BF-B0EA-4CA3-8824-2F36AABE86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100" descr=""/>
          <p:cNvPicPr/>
          <p:nvPr/>
        </p:nvPicPr>
        <p:blipFill>
          <a:blip r:embed="rId1"/>
          <a:stretch/>
        </p:blipFill>
        <p:spPr>
          <a:xfrm>
            <a:off x="19080" y="844560"/>
            <a:ext cx="910584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01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02" descr=""/>
          <p:cNvPicPr/>
          <p:nvPr/>
        </p:nvPicPr>
        <p:blipFill>
          <a:blip r:embed="rId2"/>
          <a:stretch/>
        </p:blipFill>
        <p:spPr>
          <a:xfrm>
            <a:off x="-36360" y="0"/>
            <a:ext cx="5601960" cy="38559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03" descr=""/>
          <p:cNvPicPr/>
          <p:nvPr/>
        </p:nvPicPr>
        <p:blipFill>
          <a:blip r:embed="rId3"/>
          <a:stretch/>
        </p:blipFill>
        <p:spPr>
          <a:xfrm>
            <a:off x="4572000" y="3076560"/>
            <a:ext cx="44276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104" descr=""/>
          <p:cNvPicPr/>
          <p:nvPr/>
        </p:nvPicPr>
        <p:blipFill>
          <a:blip r:embed="rId1"/>
          <a:stretch/>
        </p:blipFill>
        <p:spPr>
          <a:xfrm>
            <a:off x="82440" y="0"/>
            <a:ext cx="897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105" descr="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99" descr=""/>
          <p:cNvPicPr/>
          <p:nvPr/>
        </p:nvPicPr>
        <p:blipFill>
          <a:blip r:embed="rId1"/>
          <a:stretch/>
        </p:blipFill>
        <p:spPr>
          <a:xfrm>
            <a:off x="2411280" y="-100080"/>
            <a:ext cx="4321440" cy="67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110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8555040" cy="66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06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7502760" cy="66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6-15T06:57:35Z</dcterms:created>
  <dc:creator>lenovo</dc:creator>
  <dc:description/>
  <dc:language>en-US</dc:language>
  <cp:lastModifiedBy>我怀念的</cp:lastModifiedBy>
  <dcterms:modified xsi:type="dcterms:W3CDTF">2022-06-15T06:57:35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4F52206B16CA4151A577D85B55B3B977</vt:lpwstr>
  </property>
  <property fmtid="{D5CDD505-2E9C-101B-9397-08002B2CF9AE}" pid="3" name="KSOProductBuildVer">
    <vt:lpwstr>2052-11.1.0.11744</vt:lpwstr>
  </property>
</Properties>
</file>