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B3F-C86E-414A-91E8-7E0D7C6E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E3B-4B9E-45A6-A157-E3EC2FC5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9D14-C5EA-4F1D-BB50-B60A5487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86B-87C3-4A5E-8E38-02C4E8FB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485-BF89-4552-B6F9-42D5D539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6C7-D4CF-45C6-9824-8F2BEE69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64C-3638-4621-8D67-ED7F568A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45E-7019-4BBD-BFC1-F5E37BDB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2C5-E670-4471-989E-6092A017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A99-20D8-4A76-8174-40CB68E9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090-711A-4C1C-AEFE-07C399C1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A21B-1FED-4526-ADD4-335AA97C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53B2-C71E-49D5-86FC-16EE03F5D1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czjyj</cp:lastModifiedBy>
  <dcterms:modified xsi:type="dcterms:W3CDTF">2023-06-14T06:59:40Z</dcterms:modified>
  <cp:revision>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