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5CCE-FFCE-4AFB-AF54-4C400949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87D-657A-45B1-87DC-F574EC51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072-04D2-43EE-9A27-F0431639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4664-9594-45CB-83DA-D475E271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5BA0-CB5D-4726-9919-9E671015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F1D-66C7-4A0B-AFD5-2048EF85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B7A-5335-494F-A088-6C4630F2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160E-F2CD-4D15-8DD0-8F51341C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3BB-B131-4A88-A984-D8A87E6A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37F2-D8C2-47AD-B241-EFB6D6C3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4BA-E839-4D7E-8D03-E09093B5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3DEE-7606-47F7-8579-9BBA3129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0334-CCB5-4A7D-BB0C-AE8A8D20BC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ydzhu\Desktop\首页图片1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16000" y="1279440"/>
            <a:ext cx="712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 阻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"/>
          <p:cNvSpPr/>
          <p:nvPr/>
        </p:nvSpPr>
        <p:spPr>
          <a:xfrm>
            <a:off x="431640" y="74916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实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电阻是否与导体的长度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31640" y="1484280"/>
          <a:ext cx="8353440" cy="2637000"/>
        </p:xfrm>
        <a:graphic>
          <a:graphicData uri="http://schemas.openxmlformats.org/drawingml/2006/table">
            <a:tbl>
              <a:tblPr/>
              <a:tblGrid>
                <a:gridCol w="1694160"/>
                <a:gridCol w="1150920"/>
                <a:gridCol w="1763640"/>
                <a:gridCol w="1117440"/>
                <a:gridCol w="1727280"/>
                <a:gridCol w="900000"/>
              </a:tblGrid>
              <a:tr h="128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材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长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横截面积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对电流的阻碍作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镍铬合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镍铬合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Box 3"/>
          <p:cNvSpPr/>
          <p:nvPr/>
        </p:nvSpPr>
        <p:spPr>
          <a:xfrm>
            <a:off x="431640" y="5084640"/>
            <a:ext cx="8253720" cy="123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导体的电阻与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长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</a:rPr>
              <a:t>　　材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70c0"/>
                </a:solidFill>
                <a:latin typeface="宋体"/>
              </a:rPr>
              <a:t>横截面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同，导体越长，电阻越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5"/>
          <p:cNvSpPr/>
          <p:nvPr/>
        </p:nvSpPr>
        <p:spPr>
          <a:xfrm>
            <a:off x="431640" y="444816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实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结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53"/>
          <p:cNvSpPr/>
          <p:nvPr/>
        </p:nvSpPr>
        <p:spPr>
          <a:xfrm>
            <a:off x="431640" y="750960"/>
            <a:ext cx="645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探究电阻与导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横截面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06504003"/>
          <p:cNvPicPr/>
          <p:nvPr/>
        </p:nvPicPr>
        <p:blipFill>
          <a:blip r:embed="rId2"/>
          <a:stretch/>
        </p:blipFill>
        <p:spPr>
          <a:xfrm>
            <a:off x="1116000" y="2133720"/>
            <a:ext cx="6842160" cy="4029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5184720" y="2276640"/>
            <a:ext cx="263700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"/>
          <p:cNvSpPr/>
          <p:nvPr/>
        </p:nvSpPr>
        <p:spPr>
          <a:xfrm>
            <a:off x="428760" y="749160"/>
            <a:ext cx="70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电阻与导体横截面积是否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24000" y="1484280"/>
          <a:ext cx="8570880" cy="2433600"/>
        </p:xfrm>
        <a:graphic>
          <a:graphicData uri="http://schemas.openxmlformats.org/drawingml/2006/table">
            <a:tbl>
              <a:tblPr/>
              <a:tblGrid>
                <a:gridCol w="1765080"/>
                <a:gridCol w="1150920"/>
                <a:gridCol w="1763640"/>
                <a:gridCol w="1301760"/>
                <a:gridCol w="1616400"/>
                <a:gridCol w="973080"/>
              </a:tblGrid>
              <a:tr h="128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材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长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横截面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对电流的阻碍作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镍铬合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镍铬合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Box 5"/>
          <p:cNvSpPr/>
          <p:nvPr/>
        </p:nvSpPr>
        <p:spPr>
          <a:xfrm>
            <a:off x="403200" y="4695840"/>
            <a:ext cx="8237520" cy="123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导体的电阻与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横截面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关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Calibri"/>
              </a:rPr>
              <a:t>　　材料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2800" spc="-1" strike="noStrike">
                <a:solidFill>
                  <a:srgbClr val="0070c0"/>
                </a:solidFill>
                <a:latin typeface="Calibri"/>
              </a:rPr>
              <a:t>长度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相同，导体的横截面积越大，电阻越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5"/>
          <p:cNvSpPr/>
          <p:nvPr/>
        </p:nvSpPr>
        <p:spPr>
          <a:xfrm>
            <a:off x="431640" y="406224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实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结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90"/>
          <p:cNvSpPr/>
          <p:nvPr/>
        </p:nvSpPr>
        <p:spPr>
          <a:xfrm>
            <a:off x="431640" y="749160"/>
            <a:ext cx="51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实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电阻还与温度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3" descr="电阻随温度变化2"/>
          <p:cNvPicPr/>
          <p:nvPr/>
        </p:nvPicPr>
        <p:blipFill>
          <a:blip r:embed="rId1"/>
          <a:stretch/>
        </p:blipFill>
        <p:spPr>
          <a:xfrm>
            <a:off x="3627360" y="2843280"/>
            <a:ext cx="5292720" cy="392256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4"/>
          <p:cNvGrpSpPr/>
          <p:nvPr/>
        </p:nvGrpSpPr>
        <p:grpSpPr>
          <a:xfrm>
            <a:off x="522360" y="1376280"/>
            <a:ext cx="3058560" cy="2158920"/>
            <a:chOff x="522360" y="1376280"/>
            <a:chExt cx="3058560" cy="2158920"/>
          </a:xfrm>
        </p:grpSpPr>
        <p:sp>
          <p:nvSpPr>
            <p:cNvPr id="144" name="Rectangle 102"/>
            <p:cNvSpPr/>
            <p:nvPr/>
          </p:nvSpPr>
          <p:spPr>
            <a:xfrm>
              <a:off x="522360" y="1915920"/>
              <a:ext cx="2808000" cy="134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76"/>
            <p:cNvSpPr/>
            <p:nvPr/>
          </p:nvSpPr>
          <p:spPr>
            <a:xfrm>
              <a:off x="1079280" y="1736640"/>
              <a:ext cx="9363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87"/>
            <p:cNvSpPr/>
            <p:nvPr/>
          </p:nvSpPr>
          <p:spPr>
            <a:xfrm>
              <a:off x="3087360" y="2320920"/>
              <a:ext cx="493560" cy="49356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23"/>
            <p:cNvSpPr/>
            <p:nvPr/>
          </p:nvSpPr>
          <p:spPr>
            <a:xfrm flipV="1" rot="5400000">
              <a:off x="1035360" y="1842840"/>
              <a:ext cx="112680" cy="114120"/>
            </a:xfrm>
            <a:prstGeom prst="ellips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23"/>
            <p:cNvSpPr/>
            <p:nvPr/>
          </p:nvSpPr>
          <p:spPr>
            <a:xfrm flipV="1" rot="5400000">
              <a:off x="1999080" y="1861920"/>
              <a:ext cx="112680" cy="114120"/>
            </a:xfrm>
            <a:prstGeom prst="ellips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26"/>
            <p:cNvSpPr/>
            <p:nvPr/>
          </p:nvSpPr>
          <p:spPr>
            <a:xfrm>
              <a:off x="1242720" y="1376280"/>
              <a:ext cx="953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灯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11"/>
            <p:cNvGrpSpPr/>
            <p:nvPr/>
          </p:nvGrpSpPr>
          <p:grpSpPr>
            <a:xfrm>
              <a:off x="972720" y="3085920"/>
              <a:ext cx="504000" cy="286920"/>
              <a:chOff x="972720" y="3085920"/>
              <a:chExt cx="504000" cy="286920"/>
            </a:xfrm>
          </p:grpSpPr>
          <p:sp>
            <p:nvSpPr>
              <p:cNvPr id="151" name="Rectangle 15"/>
              <p:cNvSpPr/>
              <p:nvPr/>
            </p:nvSpPr>
            <p:spPr>
              <a:xfrm>
                <a:off x="1029600" y="3085920"/>
                <a:ext cx="444960" cy="28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6"/>
              <p:cNvSpPr/>
              <p:nvPr/>
            </p:nvSpPr>
            <p:spPr>
              <a:xfrm flipV="1">
                <a:off x="1029600" y="3085920"/>
                <a:ext cx="44712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17"/>
              <p:cNvSpPr/>
              <p:nvPr/>
            </p:nvSpPr>
            <p:spPr>
              <a:xfrm>
                <a:off x="972720" y="3200760"/>
                <a:ext cx="111960" cy="113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15"/>
            <p:cNvGrpSpPr/>
            <p:nvPr/>
          </p:nvGrpSpPr>
          <p:grpSpPr>
            <a:xfrm>
              <a:off x="2322360" y="2995560"/>
              <a:ext cx="134280" cy="539640"/>
              <a:chOff x="2322360" y="2995560"/>
              <a:chExt cx="134280" cy="539640"/>
            </a:xfrm>
          </p:grpSpPr>
          <p:sp>
            <p:nvSpPr>
              <p:cNvPr id="155" name="Rectangle 19"/>
              <p:cNvSpPr/>
              <p:nvPr/>
            </p:nvSpPr>
            <p:spPr>
              <a:xfrm>
                <a:off x="2322360" y="3174840"/>
                <a:ext cx="13428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20"/>
              <p:cNvSpPr/>
              <p:nvPr/>
            </p:nvSpPr>
            <p:spPr>
              <a:xfrm>
                <a:off x="2322360" y="2995560"/>
                <a:ext cx="0" cy="53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21"/>
              <p:cNvSpPr/>
              <p:nvPr/>
            </p:nvSpPr>
            <p:spPr>
              <a:xfrm>
                <a:off x="2456640" y="3130560"/>
                <a:ext cx="0" cy="269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9"/>
            <p:cNvGrpSpPr/>
            <p:nvPr/>
          </p:nvGrpSpPr>
          <p:grpSpPr>
            <a:xfrm>
              <a:off x="2547720" y="1601640"/>
              <a:ext cx="541080" cy="584280"/>
              <a:chOff x="2547720" y="1601640"/>
              <a:chExt cx="541080" cy="584280"/>
            </a:xfrm>
          </p:grpSpPr>
          <p:sp>
            <p:nvSpPr>
              <p:cNvPr id="159" name="Oval 61"/>
              <p:cNvSpPr/>
              <p:nvPr/>
            </p:nvSpPr>
            <p:spPr>
              <a:xfrm>
                <a:off x="2547720" y="1645920"/>
                <a:ext cx="541080" cy="5400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62"/>
              <p:cNvSpPr/>
              <p:nvPr/>
            </p:nvSpPr>
            <p:spPr>
              <a:xfrm>
                <a:off x="2591640" y="1601640"/>
                <a:ext cx="495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22"/>
            <p:cNvGrpSpPr/>
            <p:nvPr/>
          </p:nvGrpSpPr>
          <p:grpSpPr>
            <a:xfrm>
              <a:off x="1153800" y="1780920"/>
              <a:ext cx="853560" cy="269640"/>
              <a:chOff x="1153800" y="1780920"/>
              <a:chExt cx="853560" cy="269640"/>
            </a:xfrm>
          </p:grpSpPr>
          <p:sp>
            <p:nvSpPr>
              <p:cNvPr id="162" name="Line 93"/>
              <p:cNvSpPr/>
              <p:nvPr/>
            </p:nvSpPr>
            <p:spPr>
              <a:xfrm>
                <a:off x="1285200" y="1780920"/>
                <a:ext cx="65520" cy="26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94"/>
              <p:cNvSpPr/>
              <p:nvPr/>
            </p:nvSpPr>
            <p:spPr>
              <a:xfrm>
                <a:off x="1416240" y="1780920"/>
                <a:ext cx="65520" cy="26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95"/>
              <p:cNvSpPr/>
              <p:nvPr/>
            </p:nvSpPr>
            <p:spPr>
              <a:xfrm>
                <a:off x="1547640" y="1780920"/>
                <a:ext cx="65520" cy="26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96"/>
              <p:cNvSpPr/>
              <p:nvPr/>
            </p:nvSpPr>
            <p:spPr>
              <a:xfrm>
                <a:off x="1679400" y="1780920"/>
                <a:ext cx="65520" cy="26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7"/>
              <p:cNvSpPr/>
              <p:nvPr/>
            </p:nvSpPr>
            <p:spPr>
              <a:xfrm flipH="1">
                <a:off x="1744920" y="1780920"/>
                <a:ext cx="65520" cy="26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98"/>
              <p:cNvSpPr/>
              <p:nvPr/>
            </p:nvSpPr>
            <p:spPr>
              <a:xfrm flipH="1">
                <a:off x="1613520" y="1780920"/>
                <a:ext cx="65520" cy="26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99"/>
              <p:cNvSpPr/>
              <p:nvPr/>
            </p:nvSpPr>
            <p:spPr>
              <a:xfrm flipH="1">
                <a:off x="1482120" y="1780920"/>
                <a:ext cx="65520" cy="26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100"/>
              <p:cNvSpPr/>
              <p:nvPr/>
            </p:nvSpPr>
            <p:spPr>
              <a:xfrm flipH="1">
                <a:off x="1350720" y="1780920"/>
                <a:ext cx="65520" cy="26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01"/>
              <p:cNvSpPr/>
              <p:nvPr/>
            </p:nvSpPr>
            <p:spPr>
              <a:xfrm>
                <a:off x="1810440" y="1780920"/>
                <a:ext cx="65520" cy="26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102"/>
              <p:cNvSpPr/>
              <p:nvPr/>
            </p:nvSpPr>
            <p:spPr>
              <a:xfrm flipH="1">
                <a:off x="1240920" y="1780920"/>
                <a:ext cx="43920" cy="16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03"/>
              <p:cNvSpPr/>
              <p:nvPr/>
            </p:nvSpPr>
            <p:spPr>
              <a:xfrm flipH="1">
                <a:off x="1876320" y="1887840"/>
                <a:ext cx="43920" cy="16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104"/>
              <p:cNvSpPr/>
              <p:nvPr/>
            </p:nvSpPr>
            <p:spPr>
              <a:xfrm>
                <a:off x="1920240" y="1887840"/>
                <a:ext cx="87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05"/>
              <p:cNvSpPr/>
              <p:nvPr/>
            </p:nvSpPr>
            <p:spPr>
              <a:xfrm>
                <a:off x="1153800" y="1943640"/>
                <a:ext cx="87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AutoShape 59"/>
          <p:cNvSpPr/>
          <p:nvPr/>
        </p:nvSpPr>
        <p:spPr>
          <a:xfrm>
            <a:off x="1332000" y="2320920"/>
            <a:ext cx="1260360" cy="630360"/>
          </a:xfrm>
          <a:prstGeom prst="wedgeEllipseCallout">
            <a:avLst>
              <a:gd name="adj1" fmla="val -31361"/>
              <a:gd name="adj2" fmla="val -950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加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\\初三物理\初三物理共享\新教材图 电压电阻 生活用电\16章 电压电阻\电压电阻图\16-3-4.JPG"/>
          <p:cNvPicPr/>
          <p:nvPr/>
        </p:nvPicPr>
        <p:blipFill>
          <a:blip r:embed="rId1"/>
          <a:stretch/>
        </p:blipFill>
        <p:spPr>
          <a:xfrm>
            <a:off x="6192720" y="404640"/>
            <a:ext cx="1692360" cy="61200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431640" y="1268280"/>
            <a:ext cx="5572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在其他条件相同的情况下，电阻较小的材料导电性能较强；反之，电阻较大，导电性能较弱。右图展示的是不同材料在导电性能上的排序，从上至下，材料的导电性能依次减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431640" y="190908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一个导体接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伏的电源上，电阻大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欧，若从电路中取下这个导体，导体的电阻值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电阻大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欧，是这个导体本身的属性，与导体是否连在电路中，两端是否有电压，其中是否有电流都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4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183" name="圆角矩形 1" descr=""/>
            <p:cNvPicPr/>
            <p:nvPr/>
          </p:nvPicPr>
          <p:blipFill>
            <a:blip r:embed="rId2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6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\\初三物理\初三物理共享\新教材图 电压电阻 生活用电\16章 电压电阻\电压电阻图\16-3-5.JPG"/>
          <p:cNvPicPr/>
          <p:nvPr/>
        </p:nvPicPr>
        <p:blipFill>
          <a:blip r:embed="rId1"/>
          <a:stretch/>
        </p:blipFill>
        <p:spPr>
          <a:xfrm>
            <a:off x="1979640" y="2637000"/>
            <a:ext cx="5643360" cy="40003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"/>
          <p:cNvSpPr/>
          <p:nvPr/>
        </p:nvSpPr>
        <p:spPr>
          <a:xfrm>
            <a:off x="431640" y="1268280"/>
            <a:ext cx="47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简要回答下列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431640" y="184464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高压线的绝缘子（如图）为什么用陶瓷材料而不用玻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6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190" name="圆角矩形 1" descr=""/>
            <p:cNvPicPr/>
            <p:nvPr/>
          </p:nvPicPr>
          <p:blipFill>
            <a:blip r:embed="rId3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2"/>
          <p:cNvSpPr/>
          <p:nvPr/>
        </p:nvSpPr>
        <p:spPr>
          <a:xfrm>
            <a:off x="431640" y="1268280"/>
            <a:ext cx="8317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铁比铜便宜，为什么家庭电路中用铜导线而不用铁导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431640" y="2565360"/>
            <a:ext cx="790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为什么不能用湿手操作电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431640" y="3645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根完全一样的导线，长度都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剪去一半，剩下的一半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比，哪个电阻大？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剩下的一半再拉长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比，哪个电阻大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6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197" name="圆角矩形 1" descr=""/>
            <p:cNvPicPr/>
            <p:nvPr/>
          </p:nvPicPr>
          <p:blipFill>
            <a:blip r:embed="rId2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8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2"/>
          <p:cNvSpPr/>
          <p:nvPr/>
        </p:nvSpPr>
        <p:spPr>
          <a:xfrm>
            <a:off x="431640" y="1665360"/>
            <a:ext cx="7993080" cy="671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物理学中，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电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来表示导体对电流阻碍作用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460440" y="4394160"/>
            <a:ext cx="8035920" cy="123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电阻是导体本身的性质。它的大小取决于导体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材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长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横截面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还受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温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431640" y="3357720"/>
            <a:ext cx="7993080" cy="671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电阻的单位是欧姆，简称欧，符号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6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204" name="圆角矩形 1" descr=""/>
            <p:cNvPicPr/>
            <p:nvPr/>
          </p:nvPicPr>
          <p:blipFill>
            <a:blip r:embed="rId2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8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课堂小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金属圆柱体"/>
          <p:cNvPicPr/>
          <p:nvPr/>
        </p:nvPicPr>
        <p:blipFill>
          <a:blip r:embed="rId1"/>
          <a:stretch/>
        </p:blipFill>
        <p:spPr>
          <a:xfrm>
            <a:off x="476280" y="315900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a8afa7f9c15fee945348bfb3e475d5e2"/>
          <p:cNvPicPr/>
          <p:nvPr/>
        </p:nvPicPr>
        <p:blipFill>
          <a:blip r:embed="rId2"/>
          <a:stretch/>
        </p:blipFill>
        <p:spPr>
          <a:xfrm>
            <a:off x="5543640" y="4724280"/>
            <a:ext cx="2828880" cy="195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导线"/>
          <p:cNvPicPr/>
          <p:nvPr/>
        </p:nvPicPr>
        <p:blipFill>
          <a:blip r:embed="rId3"/>
          <a:stretch/>
        </p:blipFill>
        <p:spPr>
          <a:xfrm>
            <a:off x="5256360" y="2421000"/>
            <a:ext cx="3197160" cy="22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:\李燃\教师教学用书\2012人教教师用书项目\ppt\物理\图标.png"/>
          <p:cNvPicPr/>
          <p:nvPr/>
        </p:nvPicPr>
        <p:blipFill>
          <a:blip r:embed="rId4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431640" y="126828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导线多是用铜做的，特别重要的电器设备的导线还要用昂贵的银来做。铁也是导体，既多又便宜，想想看，为什么不用铁来做导线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\\初三物理\初三物理共享\新教材图 电压电阻 生活用电\16章 电压电阻\电压电阻图\16-3-1.JPG"/>
          <p:cNvPicPr/>
          <p:nvPr/>
        </p:nvPicPr>
        <p:blipFill>
          <a:blip r:embed="rId1"/>
          <a:stretch/>
        </p:blipFill>
        <p:spPr>
          <a:xfrm>
            <a:off x="2502000" y="2349360"/>
            <a:ext cx="5184720" cy="2962440"/>
          </a:xfrm>
          <a:prstGeom prst="rect">
            <a:avLst/>
          </a:prstGeom>
          <a:ln w="0">
            <a:noFill/>
          </a:ln>
        </p:spPr>
      </p:pic>
      <p:sp>
        <p:nvSpPr>
          <p:cNvPr id="49" name="标题 1"/>
          <p:cNvSpPr/>
          <p:nvPr/>
        </p:nvSpPr>
        <p:spPr>
          <a:xfrm>
            <a:off x="431640" y="765000"/>
            <a:ext cx="140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演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8"/>
          <p:cNvSpPr/>
          <p:nvPr/>
        </p:nvSpPr>
        <p:spPr>
          <a:xfrm>
            <a:off x="431640" y="126828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短、粗细相同的铜丝和镍铬合金丝分别接入电路，闭合开关，观察电路中小灯泡的亮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31640" y="5913360"/>
            <a:ext cx="819000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楷体_GB2312"/>
              </a:rPr>
              <a:t>　　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接不同的导体，小灯泡的亮度发生了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431640" y="2276640"/>
            <a:ext cx="20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31640" y="5192640"/>
            <a:ext cx="20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9"/>
          <p:cNvSpPr/>
          <p:nvPr/>
        </p:nvSpPr>
        <p:spPr>
          <a:xfrm>
            <a:off x="431640" y="1268280"/>
            <a:ext cx="83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上述实验中，接入电流表，观察电流表的示数变化，并继续观察小灯泡的亮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3537000" y="2322360"/>
            <a:ext cx="3058560" cy="2114280"/>
            <a:chOff x="3537000" y="2322360"/>
            <a:chExt cx="3058560" cy="2114280"/>
          </a:xfrm>
        </p:grpSpPr>
        <p:sp>
          <p:nvSpPr>
            <p:cNvPr id="57" name="Rectangle 102"/>
            <p:cNvSpPr/>
            <p:nvPr/>
          </p:nvSpPr>
          <p:spPr>
            <a:xfrm>
              <a:off x="3537000" y="2817720"/>
              <a:ext cx="2808000" cy="13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0"/>
            <p:cNvSpPr/>
            <p:nvPr/>
          </p:nvSpPr>
          <p:spPr>
            <a:xfrm>
              <a:off x="4093920" y="2638440"/>
              <a:ext cx="9363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87"/>
            <p:cNvSpPr/>
            <p:nvPr/>
          </p:nvSpPr>
          <p:spPr>
            <a:xfrm>
              <a:off x="6102000" y="3313080"/>
              <a:ext cx="493560" cy="49356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23"/>
            <p:cNvSpPr/>
            <p:nvPr/>
          </p:nvSpPr>
          <p:spPr>
            <a:xfrm flipV="1" rot="5400000">
              <a:off x="4050000" y="2744280"/>
              <a:ext cx="1126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23"/>
            <p:cNvSpPr/>
            <p:nvPr/>
          </p:nvSpPr>
          <p:spPr>
            <a:xfrm flipV="1" rot="5400000">
              <a:off x="5013720" y="2763360"/>
              <a:ext cx="1126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26"/>
            <p:cNvSpPr/>
            <p:nvPr/>
          </p:nvSpPr>
          <p:spPr>
            <a:xfrm>
              <a:off x="3985920" y="2322360"/>
              <a:ext cx="431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26"/>
            <p:cNvSpPr/>
            <p:nvPr/>
          </p:nvSpPr>
          <p:spPr>
            <a:xfrm>
              <a:off x="4922640" y="2322360"/>
              <a:ext cx="431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11"/>
            <p:cNvGrpSpPr/>
            <p:nvPr/>
          </p:nvGrpSpPr>
          <p:grpSpPr>
            <a:xfrm>
              <a:off x="3987360" y="3987720"/>
              <a:ext cx="504000" cy="286920"/>
              <a:chOff x="3987360" y="3987720"/>
              <a:chExt cx="504000" cy="286920"/>
            </a:xfrm>
          </p:grpSpPr>
          <p:sp>
            <p:nvSpPr>
              <p:cNvPr id="65" name="Rectangle 15"/>
              <p:cNvSpPr/>
              <p:nvPr/>
            </p:nvSpPr>
            <p:spPr>
              <a:xfrm>
                <a:off x="4044240" y="3987720"/>
                <a:ext cx="444960" cy="28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6"/>
              <p:cNvSpPr/>
              <p:nvPr/>
            </p:nvSpPr>
            <p:spPr>
              <a:xfrm flipV="1">
                <a:off x="4044240" y="3987720"/>
                <a:ext cx="44712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17"/>
              <p:cNvSpPr/>
              <p:nvPr/>
            </p:nvSpPr>
            <p:spPr>
              <a:xfrm>
                <a:off x="3987360" y="4102560"/>
                <a:ext cx="111960" cy="113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15"/>
            <p:cNvGrpSpPr/>
            <p:nvPr/>
          </p:nvGrpSpPr>
          <p:grpSpPr>
            <a:xfrm>
              <a:off x="5337000" y="3897000"/>
              <a:ext cx="134280" cy="539640"/>
              <a:chOff x="5337000" y="3897000"/>
              <a:chExt cx="134280" cy="539640"/>
            </a:xfrm>
          </p:grpSpPr>
          <p:sp>
            <p:nvSpPr>
              <p:cNvPr id="69" name="Rectangle 19"/>
              <p:cNvSpPr/>
              <p:nvPr/>
            </p:nvSpPr>
            <p:spPr>
              <a:xfrm>
                <a:off x="5337000" y="4076280"/>
                <a:ext cx="13428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20"/>
              <p:cNvSpPr/>
              <p:nvPr/>
            </p:nvSpPr>
            <p:spPr>
              <a:xfrm>
                <a:off x="5337000" y="3897000"/>
                <a:ext cx="0" cy="53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21"/>
              <p:cNvSpPr/>
              <p:nvPr/>
            </p:nvSpPr>
            <p:spPr>
              <a:xfrm>
                <a:off x="5471280" y="4032000"/>
                <a:ext cx="0" cy="269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9"/>
            <p:cNvGrpSpPr/>
            <p:nvPr/>
          </p:nvGrpSpPr>
          <p:grpSpPr>
            <a:xfrm>
              <a:off x="5562360" y="2503440"/>
              <a:ext cx="541080" cy="583560"/>
              <a:chOff x="5562360" y="2503440"/>
              <a:chExt cx="541080" cy="583560"/>
            </a:xfrm>
          </p:grpSpPr>
          <p:sp>
            <p:nvSpPr>
              <p:cNvPr id="73" name="Oval 61"/>
              <p:cNvSpPr/>
              <p:nvPr/>
            </p:nvSpPr>
            <p:spPr>
              <a:xfrm>
                <a:off x="5562360" y="2547360"/>
                <a:ext cx="541080" cy="539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62"/>
              <p:cNvSpPr/>
              <p:nvPr/>
            </p:nvSpPr>
            <p:spPr>
              <a:xfrm>
                <a:off x="5606280" y="2503440"/>
                <a:ext cx="495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5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431640" y="2276640"/>
            <a:ext cx="20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31640" y="4078440"/>
            <a:ext cx="20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431640" y="4724280"/>
            <a:ext cx="81900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　　把铜丝接入电路时，电流表的示数较大，小灯泡较明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　　把镍铬合金丝接入电路时，电流表的示数较小，小灯泡较暗。</a:t>
            </a: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66cc"/>
                </a:solidFill>
                <a:latin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431640" y="72864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演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4"/>
          <p:cNvSpPr/>
          <p:nvPr/>
        </p:nvSpPr>
        <p:spPr>
          <a:xfrm>
            <a:off x="431640" y="3105000"/>
            <a:ext cx="81439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导体虽然容易导电，但对电流也有一定的阻碍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在相同的电压下，通过铜丝的电流比较大，表明铜丝对电流的阻碍作用比较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通过镍铬合金丝的电流比较小，表明镍铬合金丝对电流的阻碍作用比较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431640" y="1268280"/>
            <a:ext cx="83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在相同的电压下，通过铜丝的电流比镍铬合金丝的大，为什么会有这种差别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431640" y="2492280"/>
            <a:ext cx="20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31640" y="730080"/>
            <a:ext cx="20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　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0"/>
          <p:cNvSpPr/>
          <p:nvPr/>
        </p:nvSpPr>
        <p:spPr>
          <a:xfrm>
            <a:off x="431640" y="1268280"/>
            <a:ext cx="80550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在物理学中，用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电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来表示导体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对电流阻碍作用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导体的电阻越大，表示导体对电流的阻碍作用就越大。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导体的电阻通常用字母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表示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单位：欧姆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简称欧，符号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阻的单位还有：兆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　　　　　　　　  千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　　换算关系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kΩ = 1 000 Ω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Ω = 1 000 000 Ω=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87" name="矩形 4"/>
          <p:cNvSpPr/>
          <p:nvPr/>
        </p:nvSpPr>
        <p:spPr>
          <a:xfrm>
            <a:off x="766440" y="41112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电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5"/>
          <p:cNvSpPr/>
          <p:nvPr/>
        </p:nvSpPr>
        <p:spPr>
          <a:xfrm>
            <a:off x="431640" y="80028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电阻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电子技术中，我们常用到有一定电阻值的元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阻器，也叫做定值电阻，简称电阻。电路图中用符号                    表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2495520" y="2259000"/>
            <a:ext cx="1428840" cy="190440"/>
            <a:chOff x="2495520" y="2259000"/>
            <a:chExt cx="1428840" cy="190440"/>
          </a:xfrm>
        </p:grpSpPr>
        <p:sp>
          <p:nvSpPr>
            <p:cNvPr id="90" name="直接连接符 7"/>
            <p:cNvSpPr/>
            <p:nvPr/>
          </p:nvSpPr>
          <p:spPr>
            <a:xfrm>
              <a:off x="2495520" y="2354040"/>
              <a:ext cx="142884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8"/>
            <p:cNvSpPr/>
            <p:nvPr/>
          </p:nvSpPr>
          <p:spPr>
            <a:xfrm>
              <a:off x="2895480" y="2259000"/>
              <a:ext cx="628560" cy="190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8" descr="7bd91f5880f9e6a58b25290049949b47"/>
          <p:cNvPicPr/>
          <p:nvPr/>
        </p:nvPicPr>
        <p:blipFill>
          <a:blip r:embed="rId1"/>
          <a:stretch/>
        </p:blipFill>
        <p:spPr>
          <a:xfrm>
            <a:off x="1150920" y="302436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f389ba3a69da1435e7f8a3b84ac698a9"/>
          <p:cNvPicPr/>
          <p:nvPr/>
        </p:nvPicPr>
        <p:blipFill>
          <a:blip r:embed="rId2"/>
          <a:stretch/>
        </p:blipFill>
        <p:spPr>
          <a:xfrm>
            <a:off x="1601640" y="5138640"/>
            <a:ext cx="1733760" cy="1352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7e127c69ce408b241d8385d88f81e0ca"/>
          <p:cNvPicPr/>
          <p:nvPr/>
        </p:nvPicPr>
        <p:blipFill>
          <a:blip r:embed="rId3"/>
          <a:stretch/>
        </p:blipFill>
        <p:spPr>
          <a:xfrm>
            <a:off x="5157720" y="4370400"/>
            <a:ext cx="3476520" cy="248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电阻1"/>
          <p:cNvPicPr/>
          <p:nvPr/>
        </p:nvPicPr>
        <p:blipFill>
          <a:blip r:embed="rId4"/>
          <a:stretch/>
        </p:blipFill>
        <p:spPr>
          <a:xfrm rot="19674000">
            <a:off x="2771640" y="3654000"/>
            <a:ext cx="3419640" cy="606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3f7fc407041d062e98f1dd6f8a607302"/>
          <p:cNvPicPr/>
          <p:nvPr/>
        </p:nvPicPr>
        <p:blipFill>
          <a:blip r:embed="rId5"/>
          <a:stretch/>
        </p:blipFill>
        <p:spPr>
          <a:xfrm>
            <a:off x="6146640" y="2933640"/>
            <a:ext cx="2235240" cy="154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E:\李燃\教师教学用书\2012人教教师用书项目\ppt\物理\图标.png"/>
          <p:cNvPicPr/>
          <p:nvPr/>
        </p:nvPicPr>
        <p:blipFill>
          <a:blip r:embed="rId6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5"/>
          <p:cNvSpPr/>
          <p:nvPr/>
        </p:nvSpPr>
        <p:spPr>
          <a:xfrm>
            <a:off x="2519280" y="2446200"/>
            <a:ext cx="6435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电阻的大小是否跟导线的长度有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电阻的大小是否跟导线的粗细有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其他因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484360" y="1268280"/>
            <a:ext cx="60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材料一定的情况下，电阻的大小还和哪些因素有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3941640" y="4373640"/>
            <a:ext cx="3714840" cy="2087640"/>
            <a:chOff x="3941640" y="4373640"/>
            <a:chExt cx="3714840" cy="2087640"/>
          </a:xfrm>
        </p:grpSpPr>
        <p:sp>
          <p:nvSpPr>
            <p:cNvPr id="101" name="Text Box 5"/>
            <p:cNvSpPr/>
            <p:nvPr/>
          </p:nvSpPr>
          <p:spPr>
            <a:xfrm>
              <a:off x="6470640" y="4619880"/>
              <a:ext cx="787320" cy="9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6000480" y="5929560"/>
              <a:ext cx="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5796000" y="6091200"/>
              <a:ext cx="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5176800" y="6199200"/>
              <a:ext cx="61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6003720" y="6216840"/>
              <a:ext cx="165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1"/>
            <p:cNvSpPr/>
            <p:nvPr/>
          </p:nvSpPr>
          <p:spPr>
            <a:xfrm flipV="1">
              <a:off x="4616280" y="6046560"/>
              <a:ext cx="652680" cy="17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>
              <a:off x="3941640" y="6235920"/>
              <a:ext cx="58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3"/>
            <p:cNvSpPr/>
            <p:nvPr/>
          </p:nvSpPr>
          <p:spPr>
            <a:xfrm flipV="1">
              <a:off x="3941640" y="4872240"/>
              <a:ext cx="0" cy="13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4"/>
            <p:cNvSpPr/>
            <p:nvPr/>
          </p:nvSpPr>
          <p:spPr>
            <a:xfrm>
              <a:off x="3941640" y="487224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5"/>
            <p:cNvSpPr/>
            <p:nvPr/>
          </p:nvSpPr>
          <p:spPr>
            <a:xfrm>
              <a:off x="4662360" y="4807080"/>
              <a:ext cx="128520" cy="129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6"/>
            <p:cNvSpPr/>
            <p:nvPr/>
          </p:nvSpPr>
          <p:spPr>
            <a:xfrm>
              <a:off x="5905440" y="4854600"/>
              <a:ext cx="131760" cy="131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7"/>
            <p:cNvSpPr/>
            <p:nvPr/>
          </p:nvSpPr>
          <p:spPr>
            <a:xfrm>
              <a:off x="6037200" y="4903920"/>
              <a:ext cx="32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8"/>
            <p:cNvSpPr/>
            <p:nvPr/>
          </p:nvSpPr>
          <p:spPr>
            <a:xfrm>
              <a:off x="6352920" y="4589640"/>
              <a:ext cx="588960" cy="584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9"/>
            <p:cNvSpPr/>
            <p:nvPr/>
          </p:nvSpPr>
          <p:spPr>
            <a:xfrm>
              <a:off x="6957720" y="4876920"/>
              <a:ext cx="654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7624800" y="4854600"/>
              <a:ext cx="2880" cy="136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>
              <a:off x="4565520" y="4373640"/>
              <a:ext cx="78588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2"/>
            <p:cNvSpPr/>
            <p:nvPr/>
          </p:nvSpPr>
          <p:spPr>
            <a:xfrm>
              <a:off x="5738760" y="4373640"/>
              <a:ext cx="78588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4527360" y="61372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2986920" y="411120"/>
            <a:ext cx="366480" cy="5814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探究影响电阻大小的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431640" y="1268280"/>
            <a:ext cx="20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　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431640" y="2530440"/>
            <a:ext cx="20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猜　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31640" y="4365720"/>
            <a:ext cx="20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53"/>
          <p:cNvSpPr/>
          <p:nvPr/>
        </p:nvSpPr>
        <p:spPr>
          <a:xfrm>
            <a:off x="431640" y="750960"/>
            <a:ext cx="645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探究电阻与导体长度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06504003"/>
          <p:cNvPicPr/>
          <p:nvPr/>
        </p:nvPicPr>
        <p:blipFill>
          <a:blip r:embed="rId2"/>
          <a:stretch/>
        </p:blipFill>
        <p:spPr>
          <a:xfrm>
            <a:off x="1116000" y="1881360"/>
            <a:ext cx="6842160" cy="40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 </dc:creator>
  <dc:description>   </dc:description>
  <cp:keywords/>
  <dc:language>en-US</dc:language>
  <cp:lastModifiedBy>ydzhu</cp:lastModifiedBy>
  <dcterms:modified xsi:type="dcterms:W3CDTF">2015-10-26T07:22:56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