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BCBF-420D-4215-8EC0-4F6BCF33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6BC8-1CB4-49F6-BC30-26C0CD85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EB5-5DF4-480D-9798-C01B4D93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07F-1CC5-45A5-AF62-32C250B8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E6D-969F-4055-829D-F209C5F7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215-BCEE-4296-BBD4-C06C534F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8E3-C6F0-4A51-A75D-1AAF6600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19A-E3FA-4FE0-9FE0-74823D10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992-CF4C-4659-B4D5-64B1DB94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B97-A53A-460B-B292-275A9573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FB6-3C2A-4DB7-B92A-E3A372DD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D86-98BA-4B96-8BA2-F17CEB27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BD1E-A3B7-43B5-9060-2BDA97BEDA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9-06-24T07:21:56Z</dcterms:modified>
  <cp:revision>31</cp:revision>
  <dc:subject/>
  <dc:title>幻灯片 1</dc:title>
</cp:coreProperties>
</file>