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A356-50B9-463C-A33F-4506FB713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112C-8B0B-46D9-A668-49F847FC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DA686-AD37-42D0-BDF6-2794F17D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C98A3-CA53-4570-A3D4-CD8F0F41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492A3-DEB8-4AA7-9713-27ADB975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58FC9-7BEB-4928-8C8D-06F1C836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96982-462E-4729-A271-9B238CAF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148627-1468-41CD-82D2-554EAC43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437045-5151-451F-B410-947517E90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97B866-7337-4EBA-A80F-D0424A94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43B75C-184E-4D69-8BD5-D721C6CF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3595F-4D5D-463D-8804-336246CD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8DF-B8F8-4BF2-B5AC-560293E98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6272AB-85BD-492F-BEAF-2D91DE77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3F3A3-9251-4F88-82AF-B814A581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114CDD-A67C-428A-BA05-9D8479A0D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A3870-65AA-42F2-B8E1-C5D3880FB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60862-D7C6-4AD6-947E-6786B8C3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75983-EB4D-42CC-8AC6-4145EB9D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AAC25-65DB-4C6F-90CF-EC7C7338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E78CB0-B2C1-4BA7-A220-1D73BF24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38005E-EEDF-4F14-98D2-35F30121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1B907-7093-4BD1-9FF3-1514CCDE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2FC-D5F8-428C-B208-ABE1B4009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0C252-EE5B-456D-B2B3-FEE63F7C3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EE4698-8509-4A75-A6D8-C7BFC2F1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3DEE9-9DD5-47D9-9609-D3B550C81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F448F-46FB-4295-9AA1-FA58A1C7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A304F-203A-4761-AB99-D051A842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35C4C-3CD3-40DE-B4E1-8EA32152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91FA5-73E6-4F58-9531-03C32B7D3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21CE0-067A-44E6-B9DB-47AAC039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5A795-1D08-4724-9078-FED52F7B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EA23C-CBCA-4B00-82E2-3BF315E1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AC93F-AA2C-424A-BF9C-B3BF1C0E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D0EE4-2F78-416C-ADA3-7F0AE33B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062B9-2047-4F1A-9F15-8E302DC83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CBCA9D-CC94-463E-8CE8-5A71357B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2B21B-6189-42FF-B7D4-71A37D5A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E43E9-95D4-468D-9376-7062D111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3C74D-EB1A-48B8-8050-827AE26C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EEEF7F-3250-4C1B-BE64-DDB70085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2B5026-E02C-42B6-A73C-0BD62BF6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B41C6-45E2-481D-8CB2-B3D6282E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1A3AF-6EA3-45AC-9F28-BD06A953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97B6-3574-4481-B82E-99272397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4DD66-9DEA-4CF6-9410-DA9B582D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724869-3782-4AD6-ACC9-C8AE8504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301EBD-2668-46F4-99AC-6E12EA29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A00E5-048D-4BDE-8D51-D21E963C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DC5D1-4FAE-4330-92A1-6E1EA0D2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E73180-F115-4F97-9391-4EB752B4C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269AD-6E2C-4379-82DC-E6D46518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C9E9D-C32E-4A7D-8B22-F3EA0270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A193C-9CB7-4AAB-A32C-0B812E1F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12605D-AF05-4628-B7AE-A8442BBF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AFC3-3CDE-435A-BBAE-60F71D603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32681-DADE-4326-8907-DFF0AD333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55EBCF-4163-48B6-AE3E-0C4965C7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06C02-258D-46EE-A22F-922A9E4B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DF0C1-6DDD-4DF9-A1E6-78E51B6C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78DD54-D42E-4467-ACA8-02236C67F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0C8C7-AC6E-4B43-9865-F7588B611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B04D6-68CE-4838-912F-4289B3B01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F749A2-3E45-4D80-82C4-94B1ABA4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350870-5B2D-4C60-B0BB-39D5987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185173-E095-4A31-ABD3-2A0F068D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5214-901A-4E1D-8575-A6CD7645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96C7A-8521-4B67-83F1-F95AC2CD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109EE0-1DEF-4B82-BC81-B5C5C490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3B8E14-7ABA-4566-91CB-09D32E27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D45F0-23E3-40DA-817B-5662079A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036596-F074-4EAD-AB8C-E1AEAD4D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64AE1-4B2E-4F6D-8FEB-BE2E0533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852A7B-34DD-410F-AEFF-26BE1298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FB6B07-0201-4772-A3BD-8EDE253F8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A9078D-726B-4E24-94B9-BDF54C9B8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9A49-8C5F-472A-9735-FC4601F1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A9226-0FA9-4E8B-8E3E-537E3E56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0BEF-6006-4F40-9850-0507C0214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FE2-B44C-40D4-80BB-9FB23E38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BF4A-D055-4499-B1CD-6AB664D4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BFDB-A430-479B-BBAD-3FD69C13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3895-45CE-4DFF-8CBD-E8F043F7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7C0F7-5237-4B73-B039-DB405C5CA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6372F-452D-4A1D-B25B-BDC4182E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179B9-0679-4CAE-B740-39F9AF19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F5B74-A946-46F8-91DA-1DA48456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B562E-8622-47C0-98F9-3936EF07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54DF-337C-434B-B7BD-1276C9F3F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703C2-7532-4ED2-83B2-F33C19DE1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67D-5928-4964-979F-48BFCC09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74D8B-73B4-4608-936B-766AA5F3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CA96E-8724-4B14-9D65-E237804E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7BED4-6335-4598-BCAF-74C428E6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60D00-045E-4696-B0CF-74ACA658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550DC-D3BD-4DD0-876A-CFF605DC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5E69-EE62-458F-9C27-0E162BA36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75FC-92D4-422C-92C3-FBE67EA9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23A20-EF3D-4DED-85A3-4F0246F8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1AFD0-9498-41F4-8488-77EF40493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2400A-A642-4792-BE28-D7D083D9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00A2-7051-4BE5-BA35-3A8F815A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C6F18-E866-442E-A362-4F150ED6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F379D-C3AF-40AC-8E14-685C2A3C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3082F-1F4C-4BAC-9AE9-10A9B945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76CE1-9495-44ED-9251-06B3977D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C3FD4-CE94-44EE-B72B-EB177E9B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7037-00E1-45F0-8412-8CC2AB6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702CD-9CF7-494F-B6C4-53938348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9EDD-40C1-4285-AF35-0F3B8E85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DDB53-C7A7-4A57-A4FB-B2586609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264AF-E3C7-4353-9606-495155FA2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750E-7780-471B-A0CE-934BF3D1A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F5350-8BAB-4B34-B57F-B7363C5F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A9266-9F94-4817-8AF8-A585938D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8488-9297-4656-8B07-01F0F250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6D81B-FD00-45F8-B48A-9E73A2AF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DD5DC-736C-4AA6-8512-824E5600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32E90B-5303-457C-A4D1-9212DF3EF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785AB-FE7F-4EB7-842E-AC50C9B6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5E550-18B6-4198-9011-97241CCD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89A4B-50D4-439A-B966-B581B9FF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51346-AE9E-4F07-9CC0-1E65365F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376-0E3A-4C1C-8C2C-AA089AF43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926F1-0850-478F-8887-711D6FA9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3BE6D-A787-496F-AA0F-48639AFE6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295B3-72BA-4FFB-AE85-DC70F5A5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B326CA-6154-4723-9619-C7F821BB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2ED08-F11C-4C26-BDC3-B2902EB8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39227-2209-47DD-A2EA-0B4659D5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04EF0-B581-45B7-8D66-453D9B68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B8AD9-553F-4159-A46C-AD495052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D979A-55A2-43CE-AD86-979700CB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2FA22-0ADA-40C2-A905-3C17082CB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F7F9-5563-4A0B-8C6B-2564B97F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ABCB7-66F2-4C98-8A74-FF8A3297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C18A-BF0C-4A17-A989-27C0BBF53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2256A-AC13-4ABA-9DC2-DCD5BCBF0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8719B-C134-4DF8-95E8-FCA39DF9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6B88B-AF9B-451D-BE26-7846FF91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EE290-F3E2-4893-80F5-9CDFC4AB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00D30-894B-4015-8C8C-1CD8CC84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4FF1D-CE64-41E0-9BA8-D78C3DC7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A03EE-74B4-43EE-A071-0138AE9B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73E6B-2FA7-4D80-B146-EB38B2E8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C97-4465-49FF-9CF2-4C053243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6AD74-D5F2-40F7-AA1C-B4F6C52B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1A678-73F6-4DB8-99CA-691227C9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821190-51B9-43BA-874E-81ED0A0C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E3E68-5D15-48AC-844D-6EA690141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85CBD-DBB2-482D-B4E2-F1BAADF5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DF571-C4A6-41A9-B348-E5783C90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2420F-0FBA-4180-AF60-62DC57E7F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98622-5AB5-4847-B694-E005D7E4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1AC79-624E-475B-9343-DE80F0F0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41479-B796-497B-83C7-8C035143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2713-93E6-42F1-BF7C-6221B82D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39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2336B-15CB-401D-8E79-2A7168B7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E2655-C949-4F82-B39C-B8E458C3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6B6C1-BD36-4376-8DC8-AC005FAB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E42F1-8DA6-4841-B1AA-96B327B9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60" y="377784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5EF40-5945-406D-8058-0B160C08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0" y="14130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656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83600" y="377784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04CF0D-B4FD-4444-98A2-3B7F2387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4900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31440" y="14130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656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4900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31440" y="377784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D142C-C7B3-4BE4-9A08-DF2D25B3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C5F97-C640-402B-A03E-F51BC3E8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EB4BFF-E4CE-4541-8A12-EDC27A75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680F4-F016-4E3F-B90E-873BCA86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F13C-9E89-4630-82A2-D0A41F413E1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1744-6550-4F1E-9755-B114650CF0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AB36-4731-4492-A4FA-101B7F9391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EA69-0F7D-497D-A016-28D94DD063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1A63-56DA-4680-AED6-9E30A4EE56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92FE-293C-41A6-8769-62EA1BC683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EBDE-61B2-4084-BCC4-B9228C0C78A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7219-C080-4678-9D9E-2266E117FA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B3E5-3E61-45D4-BA9D-4D60974E8FA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6E7E-AA7A-4BAA-9511-90BEA3C25D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C509-AD48-4732-B48E-93CE543680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BC2E-BAAE-40C1-8D75-C1F1802F48E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0EAB-17B5-4536-9B8A-B434C84EA3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9B5C-914B-4C22-B2C5-412750EC32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27EA-E5D1-4B11-96C3-A4645B0E1AA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66560" y="141300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A7D97-2C88-4FB1-B31E-38B9D37A5CE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4000" y="2709720"/>
            <a:ext cx="84596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初定专业技术资格网报流程与要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1482840" y="479736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20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22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九、工作业绩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内容占位符 4" descr=""/>
          <p:cNvPicPr/>
          <p:nvPr/>
        </p:nvPicPr>
        <p:blipFill>
          <a:blip r:embed="rId1"/>
          <a:stretch/>
        </p:blipFill>
        <p:spPr>
          <a:xfrm>
            <a:off x="554040" y="1539720"/>
            <a:ext cx="8132760" cy="1609920"/>
          </a:xfrm>
          <a:prstGeom prst="rect">
            <a:avLst/>
          </a:prstGeom>
          <a:ln w="0">
            <a:noFill/>
          </a:ln>
        </p:spPr>
      </p:pic>
      <p:sp>
        <p:nvSpPr>
          <p:cNvPr id="624" name="文本框 5"/>
          <p:cNvSpPr/>
          <p:nvPr/>
        </p:nvSpPr>
        <p:spPr>
          <a:xfrm>
            <a:off x="660240" y="33559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业绩填写本人参加教学研究工作材料（论文、课题等），填写基本信息并完成佐证材料上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、工作总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内容占位符 4" descr=""/>
          <p:cNvPicPr/>
          <p:nvPr/>
        </p:nvPicPr>
        <p:blipFill>
          <a:blip r:embed="rId1"/>
          <a:stretch/>
        </p:blipFill>
        <p:spPr>
          <a:xfrm>
            <a:off x="628560" y="1214280"/>
            <a:ext cx="8218440" cy="3044880"/>
          </a:xfrm>
          <a:prstGeom prst="rect">
            <a:avLst/>
          </a:prstGeom>
          <a:ln w="0">
            <a:noFill/>
          </a:ln>
        </p:spPr>
      </p:pic>
      <p:sp>
        <p:nvSpPr>
          <p:cNvPr id="628" name="文本框 5"/>
          <p:cNvSpPr/>
          <p:nvPr/>
        </p:nvSpPr>
        <p:spPr>
          <a:xfrm>
            <a:off x="596880" y="4321080"/>
            <a:ext cx="83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总结处填写个人工作总结，注意字数要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一、年度考核信息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内容占位符 4" descr=""/>
          <p:cNvPicPr/>
          <p:nvPr/>
        </p:nvPicPr>
        <p:blipFill>
          <a:blip r:embed="rId1"/>
          <a:stretch/>
        </p:blipFill>
        <p:spPr>
          <a:xfrm>
            <a:off x="125280" y="1825560"/>
            <a:ext cx="8894880" cy="1490760"/>
          </a:xfrm>
          <a:prstGeom prst="rect">
            <a:avLst/>
          </a:prstGeom>
          <a:ln w="0">
            <a:noFill/>
          </a:ln>
        </p:spPr>
      </p:pic>
      <p:sp>
        <p:nvSpPr>
          <p:cNvPr id="631" name="文本框 6"/>
          <p:cNvSpPr/>
          <p:nvPr/>
        </p:nvSpPr>
        <p:spPr>
          <a:xfrm>
            <a:off x="490680" y="3611520"/>
            <a:ext cx="816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度考核信息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2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编内录用新教师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新教师见习期满转正定级考核表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相关信息，并上传考核表原件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202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及之前录用聘用制（员额制）教师上传新教师试用期考核表或年度考核表（有一年填一年），复印件需单位盖章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其他教师上传单位年度考核表，复印件需单位盖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二、社保缴费证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8182080" cy="31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下载江苏智慧人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点击“服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选择“社会保险”—“个人权益单”—“江苏社会保险权益记录单（参保人员）”—起始年月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2105-202205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保存为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上传图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三、单位公示及结果报告证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内容占位符 4" descr=""/>
          <p:cNvPicPr/>
          <p:nvPr/>
        </p:nvPicPr>
        <p:blipFill>
          <a:blip r:embed="rId1"/>
          <a:stretch/>
        </p:blipFill>
        <p:spPr>
          <a:xfrm>
            <a:off x="368280" y="1413000"/>
            <a:ext cx="8406000" cy="1825560"/>
          </a:xfrm>
          <a:prstGeom prst="rect">
            <a:avLst/>
          </a:prstGeom>
          <a:ln w="0">
            <a:noFill/>
          </a:ln>
        </p:spPr>
      </p:pic>
      <p:sp>
        <p:nvSpPr>
          <p:cNvPr id="637" name="文本框 5"/>
          <p:cNvSpPr/>
          <p:nvPr/>
        </p:nvSpPr>
        <p:spPr>
          <a:xfrm>
            <a:off x="577800" y="3502080"/>
            <a:ext cx="78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此处将以上两项模板下载，单位填写意见盖章后，完成材料上传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四、其他材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84646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其他材料无需填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上所有信息填写完成，核实无误后，点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申报表预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再次核实无误后，点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进入教育行政部门审核环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图片 4" descr=""/>
          <p:cNvPicPr/>
          <p:nvPr/>
        </p:nvPicPr>
        <p:blipFill>
          <a:blip r:embed="rId1"/>
          <a:stretch/>
        </p:blipFill>
        <p:spPr>
          <a:xfrm>
            <a:off x="1409760" y="3692520"/>
            <a:ext cx="63244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十五、相关说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7"/>
          <p:cNvSpPr/>
          <p:nvPr/>
        </p:nvSpPr>
        <p:spPr>
          <a:xfrm>
            <a:off x="563400" y="1349280"/>
            <a:ext cx="843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中旬开始申报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截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网上申报信息审核完毕后，请局属各单位职称负责同志注意，初定及申报人员都必须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内完成申报表的打印、盖章、上交工作。申报表一式两份，双面打印、盖章，单位统一交区教育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17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室审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、系统登录与注册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6200" y="1413000"/>
            <a:ext cx="826956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系统网址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s://rs.jshrss.jiangsu.gov.cn/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，使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浏览器极速模式或谷歌浏览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图片 4" descr=""/>
          <p:cNvPicPr/>
          <p:nvPr/>
        </p:nvPicPr>
        <p:blipFill>
          <a:blip r:embed="rId1"/>
          <a:stretch/>
        </p:blipFill>
        <p:spPr>
          <a:xfrm>
            <a:off x="1106640" y="2281320"/>
            <a:ext cx="3027240" cy="360828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7" descr=""/>
          <p:cNvPicPr/>
          <p:nvPr/>
        </p:nvPicPr>
        <p:blipFill>
          <a:blip r:embed="rId2"/>
          <a:stretch/>
        </p:blipFill>
        <p:spPr>
          <a:xfrm>
            <a:off x="5253120" y="2297160"/>
            <a:ext cx="324648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申报入口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115920" y="1722240"/>
            <a:ext cx="3425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注册成功后，即可登录，然后在主页面点“个人办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才人事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专业技术人员管理服务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职称初定申报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-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申报”，进入申报界面，然后按个人实际情况进行网上申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图片 10" descr=""/>
          <p:cNvPicPr/>
          <p:nvPr/>
        </p:nvPicPr>
        <p:blipFill>
          <a:blip r:embed="rId1"/>
          <a:stretch/>
        </p:blipFill>
        <p:spPr>
          <a:xfrm>
            <a:off x="3817800" y="1695600"/>
            <a:ext cx="522612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基本信息填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图片 4" descr="1"/>
          <p:cNvPicPr/>
          <p:nvPr/>
        </p:nvPicPr>
        <p:blipFill>
          <a:blip r:embed="rId1"/>
          <a:srcRect l="0" t="76191" r="347" b="0"/>
          <a:stretch/>
        </p:blipFill>
        <p:spPr>
          <a:xfrm>
            <a:off x="-196920" y="5570640"/>
            <a:ext cx="9507600" cy="121752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1" descr=""/>
          <p:cNvPicPr/>
          <p:nvPr/>
        </p:nvPicPr>
        <p:blipFill>
          <a:blip r:embed="rId2"/>
          <a:srcRect l="3759" t="245" r="1216" b="913"/>
          <a:stretch/>
        </p:blipFill>
        <p:spPr>
          <a:xfrm>
            <a:off x="-155520" y="1222200"/>
            <a:ext cx="9477360" cy="4413600"/>
          </a:xfrm>
          <a:prstGeom prst="rect">
            <a:avLst/>
          </a:prstGeom>
          <a:ln w="0">
            <a:noFill/>
          </a:ln>
        </p:spPr>
      </p:pic>
      <p:sp>
        <p:nvSpPr>
          <p:cNvPr id="587" name="椭圆 2"/>
          <p:cNvSpPr/>
          <p:nvPr/>
        </p:nvSpPr>
        <p:spPr>
          <a:xfrm>
            <a:off x="0" y="435924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椭圆 3"/>
          <p:cNvSpPr/>
          <p:nvPr/>
        </p:nvSpPr>
        <p:spPr>
          <a:xfrm>
            <a:off x="0" y="493092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14"/>
          <p:cNvSpPr/>
          <p:nvPr/>
        </p:nvSpPr>
        <p:spPr>
          <a:xfrm>
            <a:off x="563400" y="2405160"/>
            <a:ext cx="8134560" cy="919080"/>
          </a:xfrm>
          <a:prstGeom prst="rect">
            <a:avLst/>
          </a:prstGeom>
          <a:solidFill>
            <a:srgbClr val="a6a6a6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椭圆 4"/>
          <p:cNvSpPr/>
          <p:nvPr/>
        </p:nvSpPr>
        <p:spPr>
          <a:xfrm>
            <a:off x="6434280" y="4930920"/>
            <a:ext cx="2444760" cy="365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文本框 5"/>
          <p:cNvSpPr/>
          <p:nvPr/>
        </p:nvSpPr>
        <p:spPr>
          <a:xfrm>
            <a:off x="709560" y="2451240"/>
            <a:ext cx="784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工作单位性质民办幼儿园改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民办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行政主管部门改成常州市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天宁区教育局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报送受理部门改成</a:t>
            </a:r>
            <a:r>
              <a:rPr b="1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天宁区职称办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。填写完整无误后（幼儿园教师现从事专业，申报专业选择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幼儿园教师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），点击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暂存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点击左侧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学历学位信息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，进入下一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5"/>
          <p:cNvSpPr/>
          <p:nvPr/>
        </p:nvSpPr>
        <p:spPr>
          <a:xfrm>
            <a:off x="2587680" y="6423120"/>
            <a:ext cx="1539720" cy="285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6"/>
          <p:cNvSpPr/>
          <p:nvPr/>
        </p:nvSpPr>
        <p:spPr>
          <a:xfrm>
            <a:off x="2635200" y="6445080"/>
            <a:ext cx="142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选天宁区职称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7"/>
          <p:cNvSpPr/>
          <p:nvPr/>
        </p:nvSpPr>
        <p:spPr>
          <a:xfrm>
            <a:off x="934920" y="6454800"/>
            <a:ext cx="1335240" cy="297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文本框 8"/>
          <p:cNvSpPr/>
          <p:nvPr/>
        </p:nvSpPr>
        <p:spPr>
          <a:xfrm>
            <a:off x="934920" y="648000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0000"/>
                </a:solidFill>
                <a:latin typeface="Arial"/>
                <a:ea typeface="宋体"/>
              </a:rPr>
              <a:t>天宁区职称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0"/>
          <p:cNvSpPr/>
          <p:nvPr/>
        </p:nvSpPr>
        <p:spPr>
          <a:xfrm>
            <a:off x="7977240" y="3416400"/>
            <a:ext cx="1333440" cy="29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1"/>
          <p:cNvSpPr/>
          <p:nvPr/>
        </p:nvSpPr>
        <p:spPr>
          <a:xfrm>
            <a:off x="7977240" y="4359240"/>
            <a:ext cx="133344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2"/>
          <p:cNvSpPr/>
          <p:nvPr/>
        </p:nvSpPr>
        <p:spPr>
          <a:xfrm>
            <a:off x="7243920" y="1384200"/>
            <a:ext cx="733320" cy="80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学历学位信息填写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内容占位符 6" descr=""/>
          <p:cNvPicPr/>
          <p:nvPr/>
        </p:nvPicPr>
        <p:blipFill>
          <a:blip r:embed="rId1"/>
          <a:stretch/>
        </p:blipFill>
        <p:spPr>
          <a:xfrm>
            <a:off x="295200" y="1293840"/>
            <a:ext cx="8663040" cy="1066680"/>
          </a:xfrm>
          <a:prstGeom prst="rect">
            <a:avLst/>
          </a:prstGeom>
          <a:ln w="0">
            <a:noFill/>
          </a:ln>
        </p:spPr>
      </p:pic>
      <p:pic>
        <p:nvPicPr>
          <p:cNvPr id="602" name="图片 7" descr=""/>
          <p:cNvPicPr/>
          <p:nvPr/>
        </p:nvPicPr>
        <p:blipFill>
          <a:blip r:embed="rId2"/>
          <a:stretch/>
        </p:blipFill>
        <p:spPr>
          <a:xfrm>
            <a:off x="388800" y="2360520"/>
            <a:ext cx="8570880" cy="2303640"/>
          </a:xfrm>
          <a:prstGeom prst="rect">
            <a:avLst/>
          </a:prstGeom>
          <a:ln w="0">
            <a:noFill/>
          </a:ln>
        </p:spPr>
      </p:pic>
      <p:pic>
        <p:nvPicPr>
          <p:cNvPr id="603" name="图片 8" descr=""/>
          <p:cNvPicPr/>
          <p:nvPr/>
        </p:nvPicPr>
        <p:blipFill>
          <a:blip r:embed="rId3"/>
          <a:stretch/>
        </p:blipFill>
        <p:spPr>
          <a:xfrm>
            <a:off x="44280" y="4869000"/>
            <a:ext cx="8790120" cy="1062000"/>
          </a:xfrm>
          <a:prstGeom prst="rect">
            <a:avLst/>
          </a:prstGeom>
          <a:ln w="0">
            <a:noFill/>
          </a:ln>
        </p:spPr>
      </p:pic>
      <p:sp>
        <p:nvSpPr>
          <p:cNvPr id="604" name="文本框 9"/>
          <p:cNvSpPr/>
          <p:nvPr/>
        </p:nvSpPr>
        <p:spPr>
          <a:xfrm>
            <a:off x="515880" y="6037200"/>
            <a:ext cx="830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添加，完成基本信息填写后保存，上传学历、学位证书（高中以后、扫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），点击暂存，进入下一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专业技术资格填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五、专业技术资格（职业资格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内容占位符 4" descr=""/>
          <p:cNvPicPr/>
          <p:nvPr/>
        </p:nvPicPr>
        <p:blipFill>
          <a:blip r:embed="rId1"/>
          <a:stretch/>
        </p:blipFill>
        <p:spPr>
          <a:xfrm>
            <a:off x="14400" y="1662120"/>
            <a:ext cx="9115200" cy="3798720"/>
          </a:xfrm>
          <a:prstGeom prst="rect">
            <a:avLst/>
          </a:prstGeom>
          <a:ln w="0">
            <a:noFill/>
          </a:ln>
        </p:spPr>
      </p:pic>
      <p:sp>
        <p:nvSpPr>
          <p:cNvPr id="608" name="文本框 1"/>
          <p:cNvSpPr/>
          <p:nvPr/>
        </p:nvSpPr>
        <p:spPr>
          <a:xfrm>
            <a:off x="1036800" y="5602320"/>
            <a:ext cx="74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点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添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填写基本信息后，还需佐证材料上传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格式）。下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六、奖惩情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内容占位符 4" descr=""/>
          <p:cNvPicPr/>
          <p:nvPr/>
        </p:nvPicPr>
        <p:blipFill>
          <a:blip r:embed="rId1"/>
          <a:stretch/>
        </p:blipFill>
        <p:spPr>
          <a:xfrm>
            <a:off x="12600" y="1477800"/>
            <a:ext cx="8967960" cy="284328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5"/>
          <p:cNvSpPr/>
          <p:nvPr/>
        </p:nvSpPr>
        <p:spPr>
          <a:xfrm>
            <a:off x="577800" y="4303800"/>
            <a:ext cx="82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奖惩情况如实填写，并上传佐证材料，如没有，则无需填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七、工作经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内容占位符 4" descr=""/>
          <p:cNvPicPr/>
          <p:nvPr/>
        </p:nvPicPr>
        <p:blipFill>
          <a:blip r:embed="rId1"/>
          <a:stretch/>
        </p:blipFill>
        <p:spPr>
          <a:xfrm>
            <a:off x="96840" y="1941480"/>
            <a:ext cx="8589960" cy="174456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5"/>
          <p:cNvSpPr/>
          <p:nvPr/>
        </p:nvSpPr>
        <p:spPr>
          <a:xfrm>
            <a:off x="779400" y="3927600"/>
            <a:ext cx="73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工作经历如实填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八、继续教育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内容占位符 4" descr=""/>
          <p:cNvPicPr/>
          <p:nvPr/>
        </p:nvPicPr>
        <p:blipFill>
          <a:blip r:embed="rId1"/>
          <a:stretch/>
        </p:blipFill>
        <p:spPr>
          <a:xfrm>
            <a:off x="628560" y="1671480"/>
            <a:ext cx="8021880" cy="165132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5"/>
          <p:cNvSpPr/>
          <p:nvPr/>
        </p:nvSpPr>
        <p:spPr>
          <a:xfrm>
            <a:off x="898560" y="358632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继续教育分为公共科目合格证汇总表、新任教师上岗培训证明（师发学院提供，仅需编内参加新教师上岗培训教师提供）、区级培训、校本培训，填写基本信息完成佐证材料上传。公共科目合格证门数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加工作年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+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16:01:27Z</dcterms:created>
  <dc:creator/>
  <dc:description/>
  <dc:language>en-US</dc:language>
  <cp:lastModifiedBy>Administrator</cp:lastModifiedBy>
  <dcterms:modified xsi:type="dcterms:W3CDTF">2022-06-10T01:53:37Z</dcterms:modified>
  <cp:revision>115</cp:revision>
  <dc:subject/>
  <dc:title>职称评审系统使用（申报者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9442953A6D743CBBDF4A05E11CB0D71</vt:lpwstr>
  </property>
  <property fmtid="{D5CDD505-2E9C-101B-9397-08002B2CF9AE}" pid="3" name="KSOProductBuildVer">
    <vt:lpwstr>2052-11.1.0.11411</vt:lpwstr>
  </property>
</Properties>
</file>