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558-70B4-4AF7-947D-619DF7C8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624-C04D-42A1-89CB-38D3E26B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049-CBF8-4F90-9E8C-82C637CE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FC7-07AC-488A-B63D-83DE28C6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81F-5DE9-46A7-A035-BFE06DD0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D09-788A-44E3-B38B-52CB5893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491-6E34-4F8A-97C7-A0A1EA7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995-267B-4F76-873F-91F5F97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DAD-6834-40E4-86D7-41742121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197-0B9A-433A-91F7-77B53CA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942-4F53-4218-8311-E2AEB30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DE1-82B5-4573-88CA-8CF5154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2D0F-4B16-465F-B99B-E0E7BC9C0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020-2021&#23398;&#24180;&#24230;&#31532;&#20108;&#23398;&#26399;&#26032;&#32654;&#32452;&#24037;&#20316;&#35745;&#21010;.do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9977;&#20844;&#37324;&#35838;&#31243;&#36164;&#28304;&#35843;&#26597;&#32479;&#35745;&#26368;&#32456;&#31295;.doc" TargetMode="External"/><Relationship Id="rId2" Type="http://schemas.openxmlformats.org/officeDocument/2006/relationships/hyperlink" Target="&#23567;&#29677;&#24188;&#20799;&#22253;&#21608;&#36793;&#36164;&#28304;&#35268;&#21010;&#34920; &#29677;&#32452;.docx" TargetMode="External"/><Relationship Id="rId3" Type="http://schemas.openxmlformats.org/officeDocument/2006/relationships/hyperlink" Target="&#24188;&#20799;&#22253;&#21608;&#36793;&#36164;&#28304;&#35268;&#21010;&#34920; &#20013;&#29677;&#32452;2.0&#29256;&#26412;.docx" TargetMode="External"/><Relationship Id="rId4" Type="http://schemas.openxmlformats.org/officeDocument/2006/relationships/hyperlink" Target="&#24188;&#20799;&#22253;&#21608;&#36793;&#36164;&#28304;&#35268;&#21010;&#34920; &#20013;&#29677;&#32452;2.0&#29256;&#26412;.docx" TargetMode="External"/><Relationship Id="rId5" Type="http://schemas.openxmlformats.org/officeDocument/2006/relationships/hyperlink" Target="&#24188;&#20799;&#22253;&#21608;&#36793;&#36164;&#28304;&#35268;&#21010;&#34920;&#22823;&#29677;&#32452;2021.1&#25913;.docx" TargetMode="External"/><Relationship Id="rId6" Type="http://schemas.openxmlformats.org/officeDocument/2006/relationships/hyperlink" Target="&#24188;&#20799;&#22253;&#21608;&#36793;&#36164;&#28304;&#35268;&#21010;&#34920;&#22823;&#29677;&#32452;2021.1&#25913;.docx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聚焦课程  从新出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98800" y="3828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美组第一次活动之计划交流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21.3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458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重点围绕三大内容思考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90880" y="1787400"/>
            <a:ext cx="822456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确定我园三公里资源的小中大统一的资源表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梳理我园的三公里资源的具体内容，并要求按照小中大各个年龄段的具体目标进行整理（具体整理安排到小中大各个级组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增加或者删减一些缺失或者不必要的资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4440" y="619200"/>
            <a:ext cx="6858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活动内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66880" y="2076120"/>
            <a:ext cx="791064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了解当下班级教师开展课程的现状与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制定本学期新美组活动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梳理我园小中大各个年龄段的课程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520" y="1122480"/>
            <a:ext cx="74199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了解当下班级教师开展课程的现状与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39680" y="2133720"/>
            <a:ext cx="7612200" cy="32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师开展的课程的来源是什么？教师开展班本化课程会考量哪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来源于幼儿的需求、兴趣， 身边的资源、幼儿问题、幼儿一日生活、园所课程研究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是否好操作，发展了幼儿的什么能力，幼儿是否感兴趣、如何开展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1122480"/>
            <a:ext cx="6858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教师</a:t>
            </a:r>
            <a:r>
              <a:rPr b="0" lang="en-US" sz="4500" spc="-1" strike="noStrike">
                <a:solidFill>
                  <a:srgbClr val="000000"/>
                </a:solidFill>
                <a:latin typeface="宋体"/>
              </a:rPr>
              <a:t>最能驾驭的是课程的哪些方面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66880" y="1968120"/>
            <a:ext cx="68580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黄老师：课程实施时孩子们的兴趣，因为开展前会第一考虑是否可实施，是否是幼儿感兴趣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孙老师：课程的思路。在课程开展前，先对整个课程进行系统的思考和梳理，明确思路，再开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严老师：活动的推进与实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邹老师：课程的选题：在一日生活中关注幼儿兴趣点，或是一日生活中孩子在某个环节是否有问题，问题是否具有普遍性，问题的解决对孩子是否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28920" y="1155600"/>
            <a:ext cx="823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教师</a:t>
            </a:r>
            <a:r>
              <a:rPr b="0" lang="en-US" sz="4500" spc="-1" strike="noStrike">
                <a:solidFill>
                  <a:srgbClr val="000000"/>
                </a:solidFill>
                <a:latin typeface="宋体"/>
              </a:rPr>
              <a:t>在进行课程的设计与实施中，您最大的困难是什么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66520" y="2335320"/>
            <a:ext cx="785196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实施过程的策略、资源的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基不仅仅基于谈话活动，如何兼顾其他领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课程设计如何更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如何挖掘有价值的点进行课程生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880" y="877680"/>
            <a:ext cx="68580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教师</a:t>
            </a:r>
            <a:r>
              <a:rPr b="0" lang="en-US" sz="4500" spc="-1" strike="noStrike">
                <a:solidFill>
                  <a:srgbClr val="000000"/>
                </a:solidFill>
                <a:latin typeface="宋体"/>
              </a:rPr>
              <a:t>最想获得课程哪些方面的提升</a:t>
            </a:r>
            <a:r>
              <a:rPr b="0" lang="zh-CN" sz="45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82800" y="2214720"/>
            <a:ext cx="6858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设计科学合理的课程、优秀课程的案例学习、提升自己生发课程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课程梳理、理论对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课程设计与课程后期罗列汇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课程的组织与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880" y="661680"/>
            <a:ext cx="6858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制定本学期新美组活动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666880" y="1888920"/>
            <a:ext cx="6858000" cy="33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4" descr=""/>
          <p:cNvPicPr/>
          <p:nvPr/>
        </p:nvPicPr>
        <p:blipFill>
          <a:blip r:embed="rId2"/>
          <a:stretch/>
        </p:blipFill>
        <p:spPr>
          <a:xfrm>
            <a:off x="2814480" y="1805040"/>
            <a:ext cx="67104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666880" y="431640"/>
            <a:ext cx="65088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880" y="1122480"/>
            <a:ext cx="71596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梳理我园小中大各个年龄段的课程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666880" y="2421000"/>
            <a:ext cx="68580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三公里课程资源调查统计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最终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小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幼儿园周边资源规划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中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4"/>
              </a:rPr>
              <a:t>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幼儿园周边资源规划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5"/>
              </a:rPr>
              <a:t>大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6"/>
              </a:rPr>
              <a:t>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幼儿园周边资源规划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5T06:22:11Z</dcterms:created>
  <dc:creator>Administrator</dc:creator>
  <dc:description/>
  <dc:language>en-US</dc:language>
  <cp:lastModifiedBy>Administrator</cp:lastModifiedBy>
  <dcterms:modified xsi:type="dcterms:W3CDTF">2021-03-11T08:51:14Z</dcterms:modified>
  <cp:revision>8</cp:revision>
  <dc:subject/>
  <dc:title>聚焦课程  从新出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