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</p:sldIdLst>
  <p:sldSz cx="9144000" cy="51450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8C3-49D0-4D4A-A94A-F443C9D9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01F-625F-4A3D-8FEB-ECE7B29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3571-F92D-45A1-B0B4-B9D76FB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D6F97-3E4E-49B1-97D3-4CF2B45A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13439-E558-4DFA-81B0-D160D17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C5BA3-9E4D-4F13-8035-60C9125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A366-E091-4213-8228-DB1D417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D0CF-6AD1-4B2A-8769-C38BB8E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3B9B9-D54F-46F0-92C3-91BA0CB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2EAB-D9C6-44DF-AE0A-32C546D7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78BA8-EC4C-49D6-8228-D56AB96E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6C6EA-DFE4-4C28-91E5-B11F0ACE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0A1-1E5F-4249-99EA-DDAD4077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01BF8-7C21-46E7-BC06-BE2806C4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903E5-E261-4767-8AB6-927A6826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3A705-101A-4438-AC7A-F74D895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3F99F-F4EF-4555-833D-E431872E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1F232-612F-412B-84D0-FC517027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9895E-C9C9-406D-8E54-3839AFF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45C8C-BB43-4FBB-BB01-9A6C521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37BAE-5E0A-4542-92D1-D8625AA8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06DAF-0633-49F5-95B7-2D8985E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9860-DA7D-41BC-B0CC-20D879DF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7E6-1D64-486B-AA8E-3D688FAB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01CB4-BFB3-4443-B985-C22A08D7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C282-CF9F-4731-B8A0-A8FE3FAD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3CB70-7756-45C9-BAC6-7ECAC20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21A19-7D98-4D1E-8013-FDC4750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5012A-7DCD-4221-82B5-EFB018DE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A1DE-55F5-4C10-B660-D967CF8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DD8B-1F35-416E-9BD4-78C293FF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A4F6B-4BB8-4CD9-AE23-0944F0A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80779-F868-4381-99E0-DAF6947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CE4F-FEB2-4BFE-8685-72D9954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1EB-7278-4740-ABC8-B5470F7D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4640-58FD-4369-B0C5-DD205B78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F8816-98EE-4C64-B12A-FC173354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00E33-54D8-4302-827F-9750C12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B89F8-DFA3-48FA-A6EC-C94E8331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027F3-F4F7-4437-BB42-3B276D7D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21190-C820-4ECD-BF57-93D7520B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FE17D-C3C6-4094-AAC7-8AD96A93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97CDC-9C39-478F-90B4-EE1D20DD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A3F71-490B-481A-BC43-D7D264FB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8D560-0623-43BA-8127-11D60C0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3B2-44AD-462B-BE5E-708281F7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C7A1E-72BF-4D65-AADF-57066CE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68ED6-5A17-4BCD-84C4-9AF40D2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10C90-D716-4DFD-B8BF-0B21961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1F809-ABE2-49EF-AFB1-45BB6306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D8753-DD94-4CD3-BAB7-2E70D18A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DC32C-145C-445A-AAC3-B6E8BD6A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B4DDC-5D95-4343-B908-057E888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865CB-6132-4AEA-A002-24BE513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DDDA5-0F6F-4259-B660-1A1D83F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932D3-440B-480C-B92A-C32561A7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8827-831A-4FCA-878A-F977F630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AF4E4-7BDE-47D0-B9A2-0CB89569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CF816-13A3-4938-888C-449B692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4C962-208C-4429-9D42-537E819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22356-08C3-4B20-B8D7-B3470DD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2DFE3-FBDD-4F44-81B8-771FBDF3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B8FF0-3025-475D-A0E1-360B21C0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0B186-CCFA-42B5-91C5-141A952A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59C14-B960-4D01-8E4A-B62FAC07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D39A8-5529-41A3-B560-46170E9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1DB8B-5E09-4181-B2C7-A9381D3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634-10EB-46BC-B6A9-C8B7EB30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C0358-5CCE-44A1-884B-F2ACA9E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E9FEC-DD2E-49E2-A410-53F37F9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03B22-BA59-4D68-8071-A8FEDE4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F9363-8926-4907-B9CE-D212904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D2659-6C15-464E-9089-EBCB11A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46884-BA29-4033-A635-E0A5E63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14511-424E-4441-9562-E77910B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423E0-683D-4D72-9F20-039A1317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20209-FDBC-40E5-BA21-26A81A3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CB361-D2BF-4990-A084-BED60618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D537-5786-4AD1-AEF2-7598509F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C0F78-FBE5-4E55-8EF5-CB574FEA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8EB89-021C-40D4-8FBA-50F416E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BEE54-8BF0-41DD-B599-F201BA9C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97018-5E95-4386-87C8-A326531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D29B1-FD98-448B-A9B8-8758B82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B34A5-3F77-4A6E-A447-0129634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2498E-5CB2-49C5-A135-0998A9F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56C12-AA37-4362-B9BA-0EA42DD1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B0974-D04D-4C7A-8DCD-4E6BCD70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B5BDF-39BD-4D11-A483-5FEA989E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910A-6F64-46E3-988D-AFC33A2F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B9186-712A-41FA-AEDE-C14B0D60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79B00-4B71-4288-8F7F-FDB91BEA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A2F84-CAB8-41BA-878F-1F2C4F4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B897A-B7C5-4B7A-91D3-ADE8117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0B01F-663A-45DB-99E3-45DFB19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B1B71-2C42-410B-A00F-7EB62CD9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F2F62-D455-4EC0-9E97-B17AFDF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28DAC-0EA7-494D-B3CD-CB7A934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3375F-C5D3-457E-BA40-48E263F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F3820-50E0-4B56-AB87-BC93C3B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2A88-6F53-4634-B3EE-32D8B45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FB3C1-0369-4FC4-B637-9C1ADC9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6034B-1A16-49B0-B06A-0C35D832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52F6F-82AD-451C-B314-32A825A1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1E86A-1F94-40AF-A9E0-57F250CB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D244B-0622-4861-8B6B-43F9745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9591B-3E8C-4DA9-854F-51C4B18C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DA78D-8BB9-41B8-96C8-F5871A2F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0E7ED-A4E2-487B-9C62-77D8F362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6B799-6115-4762-82FB-DC013880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134F6-A2B7-4501-862D-7395AEE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408-D647-47BF-B998-4B9C9F56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D3F7-8B29-4358-B6E4-E83D7C7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37EBF-6633-4543-A62F-0E6F3B77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7E604-6592-4885-BEB0-808B36A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C867C-0BCF-4AB1-A17C-508FE8FC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F21A6-A139-490D-A770-4EF9B327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65B14-6AD5-4868-995C-2F9FDBC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ACB18-37C4-4518-8ADF-BC4AB515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8CFAE-443D-48C5-AA5C-F44331A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C3D20-1C0F-4D47-9144-9A21D931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5E0BE-A73F-4587-8A4A-A648114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DCE66-F4B3-4DBF-98D2-B9864F52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DA0F-C4BB-4460-9014-67841D7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16054-9E80-4BD1-B10C-F7AC768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A21F3-B0FF-49B8-8CE1-686F170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71024-1DA1-450B-84DE-7D56CAB0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94B42-0821-41B3-B0CA-97891AB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3F469-9C60-48AC-A523-547CDD44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3D7F3-F2DB-42A5-B9A8-3B05B86C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43C4B-A558-48AB-A413-E9E6B472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BFAEC-CEBD-4666-A17C-10BDC733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209B8-5DB4-49CE-AC12-86AACD2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C4DA2-3D87-4323-9869-0B16623D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010A-82F6-456E-8789-FC215B9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11A88-5B80-4AB5-BFDA-2006845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17168-C34F-4DA2-B640-FBA8FA5A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9B19D-06CA-4049-BF9D-9331A84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F6A0A-7267-46F3-A0B9-110B487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5FBFF-BD3D-4A35-B486-1E2D81C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05B47-C38B-48D8-9BED-686791E6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33D4A-B652-484B-9430-8757D26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BF2478-7FA5-4711-BCAA-E6399198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0AB97-B6A1-4BE9-8F72-C6955C01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F840F-75E7-41DE-B990-9CF75949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978A-EB93-4ACB-9912-21BC3FD9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BE29B-2905-4E29-B6E9-4694BAD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32270-A15C-4399-9484-362666B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413E6-ACEA-4C09-8EDF-76F4926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AA3BA3-F59B-4BBF-B379-CD161C64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F4AD48-184A-43D3-9FBA-C04CE52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C1522-07A4-411F-BB43-03EEAA5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9B71D8-0B42-4D9D-B277-A83B5E2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2FAE7A-FD0B-40AC-AFEC-553AF72E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419ED-4210-417E-A334-A7C76CE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5AAB7-23EF-4B1A-94AC-5E5DBA5A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175E-7CE6-498F-97DA-9EDE363F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61F64-BD37-4502-B0FF-B9D3B0FE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8EC52-C61D-4157-A082-EAF43BAF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D7F78-9E27-4838-B74D-8BE0EA1A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DCE2E-2994-4F3C-AC4C-6627FA2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8716B-9001-4D77-A709-957197D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4A16C-91E4-43B6-A1AB-665BAF7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956B8-42F0-4BA3-B57B-256EB97C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72A1C-00C4-4200-94F6-65C5FFD0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5110C8-74CF-48B7-9E64-242D649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40BF75-DBA1-44B5-AF24-72367FA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6104-E949-40DB-AF71-92D2A278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C477D-0BE3-4DBE-BC45-518E50E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5F4EF-1448-48E3-BB4A-6E6678E7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9F04E-36AB-44ED-9E94-1836A703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6B139-764C-4879-91F1-7D0C0957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381D5-B926-41AC-B584-47A1D0DA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37C5D-6962-4095-B056-2660D63B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71B7E-3370-4EE3-980F-741661E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474DB-EF5E-4871-B78A-D3283D5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A093F-BDD9-4783-B047-CE37E59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AD7CF-0750-4F87-B299-46DA4B6D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739B-F365-45E0-98AA-22F6461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B7D88-EE25-4032-AAC2-B63B0FF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0BDF8-3C7C-4290-86D2-6D6EDDE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1BD5F-BFB4-4031-84F6-E38F4BE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F8D74-91AA-4477-80EA-6E42170A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EDB72-E188-4A66-8455-4EFFA720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2D0DA6-D2C9-442F-9089-3A86A9D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4FBBAD-BF64-4AF1-8A60-0868558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8D358-651E-479B-AB8D-9F5BC2AD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69FFB3-A182-4637-B442-5EF7648A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482F3-5837-480F-807F-E957C068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4811-05D1-48BD-807A-D6F871DE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0AD94-6571-4905-A533-5921AF0C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7F09F2-9941-4227-B846-1B67B3D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9DBD6C-3E92-48D6-987C-6BAAFF8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E06CD9-22EA-433E-87CE-1FAB200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9B567-93F9-4E2E-AA50-92719E60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0A4DC5-636C-4D81-9215-40B67A0E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94F15F-43E9-4A57-B3D1-63655AED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31FDB-72D1-493F-B2BE-91AFFC9D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5FC307-3CC4-4DE7-AB00-114529F1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330723-370B-42EB-AD36-B88B93B8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E8A3-A440-4A72-BFCA-159F4D5F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22A454-6272-4023-AF56-4364697B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EE28BC-969B-493A-91EA-985D1D03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A18ACD-1B81-4C46-A908-5986BB1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BF5787-F7B0-4882-B8A8-9C30E94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684247-6B58-4708-9949-AB127CA0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D22DC-B86E-45D6-B4C4-3E9F133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D2D726-92CC-4A7F-AD9B-C5FA1457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76BAB9-4746-4F44-9462-598992A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648429-B1E0-4E45-8745-6DC5A966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09B58E-43E8-4581-B694-98A4040A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84A5-AD83-4F4F-91AC-3634CCBA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C50E08-2E00-4917-9605-6D84488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4E6775-3D84-464E-96E5-AB03DA8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E03227-008B-4F71-86BF-7F8803C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E554B3-593F-4061-9747-1FDB4C9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39994D-88F1-44FB-99D0-71EC9948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09C926-31CF-4735-8430-D7FF4E9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89B218-5389-4B75-924E-4E68976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3E4AE6-942C-44EE-A2B7-0FF9E37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3979EA-5327-49F4-B60B-F297558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F2E87B-BB42-468F-8E70-E0F91D2F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3C1-12FD-489F-BCBC-4883E819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53A3-7F5B-45CF-A850-3503D5F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CE6EDD-7023-436F-BA7B-A14B1C18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DA607C-E4AA-4E4B-BA50-6DA96BE3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E6FF14-11C1-4167-99F7-442EFF4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4EE96C-55CC-43EF-AD26-42B9DF88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742964-21D9-455B-BACA-7FFE458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A0E63-30E6-4F65-9EB0-FC6EA33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586243-2B69-49B6-A756-42E590CE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C673CA-264E-433C-8DDB-4802632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3658B1-9291-436C-888D-3F6CE37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1CEBE1-CCB5-4C83-BBCC-A3F1F14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50DF-6D6A-4457-BC74-A06139C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B07514-73EF-4784-BCFA-C4C843BC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5A0A90-A4AE-456A-B484-66D1DD42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DF8BB-48C2-43E1-A22F-591BD5AE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FC60B5-4827-4AB2-BADB-1BEB62AF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B4615A-B50C-478B-84B3-51BAAD3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FD5CB4-12CD-41A7-BB46-4418506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04B339-3134-4042-8CAC-70986CB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42B884-0625-4D20-B44E-9653EC3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4D0978-40F1-4FB9-BA13-E4AA70B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EE94C5-2BB9-4CC6-9121-7E9D287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6FB4-8E99-457A-9F65-D4135CF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82B52E-A86D-4E37-9EE9-DD614FE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1B44AD-248F-4352-8C8F-9241059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B32551-A6CD-4D62-86BA-DF7C6F7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490E19-8C69-474D-B46F-882D730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DD70B6-0194-48F9-B074-3CA5E28C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32E3DB-FAFF-482C-8655-E3FAE2E9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EC4769-F9E0-4CD5-8A8D-C3CE668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F7E4D8-310F-41CE-AC98-75CF7D4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724C74-9003-4CFC-A0EB-B7AB3E4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B97897-7029-4764-ABF6-1F7A5FF4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128E-FE7A-4AA3-B4A4-F50CAD81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A0104-060D-472F-8365-D8B5751C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C06313-3086-4E36-B2EE-4D2D39A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D705B9-ECF5-463B-B324-EFFFEB9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BCD63B-A3D4-4CD9-A875-734E8A7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68BE45-F7E7-4F04-8288-FB5F59A1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DB95B7-9D11-48C6-BB3D-95204A4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1398B5-245F-4DD1-A25B-3B775493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2EE4-FA3D-4FFB-83F0-387553E8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AC22-B99B-47BF-9662-EF3882BB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D216-749E-4199-9BD6-B3BC7A20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9B6F-9D72-4B32-AC5A-5E587297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B29E-084B-468C-8EF1-9FC79D1F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5B724-0577-4330-B70D-8751A49D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324-EB39-4D21-A877-8CA1808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0660-C8AF-419D-B485-08F8D581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92BA-880E-431B-8645-9F430AE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5B4A-91A4-4D89-B525-C662A283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0014-04AE-48D8-91E3-2C6F7AB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38EBD-CC5E-4E00-9C04-893C4D2D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6452-2D06-4B57-8A49-977A387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74D4-FB6C-4352-899D-F24EFC4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CAF7-FB96-4B95-9D30-2F21051B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8939-7654-4FA8-9417-D4B65713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C244-0C80-4238-92A6-C5EDAF1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4B6-62D5-4F46-B85A-210BA4B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39C5-51C8-4947-AA3E-4A5FC9F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952D2-9AD0-475F-8865-35E78AB8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3C37-91D2-4942-AEF0-869632F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C2BB9-8AC0-4D8E-95BF-1DB9DE8A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0799-9E33-4083-911F-BFBC2AA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CD946-0813-4D32-BA9D-EA21F6B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22CE-D47B-4BD4-8E09-DB162BA6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601BE-11C5-4BE3-A1F6-43ACF2D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6E3C-37C2-4E66-A026-9C345FAD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7D61-3D2E-4017-9B79-EF614A8D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7AA-375E-4CD7-8766-2FD75DC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52D4-8AD1-4E0D-A39B-12F2096D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E4A0-0CBA-41AF-9A37-0BD8566A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4D08-B311-4ACF-B3AB-6358528C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8F1A0-D70C-4E25-B99E-C1F78449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FA56-0B4B-499B-80EC-23617CFB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5366-8C51-4EB7-A1AA-D6CEEEC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4C07-A158-48C9-B188-22C3047D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EC26D-5589-48A2-841D-58D0252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551A-80E0-4ACA-B0B3-D2CDB3F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9F3B8-ED6F-4C97-9FD1-773A534B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34C-9D5D-4429-BE8B-E0E305B2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6179F-415D-421F-8059-93C2D958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54D3-FB45-4394-A645-849702B6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502B4-62FA-471B-85D7-9C4F5C44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E318-8416-4009-9122-E24FE17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08D71-1081-4EB2-971F-AD8115A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F6EF-756F-453C-B620-3D898FE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276D-523B-410F-9252-E6E9F4B5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3716-1150-4216-B95C-EC43F35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940FF-603F-467C-8795-34B5F9D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EA689-773D-411B-A75A-1C1E41E8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F2F-3266-42D8-8FF2-F9922E2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C67E-1E3B-4007-BDEC-63A3AF5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A214-12D4-4CB2-8ECF-CCB8C45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E5837-29E6-4FE6-86D6-201C2D5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A4FF8-450F-4B3C-BD73-5D5CF914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5D26B-69AC-4AA6-9381-7535A4A8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7D0C-B90A-4C5C-B325-1593E4A1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453DB-406C-418E-9E0D-DC927F6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B791-29E4-457D-802A-F8AD778B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9DC44-7DCF-47E7-B851-6CD1E110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F92A-8CC3-4584-946C-A2AAB64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A25-7F5F-4FD3-B13F-BDC0DFC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CE52-F3F6-483D-9CE5-92FB5984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4599C-86E7-4F9B-8AA4-D0BD2D7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57A0-A0F8-40EA-85AF-A5F94D6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7AB94-19DF-4DB3-8DBD-E2B32EE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E771-3BA3-4A71-9B52-CA9B887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4EBF7-DC42-4989-802C-982B799C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80AC1-E42A-4F94-A2FE-8D7732E1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BD57-2CBE-4010-9562-958BB821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B4AC-B98B-4E74-BB9F-98D6D162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3F60C-DF8B-46DB-BF40-A24C73F6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2829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305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65680" indent="-2746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62320" indent="-29556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363C-20B3-4130-B0AC-83E2E08D3C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71360"/>
            <a:ext cx="8229600" cy="45720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462924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E343-F801-443E-B14E-2188B50A1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A56-7798-4CC5-9236-F394583F3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5525-C56B-4A31-B938-7242FF30FC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81B1-BCC3-4C6B-B507-21A3F3886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8A9-A3D7-4F5A-915F-F3D7D639C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3242-9E30-4AAE-9CB3-5903B0D9C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FE025ED-F9C1-4A74-8583-05AACA9150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962EB20-037B-4FA1-B944-FFA44CD867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3B864DD-025C-4DBA-954D-41405BF51B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BD472E5-B3EC-4343-9AEB-EC97C4E2B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0C01-1E3D-4BF8-96DE-92593C82A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88C3BF1-D444-475B-8FC1-D190C3DEB2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CB1FDAD-DB20-44B4-BB1F-E2637B235A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AC292D3-361A-4EEB-B511-619FF1CFD2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E99DDE4-6764-4E05-9E75-8B80AE7DC8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2DE60FD-DF97-41F3-995D-9CD363D66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CD5C064-FC01-4799-9582-E2F15587D9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7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7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7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625C5E1-68AD-40E9-87EB-0BECDCC9AC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853560" y="849240"/>
            <a:ext cx="7866360" cy="382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264960" indent="-264960" algn="just">
              <a:lnSpc>
                <a:spcPct val="110000"/>
              </a:lnSpc>
              <a:spcBef>
                <a:spcPts val="901"/>
              </a:spcBef>
              <a:buClr>
                <a:srgbClr val="22b1de"/>
              </a:buClr>
              <a:buSzPct val="50000"/>
              <a:buFont typeface="Wingdings 2" charset="2"/>
              <a:buChar char="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1" marL="264960" indent="-264960" algn="just">
              <a:lnSpc>
                <a:spcPct val="110000"/>
              </a:lnSpc>
              <a:spcBef>
                <a:spcPts val="901"/>
              </a:spcBef>
              <a:buClr>
                <a:srgbClr val="7ad0eb"/>
              </a:buClr>
              <a:buFont typeface="幼圆"/>
              <a:buChar char=" 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econd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2" marL="633240" indent="-12348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Third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3" marL="88740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Four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4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Fif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5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ix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6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even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title"/>
          </p:nvPr>
        </p:nvSpPr>
        <p:spPr>
          <a:xfrm>
            <a:off x="504360" y="16020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4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628200" y="483840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900" spc="-1" strike="noStrike">
                <a:solidFill>
                  <a:srgbClr val="47494b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900" spc="-1" strike="noStrike">
                <a:solidFill>
                  <a:srgbClr val="47494b"/>
                </a:solidFill>
                <a:latin typeface="Calibri"/>
                <a:ea typeface="幼圆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029040" y="483840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457680" y="483840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900" spc="-1" strike="noStrike">
                <a:solidFill>
                  <a:srgbClr val="47494b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4D54F44-9703-4986-99F0-9FE038E3C226}" type="slidenum">
              <a:rPr b="0" lang="zh-CN" sz="900" spc="-1" strike="noStrike">
                <a:solidFill>
                  <a:srgbClr val="47494b"/>
                </a:solidFill>
                <a:latin typeface="Calibri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853560" y="849240"/>
            <a:ext cx="7866360" cy="382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264960" indent="-264960" algn="just">
              <a:lnSpc>
                <a:spcPct val="110000"/>
              </a:lnSpc>
              <a:spcBef>
                <a:spcPts val="901"/>
              </a:spcBef>
              <a:buClr>
                <a:srgbClr val="22b1de"/>
              </a:buClr>
              <a:buSzPct val="50000"/>
              <a:buFont typeface="Wingdings 2" charset="2"/>
              <a:buChar char="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1" marL="264960" indent="-264960" algn="just">
              <a:lnSpc>
                <a:spcPct val="110000"/>
              </a:lnSpc>
              <a:spcBef>
                <a:spcPts val="901"/>
              </a:spcBef>
              <a:buClr>
                <a:srgbClr val="7ad0eb"/>
              </a:buClr>
              <a:buFont typeface="幼圆"/>
              <a:buChar char=" 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econd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2" marL="633240" indent="-12348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Third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3" marL="88740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Four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4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Fif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5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ix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6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even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title"/>
          </p:nvPr>
        </p:nvSpPr>
        <p:spPr>
          <a:xfrm>
            <a:off x="504360" y="16020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4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82"/>
          </p:nvPr>
        </p:nvSpPr>
        <p:spPr>
          <a:xfrm>
            <a:off x="628200" y="483840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900" spc="-1" strike="noStrike">
                <a:solidFill>
                  <a:srgbClr val="47494b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900" spc="-1" strike="noStrike">
                <a:solidFill>
                  <a:srgbClr val="47494b"/>
                </a:solidFill>
                <a:latin typeface="Calibri"/>
                <a:ea typeface="幼圆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3"/>
          </p:nvPr>
        </p:nvSpPr>
        <p:spPr>
          <a:xfrm>
            <a:off x="3029040" y="483840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4"/>
          </p:nvPr>
        </p:nvSpPr>
        <p:spPr>
          <a:xfrm>
            <a:off x="6457680" y="483840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900" spc="-1" strike="noStrike">
                <a:solidFill>
                  <a:srgbClr val="47494b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E433D26-E36D-4417-AF67-BFD279D868CB}" type="slidenum">
              <a:rPr b="0" lang="zh-CN" sz="900" spc="-1" strike="noStrike">
                <a:solidFill>
                  <a:srgbClr val="47494b"/>
                </a:solidFill>
                <a:latin typeface="Calibri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82000"/>
          </a:bodyPr>
          <a:p>
            <a:pPr marL="273240" indent="-273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8320" indent="-22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26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180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4640" indent="-18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8C99199-7B53-43DD-8742-452FA07DDA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1" descr=""/>
          <p:cNvPicPr/>
          <p:nvPr/>
        </p:nvPicPr>
        <p:blipFill>
          <a:blip r:embed="rId2"/>
          <a:srcRect l="1698" t="0" r="0" b="0"/>
          <a:stretch/>
        </p:blipFill>
        <p:spPr>
          <a:xfrm>
            <a:off x="0" y="419040"/>
            <a:ext cx="8255160" cy="4724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628200" y="483840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900" spc="-1" strike="noStrike">
                <a:solidFill>
                  <a:srgbClr val="47494b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900" spc="-1" strike="noStrike">
                <a:solidFill>
                  <a:srgbClr val="47494b"/>
                </a:solidFill>
                <a:latin typeface="Calibri"/>
                <a:ea typeface="幼圆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3029040" y="483840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6457680" y="483840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900" spc="-1" strike="noStrike">
                <a:solidFill>
                  <a:srgbClr val="47494b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D821E23-EF4B-4F22-AE73-B2BF79B579C9}" type="slidenum">
              <a:rPr b="0" lang="zh-CN" sz="900" spc="-1" strike="noStrike">
                <a:solidFill>
                  <a:srgbClr val="47494b"/>
                </a:solidFill>
                <a:latin typeface="Calibri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853560" y="849240"/>
            <a:ext cx="7866360" cy="382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264960" indent="-264960" algn="just">
              <a:lnSpc>
                <a:spcPct val="110000"/>
              </a:lnSpc>
              <a:spcBef>
                <a:spcPts val="901"/>
              </a:spcBef>
              <a:buClr>
                <a:srgbClr val="22b1de"/>
              </a:buClr>
              <a:buSzPct val="50000"/>
              <a:buFont typeface="Wingdings 2" charset="2"/>
              <a:buChar char="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1" marL="264960" indent="-264960" algn="just">
              <a:lnSpc>
                <a:spcPct val="110000"/>
              </a:lnSpc>
              <a:spcBef>
                <a:spcPts val="901"/>
              </a:spcBef>
              <a:buClr>
                <a:srgbClr val="7ad0eb"/>
              </a:buClr>
              <a:buFont typeface="幼圆"/>
              <a:buChar char=" 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econd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2" marL="633240" indent="-12348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Third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3" marL="88740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Four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4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Fif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5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ix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  <a:p>
            <a:pPr lvl="6" marL="1141560" indent="-123840" algn="just">
              <a:lnSpc>
                <a:spcPct val="110000"/>
              </a:lnSpc>
              <a:spcBef>
                <a:spcPts val="901"/>
              </a:spcBef>
              <a:buClr>
                <a:srgbClr val="47494b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1800" spc="-1" strike="noStrike">
                <a:solidFill>
                  <a:srgbClr val="046fb6"/>
                </a:solidFill>
                <a:latin typeface="幼圆"/>
              </a:rPr>
              <a:t>Seventh Outline Level</a:t>
            </a:r>
            <a:endParaRPr b="1" lang="en-US" sz="1800" spc="-1" strike="noStrike">
              <a:solidFill>
                <a:srgbClr val="046fb6"/>
              </a:solidFill>
              <a:latin typeface="幼圆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title"/>
          </p:nvPr>
        </p:nvSpPr>
        <p:spPr>
          <a:xfrm>
            <a:off x="504360" y="16020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4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046fb6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620A-C39F-4271-9793-0E5343BC8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EC5A-CE55-48F5-A06D-64C314BA3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5B5F-31CC-4636-8A0B-68C72F279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6FA-8CDB-4DCE-B420-10BE5501A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2D9-38CD-43BE-AD14-D814FCF78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Box 2"/>
          <p:cNvSpPr/>
          <p:nvPr/>
        </p:nvSpPr>
        <p:spPr>
          <a:xfrm>
            <a:off x="399960" y="48420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2022-2023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学年第一学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教研组长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3"/>
          <p:cNvSpPr/>
          <p:nvPr/>
        </p:nvSpPr>
        <p:spPr>
          <a:xfrm>
            <a:off x="2411280" y="36050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3989"/>
                </a:solidFill>
                <a:latin typeface="Arial"/>
              </a:rPr>
              <a:t>常州市教育科学研究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8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373989"/>
                </a:solidFill>
                <a:latin typeface="Arial"/>
              </a:rPr>
              <a:t>2021.8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"/>
          <p:cNvPicPr/>
          <p:nvPr/>
        </p:nvPicPr>
        <p:blipFill>
          <a:blip r:embed="rId1"/>
          <a:stretch/>
        </p:blipFill>
        <p:spPr>
          <a:xfrm>
            <a:off x="108000" y="66600"/>
            <a:ext cx="3887640" cy="50040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3" descr=""/>
          <p:cNvPicPr/>
          <p:nvPr/>
        </p:nvPicPr>
        <p:blipFill>
          <a:blip r:embed="rId2"/>
          <a:stretch/>
        </p:blipFill>
        <p:spPr>
          <a:xfrm>
            <a:off x="4716360" y="6480"/>
            <a:ext cx="3881520" cy="5035320"/>
          </a:xfrm>
          <a:prstGeom prst="rect">
            <a:avLst/>
          </a:prstGeom>
          <a:ln w="0">
            <a:noFill/>
          </a:ln>
        </p:spPr>
      </p:pic>
      <p:sp>
        <p:nvSpPr>
          <p:cNvPr id="1204" name="矩形 1"/>
          <p:cNvSpPr/>
          <p:nvPr/>
        </p:nvSpPr>
        <p:spPr>
          <a:xfrm>
            <a:off x="190440" y="1851120"/>
            <a:ext cx="3888000" cy="753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5"/>
          <p:cNvSpPr/>
          <p:nvPr/>
        </p:nvSpPr>
        <p:spPr>
          <a:xfrm>
            <a:off x="190440" y="2604960"/>
            <a:ext cx="3888000" cy="104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7"/>
          <p:cNvSpPr/>
          <p:nvPr/>
        </p:nvSpPr>
        <p:spPr>
          <a:xfrm>
            <a:off x="4643280" y="1924200"/>
            <a:ext cx="3888000" cy="752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8"/>
          <p:cNvSpPr/>
          <p:nvPr/>
        </p:nvSpPr>
        <p:spPr>
          <a:xfrm>
            <a:off x="4643280" y="2676600"/>
            <a:ext cx="3888000" cy="104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4" descr=""/>
          <p:cNvPicPr/>
          <p:nvPr/>
        </p:nvPicPr>
        <p:blipFill>
          <a:blip r:embed="rId1"/>
          <a:stretch/>
        </p:blipFill>
        <p:spPr>
          <a:xfrm>
            <a:off x="2122560" y="63360"/>
            <a:ext cx="4867200" cy="501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9" name="矩形 1"/>
          <p:cNvSpPr/>
          <p:nvPr/>
        </p:nvSpPr>
        <p:spPr>
          <a:xfrm>
            <a:off x="2195640" y="2579760"/>
            <a:ext cx="4752720" cy="104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2" descr=""/>
          <p:cNvPicPr/>
          <p:nvPr/>
        </p:nvPicPr>
        <p:blipFill>
          <a:blip r:embed="rId1"/>
          <a:stretch/>
        </p:blipFill>
        <p:spPr>
          <a:xfrm>
            <a:off x="324000" y="50760"/>
            <a:ext cx="4073400" cy="501984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3" descr=""/>
          <p:cNvPicPr/>
          <p:nvPr/>
        </p:nvPicPr>
        <p:blipFill>
          <a:blip r:embed="rId2"/>
          <a:stretch/>
        </p:blipFill>
        <p:spPr>
          <a:xfrm>
            <a:off x="4397400" y="339840"/>
            <a:ext cx="4567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2" descr=""/>
          <p:cNvPicPr/>
          <p:nvPr/>
        </p:nvPicPr>
        <p:blipFill>
          <a:blip r:embed="rId1"/>
          <a:stretch/>
        </p:blipFill>
        <p:spPr>
          <a:xfrm>
            <a:off x="57240" y="165240"/>
            <a:ext cx="4479840" cy="26924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57240" y="2879640"/>
            <a:ext cx="4479840" cy="4176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4" descr=""/>
          <p:cNvPicPr/>
          <p:nvPr/>
        </p:nvPicPr>
        <p:blipFill>
          <a:blip r:embed="rId3"/>
          <a:stretch/>
        </p:blipFill>
        <p:spPr>
          <a:xfrm>
            <a:off x="57240" y="3348000"/>
            <a:ext cx="4537080" cy="28908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5" descr=""/>
          <p:cNvPicPr/>
          <p:nvPr/>
        </p:nvPicPr>
        <p:blipFill>
          <a:blip r:embed="rId4"/>
          <a:stretch/>
        </p:blipFill>
        <p:spPr>
          <a:xfrm>
            <a:off x="57240" y="3708360"/>
            <a:ext cx="4537080" cy="47772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6" descr=""/>
          <p:cNvPicPr/>
          <p:nvPr/>
        </p:nvPicPr>
        <p:blipFill>
          <a:blip r:embed="rId5"/>
          <a:stretch/>
        </p:blipFill>
        <p:spPr>
          <a:xfrm>
            <a:off x="-14400" y="4186080"/>
            <a:ext cx="4551480" cy="76536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8" descr=""/>
          <p:cNvPicPr/>
          <p:nvPr/>
        </p:nvPicPr>
        <p:blipFill>
          <a:blip r:embed="rId6"/>
          <a:stretch/>
        </p:blipFill>
        <p:spPr>
          <a:xfrm>
            <a:off x="4537080" y="216000"/>
            <a:ext cx="4606920" cy="4735440"/>
          </a:xfrm>
          <a:prstGeom prst="rect">
            <a:avLst/>
          </a:prstGeom>
          <a:ln w="0">
            <a:noFill/>
          </a:ln>
        </p:spPr>
      </p:pic>
      <p:sp>
        <p:nvSpPr>
          <p:cNvPr id="1218" name="椭圆 1"/>
          <p:cNvSpPr/>
          <p:nvPr/>
        </p:nvSpPr>
        <p:spPr>
          <a:xfrm>
            <a:off x="179280" y="4186080"/>
            <a:ext cx="1440000" cy="257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椭圆 9"/>
          <p:cNvSpPr/>
          <p:nvPr/>
        </p:nvSpPr>
        <p:spPr>
          <a:xfrm>
            <a:off x="-108000" y="2583000"/>
            <a:ext cx="2808360" cy="1212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椭圆 10"/>
          <p:cNvSpPr/>
          <p:nvPr/>
        </p:nvSpPr>
        <p:spPr>
          <a:xfrm>
            <a:off x="4530600" y="2284560"/>
            <a:ext cx="4499280" cy="93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Box 1"/>
          <p:cNvSpPr/>
          <p:nvPr/>
        </p:nvSpPr>
        <p:spPr>
          <a:xfrm>
            <a:off x="684360" y="843120"/>
            <a:ext cx="833904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）教研组集体备课展示（或视频展示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）读本使用、实施方案及落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）教材培训、法治教育培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）公开课申报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 （各年级、读本、心理、法治教育等；填写申报表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10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日前报送给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676440" y="1191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布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TextBox 1"/>
          <p:cNvSpPr/>
          <p:nvPr/>
        </p:nvSpPr>
        <p:spPr>
          <a:xfrm>
            <a:off x="611280" y="465120"/>
            <a:ext cx="828180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法治教育优秀案例评比；（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日前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2021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—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2022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7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本学期“三题”培训和比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以期中试卷为例：原创性、创新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8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模拟法庭、听证会展示；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（积极申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江苏省中学评优课（明年，教研组的准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小学基本功比赛（本学期重点新课标培训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TextBox 1"/>
          <p:cNvSpPr/>
          <p:nvPr/>
        </p:nvSpPr>
        <p:spPr>
          <a:xfrm>
            <a:off x="696960" y="268200"/>
            <a:ext cx="820908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0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宪法教育活动暨法治教育颁奖；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微软雅黑"/>
              </a:rPr>
              <a:t>12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月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大中小思政课一体化建设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20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大之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2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年会论文评比，交论文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20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日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3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省市级课题申报（省级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轮，市级备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4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复习研讨会（招募研究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5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教学成果的提炼、推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6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学业质量监测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矩形 2"/>
          <p:cNvSpPr/>
          <p:nvPr/>
        </p:nvSpPr>
        <p:spPr>
          <a:xfrm rot="21210000">
            <a:off x="1881000" y="1979280"/>
            <a:ext cx="787320" cy="94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3"/>
          <p:cNvSpPr/>
          <p:nvPr/>
        </p:nvSpPr>
        <p:spPr>
          <a:xfrm rot="421800">
            <a:off x="3114720" y="1978200"/>
            <a:ext cx="787320" cy="939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4"/>
          <p:cNvSpPr/>
          <p:nvPr/>
        </p:nvSpPr>
        <p:spPr>
          <a:xfrm rot="21178800">
            <a:off x="4297320" y="1945800"/>
            <a:ext cx="787320" cy="939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矩形 5"/>
          <p:cNvSpPr/>
          <p:nvPr/>
        </p:nvSpPr>
        <p:spPr>
          <a:xfrm rot="351600">
            <a:off x="5433840" y="1913040"/>
            <a:ext cx="789120" cy="93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6"/>
          <p:cNvSpPr/>
          <p:nvPr/>
        </p:nvSpPr>
        <p:spPr>
          <a:xfrm rot="21113400">
            <a:off x="6722640" y="1922400"/>
            <a:ext cx="789120" cy="94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中倩_GBK"/>
                <a:ea typeface="方正中倩_GBK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圆角矩形 1"/>
          <p:cNvSpPr/>
          <p:nvPr/>
        </p:nvSpPr>
        <p:spPr>
          <a:xfrm>
            <a:off x="3132000" y="268200"/>
            <a:ext cx="2281320" cy="909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有优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5" name="直接箭头连接符 3"/>
          <p:cNvCxnSpPr/>
          <p:nvPr/>
        </p:nvCxnSpPr>
        <p:spPr>
          <a:xfrm flipV="1">
            <a:off x="1618920" y="1131480"/>
            <a:ext cx="1499400" cy="1008720"/>
          </a:xfrm>
          <a:prstGeom prst="straightConnector1">
            <a:avLst/>
          </a:prstGeom>
          <a:ln w="2556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1156" name="圆角矩形 4"/>
          <p:cNvSpPr/>
          <p:nvPr/>
        </p:nvSpPr>
        <p:spPr>
          <a:xfrm>
            <a:off x="468360" y="1889280"/>
            <a:ext cx="2158920" cy="100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有优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7" name="直接箭头连接符 5"/>
          <p:cNvCxnSpPr>
            <a:stCxn id="1158" idx="0"/>
          </p:cNvCxnSpPr>
          <p:nvPr/>
        </p:nvCxnSpPr>
        <p:spPr>
          <a:xfrm flipV="1">
            <a:off x="4198680" y="1277280"/>
            <a:ext cx="1080" cy="2230920"/>
          </a:xfrm>
          <a:prstGeom prst="straightConnector1">
            <a:avLst/>
          </a:prstGeom>
          <a:ln w="2556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1158" name="圆角矩形 6"/>
          <p:cNvSpPr/>
          <p:nvPr/>
        </p:nvSpPr>
        <p:spPr>
          <a:xfrm>
            <a:off x="3117960" y="3508200"/>
            <a:ext cx="2160360" cy="100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有优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9" name="直接箭头连接符 9"/>
          <p:cNvCxnSpPr/>
          <p:nvPr/>
        </p:nvCxnSpPr>
        <p:spPr>
          <a:xfrm flipH="1" flipV="1">
            <a:off x="5412960" y="1131480"/>
            <a:ext cx="1391040" cy="1008720"/>
          </a:xfrm>
          <a:prstGeom prst="straightConnector1">
            <a:avLst/>
          </a:prstGeom>
          <a:ln w="2556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1160" name="圆角矩形 10"/>
          <p:cNvSpPr/>
          <p:nvPr/>
        </p:nvSpPr>
        <p:spPr>
          <a:xfrm>
            <a:off x="5940360" y="2097000"/>
            <a:ext cx="2160720" cy="100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有优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1" name="直接箭头连接符 19"/>
          <p:cNvCxnSpPr>
            <a:endCxn id="1158" idx="1"/>
          </p:cNvCxnSpPr>
          <p:nvPr/>
        </p:nvCxnSpPr>
        <p:spPr>
          <a:xfrm>
            <a:off x="1834920" y="2896920"/>
            <a:ext cx="1283400" cy="1114920"/>
          </a:xfrm>
          <a:prstGeom prst="straightConnector1">
            <a:avLst/>
          </a:prstGeom>
          <a:ln w="25560">
            <a:solidFill>
              <a:srgbClr val="0000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2" name="直接箭头连接符 20"/>
          <p:cNvCxnSpPr/>
          <p:nvPr/>
        </p:nvCxnSpPr>
        <p:spPr>
          <a:xfrm flipH="1">
            <a:off x="5277960" y="3105000"/>
            <a:ext cx="1455120" cy="1051920"/>
          </a:xfrm>
          <a:prstGeom prst="straightConnector1">
            <a:avLst/>
          </a:prstGeom>
          <a:ln w="25560">
            <a:solidFill>
              <a:srgbClr val="0000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3" name="直接箭头连接符 25"/>
          <p:cNvCxnSpPr/>
          <p:nvPr/>
        </p:nvCxnSpPr>
        <p:spPr>
          <a:xfrm flipH="1">
            <a:off x="2648880" y="2469960"/>
            <a:ext cx="3291480" cy="1080"/>
          </a:xfrm>
          <a:prstGeom prst="straightConnector1">
            <a:avLst/>
          </a:prstGeom>
          <a:ln w="25560">
            <a:solidFill>
              <a:srgbClr val="0000cc"/>
            </a:solidFill>
            <a:miter/>
            <a:headEnd len="med" type="arrow" w="med"/>
            <a:tailEnd len="med" type="arrow" w="med"/>
          </a:ln>
        </p:spPr>
      </p:cxnSp>
      <p:sp>
        <p:nvSpPr>
          <p:cNvPr id="1164" name="椭圆 27"/>
          <p:cNvSpPr/>
          <p:nvPr/>
        </p:nvSpPr>
        <p:spPr>
          <a:xfrm>
            <a:off x="3381480" y="1889280"/>
            <a:ext cx="1633320" cy="11142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文本框 1"/>
          <p:cNvSpPr/>
          <p:nvPr/>
        </p:nvSpPr>
        <p:spPr>
          <a:xfrm>
            <a:off x="755640" y="195120"/>
            <a:ext cx="525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教学常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图片 3" descr=""/>
          <p:cNvPicPr/>
          <p:nvPr/>
        </p:nvPicPr>
        <p:blipFill>
          <a:blip r:embed="rId1"/>
          <a:stretch/>
        </p:blipFill>
        <p:spPr>
          <a:xfrm rot="21101400">
            <a:off x="644400" y="860400"/>
            <a:ext cx="5397480" cy="386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7" name="图片 5" descr=""/>
          <p:cNvPicPr/>
          <p:nvPr/>
        </p:nvPicPr>
        <p:blipFill>
          <a:blip r:embed="rId2"/>
          <a:stretch/>
        </p:blipFill>
        <p:spPr>
          <a:xfrm rot="411600">
            <a:off x="3661920" y="711000"/>
            <a:ext cx="5261040" cy="40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Box 1"/>
          <p:cNvSpPr/>
          <p:nvPr/>
        </p:nvSpPr>
        <p:spPr>
          <a:xfrm>
            <a:off x="900000" y="2682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订过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科教学常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2" descr=""/>
          <p:cNvPicPr/>
          <p:nvPr/>
        </p:nvPicPr>
        <p:blipFill>
          <a:blip r:embed="rId1"/>
          <a:stretch/>
        </p:blipFill>
        <p:spPr>
          <a:xfrm>
            <a:off x="684360" y="674640"/>
            <a:ext cx="4919400" cy="446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0" name="Picture 3" descr=""/>
          <p:cNvPicPr/>
          <p:nvPr/>
        </p:nvPicPr>
        <p:blipFill>
          <a:blip r:embed="rId2"/>
          <a:stretch/>
        </p:blipFill>
        <p:spPr>
          <a:xfrm>
            <a:off x="4929120" y="123840"/>
            <a:ext cx="36925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2" descr=""/>
          <p:cNvPicPr/>
          <p:nvPr/>
        </p:nvPicPr>
        <p:blipFill>
          <a:blip r:embed="rId1"/>
          <a:stretch/>
        </p:blipFill>
        <p:spPr>
          <a:xfrm>
            <a:off x="900000" y="555480"/>
            <a:ext cx="7304040" cy="3886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" descr=""/>
          <p:cNvPicPr/>
          <p:nvPr/>
        </p:nvPicPr>
        <p:blipFill>
          <a:blip r:embed="rId2"/>
          <a:stretch/>
        </p:blipFill>
        <p:spPr>
          <a:xfrm>
            <a:off x="1692360" y="25560"/>
            <a:ext cx="5387760" cy="49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3" name="圆角矩形 1"/>
          <p:cNvSpPr/>
          <p:nvPr/>
        </p:nvSpPr>
        <p:spPr>
          <a:xfrm>
            <a:off x="2556000" y="700200"/>
            <a:ext cx="3198600" cy="3741480"/>
          </a:xfrm>
          <a:custGeom>
            <a:avLst/>
            <a:gdLst>
              <a:gd name="textAreaLeft" fmla="*/ 155880 w 3198600"/>
              <a:gd name="textAreaRight" fmla="*/ 3042720 w 3198600"/>
              <a:gd name="textAreaTop" fmla="*/ 155880 h 3741480"/>
              <a:gd name="textAreaBottom" fmla="*/ 3585600 h 3741480"/>
            </a:gdLst>
            <a:ahLst/>
            <a:rect l="textAreaLeft" t="textAreaTop" r="textAreaRight" b="textAreaBottom"/>
            <a:pathLst>
              <a:path w="21600" h="25266">
                <a:moveTo>
                  <a:pt x="3600" y="0"/>
                </a:moveTo>
                <a:arcTo wR="3600" hR="3600" stAng="16200000" swAng="-5400000"/>
                <a:lnTo>
                  <a:pt x="0" y="21666"/>
                </a:lnTo>
                <a:arcTo wR="3600" hR="3600" stAng="10800000" swAng="-5400000"/>
                <a:lnTo>
                  <a:pt x="18000" y="25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范导式教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议题式教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辨析式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项目化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Picture 2" descr=""/>
          <p:cNvPicPr/>
          <p:nvPr/>
        </p:nvPicPr>
        <p:blipFill>
          <a:blip r:embed="rId1"/>
          <a:stretch/>
        </p:blipFill>
        <p:spPr>
          <a:xfrm>
            <a:off x="1332000" y="339840"/>
            <a:ext cx="6638760" cy="15112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3" descr=""/>
          <p:cNvPicPr/>
          <p:nvPr/>
        </p:nvPicPr>
        <p:blipFill>
          <a:blip r:embed="rId2"/>
          <a:stretch/>
        </p:blipFill>
        <p:spPr>
          <a:xfrm>
            <a:off x="1322280" y="2009880"/>
            <a:ext cx="722016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"/>
          <p:cNvPicPr/>
          <p:nvPr/>
        </p:nvPicPr>
        <p:blipFill>
          <a:blip r:embed="rId1"/>
          <a:stretch/>
        </p:blipFill>
        <p:spPr>
          <a:xfrm>
            <a:off x="1692360" y="23760"/>
            <a:ext cx="6003720" cy="5108760"/>
          </a:xfrm>
          <a:prstGeom prst="rect">
            <a:avLst/>
          </a:prstGeom>
          <a:ln w="0">
            <a:noFill/>
          </a:ln>
        </p:spPr>
      </p:pic>
      <p:sp>
        <p:nvSpPr>
          <p:cNvPr id="1177" name="圆角矩形 2"/>
          <p:cNvSpPr/>
          <p:nvPr/>
        </p:nvSpPr>
        <p:spPr>
          <a:xfrm>
            <a:off x="2124000" y="1708200"/>
            <a:ext cx="4535640" cy="10792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常规”关键在落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Diagram 2"/>
          <p:cNvGrpSpPr/>
          <p:nvPr/>
        </p:nvGrpSpPr>
        <p:grpSpPr>
          <a:xfrm>
            <a:off x="1641960" y="863280"/>
            <a:ext cx="5708520" cy="3798720"/>
            <a:chOff x="1641960" y="863280"/>
            <a:chExt cx="5708520" cy="3798720"/>
          </a:xfrm>
        </p:grpSpPr>
        <p:sp>
          <p:nvSpPr>
            <p:cNvPr id="1179" name="_s1028"/>
            <p:cNvSpPr/>
            <p:nvPr/>
          </p:nvSpPr>
          <p:spPr>
            <a:xfrm flipH="1" flipV="1">
              <a:off x="3083040" y="2592360"/>
              <a:ext cx="70884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_s1029"/>
            <p:cNvSpPr/>
            <p:nvPr/>
          </p:nvSpPr>
          <p:spPr>
            <a:xfrm>
              <a:off x="1641960" y="1922400"/>
              <a:ext cx="14810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题研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_s1030"/>
            <p:cNvSpPr/>
            <p:nvPr/>
          </p:nvSpPr>
          <p:spPr>
            <a:xfrm flipH="1">
              <a:off x="3624120" y="3319920"/>
              <a:ext cx="435960" cy="41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_s1031"/>
            <p:cNvSpPr/>
            <p:nvPr/>
          </p:nvSpPr>
          <p:spPr>
            <a:xfrm>
              <a:off x="2448720" y="3639600"/>
              <a:ext cx="14810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教师发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_s1032"/>
            <p:cNvSpPr/>
            <p:nvPr/>
          </p:nvSpPr>
          <p:spPr>
            <a:xfrm>
              <a:off x="4929120" y="3319920"/>
              <a:ext cx="438120" cy="4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_s1033"/>
            <p:cNvSpPr/>
            <p:nvPr/>
          </p:nvSpPr>
          <p:spPr>
            <a:xfrm>
              <a:off x="5061960" y="3639600"/>
              <a:ext cx="14810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堂教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_s1034"/>
            <p:cNvSpPr/>
            <p:nvPr/>
          </p:nvSpPr>
          <p:spPr>
            <a:xfrm flipV="1">
              <a:off x="5197320" y="2591280"/>
              <a:ext cx="706680" cy="15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_s1035"/>
            <p:cNvSpPr/>
            <p:nvPr/>
          </p:nvSpPr>
          <p:spPr>
            <a:xfrm>
              <a:off x="5869440" y="1924200"/>
              <a:ext cx="14810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建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_s1036"/>
            <p:cNvSpPr/>
            <p:nvPr/>
          </p:nvSpPr>
          <p:spPr>
            <a:xfrm flipV="1">
              <a:off x="4494600" y="1884240"/>
              <a:ext cx="0" cy="51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_s1037"/>
            <p:cNvSpPr/>
            <p:nvPr/>
          </p:nvSpPr>
          <p:spPr>
            <a:xfrm>
              <a:off x="3755520" y="863280"/>
              <a:ext cx="14810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考试成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_s1038"/>
            <p:cNvSpPr/>
            <p:nvPr/>
          </p:nvSpPr>
          <p:spPr>
            <a:xfrm>
              <a:off x="3755520" y="2398320"/>
              <a:ext cx="14810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Box 3"/>
          <p:cNvSpPr/>
          <p:nvPr/>
        </p:nvSpPr>
        <p:spPr>
          <a:xfrm>
            <a:off x="3827520" y="2693880"/>
            <a:ext cx="133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研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4037040" y="1436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评价改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6"/>
          <p:cNvSpPr/>
          <p:nvPr/>
        </p:nvSpPr>
        <p:spPr>
          <a:xfrm>
            <a:off x="1908000" y="251784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项目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4"/>
          <p:cNvSpPr/>
          <p:nvPr/>
        </p:nvSpPr>
        <p:spPr>
          <a:xfrm>
            <a:off x="-58680" y="195120"/>
            <a:ext cx="50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94b"/>
                </a:solidFill>
                <a:latin typeface="Times New Roman"/>
                <a:ea typeface="方正粗倩简体"/>
              </a:rPr>
              <a:t>2.</a:t>
            </a:r>
            <a:r>
              <a:rPr b="1" lang="zh-CN" sz="3200" spc="-1" strike="noStrike">
                <a:solidFill>
                  <a:srgbClr val="47494b"/>
                </a:solidFill>
                <a:latin typeface="Times New Roman"/>
                <a:ea typeface="方正粗倩简体"/>
              </a:rPr>
              <a:t>教研组的常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2666880" y="3736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教学常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6"/>
          <p:cNvSpPr/>
          <p:nvPr/>
        </p:nvSpPr>
        <p:spPr>
          <a:xfrm>
            <a:off x="6118200" y="25178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课程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6"/>
          <p:cNvSpPr/>
          <p:nvPr/>
        </p:nvSpPr>
        <p:spPr>
          <a:xfrm>
            <a:off x="5364000" y="4245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提高实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9"/>
          <p:cNvSpPr/>
          <p:nvPr/>
        </p:nvSpPr>
        <p:spPr>
          <a:xfrm>
            <a:off x="2655720" y="42321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校本教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6"/>
          <p:cNvSpPr/>
          <p:nvPr/>
        </p:nvSpPr>
        <p:spPr>
          <a:xfrm>
            <a:off x="5330880" y="37386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教法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Box 1"/>
          <p:cNvSpPr/>
          <p:nvPr/>
        </p:nvSpPr>
        <p:spPr>
          <a:xfrm>
            <a:off x="684360" y="720720"/>
            <a:ext cx="83390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）新课标</a:t>
            </a:r>
            <a:r>
              <a:rPr b="0" lang="en-US" sz="2800" spc="-1" strike="noStrike">
                <a:solidFill>
                  <a:srgbClr val="47494b"/>
                </a:solidFill>
                <a:latin typeface="Arial"/>
                <a:ea typeface="微软雅黑"/>
              </a:rPr>
              <a:t>•</a:t>
            </a: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新挑战（八大难点）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94b"/>
                </a:solidFill>
                <a:latin typeface="Arial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微软雅黑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2"/>
          <p:cNvSpPr/>
          <p:nvPr/>
        </p:nvSpPr>
        <p:spPr>
          <a:xfrm>
            <a:off x="676440" y="1191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布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4" descr=""/>
          <p:cNvPicPr/>
          <p:nvPr/>
        </p:nvPicPr>
        <p:blipFill>
          <a:blip r:embed="rId1"/>
          <a:stretch/>
        </p:blipFill>
        <p:spPr>
          <a:xfrm>
            <a:off x="1679400" y="1347840"/>
            <a:ext cx="665172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7:25:26Z</dcterms:created>
  <dc:creator>liquxing</dc:creator>
  <dc:description/>
  <dc:language>en-US</dc:language>
  <cp:lastModifiedBy>戴慧</cp:lastModifiedBy>
  <cp:lastPrinted>2021-08-27T02:32:00Z</cp:lastPrinted>
  <dcterms:modified xsi:type="dcterms:W3CDTF">2022-08-28T15:02:24Z</dcterms:modified>
  <cp:revision>6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