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CD13-20AC-47B5-99D2-C43CB7483D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提问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孩子们，你们听说过肺结核病吗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预设：没有听说过；孩子自由讲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回应：接下来我们来看一个小视频，看过之后相信小朋友对肺结核会有更多的认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播放视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结核那些事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2FF6-CA82-424D-8F81-2A0156B27F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那这个肺结核一般是怎么传染的呢？我们该怎么预防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预设：它主要通过呼吸道传播，比如咳嗽、打喷嚏、大声说话，人人都有可能被感染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小结：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）注意个人卫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勤洗手，不随地吐痰，不朝着别人打喷嚏、咳嗽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）保持室内空气流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多通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）加强体育锻炼、生活有规律、饮食营养、睡眠充足、增强抵抗力，减少发病机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）如果同学、老师、家庭成员或周围人得了肺结核，请提醒他及时到当地结核病防治机构诊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DE5F-3731-4C16-839C-5D35767D71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怀疑自己得了肺结核应该怎么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预设：去医院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过渡语：是的，生了病我们就要到正规医院去检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月的治疗之后一般就可以恢复健康，另外还要主动向学校报告，不隐瞒病情、不带病上课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那这个肺结核一般是怎么传染的呢？我们该怎么预防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预设：它主要通过呼吸道传播，比如咳嗽、打喷嚏、大声说话，人人都有可能被感染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小结：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）注意个人卫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勤洗手，不随地吐痰，不朝着别人打喷嚏、咳嗽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）保持室内空气流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多通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）加强体育锻炼、生活有规律、饮食营养、睡眠充足、增强抵抗力，减少发病机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）如果同学、老师、家庭成员或周围人得了肺结核，请提醒他及时到当地结核病防治机构诊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C5E8-B252-4099-9A39-6211855440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怀疑自己得了肺结核应该怎么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预设：去医院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过渡语：是的，生了病我们就要到正规医院去检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月的治疗之后一般就可以恢复健康，另外还要主动向学校报告，不隐瞒病情、不带病上课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685F-8B88-4A64-B46B-33D56A3008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对于得了肺结核病的病人我们该如何正确对待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接触时要注意自身安全、杜绝歧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最后，我们再通过视频来全面了解有关结核病的一些小知识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播放视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功夫结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2558-EA51-471A-81AC-F5559D9105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对于得了肺结核病的病人我们该如何正确对待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接触时要注意自身安全、杜绝歧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最后，我们再通过视频来全面了解有关结核病的一些小知识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播放视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功夫结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2507-1F47-47BB-B9FB-B60B219A50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提问：什么是肺结核病呢？要是得了肺结核病一般会出现哪些症状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预设：是一种传染病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一直咳嗽、有痰、发热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小结：肺结核是长期严重危害人民群众身体健康的慢性传染病，由结核杆菌引起，可以侵害人体除了毛发、指甲、牙齿以外的任何组织器官，以肺部感染最为常见，所以称为肺结核。咳嗽、咳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周以上，应当怀疑得了肺结核，要及时就诊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要症状有：咳嗽、咯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周以上、痰中带血、午后发热、夜间出汗、体重减轻、疲乏无力等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E437-52B8-4B1A-A936-41BEC7214E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提问：什么是肺结核病呢？要是得了肺结核病一般会出现哪些症状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预设：是一种传染病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一直咳嗽、有痰、发热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小结：肺结核是长期严重危害人民群众身体健康的慢性传染病，由结核杆菌引起，可以侵害人体除了毛发、指甲、牙齿以外的任何组织器官，以肺部感染最为常见，所以称为肺结核。咳嗽、咳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周以上，应当怀疑得了肺结核，要及时就诊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要症状有：咳嗽、咯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周以上、痰中带血、午后发热、夜间出汗、体重减轻、疲乏无力等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6E15-9CF0-432A-AA91-4D35774A8E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怀疑自己得了肺结核应该怎么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预设：去医院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过渡语：是的，生了病我们就要到正规医院去检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月的治疗之后一般就可以恢复健康，另外还要主动向学校报告，不隐瞒病情、不带病上课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5B12-0162-4AB8-875D-7C0F52AEA5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怀疑自己得了肺结核应该怎么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预设：去医院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过渡语：是的，生了病我们就要到正规医院去检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月的治疗之后一般就可以恢复健康，另外还要主动向学校报告，不隐瞒病情、不带病上课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B46C-C068-42EB-93DA-914A644528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怀疑自己得了肺结核应该怎么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预设：去医院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过渡语：是的，生了病我们就要到正规医院去检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月的治疗之后一般就可以恢复健康，另外还要主动向学校报告，不隐瞒病情、不带病上课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22CF-3F9F-4792-8F91-52D5E94993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E8F-4404-4652-8C8B-E43B051F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40C-765C-42F9-9DD3-ADF725DD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F83-624A-49CF-B553-0F8F3B7E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33B-76BD-4080-9E4E-E5D2903F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C58-0AC6-4993-87DF-A54BEB7E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9D1-933F-4639-A5C8-B8C2FD97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C6D-47E2-492F-9800-C6152B6B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DF1-0A94-4DD9-A5CE-7B18B883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946-0369-459C-A5AF-0DC70CF6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465-26D2-4A10-B1A7-C5A4FC3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ECB-7E0B-40E3-8FF1-CC3537C0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1B3-120E-47EF-A89A-442749CE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12DC-BD7F-4305-B6DE-B081C23691B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073"/>
          <p:cNvSpPr/>
          <p:nvPr/>
        </p:nvSpPr>
        <p:spPr>
          <a:xfrm>
            <a:off x="268200" y="1212840"/>
            <a:ext cx="861084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800080"/>
                </a:solidFill>
                <a:uFillTx/>
                <a:latin typeface="Times New Roman"/>
                <a:ea typeface="黑体"/>
              </a:rPr>
              <a:t>认识肺结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337"/>
          <p:cNvSpPr/>
          <p:nvPr/>
        </p:nvSpPr>
        <p:spPr>
          <a:xfrm>
            <a:off x="1763640" y="40464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国家的免费政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4338" descr="10-11"/>
          <p:cNvPicPr/>
          <p:nvPr/>
        </p:nvPicPr>
        <p:blipFill>
          <a:blip r:embed="rId1"/>
          <a:stretch/>
        </p:blipFill>
        <p:spPr>
          <a:xfrm>
            <a:off x="1258920" y="981000"/>
            <a:ext cx="6019920" cy="674640"/>
          </a:xfrm>
          <a:prstGeom prst="rect">
            <a:avLst/>
          </a:prstGeom>
          <a:ln w="0">
            <a:noFill/>
          </a:ln>
        </p:spPr>
      </p:pic>
      <p:sp>
        <p:nvSpPr>
          <p:cNvPr id="77" name="矩形 14339"/>
          <p:cNvSpPr/>
          <p:nvPr/>
        </p:nvSpPr>
        <p:spPr>
          <a:xfrm>
            <a:off x="755640" y="1916280"/>
            <a:ext cx="431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800080"/>
                </a:solidFill>
                <a:latin typeface="Arial"/>
                <a:ea typeface="黑体"/>
              </a:rPr>
              <a:t>国家免费为肺结核病人提供部分抗结核药品和主要的检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4340" descr=""/>
          <p:cNvPicPr/>
          <p:nvPr/>
        </p:nvPicPr>
        <p:blipFill>
          <a:blip r:embed="rId2"/>
          <a:stretch/>
        </p:blipFill>
        <p:spPr>
          <a:xfrm>
            <a:off x="1116000" y="3213000"/>
            <a:ext cx="2951280" cy="30243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341" descr=""/>
          <p:cNvPicPr/>
          <p:nvPr/>
        </p:nvPicPr>
        <p:blipFill>
          <a:blip r:embed="rId3"/>
          <a:stretch/>
        </p:blipFill>
        <p:spPr>
          <a:xfrm>
            <a:off x="5580000" y="2133720"/>
            <a:ext cx="31258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核病是怎样传染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与肺结核病人一起吃饭要紧吗2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6083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2772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2124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3793"/>
          <p:cNvSpPr/>
          <p:nvPr/>
        </p:nvSpPr>
        <p:spPr>
          <a:xfrm>
            <a:off x="2819520" y="228600"/>
            <a:ext cx="427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肺结核发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33794" descr="10-11"/>
          <p:cNvPicPr/>
          <p:nvPr/>
        </p:nvPicPr>
        <p:blipFill>
          <a:blip r:embed="rId1"/>
          <a:stretch/>
        </p:blipFill>
        <p:spPr>
          <a:xfrm>
            <a:off x="1523880" y="914400"/>
            <a:ext cx="6019920" cy="6746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3795" descr="tb_good_immune"/>
          <p:cNvPicPr/>
          <p:nvPr/>
        </p:nvPicPr>
        <p:blipFill>
          <a:blip r:embed="rId2"/>
          <a:stretch/>
        </p:blipFill>
        <p:spPr>
          <a:xfrm>
            <a:off x="395280" y="3068640"/>
            <a:ext cx="3809880" cy="18828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3796" descr="tb_bad_immune"/>
          <p:cNvPicPr/>
          <p:nvPr/>
        </p:nvPicPr>
        <p:blipFill>
          <a:blip r:embed="rId3"/>
          <a:stretch/>
        </p:blipFill>
        <p:spPr>
          <a:xfrm>
            <a:off x="4643280" y="3429000"/>
            <a:ext cx="3810240" cy="2217600"/>
          </a:xfrm>
          <a:prstGeom prst="rect">
            <a:avLst/>
          </a:prstGeom>
          <a:ln w="0">
            <a:noFill/>
          </a:ln>
        </p:spPr>
      </p:pic>
      <p:sp>
        <p:nvSpPr>
          <p:cNvPr id="88" name="矩形 33797"/>
          <p:cNvSpPr/>
          <p:nvPr/>
        </p:nvSpPr>
        <p:spPr>
          <a:xfrm>
            <a:off x="611280" y="5157720"/>
            <a:ext cx="33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身体状况良好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3798"/>
          <p:cNvSpPr/>
          <p:nvPr/>
        </p:nvSpPr>
        <p:spPr>
          <a:xfrm>
            <a:off x="5364000" y="5776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身体抵抗力弱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3799"/>
          <p:cNvSpPr/>
          <p:nvPr/>
        </p:nvSpPr>
        <p:spPr>
          <a:xfrm>
            <a:off x="2210040" y="1754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入结核杆菌后虽然发生结核感染，但绝大多数不会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8433"/>
          <p:cNvSpPr/>
          <p:nvPr/>
        </p:nvSpPr>
        <p:spPr>
          <a:xfrm>
            <a:off x="971640" y="198900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个人卫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勤洗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不随地吐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室内空气流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多通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加强体育锻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生活有规律、饮食营养、睡眠充足、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增强抵抗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减少发病机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果同学、老师、家庭成员或周围人得了肺结核，请提醒他及时到当地结核病防治机构诊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8434"/>
          <p:cNvSpPr txBox="1"/>
          <p:nvPr/>
        </p:nvSpPr>
        <p:spPr>
          <a:xfrm>
            <a:off x="1692360" y="476280"/>
            <a:ext cx="5041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 </a:t>
            </a:r>
            <a:r>
              <a:rPr b="0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我们能做什么？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杜绝歧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痰涂片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阳性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肺结核病人是主要传染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肺结核病人开始接受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正规治疗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-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星期传染性就会逐渐消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结核病人，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尤其是同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应该给予关怀和照顾，不应该歧视结核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5363" descr="10-11"/>
          <p:cNvPicPr/>
          <p:nvPr/>
        </p:nvPicPr>
        <p:blipFill>
          <a:blip r:embed="rId2"/>
          <a:stretch/>
        </p:blipFill>
        <p:spPr>
          <a:xfrm>
            <a:off x="1258920" y="981000"/>
            <a:ext cx="60199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3" descr=""/>
          <p:cNvPicPr/>
          <p:nvPr/>
        </p:nvPicPr>
        <p:blipFill>
          <a:blip r:embed="rId1"/>
          <a:stretch/>
        </p:blipFill>
        <p:spPr>
          <a:xfrm>
            <a:off x="-22320" y="246240"/>
            <a:ext cx="915984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什么是结核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什么是结核病1"/>
          <p:cNvPicPr/>
          <p:nvPr/>
        </p:nvPicPr>
        <p:blipFill>
          <a:blip r:embed="rId1"/>
          <a:stretch/>
        </p:blipFill>
        <p:spPr>
          <a:xfrm>
            <a:off x="684360" y="1484280"/>
            <a:ext cx="75596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内容占位符 3" descr="p09a"/>
          <p:cNvPicPr/>
          <p:nvPr/>
        </p:nvPicPr>
        <p:blipFill>
          <a:blip r:embed="rId1"/>
          <a:stretch/>
        </p:blipFill>
        <p:spPr>
          <a:xfrm>
            <a:off x="123840" y="1714680"/>
            <a:ext cx="8577360" cy="414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怎样发现和诊断结核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怎样发现和诊断结核病1"/>
          <p:cNvPicPr/>
          <p:nvPr/>
        </p:nvPicPr>
        <p:blipFill>
          <a:blip r:embed="rId1"/>
          <a:stretch/>
        </p:blipFill>
        <p:spPr>
          <a:xfrm>
            <a:off x="611280" y="1495440"/>
            <a:ext cx="784836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文本占位符 28673" descr="结核病3"/>
          <p:cNvPicPr/>
          <p:nvPr/>
        </p:nvPicPr>
        <p:blipFill>
          <a:blip r:embed="rId1"/>
          <a:stretch/>
        </p:blipFill>
        <p:spPr>
          <a:xfrm>
            <a:off x="395280" y="260280"/>
            <a:ext cx="799164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2289"/>
          <p:cNvSpPr/>
          <p:nvPr/>
        </p:nvSpPr>
        <p:spPr>
          <a:xfrm>
            <a:off x="1908000" y="228600"/>
            <a:ext cx="53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肺结核的检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2290" descr="10-11"/>
          <p:cNvPicPr/>
          <p:nvPr/>
        </p:nvPicPr>
        <p:blipFill>
          <a:blip r:embed="rId1"/>
          <a:stretch/>
        </p:blipFill>
        <p:spPr>
          <a:xfrm>
            <a:off x="1523880" y="914400"/>
            <a:ext cx="6019920" cy="674640"/>
          </a:xfrm>
          <a:prstGeom prst="rect">
            <a:avLst/>
          </a:prstGeom>
          <a:ln w="0">
            <a:noFill/>
          </a:ln>
        </p:spPr>
      </p:pic>
      <p:sp>
        <p:nvSpPr>
          <p:cNvPr id="63" name="矩形 12291"/>
          <p:cNvSpPr/>
          <p:nvPr/>
        </p:nvSpPr>
        <p:spPr>
          <a:xfrm>
            <a:off x="530280" y="1671480"/>
            <a:ext cx="5265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500" spc="-1" strike="noStrike">
                <a:solidFill>
                  <a:srgbClr val="800080"/>
                </a:solidFill>
                <a:latin typeface="Arial"/>
                <a:ea typeface="黑体"/>
              </a:rPr>
              <a:t>地点：结核病防治机构或定点医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500" spc="-1" strike="noStrike">
                <a:solidFill>
                  <a:srgbClr val="800080"/>
                </a:solidFill>
                <a:latin typeface="Arial"/>
                <a:ea typeface="黑体"/>
              </a:rPr>
              <a:t>检查项目：</a:t>
            </a:r>
            <a:r>
              <a:rPr b="0" lang="en-US" sz="2500" spc="-1" strike="noStrike">
                <a:solidFill>
                  <a:srgbClr val="800080"/>
                </a:solidFill>
                <a:latin typeface="Arial"/>
                <a:ea typeface="黑体"/>
              </a:rPr>
              <a:t>X</a:t>
            </a:r>
            <a:r>
              <a:rPr b="0" lang="zh-CN" sz="2500" spc="-1" strike="noStrike">
                <a:solidFill>
                  <a:srgbClr val="800080"/>
                </a:solidFill>
                <a:latin typeface="Arial"/>
                <a:ea typeface="黑体"/>
              </a:rPr>
              <a:t>线胸片和痰涂片显微镜检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2292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240984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2293" descr=""/>
          <p:cNvPicPr/>
          <p:nvPr/>
        </p:nvPicPr>
        <p:blipFill>
          <a:blip r:embed="rId3"/>
          <a:stretch/>
        </p:blipFill>
        <p:spPr>
          <a:xfrm>
            <a:off x="6119640" y="1628640"/>
            <a:ext cx="3024360" cy="23623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294" descr=""/>
          <p:cNvPicPr/>
          <p:nvPr/>
        </p:nvPicPr>
        <p:blipFill>
          <a:blip r:embed="rId4"/>
          <a:stretch/>
        </p:blipFill>
        <p:spPr>
          <a:xfrm>
            <a:off x="5003640" y="4437000"/>
            <a:ext cx="26956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3313"/>
          <p:cNvSpPr/>
          <p:nvPr/>
        </p:nvSpPr>
        <p:spPr>
          <a:xfrm>
            <a:off x="1908000" y="228600"/>
            <a:ext cx="53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肺结核的治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3314" descr="10-11"/>
          <p:cNvPicPr/>
          <p:nvPr/>
        </p:nvPicPr>
        <p:blipFill>
          <a:blip r:embed="rId1"/>
          <a:stretch/>
        </p:blipFill>
        <p:spPr>
          <a:xfrm>
            <a:off x="1523880" y="914400"/>
            <a:ext cx="6019920" cy="674640"/>
          </a:xfrm>
          <a:prstGeom prst="rect">
            <a:avLst/>
          </a:prstGeom>
          <a:ln w="0">
            <a:noFill/>
          </a:ln>
        </p:spPr>
      </p:pic>
      <p:sp>
        <p:nvSpPr>
          <p:cNvPr id="69" name="矩形 13315"/>
          <p:cNvSpPr/>
          <p:nvPr/>
        </p:nvSpPr>
        <p:spPr>
          <a:xfrm>
            <a:off x="762120" y="1600200"/>
            <a:ext cx="769608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黑体"/>
              </a:rPr>
              <a:t>肺结核病人应该到专门的结核病防治机构接受正规的治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50"/>
                </a:solidFill>
                <a:latin typeface="方正舒体"/>
                <a:ea typeface="方正舒体"/>
              </a:rPr>
              <a:t>切莫随便就医</a:t>
            </a:r>
            <a:r>
              <a:rPr b="0" lang="en-US" sz="4000" spc="-1" strike="noStrike">
                <a:solidFill>
                  <a:srgbClr val="00b050"/>
                </a:solidFill>
                <a:latin typeface="方正舒体"/>
                <a:ea typeface="方正舒体"/>
              </a:rPr>
              <a:t>~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4214880" y="2214720"/>
            <a:ext cx="3592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42960" y="713880"/>
            <a:ext cx="80438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早期、联合、适量、规律、全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只要病人能够按照医生的要求全程不间断的完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6-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个月的疗程，绝大部分病人是能够治愈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3317" descr=""/>
          <p:cNvPicPr/>
          <p:nvPr/>
        </p:nvPicPr>
        <p:blipFill>
          <a:blip r:embed="rId1"/>
          <a:stretch/>
        </p:blipFill>
        <p:spPr>
          <a:xfrm>
            <a:off x="857160" y="3929040"/>
            <a:ext cx="3240000" cy="21891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3316" descr=""/>
          <p:cNvPicPr/>
          <p:nvPr/>
        </p:nvPicPr>
        <p:blipFill>
          <a:blip r:embed="rId2"/>
          <a:stretch/>
        </p:blipFill>
        <p:spPr>
          <a:xfrm>
            <a:off x="5143680" y="3929040"/>
            <a:ext cx="30286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08:19:31Z</dcterms:created>
  <dc:creator>User</dc:creator>
  <dc:description/>
  <cp:keywords/>
  <dc:language>en-US</dc:language>
  <cp:lastModifiedBy>China</cp:lastModifiedBy>
  <dcterms:modified xsi:type="dcterms:W3CDTF">2017-10-25T01:02:00Z</dcterms:modified>
  <cp:revision>72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89</vt:lpwstr>
  </property>
</Properties>
</file>