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057-4BF1-43A4-8EAE-73E291E9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036-67EC-4DB1-853A-772530FF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4FB-9481-4F06-9A5E-18494C67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508-DFBB-4ED2-88A0-561D53E5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5F5-1FFA-4306-9D71-004BE401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A0A-DAAD-4FC2-A7E0-DA080C1A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78A-0AEE-48C7-88B6-BDBF3E51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B58-3AE3-4101-A754-FD9E06A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E0E-E9B8-40DD-B6E7-70E54A31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94A-81AC-4AE7-A372-8630E8BD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777-FFE5-4525-91D2-2497C05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C64-191B-4BF2-ACFD-6177CB71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EB68-BC98-472D-8193-EA0C1C8897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内容占位符 3" descr="W4IBNU5{K)LNWM~AMU`C8%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内容占位符 3" descr="LCJ@LLSQ68(MUOQ@9{APH(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内容占位符 3" descr="Q)USW2]XKU((2V6Y1%@TZR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内容占位符 3" descr="W4IBNU5{K)LNWM~AMU`C8%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内容占位符 3" descr="b64422faf8137a7654f80cc0b3b24e54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内容占位符 3" descr="TN8WY~F9D4Z{C1$F}WSSPQN.jpg"/>
          <p:cNvPicPr/>
          <p:nvPr/>
        </p:nvPicPr>
        <p:blipFill>
          <a:blip r:embed="rId1"/>
          <a:stretch/>
        </p:blipFill>
        <p:spPr>
          <a:xfrm>
            <a:off x="0" y="-1900080"/>
            <a:ext cx="9144000" cy="87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内容占位符 3" descr="85EYBM64J{BHS{3(DY63B6F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1116000" y="1773360"/>
            <a:ext cx="705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不能随便拿别人的东西，借东西能主动归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向别人如何借东西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养成不拿别人东西的好习惯。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1042920" y="836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仿宋"/>
                <a:ea typeface="仿宋"/>
              </a:rPr>
              <a:t>活动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5" descr="%B8Z_I9~_`N(_OO_S]IF[[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QQ图片20160421221325.png"/>
          <p:cNvPicPr/>
          <p:nvPr/>
        </p:nvPicPr>
        <p:blipFill>
          <a:blip r:embed="rId2"/>
          <a:stretch/>
        </p:blipFill>
        <p:spPr>
          <a:xfrm>
            <a:off x="0" y="328464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内容占位符 3" descr="IX~%RJ)DHOB2MW87]64OHC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内容占位符 3" descr="~M6YGGZ_W[CNL05JCH263C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内容占位符 3" descr="](U)YQP9N`R(J8%PT$ZIK@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内容占位符 3" descr="T~WCOMQJ0YE}V6$T[WPV{S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内容占位符 3" descr="{H0X@D2_3E~VZ(5NIXHUO@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内容占位符 3" descr="(C4{$61(Q6)}I782B$LV_5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13:26:14Z</dcterms:created>
  <dc:creator>Administrator</dc:creator>
  <dc:description/>
  <dc:language>en-US</dc:language>
  <cp:lastModifiedBy>Administrator</cp:lastModifiedBy>
  <dcterms:modified xsi:type="dcterms:W3CDTF">2016-04-21T14:41:25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