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gif" ContentType="image/gif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770C-5BB5-4E9D-BF4A-229B32B35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749B-850C-48C7-BD19-C828DA11C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learned sth. about the ghost story. Please do Part C1on Page 64.[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完成课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页练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  Are the following statements true or false ? If the statements are not true, you must make changes to them and get them right.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句子有错，请改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Let’s check the answers now .[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让我们来校对一下答案吧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one is true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is false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isper came from the bushes behind the tree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is false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e told Andy everything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rth one is false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y found the ghost himself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fth one is true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one is false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y put the little cat into a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all the answers right? [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你都做对了吗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 Good!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91AD-F9FC-4C02-A205-2F2EEB67E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lesson more carefully and find the answers to the following questions[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仔细地阅读课文，回答以下问题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停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You have five minutes do it. When you read, you can underline the answers in your books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732B-4DD7-4D90-98EE-1D763510F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check the answers.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When did the story happen?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t happened on a Sunday morning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Who chatted as usual in the park?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Millie and Amy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chatted as usual in the park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What did they hear suddenly?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They heard whispers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57B3-86A0-47E1-B23B-DB8805427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How did they feel?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They felt frightened .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Who did they ask for hel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They asked Andy for help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Where did they take the cat?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They took it to the animal center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2751-B756-42C1-AFB4-3A68C9B32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read the lesson again. Please Do Part C2 on Page 64.[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完成课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练习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order the following sentences according to what Millie said.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讲的话给句子重新排序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Have you finished?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ct order should be :4,7,1,2,3,6,5 You can practise reading the sentences in the right order by yourselves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6669-3821-44CB-825A-ED9CAD021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most of you can ask good questions. I have a question for you.  Andy found a cat and took it to the animal center. Do you think what he did was good?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你认为他做得对吗？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see such a weak cat, what will you do with it ?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e m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ive it some food. We may  leave it alone and let its owner find it. We may take it home and keep it. ---</a:t>
            </a:r>
            <a:r>
              <a:rPr b="0" lang="zh-CN" sz="1200" spc="-1" strike="noStrike">
                <a:solidFill>
                  <a:srgbClr val="ffff00"/>
                </a:solidFill>
                <a:latin typeface="Arial"/>
              </a:rPr>
              <a:t>Ｉ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pe you won’t hurt it because animals are our friends. We should live in harmony with them.</a:t>
            </a:r>
            <a:r>
              <a:rPr b="0" lang="zh-CN" sz="1200" spc="-1" strike="noStrike">
                <a:solidFill>
                  <a:srgbClr val="ffff00"/>
                </a:solidFill>
                <a:latin typeface="Arial"/>
              </a:rPr>
              <a:t>我们要和动物和谐相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5898-9222-4A9C-AB16-E21F73532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mewo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ead the text after the tape.2 Retell the text in your own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（出镜）小结：今天我们学习了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host in the park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这篇课文．通过学习我们理解了文章内容，并掌握了新的词汇和句型．相信同学们收获了许多．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you.bye.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（出镜止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6B23-DF59-453F-9611-39441EA74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plants grow without lightening?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ey can’t. There is no plant life without lightening. Can we sneeze and keep our eyes open at the same time?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e can’t.  We can’t sneeze and keep our eyes open at the same time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86C4-EDBA-4E69-99B9-C5A4FCFAB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: Look at the picture. Is this amazing? What’s it?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: It may be 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h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[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可能是个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: I’m afraid of ghosts. I’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frighten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[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感到害怕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Are you frightened when you see the ghost in the picture?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0AF3-31F3-4577-8FD2-4103E108D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like ghost stories? Now I’d like to tell you o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（点击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’s mother went out for a holiday for a few days. She left Tom alone at home. She asked the boy to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take care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[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她叫男孩照看好自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following 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m got back hom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s us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[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天，汤姆像往常一样回到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The door was open. It wa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unus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[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很不寻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933D-2B55-47B0-99C5-9892CA6BF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ooked arou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!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bod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as there. But he heard a strang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hisp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 his house! He was frightened. [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小心地四下张望，周围没有人。但是他听到了耳语声，他感到害怕的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asked in 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eak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, “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nybod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re?” Nobody answered. So 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arch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in the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用虚弱的声音问到：“这儿有人吗？”没有人回答。于是他在房间里四处搜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F95E-953D-4A27-90A4-70790967F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we’ll learn a ghost story. Last Sunday, Millie and Amy heard a “ghost” in Sunshine Park. Now open your English book,turn to Page62. Read and answer what the ghost was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it was only a weak cat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点击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C80-1EA0-489D-9D9E-40A89968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224D-595E-422F-B387-34A5A537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9FF-6FAC-4C4F-B45E-B5789CB4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F29-DA6F-4607-BF3F-3150310F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086B-1D52-4E0B-8773-67157327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714A-F45F-450F-9CEE-B5F41947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8A3D-78C0-410D-A4B1-366864AC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D7F7-9D84-4D3B-948E-674185F0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BCDB-B075-4105-B5F0-1270B9EB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0AF4-484F-4223-B120-2A2EB5E1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9EC6-9364-4524-8F00-DCB2B938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E44-A2B9-4220-B174-A4755960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21F3-6458-4065-B930-DEA24A7C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085F-E9ED-46CB-AC2C-205507D9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D131-3BBE-4796-A6B5-45448B9C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AA9B-5AA1-420C-8F53-8BB7D3DE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1A83-8AC7-4E04-82FA-B0E25256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6BB-CE1E-4691-BFB5-994D298D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57AB-D442-4309-B8A8-A38AF56A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D5D-5311-4A80-ADB5-017477F5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FD4D-BC6B-40A3-9A8B-D0560B4A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09A-BD8F-463C-865A-35644A35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4D4-00A5-4FF3-A21E-F043E9F0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869-684D-46B6-B671-BA65517A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9E60-5031-4D6C-8B53-B8ED32856DC7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39D3-F0A4-48A2-AD72-203C71D762C1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1628280"/>
            <a:ext cx="7812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ff"/>
                </a:solidFill>
                <a:latin typeface="Monotype Corsiva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050920" y="3645000"/>
            <a:ext cx="612144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547640" y="765000"/>
            <a:ext cx="603252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牛津初中英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7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it 4  Amazing things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主讲教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: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张鸿霄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（溧阳市上兴中学）</a:t>
            </a:r>
            <a:br>
              <a:rPr sz="24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92360" y="1196640"/>
            <a:ext cx="7129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Millie was frightened when she heard the whisper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The whisper came from the top of the tree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Amy     told Andy everything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A teacher helped Andy find the ghost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Andy found a small cat in the bushes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Andy put the little cat into a bag  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4140360" y="1123920"/>
            <a:ext cx="58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0" y="2205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0" y="19810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440" y="27813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160200" y="208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1332000" y="0"/>
            <a:ext cx="669744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a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ollowing 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ntenc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'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' or '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1187280" y="1341360"/>
            <a:ext cx="505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cc"/>
                </a:solidFill>
                <a:latin typeface="Times New Roman"/>
              </a:rPr>
              <a:t>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3"/>
          <p:cNvSpPr/>
          <p:nvPr/>
        </p:nvSpPr>
        <p:spPr>
          <a:xfrm>
            <a:off x="1258920" y="2421000"/>
            <a:ext cx="323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cc"/>
                </a:solidFill>
                <a:latin typeface="Times New Roman"/>
              </a:rPr>
              <a:t>F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4"/>
          <p:cNvSpPr/>
          <p:nvPr/>
        </p:nvSpPr>
        <p:spPr>
          <a:xfrm>
            <a:off x="1258920" y="2997360"/>
            <a:ext cx="323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cc"/>
                </a:solidFill>
                <a:latin typeface="Times New Roman"/>
              </a:rPr>
              <a:t>F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"/>
          <p:cNvSpPr/>
          <p:nvPr/>
        </p:nvSpPr>
        <p:spPr>
          <a:xfrm>
            <a:off x="1258920" y="3573360"/>
            <a:ext cx="360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cc"/>
                </a:solidFill>
                <a:latin typeface="Times New Roman"/>
              </a:rPr>
              <a:t>F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6"/>
          <p:cNvSpPr/>
          <p:nvPr/>
        </p:nvSpPr>
        <p:spPr>
          <a:xfrm flipV="1" rot="10800000">
            <a:off x="1258920" y="4220280"/>
            <a:ext cx="379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cc"/>
                </a:solidFill>
                <a:latin typeface="Times New Roman"/>
              </a:rPr>
              <a:t>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1258920" y="4869000"/>
            <a:ext cx="323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cc"/>
                </a:solidFill>
                <a:latin typeface="Times New Roman"/>
              </a:rPr>
              <a:t>F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5651640" y="2421000"/>
            <a:ext cx="2952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us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2050920" y="2997360"/>
            <a:ext cx="1008360" cy="444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Milli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2050920" y="3645000"/>
            <a:ext cx="3457800" cy="444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DotumChe"/>
              </a:rPr>
              <a:t>Andy himself  foun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1"/>
          <p:cNvSpPr/>
          <p:nvPr/>
        </p:nvSpPr>
        <p:spPr>
          <a:xfrm>
            <a:off x="6372360" y="4797360"/>
            <a:ext cx="1008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663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Careful reading</a:t>
            </a:r>
            <a:endParaRPr b="0" lang="en-US" sz="4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704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When did the story happen?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Who chatted as usual in the park?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What did they hear suddenly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How did they feel?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Who did they ask for help?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Where did they take the cat? 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210200" y="317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017440" y="1557000"/>
            <a:ext cx="626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When did the story happen?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t happened on a Sunday morning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Who chatted as usual in the park?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illie and Amy</a:t>
            </a:r>
            <a:r>
              <a:rPr b="0" lang="en-US" sz="2800" spc="-1" strike="noStrike">
                <a:solidFill>
                  <a:srgbClr val="cc00cc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hatted as usual in the park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What did they hear suddenly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y heard whispers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8" name="Rectangle 119"/>
          <p:cNvSpPr/>
          <p:nvPr/>
        </p:nvSpPr>
        <p:spPr>
          <a:xfrm>
            <a:off x="37051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04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How did they feel?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y felt frighten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Who did they ask for help?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y asked Andy for help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Where did they take the cat? 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y took it to the animal center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zoom dir="ou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438280" y="0"/>
            <a:ext cx="4953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40" y="46080"/>
            <a:ext cx="3996000" cy="3456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4920" y="3502080"/>
            <a:ext cx="3962520" cy="3384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932360" y="44280"/>
            <a:ext cx="4105440" cy="338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627280" y="3573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nt to the pa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59640" y="357336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tted  unde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0000" y="4221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rd a whis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16720" y="422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ed ar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51280" y="4797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oul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7640" y="4869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lt frighte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08360" y="5300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 away quick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5805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 Andy f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57340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k ...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476000" y="1413000"/>
            <a:ext cx="6653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959120" y="98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755640" y="155736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Is there a real ghost in the worl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. If you are that weak cat, what will you say to Andy ,Millie and Am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54936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 Rounded MT Bold"/>
              </a:rPr>
              <a:t>根据课文内容填空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4981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ne _______ morning, Millie and Amy w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hine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Park.________, they heard a ______ from the bushes behind the tree. They turned around but could not see anything________. They were _________  and told Andy everything. Andy listened___________ and he was sure the sound came from the ________. He searched and found a little cat in the bushes. The cat was very______. Andy put it into a box and told Millie and Amy what happened just now. Millie and Amy were_______ after they listened. Then they______ the cat to the animal _____.People in the centre would ______   ______ of it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"/>
          <p:cNvSpPr/>
          <p:nvPr/>
        </p:nvSpPr>
        <p:spPr>
          <a:xfrm flipV="1" rot="10796400">
            <a:off x="1402560" y="6919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n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17800" y="105264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dden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89080" y="112536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s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84720" y="1916280"/>
            <a:ext cx="14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usu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47640" y="227664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ighte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95640" y="263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efu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3068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10880" y="3357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a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950160" y="42210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rpri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76720" y="4508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494172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ent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04000" y="5013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8160" y="5300640"/>
            <a:ext cx="10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5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5"/>
          <p:cNvSpPr/>
          <p:nvPr/>
        </p:nvSpPr>
        <p:spPr>
          <a:xfrm>
            <a:off x="2411280" y="126828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403280" y="2349360"/>
            <a:ext cx="676908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Read the text after the tap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Retell the text in your own wor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755640" y="836640"/>
            <a:ext cx="658800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Thank you!</a:t>
            </a:r>
            <a:endParaRPr b="1" lang="en-US" sz="6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185" name="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4437000"/>
            <a:ext cx="988920" cy="1295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9640" y="2492280"/>
            <a:ext cx="459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My     school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899964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4159080" cy="30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4360" y="3573360"/>
            <a:ext cx="4176720" cy="3024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45320" y="2014560"/>
            <a:ext cx="4557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549360"/>
            <a:ext cx="230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3640" y="1268280"/>
            <a:ext cx="37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gs can not look up into the sk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4653000"/>
            <a:ext cx="39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rim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' hearts are in their  hea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Giraffes can not cough.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5796000" y="1989000"/>
            <a:ext cx="298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 ghos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feel frighten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 feel afra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OT_0616"/>
          <p:cNvPicPr/>
          <p:nvPr/>
        </p:nvPicPr>
        <p:blipFill>
          <a:blip r:embed="rId1"/>
          <a:stretch/>
        </p:blipFill>
        <p:spPr>
          <a:xfrm>
            <a:off x="684360" y="620640"/>
            <a:ext cx="1441440" cy="1944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2340000" y="765000"/>
            <a:ext cx="401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ke care of himsel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RM_0582"/>
          <p:cNvPicPr/>
          <p:nvPr/>
        </p:nvPicPr>
        <p:blipFill>
          <a:blip r:embed="rId2"/>
          <a:stretch/>
        </p:blipFill>
        <p:spPr>
          <a:xfrm>
            <a:off x="2627280" y="2205000"/>
            <a:ext cx="1727280" cy="19432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9"/>
          <p:cNvSpPr/>
          <p:nvPr/>
        </p:nvSpPr>
        <p:spPr>
          <a:xfrm>
            <a:off x="4716360" y="2205000"/>
            <a:ext cx="4392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ollowing da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eful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832200" y="5156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2700360" y="4724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4920" y="44280"/>
            <a:ext cx="36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 Ghost 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RM_0386"/>
          <p:cNvPicPr/>
          <p:nvPr/>
        </p:nvPicPr>
        <p:blipFill>
          <a:blip r:embed="rId3"/>
          <a:stretch/>
        </p:blipFill>
        <p:spPr>
          <a:xfrm>
            <a:off x="4932360" y="3789360"/>
            <a:ext cx="1941480" cy="22305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7236000" y="3860640"/>
            <a:ext cx="38908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ghtened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bo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sp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RM_0844"/>
          <p:cNvPicPr/>
          <p:nvPr/>
        </p:nvPicPr>
        <p:blipFill>
          <a:blip r:embed="rId1"/>
          <a:stretch/>
        </p:blipFill>
        <p:spPr>
          <a:xfrm>
            <a:off x="1981080" y="2422440"/>
            <a:ext cx="3670560" cy="316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003640" y="189000"/>
            <a:ext cx="3024360" cy="244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51640" y="404640"/>
            <a:ext cx="1904760" cy="1819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5724360" y="3789360"/>
            <a:ext cx="295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ak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ybod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851280" y="55944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OT_0616"/>
          <p:cNvPicPr/>
          <p:nvPr/>
        </p:nvPicPr>
        <p:blipFill>
          <a:blip r:embed="rId1"/>
          <a:stretch/>
        </p:blipFill>
        <p:spPr>
          <a:xfrm>
            <a:off x="900000" y="476280"/>
            <a:ext cx="1613160" cy="218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RM_0582"/>
          <p:cNvPicPr/>
          <p:nvPr/>
        </p:nvPicPr>
        <p:blipFill>
          <a:blip r:embed="rId2"/>
          <a:stretch/>
        </p:blipFill>
        <p:spPr>
          <a:xfrm>
            <a:off x="4716360" y="476280"/>
            <a:ext cx="1656000" cy="2187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RM_0386"/>
          <p:cNvPicPr/>
          <p:nvPr/>
        </p:nvPicPr>
        <p:blipFill>
          <a:blip r:embed="rId3"/>
          <a:stretch/>
        </p:blipFill>
        <p:spPr>
          <a:xfrm>
            <a:off x="828720" y="3429000"/>
            <a:ext cx="165564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RM_0844"/>
          <p:cNvPicPr/>
          <p:nvPr/>
        </p:nvPicPr>
        <p:blipFill>
          <a:blip r:embed="rId4"/>
          <a:stretch/>
        </p:blipFill>
        <p:spPr>
          <a:xfrm>
            <a:off x="4716360" y="3502080"/>
            <a:ext cx="1656000" cy="2185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2627280" y="836640"/>
            <a:ext cx="4013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ke care of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msel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372360" y="1125360"/>
            <a:ext cx="43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ollowing da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eful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556000" y="3502080"/>
            <a:ext cx="388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ghtened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bo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sp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6445080" y="3502080"/>
            <a:ext cx="295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ak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bod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848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When did Millie and Amy go to Sunshine Park?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Sunday morning.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What was the ghost?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was a little cat.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0:33:42Z</dcterms:created>
  <dc:creator>本资料由苏科版数学资源网 www.sxskb.com 收集整理</dc:creator>
  <dc:description>本资料由苏科版数学资源网 www.sxskb.com 收集整理</dc:description>
  <cp:keywords/>
  <dc:language>en-US</dc:language>
  <cp:lastModifiedBy>*</cp:lastModifiedBy>
  <cp:lastPrinted>1899-12-30T00:00:00Z</cp:lastPrinted>
  <dcterms:modified xsi:type="dcterms:W3CDTF">2009-04-21T12:10:51Z</dcterms:modified>
  <cp:revision>327</cp:revision>
  <dc:subject>本资料由苏科版数学资源网 www.sxskb.com 收集整理</dc:subject>
  <dc:title>本资料由苏科版数学资源网 www.sxskb.com 收集整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