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5.jpeg" ContentType="image/jpeg"/>
  <Override PartName="/ppt/media/image26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4.gif" ContentType="image/gif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36A3-8D9C-4F14-9B49-E019894C0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719C-132C-40ED-B3C8-D7275B0F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8D3D-8334-458A-9106-AAD3CF620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E0FA-7ABC-4CDD-8661-E0BD92C43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DE4A-8CE4-4CFE-ACBF-ED465BA8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FF02-4BC2-4CA1-9E9E-284D535F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0817-CC86-4F8F-9C25-B4FB2904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089D-49D7-436A-90F3-13E678A8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DF2D-829B-4B78-AE17-532C346F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C8F0-C051-43D0-8501-9B90714C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DF1E-A7D5-4009-A1C6-A401A63A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DE2B-C97E-41A9-83AD-8D2D0883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387C-D7C1-40E7-A904-7E261968D1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11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1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1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" Target="slide1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2.xml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" Target="slide13.xml"/><Relationship Id="rId5" Type="http://schemas.openxmlformats.org/officeDocument/2006/relationships/image" Target="../media/image4.gif"/><Relationship Id="rId6" Type="http://schemas.openxmlformats.org/officeDocument/2006/relationships/slide" Target="slide10.xml"/><Relationship Id="rId7" Type="http://schemas.openxmlformats.org/officeDocument/2006/relationships/image" Target="../media/image4.gif"/><Relationship Id="rId8" Type="http://schemas.openxmlformats.org/officeDocument/2006/relationships/slide" Target="slide11.xml"/><Relationship Id="rId9" Type="http://schemas.openxmlformats.org/officeDocument/2006/relationships/image" Target="../media/image4.gif"/><Relationship Id="rId10" Type="http://schemas.openxmlformats.org/officeDocument/2006/relationships/slide" Target="slide8.xml"/><Relationship Id="rId11" Type="http://schemas.openxmlformats.org/officeDocument/2006/relationships/image" Target="../media/image4.gif"/><Relationship Id="rId12" Type="http://schemas.openxmlformats.org/officeDocument/2006/relationships/slide" Target="slide3.xml"/><Relationship Id="rId13" Type="http://schemas.openxmlformats.org/officeDocument/2006/relationships/image" Target="../media/image4.gif"/><Relationship Id="rId14" Type="http://schemas.openxmlformats.org/officeDocument/2006/relationships/slide" Target="slide4.xml"/><Relationship Id="rId15" Type="http://schemas.openxmlformats.org/officeDocument/2006/relationships/image" Target="../media/image4.gif"/><Relationship Id="rId16" Type="http://schemas.openxmlformats.org/officeDocument/2006/relationships/slide" Target="slide5.xml"/><Relationship Id="rId17" Type="http://schemas.openxmlformats.org/officeDocument/2006/relationships/image" Target="../media/image4.gif"/><Relationship Id="rId18" Type="http://schemas.openxmlformats.org/officeDocument/2006/relationships/slide" Target="slide6.xml"/><Relationship Id="rId19" Type="http://schemas.openxmlformats.org/officeDocument/2006/relationships/image" Target="../media/image4.gif"/><Relationship Id="rId20" Type="http://schemas.openxmlformats.org/officeDocument/2006/relationships/slide" Target="slide7.xml"/><Relationship Id="rId21" Type="http://schemas.openxmlformats.org/officeDocument/2006/relationships/image" Target="../media/image4.gif"/><Relationship Id="rId22" Type="http://schemas.openxmlformats.org/officeDocument/2006/relationships/slide" Target="slide9.xml"/><Relationship Id="rId23" Type="http://schemas.openxmlformats.org/officeDocument/2006/relationships/image" Target="../media/image4.gif"/><Relationship Id="rId24" Type="http://schemas.openxmlformats.org/officeDocument/2006/relationships/slide" Target="slide12.xml"/><Relationship Id="rId25" Type="http://schemas.openxmlformats.org/officeDocument/2006/relationships/image" Target="../media/image4.gif"/><Relationship Id="rId26" Type="http://schemas.openxmlformats.org/officeDocument/2006/relationships/image" Target="../media/image4.gif"/><Relationship Id="rId27" Type="http://schemas.openxmlformats.org/officeDocument/2006/relationships/slide" Target="slide1.xml"/><Relationship Id="rId28" Type="http://schemas.openxmlformats.org/officeDocument/2006/relationships/image" Target="../media/image4.gif"/><Relationship Id="rId29" Type="http://schemas.openxmlformats.org/officeDocument/2006/relationships/image" Target="../media/image4.gif"/><Relationship Id="rId30" Type="http://schemas.openxmlformats.org/officeDocument/2006/relationships/image" Target="../media/image4.gif"/><Relationship Id="rId31" Type="http://schemas.openxmlformats.org/officeDocument/2006/relationships/image" Target="../media/image4.gif"/><Relationship Id="rId3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" Target="slide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" Target="slide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" Target="slide7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" Target="slide2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" Target="slide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0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jianbian" descr=""/>
          <p:cNvPicPr/>
          <p:nvPr/>
        </p:nvPicPr>
        <p:blipFill>
          <a:blip r:embed="rId1"/>
          <a:stretch/>
        </p:blipFill>
        <p:spPr>
          <a:xfrm>
            <a:off x="168120" y="-1728720"/>
            <a:ext cx="7772400" cy="228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14600" y="380880"/>
            <a:ext cx="4495680" cy="63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地球——人类的母亲</a:t>
            </a:r>
            <a:br>
              <a:rPr sz="2000"/>
            </a:b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她摆脱过多少</a:t>
            </a:r>
            <a:br>
              <a:rPr sz="2000"/>
            </a:b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漫漫黑夜的折磨</a:t>
            </a:r>
            <a:br>
              <a:rPr sz="2000"/>
            </a:b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翻过去她却难忘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地球——人类的母亲</a:t>
            </a:r>
            <a:br>
              <a:rPr sz="2000"/>
            </a:b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她有机生还</a:t>
            </a:r>
            <a:br>
              <a:rPr sz="2000"/>
            </a:b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是绿色的蓬勃</a:t>
            </a:r>
            <a:br>
              <a:rPr sz="2000"/>
            </a:b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让它停留在永久的梦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向和平进军吧</a:t>
            </a:r>
            <a:br>
              <a:rPr sz="2000"/>
            </a:b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不要再用子弹斗争</a:t>
            </a:r>
            <a:br>
              <a:rPr sz="2000"/>
            </a:b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美好的和平协议使用血写就</a:t>
            </a:r>
            <a:br>
              <a:rPr sz="2000"/>
            </a:b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拆掉炸弹人类要作和平的使者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浓缩正义向邪恶斗争</a:t>
            </a:r>
            <a:br>
              <a:rPr sz="2000"/>
            </a:b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拿起画笔为和平插上翅膀</a:t>
            </a:r>
            <a:br>
              <a:rPr sz="2000"/>
            </a:b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用不同的语言</a:t>
            </a:r>
            <a:br>
              <a:rPr sz="2000"/>
            </a:b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用生命为和平呼唤呐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8001000" y="6324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14400" y="0"/>
            <a:ext cx="36576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隶书"/>
              </a:rPr>
              <a:t>战争</a:t>
            </a: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隶书"/>
              </a:rPr>
              <a:t>and</a:t>
            </a: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隶书"/>
              </a:rPr>
              <a:t>和平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Image1" descr=""/>
          <p:cNvPicPr/>
          <p:nvPr/>
        </p:nvPicPr>
        <p:blipFill>
          <a:blip r:embed="rId1"/>
          <a:stretch/>
        </p:blipFill>
        <p:spPr>
          <a:xfrm>
            <a:off x="3124080" y="1676520"/>
            <a:ext cx="5639040" cy="40114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143000" y="22096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轰隆的坦克、惊飞的鸽子在一起，不知是预示和平的到来还是和平的远去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715000" y="1371600"/>
            <a:ext cx="2819520" cy="2895480"/>
            <a:chOff x="5715000" y="1371600"/>
            <a:chExt cx="2819520" cy="2895480"/>
          </a:xfrm>
        </p:grpSpPr>
        <p:sp>
          <p:nvSpPr>
            <p:cNvPr id="155" name=""/>
            <p:cNvSpPr/>
            <p:nvPr/>
          </p:nvSpPr>
          <p:spPr>
            <a:xfrm>
              <a:off x="6172200" y="1905120"/>
              <a:ext cx="1752840" cy="17524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629400" y="2286000"/>
              <a:ext cx="914400" cy="9144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15000" y="2743200"/>
              <a:ext cx="2819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86600" y="1371600"/>
              <a:ext cx="0" cy="2895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1295280" y="6324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3" action="ppaction://hlinksldjump"/>
          </p:cNvPr>
          <p:cNvSpPr/>
          <p:nvPr/>
        </p:nvSpPr>
        <p:spPr>
          <a:xfrm>
            <a:off x="2971800" y="6324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回目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28600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1_1-1-1394-338_2002051034633" descr=""/>
          <p:cNvPicPr/>
          <p:nvPr/>
        </p:nvPicPr>
        <p:blipFill>
          <a:blip r:embed="rId1"/>
          <a:stretch/>
        </p:blipFill>
        <p:spPr>
          <a:xfrm>
            <a:off x="457200" y="1789200"/>
            <a:ext cx="7620120" cy="49165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838080" y="1522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每年，大量的儿童被强征成为娃娃兵。什么是童年的幸福在他们身上完全体现不到，除了使用枪支，除了杀人，他们一事无成。但到底又是谁摧残了这些幼小的心灵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97120" y="152280"/>
            <a:ext cx="26182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黑体"/>
              </a:rPr>
              <a:t>燃烧的血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8001000" y="5715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3" action="ppaction://hlinksldjump"/>
          </p:cNvPr>
          <p:cNvSpPr/>
          <p:nvPr/>
        </p:nvSpPr>
        <p:spPr>
          <a:xfrm>
            <a:off x="8077320" y="6248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回目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200400" y="0"/>
            <a:ext cx="41148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隶书"/>
              </a:rPr>
              <a:t>拒绝武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枪炮与玫瑰" descr=""/>
          <p:cNvPicPr/>
          <p:nvPr/>
        </p:nvPicPr>
        <p:blipFill>
          <a:blip r:embed="rId1"/>
          <a:stretch/>
        </p:blipFill>
        <p:spPr>
          <a:xfrm>
            <a:off x="1819440" y="762120"/>
            <a:ext cx="4047840" cy="5400720"/>
          </a:xfrm>
          <a:prstGeom prst="rect">
            <a:avLst/>
          </a:prstGeom>
          <a:ln w="0">
            <a:noFill/>
          </a:ln>
        </p:spPr>
      </p:pic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4343400" y="640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3" action="ppaction://hlinksldjump"/>
          </p:cNvPr>
          <p:cNvSpPr/>
          <p:nvPr/>
        </p:nvSpPr>
        <p:spPr>
          <a:xfrm>
            <a:off x="5867280" y="640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回目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419720" y="0"/>
            <a:ext cx="2971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1-1-354693_03s%5B1%5D" descr=""/>
          <p:cNvPicPr/>
          <p:nvPr/>
        </p:nvPicPr>
        <p:blipFill>
          <a:blip r:embed="rId1"/>
          <a:stretch/>
        </p:blipFill>
        <p:spPr>
          <a:xfrm>
            <a:off x="5121360" y="317520"/>
            <a:ext cx="3781440" cy="4254480"/>
          </a:xfrm>
          <a:prstGeom prst="rect">
            <a:avLst/>
          </a:prstGeom>
          <a:ln w="0">
            <a:noFill/>
          </a:ln>
        </p:spPr>
      </p:pic>
      <p:pic>
        <p:nvPicPr>
          <p:cNvPr id="174" name="news-20030310-1725-12%5B1%5D" descr=""/>
          <p:cNvPicPr/>
          <p:nvPr/>
        </p:nvPicPr>
        <p:blipFill>
          <a:blip r:embed="rId2"/>
          <a:stretch/>
        </p:blipFill>
        <p:spPr>
          <a:xfrm>
            <a:off x="228600" y="2971800"/>
            <a:ext cx="464832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80880" y="-763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隶书"/>
              </a:rPr>
              <a:t>烽烟再起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266840"/>
            <a:ext cx="40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这世界刚刚经历过太多的磨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可是现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四方战火又熊熊燃起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人们惊魂未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但又不得不开始新的梦魇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3" action="ppaction://hlinksldjump"/>
          </p:cNvPr>
          <p:cNvSpPr/>
          <p:nvPr/>
        </p:nvSpPr>
        <p:spPr>
          <a:xfrm>
            <a:off x="6248520" y="6324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4" action="ppaction://hlinksldjump"/>
          </p:cNvPr>
          <p:cNvSpPr/>
          <p:nvPr/>
        </p:nvSpPr>
        <p:spPr>
          <a:xfrm>
            <a:off x="7696080" y="6324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回目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80880" y="4191120"/>
            <a:ext cx="4876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2003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日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点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40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分，美国开始向伊拉克发起空袭，第二次海湾战争开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我们看到的不是绚丽的焰火，更不是传说中可以让你许愿的流星雨，这是夜光弹在燃烧、是导弹在咆哮，是人类向人类发起的新的兄弟之争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放空曳光弹照亮巴格达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4686480" cy="367344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181" name="总统浮遭炸" descr=""/>
          <p:cNvPicPr/>
          <p:nvPr/>
        </p:nvPicPr>
        <p:blipFill>
          <a:blip r:embed="rId2"/>
          <a:stretch/>
        </p:blipFill>
        <p:spPr>
          <a:xfrm>
            <a:off x="5486400" y="1066680"/>
            <a:ext cx="3387600" cy="4648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5638680" y="6095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3" action="ppaction://hlinksldjump"/>
          </p:cNvPr>
          <p:cNvSpPr/>
          <p:nvPr/>
        </p:nvSpPr>
        <p:spPr>
          <a:xfrm>
            <a:off x="7315200" y="6095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回目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05520" y="763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黎明的烟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_1049048643_033103" descr=""/>
          <p:cNvPicPr/>
          <p:nvPr/>
        </p:nvPicPr>
        <p:blipFill>
          <a:blip r:embed="rId1"/>
          <a:stretch/>
        </p:blipFill>
        <p:spPr>
          <a:xfrm>
            <a:off x="0" y="1293840"/>
            <a:ext cx="9144000" cy="55306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905120" y="0"/>
            <a:ext cx="3657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黑体"/>
              </a:rPr>
              <a:t>背井离乡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29528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当美英联军攻破伊拉克城市巴士拉后，大批的伊拉克人民背井离乡，逃往边境上的难民营。人道主义危机在伊拉克迅速的大面积蔓延。（身后是油井被点燃后散发出来的滚滚浓烟。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6324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7696080" y="6324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回目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残不人堵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4191120" cy="28576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066680" y="6095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2" action="ppaction://hlinksldjump"/>
          </p:cNvPr>
          <p:cNvSpPr/>
          <p:nvPr/>
        </p:nvSpPr>
        <p:spPr>
          <a:xfrm>
            <a:off x="2971800" y="6095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回目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永远的受害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1_1-1-23-528_20030417112421" descr=""/>
          <p:cNvPicPr/>
          <p:nvPr/>
        </p:nvPicPr>
        <p:blipFill>
          <a:blip r:embed="rId3"/>
          <a:stretch/>
        </p:blipFill>
        <p:spPr>
          <a:xfrm>
            <a:off x="6292800" y="3048120"/>
            <a:ext cx="2394000" cy="35812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04920" y="4038480"/>
            <a:ext cx="44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战争中，英雄得到了荣誉和赞赏，战胜者得到了财富和尊严，然而，儿童得到了什么？天知道，他们没有得到任何东西，却失去了天真的童年和浪漫的青春甚至是——生命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32800" y="3048120"/>
            <a:ext cx="1095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在美英联军轰炸中受伤的伊拉克儿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受伤的伊拉克儿童" descr=""/>
          <p:cNvPicPr/>
          <p:nvPr/>
        </p:nvPicPr>
        <p:blipFill>
          <a:blip r:embed="rId4"/>
          <a:stretch/>
        </p:blipFill>
        <p:spPr>
          <a:xfrm>
            <a:off x="5105520" y="228600"/>
            <a:ext cx="3581280" cy="2709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029200" y="1279440"/>
            <a:ext cx="38862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这里是《一千零一夜》的故乡，这里孕育了辉煌灿烂的古巴比伦文化，这里曾建成了世界上第一座城市——乌尔国，这里曾经出现了世界上最早的文字之一——楔形文字，两河文明在这里发出耀眼的光芒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1990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第一次海湾战争以后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伊拉克有大批的文物被抢，两河之宝流失在全世界各个角落。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2003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月，惨剧再次出现：据统计，巴格达被攻占后，伊拉克国家博物馆被哄抢，共计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17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万件珍贵文物被抢走，今后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整个地球将成为最大的伊拉克国家博物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0"/>
            <a:ext cx="556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黑体"/>
              </a:rPr>
              <a:t>文明的沦落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0" y="1295280"/>
            <a:ext cx="4584240" cy="5410080"/>
            <a:chOff x="0" y="1295280"/>
            <a:chExt cx="4584240" cy="5410080"/>
          </a:xfrm>
        </p:grpSpPr>
        <p:pic>
          <p:nvPicPr>
            <p:cNvPr id="201" name="pic2" descr=""/>
            <p:cNvPicPr/>
            <p:nvPr/>
          </p:nvPicPr>
          <p:blipFill>
            <a:blip r:embed="rId1">
              <a:grayscl/>
            </a:blip>
            <a:srcRect l="0" t="0" r="39223" b="0"/>
            <a:stretch/>
          </p:blipFill>
          <p:spPr>
            <a:xfrm>
              <a:off x="80280" y="1295280"/>
              <a:ext cx="450396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0" y="6211440"/>
              <a:ext cx="25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古巴比伦门复原图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6248520" y="6324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96080" y="6324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回目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oldphoto9-010" descr=""/>
          <p:cNvPicPr/>
          <p:nvPr/>
        </p:nvPicPr>
        <p:blipFill>
          <a:blip r:embed="rId1"/>
          <a:srcRect l="0" t="0" r="19229" b="0"/>
          <a:stretch/>
        </p:blipFill>
        <p:spPr>
          <a:xfrm>
            <a:off x="304920" y="1219320"/>
            <a:ext cx="4800600" cy="49035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62120" y="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隶书"/>
              </a:rPr>
              <a:t>祈祷和平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6248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下一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2743200" y="6248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回目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10080" y="83808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战争，无论是正义的还是非正义的，对人类来说都是一场醒不了的噩梦，人们用血和生命见证了太多的教训，但是对这些教训却视而不见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脚下的白骨告诉我们：战争是残酷的。墓碑里的灵魂告诉我们：战争的代价是沉痛的，要用战争得到回报，就要用更大的代价回报战争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面对战争，我们有无限的感慨，但是太多的东西阻碍了我们的表达，只剩下哭泣。于是，我们用泪水和着内心的悲愤向世界呼喊：停止战争，和平万岁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让我们双手合十，收起罪恶的心一起祈祷吧，祈祷这世界不再有杀伐，不再有流血，不再让年轻的生命随意的看不见阳光，让我们高呼：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STOP WAR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！！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1828800" y="212760"/>
            <a:ext cx="6248520" cy="5864760"/>
            <a:chOff x="1828800" y="212760"/>
            <a:chExt cx="6248520" cy="5864760"/>
          </a:xfrm>
        </p:grpSpPr>
        <p:sp>
          <p:nvSpPr>
            <p:cNvPr id="212" name=""/>
            <p:cNvSpPr/>
            <p:nvPr/>
          </p:nvSpPr>
          <p:spPr>
            <a:xfrm>
              <a:off x="1981080" y="212760"/>
              <a:ext cx="6096240" cy="58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华文行楷"/>
                  <a:ea typeface="华文行楷"/>
                </a:rPr>
                <a:t>  </a:t>
              </a:r>
              <a:r>
                <a:rPr b="1" lang="zh-CN" sz="4400" spc="-1" strike="noStrike">
                  <a:solidFill>
                    <a:srgbClr val="ff0000"/>
                  </a:solidFill>
                  <a:latin typeface="华文行楷"/>
                  <a:ea typeface="华文行楷"/>
                </a:rPr>
                <a:t>审视战争  呼唤和平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宋体"/>
                </a:rPr>
                <a:t>主        办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</a:rPr>
                <a:t>    真水无香学习社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宋体"/>
                </a:rPr>
                <a:t>主        编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</a:rPr>
                <a:t>    往事随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宋体"/>
                </a:rPr>
                <a:t>编        辑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</a:rPr>
                <a:t>    和平使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宋体"/>
                </a:rPr>
                <a:t>制        作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</a:rPr>
                <a:t>    和平使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宋体"/>
                </a:rPr>
                <a:t>美        编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</a:rPr>
                <a:t>    白    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宋体"/>
                </a:rPr>
                <a:t>国内统一刊号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</a:rPr>
                <a:t>    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</a:rPr>
                <a:t>CN 11-4868/T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宋体"/>
                </a:rPr>
                <a:t>国际标准刊号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</a:rPr>
                <a:t>    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</a:rPr>
                <a:t>ISSN 1009-65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宋体"/>
                </a:rPr>
                <a:t>出 版  日 期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</a:rPr>
                <a:t>    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</a:rPr>
                <a:t>2003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</a:rPr>
                <a:t>年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</a:rPr>
                <a:t>3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</a:rPr>
                <a:t>月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</a:rPr>
                <a:t>10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</a:rPr>
                <a:t>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宋体"/>
                </a:rPr>
                <a:t>版   面   数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</a:rPr>
                <a:t>    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</a:rPr>
                <a:t>15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</a:rPr>
                <a:t>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宋体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05120" y="1905120"/>
              <a:ext cx="5562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28800" y="3733920"/>
              <a:ext cx="56386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28800" y="4648320"/>
              <a:ext cx="56386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362320" y="597384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谢谢您对本刊的关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8001000" y="6172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回目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81080" y="-6094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为在战争中死去的人们致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936480"/>
            <a:chOff x="0" y="0"/>
            <a:chExt cx="9144000" cy="6936480"/>
          </a:xfrm>
        </p:grpSpPr>
        <p:sp>
          <p:nvSpPr>
            <p:cNvPr id="46" name=""/>
            <p:cNvSpPr/>
            <p:nvPr/>
          </p:nvSpPr>
          <p:spPr>
            <a:xfrm>
              <a:off x="0" y="1371600"/>
              <a:ext cx="1828800" cy="548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47920" y="0"/>
              <a:ext cx="7696080" cy="1371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2057400" y="228600"/>
              <a:ext cx="64771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黑体"/>
                </a:rPr>
                <a:t>审视战争 呼唤和平</a:t>
              </a:r>
              <a:endParaRPr b="1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8600" y="1219320"/>
              <a:ext cx="86868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43000" y="0"/>
              <a:ext cx="0" cy="6858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8600" y="1295280"/>
              <a:ext cx="8686800" cy="76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95280" y="0"/>
              <a:ext cx="152640" cy="6858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6208400">
              <a:off x="-1761480" y="3495240"/>
              <a:ext cx="55659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b2b2b2"/>
                  </a:solidFill>
                  <a:latin typeface="Swiss911 XCm BT"/>
                </a:rPr>
                <a:t>SHENSHIZHANZHENG  HUHUANHEPIN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943600" y="5791320"/>
            <a:ext cx="376200" cy="380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943600" y="2743200"/>
            <a:ext cx="376200" cy="380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519280" y="5791320"/>
            <a:ext cx="376200" cy="380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943600" y="1523880"/>
            <a:ext cx="376200" cy="381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2517840" y="4572000"/>
            <a:ext cx="377640" cy="382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2517840" y="1523880"/>
            <a:ext cx="377640" cy="382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517840" y="2133720"/>
            <a:ext cx="377640" cy="382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2517840" y="2743200"/>
            <a:ext cx="377640" cy="382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517840" y="3352680"/>
            <a:ext cx="377640" cy="382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2517840" y="3962520"/>
            <a:ext cx="377640" cy="382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2519280" y="5181480"/>
            <a:ext cx="376200" cy="381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5943600" y="2133720"/>
            <a:ext cx="376200" cy="380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352680" y="15238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14479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题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20574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枪声打破了宁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灾难的降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32767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世界在哭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3886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破碎的心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44956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无情无尽的仇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51055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血的代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燃烧的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战争与和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77120" y="20574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拒绝武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2666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烽烟再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5715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祈祷和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6"/>
          <a:stretch/>
        </p:blipFill>
        <p:spPr>
          <a:xfrm>
            <a:off x="4267080" y="6324480"/>
            <a:ext cx="376200" cy="381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648320" y="6248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到封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27" action="ppaction://hlinksldjump"/>
          </p:cNvPr>
          <p:cNvSpPr/>
          <p:nvPr/>
        </p:nvSpPr>
        <p:spPr>
          <a:xfrm>
            <a:off x="228600" y="7621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3333cc"/>
                </a:solidFill>
                <a:latin typeface="Times New Roman"/>
                <a:ea typeface="黑体"/>
              </a:rPr>
              <a:t>回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8"/>
          <a:stretch/>
        </p:blipFill>
        <p:spPr>
          <a:xfrm>
            <a:off x="5943600" y="3352680"/>
            <a:ext cx="376200" cy="381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9"/>
          <a:stretch/>
        </p:blipFill>
        <p:spPr>
          <a:xfrm>
            <a:off x="5943600" y="3962520"/>
            <a:ext cx="376200" cy="380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0"/>
          <a:stretch/>
        </p:blipFill>
        <p:spPr>
          <a:xfrm>
            <a:off x="5943600" y="4572000"/>
            <a:ext cx="376200" cy="380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1"/>
          <a:stretch/>
        </p:blipFill>
        <p:spPr>
          <a:xfrm>
            <a:off x="5943600" y="5181480"/>
            <a:ext cx="376200" cy="381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477120" y="3276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黎明的烟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3946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背井离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5105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文明的沦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771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永远的受害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9880" y="0"/>
            <a:ext cx="4572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1828800"/>
            <a:ext cx="39621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也许战争是世界上最壮观的游戏</a:t>
            </a: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也许英雄只能生存在铁与血之中</a:t>
            </a: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但当硝烟散尽</a:t>
            </a: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当旌旗消逝在岁月的长河</a:t>
            </a: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谁还会记起废墟下的骸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胜利确实喜人</a:t>
            </a: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但这就值得每天牺牲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300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儿童在炮火中？</a:t>
            </a: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当圣地被鲜血覆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人类也将不复存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shou%5B1%5D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4419720" cy="2990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93" name="oldphoto9-010" descr=""/>
          <p:cNvPicPr/>
          <p:nvPr/>
        </p:nvPicPr>
        <p:blipFill>
          <a:blip r:embed="rId2"/>
          <a:srcRect l="0" t="0" r="60569" b="18978"/>
          <a:stretch/>
        </p:blipFill>
        <p:spPr>
          <a:xfrm>
            <a:off x="914400" y="228600"/>
            <a:ext cx="1752480" cy="3124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809880" y="0"/>
            <a:ext cx="4343400" cy="14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隶书"/>
              </a:rPr>
              <a:t>题    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-----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写在烽烟又起的世纪之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3" action="ppaction://hlinksldjump"/>
          </p:cNvPr>
          <p:cNvSpPr/>
          <p:nvPr/>
        </p:nvSpPr>
        <p:spPr>
          <a:xfrm>
            <a:off x="5257800" y="6324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4" action="ppaction://hlinksldjump"/>
          </p:cNvPr>
          <p:cNvSpPr/>
          <p:nvPr/>
        </p:nvSpPr>
        <p:spPr>
          <a:xfrm>
            <a:off x="6934320" y="6324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回目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30481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2860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枪声打破了宁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_718106_kim_phuc300" descr=""/>
          <p:cNvPicPr/>
          <p:nvPr/>
        </p:nvPicPr>
        <p:blipFill>
          <a:blip r:embed="rId1"/>
          <a:stretch/>
        </p:blipFill>
        <p:spPr>
          <a:xfrm>
            <a:off x="152280" y="1401840"/>
            <a:ext cx="6172200" cy="3703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400800" y="28702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97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日，美军用汽油弹袭击越南一个村庄，年仅九岁的金飘可的命运被从此改写（图正中） 这张照片能告诉人们战争对儿童是多么恐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609480" y="6095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1905120" y="6095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回目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0"/>
            <a:ext cx="2819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-76320"/>
            <a:ext cx="4647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灾难的降临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1" descr=""/>
          <p:cNvPicPr/>
          <p:nvPr/>
        </p:nvPicPr>
        <p:blipFill>
          <a:blip r:embed="rId1"/>
          <a:stretch/>
        </p:blipFill>
        <p:spPr>
          <a:xfrm>
            <a:off x="2282760" y="1219320"/>
            <a:ext cx="2594160" cy="4495680"/>
          </a:xfrm>
          <a:prstGeom prst="rect">
            <a:avLst/>
          </a:prstGeom>
          <a:ln w="0">
            <a:noFill/>
          </a:ln>
        </p:spPr>
      </p:pic>
      <p:pic>
        <p:nvPicPr>
          <p:cNvPr id="108" name="youtai3" descr=""/>
          <p:cNvPicPr/>
          <p:nvPr/>
        </p:nvPicPr>
        <p:blipFill>
          <a:blip r:embed="rId2"/>
          <a:stretch/>
        </p:blipFill>
        <p:spPr>
          <a:xfrm>
            <a:off x="5546880" y="2247840"/>
            <a:ext cx="3063600" cy="4305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6320" y="1241280"/>
            <a:ext cx="213516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战争的最后几天中，在奥斯威辛集中营中的孩子们似乎看到了希望的曙光，嗅到了自由的空气。然而，他们却看不到明天——他们全部死于德军溃退前的“清理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2971800" y="640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4" action="ppaction://hlinksldjump"/>
          </p:cNvPr>
          <p:cNvSpPr/>
          <p:nvPr/>
        </p:nvSpPr>
        <p:spPr>
          <a:xfrm>
            <a:off x="7391520" y="1676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回目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0"/>
            <a:ext cx="4114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世界在哭泣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2666880"/>
            <a:ext cx="2362320" cy="2590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cry-003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16" name="cry-029" descr=""/>
          <p:cNvPicPr/>
          <p:nvPr/>
        </p:nvPicPr>
        <p:blipFill>
          <a:blip r:embed="rId2"/>
          <a:stretch/>
        </p:blipFill>
        <p:spPr>
          <a:xfrm>
            <a:off x="5257800" y="228600"/>
            <a:ext cx="2381400" cy="32004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730640" y="304920"/>
            <a:ext cx="729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在南京被日军枪杀的三岁孩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525780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遭轰炸后的南昌。大部分人家破人亡，悲痛欲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09480" y="1143000"/>
            <a:ext cx="2971800" cy="3809880"/>
            <a:chOff x="609480" y="1143000"/>
            <a:chExt cx="2971800" cy="3809880"/>
          </a:xfrm>
        </p:grpSpPr>
        <p:pic>
          <p:nvPicPr>
            <p:cNvPr id="120" name="cry-006" descr=""/>
            <p:cNvPicPr/>
            <p:nvPr/>
          </p:nvPicPr>
          <p:blipFill>
            <a:blip r:embed="rId3"/>
            <a:stretch/>
          </p:blipFill>
          <p:spPr>
            <a:xfrm>
              <a:off x="609480" y="1219320"/>
              <a:ext cx="2971800" cy="37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09480" y="1143000"/>
              <a:ext cx="2971800" cy="3809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>
            <a:hlinkClick r:id="rId4" action="ppaction://hlinksldjump"/>
          </p:cNvPr>
          <p:cNvSpPr/>
          <p:nvPr/>
        </p:nvSpPr>
        <p:spPr>
          <a:xfrm>
            <a:off x="914400" y="6324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5" action="ppaction://hlinksldjump"/>
          </p:cNvPr>
          <p:cNvSpPr/>
          <p:nvPr/>
        </p:nvSpPr>
        <p:spPr>
          <a:xfrm>
            <a:off x="2438280" y="6324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回目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905120" y="0"/>
            <a:ext cx="3276360" cy="5181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371600"/>
            <a:ext cx="9144000" cy="289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0"/>
            <a:ext cx="403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破碎的心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chechen1-002" descr=""/>
          <p:cNvPicPr/>
          <p:nvPr/>
        </p:nvPicPr>
        <p:blipFill>
          <a:blip r:embed="rId1"/>
          <a:stretch/>
        </p:blipFill>
        <p:spPr>
          <a:xfrm>
            <a:off x="6248520" y="228600"/>
            <a:ext cx="2617560" cy="4572000"/>
          </a:xfrm>
          <a:prstGeom prst="rect">
            <a:avLst/>
          </a:prstGeom>
          <a:ln w="0">
            <a:noFill/>
          </a:ln>
        </p:spPr>
      </p:pic>
      <p:pic>
        <p:nvPicPr>
          <p:cNvPr id="128" name="oldphoto2-007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3635280" cy="4419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09480" y="990720"/>
            <a:ext cx="4876920" cy="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518148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战争，到底给人类带来了什么？财富还是灾难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人们难以名状的痛苦表情不正好说明了一切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3" action="ppaction://hlinksldjump"/>
          </p:cNvPr>
          <p:cNvSpPr/>
          <p:nvPr/>
        </p:nvSpPr>
        <p:spPr>
          <a:xfrm>
            <a:off x="7620120" y="6324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回目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4" action="ppaction://hlinksldjump"/>
          </p:cNvPr>
          <p:cNvSpPr/>
          <p:nvPr/>
        </p:nvSpPr>
        <p:spPr>
          <a:xfrm>
            <a:off x="6019920" y="6324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447920"/>
            <a:ext cx="9144000" cy="3047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5880" y="76320"/>
            <a:ext cx="30481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s2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4343400" cy="3735360"/>
          </a:xfrm>
          <a:prstGeom prst="rect">
            <a:avLst/>
          </a:prstGeom>
          <a:ln w="0">
            <a:noFill/>
          </a:ln>
        </p:spPr>
      </p:pic>
      <p:pic>
        <p:nvPicPr>
          <p:cNvPr id="136" name="s" descr=""/>
          <p:cNvPicPr/>
          <p:nvPr/>
        </p:nvPicPr>
        <p:blipFill>
          <a:blip r:embed="rId2"/>
          <a:stretch/>
        </p:blipFill>
        <p:spPr>
          <a:xfrm>
            <a:off x="4800600" y="1066680"/>
            <a:ext cx="4343400" cy="3813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523880" y="0"/>
            <a:ext cx="5867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无情无尽的仇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5880" y="4876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一名士兵将一名手无寸铁的俘虏打死，而该俘虏在此前一直在乞求饶命。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15238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黑暗中的子弹射中了无辜的七岁小女孩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生命在仇恨面前是那样的脆弱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3" action="ppaction://hlinksldjump"/>
          </p:cNvPr>
          <p:cNvSpPr/>
          <p:nvPr/>
        </p:nvSpPr>
        <p:spPr>
          <a:xfrm>
            <a:off x="6324480" y="640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4" action="ppaction://hlinksldjump"/>
          </p:cNvPr>
          <p:cNvSpPr/>
          <p:nvPr/>
        </p:nvSpPr>
        <p:spPr>
          <a:xfrm>
            <a:off x="7924680" y="640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回目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429000" y="0"/>
            <a:ext cx="5715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oldphoto9-011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5562720" cy="44769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838080" y="-76320"/>
            <a:ext cx="487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zh-CN" sz="8000" spc="-1" strike="noStrike">
                <a:solidFill>
                  <a:srgbClr val="ff0000"/>
                </a:solidFill>
                <a:latin typeface="隶书"/>
                <a:ea typeface="隶书"/>
              </a:rPr>
              <a:t>血的</a:t>
            </a:r>
            <a:r>
              <a:rPr b="1" lang="zh-CN" sz="6600" spc="-1" strike="noStrike">
                <a:solidFill>
                  <a:srgbClr val="000000"/>
                </a:solidFill>
                <a:latin typeface="隶书"/>
                <a:ea typeface="隶书"/>
              </a:rPr>
              <a:t>代价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43600" y="0"/>
            <a:ext cx="29718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72200" y="1828800"/>
            <a:ext cx="27432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 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1998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年是大批的死亡降临科索沃的一年。在这年的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月，塞族警察部队于武装的阿族人爆发了大规模的冲突。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19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岁的科索沃解放军士兵阿里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派克瑞兹在一次任务中被地雷炸伤后，奄奄一息的他终于逃不过死神的招呼，死在了同胞的臂弯中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 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虽然眼睛依旧睁开，但他将永远看不见蓝天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2" action="ppaction://hlinksldjump"/>
          </p:cNvPr>
          <p:cNvSpPr/>
          <p:nvPr/>
        </p:nvSpPr>
        <p:spPr>
          <a:xfrm>
            <a:off x="6172200" y="6324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3" action="ppaction://hlinksldjump"/>
          </p:cNvPr>
          <p:cNvSpPr/>
          <p:nvPr/>
        </p:nvSpPr>
        <p:spPr>
          <a:xfrm>
            <a:off x="7696080" y="6324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回目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21:27:57Z</dcterms:created>
  <dc:creator>xn</dc:creator>
  <dc:description/>
  <dc:language>en-US</dc:language>
  <cp:lastModifiedBy>眉县小法仪中学教务处</cp:lastModifiedBy>
  <dcterms:modified xsi:type="dcterms:W3CDTF">2003-04-23T02:50:03Z</dcterms:modified>
  <cp:revision>91</cp:revision>
  <dc:subject/>
  <dc:title>PowerPoint 演示文稿</dc:title>
</cp:coreProperties>
</file>