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4.png" ContentType="image/png"/>
  <Override PartName="/ppt/media/image10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37E-5368-44B2-8FAF-0E3D1BA1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2FA-0A22-4FFC-897F-257CDF9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DFE-D708-4C25-B04A-CC4FED93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94E-A440-4A15-A392-B87DCF58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4FC-AAA1-4EC4-8238-050E63D4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A0F-B803-4B90-BEBE-3A44A1B6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88E-2781-4A7C-8CD5-E036C85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04A-C9D9-4399-A483-FD889DE3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DD2-5E1D-49A2-A40B-AFF16A55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209-CE1F-4989-9324-7E2BFCE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368-CA67-468A-902C-A9ACE33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940-210B-4D9D-BC53-5E7292B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DBF6-F781-48AE-8F4B-7AD5A7D2F9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4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2970360" cy="29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16360" y="46022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42080" y="3573360"/>
            <a:ext cx="330192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301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3132360" cy="2801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3</a:t>
            </a:r>
            <a:br>
              <a:rPr sz="6600"/>
            </a:b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Ben’s birth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58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24000" y="2276640"/>
            <a:ext cx="244152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0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wenty-eigh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of Aug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154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537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What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date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 is it?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It’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twenty-fif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f Dec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610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of Octo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ten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Sept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55640" y="3357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’s your 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birthda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birthday’s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33480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267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pres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465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birthday pres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192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1603440" cy="30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465300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72360" y="333360"/>
            <a:ext cx="3058920" cy="3059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would you like as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birthday presen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4670280"/>
            <a:ext cx="2365200" cy="2187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7280" y="1484280"/>
            <a:ext cx="398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’d like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266400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268360" y="249228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627280" y="4915080"/>
            <a:ext cx="2019240" cy="19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223040" y="3213000"/>
            <a:ext cx="19209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08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cc00"/>
                </a:solidFill>
                <a:latin typeface="Arial"/>
              </a:rPr>
              <a:t>Let’s talk</a:t>
            </a:r>
            <a:br>
              <a:rPr sz="8000"/>
            </a:b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Part 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26160" y="0"/>
            <a:ext cx="43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07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1628280"/>
            <a:ext cx="440208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calen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80160" y="1197000"/>
            <a:ext cx="2463840" cy="3313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037040"/>
            <a:ext cx="4284720" cy="282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346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you like as   …  present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d lik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33760" cy="404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995640" y="4216320"/>
            <a:ext cx="4572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1800" y="0"/>
            <a:ext cx="9505800" cy="6773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468360" y="836640"/>
            <a:ext cx="8064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Homework:</a:t>
            </a:r>
            <a:br>
              <a:rPr sz="6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Read part B after class.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2. Copy the twelve months. Three times ea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8720" y="836640"/>
            <a:ext cx="4052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Janu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5877000"/>
            <a:ext cx="11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2565360"/>
            <a:ext cx="34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Jan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5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737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Febr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45440" cy="4870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74160" y="4653000"/>
            <a:ext cx="376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Februa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6127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Cardinal          Ordi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el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ent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enty-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i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f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1010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in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Dec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345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wenty-seco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J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0:08:55Z</dcterms:created>
  <dc:creator>Micro</dc:creator>
  <dc:description/>
  <dc:language>en-US</dc:language>
  <cp:lastModifiedBy>Micro</cp:lastModifiedBy>
  <dcterms:modified xsi:type="dcterms:W3CDTF">2004-09-17T03:35:21Z</dcterms:modified>
  <cp:revision>9</cp:revision>
  <dc:subject/>
  <dc:title>Unit 3 Ben’s birthday</dc:title>
</cp:coreProperties>
</file>