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EF5-1A87-4FB4-9A0F-D545E24E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D3B-11AF-459E-A2B9-44244C7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B0A-D9CC-4CDE-9D4E-6AAF435B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225-234A-4877-ABBA-BA62238B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CE68-4769-4B6E-B53A-1B3ED6D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45E-7A0D-4617-AC76-92E079E2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729-68F2-4983-8C18-DEC9B515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FCE-99A8-4870-9093-05C9DC5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F4E-184D-45EE-8149-723E5B6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339-7CC8-487D-AFF6-C06D2627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B3A-5CAB-4B47-9179-C3E59033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880-A55A-4E58-BEA9-9D111C3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FAEA-D657-4958-A1D0-7D544D7EBA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476280"/>
            <a:ext cx="694404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Unit 5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Main task &amp; Checkout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189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</a:rPr>
              <a:t>How to describe a shopping m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052640"/>
            <a:ext cx="8893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Beginning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Bod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主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fferent shops on different fl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lothes shops,sports shops, restaurant, cinem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ich is your favourite sh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End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结尾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 do you think of the shopping 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692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Write a note about New Century Shopping 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00000" y="2708280"/>
          <a:ext cx="7439040" cy="2376360"/>
        </p:xfrm>
        <a:graphic>
          <a:graphicData uri="http://schemas.openxmlformats.org/drawingml/2006/table">
            <a:tbl>
              <a:tblPr/>
              <a:tblGrid>
                <a:gridCol w="4319640"/>
                <a:gridCol w="31194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ood lo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ifferent sho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y favourite sho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42920" y="256536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Write an article about the New Century Shopping M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741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89000"/>
            <a:ext cx="49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lay a 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uzz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042920" y="1125360"/>
            <a:ext cx="662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 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Bye bye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922560"/>
            <a:ext cx="4788000" cy="2935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3068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95640" y="333360"/>
            <a:ext cx="3743280" cy="2295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219640" y="0"/>
            <a:ext cx="3743280" cy="2295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51640" y="256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i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172360" y="6308640"/>
            <a:ext cx="971640" cy="549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Simon? What is Simon doing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8900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98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773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arr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500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r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445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33336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is it?  What do you do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7336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Nan Dajie street Shopping 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920" y="260280"/>
            <a:ext cx="287964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Free talk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0992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What’s th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ocat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of the shopping m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ow do you usually g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Are there any restaurants or cin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How many floors are there in the shopping 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Is there a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omputer games cent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684360" y="-1206360"/>
            <a:ext cx="10549080" cy="80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72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148428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)   Where is the new shopping m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)   Is it in a good lo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)   How many floors of shops are there i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)   What kinds of shops are there in the 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)   Which floor is the restaurant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s there a big cin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)   How is the computer games cen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549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Read the notes and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52360" y="-485640"/>
            <a:ext cx="9791640" cy="7343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40000" y="6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76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thes 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234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s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941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852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8642520" cy="86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angua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’s very easy to f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很容易找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’s easy (for sb.) to do sth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某人做某事很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’s easy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(get )tired when I 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回答这个问题很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’s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too man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o many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数名词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o many chidren/sheep/matches/sh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o much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可数名词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o much/juice/beef/pork/energy/salt/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be a good/fun place to do sth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做某事的好地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 is a good place _________(chat) with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确实是一个锻炼的好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t is 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184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852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nswer this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5157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602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a fun place to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6:40:38Z</dcterms:created>
  <dc:creator>微软用户</dc:creator>
  <dc:description/>
  <dc:language>en-US</dc:language>
  <cp:lastModifiedBy>微软用户</cp:lastModifiedBy>
  <dcterms:modified xsi:type="dcterms:W3CDTF">2008-11-24T00:48:48Z</dcterms:modified>
  <cp:revision>7</cp:revision>
  <dc:subject/>
  <dc:title>幻灯片 1</dc:title>
</cp:coreProperties>
</file>