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5B6-B6E5-4C46-B760-D2B58B48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BCE-B9A9-4982-975A-74CA314E6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8ED-F1A3-406A-808E-04690385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AF2-252C-40E5-A05F-56C7D75D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0E51-E672-4FBD-8598-76C22CCD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9DD3-458A-4229-BF95-B2A79589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40BD-7A99-4F94-8A58-C110C4FB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1A7A-E052-4AF1-9CDB-5985533E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63BE-C5FA-4AC2-A861-1572D162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66EE-6392-4D27-A51A-09C28295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FB81-8029-42C3-BBC1-DA8F440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132-047B-4AC6-81B9-F21F0D71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3179-AEB7-43B6-BF50-2920A12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8392-81CC-4340-97D5-C25F7BE2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309F-1364-4B93-845A-99F6023D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74AA-551A-4AA4-8759-0F0EA8B3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44F1-4EE3-4DB5-B9AF-7A70F8CF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DE9-5B62-4794-B426-CDF343BC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6D9-963E-4DBB-A068-DAB258A6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A62-A59D-4D27-B6C0-F9093E73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AA3-86C1-4DA2-83F9-1A4CAC14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42A-C99E-432A-A7D8-58C1B4F2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E5C-C5DA-4044-AC34-C903E7C2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72A-FEF9-4CD4-97BD-A43C10B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0FEB-4DBF-4A89-BC5D-B2364D642C8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C336-5203-40B8-966C-256331735895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723888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cc66"/>
                </a:solidFill>
                <a:latin typeface="Times New Roman"/>
                <a:ea typeface="隶书"/>
              </a:rPr>
              <a:t>开启化学之门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57200"/>
            <a:ext cx="9144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  <a:ea typeface="黑体"/>
              </a:rPr>
              <a:t>研究的问题：</a:t>
            </a:r>
            <a:r>
              <a:rPr b="1" lang="zh-CN" sz="4400" spc="-1" strike="noStrike">
                <a:solidFill>
                  <a:srgbClr val="ffffcc"/>
                </a:solidFill>
                <a:latin typeface="Times New Roman"/>
              </a:rPr>
              <a:t>化学变化常伴随哪些现象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你的猜测是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实验探索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NaOH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溶液中滴加酚酞试液，再倒入多量的盐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向澄清石灰水吹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把蛋浸入白醋里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你观察到的现象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你得出的结论</a:t>
            </a:r>
            <a:r>
              <a:rPr b="1" lang="zh-CN" sz="28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990720"/>
            <a:ext cx="7315200" cy="29559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eb00b"/>
                </a:solidFill>
                <a:latin typeface="Times New Roman"/>
                <a:ea typeface="幼圆"/>
              </a:rPr>
              <a:t>交流讨论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eb00b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、化学变化常伴随的现象有哪些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eeb00b"/>
                </a:solidFill>
                <a:latin typeface="Times New Roman"/>
              </a:rPr>
              <a:t>、我认为进行科学探究的要素是</a:t>
            </a:r>
            <a:r>
              <a:rPr b="1" lang="zh-CN" sz="4400" spc="-1" strike="noStrike" u="sng">
                <a:solidFill>
                  <a:srgbClr val="eeb00b"/>
                </a:solidFill>
                <a:uFillTx/>
                <a:latin typeface="Times New Roman"/>
              </a:rPr>
              <a:t>         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Times New Roman"/>
                <a:ea typeface="方正舒体"/>
              </a:rPr>
              <a:t>怎样进行科学探究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提出问题——猜想与假设——制定计划——进行实验——收集证据——解释与结论——反思与评价——表达与交流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19320" y="685800"/>
            <a:ext cx="7238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aeaea"/>
                </a:solidFill>
                <a:latin typeface="Times New Roman"/>
              </a:rPr>
              <a:t>总结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通过今天这节课的学习，你有何收获？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609480"/>
            <a:ext cx="7696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方正舒体"/>
              </a:rPr>
              <a:t>课后实践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从日常生活中的衣、食、住、行各方面各举一例物理变化和化学变化，并从中选一例用实验手段来探究它是物理变化还是化学变化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360" y="1752480"/>
            <a:ext cx="7010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4" marL="1645920" indent="-182880">
              <a:lnSpc>
                <a:spcPct val="90000"/>
              </a:lnSpc>
              <a:spcBef>
                <a:spcPts val="2200"/>
              </a:spcBef>
              <a:buClr>
                <a:srgbClr val="eaeaea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aeaea"/>
                </a:solidFill>
                <a:latin typeface="Times New Roman"/>
              </a:rPr>
              <a:t>魔棒点灯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743200"/>
            <a:ext cx="9144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2200"/>
              </a:spcBef>
              <a:buClr>
                <a:srgbClr val="eaeaea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aeaea"/>
                </a:solidFill>
                <a:latin typeface="Times New Roman"/>
                <a:ea typeface="宋体"/>
              </a:rPr>
              <a:t>烧不坏的手绢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228600"/>
            <a:ext cx="8153280" cy="53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化学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aeaea"/>
                </a:solidFill>
                <a:latin typeface="Times New Roman"/>
                <a:ea typeface="华文彩云"/>
              </a:rPr>
              <a:t>化学研究什么？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aeaea"/>
                </a:solidFill>
                <a:latin typeface="Times New Roman"/>
                <a:ea typeface="华文彩云"/>
              </a:rPr>
              <a:t>怎样研究化学？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化学研究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</a:rPr>
              <a:t>物质的组成与结构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429000"/>
            <a:ext cx="72392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物质的变化</a:t>
            </a:r>
            <a:r>
              <a:rPr b="0" lang="zh-CN" sz="5400" spc="-1" strike="noStrike">
                <a:solidFill>
                  <a:srgbClr val="eaeaea"/>
                </a:solidFill>
                <a:latin typeface="Times New Roman"/>
              </a:rPr>
              <a:t>与性质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64771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aeaea"/>
                </a:solidFill>
                <a:latin typeface="Times New Roman"/>
              </a:rPr>
              <a:t>物质的用途与制取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Times New Roman"/>
                <a:ea typeface="方正舒体"/>
              </a:rPr>
              <a:t>照片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拉瓦锡" descr=""/>
          <p:cNvPicPr/>
          <p:nvPr/>
        </p:nvPicPr>
        <p:blipFill>
          <a:blip r:embed="rId1"/>
          <a:stretch/>
        </p:blipFill>
        <p:spPr>
          <a:xfrm>
            <a:off x="0" y="0"/>
            <a:ext cx="22924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门捷列夫" descr=""/>
          <p:cNvPicPr/>
          <p:nvPr/>
        </p:nvPicPr>
        <p:blipFill>
          <a:blip r:embed="rId2"/>
          <a:stretch/>
        </p:blipFill>
        <p:spPr>
          <a:xfrm>
            <a:off x="0" y="28195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诺贝尔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2962440" cy="3733560"/>
          </a:xfrm>
          <a:prstGeom prst="rect">
            <a:avLst/>
          </a:prstGeom>
          <a:ln w="0">
            <a:noFill/>
          </a:ln>
        </p:spPr>
      </p:pic>
      <p:pic>
        <p:nvPicPr>
          <p:cNvPr id="106" name="5jlfr" descr=""/>
          <p:cNvPicPr/>
          <p:nvPr/>
        </p:nvPicPr>
        <p:blipFill>
          <a:blip r:embed="rId4"/>
          <a:stretch/>
        </p:blipFill>
        <p:spPr>
          <a:xfrm>
            <a:off x="6553080" y="2895480"/>
            <a:ext cx="259092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72009__1101118" descr=""/>
          <p:cNvPicPr/>
          <p:nvPr/>
        </p:nvPicPr>
        <p:blipFill>
          <a:blip r:embed="rId5"/>
          <a:stretch/>
        </p:blipFill>
        <p:spPr>
          <a:xfrm>
            <a:off x="7772400" y="0"/>
            <a:ext cx="137160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japan" descr=""/>
          <p:cNvPicPr/>
          <p:nvPr/>
        </p:nvPicPr>
        <p:blipFill>
          <a:blip r:embed="rId6"/>
          <a:stretch/>
        </p:blipFill>
        <p:spPr>
          <a:xfrm>
            <a:off x="6400800" y="0"/>
            <a:ext cx="1447920" cy="2895480"/>
          </a:xfrm>
          <a:prstGeom prst="rect">
            <a:avLst/>
          </a:prstGeom>
          <a:ln w="0">
            <a:noFill/>
          </a:ln>
        </p:spPr>
      </p:pic>
      <p:pic>
        <p:nvPicPr>
          <p:cNvPr id="109" name="macdiarmid" descr=""/>
          <p:cNvPicPr/>
          <p:nvPr/>
        </p:nvPicPr>
        <p:blipFill>
          <a:blip r:embed="rId7"/>
          <a:stretch/>
        </p:blipFill>
        <p:spPr>
          <a:xfrm>
            <a:off x="4952880" y="0"/>
            <a:ext cx="1447920" cy="2895480"/>
          </a:xfrm>
          <a:prstGeom prst="rect">
            <a:avLst/>
          </a:prstGeom>
          <a:ln w="0">
            <a:noFill/>
          </a:ln>
        </p:spPr>
      </p:pic>
      <p:pic>
        <p:nvPicPr>
          <p:cNvPr id="110" name="t29" descr="t29.JPG (21217 字节)"/>
          <p:cNvPicPr/>
          <p:nvPr/>
        </p:nvPicPr>
        <p:blipFill>
          <a:blip r:embed="rId8"/>
          <a:stretch/>
        </p:blipFill>
        <p:spPr>
          <a:xfrm>
            <a:off x="2209680" y="0"/>
            <a:ext cx="27432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的问题：对蜡烛的研究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观察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取出蜡烛，观察蜡烛的状态、颜色，是用什么材料做的？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438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观察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石蜡放在酒精灯火焰上烤一会儿，有什么现象？ 离开火焰又有什么现象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733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观察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点燃石蜡，观察有什么现象？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19320" y="228600"/>
            <a:ext cx="64767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可参考以下几步进行观察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刚开始燃烧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蜡烛继续燃烧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用干燥干净的小烧杯底部压在火焰上方一瞬间后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用干而冷的小烧杯倒放在外焰上方，稍微烤一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用内壁蘸有石灰水的小烧杯靠近火焰侧面，迅速倒转，再倒入少量石灰水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、吹灭火焰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的问题：对蜡烛的研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1371600"/>
            <a:ext cx="102106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交流认识：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从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步观察所得现象？ 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石蜡熔化、气化、遇冷凝固变化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前后物质有没有改变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、石蜡燃烧有没有新物质生成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  <a:ea typeface="黑体"/>
              </a:rPr>
              <a:t>研究的问题：对蜡烛的研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应用：生活中还有哪些物理变化或化学变化？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07:04:38Z</dcterms:created>
  <dc:creator>jxy</dc:creator>
  <dc:description/>
  <dc:language>en-US</dc:language>
  <cp:lastModifiedBy>jxy</cp:lastModifiedBy>
  <dcterms:modified xsi:type="dcterms:W3CDTF">2002-08-29T23:05:59Z</dcterms:modified>
  <cp:revision>59</cp:revision>
  <dc:subject/>
  <dc:title>开启化学之门</dc:title>
</cp:coreProperties>
</file>