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E44-B324-4729-8322-1AEFFE4C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B94-7D25-42C8-98AC-6AE316D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C0D-747D-4D6D-A5A0-E2189C4D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7C1-FA5D-46B1-914B-F81E3E6A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449-7125-4B89-97CF-BDCC64B7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9D4E-D2AD-451B-A501-E7135712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37F-E0A8-4E79-BBD5-1A13867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64DA-4454-410A-A5F1-CDE1A9E8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2715-C3FA-494A-A4F5-A252BB67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197-E286-4D9B-B813-06A3157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58C6-DC23-4DC9-B46E-7FD8757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544-8829-488A-B878-03A27F4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111-A5C5-476A-8B3A-CCF68C2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56A-617E-45F2-AE94-8002A4E8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C7D-1E69-4FD0-A5B7-4DA42227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09A-28C4-4F1D-9392-575BFA95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1ED2-F561-4BD1-BB3D-0B834A0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246-69BC-43A1-84A8-249D6FF7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871-A1AD-40F6-BE8A-86DA5B8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3B6-9E5B-4F40-8294-1F57E96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151-7425-4E59-9A63-44AA076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E79-C81E-4AC1-9A19-32C86EB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9FF-0A88-4A6B-A567-02A15407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BC5-3D65-4DEC-A8C5-B7AE5C4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C0B-8932-4861-AA11-E450BA3C6D3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1BC-856F-425D-B9CE-21FE4F2A5EE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66"/>
                </a:solidFill>
                <a:latin typeface="Times New Roman"/>
                <a:ea typeface="隶书"/>
              </a:rPr>
              <a:t>开启化学之门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57200"/>
            <a:ext cx="9144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研究的问题：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化学变化常伴随哪些现象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的猜测是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实验探索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NaOH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溶液中滴加酚酞试液，再倒入多量的盐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向澄清石灰水吹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把蛋浸入白醋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观察到的现象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得出的结论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990720"/>
            <a:ext cx="7315200" cy="29559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eb00b"/>
                </a:solidFill>
                <a:latin typeface="Times New Roman"/>
                <a:ea typeface="幼圆"/>
              </a:rPr>
              <a:t>交流讨论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化学变化常伴随的现象有哪些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我认为进行科学探究的要素是</a:t>
            </a:r>
            <a:r>
              <a:rPr b="1" lang="zh-CN" sz="4400" spc="-1" strike="noStrike" u="sng">
                <a:solidFill>
                  <a:srgbClr val="eeb00b"/>
                </a:solidFill>
                <a:uFillTx/>
                <a:latin typeface="Times New Roman"/>
              </a:rPr>
              <a:t>         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方正舒体"/>
              </a:rPr>
              <a:t>怎样进行科学探究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提出问题——猜想与假设——制定计划——进行实验——收集证据——解释与结论——反思与评价——表达与交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685800"/>
            <a:ext cx="7238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总结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通过今天这节课的学习，你有何收获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60948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课后实践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日常生活中的衣、食、住、行各方面各举一例物理变化和化学变化，并从中选一例用实验手段来探究它是物理变化还是化学变化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4" marL="1645920" indent="-18288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</a:rPr>
              <a:t>魔棒点灯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43200"/>
            <a:ext cx="914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  <a:ea typeface="宋体"/>
              </a:rPr>
              <a:t>烧不坏的手绢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228600"/>
            <a:ext cx="815328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化学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化学研究什么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怎样研究化学？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化学研究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组成与结构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429000"/>
            <a:ext cx="72392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物质的变化</a:t>
            </a: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与性质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64771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用途与制取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照片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拉瓦锡" descr=""/>
          <p:cNvPicPr/>
          <p:nvPr/>
        </p:nvPicPr>
        <p:blipFill>
          <a:blip r:embed="rId1"/>
          <a:stretch/>
        </p:blipFill>
        <p:spPr>
          <a:xfrm>
            <a:off x="0" y="0"/>
            <a:ext cx="22924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门捷列夫" descr=""/>
          <p:cNvPicPr/>
          <p:nvPr/>
        </p:nvPicPr>
        <p:blipFill>
          <a:blip r:embed="rId2"/>
          <a:stretch/>
        </p:blipFill>
        <p:spPr>
          <a:xfrm>
            <a:off x="0" y="28195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诺贝尔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296244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5jlfr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72009__1101118" descr=""/>
          <p:cNvPicPr/>
          <p:nvPr/>
        </p:nvPicPr>
        <p:blipFill>
          <a:blip r:embed="rId5"/>
          <a:stretch/>
        </p:blipFill>
        <p:spPr>
          <a:xfrm>
            <a:off x="7772400" y="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japan" descr=""/>
          <p:cNvPicPr/>
          <p:nvPr/>
        </p:nvPicPr>
        <p:blipFill>
          <a:blip r:embed="rId6"/>
          <a:stretch/>
        </p:blipFill>
        <p:spPr>
          <a:xfrm>
            <a:off x="640080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macdiarmid" descr=""/>
          <p:cNvPicPr/>
          <p:nvPr/>
        </p:nvPicPr>
        <p:blipFill>
          <a:blip r:embed="rId7"/>
          <a:stretch/>
        </p:blipFill>
        <p:spPr>
          <a:xfrm>
            <a:off x="495288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t29" descr="t29.JPG (21217 字节)"/>
          <p:cNvPicPr/>
          <p:nvPr/>
        </p:nvPicPr>
        <p:blipFill>
          <a:blip r:embed="rId8"/>
          <a:stretch/>
        </p:blipFill>
        <p:spPr>
          <a:xfrm>
            <a:off x="2209680" y="0"/>
            <a:ext cx="2743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取出蜡烛，观察蜡烛的状态、颜色，是用什么材料做的？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438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石蜡放在酒精灯火焰上烤一会儿，有什么现象？ 离开火焰又有什么现象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733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点燃石蜡，观察有什么现象？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228600"/>
            <a:ext cx="64767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可参考以下几步进行观察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刚开始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蜡烛继续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燥干净的小烧杯底部压在火焰上方一瞬间后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而冷的小烧杯倒放在外焰上方，稍微烤一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内壁蘸有石灰水的小烧杯靠近火焰侧面，迅速倒转，再倒入少量石灰水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吹灭火焰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371600"/>
            <a:ext cx="102106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交流认识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步观察所得现象？ 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石蜡熔化、气化、遇冷凝固变化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前后物质有没有改变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石蜡燃烧有没有新物质生成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应用：生活中还有哪些物理变化或化学变化？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7:04:38Z</dcterms:created>
  <dc:creator>jxy</dc:creator>
  <dc:description/>
  <dc:language>en-US</dc:language>
  <cp:lastModifiedBy>jxy</cp:lastModifiedBy>
  <dcterms:modified xsi:type="dcterms:W3CDTF">2002-08-29T23:05:59Z</dcterms:modified>
  <cp:revision>59</cp:revision>
  <dc:subject/>
  <dc:title>开启化学之门</dc:title>
</cp:coreProperties>
</file>