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873-887A-4044-9274-B99A3EAC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E68-33F3-4406-B2B7-7435C7A4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1BA-3AEC-4573-9F9C-4EFE1731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87A-065C-41D2-8059-1EE84A32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AE17-6646-46EB-AD34-EAA05C5F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DB13-13C3-465C-A478-9C1DE2C3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3BB5-EE7F-4DCE-9CCC-9E80B1F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28A8-2F10-4B75-8DFD-F368CA19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D400-EEDD-4522-8DFA-A2107D8A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4DA9-B295-434B-A0B1-C30397D6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1A19-14A2-4D73-AE32-7BFAB2D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EE0-AD75-4451-B5FE-D09AC57C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97F2-E457-4935-ABD6-43AB66D2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4DA-217A-49CA-8712-4698513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5666-B936-4DC1-BEFB-40A36005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451E-9BCB-457D-A49C-D7990223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E38F-6F8B-4D76-A4D3-C77A3DDF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578-C7C2-41E7-8022-EEE74294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727-D45C-414D-836A-3C8D3AF6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9E7-33F4-4175-81CF-6F83017A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7FC-83F7-4577-820A-BFE9F372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E3D-F5A2-424A-9693-DADB7C4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918-DC87-4625-AB5B-264C478D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8C9-97AE-42B3-8F4E-6D87A973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5BF6-2ADA-428C-8C69-8AEC8832CBB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05C4-A0B3-46EC-961D-2901BAE92CC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7238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cc66"/>
                </a:solidFill>
                <a:latin typeface="Times New Roman"/>
                <a:ea typeface="隶书"/>
              </a:rPr>
              <a:t>开启化学之门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57200"/>
            <a:ext cx="9144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研究的问题：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化学变化常伴随哪些现象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你的猜测是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实验探索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NaOH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溶液中滴加酚酞试液，再倒入多量的盐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向澄清石灰水吹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把蛋浸入白醋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你观察到的现象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你得出的结论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990720"/>
            <a:ext cx="7315200" cy="29559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eb00b"/>
                </a:solidFill>
                <a:latin typeface="Times New Roman"/>
                <a:ea typeface="幼圆"/>
              </a:rPr>
              <a:t>交流讨论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、化学变化常伴随的现象有哪些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、我认为进行科学探究的要素是</a:t>
            </a:r>
            <a:r>
              <a:rPr b="1" lang="zh-CN" sz="4400" spc="-1" strike="noStrike" u="sng">
                <a:solidFill>
                  <a:srgbClr val="eeb00b"/>
                </a:solidFill>
                <a:uFillTx/>
                <a:latin typeface="Times New Roman"/>
              </a:rPr>
              <a:t>         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方正舒体"/>
              </a:rPr>
              <a:t>怎样进行科学探究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提出问题——猜想与假设——制定计划——进行实验——收集证据——解释与结论——反思与评价——表达与交流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685800"/>
            <a:ext cx="7238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</a:rPr>
              <a:t>总结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通过今天这节课的学习，你有何收获？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609480"/>
            <a:ext cx="7696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方正舒体"/>
              </a:rPr>
              <a:t>课后实践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从日常生活中的衣、食、住、行各方面各举一例物理变化和化学变化，并从中选一例用实验手段来探究它是物理变化还是化学变化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4" marL="1645920" indent="-182880">
              <a:lnSpc>
                <a:spcPct val="90000"/>
              </a:lnSpc>
              <a:spcBef>
                <a:spcPts val="2200"/>
              </a:spcBef>
              <a:buClr>
                <a:srgbClr val="eaeaea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aeaea"/>
                </a:solidFill>
                <a:latin typeface="Times New Roman"/>
              </a:rPr>
              <a:t>魔棒点灯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743200"/>
            <a:ext cx="9144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2200"/>
              </a:spcBef>
              <a:buClr>
                <a:srgbClr val="eaeaea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aeaea"/>
                </a:solidFill>
                <a:latin typeface="Times New Roman"/>
                <a:ea typeface="宋体"/>
              </a:rPr>
              <a:t>烧不坏的手绢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228600"/>
            <a:ext cx="8153280" cy="53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化学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aeaea"/>
                </a:solidFill>
                <a:latin typeface="Times New Roman"/>
                <a:ea typeface="华文彩云"/>
              </a:rPr>
              <a:t>化学研究什么？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aeaea"/>
                </a:solidFill>
                <a:latin typeface="Times New Roman"/>
                <a:ea typeface="华文彩云"/>
              </a:rPr>
              <a:t>怎样研究化学？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化学研究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</a:rPr>
              <a:t>物质的组成与结构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429000"/>
            <a:ext cx="72392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物质的变化</a:t>
            </a:r>
            <a:r>
              <a:rPr b="0" lang="zh-CN" sz="5400" spc="-1" strike="noStrike">
                <a:solidFill>
                  <a:srgbClr val="eaeaea"/>
                </a:solidFill>
                <a:latin typeface="Times New Roman"/>
              </a:rPr>
              <a:t>与性质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64771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</a:rPr>
              <a:t>物质的用途与制取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照片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拉瓦锡" descr=""/>
          <p:cNvPicPr/>
          <p:nvPr/>
        </p:nvPicPr>
        <p:blipFill>
          <a:blip r:embed="rId1"/>
          <a:stretch/>
        </p:blipFill>
        <p:spPr>
          <a:xfrm>
            <a:off x="0" y="0"/>
            <a:ext cx="22924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门捷列夫" descr=""/>
          <p:cNvPicPr/>
          <p:nvPr/>
        </p:nvPicPr>
        <p:blipFill>
          <a:blip r:embed="rId2"/>
          <a:stretch/>
        </p:blipFill>
        <p:spPr>
          <a:xfrm>
            <a:off x="0" y="28195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诺贝尔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2962440" cy="3733560"/>
          </a:xfrm>
          <a:prstGeom prst="rect">
            <a:avLst/>
          </a:prstGeom>
          <a:ln w="0">
            <a:noFill/>
          </a:ln>
        </p:spPr>
      </p:pic>
      <p:pic>
        <p:nvPicPr>
          <p:cNvPr id="106" name="5jlfr" descr=""/>
          <p:cNvPicPr/>
          <p:nvPr/>
        </p:nvPicPr>
        <p:blipFill>
          <a:blip r:embed="rId4"/>
          <a:stretch/>
        </p:blipFill>
        <p:spPr>
          <a:xfrm>
            <a:off x="6553080" y="2895480"/>
            <a:ext cx="259092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72009__1101118" descr=""/>
          <p:cNvPicPr/>
          <p:nvPr/>
        </p:nvPicPr>
        <p:blipFill>
          <a:blip r:embed="rId5"/>
          <a:stretch/>
        </p:blipFill>
        <p:spPr>
          <a:xfrm>
            <a:off x="7772400" y="0"/>
            <a:ext cx="13716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japan" descr=""/>
          <p:cNvPicPr/>
          <p:nvPr/>
        </p:nvPicPr>
        <p:blipFill>
          <a:blip r:embed="rId6"/>
          <a:stretch/>
        </p:blipFill>
        <p:spPr>
          <a:xfrm>
            <a:off x="6400800" y="0"/>
            <a:ext cx="144792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macdiarmid" descr=""/>
          <p:cNvPicPr/>
          <p:nvPr/>
        </p:nvPicPr>
        <p:blipFill>
          <a:blip r:embed="rId7"/>
          <a:stretch/>
        </p:blipFill>
        <p:spPr>
          <a:xfrm>
            <a:off x="4952880" y="0"/>
            <a:ext cx="144792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t29" descr="t29.JPG (21217 字节)"/>
          <p:cNvPicPr/>
          <p:nvPr/>
        </p:nvPicPr>
        <p:blipFill>
          <a:blip r:embed="rId8"/>
          <a:stretch/>
        </p:blipFill>
        <p:spPr>
          <a:xfrm>
            <a:off x="2209680" y="0"/>
            <a:ext cx="27432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的问题：对蜡烛的研究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观察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取出蜡烛，观察蜡烛的状态、颜色，是用什么材料做的？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438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观察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石蜡放在酒精灯火焰上烤一会儿，有什么现象？ 离开火焰又有什么现象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733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观察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点燃石蜡，观察有什么现象？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19320" y="228600"/>
            <a:ext cx="64767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可参考以下几步进行观察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刚开始燃烧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蜡烛继续燃烧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用干燥干净的小烧杯底部压在火焰上方一瞬间后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用干而冷的小烧杯倒放在外焰上方，稍微烤一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用内壁蘸有石灰水的小烧杯靠近火焰侧面，迅速倒转，再倒入少量石灰水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吹灭火焰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的问题：对蜡烛的研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1371600"/>
            <a:ext cx="102106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交流认识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从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步观察所得现象？ 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石蜡熔化、气化、遇冷凝固变化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前后物质有没有改变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石蜡燃烧有没有新物质生成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的问题：对蜡烛的研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应用：生活中还有哪些物理变化或化学变化？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7:04:38Z</dcterms:created>
  <dc:creator>jxy</dc:creator>
  <dc:description/>
  <dc:language>en-US</dc:language>
  <cp:lastModifiedBy>jxy</cp:lastModifiedBy>
  <dcterms:modified xsi:type="dcterms:W3CDTF">2002-08-29T23:05:59Z</dcterms:modified>
  <cp:revision>59</cp:revision>
  <dc:subject/>
  <dc:title>开启化学之门</dc:title>
</cp:coreProperties>
</file>