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jpeg" ContentType="image/jpeg"/>
  <Override PartName="/ppt/media/image55.jpeg" ContentType="image/jpeg"/>
  <Override PartName="/ppt/media/image43.png" ContentType="image/png"/>
  <Override PartName="/ppt/media/image57.gif" ContentType="image/gif"/>
  <Override PartName="/ppt/media/image10.jpeg" ContentType="image/jpeg"/>
  <Override PartName="/ppt/media/image27.jpeg" ContentType="image/jpeg"/>
  <Override PartName="/ppt/media/image54.jpeg" ContentType="image/jpeg"/>
  <Override PartName="/ppt/media/image53.jpeg" ContentType="image/jpeg"/>
  <Override PartName="/ppt/media/image49.png" ContentType="image/png"/>
  <Override PartName="/ppt/media/image65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jpeg" ContentType="image/jpeg"/>
  <Override PartName="/ppt/media/image44.jpeg" ContentType="image/jpeg"/>
  <Override PartName="/ppt/media/image40.png" ContentType="image/png"/>
  <Override PartName="/ppt/media/image37.jpeg" ContentType="image/jpeg"/>
  <Override PartName="/ppt/media/image20.png" ContentType="image/png"/>
  <Override PartName="/ppt/media/image34.jpeg" ContentType="image/jpeg"/>
  <Override PartName="/ppt/media/image15.jpeg" ContentType="image/jpeg"/>
  <Override PartName="/ppt/media/image16.jpeg" ContentType="image/jpeg"/>
  <Override PartName="/ppt/media/image9.gif" ContentType="image/gif"/>
  <Override PartName="/ppt/media/image69.jpeg" ContentType="image/jpeg"/>
  <Override PartName="/ppt/media/image21.jpeg" ContentType="image/jpeg"/>
  <Override PartName="/ppt/media/image24.jpeg" ContentType="image/jpeg"/>
  <Override PartName="/ppt/media/image32.png" ContentType="image/png"/>
  <Override PartName="/ppt/media/image25.jpeg" ContentType="image/jpeg"/>
  <Override PartName="/ppt/media/image42.png" ContentType="image/png"/>
  <Override PartName="/ppt/media/image26.jpeg" ContentType="image/jpeg"/>
  <Override PartName="/ppt/media/image60.jpeg" ContentType="image/jpeg"/>
  <Override PartName="/ppt/media/chimes.wav" ContentType="audio/x-wav"/>
  <Override PartName="/ppt/media/image17.jpeg" ContentType="image/jpeg"/>
  <Override PartName="/ppt/media/image61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11.png" ContentType="image/png"/>
  <Override PartName="/ppt/media/image70.jpeg" ContentType="image/jpeg"/>
  <Override PartName="/ppt/media/applause.wav" ContentType="audio/x-wav"/>
  <Override PartName="/ppt/media/image35.png" ContentType="image/png"/>
  <Override PartName="/ppt/media/image58.jpeg" ContentType="image/jpeg"/>
  <Override PartName="/ppt/media/image64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28.jpeg" ContentType="image/jpeg"/>
  <Override PartName="/ppt/media/image51.jpeg" ContentType="image/jpeg"/>
  <Override PartName="/ppt/media/image36.jpeg" ContentType="image/jpeg"/>
  <Override PartName="/ppt/media/image19.jpeg" ContentType="image/jpeg"/>
  <Override PartName="/ppt/media/image7.jpeg" ContentType="image/jpeg"/>
  <Override PartName="/ppt/media/image4.png" ContentType="image/png"/>
  <Override PartName="/ppt/media/image59.jpeg" ContentType="image/jpeg"/>
  <Override PartName="/ppt/media/image3.gif" ContentType="image/gif"/>
  <Override PartName="/ppt/media/image13.jpeg" ContentType="image/jpeg"/>
  <Override PartName="/ppt/media/image50.jpeg" ContentType="image/jpeg"/>
  <Override PartName="/ppt/media/image23.gif" ContentType="image/gif"/>
  <Override PartName="/ppt/media/image8.jpeg" ContentType="image/jpeg"/>
  <Override PartName="/ppt/media/image5.png" ContentType="image/png"/>
  <Override PartName="/ppt/media/image2.gif" ContentType="image/gif"/>
  <Override PartName="/ppt/media/image3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868-02E8-4E5D-A3E7-A5B5E7CA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D36-9E25-44B8-8E14-A2F00F93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0A4-E7A3-4F95-9B64-6EFDAA74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3BC-5797-4D0C-965A-95EA924E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58E5-0AE1-4747-BC0A-B0DCBD2D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E615-85EC-4959-BDED-C9C28C0F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75F-001D-4A8E-A996-4458011B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265-B7AD-4B47-90A3-977CD1F6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244-AB45-4BF5-A297-3483F1A3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459-78CA-42AA-9FD7-FC9A22FC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365-E5EF-4087-BF24-B1503C4B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27EF-01C3-47B9-A36F-ED4C4601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D5AB-CD07-4F6C-91CE-50EB78369C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3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x.360safe.com/index.php/597652/action_spacelist_type_bbs_view_image.html" TargetMode="External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image" Target="../media/image57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image" Target="../media/image75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892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 rot="20385000">
            <a:off x="0" y="5105160"/>
            <a:ext cx="4103640" cy="2280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724280" y="5334120"/>
            <a:ext cx="4419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Unit 2 Main Task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3573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37360" y="914400"/>
            <a:ext cx="62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es John like doing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981080"/>
            <a:ext cx="792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es he do when it is warm and sunn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3809880"/>
            <a:ext cx="7010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there much air pollution       there ?Why or Why no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720" y="1600200"/>
            <a:ext cx="627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 likes going into town on his bi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3276720"/>
            <a:ext cx="559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 sometimes goes swimming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4724280"/>
            <a:ext cx="634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,there isn’t.Because cars cannot go into the centre of the t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15228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ff"/>
                </a:solidFill>
                <a:latin typeface="Times New Roman"/>
                <a:ea typeface="_x000b__x000c_"/>
              </a:rPr>
              <a:t>Group work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93080" y="304920"/>
            <a:ext cx="24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flow 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419720" y="159984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676520" y="1600200"/>
            <a:ext cx="10666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4960" y="312408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31240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9907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John’s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homet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3623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Times New Roman"/>
                <a:ea typeface="_x000b__x000c_"/>
              </a:rPr>
              <a:t>Introduce  H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2438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Times New Roman"/>
                <a:ea typeface="_x000b__x000c_"/>
              </a:rPr>
              <a:t>Introduce T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581280"/>
            <a:ext cx="33530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_x000b__x000c_"/>
              </a:rPr>
              <a:t>A shopping ma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_x000b__x000c_"/>
              </a:rPr>
              <a:t>A youth centre 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his favourite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_x000b__x000c_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_x000b__x000c_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_x000b__x000c_"/>
              </a:rPr>
              <a:t>A cin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3733920"/>
            <a:ext cx="4572000" cy="3124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105520" y="38098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  <a:ea typeface="_x000b__x000c_"/>
              </a:rPr>
              <a:t>Near the s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743200" cy="1920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5880" y="380880"/>
            <a:ext cx="2522520" cy="1806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23880" y="236232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It tak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about 10 minute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to get 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China Dinosaur Pa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048120" y="1066680"/>
            <a:ext cx="243828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35812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1143000"/>
            <a:ext cx="2209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67240" y="3314880"/>
            <a:ext cx="2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1066680"/>
            <a:ext cx="2133720" cy="685800"/>
          </a:xfrm>
          <a:prstGeom prst="rightArrow">
            <a:avLst>
              <a:gd name="adj1" fmla="val 50000"/>
              <a:gd name="adj2" fmla="val 77782"/>
            </a:avLst>
          </a:prstGeom>
          <a:solidFill>
            <a:srgbClr val="f7f3e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5562720"/>
            <a:ext cx="5638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t takes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sb.time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o do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362320"/>
            <a:ext cx="685800" cy="1752480"/>
          </a:xfrm>
          <a:prstGeom prst="downArrow">
            <a:avLst>
              <a:gd name="adj1" fmla="val 50000"/>
              <a:gd name="adj2" fmla="val 63885"/>
            </a:avLst>
          </a:prstGeom>
          <a:solidFill>
            <a:srgbClr val="f7f3e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5029200"/>
            <a:ext cx="2209680" cy="1523880"/>
          </a:xfrm>
          <a:prstGeom prst="ellipse">
            <a:avLst/>
          </a:prstGeom>
          <a:solidFill>
            <a:srgbClr val="f7f3e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Useful 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52280" y="4572000"/>
            <a:ext cx="2667240" cy="2000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76520" y="36576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It take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me 20 minutes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to get t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Hong mei Park by b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1752480" cy="1467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095880" y="4648320"/>
            <a:ext cx="2800440" cy="190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62320" y="609480"/>
            <a:ext cx="563868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It tak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the girl </a:t>
            </a:r>
            <a:r>
              <a:rPr b="0" lang="en-US" sz="3200" spc="-1" strike="noStrike">
                <a:solidFill>
                  <a:srgbClr val="6600ff"/>
                </a:solidFill>
                <a:latin typeface="Times New Roman"/>
                <a:ea typeface="_x000b__x000c_"/>
              </a:rPr>
              <a:t>20minu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to g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to the cinema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by bicyc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4648320"/>
            <a:ext cx="3200400" cy="1295280"/>
          </a:xfrm>
          <a:custGeom>
            <a:avLst/>
            <a:gdLst>
              <a:gd name="textAreaLeft" fmla="*/ 399960 w 3200400"/>
              <a:gd name="textAreaRight" fmla="*/ 2800440 w 3200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7f3e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0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2209680"/>
            <a:ext cx="594360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How lo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does it tak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the girl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to get 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the cinem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44440" y="304920"/>
            <a:ext cx="496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3333cc"/>
                </a:solidFill>
                <a:uFillTx/>
                <a:latin typeface="Arial"/>
              </a:rPr>
              <a:t>Important  Poin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066680"/>
            <a:ext cx="792468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show you a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row vegetables and flo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t takes (sb.) (some time)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t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near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es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t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youth c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o into town 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on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one’s bicycle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(by bicycle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much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457200"/>
            <a:ext cx="533412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Wha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ould we do to make Changzhou  more and more beautifu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590920"/>
            <a:ext cx="7315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Work har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Keep it clean and ti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lant more trees and flower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otect the environ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781680" y="4379760"/>
            <a:ext cx="236232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leaf.gif (6025 bytes)"/>
          <p:cNvPicPr/>
          <p:nvPr/>
        </p:nvPicPr>
        <p:blipFill>
          <a:blip r:embed="rId1"/>
          <a:stretch/>
        </p:blipFill>
        <p:spPr>
          <a:xfrm>
            <a:off x="0" y="27000"/>
            <a:ext cx="12420720" cy="6831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8600" y="457200"/>
            <a:ext cx="8153280" cy="57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Whose hometown is better, yours and John’s? Now, please discuss about your own hometow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ints for yo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Where do you li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hat type of house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 do you live 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What interesting places are there in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What is the best thing about 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What do you usually do at the weekend in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hat else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 can you tell me about…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7467480" y="5181480"/>
            <a:ext cx="16765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362320" y="2057400"/>
            <a:ext cx="4876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My hometown :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My house :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Places of interest: 1.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.________________.3.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My favorite place: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Conclusion: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819520" y="762120"/>
            <a:ext cx="4114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A flow char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990720" y="5943600"/>
            <a:ext cx="7151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4572000" cy="2476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::点击图片在新窗口中打开::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3733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562720" cy="1616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09480" y="1447920"/>
            <a:ext cx="40388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to  my hometown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blinds dir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别墅-素材世界-分类目录-努别墅"/>
          <p:cNvPicPr/>
          <p:nvPr/>
        </p:nvPicPr>
        <p:blipFill>
          <a:blip r:embed="rId2"/>
          <a:stretch/>
        </p:blipFill>
        <p:spPr>
          <a:xfrm>
            <a:off x="0" y="0"/>
            <a:ext cx="3581280" cy="2359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20" y="3048120"/>
            <a:ext cx="2819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A vill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欧洲房子维也纳风情咖啡屋图... "/>
          <p:cNvPicPr/>
          <p:nvPr/>
        </p:nvPicPr>
        <p:blipFill>
          <a:blip r:embed="rId3"/>
          <a:stretch/>
        </p:blipFill>
        <p:spPr>
          <a:xfrm>
            <a:off x="6477120" y="4419720"/>
            <a:ext cx="2514600" cy="2200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a派公寓阳台 a派公寓"/>
          <p:cNvPicPr/>
          <p:nvPr/>
        </p:nvPicPr>
        <p:blipFill>
          <a:blip r:embed="rId4"/>
          <a:stretch/>
        </p:blipFill>
        <p:spPr>
          <a:xfrm>
            <a:off x="3581280" y="22860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267080" y="12952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A balco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228600" y="4267080"/>
            <a:ext cx="2286000" cy="22291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blinds dir="ver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2857320" cy="3989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029200" y="380880"/>
            <a:ext cx="3505320" cy="3338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324480" y="403848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9800" y="225360"/>
            <a:ext cx="8379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...n.org -&amp;quot;辛普森一家&amp;quot;的房子(..."/>
          <p:cNvPicPr/>
          <p:nvPr/>
        </p:nvPicPr>
        <p:blipFill>
          <a:blip r:embed="rId1"/>
          <a:stretch/>
        </p:blipFill>
        <p:spPr>
          <a:xfrm>
            <a:off x="3733920" y="1219320"/>
            <a:ext cx="2354040" cy="3638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85800" y="4495680"/>
            <a:ext cx="289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A hous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白领公馆-雅洲公寓 "/>
          <p:cNvPicPr/>
          <p:nvPr/>
        </p:nvPicPr>
        <p:blipFill>
          <a:blip r:embed="rId2"/>
          <a:stretch/>
        </p:blipFill>
        <p:spPr>
          <a:xfrm>
            <a:off x="6248520" y="4572000"/>
            <a:ext cx="2743200" cy="2048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73040" y="396720"/>
            <a:ext cx="8379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图文：组装房子自己搭"/>
          <p:cNvPicPr/>
          <p:nvPr/>
        </p:nvPicPr>
        <p:blipFill>
          <a:blip r:embed="rId3"/>
          <a:stretch/>
        </p:blipFill>
        <p:spPr>
          <a:xfrm>
            <a:off x="0" y="390600"/>
            <a:ext cx="3657600" cy="3011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05720" y="304920"/>
            <a:ext cx="2071440" cy="388620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96800" y="471600"/>
            <a:ext cx="8379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6800" y="471600"/>
            <a:ext cx="8379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东方公寓 "/>
          <p:cNvPicPr/>
          <p:nvPr/>
        </p:nvPicPr>
        <p:blipFill>
          <a:blip r:embed="rId2"/>
          <a:stretch/>
        </p:blipFill>
        <p:spPr>
          <a:xfrm>
            <a:off x="0" y="228600"/>
            <a:ext cx="3276720" cy="2446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92120" y="779400"/>
            <a:ext cx="8379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2120" y="396720"/>
            <a:ext cx="8379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6800" y="471600"/>
            <a:ext cx="8379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老房子新意思:书房"/>
          <p:cNvPicPr/>
          <p:nvPr/>
        </p:nvPicPr>
        <p:blipFill>
          <a:blip r:embed="rId3"/>
          <a:stretch/>
        </p:blipFill>
        <p:spPr>
          <a:xfrm>
            <a:off x="6172200" y="4495680"/>
            <a:ext cx="2971800" cy="22194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96800" y="471600"/>
            <a:ext cx="8379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...房子MY HOUSE MY GIRL!-Suns..."/>
          <p:cNvPicPr/>
          <p:nvPr/>
        </p:nvPicPr>
        <p:blipFill>
          <a:blip r:embed="rId4"/>
          <a:stretch/>
        </p:blipFill>
        <p:spPr>
          <a:xfrm>
            <a:off x="3581280" y="1905120"/>
            <a:ext cx="3353040" cy="2503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80880" y="441972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A fl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checker dir="ver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143160" y="1434960"/>
            <a:ext cx="9144000" cy="360"/>
            <a:chOff x="3143160" y="1434960"/>
            <a:chExt cx="9144000" cy="360"/>
          </a:xfrm>
        </p:grpSpPr>
        <p:sp>
          <p:nvSpPr>
            <p:cNvPr id="172" name=""/>
            <p:cNvSpPr/>
            <p:nvPr/>
          </p:nvSpPr>
          <p:spPr>
            <a:xfrm>
              <a:off x="3143160" y="143496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43160" y="143496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5241960"/>
            <a:ext cx="5562720" cy="1616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52280" y="380880"/>
            <a:ext cx="3505320" cy="4496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038480" y="533520"/>
            <a:ext cx="4038840" cy="2423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3733920" y="3581280"/>
            <a:ext cx="2209680" cy="1563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715000" y="5410080"/>
            <a:ext cx="2971800" cy="762120"/>
          </a:xfrm>
          <a:prstGeom prst="ellipse">
            <a:avLst/>
          </a:prstGeom>
          <a:solidFill>
            <a:srgbClr val="f7f3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to  Hongmei P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pull dir="r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6019920" cy="4440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086600" y="1523880"/>
            <a:ext cx="1828800" cy="1306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685800" y="457200"/>
            <a:ext cx="785016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Places of interest in Changzhou</a:t>
            </a:r>
            <a:endParaRPr b="1" lang="en-US" sz="4400" spc="1" strike="noStrike">
              <a:ln w="2556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934320" y="299088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6934320" y="4572000"/>
            <a:ext cx="2057400" cy="15541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pull dir="u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581280" y="457200"/>
            <a:ext cx="5488200" cy="6019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520" y="22860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ride bicycle 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2971800" cy="2293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720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South str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pull dir="l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763120" cy="4667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90720" y="54100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Tianmu L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487692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a good place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to visit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5000">
    <p:pull dir="d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967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46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068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967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068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2035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967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068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21016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1967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46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4068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28600" y="457200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1967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246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068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967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246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068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967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246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068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2743200" y="2209680"/>
            <a:ext cx="3048120" cy="2328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3246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068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967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246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068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6019920" y="4495680"/>
            <a:ext cx="2895480" cy="2151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429000" y="1066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ff"/>
                </a:solidFill>
                <a:latin typeface="Times New Roman"/>
                <a:ea typeface="_x000b__x000c_"/>
              </a:rPr>
              <a:t>South stre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533412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  <a:ea typeface="_x000b__x000c_"/>
              </a:rPr>
              <a:t>Laimeng Business C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Shopping m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2000">
    <p:blinds dir="vert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762120" y="5257800"/>
            <a:ext cx="739116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Thank you for joining us 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0000">
    <p:blinds dir="vert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0"/>
                            </p:stCondLst>
                            <p:childTnLst>
                              <p:par>
                                <p:cTn id="5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1" dur="202777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1699920" cy="1923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4219560"/>
            <a:ext cx="8991720" cy="2638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267080" y="0"/>
            <a:ext cx="3276720" cy="2371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[篮球]中国神话——姚明"/>
          <p:cNvPicPr/>
          <p:nvPr/>
        </p:nvPicPr>
        <p:blipFill>
          <a:blip r:embed="rId4"/>
          <a:stretch/>
        </p:blipFill>
        <p:spPr>
          <a:xfrm>
            <a:off x="7542360" y="1676520"/>
            <a:ext cx="1601640" cy="2476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249228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play ball gam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04920" y="304920"/>
            <a:ext cx="3429000" cy="1850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205000"/>
            <a:ext cx="31543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show sb.around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2320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19920" y="0"/>
            <a:ext cx="312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Verdana"/>
              </a:rPr>
              <a:t>China Dinosaur Park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3352680" cy="2492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52280" y="4888080"/>
            <a:ext cx="1474920" cy="1969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172200" y="2895480"/>
            <a:ext cx="2666880" cy="1447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1752480" y="4952880"/>
            <a:ext cx="1266840" cy="1905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657600" y="236232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Verdana"/>
              </a:rPr>
              <a:t>Hongmei P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6095880" y="4648320"/>
            <a:ext cx="2800440" cy="190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429000" y="441972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Verdana"/>
                <a:ea typeface="_x000b__x000c_"/>
              </a:rPr>
              <a:t>Asia Film &amp;TV T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32767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Verdana"/>
                <a:ea typeface="_x000b__x000c_"/>
              </a:rPr>
              <a:t>Tianning t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54864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_x000b__x000c_"/>
              </a:rPr>
              <a:t>at the week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2286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Times New Roman"/>
                <a:ea typeface="_x000b__x000c_"/>
              </a:rPr>
              <a:t>ride a bicyc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6800" y="471600"/>
            <a:ext cx="8379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r公共汽车站"/>
          <p:cNvPicPr/>
          <p:nvPr/>
        </p:nvPicPr>
        <p:blipFill>
          <a:blip r:embed="rId2"/>
          <a:stretch/>
        </p:blipFill>
        <p:spPr>
          <a:xfrm>
            <a:off x="4495680" y="228600"/>
            <a:ext cx="4343400" cy="3243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181480" y="36576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A bus sto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38080" y="1371600"/>
            <a:ext cx="2362320" cy="1976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04920" y="3809880"/>
            <a:ext cx="3429000" cy="2583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43400" y="4876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A youth cent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00400" y="0"/>
            <a:ext cx="2957400" cy="373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95480" y="4114800"/>
            <a:ext cx="3886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ot </a:t>
            </a:r>
            <a:r>
              <a:rPr b="0" lang="en-US" sz="3200" spc="-1" strike="noStrike">
                <a:solidFill>
                  <a:srgbClr val="cc00ff"/>
                </a:solidFill>
                <a:latin typeface="Times New Roman"/>
              </a:rPr>
              <a:t>much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pol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609480"/>
            <a:ext cx="2286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much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172200" y="3935520"/>
            <a:ext cx="2971800" cy="2922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477120" y="1219320"/>
            <a:ext cx="2286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_x000b__x000c_"/>
              </a:rPr>
              <a:t>grow veget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点击进入下一张图"/>
          <p:cNvPicPr/>
          <p:nvPr/>
        </p:nvPicPr>
        <p:blipFill>
          <a:blip r:embed="rId4"/>
          <a:stretch/>
        </p:blipFill>
        <p:spPr>
          <a:xfrm>
            <a:off x="0" y="2308320"/>
            <a:ext cx="285768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95280" y="1295280"/>
            <a:ext cx="6553440" cy="32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New Wor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youth centr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青少年活动中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id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bicycl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行车              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nearb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附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arou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……周围     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hometow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家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warm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温暖的                 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sunn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晴朗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76520" y="1600200"/>
            <a:ext cx="6095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Dotum"/>
              </a:rPr>
              <a:t>John is going to </a:t>
            </a:r>
            <a:r>
              <a:rPr b="0" lang="en-US" sz="4000" spc="-1" strike="noStrike">
                <a:solidFill>
                  <a:srgbClr val="cc00ff"/>
                </a:solidFill>
                <a:latin typeface="Verdana"/>
                <a:ea typeface="Dotum"/>
              </a:rPr>
              <a:t>make a video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Dotum"/>
              </a:rPr>
              <a:t> about  the hometown. He is making some notes </a:t>
            </a:r>
            <a:r>
              <a:rPr b="0" lang="en-US" sz="4000" spc="-1" strike="noStrike">
                <a:solidFill>
                  <a:srgbClr val="cc00ff"/>
                </a:solidFill>
                <a:latin typeface="Verdana"/>
                <a:ea typeface="Dotum"/>
              </a:rPr>
              <a:t>before writing the script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Dotum"/>
              </a:rPr>
              <a:t>. Read John’s script and answ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62120" y="137124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28560" indent="-628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ff"/>
                </a:solidFill>
                <a:latin typeface="Times New Roman"/>
              </a:rPr>
              <a:t>Read and 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905120"/>
            <a:ext cx="800100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John’s mother do in the gard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3505320"/>
            <a:ext cx="6019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far is it from John’s home to the nearest t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24360" y="281952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e grows flowers and vegetables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4724280"/>
            <a:ext cx="4496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 takes about twenty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3:04:18Z</dcterms:created>
  <dc:creator>番茄花园</dc:creator>
  <dc:description/>
  <dc:language>en-US</dc:language>
  <cp:lastModifiedBy>番茄花园</cp:lastModifiedBy>
  <dcterms:modified xsi:type="dcterms:W3CDTF">2008-03-16T13:04:01Z</dcterms:modified>
  <cp:revision>199</cp:revision>
  <dc:subject/>
  <dc:title>PowerPoint 演示文稿</dc:title>
</cp:coreProperties>
</file>