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4.png" ContentType="image/png"/>
  <Override PartName="/ppt/media/image10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E8C-F7F6-429D-962C-5C5F686C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EA5-1057-45D1-8E25-2CA82FE9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915-05BA-42A1-94C0-60253017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D7A-57A1-4AD3-BA24-E74CBBDE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37F-797C-470E-9633-479F3B1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6D5-95DD-4060-83FF-E1DEF7AB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4DD-CF98-42B1-88E2-1F8F2E85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965-6F24-418F-96FF-C437F9DE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9E1-B4A6-441F-BFD9-9F8DCA6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806-A5A6-463A-A1B3-CCA50D8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C82-8FC2-407C-86A6-B6212B2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86F-47E2-4271-A276-1A0E061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2F0E-82D6-4B85-B82E-6270CC197A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4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2970360" cy="292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16360" y="46022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42080" y="3573360"/>
            <a:ext cx="330192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2000" y="0"/>
            <a:ext cx="3132000" cy="301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3132360" cy="2801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6127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 3</a:t>
            </a:r>
            <a:br>
              <a:rPr sz="6600"/>
            </a:b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Ben’s birth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58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24000" y="2276640"/>
            <a:ext cx="244152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05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wenty-eigh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of Aug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154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5537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What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date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 is it?</a:t>
            </a:r>
            <a:br>
              <a:rPr sz="4800"/>
            </a:b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It’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twenty-fif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of Dece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6100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of Octo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ten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Sept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55640" y="33577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’s your 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birthda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birthday’s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33480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1267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Arial"/>
              </a:rPr>
              <a:t>pres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465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birthday pres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192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1603440" cy="302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465300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372360" y="333360"/>
            <a:ext cx="3058920" cy="3059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would you like as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birthday presen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4670280"/>
            <a:ext cx="2365200" cy="2187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87280" y="1484280"/>
            <a:ext cx="398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’d like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211640" y="2205000"/>
            <a:ext cx="266400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268360" y="249228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2627280" y="4915080"/>
            <a:ext cx="2019240" cy="19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7223040" y="3213000"/>
            <a:ext cx="19209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08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cc00"/>
                </a:solidFill>
                <a:latin typeface="Arial"/>
              </a:rPr>
              <a:t>Let’s talk</a:t>
            </a:r>
            <a:br>
              <a:rPr sz="8000"/>
            </a:b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Part 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26160" y="0"/>
            <a:ext cx="43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07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56000" y="1628280"/>
            <a:ext cx="440208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Arial"/>
              </a:rPr>
              <a:t>calen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80160" y="1197000"/>
            <a:ext cx="2463840" cy="3313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037040"/>
            <a:ext cx="4284720" cy="282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3468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you like as   …  present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’d lik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33760" cy="404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995640" y="4216320"/>
            <a:ext cx="4572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61800" y="0"/>
            <a:ext cx="9505800" cy="6773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468360" y="836640"/>
            <a:ext cx="80647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Homework:</a:t>
            </a:r>
            <a:br>
              <a:rPr sz="6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.Read part B after class.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2. Copy the twelve months. Three times ea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08720" y="836640"/>
            <a:ext cx="4052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Janu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5877000"/>
            <a:ext cx="11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2565360"/>
            <a:ext cx="34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Jan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55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37372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eco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Febru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345440" cy="4870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74160" y="4653000"/>
            <a:ext cx="376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Februa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6127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Cardinal          Ordi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ur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el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ent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enty-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hi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f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1010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in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Dec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345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wenty-seco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J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0:08:55Z</dcterms:created>
  <dc:creator>Micro</dc:creator>
  <dc:description/>
  <dc:language>en-US</dc:language>
  <cp:lastModifiedBy>Micro</cp:lastModifiedBy>
  <dcterms:modified xsi:type="dcterms:W3CDTF">2004-09-17T03:35:21Z</dcterms:modified>
  <cp:revision>9</cp:revision>
  <dc:subject/>
  <dc:title>Unit 3 Ben’s birthday</dc:title>
</cp:coreProperties>
</file>