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3CC-8518-40B2-82E6-68F98140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228-BACA-4624-AB82-4E09608E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5F6-8F85-44ED-BDD5-CAD32874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05C-6B56-477D-BDC6-B1126859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F1B-E933-40B2-A38F-E486DDC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FF7-B869-4987-878F-9FAF03E8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F33-513B-4C85-B776-47DA3D4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722-7D45-441F-B40C-3CF56B2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A89-D4FD-4512-A6BD-E69F8C26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88B-4701-49A4-B29E-F4975BC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03F-0075-4EA8-A7B7-755670E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2D7-DEC0-4F29-85F1-89F96BCE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8113-09FE-4DD5-967E-10784BB64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3500280"/>
            <a:ext cx="633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Unit 6 Reading (3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and Vocabulary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shop is now taking actions to stop these s______________ from gett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obvious that he was k_____________ with a sharp knife, but nobody saw the k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etectives all went out to search for the information about the m______________ that happened under the bri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 can often hear the bus driver remind the passengersto be careful with t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2600" y="123516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oplif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1120" y="17683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7720" y="26827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05160" y="367344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20" y="54259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i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1125360"/>
            <a:ext cx="48974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Thank you !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Good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view the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6640"/>
            <a:ext cx="9144000" cy="57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1 Why </a:t>
            </a:r>
            <a:r>
              <a:rPr b="1" lang="zh-CN" sz="4000" spc="-1" strike="noStrike" u="sng">
                <a:solidFill>
                  <a:srgbClr val="cc00cc"/>
                </a:solidFill>
                <a:uFillTx/>
                <a:latin typeface="Arial"/>
              </a:rPr>
              <a:t>______ 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you </a:t>
            </a:r>
            <a:r>
              <a:rPr b="1" lang="zh-CN" sz="4000" spc="-1" strike="noStrike" u="sng">
                <a:solidFill>
                  <a:srgbClr val="cc00cc"/>
                </a:solidFill>
                <a:uFillTx/>
                <a:latin typeface="Arial"/>
              </a:rPr>
              <a:t>__________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  (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穿衣服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) like tha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2 What’s your job? I’m a __________</a:t>
            </a:r>
            <a:r>
              <a:rPr b="1" lang="zh-CN" sz="4000" spc="-1" strike="noStrike" u="sng">
                <a:solidFill>
                  <a:srgbClr val="cc00cc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 (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侦探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3 The police are looking for the ____________ (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凶手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4 I can’t find my wallet. It has gone ____________ (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不见了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7650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084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765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r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56360" y="198900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t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860640"/>
            <a:ext cx="30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rde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68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5 We have four</a:t>
            </a:r>
            <a:r>
              <a:rPr b="1" lang="zh-CN" sz="4400" spc="-1" strike="noStrike" u="sng">
                <a:solidFill>
                  <a:srgbClr val="cc00cc"/>
                </a:solidFill>
                <a:uFillTx/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 (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嫌疑人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), but it’s hard to find out who killed the man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6 Who knows the man of __________ (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中等的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)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7 The story </a:t>
            </a:r>
            <a:r>
              <a:rPr b="1" lang="zh-CN" sz="4400" spc="-1" strike="noStrike" u="sng">
                <a:solidFill>
                  <a:srgbClr val="cc00cc"/>
                </a:solidFill>
                <a:uFillTx/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 (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发生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)on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00" y="5229360"/>
            <a:ext cx="43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winter mo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134136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0536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465300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06920" y="0"/>
            <a:ext cx="4537080" cy="394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0920" y="2584440"/>
            <a:ext cx="4244760" cy="408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9079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</a:rPr>
              <a:t>theft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41148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imes New Roman"/>
              </a:rPr>
              <a:t>thie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n. thie</a:t>
            </a:r>
            <a:r>
              <a:rPr b="1" lang="en-US" sz="4800" spc="-1" strike="noStrike">
                <a:solidFill>
                  <a:srgbClr val="99cc00"/>
                </a:solidFill>
                <a:latin typeface="Times New Roman"/>
              </a:rPr>
              <a:t>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49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817720"/>
            <a:ext cx="471492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692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imes New Roman"/>
              </a:rPr>
              <a:t>shoplift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00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al sth from a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886200"/>
            <a:ext cx="34290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Times New Roman"/>
              </a:rPr>
              <a:t>shoplift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店行窃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89440" y="203040"/>
            <a:ext cx="4786200" cy="376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476520"/>
            <a:ext cx="4789440" cy="3381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25360"/>
            <a:ext cx="5029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imes New Roman"/>
              </a:rPr>
              <a:t>murder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3434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imes New Roman"/>
              </a:rPr>
              <a:t>murdere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70280" y="0"/>
            <a:ext cx="4473720" cy="338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11253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dnap</a:t>
            </a:r>
            <a:r>
              <a:rPr b="1" lang="en-US" sz="4800" spc="-1" strike="noStrike">
                <a:solidFill>
                  <a:srgbClr val="99cc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g   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3733920"/>
            <a:ext cx="4114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dnap</a:t>
            </a:r>
            <a:r>
              <a:rPr b="1" lang="en-US" sz="4800" spc="-1" strike="noStrike">
                <a:solidFill>
                  <a:srgbClr val="99cc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r   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17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idna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person who takes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erson’s things secre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o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B. steal sb Away by forc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 to get mone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u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C. a person who takes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rom a shop secretl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D. unlawfully kill s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oplifter        E. take things or money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person or a place by for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79640" y="3212640"/>
            <a:ext cx="936720" cy="201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66680" y="549000"/>
            <a:ext cx="1776600" cy="41749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84464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549360"/>
            <a:ext cx="1511280" cy="48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429000"/>
            <a:ext cx="158292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6440" y="-11160"/>
            <a:ext cx="90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Complete the follow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43000"/>
            <a:ext cx="8931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Yesterday his wallet was s_________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was s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The rich boy was k______ on his way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chool last Friday afternoon. The k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sked his father for one million yuan to f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)I don’t know why there are more and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_____________ happening in ou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reported that the bank was r_____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ot of money during the r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46960" y="1143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2160" y="21337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dna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259092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dn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080" y="449568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dn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105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ob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2200" y="556272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obb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8-11-05T01:03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