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6CB-9025-42B8-9DBD-72874E40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12C-73BE-4310-8168-9E8FBE32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800-1600-4968-B833-D5330724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22D-5A20-4988-B9D4-A934C24A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14F4-3706-4DDE-A12E-7598B8DF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A126-52C1-4B19-BB74-5344A5D4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17E5-4D7B-4CEF-89A7-2F96D860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9121-72DA-4DB4-9E93-71579BB0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11E0-F34C-4B6C-A3FC-6C06A93F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CEAB-3E7D-4B08-9D8D-F60F735F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F7BE-ECDB-496E-B7A5-5AC3C224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6CB-592D-4376-B9D9-763DA708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96FF-6E1F-4DCE-A8E1-FD53B017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B975-1F3E-4D9F-A1E7-A08E455A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2257-5F7E-4622-855B-02D118D3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AC8E-4C0E-48FA-BBDC-9C26A24A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2060-4187-4404-A8E1-521C7B34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142-6435-4CAE-A282-B004FA4B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61C-64EF-400F-82B8-758BAE2B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E4E-7BFC-4FFC-84C8-671BA1FB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D46-1E37-472A-9630-F441D6C8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ED1-842F-4472-A8C2-5D57491F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CB3-3279-4974-92E6-47E7D290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EAE-0CCE-4602-8209-2576C1B7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83DD-9EB1-42B2-B4F2-2F6344F463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2D36-60B0-4BA5-9EFD-353B456715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116000" y="836640"/>
            <a:ext cx="54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Unit 6</a:t>
            </a:r>
            <a:endParaRPr b="1" lang="en-US" sz="4800" spc="1" strike="noStrike">
              <a:ln w="31680">
                <a:solidFill>
                  <a:srgbClr val="003366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1" lang="en-US" sz="4800" spc="1" strike="noStrike">
                <a:ln w="3168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Detective stories</a:t>
            </a:r>
            <a:endParaRPr b="1" lang="en-US" sz="4800" spc="1" strike="noStrike">
              <a:ln w="31680">
                <a:solidFill>
                  <a:srgbClr val="003366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1213920" y="3357720"/>
            <a:ext cx="533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Welcome to the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9228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missing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adj.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　“丢失的，下落不明的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76640"/>
            <a:ext cx="91440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s anything else miss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y’re looking for the missing chi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e is said to be miss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Detective’s repor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65000"/>
            <a:ext cx="9144000" cy="31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t Saturday night at 8 p.m. , a young man was murde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murder happened in Sun T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 have four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uspec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. We have made notes on all of th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4127400"/>
            <a:ext cx="47530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30243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Suspect 1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ccup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ve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ast Satur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067280" y="333360"/>
            <a:ext cx="4859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on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 working in a hospital in Sun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ll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l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d t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360" y="3789360"/>
            <a:ext cx="941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Ask and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at is the suspect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at does he d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ere does he liv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at was he doing when the crime took plac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at does he look lik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77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uspect 2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191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ccup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v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t Satur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ear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11280" y="333360"/>
            <a:ext cx="4932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mmy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pkee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n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 in New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ll, strong and 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200" y="3743280"/>
            <a:ext cx="913716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                         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Wanted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man is __________. He is a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 lives in _____________. He is _______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__.  Last Saturday , he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n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1440" y="429264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Jimmy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3640" y="4292640"/>
            <a:ext cx="246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shopkee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07480" y="4788000"/>
            <a:ext cx="21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Su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12920" y="4788000"/>
            <a:ext cx="76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0960" y="5292720"/>
            <a:ext cx="372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stro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an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8200" y="5796000"/>
            <a:ext cx="189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New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Suspect 3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4140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ccup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ve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ast Satur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24000" y="1052280"/>
            <a:ext cx="5219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il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 working at her restaurant in Sun T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, fat and 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92160" y="4529160"/>
            <a:ext cx="923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If you are the policemen , you all want to ge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the information of this suspect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i="1" lang="zh-CN" sz="3200" spc="-1" strike="noStrike">
                <a:solidFill>
                  <a:srgbClr val="cc00cc"/>
                </a:solidFill>
                <a:latin typeface="Arial"/>
              </a:rPr>
              <a:t>Please make a dialogue using the abov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i="1" lang="zh-CN" sz="3200" spc="-1" strike="noStrike">
                <a:solidFill>
                  <a:srgbClr val="cc00cc"/>
                </a:solidFill>
                <a:latin typeface="Arial"/>
              </a:rPr>
              <a:t>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Suspect 4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ccup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ve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ast Satur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067280" y="836640"/>
            <a:ext cx="5076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y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 at hom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dium he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nervous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r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040" y="4653000"/>
            <a:ext cx="7677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If the person is wanted for murder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Please draw the murder on the po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Discussion  ( part B)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person most likely to be the murder is __________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reason is ________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pictu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332000" y="1844640"/>
            <a:ext cx="61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189000"/>
            <a:ext cx="896472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suspect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n. (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There are 2 suspects in the murd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v.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怀疑，猜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①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suspect + n. / pr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If you don’t go, they’ll suspect 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9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②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suspect sb. of s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He suspected me of taking his mone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③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suspect + sb. / sth. as / to b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I suspect him to be ill / the murd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④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suspect + cl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I suspect that you have already heard abou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3928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42606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706840" cy="3789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670480" cy="3816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084720" y="2565360"/>
            <a:ext cx="2880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86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5867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92360" y="5877000"/>
            <a:ext cx="647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Sherlock Hol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26436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2133720"/>
            <a:ext cx="7993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Discussion 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 qualities should the detective ha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4810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04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isten to the tape and then answer the questions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228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184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480" y="408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0868" t="13183" r="53149" b="55453"/>
          <a:stretch/>
        </p:blipFill>
        <p:spPr>
          <a:xfrm>
            <a:off x="6300720" y="4221000"/>
            <a:ext cx="2376720" cy="216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2205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3120" y="1930320"/>
            <a:ext cx="700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Why is Eddie dressed like t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What is he looking f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43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11840" y="4010040"/>
            <a:ext cx="15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7080" y="436572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7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go missin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系表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连系动词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, 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变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处于…状态”（多指不好的变化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76640"/>
            <a:ext cx="91440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food has gone b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 can’t understand how I went wro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he went mad when she heard the new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y father’s hair is going gre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92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192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192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192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92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92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92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92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92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92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92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92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92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92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92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92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1:24:41Z</dcterms:created>
  <dc:creator>User</dc:creator>
  <dc:description/>
  <dc:language>en-US</dc:language>
  <cp:lastModifiedBy>雨林木风</cp:lastModifiedBy>
  <dcterms:modified xsi:type="dcterms:W3CDTF">2008-11-07T00:42:10Z</dcterms:modified>
  <cp:revision>54</cp:revision>
  <dc:subject/>
  <dc:title>幻灯片 1</dc:title>
</cp:coreProperties>
</file>