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image12.jpeg" ContentType="image/jpeg"/>
  <Override PartName="/ppt/media/image7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chimes.wav" ContentType="audio/x-wav"/>
  <Override PartName="/ppt/media/image9.png" ContentType="image/pn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C5CE-1A38-4074-BE31-865DEC23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1725-6344-480A-8FCD-9FDCD0B4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F50C-2338-40B7-A205-18C2DF3A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A1DC-F072-473D-ADC2-17088D24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6171-FAF4-4114-A677-310E1A10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FC02-1274-4639-8A9A-ADFC65EC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ABCF-5C26-4BD4-AE47-403060E3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15AA-C3A1-4FC8-9F98-F9CB4360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E324-F1B9-491B-8E49-B933BA3B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F8CD-AB76-4B03-A763-88D30956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9E43-E606-4C74-B415-0882F465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099-FD4A-48E7-877B-7B18F1BA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C19E-4112-4C4D-A981-1E6A85F07D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947141951&amp;tn=baiduimagedetail&amp;word=&#21676;&#36807;&#30340;&#33529;&#26524;&amp;in=7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.baidu.com/i?ct=503316480&amp;z=362006351&amp;tn=baiduimagedetail&amp;word=&#35686;&#23519;&amp;in=122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3500280"/>
            <a:ext cx="63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Unit 6 Reading (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55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aragraph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1 Who are the police asking to contact th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2 What are the police  particularly interested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06064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nyone who saw anything unusual last n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653000"/>
            <a:ext cx="88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ey’re interested in hearing from anyone who saw anything unusual near Upper Stre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125360"/>
            <a:ext cx="91440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3.What was the murdered  man attacked wi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4.There wasn’t any evidence of a struggle, was 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565360"/>
            <a:ext cx="21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 knif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72428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Yes, there w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7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aragraph 4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1 Did the man try to fight off his attacker (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2 Was there only one attac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3 What are the police doing 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84464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Yes, he di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84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No, we are not sure. Maybe there was more than one attack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4724280"/>
            <a:ext cx="88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084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ey are checking the scene for fingerprints and other clu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63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aragraph 5,6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1 What are the police also interested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2 Did the man have many frie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3 In the past , the victim was guilty of  computer crimes, r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4 What was he charged wi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70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y’re also interested in knowing if the victim had any enem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21300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Yes, he d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3700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Yes, he w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303880"/>
            <a:ext cx="9144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e was charged with breaking into several computer systems over the last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8675640" cy="63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Paragraph 7,8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1 What does the suspect look li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2 What did a witness repo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3 Did the suspect have evidence to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prove he was not guil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413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e is short and th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2852640"/>
            <a:ext cx="9072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e reported that the suspect was breathing heavily and had blood on his shirt.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566100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Yes, he d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05264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4 What have the victim’s parents offer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5.How can people contact the police if they know any inform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4210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 reward of 50,000yua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229360"/>
            <a:ext cx="856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ey can contact the police on 5550 121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T or F exerci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The victim’s body was found in Valley Town.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The victim sold computer programs.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The victim worked in New Town.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It is possible that there was more than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tacker.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The victim had lots of enemies.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The police have one suspect so far.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 The suspect is a short, fat man.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 The police have arrested the murderer.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 The victim’s parents offered a reward for information.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5280" y="981000"/>
            <a:ext cx="10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20000" y="1484280"/>
            <a:ext cx="10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43640" y="2060640"/>
            <a:ext cx="10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0920" y="3068640"/>
            <a:ext cx="10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3645000"/>
            <a:ext cx="10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59640" y="4221000"/>
            <a:ext cx="10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0360" y="4724280"/>
            <a:ext cx="10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59280" y="6278400"/>
            <a:ext cx="10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08720" y="5229360"/>
            <a:ext cx="10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Put the following events in order. Write the numbers 1-7  in the box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□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a.The victim died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□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b.The victim’s parents offered a reward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for inform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□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c.Thevictim struggled with the attacker(s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□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d.The victim left his office in New T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□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e.The police checked the scene for clu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□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f.The body was found in the doorway of a clothes sho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□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g.The victim was charged with computer cri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836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26828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5080" y="256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30686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350028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42926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Here is the detective’s report, please help him complet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A young man was m_______ in Valley Town. The body was f____in the doorway of a clothes shop. The v_______ was a computer programmer who worked in New Town. When he l___his office, he said he was going to visit his parents. The murder t______ place between 9 p.m. and 1 a.m. last night. The victim was killed w______ a knife and there was evidence of a s_______ . We are checking the scene for f_________ , which will help us find the murde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A witness saw a man running down Upper Street with b______ on his shirt. But the man said that he was not g______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04920" y="65181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24360" y="620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ur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08000" y="1052640"/>
            <a:ext cx="14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8360" y="141300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ct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184464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2200" y="255888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80920" y="299088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43480" y="33242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71840" y="3422520"/>
            <a:ext cx="14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trug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3792600"/>
            <a:ext cx="21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inger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67480" y="493560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72200" y="536724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ui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124000" y="1125360"/>
            <a:ext cx="489744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Comic Sans MS"/>
              </a:rPr>
              <a:t>Thank you !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6600" spc="-1" strike="noStrike">
                <a:solidFill>
                  <a:srgbClr val="ffcc00"/>
                </a:solidFill>
                <a:latin typeface="Comic Sans MS"/>
              </a:rPr>
              <a:t>Good by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Disc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ave you ever read detective stories or reports about crimes? What are they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o you know any famous detectives or fictional 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虚构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detectives? Who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o you want to be a detective? Why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15843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3276720"/>
            <a:ext cx="2362320" cy="2284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523880"/>
            <a:ext cx="2682720" cy="456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858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eck the a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352680"/>
            <a:ext cx="68580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962520" y="685800"/>
            <a:ext cx="1906560" cy="2057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80000" y="26370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wo bull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5445000"/>
            <a:ext cx="42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half-eaten ap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66"/>
                </a:solidFill>
                <a:uFillTx/>
                <a:latin typeface="Times New Roman"/>
              </a:rPr>
              <a:t>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9920" y="152388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403848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7010280" y="762120"/>
            <a:ext cx="1782720" cy="1981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6948360" y="3860640"/>
            <a:ext cx="1752840" cy="1828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934320" y="27432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g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58770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intfi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66"/>
                </a:solidFill>
                <a:uFillTx/>
                <a:latin typeface="Times New Roman"/>
              </a:rPr>
              <a:t>c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15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18288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trug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47242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41148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et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54100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it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54864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usp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34290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i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280" y="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ch the words on the left with the meanings on the 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57360"/>
            <a:ext cx="31320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1.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fi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2.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3.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trug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4.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guil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59280" y="1071720"/>
            <a:ext cx="608472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a.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f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b.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prove to be tr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c.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has done something wr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d.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information that may help solve a cr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56000" y="1989000"/>
            <a:ext cx="576000" cy="287640"/>
          </a:xfrm>
          <a:prstGeom prst="line">
            <a:avLst/>
          </a:prstGeom>
          <a:ln w="69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835280" y="1628640"/>
            <a:ext cx="1296720" cy="2232000"/>
          </a:xfrm>
          <a:prstGeom prst="line">
            <a:avLst/>
          </a:prstGeom>
          <a:ln w="69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124000" y="3716280"/>
            <a:ext cx="1081080" cy="1222560"/>
          </a:xfrm>
          <a:prstGeom prst="line">
            <a:avLst/>
          </a:prstGeom>
          <a:ln w="69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79640" y="3141720"/>
            <a:ext cx="1368360" cy="1871640"/>
          </a:xfrm>
          <a:prstGeom prst="line">
            <a:avLst/>
          </a:prstGeom>
          <a:ln w="69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4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Comic Sans MS"/>
              </a:rPr>
              <a:t>Skim and answer the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96360" y="5157720"/>
            <a:ext cx="1239840" cy="1505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907920"/>
            <a:ext cx="91440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.Who was murder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.How many suspects do the police have 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3.Who has offered a reward of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￥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50,000 for any inform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413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 22-year-old computer programm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378936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nly o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15636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victim’s pare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311960" y="260280"/>
            <a:ext cx="1832040" cy="2133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ad the text once again and answer some more ques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Paragraph On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1.Where did the murder hap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2.Where was the body fou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299736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 Valley Tow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724280"/>
            <a:ext cx="87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 the doorway of a clothes shop In Valley Tow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3.What could the police confi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4.What was the young man last seen doing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5.Who was he going to s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9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y confirmed the victim was a computer programm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573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e was leaving his office in New Town at about 7:p.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58972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e was going to visit his pare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12000" y="552600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7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aragraph 2: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92280"/>
            <a:ext cx="91440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When did the murder happ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etween 9 yesterday evening and 1 this morn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Are the police sure that the victim was killed  at the place where he was fou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08464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o, they aren’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1:33:33Z</dcterms:created>
  <dc:creator>微软用户</dc:creator>
  <dc:description/>
  <dc:language>en-US</dc:language>
  <cp:lastModifiedBy>雨林木风</cp:lastModifiedBy>
  <dcterms:modified xsi:type="dcterms:W3CDTF">2008-11-07T00:44:00Z</dcterms:modified>
  <cp:revision>44</cp:revision>
  <dc:subject/>
  <dc:title>幻灯片 1</dc:title>
</cp:coreProperties>
</file>