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C8F-C0E4-437D-9478-3F90276A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727-3870-4342-8828-484F38A7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133-EDCB-4936-A935-CF023921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A17-E587-4088-A8A4-E68827F7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F53E-CFD7-4B33-8026-CB60BDB5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85E1-C484-4375-8CF5-BA264600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7E87-5FA3-4A94-A70B-279855FA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804A-F3C7-4C23-A6EE-0B7E0FA5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BE64-4A93-467A-B0A9-015C5B80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1284-162A-4BC9-8D49-5539A455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C722-AFB9-479A-B828-DD390B85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AF6-91EB-4DEE-A068-B99FD7E2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2446-9F46-4019-AC19-736A59F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CAB4-5D47-489A-A7AD-F3CB6DB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5534-163D-41C6-9AB3-BAA1DC6E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489E-AB4F-4D7E-9F5F-B46D7BB5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73A3-43B5-4304-B607-95B5B01D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89D-4696-4698-B4FD-A3973603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2C9-533F-40DB-A18D-F7F2A62D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512-C0FE-484B-884C-0D6C81DF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0C6-0AB5-4B6D-8730-4CA358F8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E44-811A-477A-A117-271EBB2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7F2-39D9-4769-8B17-EB2AD60A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749-D3B7-4444-8F14-8EA5731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0084-F009-4C49-898E-B977E2C3E5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9D3C-71CF-48F7-9966-997AC9FA95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contrast="54000"/>
          </a:blip>
          <a:srcRect l="24277" t="26496" r="27169" b="4273"/>
          <a:stretch/>
        </p:blipFill>
        <p:spPr>
          <a:xfrm>
            <a:off x="6529320" y="4005360"/>
            <a:ext cx="2614680" cy="285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620640"/>
            <a:ext cx="601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Unit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r>
              <a:rPr b="1" lang="en-US" sz="8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6600"/>
            <a:ext cx="914400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. prove vt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证明，证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result proved him wr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rove onesel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证明自己的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had to finish the work to prove my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.lead to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导致，通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All roads lead to R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His carelessness led to his fail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He was last seen leaving his office in New Town at about 7 p.m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b. be s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e sb.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, find, hear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均有此用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e was found playing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ames yester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y sister is often heard si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 her ro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He said he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was going t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visit his par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去将来时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re/was going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uld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昨天当我到家的时候，妈妈正要去超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um was going to the super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en I got home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whether / if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以替换使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除了下列情况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动词不定式前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.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介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.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名词后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句中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r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don’t know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eth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t is going to rain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r n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question 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eth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o go or st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depends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eth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e’s ready or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your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cis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eth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you go or st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602136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be attacke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h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用某物攻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ack sb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h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某物攻击某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That robber is attacking Tom with a 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Tom is being attacked with a gun by tha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bleed  vi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血，出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leed bled b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old lady was knocked down by a car and bled a l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leed to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must take her to hospital right now, or she will bleed to d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9000"/>
            <a:ext cx="914400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s a resul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果，因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She missed the bus, and as a result                   she was late fo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Our team won the final as a res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s a result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因为，由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as late as a result of the s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struggl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挣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搏斗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i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努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搏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Three people were hurt in the strugg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The young man is struggling to make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ey to support his fami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truggle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truggle 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We are struggling for our better fu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The young man is brave enough t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ggle with the attack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 guilty  adj.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罪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 guilty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罪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He used to be guilty of robbe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The judge found him guilty of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rdering his w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 charge  v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控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arge sb. with sth./ doing sth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控告某人犯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an they arrested last night has been charged with murder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. so far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迄今为止，到目前为止（通常用于现在完成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We haven’t got any trouble so f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So far, he still hasn’t decided whether or not to attend the mee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reathe v.     breath 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Tom went out to breathe some fresh 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It’s good for your health to breathe deep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He often takes a deep br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8-11-05T04:39:46Z</dcterms:modified>
  <cp:revision>62</cp:revision>
  <dc:subject/>
  <dc:title>PowerPoint Presentation</dc:title>
</cp:coreProperties>
</file>