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82F-0FAB-4A63-BE3B-0125284B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405-216A-4030-A14C-9C007B9A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91A-DB63-42E8-9673-A2D8610F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29F-93EC-47FE-ADDE-D2F27DD4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CC6-4599-4F9C-8EFB-680A3BF0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072-2BB7-4E4A-9DCC-1ED7DC88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7A5-ECC5-4473-A0A6-64F96494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FC2-8F8D-4718-B5DE-D8AA59FA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B14-0039-40D9-ABE4-5FA7F303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209-AE80-4F35-8292-A65AA182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6D0-3C12-4EC7-BD00-A0187AA6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8D0-0992-4272-86AB-D1DF4CB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A9D4-A8DF-4131-881E-5516017358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35838;&#20214;/&#31532;&#20108;&#36718;&#35838;&#20214;/8A%20Unit1/unit%201/4%20grammar(1).ppt" TargetMode="External"/><Relationship Id="rId3" Type="http://schemas.openxmlformats.org/officeDocument/2006/relationships/hyperlink" Target="file:///&#35838;&#20214;/&#31532;&#20108;&#36718;&#35838;&#20214;/8A%20Unit1/unit%201/4%20grammar(1).ppt" TargetMode="External"/><Relationship Id="rId4" Type="http://schemas.openxmlformats.org/officeDocument/2006/relationships/hyperlink" Target="file:///&#35838;&#20214;/&#31532;&#20108;&#36718;&#35838;&#20214;/8A%20Unit1/unit%201/4%20grammar(1).ppt" TargetMode="External"/><Relationship Id="rId5" Type="http://schemas.openxmlformats.org/officeDocument/2006/relationships/hyperlink" Target="file:///&#35838;&#20214;/&#31532;&#20108;&#36718;&#35838;&#20214;/8A%20Unit1/unit%201/4%20grammar(1).ppt" TargetMode="External"/><Relationship Id="rId6" Type="http://schemas.openxmlformats.org/officeDocument/2006/relationships/hyperlink" Target="file:///&#35838;&#20214;/&#31532;&#20108;&#36718;&#35838;&#20214;/8A%20Unit1/unit%201/4%20grammar(1).ppt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11.xm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b3a4ec51e81fbea39db49b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434340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常州市正衡中学 周娟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1752480"/>
            <a:ext cx="6858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8A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教材分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8d7b552c8549b4cb8b1399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7621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促进学生间的交流，认识了解优秀品质，谈论制订未来计划 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Unit 1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Unit3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引导学生树立保护环境和野生动物的意识并学会自救        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Unit 4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Unit 6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u=3941535125,4212026132&amp;fm=0&amp;gp=-22" descr="">
            <a:hlinkClick r:id="rId2" action="ppaction://hlinksldjump"/>
          </p:cNvPr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8405640" y="5943600"/>
            <a:ext cx="73836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4938e3236a26a6874623e8d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2860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相互之间的英文介绍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Unit 1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Unit 2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不同国家的学生生活比较        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Unit 1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Unit 2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建议与观点的表达方式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Unit 1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Unit3 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Unit 4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意愿和打算的表达方式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Unit3 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邀请与应答的表达方式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Unit 5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谈论天气的表达方式（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Unit 6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dcb0cf205ebe137b17ec5cc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Unit1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Unit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教学难点解析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1430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语法知识教学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0574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黑体"/>
              </a:rPr>
              <a:t>、语法结构尽量用图表的形式表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黑体"/>
              </a:rPr>
              <a:t>、坚持在尽量真实的语境中呈现和练习语法项目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黑体"/>
              </a:rPr>
              <a:t>、从分步呈现、分步练习到综合运用，循序渐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黑体"/>
              </a:rPr>
              <a:t>、学生通过观察和实践自己总结语言规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8fb738292e54fdd998250a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28600"/>
            <a:ext cx="9144000" cy="62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形容词的比较级与最高级        的构成及运用教学</a:t>
            </a:r>
            <a:r>
              <a:rPr b="0" lang="zh-CN" sz="40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见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课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件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黑体"/>
                <a:hlinkClick r:id="rId5"/>
              </a:rPr>
              <a:t>Grammar1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黑体"/>
                <a:hlinkClick r:id="rId6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可数名词与不可数名词的    数的比较运用的教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反身代词的运用以及反身   代词与宾格之间的用法区别教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四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值得注意的、学   生易混淆的词汇或词组的用法教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五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词汇教学中形容词   的反义词的教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Vocabul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60252cfecd358a135d6008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三、其它教学建议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193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．适量语法知识点的适当提前渗透。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rammar 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．重视词汇教学，重视词汇的活学活用和归纳总结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．重视提高听力、说和阅读的技能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鼓励学生进行自主学习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．兼顾两头，喂饱中间，防止分化提前加剧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885926576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66680" y="609480"/>
            <a:ext cx="7315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Thank you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429000"/>
            <a:ext cx="63248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祝各位老师新学期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身体健康、工作顺利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cbe6f22ea9a3d834723e8c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3200" y="2286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承上启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8991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人与人的关系              人与环境的关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240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Unit 1                8A Unit 2~ Unit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生活学习环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5029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Unit 4~ Unit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自然环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2362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3505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2e40935b9431394d1a2d3e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09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、教材总体目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752480"/>
            <a:ext cx="73152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2" action="ppaction://hlinksldjump"/>
              </a:rPr>
              <a:t>（一）</a:t>
            </a: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3" action="ppaction://hlinksldjump"/>
              </a:rPr>
              <a:t>语言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4" action="ppaction://hlinksldjump"/>
              </a:rPr>
              <a:t>（二）</a:t>
            </a: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5" action="ppaction://hlinksldjump"/>
              </a:rPr>
              <a:t>语言技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6" action="ppaction://hlinksldjump"/>
              </a:rPr>
              <a:t>（</a:t>
            </a: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7" action="ppaction://hlinksldjump"/>
              </a:rPr>
              <a:t>三）</a:t>
            </a: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8" action="ppaction://hlinksldjump"/>
              </a:rPr>
              <a:t>学习策略</a:t>
            </a: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9" action="ppaction://hlinksldjump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10" action="ppaction://hlinksldjump"/>
              </a:rPr>
              <a:t>（</a:t>
            </a: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11" action="ppaction://hlinksldjump"/>
              </a:rPr>
              <a:t>四）</a:t>
            </a: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12" action="ppaction://hlinksldjump"/>
              </a:rPr>
              <a:t>情感态度</a:t>
            </a: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13" action="ppaction://hlinksldjump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14" action="ppaction://hlinksldjump"/>
              </a:rPr>
              <a:t>（</a:t>
            </a: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15" action="ppaction://hlinksldjump"/>
              </a:rPr>
              <a:t>五）</a:t>
            </a: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16" action="ppaction://hlinksldjump"/>
              </a:rPr>
              <a:t>文化意识</a:t>
            </a:r>
            <a:r>
              <a:rPr b="0" lang="zh-CN" sz="4800" spc="-1" strike="noStrike" u="sng">
                <a:solidFill>
                  <a:srgbClr val="660066"/>
                </a:solidFill>
                <a:uFillTx/>
                <a:latin typeface="黑体"/>
                <a:ea typeface="黑体"/>
                <a:hlinkClick r:id="rId17" action="ppaction://hlinksldjump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12be311835569dfc2ce7968" descr=""/>
          <p:cNvPicPr/>
          <p:nvPr/>
        </p:nvPicPr>
        <p:blipFill>
          <a:blip r:embed="rId1"/>
          <a:stretch/>
        </p:blipFill>
        <p:spPr>
          <a:xfrm>
            <a:off x="1066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820800"/>
            <a:ext cx="71629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660066"/>
                </a:solidFill>
                <a:latin typeface="黑体"/>
                <a:ea typeface="黑体"/>
              </a:rPr>
              <a:t>时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用一般现在时谈论将来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Unit 5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过去进行时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Unit 6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5b40518391128fb6f603a6f7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174600"/>
            <a:ext cx="8991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容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Unit 1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容词比较级和最高级的构成方式及使用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Unit 1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Unit 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连词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nd / but / or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Unit 3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动词不定式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Unit 3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反身代词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Unit 3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构词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容词转化为副词的方法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Unit 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容词转化为其反义词的方法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Unit 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词转化为形容词的方法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Unit 6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连词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when / while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Unit 6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203U31121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400" spc="-1" strike="noStrike">
                <a:solidFill>
                  <a:srgbClr val="660066"/>
                </a:solidFill>
                <a:latin typeface="黑体"/>
                <a:ea typeface="黑体"/>
              </a:rPr>
              <a:t>句型结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not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as  +  adj. +  as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Unit 1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more...than/ fewer...than/ less...than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Unit 2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the most + n./the fewest + n./ the least + n.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Unit 2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the same as/be different fro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Unit 2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含有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if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引导的条件状语从句的复合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Unit 4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含有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because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引导的原因状语从句的复合句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Unit 4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⑦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简单句的五种基本结构（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Unit 5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u=3941535125,4212026132&amp;fm=0&amp;gp=-2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5640" y="5943600"/>
            <a:ext cx="73836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009514024495177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4572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谈论和描写好朋友 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 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谈论不同国家的学校生活并描写自己理想中的学校  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 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谈论、制订旅游计划并撰写一封邀请信  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3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谈论如何保护野生生物并描写一种野生动物 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 4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谈论邀请与应答并完成一份申请函 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 5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008121502237877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04920"/>
            <a:ext cx="91440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谈论自然灾害及对人类的影响并据此写一篇文章  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 6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使用升调朗读表示惊讶、疑惑的陈述句 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 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正确的语调朗读含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if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引导的条件状语从句的复合句 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 4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使用正确的语调朗读陈述句        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nit 6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u=3941535125,4212026132&amp;fm=0&amp;gp=-2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5640" y="5943600"/>
            <a:ext cx="73836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9a838f3f31df477342acc0e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11430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寻找关键词和关键部分  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Unit 1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正确区分表达事实和表达观点的句子 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Unit3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习记笔记的方式 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Unit 5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u=3941535125,4212026132&amp;fm=0&amp;gp=-2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5640" y="5943600"/>
            <a:ext cx="73836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09-08-29T06:45:36Z</dcterms:modified>
  <cp:revision>59</cp:revision>
  <dc:subject/>
  <dc:title>PowerPoint Presentation</dc:title>
</cp:coreProperties>
</file>