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094-A4B8-4F49-B091-9C47446A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889-D55F-468C-BA7F-232937C0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1DA-40CF-450E-BAC1-7C056BE1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CA6-13B2-4BA6-9B94-93A1891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7951-19E3-4788-A002-DE80820E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368E-29CA-4FE4-B899-A33C293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80FF-E535-4319-957E-AB7C9464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6AD-610A-4A1F-955E-D2FC5A66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6455-2BE2-488E-BD9C-54F3EBA1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2AF-8E5B-449E-8FFF-7343955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5E1-0BA4-4DC1-9DD1-812016E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E89-B5F0-47D7-86E5-D201EAF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00B-8057-4597-BC4A-E58A1B5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70F1-7475-4B31-97E9-A3C233B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13E-9E36-4D33-841A-7A6AA376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3CA-7059-4DF4-AC93-8A945A66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7064-A109-4273-A1CA-B6A1295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A00-E0FC-4F7C-A64D-7A79EBF2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980-D142-49C2-8DC7-6D1C077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F6C-0D81-44F5-B7A4-77028386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EDB-9FA1-46FC-B0F2-F57B6CEF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65E-0A5E-4D06-A773-0A2C9F4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27A-B127-495F-BE37-9DAE0A1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F9F-22B7-4282-AF2D-8C3EF6E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693-D899-4C14-BA68-2F800C6FE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F782-DAF1-4720-BCC3-3064EC8EB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297960" y="692280"/>
            <a:ext cx="4848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8A Unit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Grammar (</a:t>
            </a:r>
            <a:r>
              <a:rPr b="1" i="1" lang="zh-CN" sz="5400" spc="-1" strike="noStrike">
                <a:solidFill>
                  <a:srgbClr val="cc3300"/>
                </a:solidFill>
                <a:latin typeface="Comic Sans MS"/>
              </a:rPr>
              <a:t>二</a:t>
            </a: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i="1" lang="en-US" sz="5400" spc="-1" strike="noStrike">
                <a:solidFill>
                  <a:srgbClr val="cc33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684360" y="404640"/>
            <a:ext cx="3576240" cy="764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Compet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71840" y="1340640"/>
            <a:ext cx="80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y interesting--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★★★★★, not interesting--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755640" y="2133720"/>
          <a:ext cx="7920000" cy="1888920"/>
        </p:xfrm>
        <a:graphic>
          <a:graphicData uri="http://schemas.openxmlformats.org/drawingml/2006/table">
            <a:tbl>
              <a:tblPr/>
              <a:tblGrid>
                <a:gridCol w="1082520"/>
                <a:gridCol w="1509840"/>
                <a:gridCol w="1871640"/>
                <a:gridCol w="1800360"/>
                <a:gridCol w="165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imming, ski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king, cam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★★★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★★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★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41640" y="23004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Exercis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4000" y="1484280"/>
            <a:ext cx="8820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.Millie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的英语比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Jenny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好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Comic Sans MS"/>
              </a:rPr>
              <a:t>我想潜水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是最有趣的活动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大连和三亚一样美丽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英语不如日语难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3360" y="1951200"/>
            <a:ext cx="89118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Millie’s English is better than Jenny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 think diving is the most interesting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alian is as beautiful as Sa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English is not as difficult as Japa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00"/>
                </a:solidFill>
                <a:latin typeface="Times New Roman"/>
                <a:ea typeface="黑体"/>
              </a:rPr>
              <a:t>Good,better,best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ood , better , best .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ever  let  it  rest .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Till  good  is  better .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And  better  is  best .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2320" y="30492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Rhym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239800" y="2235240"/>
            <a:ext cx="350928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Goodby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(        ) 1. My  mother is _______ in our family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A.busiest       B.the busiest       C.busier           D.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(       ) 2. This apple is _______ of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redder     B.the redest     C.the reddest     D.red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(       ) 3.Which pen is _______ , this one or tha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dear          B.dearest     C.the dearest          D. dea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(       ) 4. Kate is ______ than all the other girls. She is _______ of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taller , tallest                           B. taller , the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the tallest , tallest                 D. tallest , the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(       ) 5. _______ of the two men is my un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The older    B. Old       C. The oldest      D.  Ol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191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105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4952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2280" y="0"/>
            <a:ext cx="295272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33520" y="6858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320" y="0"/>
            <a:ext cx="9296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an is __________(smart) person I k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28800" y="914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the smar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76320" y="1905120"/>
            <a:ext cx="9220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Marvin is ______________(clever) bo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Uncle is ____________________(interesting) person in our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We have ____________(large) room in the buil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Mel is _____________(lazy) student of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1873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cl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2711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most 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4083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lar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5454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laz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0" y="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: Donald is _________(neat) S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neater th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6320" y="762120"/>
            <a:ext cx="883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Jane is _____________(tall) A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Carl is _____________(heavy) J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I am _______________(fat) Bet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The pie is ____________(good) the c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Julie is ______________(thin) Joh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Her parents aren’t___________(rich) 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My home isn’t ______________(far) 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730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all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15368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heavi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23749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fa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3200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7400" y="4006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inn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86200" y="4844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rich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7592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farth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53352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格林先生是这四个人当中最高最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Green is ______________ and 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408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小香蕉往往比大香蕉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mall bananas are often _______________________.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我的铅笔比你的短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y pencil is 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在中国，哪一条河流最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ich river is __________________ in Ch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他的观点比我的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is idea is 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1066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attest of the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7600" y="2209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tter than big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uch shorter than y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23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0512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newer than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solidFill>
            <a:srgbClr val="ffee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Tran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4500720" cy="6264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-51120" y="83664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Impact"/>
              </a:rPr>
              <a:t>L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91640" y="33336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Impact"/>
              </a:rPr>
              <a:t>Judy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84480" y="62064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Impact"/>
              </a:rPr>
              <a:t>Mic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67320" y="2491200"/>
            <a:ext cx="478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Lily is 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not as tall as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Mic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Judy  is 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not so tall as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 L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Mickey is taller than L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Judy is shorter than Mick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119700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Impact"/>
              </a:rPr>
              <a:t>Look at these girls, who is the talles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70040" y="4581360"/>
            <a:ext cx="477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ot as…as = not so…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如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较级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5095800" cy="6021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321080" y="1052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ani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80800" y="404640"/>
            <a:ext cx="18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m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2040" y="98100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ason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22800" y="1865880"/>
            <a:ext cx="40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What about Danie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Arial"/>
              </a:rPr>
              <a:t>Is he t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48360" y="3141720"/>
            <a:ext cx="39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Impact"/>
              </a:rPr>
              <a:t>Daniel is as tall as Tom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Impact"/>
              </a:rPr>
              <a:t>Tommy is as tall as J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56320" y="4292280"/>
            <a:ext cx="231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s…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27640" y="517032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…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-137880" y="189000"/>
            <a:ext cx="92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2da2"/>
                </a:solidFill>
                <a:latin typeface="方正舒体"/>
                <a:ea typeface="方正舒体"/>
              </a:rPr>
              <a:t>Do you know these activiti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25440" y="357336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36360" y="270828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1280" y="29242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77440" y="35733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43280" y="1484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21952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877080" y="459108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1778040" cy="1439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0" y="430200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419640" y="4437000"/>
            <a:ext cx="2592360" cy="2421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 flipV="1">
            <a:off x="2484360" y="4005000"/>
            <a:ext cx="3311640" cy="115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419640" y="2205000"/>
            <a:ext cx="40320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716360" y="3933720"/>
            <a:ext cx="2735280" cy="1440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3708360" y="1916280"/>
            <a:ext cx="287280" cy="252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908000" y="1773360"/>
            <a:ext cx="3311640" cy="107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656720" y="18900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Monotype Corsiva"/>
                <a:ea typeface="华文彩云"/>
              </a:rPr>
              <a:t>Amy thinks…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57360" y="3063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79280" y="1916280"/>
            <a:ext cx="7345080" cy="98280"/>
            <a:chOff x="179280" y="1916280"/>
            <a:chExt cx="7345080" cy="98280"/>
          </a:xfrm>
        </p:grpSpPr>
        <p:sp>
          <p:nvSpPr>
            <p:cNvPr id="576" name=""/>
            <p:cNvSpPr/>
            <p:nvPr/>
          </p:nvSpPr>
          <p:spPr>
            <a:xfrm>
              <a:off x="349920" y="1916280"/>
              <a:ext cx="7174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79280" y="1916280"/>
              <a:ext cx="17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0920" y="191628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29120" y="191628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07960" y="191628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87520" y="1916280"/>
              <a:ext cx="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50560" y="3789000"/>
            <a:ext cx="7272360" cy="0"/>
            <a:chOff x="250560" y="3789000"/>
            <a:chExt cx="7272360" cy="0"/>
          </a:xfrm>
        </p:grpSpPr>
        <p:sp>
          <p:nvSpPr>
            <p:cNvPr id="583" name=""/>
            <p:cNvSpPr/>
            <p:nvPr/>
          </p:nvSpPr>
          <p:spPr>
            <a:xfrm>
              <a:off x="419760" y="3789000"/>
              <a:ext cx="71031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50560" y="3789000"/>
              <a:ext cx="1688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-2160" y="1340280"/>
            <a:ext cx="75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interesting                                            not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1200" y="198792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ng        swimming         hiking            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4800" y="2253600"/>
            <a:ext cx="74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ing             camping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dangerous                                            not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0840" y="3140640"/>
            <a:ext cx="6485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king         skiing            cycling           sw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ng                               ca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0920" y="45727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da2"/>
                </a:solidFill>
                <a:latin typeface="Arial"/>
              </a:rPr>
              <a:t>Amy think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32da2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iving is the most interesting outdoo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t’s more interesting than swimming and hi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iking is as interesting as camping. But they are not as interesting as skiing and swimming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3:16:54Z</dcterms:created>
  <dc:creator>wanwen</dc:creator>
  <dc:description/>
  <dc:language>en-US</dc:language>
  <cp:lastModifiedBy>lenovo</cp:lastModifiedBy>
  <dcterms:modified xsi:type="dcterms:W3CDTF">2008-09-09T10:16:3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