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ED7-11A8-4644-BB58-3A419EC5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80A-EAF5-4951-9D40-3447C55C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19E-C4B1-4B3E-95E8-012123DC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6E6-132C-431D-B3A3-EDE49F5F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230E-4F27-48FE-AF42-78CD8736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D2D5-3795-47C2-AF33-B4AB856C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B497-1733-481D-8948-8311BBAC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A911-EF2D-45D7-A8E2-B35B22B3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43FF-F8D1-4A05-9E42-023FF8D7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82FF-B89F-4269-AA56-BC80BDE9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1BA1-5DEA-4F4E-9274-BA65DC01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F1A-BC4E-42D5-A201-CE8AB83F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1151-5267-414A-88A7-147F2ED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6E66-DBE6-4431-908A-CC59B01E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7CFE-6065-4BD8-9AC9-9812332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E8B8-4455-4516-85A0-FCF477A0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0325-7EA0-4B93-8425-68AE471B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35E-1148-4B26-97A9-3BE731A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6B6-587F-4D02-A3AE-D8B04F23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A42-7E3B-4ADD-A77E-3470C4D0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AA1-D71F-4E48-8C0D-06D9D983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38F-4B2B-4F7C-A9C5-36AE4C8F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560-8618-4D6E-9B48-ACA2C391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368-1A26-432D-B436-86AE575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1FE3-E621-454B-884E-9748A9631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5915-8746-4757-BCCF-82971643DC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45540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Monotype Corsiva"/>
              </a:rPr>
              <a:t>               </a:t>
            </a:r>
            <a:r>
              <a:rPr b="1" lang="en-US" sz="6000" spc="-1" strike="noStrike">
                <a:solidFill>
                  <a:srgbClr val="0066ff"/>
                </a:solidFill>
                <a:latin typeface="Monotype Corsiva"/>
              </a:rPr>
              <a:t>Grammar B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Monotype Corsiva"/>
              </a:rPr>
              <a:t>Using verbs + ‘to’ - infinitiv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414000"/>
            <a:ext cx="639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动词不定式作宾语补足语</a:t>
            </a:r>
            <a:r>
              <a:rPr b="0" lang="zh-CN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41408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面能接不定式作宾语补足语的动词有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, order, teach, tell, want, wish,  hel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。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w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oth of you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o g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要你们俩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help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er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(to) repair her b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帮助她修理自行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990720"/>
            <a:ext cx="853452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d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宾语补足语的动词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teach,   wish,   want,   invite,   help,   tell,   ask,   order,       would like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+ sb. to do s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役动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, have, mak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感官动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, watch, notice, hear, fee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用不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不定式作宾补。如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Let’s hav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t.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休息一会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saw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m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come 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看见他进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22860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let,   have,   make,   see,   hear,   watch,   feel,   notic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+ sb. do s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819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感官动词后既可跟不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不定式作宾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可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-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宾补，前者表示动作的全部过程已结束；后者表示动作正在进行。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286000"/>
            <a:ext cx="7632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a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im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ownstairs.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看见他下了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明他下楼了这件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a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im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ownstairs.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看见他在下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明他下楼时的情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8288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see,   hear,   feel,   watc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+ sb. doing s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8120" y="340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动词不定式的否定形式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词不定式的否定式是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不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不定式则在动词前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hang Ming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k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ot to stay at home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ay.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张明要我不要整天呆在家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 mothe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ot d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t by my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妈妈让我不要独自做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447920"/>
            <a:ext cx="838188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动词不定式作主语的用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t takes sb. some time to do s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t’s + adj. + for/ of sb. to do s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定式作宾语时，如带有宾语补足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要把不定式放到后面，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形式宾语，构成“主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it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宾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、名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定式”结构。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found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very difficult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o get to slee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发现入睡很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8077320" y="5486400"/>
            <a:ext cx="433440" cy="53352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33520"/>
              <a:gd name="textAreaBottom" fmla="*/ 505440 h 533520"/>
            </a:gdLst>
            <a:ahLst/>
            <a:rect l="textAreaLeft" t="textAreaTop" r="textAreaRight" b="textAreaBottom"/>
            <a:pathLst>
              <a:path w="21600" h="26583">
                <a:moveTo>
                  <a:pt x="0" y="0"/>
                </a:moveTo>
                <a:lnTo>
                  <a:pt x="21600" y="0"/>
                </a:lnTo>
                <a:lnTo>
                  <a:pt x="21600" y="26583"/>
                </a:lnTo>
                <a:lnTo>
                  <a:pt x="0" y="26583"/>
                </a:lnTo>
                <a:close/>
              </a:path>
              <a:path fill="lightenLess" w="21600" h="26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83">
                <a:moveTo>
                  <a:pt x="21600" y="0"/>
                </a:moveTo>
                <a:lnTo>
                  <a:pt x="21600" y="26583"/>
                </a:lnTo>
                <a:lnTo>
                  <a:pt x="20200" y="25183"/>
                </a:lnTo>
                <a:lnTo>
                  <a:pt x="20200" y="1400"/>
                </a:lnTo>
                <a:close/>
              </a:path>
              <a:path fill="darkenLess" w="21600" h="26583">
                <a:moveTo>
                  <a:pt x="21600" y="26583"/>
                </a:moveTo>
                <a:lnTo>
                  <a:pt x="0" y="26583"/>
                </a:lnTo>
                <a:lnTo>
                  <a:pt x="1400" y="25183"/>
                </a:lnTo>
                <a:lnTo>
                  <a:pt x="20200" y="25183"/>
                </a:lnTo>
                <a:close/>
              </a:path>
              <a:path fill="lighten" w="21600" h="26583">
                <a:moveTo>
                  <a:pt x="0" y="26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83"/>
                </a:lnTo>
                <a:close/>
              </a:path>
              <a:path fill="darken" w="21600" h="26583">
                <a:moveTo>
                  <a:pt x="3794" y="13292"/>
                </a:moveTo>
                <a:lnTo>
                  <a:pt x="17806" y="6285"/>
                </a:lnTo>
                <a:lnTo>
                  <a:pt x="17806" y="2029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20587_to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86104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身代词的构成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、二人称：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性物主代词         ＋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elf/ sel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三人称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宾格＋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lf/ sel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01240" y="804960"/>
            <a:ext cx="43340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3320" y="326880"/>
            <a:ext cx="49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Study these phra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488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124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要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望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划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意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决定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做某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备做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838080"/>
            <a:ext cx="477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want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hop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plan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agre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decid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learn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choos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prepar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常用的反身代词短语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njoy oneself,   by oneself,   for oneself,   hurt oneself,   teach oneself, dress oneself,  look after oneself,   learn … by oneself,   keep secrets to oneself,   say to oneself, make oneself at home, help oneself to…,   lose oneself in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4956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：反身代词不能作定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4100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我自己的书  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my own 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826920" y="1268280"/>
            <a:ext cx="8317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ank you for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joining us!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716360" y="5300640"/>
            <a:ext cx="505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53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 trip to South Hill  (P. 48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448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d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 for agreeing _______ me       go on the trip today, Mr. W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. Wu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re welcome, Linda.  Where will you choose ________ on the b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d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nt to sit at the front of the bus!  I hope ________ the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unse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I want _______ some photos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. Wu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’s not possible, Linda.  W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ed _________ at 3 p.m.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93840" y="685800"/>
            <a:ext cx="125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o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69520" y="2209680"/>
            <a:ext cx="12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o 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7800" y="3352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o 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335268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o 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0560" y="487692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o le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1240" y="804960"/>
            <a:ext cx="43340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动词不定式的用法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673416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不定式具有名词、形容词和副词的特征。因此在句中可以做主语、表语、宾语、宾语补足语、定语和状语，但不可以作谓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340920"/>
            <a:ext cx="43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动词不定式作宾语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0120" y="1196640"/>
            <a:ext cx="8075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面能接不定式作宾语的动词有很多，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ee, choose, decide, forget, hope, learn, want, wish, would lik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 We hop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get t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fore dark.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希望天黑以前到那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irl decid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do 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rself.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个姑娘决定自己做那件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838080"/>
            <a:ext cx="868680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d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宾语的动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短语）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gree,   learn,   choose,   plan,   fail,  decide,   prepare,   hope,   want,   wish,   like,   love,   start,   begin,   would like,   make up one’s mind,   try / do one’s best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+ to do sth.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080" y="576000"/>
            <a:ext cx="7596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动词不定式作宾语的注意事项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些动词既可跟不定式作宾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可 跟动名词作宾语，但含义不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ember to do s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住要做某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ember doing s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得曾经做过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get to do s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忘记要做某事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get doing s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忘记曾经做过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p to do  s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停下来去做某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p doing s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停止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 on to do s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继续做另一件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 on doing s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继续做原来在做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member seeing y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omewhere before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记得以前在哪儿见过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eas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member to turn of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light when you leave.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离开时请记得关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8229600" y="5867280"/>
            <a:ext cx="433440" cy="53352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33520"/>
              <a:gd name="textAreaBottom" fmla="*/ 505440 h 533520"/>
            </a:gdLst>
            <a:ahLst/>
            <a:rect l="textAreaLeft" t="textAreaTop" r="textAreaRight" b="textAreaBottom"/>
            <a:pathLst>
              <a:path w="21600" h="26583">
                <a:moveTo>
                  <a:pt x="0" y="0"/>
                </a:moveTo>
                <a:lnTo>
                  <a:pt x="21600" y="0"/>
                </a:lnTo>
                <a:lnTo>
                  <a:pt x="21600" y="26583"/>
                </a:lnTo>
                <a:lnTo>
                  <a:pt x="0" y="26583"/>
                </a:lnTo>
                <a:close/>
              </a:path>
              <a:path fill="lightenLess" w="21600" h="26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83">
                <a:moveTo>
                  <a:pt x="21600" y="0"/>
                </a:moveTo>
                <a:lnTo>
                  <a:pt x="21600" y="26583"/>
                </a:lnTo>
                <a:lnTo>
                  <a:pt x="20200" y="25183"/>
                </a:lnTo>
                <a:lnTo>
                  <a:pt x="20200" y="1400"/>
                </a:lnTo>
                <a:close/>
              </a:path>
              <a:path fill="darkenLess" w="21600" h="26583">
                <a:moveTo>
                  <a:pt x="21600" y="26583"/>
                </a:moveTo>
                <a:lnTo>
                  <a:pt x="0" y="26583"/>
                </a:lnTo>
                <a:lnTo>
                  <a:pt x="1400" y="25183"/>
                </a:lnTo>
                <a:lnTo>
                  <a:pt x="20200" y="25183"/>
                </a:lnTo>
                <a:close/>
              </a:path>
              <a:path fill="lighten" w="21600" h="26583">
                <a:moveTo>
                  <a:pt x="0" y="26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83"/>
                </a:lnTo>
                <a:close/>
              </a:path>
              <a:path fill="darken" w="21600" h="26583">
                <a:moveTo>
                  <a:pt x="3794" y="13292"/>
                </a:moveTo>
                <a:lnTo>
                  <a:pt x="17806" y="6285"/>
                </a:lnTo>
                <a:lnTo>
                  <a:pt x="17806" y="2029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914400"/>
            <a:ext cx="84582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面只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i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宾语的动词（短语）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keep,   practice,   mind,   finish,   look forward t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+ doing s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08-10-27T03:10:35Z</dcterms:modified>
  <cp:revision>132</cp:revision>
  <dc:subject/>
  <dc:title>PowerPoint 演示文稿</dc:title>
</cp:coreProperties>
</file>