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7.gif" ContentType="image/gif"/>
  <Override PartName="/ppt/media/image1.jpeg" ContentType="image/jpeg"/>
  <Override PartName="/ppt/media/image4.wmf" ContentType="image/x-wmf"/>
  <Override PartName="/ppt/media/image38.gif" ContentType="image/gif"/>
  <Override PartName="/ppt/media/image2.jpeg" ContentType="image/jpeg"/>
  <Override PartName="/ppt/media/image26.gif" ContentType="image/gif"/>
  <Override PartName="/ppt/media/image41.gif" ContentType="image/gif"/>
  <Override PartName="/ppt/media/image13.gif" ContentType="image/gif"/>
  <Override PartName="/ppt/media/image40.gif" ContentType="image/gif"/>
  <Override PartName="/ppt/media/image30.gif" ContentType="image/gif"/>
  <Override PartName="/ppt/media/image28.gif" ContentType="image/gif"/>
  <Override PartName="/ppt/media/image42.gif" ContentType="image/gif"/>
  <Override PartName="/ppt/media/image31.gif" ContentType="image/gif"/>
  <Override PartName="/ppt/media/image29.gif" ContentType="image/gif"/>
  <Override PartName="/ppt/media/image43.gif" ContentType="image/gif"/>
  <Override PartName="/ppt/media/image32.gif" ContentType="image/gif"/>
  <Override PartName="/ppt/media/image44.gif" ContentType="image/gif"/>
  <Override PartName="/ppt/media/image34.gif" ContentType="image/gif"/>
  <Override PartName="/ppt/media/image39.gif" ContentType="image/gif"/>
  <Override PartName="/ppt/media/image9.gif" ContentType="image/gif"/>
  <Override PartName="/ppt/media/image46.gif" ContentType="image/gif"/>
  <Override PartName="/ppt/media/image11.gif" ContentType="image/gif"/>
  <Override PartName="/ppt/media/image47.gif" ContentType="image/gif"/>
  <Override PartName="/ppt/media/image12.gif" ContentType="image/gif"/>
  <Override PartName="/ppt/media/image45.gif" ContentType="image/gif"/>
  <Override PartName="/ppt/media/image8.jpeg" ContentType="image/jpeg"/>
  <Override PartName="/ppt/media/image25.gif" ContentType="image/gif"/>
  <Override PartName="/ppt/media/image7.gif" ContentType="image/gif"/>
  <Override PartName="/ppt/media/image37.gif" ContentType="image/gif"/>
  <Override PartName="/ppt/media/image6.gif" ContentType="image/gif"/>
  <Override PartName="/ppt/media/image36.gif" ContentType="image/gif"/>
  <Override PartName="/ppt/media/image5.gif" ContentType="image/gif"/>
  <Override PartName="/ppt/media/image35.gif" ContentType="image/gif"/>
  <Override PartName="/ppt/media/image33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1558-6907-41C2-A0B6-D9558D31ED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Five  Rule 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1.5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: 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（示</a:t>
            </a: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PPT11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, we often use adjectives after these linking verbs. Let’s read them togeth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对了，我们经常在这些系动词后面加上形容词。让我们一起来读一读吧！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&amp;Ss: be, become, feel, get, grow, keep, look, seem, smell, sound, taste, 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195-BE6F-4CB0-B1EE-24857886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080-B4F6-441D-9B90-490DD8FE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E6C-A84F-418C-A8ED-2EF6AFF1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54B-46AE-4D9E-8D7A-CB1DD93C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4CC-E6C8-4B5E-B5B8-2F81C4F1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02C-E2FC-4F0A-B5AD-B43A57BC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B77-5834-4F49-AC3B-21B723AA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05D-A939-4C75-8CBA-C5FED23A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BDE-948C-4473-AC00-174A77F9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21B-921E-4162-81DE-CD6F0E59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DAA-A36B-40B7-9AF0-925D293C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088-D622-4F9D-8486-521DE0E6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3E0F-542B-4142-93DA-AD9FFD3C62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slide25.xml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slide" Target="slide21.xml"/><Relationship Id="rId10" Type="http://schemas.openxmlformats.org/officeDocument/2006/relationships/image" Target="../media/image16.gif"/><Relationship Id="rId11" Type="http://schemas.openxmlformats.org/officeDocument/2006/relationships/image" Target="../media/image25.gif"/><Relationship Id="rId1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" Target="slide21.xml"/><Relationship Id="rId4" Type="http://schemas.openxmlformats.org/officeDocument/2006/relationships/image" Target="../media/image16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2.gif"/><Relationship Id="rId10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" Target="slide21.xml"/><Relationship Id="rId5" Type="http://schemas.openxmlformats.org/officeDocument/2006/relationships/image" Target="../media/image16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image" Target="../media/image39.gif"/><Relationship Id="rId10" Type="http://schemas.openxmlformats.org/officeDocument/2006/relationships/image" Target="../media/image40.gif"/><Relationship Id="rId11" Type="http://schemas.openxmlformats.org/officeDocument/2006/relationships/image" Target="../media/image41.gif"/><Relationship Id="rId12" Type="http://schemas.openxmlformats.org/officeDocument/2006/relationships/image" Target="../media/image42.gif"/><Relationship Id="rId13" Type="http://schemas.openxmlformats.org/officeDocument/2006/relationships/image" Target="../media/image43.gif"/><Relationship Id="rId14" Type="http://schemas.openxmlformats.org/officeDocument/2006/relationships/image" Target="../media/image44.gif"/><Relationship Id="rId15" Type="http://schemas.openxmlformats.org/officeDocument/2006/relationships/image" Target="../media/image45.gif"/><Relationship Id="rId16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835280" y="1052640"/>
            <a:ext cx="6121440" cy="241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8A Unit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Grammar (I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352680" y="5105520"/>
            <a:ext cx="5562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black and white dog is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the happiest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of the thre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20040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yellow dog is</a:t>
            </a:r>
            <a:r>
              <a:rPr b="1" i="1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till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happier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200400" y="9907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white dog is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very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happy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1878120" cy="2190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72200" y="2438280"/>
            <a:ext cx="2362320" cy="2438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52280" y="43434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759280" y="0"/>
            <a:ext cx="3384720" cy="70344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Compare th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62080" y="26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2438280" cy="1486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8120" y="609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pig i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quit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62080" y="26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24080" y="23623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econd pig i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uc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tt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4221000"/>
            <a:ext cx="44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third pig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tte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f 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56000" y="6156360"/>
            <a:ext cx="3384720" cy="70344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Compare th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59280" y="476280"/>
            <a:ext cx="2244600" cy="58140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1413000"/>
            <a:ext cx="87138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use comparatives to compare two people or things when we see … in th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We use superlatives to compare three or more people or things when we se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362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, much, even, still, a little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f the two , Which/Who is …, A or B? 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53000"/>
            <a:ext cx="91440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e, of…, in …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ich/Who is …, A, B or C?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480" y="6172200"/>
            <a:ext cx="8509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e add ‘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’ before the superlati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28600" y="685800"/>
          <a:ext cx="8686800" cy="6200640"/>
        </p:xfrm>
        <a:graphic>
          <a:graphicData uri="http://schemas.openxmlformats.org/drawingml/2006/table">
            <a:tbl>
              <a:tblPr/>
              <a:tblGrid>
                <a:gridCol w="2895480"/>
                <a:gridCol w="1487520"/>
                <a:gridCol w="2073240"/>
                <a:gridCol w="22305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构成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较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高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w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ap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w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ap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ce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fe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e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ce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fe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e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t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t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t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happ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v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tt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happ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v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tt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happ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v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304920" y="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4479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单音节词在词尾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720" y="278136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字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尾的词，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360" y="3718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读闭音节词只有一个辅音字母时，应先双写辅音字母，再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720" y="53020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辅音字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尾的双音节词，先改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”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0"/>
            <a:ext cx="6696000" cy="58140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orm Comparatives and Superl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28600" y="380880"/>
          <a:ext cx="8686800" cy="21938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  <a:gridCol w="2438640"/>
                <a:gridCol w="266688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构成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较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高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rv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ger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ghte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erv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lear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anger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righte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st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erv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st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lear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st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anger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st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ghte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28600" y="2743200"/>
          <a:ext cx="8686800" cy="414648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  <a:gridCol w="2438640"/>
                <a:gridCol w="2666880"/>
              </a:tblGrid>
              <a:tr h="45972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规则变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/ w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 /badly/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y / 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rther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更远的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rth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rther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进一步的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rth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er / el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est / eld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152280" y="8380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分双音节词和多音节词在前面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987640" y="979560"/>
            <a:ext cx="2881440" cy="70344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3355920"/>
            <a:ext cx="741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hort adjectives are adjectives of one or two syllables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音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). Long adjectives are adjectives of three or more syllable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2276640"/>
            <a:ext cx="691344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We ad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-er / -e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to short adjec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We us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more/ mo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for long adjec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24000" y="654120"/>
          <a:ext cx="8229600" cy="6203880"/>
        </p:xfrm>
        <a:graphic>
          <a:graphicData uri="http://schemas.openxmlformats.org/drawingml/2006/table">
            <a:tbl>
              <a:tblPr/>
              <a:tblGrid>
                <a:gridCol w="2751120"/>
                <a:gridCol w="2735280"/>
                <a:gridCol w="2743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e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mpar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uperl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381600" y="10476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b1eb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6520" y="14842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nn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4880" y="144792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unni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1440" y="314172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p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73800" y="306864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ppi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34160" y="393372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ore inter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9080" y="39337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st inter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360" y="472428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60360" y="47242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ar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82160" y="54450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m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8920" y="548640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mar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2160" y="616572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i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89800" y="60930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inn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2057400"/>
            <a:ext cx="144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16720" y="2276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360" y="-22320"/>
            <a:ext cx="3888000" cy="64260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Complete the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765000"/>
            <a:ext cx="8767800" cy="62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ach member of a group should read and spell the comparative and superlative of an adjective below. The group that can do it correctly and  most quickly will be the winn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.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light       old          healthy      cheerfu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safe       thirsty      slim           b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bright     new          much        bo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sad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heavy        straight     clear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117360"/>
            <a:ext cx="3601800" cy="58140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roup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76320"/>
                <a:gridCol w="1073160"/>
                <a:gridCol w="1162080"/>
                <a:gridCol w="1112760"/>
                <a:gridCol w="1308240"/>
                <a:gridCol w="1303200"/>
                <a:gridCol w="1308240"/>
              </a:tblGrid>
              <a:tr h="1608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t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ight 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m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c/50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wing compet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0" y="404640"/>
            <a:ext cx="1763640" cy="70344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Profil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28600"/>
            <a:ext cx="91440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on is __________ (tall) Kit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ter is __________ (tall) student of the six stud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ndy is _____________ (heavy) Mill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ter is ____________ (heavy) student of the six stud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llie is __________ (slow) swimmer of the six stud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6760" y="304920"/>
            <a:ext cx="24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all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40800" y="114300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e tall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5360" y="2743200"/>
            <a:ext cx="290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eavi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40800" y="3657600"/>
            <a:ext cx="27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e heavi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5200" y="5181480"/>
            <a:ext cx="25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e slo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5877000"/>
            <a:ext cx="1800360" cy="70344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Repor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3058920" cy="3644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42920" y="3357720"/>
            <a:ext cx="12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86064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This is my favorite film star. She has long black hair and big black eyes. She also has a long face, a big mouth and white teeth. She is tall and slim. I think she is very beautifu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013360"/>
            <a:ext cx="93636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5013360"/>
            <a:ext cx="115236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013360"/>
            <a:ext cx="93672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6093000"/>
            <a:ext cx="122544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6093000"/>
            <a:ext cx="79200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67640" y="6093000"/>
            <a:ext cx="93672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6669000"/>
            <a:ext cx="208944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1268280"/>
            <a:ext cx="21002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d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形容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2697120" cy="131292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 Descrip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280" y="152280"/>
            <a:ext cx="876312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my is ___________ (fast) swimmer of the six stud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 Millie’s drawing is ___________________ (beautiful) Simon’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dy’s drawing  is ___________________ (beautiful) in the drawing compet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llie’s English is _____________ (good) Amy’s. Millie’s English is __________ (good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800" y="1523880"/>
            <a:ext cx="40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re beautiful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9400" y="2895480"/>
            <a:ext cx="37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most beautifu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7440" y="15228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fas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7120" y="426708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tter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68720" y="480060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b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48360" y="5877000"/>
            <a:ext cx="1800360" cy="70344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Repor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497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ich would you like to talk abou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35280" y="2492280"/>
            <a:ext cx="1728720" cy="58140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2556000" y="3933720"/>
            <a:ext cx="3816360" cy="58140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food and dr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2492280"/>
            <a:ext cx="1584360" cy="58140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s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501336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 maybe you would like to talk about the people in this classroom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260280"/>
            <a:ext cx="8388360" cy="106884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ake up a dialogue to compare people or thing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24720" y="6286680"/>
            <a:ext cx="571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13440" y="333360"/>
            <a:ext cx="2806560" cy="2089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7760" y="46080"/>
            <a:ext cx="3270240" cy="2446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292720" y="3718080"/>
            <a:ext cx="3656160" cy="663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508720" y="49388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3203640" y="404640"/>
            <a:ext cx="2089080" cy="1905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7596360" y="5302080"/>
            <a:ext cx="1466640" cy="1447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108000" y="4797360"/>
            <a:ext cx="2689200" cy="1820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396720" y="2852640"/>
            <a:ext cx="2881440" cy="2309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24720" y="63104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1"/>
          <a:stretch/>
        </p:blipFill>
        <p:spPr>
          <a:xfrm>
            <a:off x="3564000" y="4797360"/>
            <a:ext cx="18000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773440" y="4365720"/>
            <a:ext cx="1152360" cy="2423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5080" y="4797360"/>
            <a:ext cx="958680" cy="959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04360" y="6310440"/>
            <a:ext cx="577800" cy="577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095880" y="4430880"/>
            <a:ext cx="1860840" cy="2736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8702640" cy="2392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42840" y="46080"/>
            <a:ext cx="2586240" cy="2714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5508720" y="117360"/>
            <a:ext cx="3093840" cy="2373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36360" y="3933720"/>
            <a:ext cx="23068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788000" y="2709720"/>
            <a:ext cx="1393560" cy="1260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700360" y="4870440"/>
            <a:ext cx="917640" cy="1606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060720" y="3070080"/>
            <a:ext cx="558720" cy="1035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32720" y="6237360"/>
            <a:ext cx="577800" cy="577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661080" y="2276640"/>
            <a:ext cx="1828800" cy="2158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2484360" y="260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179280" y="620640"/>
            <a:ext cx="2211480" cy="1297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34920" y="3357720"/>
            <a:ext cx="1947960" cy="1352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539640" y="2349360"/>
            <a:ext cx="1511280" cy="82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1"/>
          <a:stretch/>
        </p:blipFill>
        <p:spPr>
          <a:xfrm>
            <a:off x="6588000" y="44280"/>
            <a:ext cx="2568600" cy="2278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2"/>
          <a:stretch/>
        </p:blipFill>
        <p:spPr>
          <a:xfrm>
            <a:off x="4788000" y="333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3"/>
          <a:stretch/>
        </p:blipFill>
        <p:spPr>
          <a:xfrm>
            <a:off x="250920" y="5013360"/>
            <a:ext cx="2160360" cy="1136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4"/>
          <a:stretch/>
        </p:blipFill>
        <p:spPr>
          <a:xfrm>
            <a:off x="4068720" y="5157720"/>
            <a:ext cx="1584360" cy="1425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5"/>
          <a:stretch/>
        </p:blipFill>
        <p:spPr>
          <a:xfrm>
            <a:off x="6516720" y="487044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52000" y="1341360"/>
            <a:ext cx="86425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lever        strong        fast           noi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citing          interesting           dange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licious         sweet           heal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lpful         smart         generous        humou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uch+~er              ~er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~est of the three/ of all/ in one'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Which/ Who is ~er, A or B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Which/ Who is the ~est, A, B or C?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333360"/>
            <a:ext cx="7417080" cy="58140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ords, phrases and sentences you may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286680"/>
            <a:ext cx="571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(        ) 1. My  mother is _______ in our family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A.busiest          B.the busiest            C.busier           D.bu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(       ) 2. This apple is _______ of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redder            B.the redest        C.the reddest     D.redd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(       ) 3.Which pen is _______ , this one or that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dear          B.dearest     C.the dearest          D. dea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(       ) 4. Kate is ______ than all the other girls. She is _______ of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taller , tallest                                     B. taller , the tal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 tallest , tallest                            D. tallest , the tal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(       ) 5. _______ of the two men is my unc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older        B. Old          C. The oldest       D.  Old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914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3505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41911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4800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4952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260280"/>
            <a:ext cx="2952720" cy="58140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533520"/>
            <a:ext cx="86104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8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格林先生是这四个人当中最高最胖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 Green is ______________ and 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2.</a:t>
            </a:r>
            <a:r>
              <a:rPr b="1" lang="en-US" sz="2400" spc="-1" strike="noStrike">
                <a:solidFill>
                  <a:srgbClr val="00408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小香蕉往往比大香蕉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 bananas are often _______________________.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我的铅笔比你的短得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pencil is 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在中国，哪一条河流最长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river is __________________ in Ch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他的观点比我的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s idea is 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1066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tal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1066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ttest of the 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2209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tter than big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3276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ch shorter than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4343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lon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5486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er than 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0"/>
            <a:ext cx="2232000" cy="58140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ans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186920" y="2852640"/>
            <a:ext cx="5761080" cy="26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Bookman Old Style"/>
                <a:ea typeface="方正舒体"/>
              </a:rPr>
              <a:t>Good, better, bes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Bookman Old Style"/>
                <a:ea typeface="方正舒体"/>
              </a:rPr>
              <a:t>Never let it res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Bookman Old Style"/>
                <a:ea typeface="方正舒体"/>
              </a:rPr>
              <a:t>Till your good is better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Bookman Old Style"/>
                <a:ea typeface="方正舒体"/>
              </a:rPr>
              <a:t>And your better is bes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1197000"/>
            <a:ext cx="1800360" cy="64260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o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227640" y="1486080"/>
            <a:ext cx="28242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440000" y="3036960"/>
            <a:ext cx="67053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Sylfaen"/>
              </a:rPr>
              <a:t>Revise the use of adjectives, comparatives and superlati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Sylfaen"/>
              </a:rPr>
              <a:t>Complete the exercises in the work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04360" y="1557360"/>
            <a:ext cx="295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244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94120" y="1413000"/>
            <a:ext cx="51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She has </a:t>
            </a:r>
            <a:r>
              <a:rPr b="1" i="1" lang="en-US" sz="3600" spc="-1" strike="noStrike">
                <a:solidFill>
                  <a:srgbClr val="ff5050"/>
                </a:solidFill>
                <a:latin typeface="Comic Sans MS"/>
              </a:rPr>
              <a:t>short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hai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20500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Her hair is </a:t>
            </a:r>
            <a:r>
              <a:rPr b="1" i="1" lang="en-US" sz="3600" spc="-1" strike="noStrike">
                <a:solidFill>
                  <a:srgbClr val="ff5050"/>
                </a:solidFill>
                <a:latin typeface="Comic Sans MS"/>
              </a:rPr>
              <a:t>short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06800" y="4705200"/>
            <a:ext cx="38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This is a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lazy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c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562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This cat is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lazy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445080" y="4221000"/>
            <a:ext cx="2544840" cy="2544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217600" cy="3024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3357720"/>
            <a:ext cx="5832360" cy="70344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Study the use of adjectiv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00360" y="1197000"/>
            <a:ext cx="2735280" cy="70344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Conclus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438280"/>
            <a:ext cx="6400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 use adjectives to describe someone or something. We can put an adjective ______ a noun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or ______ a linking verb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系动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3581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14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132000" y="907920"/>
            <a:ext cx="3132360" cy="70344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inking ver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2349360"/>
            <a:ext cx="5618160" cy="29466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e          become    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get         grow         ke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look       seem         sm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sound    taste          turn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89000"/>
            <a:ext cx="8550360" cy="58140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orm sentences and tell the use of the ad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981000"/>
            <a:ext cx="882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rt/ Millie/ hair/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ars/ Sandy/ glasses/ 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/ funny/ Amy/ and cheer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ke/ Millie/ not/ hair/ does/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is/ Sandy/ hair/ tall/ long/ and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413000"/>
            <a:ext cx="39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illie has short hai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234936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andy wears round gl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02880" y="3357720"/>
            <a:ext cx="51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my is funny and cheerfu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33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4680" y="4292640"/>
            <a:ext cx="561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illie does not like long hai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3600" y="5300640"/>
            <a:ext cx="580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andy is tall and has long hai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239760" y="2989440"/>
            <a:ext cx="913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19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girl is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eaut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952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girl is singing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eautiful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16720" y="27082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(adj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551664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(adv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260280"/>
            <a:ext cx="5113440" cy="70344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Find out the dif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724800" y="3833640"/>
            <a:ext cx="2419200" cy="302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00360" y="1197000"/>
            <a:ext cx="2232000" cy="70344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ten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2637000"/>
            <a:ext cx="57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 use an adjective with a noun or a linking verb while we use an adverb with a notional verb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意动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f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547640" y="476280"/>
            <a:ext cx="6477120" cy="4648320"/>
            <a:chOff x="1547640" y="476280"/>
            <a:chExt cx="6477120" cy="46483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1547640" y="4362480"/>
              <a:ext cx="6477120" cy="76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623960" y="476280"/>
              <a:ext cx="6248160" cy="860400"/>
              <a:chOff x="1623960" y="476280"/>
              <a:chExt cx="6248160" cy="860400"/>
            </a:xfrm>
          </p:grpSpPr>
          <p:sp>
            <p:nvSpPr>
              <p:cNvPr id="96" name=""/>
              <p:cNvSpPr/>
              <p:nvPr/>
            </p:nvSpPr>
            <p:spPr>
              <a:xfrm>
                <a:off x="1623960" y="476280"/>
                <a:ext cx="6248160" cy="8604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5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51600" y="628560"/>
                <a:ext cx="5344920" cy="68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" name=""/>
            <p:cNvGrpSpPr/>
            <p:nvPr/>
          </p:nvGrpSpPr>
          <p:grpSpPr>
            <a:xfrm>
              <a:off x="1623960" y="2305080"/>
              <a:ext cx="6248160" cy="860400"/>
              <a:chOff x="1623960" y="2305080"/>
              <a:chExt cx="6248160" cy="860400"/>
            </a:xfrm>
          </p:grpSpPr>
          <p:sp>
            <p:nvSpPr>
              <p:cNvPr id="99" name=""/>
              <p:cNvSpPr/>
              <p:nvPr/>
            </p:nvSpPr>
            <p:spPr>
              <a:xfrm>
                <a:off x="1623960" y="2305080"/>
                <a:ext cx="6248160" cy="86040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5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211840" y="2533680"/>
                <a:ext cx="5145480" cy="609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" name=""/>
          <p:cNvSpPr/>
          <p:nvPr/>
        </p:nvSpPr>
        <p:spPr>
          <a:xfrm>
            <a:off x="1443960" y="1447920"/>
            <a:ext cx="46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bike is 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34290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tractor is ______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533412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car is ________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447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f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35053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f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54100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the fas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156360"/>
            <a:ext cx="3384720" cy="70344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Compare th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6:49:28Z</dcterms:created>
  <dc:creator>FZ_USER</dc:creator>
  <dc:description/>
  <dc:language>en-US</dc:language>
  <cp:lastModifiedBy>lenovo</cp:lastModifiedBy>
  <cp:lastPrinted>1899-12-30T00:00:00Z</cp:lastPrinted>
  <dcterms:modified xsi:type="dcterms:W3CDTF">2008-09-06T02:09:43Z</dcterms:modified>
  <cp:revision>98</cp:revision>
  <dc:subject/>
  <dc:title>Unit 1  Friends</dc:title>
</cp:coreProperties>
</file>