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5C3-EB78-4CF5-9ED6-B37FC5B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0B9-4845-4F2F-ACDD-503F61E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DF7-5810-428A-8844-467E3A79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DE4-D2EC-4910-B569-AEED9E54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F32-85DF-4378-A46B-EF3DB9D6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024-81DE-4510-BD51-C809F1B9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F20-C92C-472D-932E-E503057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CF5-6FFC-4561-BC09-7F0DF7E4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098-D064-4E58-96E4-AAEC72C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81D-A3A1-4955-8B31-FE9A083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160-5DB0-45C6-A337-189F4E0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A0D-13CC-4C6A-9F2C-0C419AF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4960-D53C-4BAD-A27A-33E898921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421000"/>
            <a:ext cx="640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Speak up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197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00"/>
                </a:solidFill>
                <a:latin typeface="Monotype Corsiva"/>
              </a:rPr>
              <a:t>Unit 2   School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78136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omic Sans MS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69960"/>
          <a:ext cx="9144000" cy="4359240"/>
        </p:xfrm>
        <a:graphic>
          <a:graphicData uri="http://schemas.openxmlformats.org/drawingml/2006/table">
            <a:tbl>
              <a:tblPr/>
              <a:tblGrid>
                <a:gridCol w="609480"/>
                <a:gridCol w="2298960"/>
                <a:gridCol w="1231920"/>
                <a:gridCol w="1584000"/>
                <a:gridCol w="189576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ur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916360" y="3332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8354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8195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17360"/>
            <a:ext cx="194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chool subject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814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: What class do you have on 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: We hav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7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63040" y="33526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3860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95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mpute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8520" y="1773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852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1268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342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419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las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49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7320" y="49536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68560" y="0"/>
            <a:ext cx="60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ppo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4720" y="939960"/>
            <a:ext cx="3073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ant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ular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y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easant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ppy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57880" y="952560"/>
            <a:ext cx="3454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pop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healt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plea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hap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126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990720"/>
            <a:ext cx="899172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mportant     unpop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healthy          unplea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comfortable       unhappy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like                untidy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sual          unlucky/unluck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87320" y="49536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8560" y="0"/>
            <a:ext cx="60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ppo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4720" y="939960"/>
            <a:ext cx="3073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nest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ree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ke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57880" y="952560"/>
            <a:ext cx="3454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shon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sa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s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6560" y="3809880"/>
            <a:ext cx="2527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ful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ful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3080" y="3784680"/>
            <a:ext cx="3657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are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se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38280" y="457200"/>
            <a:ext cx="38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ful/-l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39800"/>
            <a:ext cx="655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reful/ carel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ful/ usel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ful/ helpl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peful/ hopel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87320" y="49536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8560" y="0"/>
            <a:ext cx="60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ppo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2640" y="830160"/>
            <a:ext cx="335268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sy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ing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vy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ll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st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ong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6640" y="841320"/>
            <a:ext cx="345420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ffi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mp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asy      important       interesting     popular   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484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unimportant     boring    useless    difficult     un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052640"/>
            <a:ext cx="5182920" cy="504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42560" y="981000"/>
            <a:ext cx="136836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987280" y="981000"/>
            <a:ext cx="180036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981000"/>
            <a:ext cx="129528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43280" y="981000"/>
            <a:ext cx="3384720" cy="64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: I think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 Economic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very</a:t>
            </a: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intere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: I don’t agree with you. I think it is very</a:t>
            </a: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bo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08-10-06T23:22:42Z</dcterms:modified>
  <cp:revision>34</cp:revision>
  <dc:subject/>
  <dc:title>PowerPoint Presentation</dc:title>
</cp:coreProperties>
</file>