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laser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DA6-A166-42F1-9C3E-49DFED2E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250-5418-4E57-AD0B-1FF222C7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99E-C199-4C20-A629-5A5CFC4F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CD4-39F2-4555-BCA5-2196A68A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1FA-7D56-4865-85D8-74B05FF6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A7F-5C42-4585-90E9-9FE36684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08A-A7B5-4D68-BB56-D8B0AFDC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EB8-FFEB-43F2-8713-4CB08718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F63-DF45-42A5-ABBB-DA36E5AC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AB7-4EB5-4F4A-8632-12B4C3DA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38E-5384-40C2-AD36-3BB235F7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45B-592D-4939-8C36-B211B255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4C9A-5D84-4280-88A0-6AD04BBBE7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it 6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Unit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260280"/>
          <a:ext cx="9143640" cy="6207120"/>
        </p:xfrm>
        <a:graphic>
          <a:graphicData uri="http://schemas.openxmlformats.org/drawingml/2006/table">
            <a:tbl>
              <a:tblPr/>
              <a:tblGrid>
                <a:gridCol w="2605680"/>
                <a:gridCol w="3489480"/>
                <a:gridCol w="30484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8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ff"/>
                      </a:solidFill>
                    </a:lnL>
                    <a:lnR w="18720">
                      <a:solidFill>
                        <a:srgbClr val="0066ff"/>
                      </a:solidFill>
                    </a:lnR>
                    <a:lnT w="18720">
                      <a:solidFill>
                        <a:srgbClr val="0066ff"/>
                      </a:solidFill>
                    </a:lnT>
                    <a:lnB w="1872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203640" y="260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接引语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26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间接引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620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指示代词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0520" y="1773360"/>
            <a:ext cx="11552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 间 状 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508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地点状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51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方向性动词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692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s,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84720" y="692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at,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692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s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20000" y="692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119700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w,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1197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n,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119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da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1197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a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15573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s week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48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at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1844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ester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18446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day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20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st wee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6360" y="220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week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2637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ur days ag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2637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ur days befo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3141720"/>
            <a:ext cx="3528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day before yester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3068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wo day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3789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mor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350028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next/following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45813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ext month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29264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next/following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5084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8800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5516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me,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5516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5516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551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k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6021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情态动词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602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, may, must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56360" y="6021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uld, might, ha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What are they saying?   A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650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69228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62080" y="539640"/>
            <a:ext cx="9896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victim’s mother said (that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sh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c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Mrs White said that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he had see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ith blood on his sh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Mr Frank said that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e had see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str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an in a blue van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he day befor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r Wu said (that) his cousin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ad notic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man running down Upper Street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he n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 Mrs Ma said (that) sh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didn’t dar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o go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lone at nigh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nd that ther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f getting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 Mrs Sun said (that) sh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ould mov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o Moon Town for saf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 People in Valley Town said they hope (that) the polic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ould catc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e murderer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 Detective Lu said that tim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as runn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 Detective Lu said that h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ould pu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up a drawing of the suspect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he next day / the following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3333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1125360"/>
            <a:ext cx="8424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直接引语是疑问句，变间接引语时，要从疑问语序变为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陈述语序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直接引语是一般疑问句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变为间接引语时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用连词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或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whether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连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直接引语是</a:t>
            </a:r>
            <a:r>
              <a:rPr b="1" i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特殊疑问句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变为间接引语时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仍用</a:t>
            </a:r>
            <a:r>
              <a:rPr b="1" i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原来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的疑问词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作连词来引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56000" y="507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t 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27280" y="2781360"/>
            <a:ext cx="37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ported 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he asked, 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v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you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en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the film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5772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he asked 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\if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d seen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76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e asked, 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you a doctor, John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93372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e asked Joh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\whether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a do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6828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he asked us, “Where are you going to get off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8136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he asked u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ere goi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to ge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700280"/>
            <a:ext cx="8893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e asked them, “Who gave you a talk yesterday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157720"/>
            <a:ext cx="914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e asked th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d given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them a talk the day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interviewer asked Detective Lu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ow many crimes he had 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interviewer asked Detectiv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he had become a det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interviewer asked him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when the Valley Town murder had take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interviewer asked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f/ whether there had been more than one attac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interviewer asked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f/ whether he had sovled the Valley Town mu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79280" y="44280"/>
          <a:ext cx="8713800" cy="684072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2843280" y="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t 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1640" y="328464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ported 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2205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ever do that again,” the teacher sai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386064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policeman ordered us to be qui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620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policeman ordered, “Be quiet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4437000"/>
            <a:ext cx="864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teacher told the boy to open the window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26828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teacher said to the boy, “Open the window 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2920" y="5300640"/>
            <a:ext cx="9001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 teacher told me not /never to do that again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637000"/>
            <a:ext cx="83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Wait a moment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．”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he said to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360" y="6278400"/>
            <a:ext cx="90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e asked them to wait a moment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9280" y="1268280"/>
            <a:ext cx="864072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直接引语是祈使句，变成间接引语，把动词原形变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动词不定式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并在动词不定前加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tell, ask, order , advise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等动词的宾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　　注意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否定句，在动词不定式前加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或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never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2602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11280" y="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解题步骤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陈述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5000"/>
            <a:ext cx="92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I don’t like computers,”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andy said to he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0" y="2009880"/>
            <a:ext cx="50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andy said to her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98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28000" y="1989000"/>
            <a:ext cx="7502760" cy="1377720"/>
            <a:chOff x="828000" y="1989000"/>
            <a:chExt cx="7502760" cy="1377720"/>
          </a:xfrm>
        </p:grpSpPr>
        <p:sp>
          <p:nvSpPr>
            <p:cNvPr id="202" name=""/>
            <p:cNvSpPr/>
            <p:nvPr/>
          </p:nvSpPr>
          <p:spPr>
            <a:xfrm>
              <a:off x="5990400" y="1989000"/>
              <a:ext cx="23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Times New Roman"/>
                </a:rPr>
                <a:t>I don’t lik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8000" y="2724120"/>
              <a:ext cx="26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Times New Roman"/>
                </a:rPr>
                <a:t>   </a:t>
              </a:r>
              <a:r>
                <a:rPr b="1" lang="zh-CN" sz="3600" spc="-1" strike="noStrike">
                  <a:solidFill>
                    <a:srgbClr val="008000"/>
                  </a:solidFill>
                  <a:latin typeface="Times New Roman"/>
                </a:rPr>
                <a:t>computers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620720" y="34020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342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d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4720" y="33577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04000" y="2565360"/>
            <a:ext cx="142920" cy="792360"/>
          </a:xfrm>
          <a:prstGeom prst="downArrow">
            <a:avLst>
              <a:gd name="adj1" fmla="val 50000"/>
              <a:gd name="adj2" fmla="val 138602"/>
            </a:avLst>
          </a:prstGeom>
          <a:solidFill>
            <a:srgbClr val="0000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076720" y="2565360"/>
            <a:ext cx="1008000" cy="86364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4797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andy said to her friend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3600" spc="-1" strike="noStrike">
                <a:solidFill>
                  <a:srgbClr val="00ff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dn’t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like compu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2637000"/>
            <a:ext cx="505080" cy="2879640"/>
          </a:xfrm>
          <a:custGeom>
            <a:avLst/>
            <a:gdLst>
              <a:gd name="textAreaLeft" fmla="*/ 67680 w 505080"/>
              <a:gd name="textAreaRight" fmla="*/ 437400 w 505080"/>
              <a:gd name="textAreaTop" fmla="*/ 580680 h 2879640"/>
              <a:gd name="textAreaBottom" fmla="*/ 20109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4" stAng="-5400000" swAng="-5400000"/>
                <a:lnTo>
                  <a:pt x="0" y="10726"/>
                </a:lnTo>
                <a:arcTo wR="21600" hR="8714" stAng="10800000" swAng="-2926164"/>
                <a:lnTo>
                  <a:pt x="14400" y="21102"/>
                </a:lnTo>
                <a:lnTo>
                  <a:pt x="21600" y="18434"/>
                </a:lnTo>
                <a:lnTo>
                  <a:pt x="14400" y="14770"/>
                </a:lnTo>
                <a:lnTo>
                  <a:pt x="14400" y="16930"/>
                </a:lnTo>
                <a:arcTo wR="21600" hR="8714" stAng="7873836" swAng="2765095"/>
                <a:lnTo>
                  <a:pt x="144" y="9720"/>
                </a:lnTo>
                <a:arcTo wR="21600" hR="8714" stAng="-10638930" swAng="5238930"/>
                <a:close/>
              </a:path>
              <a:path fill="darkenLess" w="21600" h="21600">
                <a:moveTo>
                  <a:pt x="21600" y="0"/>
                </a:moveTo>
                <a:arcTo wR="21600" hR="8714" stAng="-5400000" swAng="-5400000"/>
                <a:lnTo>
                  <a:pt x="0" y="8714"/>
                </a:lnTo>
                <a:arcTo wR="21600" hR="8714" stAng="10800000" swAng="-161070"/>
                <a:lnTo>
                  <a:pt x="144" y="9720"/>
                </a:lnTo>
                <a:arcTo wR="21600" hR="8714" stAng="-10638930" swAng="523893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0920" y="0"/>
            <a:ext cx="828036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一般疑问句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Is it easy to work out the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( They asked him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2421000"/>
            <a:ext cx="0" cy="647640"/>
          </a:xfrm>
          <a:prstGeom prst="line">
            <a:avLst/>
          </a:prstGeom>
          <a:ln w="57240">
            <a:solidFill>
              <a:srgbClr val="f64c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141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y</a:t>
            </a:r>
            <a:r>
              <a:rPr b="1" lang="en-US" sz="2800" spc="-1" strike="noStrike">
                <a:solidFill>
                  <a:srgbClr val="ffff2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b3925"/>
                </a:solidFill>
                <a:latin typeface="Times New Roman"/>
              </a:rPr>
              <a:t>aske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06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76360" y="2276640"/>
            <a:ext cx="7416720" cy="79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c0a"/>
                </a:solidFill>
                <a:latin typeface="Times New Roman"/>
              </a:rPr>
              <a:t>It is easy to work out the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313704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it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3925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easy to work out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16000" y="443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s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4437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1640" y="4437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4797360"/>
            <a:ext cx="936720" cy="0"/>
          </a:xfrm>
          <a:prstGeom prst="line">
            <a:avLst/>
          </a:prstGeom>
          <a:ln w="57240">
            <a:solidFill>
              <a:srgbClr val="f64c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551664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y asked him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if</a:t>
            </a:r>
            <a:r>
              <a:rPr b="1" lang="en-US" sz="4000" spc="-1" strike="noStrike">
                <a:solidFill>
                  <a:srgbClr val="58e0b6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t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as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easy to work out the probl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716280"/>
            <a:ext cx="503280" cy="2160720"/>
          </a:xfrm>
          <a:custGeom>
            <a:avLst/>
            <a:gdLst>
              <a:gd name="textAreaLeft" fmla="*/ 67320 w 503280"/>
              <a:gd name="textAreaRight" fmla="*/ 435960 w 503280"/>
              <a:gd name="textAreaTop" fmla="*/ 435600 h 2160720"/>
              <a:gd name="textAreaBottom" fmla="*/ 15087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4" stAng="-5400000" swAng="-5400000"/>
                <a:lnTo>
                  <a:pt x="0" y="10726"/>
                </a:lnTo>
                <a:arcTo wR="21600" hR="8714" stAng="10800000" swAng="-2926164"/>
                <a:lnTo>
                  <a:pt x="14400" y="21102"/>
                </a:lnTo>
                <a:lnTo>
                  <a:pt x="21600" y="18434"/>
                </a:lnTo>
                <a:lnTo>
                  <a:pt x="14400" y="14770"/>
                </a:lnTo>
                <a:lnTo>
                  <a:pt x="14400" y="16930"/>
                </a:lnTo>
                <a:arcTo wR="21600" hR="8714" stAng="7873836" swAng="2765095"/>
                <a:lnTo>
                  <a:pt x="144" y="9720"/>
                </a:lnTo>
                <a:arcTo wR="21600" hR="8714" stAng="-10638930" swAng="5238930"/>
                <a:close/>
              </a:path>
              <a:path fill="darkenLess" w="21600" h="21600">
                <a:moveTo>
                  <a:pt x="21600" y="0"/>
                </a:moveTo>
                <a:arcTo wR="21600" hR="8714" stAng="-5400000" swAng="-5400000"/>
                <a:lnTo>
                  <a:pt x="0" y="8714"/>
                </a:lnTo>
                <a:arcTo wR="21600" hR="8714" stAng="10800000" swAng="-161070"/>
                <a:lnTo>
                  <a:pt x="144" y="9720"/>
                </a:lnTo>
                <a:arcTo wR="21600" hR="8714" stAng="-10638930" swAng="523893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1700280"/>
            <a:ext cx="0" cy="649080"/>
          </a:xfrm>
          <a:prstGeom prst="line">
            <a:avLst/>
          </a:prstGeom>
          <a:ln w="38160">
            <a:solidFill>
              <a:srgbClr val="f64c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020000" y="5444640"/>
            <a:ext cx="1079280" cy="1152720"/>
            <a:chOff x="7020000" y="5444640"/>
            <a:chExt cx="1079280" cy="1152720"/>
          </a:xfrm>
        </p:grpSpPr>
        <p:sp>
          <p:nvSpPr>
            <p:cNvPr id="225" name=""/>
            <p:cNvSpPr/>
            <p:nvPr/>
          </p:nvSpPr>
          <p:spPr>
            <a:xfrm>
              <a:off x="7020000" y="6021360"/>
              <a:ext cx="360360" cy="576000"/>
            </a:xfrm>
            <a:prstGeom prst="line">
              <a:avLst/>
            </a:prstGeom>
            <a:ln w="57240">
              <a:solidFill>
                <a:srgbClr val="f64c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380360" y="5444640"/>
              <a:ext cx="718920" cy="1152360"/>
            </a:xfrm>
            <a:prstGeom prst="line">
              <a:avLst/>
            </a:prstGeom>
            <a:ln w="57240">
              <a:solidFill>
                <a:srgbClr val="f64c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3241440" cy="2774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2387520" cy="2266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47" name="Cloud"/>
          <p:cNvSpPr/>
          <p:nvPr/>
        </p:nvSpPr>
        <p:spPr>
          <a:xfrm>
            <a:off x="0" y="260280"/>
            <a:ext cx="6156360" cy="2170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 am the king of the whole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"/>
          <p:cNvSpPr/>
          <p:nvPr/>
        </p:nvSpPr>
        <p:spPr>
          <a:xfrm>
            <a:off x="3708360" y="1773360"/>
            <a:ext cx="5192640" cy="1838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at does the lion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0"/>
            <a:ext cx="727236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特殊疑问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When do you harvest the whea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( They asked him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2205000"/>
            <a:ext cx="0" cy="647640"/>
          </a:xfrm>
          <a:prstGeom prst="line">
            <a:avLst/>
          </a:prstGeom>
          <a:ln w="38160">
            <a:solidFill>
              <a:srgbClr val="f64c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9811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They asked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32000" y="2997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24000" y="1916280"/>
            <a:ext cx="5977080" cy="865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c0a"/>
                </a:solidFill>
                <a:latin typeface="Times New Roman"/>
                <a:ea typeface="华文新魏"/>
              </a:rPr>
              <a:t>you harvest the w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00720" y="2997360"/>
            <a:ext cx="39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you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harvest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the w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393372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6720" y="4365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harves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01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y asked him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e harvested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the</a:t>
            </a:r>
            <a:r>
              <a:rPr b="1" lang="en-US" sz="4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whe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596360" y="5300280"/>
            <a:ext cx="1079280" cy="1152720"/>
            <a:chOff x="7596360" y="5300280"/>
            <a:chExt cx="1079280" cy="1152720"/>
          </a:xfrm>
        </p:grpSpPr>
        <p:sp>
          <p:nvSpPr>
            <p:cNvPr id="237" name=""/>
            <p:cNvSpPr/>
            <p:nvPr/>
          </p:nvSpPr>
          <p:spPr>
            <a:xfrm>
              <a:off x="7596360" y="5877000"/>
              <a:ext cx="360360" cy="576000"/>
            </a:xfrm>
            <a:prstGeom prst="line">
              <a:avLst/>
            </a:prstGeom>
            <a:ln w="57240">
              <a:solidFill>
                <a:srgbClr val="f64c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956720" y="5300280"/>
              <a:ext cx="718920" cy="1152360"/>
            </a:xfrm>
            <a:prstGeom prst="line">
              <a:avLst/>
            </a:prstGeom>
            <a:ln w="57240">
              <a:solidFill>
                <a:srgbClr val="f64c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4572000" y="1341360"/>
            <a:ext cx="0" cy="574920"/>
          </a:xfrm>
          <a:prstGeom prst="line">
            <a:avLst/>
          </a:prstGeom>
          <a:ln w="38160">
            <a:solidFill>
              <a:srgbClr val="f64c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700360" y="3429000"/>
            <a:ext cx="2158920" cy="720720"/>
            <a:chOff x="2700360" y="3429000"/>
            <a:chExt cx="2158920" cy="720720"/>
          </a:xfrm>
        </p:grpSpPr>
        <p:sp>
          <p:nvSpPr>
            <p:cNvPr id="241" name=""/>
            <p:cNvSpPr/>
            <p:nvPr/>
          </p:nvSpPr>
          <p:spPr>
            <a:xfrm>
              <a:off x="4859280" y="3429000"/>
              <a:ext cx="0" cy="576360"/>
            </a:xfrm>
            <a:prstGeom prst="line">
              <a:avLst/>
            </a:prstGeom>
            <a:ln w="38160">
              <a:solidFill>
                <a:srgbClr val="f64c2a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700360" y="3429000"/>
              <a:ext cx="1871640" cy="720720"/>
              <a:chOff x="2700360" y="3429000"/>
              <a:chExt cx="1871640" cy="720720"/>
            </a:xfrm>
          </p:grpSpPr>
          <p:sp>
            <p:nvSpPr>
              <p:cNvPr id="243" name=""/>
              <p:cNvSpPr/>
              <p:nvPr/>
            </p:nvSpPr>
            <p:spPr>
              <a:xfrm>
                <a:off x="2700360" y="3429000"/>
                <a:ext cx="0" cy="720720"/>
              </a:xfrm>
              <a:prstGeom prst="line">
                <a:avLst/>
              </a:prstGeom>
              <a:ln w="28440">
                <a:solidFill>
                  <a:srgbClr val="f64c2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00360" y="4149720"/>
                <a:ext cx="1871640" cy="0"/>
              </a:xfrm>
              <a:prstGeom prst="line">
                <a:avLst/>
              </a:prstGeom>
              <a:ln w="28440">
                <a:solidFill>
                  <a:srgbClr val="f64c2a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1763640" y="3429000"/>
            <a:ext cx="4103640" cy="1368360"/>
            <a:chOff x="1763640" y="3429000"/>
            <a:chExt cx="4103640" cy="1368360"/>
          </a:xfrm>
        </p:grpSpPr>
        <p:sp>
          <p:nvSpPr>
            <p:cNvPr id="246" name=""/>
            <p:cNvSpPr/>
            <p:nvPr/>
          </p:nvSpPr>
          <p:spPr>
            <a:xfrm>
              <a:off x="5867280" y="3429000"/>
              <a:ext cx="0" cy="1079640"/>
            </a:xfrm>
            <a:prstGeom prst="line">
              <a:avLst/>
            </a:prstGeom>
            <a:ln w="57240">
              <a:solidFill>
                <a:srgbClr val="f64c2a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763640" y="3429000"/>
              <a:ext cx="3168720" cy="1368360"/>
              <a:chOff x="1763640" y="3429000"/>
              <a:chExt cx="3168720" cy="1368360"/>
            </a:xfrm>
          </p:grpSpPr>
          <p:sp>
            <p:nvSpPr>
              <p:cNvPr id="248" name=""/>
              <p:cNvSpPr/>
              <p:nvPr/>
            </p:nvSpPr>
            <p:spPr>
              <a:xfrm>
                <a:off x="1763640" y="3429000"/>
                <a:ext cx="0" cy="1368360"/>
              </a:xfrm>
              <a:prstGeom prst="line">
                <a:avLst/>
              </a:prstGeom>
              <a:ln w="38160">
                <a:solidFill>
                  <a:srgbClr val="f64c2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63640" y="4797360"/>
                <a:ext cx="3168720" cy="0"/>
              </a:xfrm>
              <a:prstGeom prst="line">
                <a:avLst/>
              </a:prstGeom>
              <a:ln w="38160">
                <a:solidFill>
                  <a:srgbClr val="f64c2a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24000" y="0"/>
            <a:ext cx="727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祈使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Garamond"/>
              </a:rPr>
              <a:t>Little boy, put on your co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Garamond"/>
              </a:rPr>
              <a:t>They ordere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19280" y="2349360"/>
            <a:ext cx="0" cy="648000"/>
          </a:xfrm>
          <a:prstGeom prst="line">
            <a:avLst/>
          </a:prstGeom>
          <a:ln w="38160">
            <a:solidFill>
              <a:srgbClr val="f64c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05424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They ordered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29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ittle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2203560"/>
            <a:ext cx="5977080" cy="865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c0a"/>
                </a:solidFill>
                <a:latin typeface="Times New Roman"/>
                <a:ea typeface="华文新魏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Little boy, put on your coat.</a:t>
            </a:r>
            <a:r>
              <a:rPr b="1" lang="en-US" sz="3600" spc="-1" strike="noStrike">
                <a:solidFill>
                  <a:srgbClr val="0c0c0a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43280" y="299736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put on your co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4005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 put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596360" y="5229000"/>
            <a:ext cx="1079280" cy="1152720"/>
            <a:chOff x="7596360" y="5229000"/>
            <a:chExt cx="1079280" cy="1152720"/>
          </a:xfrm>
        </p:grpSpPr>
        <p:sp>
          <p:nvSpPr>
            <p:cNvPr id="258" name=""/>
            <p:cNvSpPr/>
            <p:nvPr/>
          </p:nvSpPr>
          <p:spPr>
            <a:xfrm>
              <a:off x="7596360" y="5805720"/>
              <a:ext cx="360360" cy="576000"/>
            </a:xfrm>
            <a:prstGeom prst="line">
              <a:avLst/>
            </a:prstGeom>
            <a:ln w="57240">
              <a:solidFill>
                <a:srgbClr val="f64c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956720" y="5229000"/>
              <a:ext cx="718920" cy="1152360"/>
            </a:xfrm>
            <a:prstGeom prst="line">
              <a:avLst/>
            </a:prstGeom>
            <a:ln w="57240">
              <a:solidFill>
                <a:srgbClr val="f64c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572000" y="1557360"/>
            <a:ext cx="0" cy="574560"/>
          </a:xfrm>
          <a:prstGeom prst="line">
            <a:avLst/>
          </a:prstGeom>
          <a:ln w="38160">
            <a:solidFill>
              <a:srgbClr val="f64c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59280" y="3500280"/>
            <a:ext cx="3240" cy="576360"/>
          </a:xfrm>
          <a:prstGeom prst="line">
            <a:avLst/>
          </a:prstGeom>
          <a:ln w="44280">
            <a:solidFill>
              <a:srgbClr val="f64c2a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3573360"/>
            <a:ext cx="0" cy="936720"/>
          </a:xfrm>
          <a:prstGeom prst="line">
            <a:avLst/>
          </a:prstGeom>
          <a:ln w="57240">
            <a:solidFill>
              <a:srgbClr val="f64c2a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9640" y="5030640"/>
            <a:ext cx="86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y ordered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the little boy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o put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on</a:t>
            </a:r>
            <a:r>
              <a:rPr b="1" lang="en-US" sz="4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is</a:t>
            </a:r>
            <a:r>
              <a:rPr b="1" lang="en-US" sz="4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c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3573360"/>
            <a:ext cx="0" cy="11509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4797360"/>
            <a:ext cx="295272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27640" y="4437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is</a:t>
            </a:r>
            <a:r>
              <a:rPr b="1" lang="en-US" sz="3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0020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6384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7148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2602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注意事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1480" y="329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1052640"/>
            <a:ext cx="8713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1)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人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2)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时态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3)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相应的时间地点状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4)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标点符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  大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  问号改为句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  语序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---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疑问改陈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  宾语从句由什么引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9)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祈使句要使用动词不定式来引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0760" y="260280"/>
            <a:ext cx="88232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xercises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).   Betty says to Harry," I want to borrow   your book.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378936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).My teacher said , “she is a good studen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24922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etty says to Harry (that)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he wants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to borrow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s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Book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50846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teacher said that sh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a good stud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4000" y="0"/>
            <a:ext cx="843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) She asked me,” Do you agree with me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2997360"/>
            <a:ext cx="795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) Anne asked her mother, “Is there any delicious food to e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184464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e asked m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I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greed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it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43657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nn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sk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other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re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 wa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ny deliciou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oo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69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5) “ What are you going to do?” he aske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852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How do you go to school every day?” asked Mr. Zha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00" y="2035080"/>
            <a:ext cx="90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e asked me what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 was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going to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122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r. Zhang asked how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 went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to school every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95480" y="127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39840" y="134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7).  Mom said,“ Don‘t chat with strangers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781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). “ Go shopping with me, please?” said Mr. Wang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530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om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ld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e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t to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chat with strang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14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r. Wang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sked me to go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shopping with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m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1403280" y="2349360"/>
            <a:ext cx="6551640" cy="22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ank you!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766800">
            <a:off x="826560" y="-66600"/>
            <a:ext cx="7658280" cy="515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irect speech &amp; Reported speech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351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irect  Speech and Reported Spe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3366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  <a:ea typeface="黑体"/>
              </a:rPr>
              <a:t>引语的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直接引述别人的原话，叫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___________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2276640"/>
            <a:ext cx="24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直接引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068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用自己的话把别人的话陈述出来，叫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_________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71628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间接引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65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直接引语通常都用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____________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括起来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43657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引号“  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22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间接引语在多数情况下都构成一个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________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87700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宾语从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直接引语和间接引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820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直接引语改为间接引语时，引述动词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现在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，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间接引语中的动词、时间、时态的形式不变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例如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She says, “ I’ll never forget the moment.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变成间接引语为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She says that she’ll never forget the moment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96080" y="360216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t 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3213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ported 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76280"/>
            <a:ext cx="914400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scared,’said the wit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thief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s running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away,’said Mrs 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v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finishe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my report,’said Detective L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ear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about the case,’ said Mr W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We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ook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for more clues,’ said Detective L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64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witness said (that) sh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as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sc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rs Ma said (that) the thief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as running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a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81360"/>
            <a:ext cx="8964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etective Lu said (that) h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ad finishe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his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01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Mr Wu said (that) h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ad heard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about th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516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etective Lu said (that) they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ould look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for more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4762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484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直接引语是陈述句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变为间接引语时用连词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引导宾语从句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从句中的</a:t>
            </a:r>
            <a:r>
              <a:rPr b="1" i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人称、时态、指示代词、时间状语、地点状语　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等相应变化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-49320"/>
            <a:ext cx="36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１、人称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94040" y="17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-36360" y="762120"/>
          <a:ext cx="9145440" cy="6122880"/>
        </p:xfrm>
        <a:graphic>
          <a:graphicData uri="http://schemas.openxmlformats.org/drawingml/2006/table">
            <a:tbl>
              <a:tblPr/>
              <a:tblGrid>
                <a:gridCol w="1152360"/>
                <a:gridCol w="2770200"/>
                <a:gridCol w="2505240"/>
                <a:gridCol w="2717640"/>
              </a:tblGrid>
              <a:tr h="506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口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说　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直接引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新魏"/>
                        </a:rPr>
                        <a:t>间接引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977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013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325800" y="1268280"/>
            <a:ext cx="53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92160" y="3222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3040" y="304776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二随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5013360"/>
            <a:ext cx="106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第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人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2840" y="1204920"/>
            <a:ext cx="2638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引号内的第一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称变间引后与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句主语的人称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持一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880" y="2997360"/>
            <a:ext cx="1567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引号内的第二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称变间引后与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句宾语的人称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持一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48160" y="5025960"/>
            <a:ext cx="1567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引号内的第三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称在变间引后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称不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1413000"/>
            <a:ext cx="240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sto MT"/>
              </a:rPr>
              <a:t>She said,“ I like tenn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134136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sto MT"/>
              </a:rPr>
              <a:t>She said that she liked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2924280"/>
            <a:ext cx="242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sto MT"/>
              </a:rPr>
              <a:t>He said to Lily, “ You must g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sto MT"/>
              </a:rPr>
              <a:t>up earl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2924280"/>
            <a:ext cx="281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sto MT"/>
              </a:rPr>
              <a:t>He told Lily that she must g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sto MT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sto MT"/>
              </a:rPr>
              <a:t>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6680" y="4879800"/>
            <a:ext cx="242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sto MT"/>
              </a:rPr>
              <a:t>She said to me , “ They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sto MT"/>
              </a:rPr>
              <a:t>help hi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4896000"/>
            <a:ext cx="281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sto MT"/>
              </a:rPr>
              <a:t>She told me that they wan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sto MT"/>
              </a:rPr>
              <a:t>help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39200" y="189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一随主，二随宾，第三人称不更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184464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1844640"/>
            <a:ext cx="21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184464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234936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580536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08720" y="683244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59500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68500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3933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12000" y="342900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39337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933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476360" y="189000"/>
          <a:ext cx="6629400" cy="357804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2124000" y="189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直接引语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189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间接引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765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般现在时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83664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般过去时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981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20574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2286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141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现在进行时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1413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过去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9890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般过去时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98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过去完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2565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现在完成时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25653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过去完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321300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般将来时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3141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过去将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60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The teacher said,“The sun is bigger than the eart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797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teacher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ai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that the su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bigger than the ear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667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: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直引若是客观真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变为间引时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时态不变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4160" y="55476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时态变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046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4:21:20Z</dcterms:created>
  <dc:creator>Billgates</dc:creator>
  <dc:description/>
  <dc:language>en-US</dc:language>
  <cp:lastModifiedBy>雨林木风</cp:lastModifiedBy>
  <dcterms:modified xsi:type="dcterms:W3CDTF">2008-11-07T00:45:33Z</dcterms:modified>
  <cp:revision>45</cp:revision>
  <dc:subject/>
  <dc:title>Unit 6 </dc:title>
</cp:coreProperties>
</file>