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FEC-712A-46D8-BDEF-D333D98C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2EE-6880-4150-B7D9-1B82A954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909-7A4B-49D5-BCDC-172E3CA2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8F-C8CA-4E7D-A804-E85C2BC0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098-76CF-4E1C-A417-973AB17D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557-33FF-495D-818C-BF4A1002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686-1870-4870-8910-6F4ADA1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A21-A8EC-4B1C-AAE8-3D3D5E9E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812-DB5B-4CD4-AAED-BCA80C3A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9D4-A42F-4F86-8E59-DDADD75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FF1-91A4-4E56-8057-814F5C9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63E-020C-4A7E-A07B-63645328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E60-D59B-4539-BE25-C36D1F1B2C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635280" y="1557360"/>
            <a:ext cx="230508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nit 3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284640"/>
            <a:ext cx="51134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 (2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41440" y="192600"/>
            <a:ext cx="99727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“We are playing basketball,”said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“Who are you waiting for?”the boy ask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“Can I sit here?” the girl asked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.He asked me: “Did you lose your umb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two days ag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.He asked, “Mary, are you busy these day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.“Are you leaving for London tomorrow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e ask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2064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he students said that they were playing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720" y="172188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he boy asked me who I was wait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5855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he girl asked me if she could si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3716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me if I had lost my umbrella two day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8906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Mary if she was busy thos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6011640"/>
            <a:ext cx="8820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me if I was leaving for London the next 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468360" y="179640"/>
            <a:ext cx="98647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. “Have you finished your work?”my m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sk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 “How soon will you come back?”I asked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“Is there anything wrong with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mputer?” he ask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“Is Gong Li an experienced actress?”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“Did you watch the film called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onths ago?” he ask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49000"/>
            <a:ext cx="849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y mother asked me if I had finished m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080" y="1979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 asked my father how soon he would co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428640"/>
            <a:ext cx="896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me if there was anything wrong with my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920" y="4571640"/>
            <a:ext cx="9001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if Gong Li is an  experienced ac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6011640"/>
            <a:ext cx="9036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asked me if I had watched the film called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ctio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month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44280"/>
            <a:ext cx="896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sun rises in the east,’ said Mr W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692280"/>
            <a:ext cx="503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200" y="477720"/>
            <a:ext cx="896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Mr Wu said (that) the sun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rises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in the e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6360" y="981000"/>
            <a:ext cx="8964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‘We are asking anyone who saw anything unusual last night to contact us,’ said Detective 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7440" y="2419200"/>
            <a:ext cx="503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2133720"/>
            <a:ext cx="8820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etective Li said that they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re ask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anyone who saw anything unusual last night to contact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3500280"/>
            <a:ext cx="8964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Detective Lu said. ‘We will work hard to find the murder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506840"/>
            <a:ext cx="503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2200" y="4221000"/>
            <a:ext cx="8820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etective Lu said that they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ill work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hard to find the mu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157720"/>
            <a:ext cx="91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We do not need to change the tense if we are reporting a fact or if the information is still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-10800"/>
            <a:ext cx="9217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sun rises in the east and sets in the west,” the mother told his littl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ght travels faster than sound,” said the geography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moon is our nearest neighbour,”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earth goes around the sun,” 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actice makes perfect,”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46160"/>
            <a:ext cx="856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he mother told his little son that the sun rises in the east and sets in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630520"/>
            <a:ext cx="856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he geography teacher said light travel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4880"/>
            <a:ext cx="8569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he teacher said that the moon is our nearest neighb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24400"/>
            <a:ext cx="8569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e said that the earth goes around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6114960"/>
            <a:ext cx="8569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he teacher said practice makes per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94640" y="152280"/>
            <a:ext cx="6270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The mistety of the robb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20640"/>
            <a:ext cx="9396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cently, one million yuan was robbed from Sun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police have interviewed some witnesses for more details. One of the witnesses was ask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____________. He answer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 when he heard a gunshot and then saw a man holding a 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police asked him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. The witness sai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 but very strong, and he add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 because he was wearing a mask. The witness also mention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inally, when the police ask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 anything else, the witness though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 with th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43920" y="1916280"/>
            <a:ext cx="6909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ether / if he had seen the ro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34920" y="2270160"/>
            <a:ext cx="914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that) he was waiting in the queue at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3206880"/>
            <a:ext cx="94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at the robber looked lik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3565440"/>
            <a:ext cx="943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that) the robber was no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3860640"/>
            <a:ext cx="943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that) he had not seen the robber’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6360" y="4789440"/>
            <a:ext cx="943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that) the robber seemed to be in his mid-thi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5373720"/>
            <a:ext cx="943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hether / if the witness could te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086520"/>
            <a:ext cx="943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that) the robber was quite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4:06:33Z</dcterms:created>
  <dc:creator>顾一斌</dc:creator>
  <dc:description/>
  <dc:language>en-US</dc:language>
  <cp:lastModifiedBy>LuckyStar</cp:lastModifiedBy>
  <dcterms:modified xsi:type="dcterms:W3CDTF">2008-11-07T01:36:37Z</dcterms:modified>
  <cp:revision>7</cp:revision>
  <dc:subject/>
  <dc:title>幻灯片 1</dc:title>
</cp:coreProperties>
</file>