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3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jpeg" ContentType="image/jpeg"/>
  <Override PartName="/ppt/media/image1.jpeg" ContentType="image/jpeg"/>
  <Override PartName="/ppt/media/image4.gif" ContentType="image/gif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18C-71F5-4B26-825D-647DD51A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0037-1010-435A-A89D-439F5A20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8D92-BDF3-4AB4-9702-6C480D9F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A875-2F48-4C0B-B88B-529436BB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7C04-8997-4B3E-85FD-2CB18247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F92A-62C4-463A-9EEE-DDD5971F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5F0B-D3CF-4F85-91F1-C28ED7FA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EB34-5806-4A57-AE33-A1ED9204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AF80-F7D6-4108-B5F7-9144E094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B394-C23C-4DD1-AD1E-54CD92A6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3505-4A08-4847-A0AB-B199F318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6A8-664A-4B53-9EBD-9E7A2B11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BA64-FCA5-4A94-B13B-3E6F0479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AFA6-654B-40AA-8707-A92D603A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33F9-673A-4610-ABA8-B23D95E4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ECC2-7388-45B4-863A-67B8C03D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D7DD-57FE-4FD8-942B-0C8F2685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4A66-93B0-49D6-BE01-1C489A45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C9C-DC29-4F2E-843B-99BF4213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7750-0701-410F-8603-CBE1E635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664-37D2-46A7-838D-B2D0CCB5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F04-1033-4B02-A08D-A93F8FEC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AD6B-8DE9-4FE5-A6DA-2B637681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FA64-6F41-4E1A-955C-5FCFF15F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4A37-09F5-4F7C-9B9A-21F4B58077ED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99E3-DE1A-4E91-A8CD-B2B0D005B97A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diamond-lover.com/index.asp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1441440" cy="1729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164360" y="429264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692360" y="1052640"/>
            <a:ext cx="568800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Unit 6  Detective stori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700360" y="2997360"/>
            <a:ext cx="3960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ain task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 rot="272400">
            <a:off x="1979640" y="765000"/>
            <a:ext cx="5327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oodbye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hecker dir="horz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469800" y="476280"/>
            <a:ext cx="8336160" cy="2720880"/>
            <a:chOff x="469800" y="476280"/>
            <a:chExt cx="8336160" cy="272088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3348000" y="981000"/>
              <a:ext cx="2305080" cy="21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900000" y="1484280"/>
              <a:ext cx="1689120" cy="11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4"/>
            <a:stretch/>
          </p:blipFill>
          <p:spPr>
            <a:xfrm>
              <a:off x="6084720" y="476280"/>
              <a:ext cx="2721240" cy="27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9800" y="9810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33440" y="9810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13440" y="9810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C.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-757080" y="3645000"/>
            <a:ext cx="4176720" cy="321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312840"/>
            <a:ext cx="5580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 was stolen ?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o was the thief?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7380360" y="4508640"/>
            <a:ext cx="2162160" cy="2592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59280" y="981000"/>
            <a:ext cx="576000" cy="576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3400" y="5248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6320" y="152280"/>
            <a:ext cx="9067680" cy="2743200"/>
            <a:chOff x="76320" y="152280"/>
            <a:chExt cx="9067680" cy="274320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76320" y="152280"/>
              <a:ext cx="213336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2286000" y="152280"/>
              <a:ext cx="2286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4648320" y="152280"/>
              <a:ext cx="2286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4"/>
            <a:stretch/>
          </p:blipFill>
          <p:spPr>
            <a:xfrm>
              <a:off x="7010280" y="152280"/>
              <a:ext cx="213372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1752480" y="234648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23464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34280" y="2367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675640" y="2367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3124080"/>
            <a:ext cx="891540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 witness said that she had seen someone running into Tom’s building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om planned to take the necklace to the police station the next day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ne day Tom found a diamond necklace outside his door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om was charged with robbery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19360" y="5029200"/>
            <a:ext cx="4039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 diamond necklac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" y="4602240"/>
            <a:ext cx="2799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police statio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50560" y="3581280"/>
            <a:ext cx="3070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om’s building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37480" y="6049800"/>
            <a:ext cx="5194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as charged with robbery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141720"/>
            <a:ext cx="891540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.One day Tom found a diamond necklace outside his door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b.Tom planned to take the necklace to the police station the next day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.A witness said that she had seen someone running into Tom’s building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d.Tom was charged with robbery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36360" y="-27000"/>
            <a:ext cx="9361440" cy="65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m got along with all of his neighbours except the man who lived next door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man never spoke to anyone and no one knew what he did for a living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e day, when Tom came home from work, he found a (1)_________________ outside his (2)_____. Tom wondered where it came from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m thought that perhaps someone had dropped the necklace. He planned to take it to the (3)_____________ the next day. He thought the police would be able to find the owner. Just then, the (4)_______ came to Tom’s home and saw the necklace in his hand. Tom was very shocked when he was (5)______________ robbery. A policeman told him that a jewellery shop had been robbed. A (6)________ said that she had seen someone run from the jewellery shop into (7)_________________ right after the (8)__________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m was not (9)_______, but how could he prove it?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4920" y="1557360"/>
            <a:ext cx="37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diamond necklac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12720" y="155736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door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7640" y="29242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police statio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9080" y="364176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polic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13680" y="429264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harged with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501012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itnes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4920" y="5300640"/>
            <a:ext cx="30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om’s building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59640" y="566100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robbery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7080" y="602136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guilty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2843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Suspect 1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49360"/>
            <a:ext cx="925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ame 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Tom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ccupation:an office worker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ersonality: friendly, honest, was always ready to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lp others   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obbies:      reading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t the time of the robbery:   at work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6320" y="3852720"/>
            <a:ext cx="9601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ame :          Tony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ccupation: did nothing for a living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ersonality:  looked cruel, never spoke to anyone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obbies:       liked gambling 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赌博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nd owed 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欠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,00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t the time of the robbery: No one knew where he wa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when the robbery happened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141720"/>
            <a:ext cx="2484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Suspect 2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9167" t="9167" r="65834" b="67911"/>
          <a:stretch/>
        </p:blipFill>
        <p:spPr>
          <a:xfrm>
            <a:off x="235080" y="142920"/>
            <a:ext cx="2824200" cy="184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41314" t="9167" r="36386" b="68531"/>
          <a:stretch/>
        </p:blipFill>
        <p:spPr>
          <a:xfrm>
            <a:off x="3276720" y="142920"/>
            <a:ext cx="2808000" cy="1846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69715" t="9167" r="3930" b="68892"/>
          <a:stretch/>
        </p:blipFill>
        <p:spPr>
          <a:xfrm>
            <a:off x="6300720" y="115920"/>
            <a:ext cx="2664000" cy="1862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rcRect l="9808" t="30287" r="61223" b="48421"/>
          <a:stretch/>
        </p:blipFill>
        <p:spPr>
          <a:xfrm>
            <a:off x="250920" y="2205000"/>
            <a:ext cx="2808360" cy="1800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rcRect l="40028" t="30287" r="33999" b="46663"/>
          <a:stretch/>
        </p:blipFill>
        <p:spPr>
          <a:xfrm>
            <a:off x="3276720" y="2205000"/>
            <a:ext cx="2808000" cy="1800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rcRect l="69037" t="30287" r="4985" b="47954"/>
          <a:stretch/>
        </p:blipFill>
        <p:spPr>
          <a:xfrm>
            <a:off x="6300720" y="2209680"/>
            <a:ext cx="2664000" cy="1797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0920" y="4230720"/>
            <a:ext cx="8712000" cy="248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buClr>
                <a:srgbClr val="0000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I’ll have to check these for fingerprints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buClr>
                <a:srgbClr val="0000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You’re under arrest for murder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buClr>
                <a:srgbClr val="0000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He was murdered. Start looking for clues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buClr>
                <a:srgbClr val="0000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We’d better call the police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buClr>
                <a:srgbClr val="0000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I don’t know. I’ve never seen him before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buClr>
                <a:srgbClr val="000099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We didn’t see or hear anything .we were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having a party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3860640"/>
            <a:ext cx="1009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93080" y="3933720"/>
            <a:ext cx="1009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9167" t="9167" r="65834" b="67911"/>
          <a:stretch/>
        </p:blipFill>
        <p:spPr>
          <a:xfrm>
            <a:off x="235080" y="142920"/>
            <a:ext cx="2824200" cy="3141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41314" t="9167" r="36386" b="68531"/>
          <a:stretch/>
        </p:blipFill>
        <p:spPr>
          <a:xfrm>
            <a:off x="3276720" y="142920"/>
            <a:ext cx="2808000" cy="3141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69715" t="9167" r="3930" b="68892"/>
          <a:stretch/>
        </p:blipFill>
        <p:spPr>
          <a:xfrm>
            <a:off x="6300720" y="115920"/>
            <a:ext cx="2664000" cy="3168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rcRect l="9808" t="30287" r="61223" b="48421"/>
          <a:stretch/>
        </p:blipFill>
        <p:spPr>
          <a:xfrm>
            <a:off x="250920" y="3429000"/>
            <a:ext cx="2808360" cy="3240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rcRect l="40028" t="30287" r="33999" b="46663"/>
          <a:stretch/>
        </p:blipFill>
        <p:spPr>
          <a:xfrm>
            <a:off x="3276720" y="3429000"/>
            <a:ext cx="2808000" cy="3240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rcRect l="69037" t="30287" r="4985" b="47954"/>
          <a:stretch/>
        </p:blipFill>
        <p:spPr>
          <a:xfrm>
            <a:off x="6300720" y="3433680"/>
            <a:ext cx="2664000" cy="3235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0920" y="2681280"/>
            <a:ext cx="2808360" cy="60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We’d better call the police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2170080"/>
            <a:ext cx="2808000" cy="86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He was murdered. Start looking for clues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72360" y="2160720"/>
            <a:ext cx="2592360" cy="86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I don’t know. I’ve never seen him before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5805360"/>
            <a:ext cx="2808000" cy="86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I’ll have to check these for fingerprints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5300640"/>
            <a:ext cx="26636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We didn’t see or hear anything .we were having a party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35640" y="5805360"/>
            <a:ext cx="2557440" cy="86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You’re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under arrest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for murder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3860640"/>
            <a:ext cx="1009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93080" y="3933720"/>
            <a:ext cx="1009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69800" y="2570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21080" y="260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7440" y="112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7440" y="342576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65440" y="3570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81440" y="34974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703600" y="0"/>
            <a:ext cx="30924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rime: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Victim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ime of crime: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lace of murder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2174760"/>
            <a:ext cx="647712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itnesses: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bjects at Mr Wang’s home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562720"/>
            <a:ext cx="28195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How the detective knows he or she has found the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right person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112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A description of the crime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035080"/>
            <a:ext cx="2362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Any objects or clues  found at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the scene of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the crime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76440" y="260280"/>
            <a:ext cx="114480" cy="1189080"/>
          </a:xfrm>
          <a:custGeom>
            <a:avLst/>
            <a:gdLst>
              <a:gd name="textAreaLeft" fmla="*/ 73080 w 114480"/>
              <a:gd name="textAreaRight" fmla="*/ 114840 w 114480"/>
              <a:gd name="textAreaTop" fmla="*/ 30960 h 1189080"/>
              <a:gd name="textAreaBottom" fmla="*/ 1158120 h 11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76440" y="2263680"/>
            <a:ext cx="114480" cy="792360"/>
          </a:xfrm>
          <a:custGeom>
            <a:avLst/>
            <a:gdLst>
              <a:gd name="textAreaLeft" fmla="*/ 73080 w 114480"/>
              <a:gd name="textAreaRight" fmla="*/ 114840 w 1144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3778200"/>
            <a:ext cx="114480" cy="792360"/>
          </a:xfrm>
          <a:custGeom>
            <a:avLst/>
            <a:gdLst>
              <a:gd name="textAreaLeft" fmla="*/ 73080 w 114480"/>
              <a:gd name="textAreaRight" fmla="*/ 114840 w 1144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786120"/>
            <a:ext cx="2286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A description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of the suspect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65311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5640" y="-7632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Arial"/>
              </a:rPr>
              <a:t>element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70160" y="-10008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68720" y="301680"/>
            <a:ext cx="56880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r Wang — 60-year-old man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64000" y="620640"/>
            <a:ext cx="34560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etween 9 and 12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ast night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0000" y="1197000"/>
            <a:ext cx="32400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n the doorway of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r Wang’s house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3714840"/>
            <a:ext cx="6477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uspect 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133720"/>
            <a:ext cx="428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iao Li and his wife,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r Wang’s neighbours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54920" y="2781360"/>
            <a:ext cx="20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 knife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nd a gun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6399360"/>
            <a:ext cx="6477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ingerprints on the knife ane the gun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7640" y="3716280"/>
            <a:ext cx="6476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ao Xiaoqiang 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r Wang’s neighbour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4335480"/>
            <a:ext cx="496872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 cook, 32-year-old man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njoyed playing Majiang,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nce borrowe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,000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rom Mr Wang and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idn’t return,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t home alone last night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6244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6720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3372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1968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14760" y="36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452520"/>
            <a:ext cx="3962520" cy="5948280"/>
            <a:chOff x="0" y="452520"/>
            <a:chExt cx="3962520" cy="594828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0" y="1747800"/>
              <a:ext cx="2057400" cy="19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1981080" y="1747800"/>
              <a:ext cx="192096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1828800" y="43387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 txBox="1"/>
            <p:nvPr/>
          </p:nvSpPr>
          <p:spPr>
            <a:xfrm>
              <a:off x="152280" y="452520"/>
              <a:ext cx="381024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Arial Black"/>
                </a:rPr>
                <a:t>Tom and the robber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4"/>
            <a:stretch/>
          </p:blipFill>
          <p:spPr>
            <a:xfrm>
              <a:off x="0" y="4338720"/>
              <a:ext cx="1981080" cy="206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/>
          <p:nvPr/>
        </p:nvSpPr>
        <p:spPr>
          <a:xfrm>
            <a:off x="409104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244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748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114800" y="457200"/>
            <a:ext cx="4876920" cy="5943600"/>
            <a:chOff x="4114800" y="457200"/>
            <a:chExt cx="4876920" cy="5943600"/>
          </a:xfrm>
        </p:grpSpPr>
        <p:sp>
          <p:nvSpPr>
            <p:cNvPr id="191" name=""/>
            <p:cNvSpPr txBox="1"/>
            <p:nvPr/>
          </p:nvSpPr>
          <p:spPr>
            <a:xfrm>
              <a:off x="4114800" y="5257800"/>
              <a:ext cx="48769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The mystery of the murder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5"/>
            <a:stretch/>
          </p:blipFill>
          <p:spPr>
            <a:xfrm>
              <a:off x="7010280" y="609480"/>
              <a:ext cx="171000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6"/>
            <a:stretch/>
          </p:blipFill>
          <p:spPr>
            <a:xfrm>
              <a:off x="4572000" y="2743200"/>
              <a:ext cx="197820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7"/>
            <a:stretch/>
          </p:blipFill>
          <p:spPr>
            <a:xfrm>
              <a:off x="6629400" y="2895480"/>
              <a:ext cx="2066760" cy="22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8"/>
            <a:stretch/>
          </p:blipFill>
          <p:spPr>
            <a:xfrm>
              <a:off x="4648320" y="457200"/>
              <a:ext cx="1981080" cy="2057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horz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8:26:16Z</dcterms:created>
  <dc:creator>顾一斌</dc:creator>
  <dc:description/>
  <dc:language>en-US</dc:language>
  <cp:lastModifiedBy>LuckyStar</cp:lastModifiedBy>
  <dcterms:modified xsi:type="dcterms:W3CDTF">2008-10-13T02:28:19Z</dcterms:modified>
  <cp:revision>94</cp:revision>
  <dc:subject/>
  <dc:title>Teaching  steps</dc:title>
</cp:coreProperties>
</file>