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C67-8F1E-4759-9F7D-D7E51772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3A5-5CDB-4DCD-B16C-755FDEF8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E25-4DB9-4E31-ACBA-4F88CF50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B9F-AAB0-4BBD-B96E-1D4532F3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65A-763F-4C22-A104-2CA6B26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A77-7DF0-4F13-B59B-B581806A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45F-CAED-4BC6-B398-4948F9EA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7E4-D374-4019-95E2-13BBCC29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D2B-171F-405A-8B8C-0666E241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D21-8AB5-440D-B431-ABC70E8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DC8-A147-47E3-A593-E3FBD212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E34-D99C-4C65-BD3A-B140ABFC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6A82-6980-456B-84CF-1D0BD7BDDB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1989000"/>
            <a:ext cx="2736720" cy="12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99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nit 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66ff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3860640"/>
            <a:ext cx="4535640" cy="12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eckou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06768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位证人说前一天晚上他看到一个男人闯进了那家商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witness said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人问医生他多久锻炼一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patient asked the doctor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杰克问我们是否已经抓住了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ack asked us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吉姆问我们住在上海多久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m asked us _______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620640"/>
            <a:ext cx="5867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 Narrow"/>
              </a:rPr>
              <a:t>(that)he had seen a man breaking into that shop the night befo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1878120"/>
            <a:ext cx="34290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 Narrow"/>
              </a:rPr>
              <a:t>how often he took exercise / exercis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076640"/>
            <a:ext cx="569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Arial Narrow"/>
              </a:rPr>
              <a:t>if we had caught the thief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5334120"/>
            <a:ext cx="647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zh-CN" sz="3400" spc="-1" strike="noStrike">
                <a:solidFill>
                  <a:srgbClr val="ff0000"/>
                </a:solidFill>
                <a:latin typeface="Arial Narrow"/>
              </a:rPr>
              <a:t>how long we had lived in Shanghai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100080"/>
            <a:ext cx="9144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10)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嫌疑犯说他当时不在那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he suspect said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11)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那小女孩告诉我她不敢在晚上出去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有被杀的危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he little girl told me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12)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吴先生说他侄女看到一个男人的衬衫上有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Mr Wu said his cousin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13)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物理老师说光比声音传播得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he physics teacher said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00360" y="858960"/>
            <a:ext cx="6085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he wasn’t there at tha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6320" y="1989000"/>
            <a:ext cx="51087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(that) he didn’t dare to go out at night and that there was a risk of getting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95840" y="4005360"/>
            <a:ext cx="42688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had seen a man with blood on his 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83120" y="5445000"/>
            <a:ext cx="42688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(that) light travels fast than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66960" y="1916280"/>
            <a:ext cx="72100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Share your detective stories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08000" y="69228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o murdered the computer programm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d the boss done anything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was the computer programmer going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as the suspect with blood on his shirt guil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y did he have blood on his shi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y was he ru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1096920"/>
            <a:ext cx="9144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His b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He was going to report his boss to the pol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Because he worked at the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o catch a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920" y="115920"/>
            <a:ext cx="27003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Solving crim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3228840" y="185760"/>
            <a:ext cx="56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Comic Sans MS"/>
              </a:rPr>
              <a:t>The murder in Valley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6360" y="260280"/>
            <a:ext cx="9237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interviewer asked who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 the murder in Valley Town. Detective Lu said the computer programmer’s bos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 ___ the crime. She aske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. He told her the victim’s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bo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 something against the law. He said the victim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_ him to the p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ce. She aske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 the man with blood on his shir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__________. He said the suspec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___ at all. He said the suspec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________________ at the market. He was just running to catch a b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4920" y="2602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as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guilt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19700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as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guilt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170028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why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e had done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ad done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ad wanted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to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37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if / wh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4149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ad been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involved in the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464976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ad not been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515772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ad finished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430200"/>
            <a:ext cx="9144000" cy="7288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0360" y="-10008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e can use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reported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 to talk about what someon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lse sai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 to report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51280" y="1413000"/>
            <a:ext cx="17604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( that 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3141720"/>
            <a:ext cx="3062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whether / if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87280" y="4005360"/>
            <a:ext cx="273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' wh '-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013360"/>
            <a:ext cx="79567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e do not use quotation marks (‘ ’) with reported spee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597120"/>
            <a:ext cx="950436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thief is running away,’ said Mrs 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rs Ma said 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s Jim finished his homework,’ asked Lu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ucy asked 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‘Where does Sam have lunch?’ asked Mr 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r Li asked 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‘Who will host the charity?’ asked th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y asked 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625320"/>
          <a:ext cx="8856720" cy="2889360"/>
        </p:xfrm>
        <a:graphic>
          <a:graphicData uri="http://schemas.openxmlformats.org/drawingml/2006/table">
            <a:tbl>
              <a:tblPr/>
              <a:tblGrid>
                <a:gridCol w="4248360"/>
                <a:gridCol w="46083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presen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inuo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erfec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past te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 futur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958640" y="62712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Simpl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7000" y="121284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78440" y="178920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78440" y="236520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78440" y="29383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Past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9080" y="3957480"/>
            <a:ext cx="950436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the thief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as running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if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Jim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ad finished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his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here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Sam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ad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ho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ould host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the ch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4021200"/>
            <a:ext cx="1657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4813200"/>
            <a:ext cx="792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5533920"/>
            <a:ext cx="1008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6326280"/>
            <a:ext cx="936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773440" y="44280"/>
            <a:ext cx="3238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9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ported speec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9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08000" y="433440"/>
            <a:ext cx="954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‘I am attending a meeting,’ said Mr 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r Li said 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 Sandy asked me: ‘Have you seen this film?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andy asked me 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 Mr Wang asked his wife:‘Where will you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lowers?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r Wang asked his wife 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‘We enjoy reading.’ said th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students said 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82800"/>
            <a:ext cx="950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(that)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he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was attending th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3840" y="1973160"/>
            <a:ext cx="4627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if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e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had seen this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451320"/>
            <a:ext cx="87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  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where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she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would grow fl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933800"/>
            <a:ext cx="9288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(that)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enjoy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414440"/>
            <a:ext cx="10796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2422440"/>
            <a:ext cx="7192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3862440"/>
            <a:ext cx="15112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302080"/>
            <a:ext cx="2448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11280" y="5713560"/>
            <a:ext cx="18000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从主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74920" y="5713560"/>
            <a:ext cx="1944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从宾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156360" y="5661000"/>
            <a:ext cx="1944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不变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0"/>
          <a:ext cx="7772400" cy="7854840"/>
        </p:xfrm>
        <a:graphic>
          <a:graphicData uri="http://schemas.openxmlformats.org/drawingml/2006/table">
            <a:tbl>
              <a:tblPr/>
              <a:tblGrid>
                <a:gridCol w="2057400"/>
                <a:gridCol w="5715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direct spee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Reported spee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to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this week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mo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tomo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next w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yester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last w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525d3"/>
                          </a:solidFill>
                          <a:latin typeface="Comic Sans MS"/>
                        </a:rPr>
                        <a:t>a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440" rIns="190440" tIns="285840" bIns="2286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440" marR="190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812960" y="1692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152388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882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4158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0574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895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t week/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3733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following /next 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343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following/coming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49528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day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5683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week before/ear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6216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43920" y="622440"/>
            <a:ext cx="8506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Time  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76320" y="0"/>
            <a:ext cx="922032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察问我住在哪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policemam asked me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问我格林先生是否已经从北京回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asked me 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那位陌生人问我到火车站怎么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strange man asked me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怀特太太问火车几点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rs White asked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老师问她为什么迟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teacher asked her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ere I l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981080"/>
            <a:ext cx="61722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f Mr Green had come back/      returned from Beijing.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3317760"/>
            <a:ext cx="38098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ow he could get to the railway 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537080"/>
            <a:ext cx="5715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 time the train leaves / would leave.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908680"/>
            <a:ext cx="480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y she was / had been 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7:14:39Z</dcterms:created>
  <dc:creator>顾一斌</dc:creator>
  <dc:description/>
  <dc:language>en-US</dc:language>
  <cp:lastModifiedBy>LuckyStar</cp:lastModifiedBy>
  <dcterms:modified xsi:type="dcterms:W3CDTF">2008-11-05T03:05:01Z</dcterms:modified>
  <cp:revision>3</cp:revision>
  <dc:subject/>
  <dc:title>幻灯片 1</dc:title>
</cp:coreProperties>
</file>