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F98-4993-4FF1-87A3-FA56C3E7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762-A319-4E21-B469-56C1508B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566-02D3-475B-BAE5-E426505F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31A-DC25-44D8-B335-24743F2D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B42-2947-4F8A-9FEE-0A893E78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588-18BA-432A-8372-BB5DFB1E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5FE-A319-4910-8894-36936B62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5ED-7B93-444C-8DA5-11E5EBE8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3A8-8327-46D4-AAF1-71908113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08D-354C-4BBC-8FFD-3CD96260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5D2-AD91-4545-8FD2-FB1257C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CFF-9347-499C-A2F5-026368E9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63AB-12D6-4323-B06C-3FB39A074E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9A Unit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imes New Roman"/>
              </a:rPr>
              <a:t>Integrated ski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256536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ff"/>
                </a:solidFill>
                <a:latin typeface="Comic Sans MS"/>
              </a:rPr>
              <a:t>Who do you think kidnapped Guan Fe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ff"/>
                </a:solidFill>
                <a:latin typeface="Comic Sans MS"/>
              </a:rPr>
              <a:t>Wh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11280" y="4581360"/>
            <a:ext cx="849600" cy="93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740720" y="3429000"/>
            <a:ext cx="849240" cy="936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050920" y="1125360"/>
            <a:ext cx="4032360" cy="115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cc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ke a discussion</a:t>
            </a:r>
            <a:endParaRPr b="0" lang="en-US" sz="2400" spc="1" strike="noStrike">
              <a:ln w="25560">
                <a:solidFill>
                  <a:srgbClr val="00cc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Listen &amp;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2637000"/>
            <a:ext cx="79218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Policeman Li think Wang Gang is involved in the ca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Speak up: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Who is the kidnap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2997360"/>
            <a:ext cx="8317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lk about the two suspects in pai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Detective Lu and Policeman Li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sation as a mod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333360"/>
            <a:ext cx="60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  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The kidnap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97000"/>
            <a:ext cx="9290160" cy="5213160"/>
          </a:xfrm>
          <a:prstGeom prst="rect">
            <a:avLst/>
          </a:prstGeom>
          <a:solidFill>
            <a:srgbClr val="99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idn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ictim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uan Fei — four-year-old bo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n of  Guan Dawei,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illio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out one metre tall, with short, black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earing a red T-shirt, blue trousers an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rown j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ast see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t 7 p.m. at his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rime happened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etween 7 p.m. and 8 p.m. on 28th Octo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spects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* Wang Gang  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riminal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* Xie Yiming — six months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is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for th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243000"/>
            <a:ext cx="77724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Read and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108000" y="691920"/>
            <a:ext cx="91440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was kidnapp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his father very r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as Guan Fei wearing when he was kidnapp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did the kidnapping happ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are the suspe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ang Gang have any criminal record? What about Xie Yim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916280"/>
            <a:ext cx="511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600" y="9158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Guan Fei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4400" y="4653000"/>
            <a:ext cx="62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Wang Gang and Xie Yi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240" y="1635120"/>
            <a:ext cx="52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Yes, he is a milliona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550960"/>
            <a:ext cx="8785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e was wearing a red T-shirt, blue trousers and a brown jac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3701880"/>
            <a:ext cx="8785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t happened between 7 a.m. and 8 p.m. on 28th Octo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935680"/>
            <a:ext cx="7777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No, he didn’t. But Xie Yiming was in prison for theft for six mon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144360"/>
            <a:ext cx="4427640" cy="6524640"/>
          </a:xfrm>
          <a:prstGeom prst="rect">
            <a:avLst/>
          </a:prstGeom>
          <a:solidFill>
            <a:srgbClr val="99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uspec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 :(1)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cupation:(2)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n Guan Dawei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he know Guan Fei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minal recor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5)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he go to the Guan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use on 2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cto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6)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7 p.m. on 28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tober, he was (7) 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65080" y="47628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Wang Ga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0360" y="3645000"/>
            <a:ext cx="102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06920" y="171360"/>
            <a:ext cx="4573440" cy="6497640"/>
          </a:xfrm>
          <a:prstGeom prst="rect">
            <a:avLst/>
          </a:prstGeom>
          <a:solidFill>
            <a:srgbClr val="99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uspec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 :    (8)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cupation: hairdres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n Guan Dawei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9)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she know Guan F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0)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minal record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1)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she go to the Guan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use on 28th Octo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2)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7 p.m. on 2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tober, she was (13) 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39200" y="47628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Xie Yi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37242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Y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76000" y="189000"/>
            <a:ext cx="5832360" cy="6524640"/>
          </a:xfrm>
          <a:prstGeom prst="rect">
            <a:avLst/>
          </a:prstGeom>
          <a:solidFill>
            <a:srgbClr val="99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uspec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cup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n Guan Dawei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he know Guan Fei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minal record ? (5)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he go to the Guan’s ho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28th Octo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6)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7 p.m. on 28th October,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(7) 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33560" y="55548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Wang Ga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58400" y="98748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post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44720" y="198900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out seven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8760" y="299736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37800" y="3357720"/>
            <a:ext cx="102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49400" y="4941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6093000"/>
            <a:ext cx="482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t his sister’s wed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618920" y="217440"/>
            <a:ext cx="6264360" cy="6524640"/>
          </a:xfrm>
          <a:prstGeom prst="rect">
            <a:avLst/>
          </a:prstGeom>
          <a:solidFill>
            <a:srgbClr val="99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uspec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 :            (8)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cupation:   hairdres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n Guan Dawei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9)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she know Guan Fei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0)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minal record ? (11)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she go to the Guan’s ho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28th Octo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2)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7 p.m. on 28th October, she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3) 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6480" y="62244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Xie Yi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97080" y="19969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lmost two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57440" y="30700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Y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87840" y="37465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25720" y="3430440"/>
            <a:ext cx="103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Yes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2720" y="49500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Y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84640" y="595800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eaving Mr. Guan’s 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55640" y="1052640"/>
            <a:ext cx="748980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Read through the profiles.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577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member as much information as you c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6093000"/>
            <a:ext cx="2448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04920" y="-100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89080" y="33300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What does Wang Gang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How long has he known Guan Dawei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He doesn’t know Guang Fei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Where was he at 7 p.m. on 2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cto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What is Xie Yiming’s jo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How long has she known Gu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What was she doing at 7 p.m. on 28th Octob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Did the two suspects go go Mr. Guan’s house on 28th Octo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4756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e is a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postman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3357720"/>
            <a:ext cx="367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20" y="1339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e has known him for about seve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2720" y="292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e was at his sister’s wed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6320" y="2117880"/>
            <a:ext cx="30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o, he does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5400" y="3645000"/>
            <a:ext cx="41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he is a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hairdresser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2720" y="44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he has known him for almost two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551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he was leaving Mr. Guan’s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6381720"/>
            <a:ext cx="15127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5120" y="630540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Yes, they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97080" y="115560"/>
            <a:ext cx="972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 betwe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, Guan Dawei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, Guan Fei was kidnapped. The victim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 ________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ld and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 tall. He was wearing a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T-shirt, bl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 and a brow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2400" y="-10008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7 p.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5800" y="-2844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8 p.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50000" y="33192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3440" y="77004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four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2160" y="105876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ne met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69440" y="105084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2000" y="148284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ro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7800" y="14176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ja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360360" y="2130480"/>
            <a:ext cx="96123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first suspec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____ . H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_ and has known Guan Dawei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____. However , 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 know the boy who was kidnapped . He went to Mr Guan’s house on the morn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3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, But in the evening he was at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4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04800" y="2035080"/>
            <a:ext cx="26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Wang Gang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5600" y="234936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post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440" y="271620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out 7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78160" y="270828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es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86064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cto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365720"/>
            <a:ext cx="40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is sister’swed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396720" y="4867200"/>
            <a:ext cx="9721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second suspec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. Sh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6)_________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has known Guan Dawei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. S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8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 the boy who was kidnapped .She went to Guan’s house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 October, and left the house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05800" y="474804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Xie Yi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640" y="510552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airdres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5680" y="5468760"/>
            <a:ext cx="29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lmost 2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87160" y="54640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kn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480" y="61848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8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28000" y="6234120"/>
            <a:ext cx="125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7 p.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顾一斌</dc:creator>
  <dc:description/>
  <dc:language>en-US</dc:language>
  <cp:lastModifiedBy>LuckyStar</cp:lastModifiedBy>
  <dcterms:modified xsi:type="dcterms:W3CDTF">2008-11-05T03:53:06Z</dcterms:modified>
  <cp:revision>47</cp:revision>
  <dc:subject/>
  <dc:title>PowerPoint Presentation</dc:title>
</cp:coreProperties>
</file>