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23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676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676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23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4223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4223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AC4-585B-4944-B89B-6ACFD4F9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65D-0BCB-4242-BA10-AAC0470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D6E-32ED-45E7-8CB2-B79EABE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E2F-B372-479E-8D0F-AB53AA8D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1F0-F470-47BE-815B-21B066F6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71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B62-FD26-4B87-B023-DC16DD3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828-2E9B-40FD-87DA-BF47675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772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846-7BA2-433D-81B9-9ABDAF8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23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D4B-17A3-4865-B656-8F7F8F8D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23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1FB-1795-4208-A74C-2A4ABBD6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772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D2B-8C51-4021-9862-9F3A2D64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39720" y="1676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3640" y="1676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23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39720" y="4223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3640" y="4223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38B-C310-4C8A-B864-543E6ADA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71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4223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23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-720"/>
            <a:ext cx="9144000" cy="15238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72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CB1-8796-4044-BEC3-F7AA801C053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914400" algn="ctr">
              <a:spcBef>
                <a:spcPts val="70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3" marL="1371600" algn="ctr">
              <a:spcBef>
                <a:spcPts val="70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4" marL="1828800" algn="ctr">
              <a:spcBef>
                <a:spcPts val="70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xpmy@163.com" TargetMode="External"/><Relationship Id="rId2" Type="http://schemas.openxmlformats.org/officeDocument/2006/relationships/hyperlink" Target="mailto:cxpmy@163.com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9051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</a:rPr>
              <a:t>信息技术与语文课程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黑体"/>
              </a:rPr>
              <a:t>的整合</a:t>
            </a:r>
            <a:br>
              <a:rPr sz="6000"/>
            </a:br>
            <a:endParaRPr b="1" lang="en-US" sz="6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358092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陈小平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常州市勤业中学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E-mail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cxpmy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163.com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                                           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jzcxp@163.czedu.gov.cn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002-08-28    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31A-5BDC-4BF0-9EDD-67F5E0241D82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研究原则：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8380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、主体性原则。在本课题研究总体理论框架的指导下，积极参与研究，使他们不再仅仅满足于教育实践的成功，能够自觉主动地运用不同的教育手段进行尝试，力争在课堂上为学生提供更多的知识信息，同时学会运用信息技术进行自主学习、合作学习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、立体性原则。信息技术与语文课程的整合，必须多方位、多层次、多角度地进行，要不拘一格，形成研究领域的多元化、组成结构合理化。具体体现在：①在研究的层次和侧面分布上，要体现出“纵向呈梯度、横向有侧重”；②研究方法多种多样，理论研究、实践研究以及二者结合进行；③研究对象兼顾语文学科的各个方面，逐步扩展到第二课堂；④研究内容丰富多彩，使课堂模式、课程改革、教材教法、练习设计、习作导评等内容进一步优化，同时为学校的常规管理和德育工作的研究提供条件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15238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、科学性原则。全组成员必须以丰富的知识和科学的理论为指导，克服形式主义，扎扎实实以科学态度和方法对待研究过程中所遇到的问题，努力控制无关因子的干扰，确保研究成果经得起科学的验证。 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838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四、研究的措施和步骤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60020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（一）措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、学习现代教育理论，开展现代教育技术培训，提高思想认识和理论水平，关注学生的信息素养和学习能力等水平，实现对课题研究的有力支撑和监督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、注意研究过程中的形成性评价，及时反馈信息，正确调控研究过程，加强研究资料的建档、积累、整理和分析，不断总结研究经验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、注重学习环境建设，建立平等民主的新型师生关系，加强师生之间及学校与家庭的联系，创造和谐的教育研究氛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、建立研究活动制度、阶段评价制度、考核制度、总结交流制度、资料收集制度、奖励制度等，及时检查研究效果。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9368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（二）步骤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本课题计划历时三年，分四个阶段进行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第一阶段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(2002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——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002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准备阶段。制定实施方案，申报课题，成立课题实验组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第二阶段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(2002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——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003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理论学习和实践探索阶段。进行教师现代教育技术理论和技能的学习培训，制定研究评价方案，并检测阶段研究成效，分析实验效因，请专家指导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第三阶段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(2003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——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004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深入研究阶段。全面开展深入研究，进行后测及归因分析，收集实验教案、课例、课件、学习资源和活动方案，撰写研究论文，总结阶段成果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第四阶段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(2004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——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004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对课题研究进行总结测评，撰写实验报告，汇集并展示研究成果，接受验收。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课题研究的几个基本要素</a:t>
            </a:r>
            <a:endParaRPr b="1" lang="en-US" sz="4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黑体"/>
              </a:rPr>
              <a:t>一、信息技术与语文课程整合的基本思想</a:t>
            </a:r>
            <a:endParaRPr b="1" lang="en-US" sz="36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黑体"/>
              </a:rPr>
              <a:t>二、信息技术与语文课程整合的基本要求</a:t>
            </a:r>
            <a:endParaRPr b="1" lang="en-US" sz="36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Times New Roman"/>
                <a:ea typeface="黑体"/>
              </a:rPr>
              <a:t>三、信息技术与语文课程整合的基本策略</a:t>
            </a:r>
            <a:endParaRPr b="1" lang="en-US" sz="36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黑体"/>
              </a:rPr>
              <a:t>四、信息技术</a:t>
            </a:r>
            <a:r>
              <a:rPr b="0" lang="zh-CN" sz="3600" spc="-1" strike="noStrike">
                <a:solidFill>
                  <a:srgbClr val="1c1c1c"/>
                </a:solidFill>
                <a:latin typeface="Times New Roman"/>
                <a:ea typeface="黑体"/>
              </a:rPr>
              <a:t>与语文</a:t>
            </a: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黑体"/>
              </a:rPr>
              <a:t>课程整合的基本方式</a:t>
            </a:r>
            <a:endParaRPr b="1" lang="en-US" sz="36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黑体"/>
              </a:rPr>
              <a:t>五、信息技术与</a:t>
            </a:r>
            <a:r>
              <a:rPr b="0" lang="zh-CN" sz="3600" spc="-1" strike="noStrike">
                <a:solidFill>
                  <a:srgbClr val="1c1c1c"/>
                </a:solidFill>
                <a:latin typeface="Times New Roman"/>
                <a:ea typeface="黑体"/>
              </a:rPr>
              <a:t>语文</a:t>
            </a: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黑体"/>
              </a:rPr>
              <a:t>课程整合的教学设计</a:t>
            </a:r>
            <a:endParaRPr b="1" lang="en-US" sz="3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892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一、信息技术与课程整合的基本思想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60040"/>
            <a:ext cx="78487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信息技术与语文课程整合是指在课程教学过程中把信息技术、信息资源、信息方法、人力资源和课程内容有机结合，共同完成课程教学任务的一种新型的教学方式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仿宋_GB2312"/>
              </a:rPr>
              <a:t>信息技术与语文课程整合的要素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信息技术应用（学习支持环境）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信息资源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信息方法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人力资源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语文课程内容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(1)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语文信息化的学习支持环境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黑体"/>
              </a:rPr>
              <a:t>学校学习支持系统（校园网络系统）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语文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课堂学习环境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1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多媒体演示型教学系统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1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多媒体网络教室系统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Web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教室（多媒体网络教室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因特网）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语文课外学习环境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1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电子阅览室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SzPct val="1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多媒体工作室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黑体"/>
              </a:rPr>
              <a:t>地区性学习支持系统（地区教育信息系统）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黑体"/>
              </a:rPr>
              <a:t>现代远程教育系统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548640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基础设施（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CERNET\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城域网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\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校园网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191120"/>
            <a:ext cx="1676520" cy="459720"/>
          </a:xfrm>
          <a:prstGeom prst="rect">
            <a:avLst/>
          </a:prstGeom>
          <a:solidFill>
            <a:srgbClr val="66ff66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809880"/>
            <a:ext cx="1523880" cy="13716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资源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191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191120"/>
            <a:ext cx="1676520" cy="459720"/>
          </a:xfrm>
          <a:prstGeom prst="rect">
            <a:avLst/>
          </a:prstGeom>
          <a:solidFill>
            <a:srgbClr val="66ff66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4648320"/>
            <a:ext cx="0" cy="83808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648320"/>
            <a:ext cx="0" cy="83808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419720"/>
            <a:ext cx="609480" cy="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495680"/>
            <a:ext cx="457200" cy="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0"/>
            <a:ext cx="2133720" cy="459720"/>
          </a:xfrm>
          <a:prstGeom prst="rect">
            <a:avLst/>
          </a:prstGeom>
          <a:solidFill>
            <a:srgbClr val="cccc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学习者界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286000"/>
            <a:ext cx="1905120" cy="459720"/>
          </a:xfrm>
          <a:prstGeom prst="rect">
            <a:avLst/>
          </a:prstGeom>
          <a:solidFill>
            <a:srgbClr val="cccc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学习者界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514600"/>
            <a:ext cx="2666880" cy="0"/>
          </a:xfrm>
          <a:prstGeom prst="line">
            <a:avLst/>
          </a:prstGeom>
          <a:ln w="381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971800"/>
            <a:ext cx="8153280" cy="762120"/>
          </a:xfrm>
          <a:prstGeom prst="ellipse">
            <a:avLst/>
          </a:prstGeom>
          <a:noFill/>
          <a:ln w="381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学习空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438280" y="27432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5720" y="27432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762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语文信息化的学习支持环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828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ahoma"/>
              </a:rPr>
              <a:t>通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仿宋_GB2312"/>
              </a:rPr>
              <a:t>语文信息化学习支持环境的特点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环境的开放性，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</a:rPr>
              <a:t>为学校和教室提供与外部世界相联系的通道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资源的共享性，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为学习者提供的多样化，可全球共享的数字化学习材料和学习对象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界面的人本性，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为学习者展现可以个性化选择的学习界面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过程的协作性，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</a:rPr>
              <a:t>为学习者提供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进行远程协商讨论通讯手段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识学习的重构性，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为学习者提供进行知识构建、创造实践，解决问题的学习工具。 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教育部决定，从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2001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年起用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至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年左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右时间在全国中小学基本普及信息技术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教育，全面实施“校校通”工程，以信息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化带动教育的现代化，努力实现基础教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育跨越式的发展。”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——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教育部长  陈至立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</a:rPr>
              <a:t>(2)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</a:rPr>
              <a:t>语文信息化学习资源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语文</a:t>
            </a:r>
            <a:r>
              <a:rPr b="1" lang="zh-CN" sz="28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信息化资源是指经过数字化处理，可以在多媒体计算机上或网络环境下运行的，可以实现共享多媒体学习材料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特点：</a:t>
            </a:r>
            <a:r>
              <a:rPr b="1" lang="zh-CN" sz="24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多样性——多媒体集成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/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超文本结构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/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            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友好交互界面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/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虚拟仿真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共享性——在网络环境下可以全球共享并随意获取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扩展性——可以在原有基础上补充、扩展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5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对语文课程教学内容进行信息化处理</a:t>
            </a:r>
            <a:br>
              <a:rPr sz="3600"/>
            </a:br>
            <a:r>
              <a:rPr b="1" lang="zh-CN" sz="36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使之成为学习者的学习资源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三层意思：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）利用共享资源与语文课程内容融合在一起直接作为学习对象，供学生进行评议、分析、讨论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）利用共享资源，经过选择，作为语文课程教学的素材资源，整合到学习者的课程学习中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）作为语文课程学习成果，组织学生以专题作品形式进行创作，把语文课程学习内容转化为信息化的学习资源，并提供给学习者共享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;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(3)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语文信息化学习方式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资源利用的学习，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即利用语文数字化资源进行                       情境探究学习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主发现的学习，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借助语文资源，依赖自主发     现、探索性的学习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协商合作的学习，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利用网络通讯，进行合作式、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讨论式的学习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实践创造的学习，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使用信息工具，进行创新性、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                        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实践性的问题解决学习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）人力资源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具有信息素养的教师群体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观念更新，了解现代教育思想和理论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掌握信息技术教学应用的技能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掌握教学设计和教育科学研究的方法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）语文课程内容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ahoma"/>
              </a:rPr>
              <a:t>依据教育部语文课程标准制定课程教学目标、教学计划和课程改革实施方案。</a:t>
            </a:r>
            <a:endParaRPr b="1" lang="en-US" sz="3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2819520"/>
            <a:ext cx="2514600" cy="24382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58128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台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资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工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8480" y="1752480"/>
            <a:ext cx="990720" cy="914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1320" y="3581280"/>
            <a:ext cx="990360" cy="914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038480" y="5638680"/>
            <a:ext cx="990720" cy="914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124080" y="2514240"/>
            <a:ext cx="990720" cy="68580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038480"/>
            <a:ext cx="2209680" cy="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800600"/>
            <a:ext cx="914400" cy="91440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666880"/>
            <a:ext cx="0" cy="289584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514600"/>
            <a:ext cx="1066680" cy="106668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52880" y="4495680"/>
            <a:ext cx="1067040" cy="1219320"/>
          </a:xfrm>
          <a:prstGeom prst="line">
            <a:avLst/>
          </a:prstGeom>
          <a:ln w="381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ahoma"/>
                <a:ea typeface="黑体"/>
              </a:rPr>
              <a:t>信息技术与语文课程整合中的教与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4800600"/>
            <a:ext cx="3047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收集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利用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发现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创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展示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楷体_GB2312"/>
              </a:rPr>
              <a:t>讨论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楷体_GB2312"/>
              </a:rPr>
              <a:t>合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仿宋_GB2312"/>
              </a:rPr>
              <a:t>教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1981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仿宋_GB2312"/>
              </a:rPr>
              <a:t>学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352680" y="2362320"/>
            <a:ext cx="2514600" cy="24382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2667240" cy="2438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3352680"/>
            <a:ext cx="2590560" cy="243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858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仿宋_GB2312"/>
              </a:rPr>
              <a:t>信息技术与语文课程整合扩大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仿宋_GB2312"/>
              </a:rPr>
              <a:t>学习的空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6095880"/>
            <a:ext cx="6477120" cy="459720"/>
          </a:xfrm>
          <a:prstGeom prst="rect">
            <a:avLst/>
          </a:prstGeom>
          <a:solidFill>
            <a:srgbClr val="ffcf01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语文信息化学习资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438280" y="5638680"/>
            <a:ext cx="0" cy="45720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95680" y="5715000"/>
            <a:ext cx="0" cy="38088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5638680"/>
            <a:ext cx="0" cy="45720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43828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情境探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学习空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4197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个别自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学习空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495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协商讨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学习空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41960" y="46483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00" y="837720"/>
            <a:ext cx="871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仿宋_GB2312"/>
              </a:rPr>
              <a:t>信息技术与语文课程整合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仿宋_GB2312"/>
              </a:rPr>
              <a:t>是一个综合学习过程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362320"/>
            <a:ext cx="6369120" cy="3733560"/>
          </a:xfrm>
          <a:prstGeom prst="ellipse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968400"/>
            <a:ext cx="68580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1905120"/>
            <a:ext cx="3505320" cy="1447560"/>
          </a:xfrm>
          <a:prstGeom prst="ellipse">
            <a:avLst/>
          </a:prstGeom>
          <a:solidFill>
            <a:srgbClr val="00ff99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继承性学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（信息获取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419720"/>
            <a:ext cx="3429000" cy="15192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批判性学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（信息分析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495680"/>
            <a:ext cx="3047760" cy="136692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创造性学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（信息重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3809880"/>
            <a:ext cx="47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综合学习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仿宋_GB2312"/>
              </a:rPr>
              <a:t>信息技术与语文课程整合的基本思想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信息环境：</a:t>
            </a:r>
            <a:r>
              <a:rPr b="1" lang="zh-CN" sz="2800" spc="-1" strike="noStrike">
                <a:solidFill>
                  <a:srgbClr val="010000"/>
                </a:solidFill>
                <a:latin typeface="楷体_GB2312"/>
              </a:rPr>
              <a:t>要在以多媒体和网络为基础的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楷体_GB2312"/>
              </a:rPr>
              <a:t>             </a:t>
            </a:r>
            <a:r>
              <a:rPr b="1" lang="zh-CN" sz="2800" spc="-1" strike="noStrike">
                <a:solidFill>
                  <a:srgbClr val="010000"/>
                </a:solidFill>
                <a:latin typeface="楷体_GB2312"/>
              </a:rPr>
              <a:t>息化环境实施语文课程教学活动</a:t>
            </a:r>
            <a:r>
              <a:rPr b="1" lang="zh-CN" sz="2800" spc="-1" strike="noStrike">
                <a:solidFill>
                  <a:srgbClr val="010000"/>
                </a:solidFill>
                <a:latin typeface="楷体_GB2312"/>
              </a:rPr>
              <a:t>;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资源利用：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充分利用语文信息资源，并对语文课程教学内容进行信息化处理，使之成 为学习者的学习资源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;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自主探究：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指导学生利用语文资源探究发现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协商讨论：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充分利用通讯工具发表交流意见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黑体"/>
              </a:rPr>
              <a:t>知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构：</a:t>
            </a:r>
            <a:r>
              <a:rPr b="1" lang="zh-CN" sz="2800" spc="-1" strike="noStrike">
                <a:solidFill>
                  <a:srgbClr val="010000"/>
                </a:solidFill>
                <a:latin typeface="楷体_GB2312"/>
              </a:rPr>
              <a:t>利用信息加工工具让学生知识重构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400" y="8377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Unicode MS"/>
              </a:rPr>
              <a:t>二、信息技术与语文课程整合的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 Unicode MS"/>
              </a:rPr>
              <a:t>基本要求</a:t>
            </a:r>
            <a:r>
              <a:rPr b="1" lang="zh-CN" sz="4400" spc="-1" strike="noStrike">
                <a:solidFill>
                  <a:srgbClr val="ff0000"/>
                </a:solidFill>
                <a:latin typeface="Arial Unicode MS"/>
              </a:rPr>
              <a:t>   </a:t>
            </a: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83059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 Unicode MS"/>
              </a:rPr>
              <a:t>目标定位于知识学习与创新能力的培养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 Unicode MS"/>
              </a:rPr>
              <a:t>教学结构体现学生为主体、</a:t>
            </a:r>
            <a:br>
              <a:rPr sz="2800"/>
            </a:br>
            <a:r>
              <a:rPr b="1" lang="zh-CN" sz="2800" spc="-1" strike="noStrike">
                <a:solidFill>
                  <a:srgbClr val="1c1c1c"/>
                </a:solidFill>
                <a:latin typeface="Arial Unicode MS"/>
              </a:rPr>
              <a:t>     教师组织、引导、帮助、促进的作用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 Unicode MS"/>
              </a:rPr>
              <a:t>信息技术作为学生学习的认知工具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 Unicode MS"/>
              </a:rPr>
              <a:t>学习方式要以主题为中心，以任务来驱动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 Unicode MS"/>
              </a:rPr>
              <a:t>学习过程要把自主探究学习与协作学习和谐统一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学习结果能够具有创造性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要努力推进信息技术与其他学科教学的整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合，鼓励在其他学科的教学中广泛应用信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息技术手段，并把信息技术教育融合在其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他学科的学习中。各地要积极创造条件，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逐步实现多媒体教学进入每一间教室，积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极探索信息技术教育与其他学科教学的整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合。” 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教育部长  陈至立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目标定位：知识学习与创新能力培养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必须给教育确定新的目标，必须改变人们对教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育作用的看法，扩大了的教育观念应该使每个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人都发现、发挥和加强自己的创造能力，应有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助于挖掘隐藏在我们每个人身上的财富。”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仿宋_GB2312"/>
              </a:rPr>
              <a:t>联合国教科文组织教育文献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仿宋_GB2312"/>
              </a:rPr>
              <a:t>《教育——财富蕴藏其中》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仿宋_GB2312"/>
              </a:rPr>
              <a:t>创新精神和实践能力的培养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培养创新意识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培养创造思维能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敏锐观察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求异思想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丰富联想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个性化知识结构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培养创新实践能力，利用信息工具创造作品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培养创新品格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学生创新能力的体现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能自觉发现社会需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能根据需要，自我制定学习目标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能自我规划、自我管理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能自主寻找实现目标的途径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教学结构体现学生为主体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教师组织、引导、帮助、促进的作用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仿宋_GB2312"/>
              </a:rPr>
              <a:t>信息技术与课程整合中学生的主体地位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</a:rPr>
              <a:t>学习问题的发现者和探究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</a:rPr>
              <a:t>协作活动的参与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</a:rPr>
              <a:t>学习问题的解决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</a:rPr>
              <a:t>知识的意义建构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信息技术与课语文程整合中教师的作用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有意义问题的设计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信息海洋的导航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情境观察的指导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</a:rPr>
              <a:t>学生学习过程的辅导者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信息技术作为学生学习的认知工具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利用网络技术作为学习内容和学习资源的获取工具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利用多媒体与网络的情境创设功能作为情境探究和发现学习工具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利用网络的通讯功能作为协商学习和讨论学习的工具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利用网络中的信息平台作为知识构建和创作实践工具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利用网络中的测评系统作为自我评测和学习反馈工具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学习方式要以主题为中心，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以任务来驱动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把语文课程学习内容联系生活和社会，综合其它学科的知识，提出各种问题并形成主题任务，进行任务驱动式教学；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把学生置于发现问题，提出问题、思考问题、探究问提，解决问题的动态过程中学习。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1523880"/>
            <a:ext cx="8486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信息技术与语文课程整合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基本策略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017800"/>
            <a:ext cx="845820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楷体_GB2312"/>
              </a:rPr>
              <a:t>创设情境，观察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楷体_GB2312"/>
              </a:rPr>
              <a:t>利用资源，自主探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楷体_GB2312"/>
              </a:rPr>
              <a:t>虚拟实验，科学探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楷体_GB2312"/>
              </a:rPr>
              <a:t>网络通讯，协商学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楷体_GB2312"/>
              </a:rPr>
              <a:t>语文表述，意义建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楷体_GB2312"/>
              </a:rPr>
              <a:t>创作实践，知识重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楷体_GB2312"/>
              </a:rPr>
              <a:t>网上评测，自我评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617400"/>
            <a:ext cx="8486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四、信息技术与语文课程整合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基本方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2057400"/>
          <a:ext cx="8458200" cy="4191120"/>
        </p:xfrm>
        <a:graphic>
          <a:graphicData uri="http://schemas.openxmlformats.org/drawingml/2006/table">
            <a:tbl>
              <a:tblPr/>
              <a:tblGrid>
                <a:gridCol w="1905120"/>
                <a:gridCol w="2057400"/>
                <a:gridCol w="449568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黑体"/>
                        </a:rPr>
                        <a:t>L-about 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把</a:t>
                      </a: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  <a:ea typeface="楷体_GB2312"/>
                        </a:rPr>
                        <a:t>IT</a:t>
                      </a: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作为学习对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IT</a:t>
                      </a: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课程教学中引入其他学科课程知识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黑体"/>
                        </a:rPr>
                        <a:t>L-from 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把</a:t>
                      </a: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  <a:ea typeface="楷体_GB2312"/>
                        </a:rPr>
                        <a:t>IT</a:t>
                      </a: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作为教学辅助工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基于课堂的情境探究模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863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黑体"/>
                        </a:rPr>
                        <a:t>L-with 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把</a:t>
                      </a: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  <a:ea typeface="楷体_GB2312"/>
                        </a:rPr>
                        <a:t>IT</a:t>
                      </a: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作为学习认知工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基于建构主义的自主学习模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基于网络的研究性学习模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基于英特网的远程协作学习模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62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基于专题研究的开发性学习模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信息化环境下语文学习的基本方式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基于新课程的“情境探究”模式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仿宋_GB2312"/>
              </a:rPr>
              <a:t>基于建构主义的自主学习模式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基于网络的研究性学习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基于英特网的校际远程协作学习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仿宋_GB2312"/>
              </a:rPr>
              <a:t>基于英特网的校际远程协作学习模式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3520" y="617400"/>
            <a:ext cx="84103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仿宋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仿宋_GB2312"/>
              </a:rPr>
              <a:t>）基于语文课堂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仿宋_GB2312"/>
              </a:rPr>
              <a:t>情境探究”学习模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3640" y="26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330280"/>
            <a:ext cx="914400" cy="825480"/>
          </a:xfrm>
          <a:prstGeom prst="rect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情境资源共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2362320"/>
            <a:ext cx="838080" cy="825480"/>
          </a:xfrm>
          <a:prstGeom prst="rect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问题呈现工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2362320"/>
            <a:ext cx="838080" cy="825480"/>
          </a:xfrm>
          <a:prstGeom prst="rect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资源操作展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2362320"/>
            <a:ext cx="838440" cy="825480"/>
          </a:xfrm>
          <a:prstGeom prst="rect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信息加工工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2362320"/>
            <a:ext cx="838080" cy="1191240"/>
          </a:xfrm>
          <a:prstGeom prst="rect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自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评测工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86000"/>
            <a:ext cx="68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情境探究教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95360" y="3916440"/>
            <a:ext cx="549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32080" y="18288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信息技术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3962520"/>
            <a:ext cx="1066680" cy="990360"/>
          </a:xfrm>
          <a:prstGeom prst="ellipse">
            <a:avLst/>
          </a:prstGeom>
          <a:solidFill>
            <a:srgbClr val="ccff33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4038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个案情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3962520"/>
            <a:ext cx="1067040" cy="990360"/>
          </a:xfrm>
          <a:prstGeom prst="ellipse">
            <a:avLst/>
          </a:prstGeom>
          <a:solidFill>
            <a:srgbClr val="ccff33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962520"/>
            <a:ext cx="1066680" cy="990360"/>
          </a:xfrm>
          <a:prstGeom prst="ellipse">
            <a:avLst/>
          </a:prstGeom>
          <a:solidFill>
            <a:srgbClr val="ccff33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3962520"/>
            <a:ext cx="1066680" cy="990360"/>
          </a:xfrm>
          <a:prstGeom prst="ellipse">
            <a:avLst/>
          </a:prstGeom>
          <a:solidFill>
            <a:srgbClr val="ccff33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3962520"/>
            <a:ext cx="1067040" cy="990360"/>
          </a:xfrm>
          <a:prstGeom prst="ellipse">
            <a:avLst/>
          </a:prstGeom>
          <a:solidFill>
            <a:srgbClr val="ccff33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提出问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思考探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4038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意义建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4038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自我评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5812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35812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5812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952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课程教学过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85800" y="2895480"/>
            <a:ext cx="38088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895480"/>
            <a:ext cx="0" cy="160020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495680"/>
            <a:ext cx="30492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3200400"/>
            <a:ext cx="533520" cy="825480"/>
          </a:xfrm>
          <a:prstGeom prst="rect">
            <a:avLst/>
          </a:prstGeom>
          <a:solidFill>
            <a:srgbClr val="ff00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4419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53280" y="3657600"/>
            <a:ext cx="22860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153280" y="2971440"/>
            <a:ext cx="0" cy="68580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53280" y="3657600"/>
            <a:ext cx="0" cy="76212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848720" y="4419720"/>
            <a:ext cx="30456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696080" y="2971800"/>
            <a:ext cx="45720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495680"/>
            <a:ext cx="38088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4495680"/>
            <a:ext cx="38088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4495680"/>
            <a:ext cx="38124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4495680"/>
            <a:ext cx="38088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2895480"/>
            <a:ext cx="53352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971800"/>
            <a:ext cx="60984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971800"/>
            <a:ext cx="60948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8380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762120"/>
            <a:ext cx="79250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语文课程标准指出：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现代社会要求公民具备良好的人文素养，具备创新精神、合作意识和开放的视野，具备包括阅读理解与表达交流在内的多方面的能力，以及运用现代教育技术搜集和处理信息的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应拓宽语文学习和运用的领域，注重跨学科的学习和现代科技手段的运用，使学生在不同内容和方法的相互交叉、渗透和整合中开阔视野，提高学习效率，初步获得现代社会所需要的语文实践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基于建构主义的自主学习模式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围绕“概念框架”进行的支架式自主学习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围绕“真实问题”进行的抛锚式自主学习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围绕“事物多面性”进行的随机进入式自主学习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仿宋_GB2312"/>
              </a:rPr>
              <a:t>）基于网络的语文研究性学习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80880" y="1447920"/>
          <a:ext cx="8382240" cy="5135400"/>
        </p:xfrm>
        <a:graphic>
          <a:graphicData uri="http://schemas.openxmlformats.org/drawingml/2006/table">
            <a:tbl>
              <a:tblPr/>
              <a:tblGrid>
                <a:gridCol w="2133720"/>
                <a:gridCol w="3200400"/>
                <a:gridCol w="304812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黑体"/>
                        </a:rPr>
                        <a:t>比较项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黑体"/>
                        </a:rPr>
                        <a:t>课堂接受性学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黑体"/>
                        </a:rPr>
                        <a:t>在线研究性学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学习过程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中心线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以“知识”为线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以“问题”为线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学习活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关注的中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系统知识、操作技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生活实践、智慧体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学习的环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与资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课堂环境、情境展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练习材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网络环境，问题情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共享资源，研究工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学习的过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导入情境、传授知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练习验证，复习巩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情境体验，明晰问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探索研究，总结发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学习者的活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明确任务，接受讲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使用验证，总结巩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选择目标，收集资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Tahoma"/>
                          <a:ea typeface="楷体_GB2312"/>
                        </a:rPr>
                        <a:t>分析整合，自主建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76720" y="1143000"/>
            <a:ext cx="2057400" cy="4572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主题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2971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2590920"/>
            <a:ext cx="4648320" cy="175248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3124080"/>
            <a:ext cx="1143000" cy="1067040"/>
          </a:xfrm>
          <a:prstGeom prst="ellipse">
            <a:avLst/>
          </a:prstGeom>
          <a:solidFill>
            <a:srgbClr val="ffc5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网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资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124080"/>
            <a:ext cx="1143000" cy="990720"/>
          </a:xfrm>
          <a:prstGeom prst="ellipse">
            <a:avLst/>
          </a:prstGeom>
          <a:solidFill>
            <a:srgbClr val="ffc5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课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资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3124080"/>
            <a:ext cx="1066680" cy="990720"/>
          </a:xfrm>
          <a:prstGeom prst="ellipse">
            <a:avLst/>
          </a:prstGeom>
          <a:solidFill>
            <a:srgbClr val="ffc5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素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资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楷体_GB2312"/>
              </a:rPr>
              <a:t>网络环境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楷体_GB2312"/>
              </a:rPr>
              <a:t>资源共享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楷体_GB2312"/>
              </a:rPr>
              <a:t>创作工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562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6400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9907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304920"/>
            <a:ext cx="1143000" cy="459720"/>
          </a:xfrm>
          <a:prstGeom prst="rect">
            <a:avLst/>
          </a:prstGeom>
          <a:solidFill>
            <a:srgbClr val="ffff66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调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1828800"/>
            <a:ext cx="6095880" cy="459720"/>
          </a:xfrm>
          <a:prstGeom prst="rect">
            <a:avLst/>
          </a:prstGeom>
          <a:solidFill>
            <a:srgbClr val="ffcf01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分组活动（角色扮演、竞争、设计……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4572000"/>
            <a:ext cx="281916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形成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展示作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5410080"/>
            <a:ext cx="281916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意义建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762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16002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2286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4114800"/>
            <a:ext cx="7621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4038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28840" y="411480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50292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90720" y="2057400"/>
            <a:ext cx="38088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057400"/>
            <a:ext cx="0" cy="274320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800600"/>
            <a:ext cx="205740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6172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  <a:ea typeface="黑体"/>
              </a:rPr>
              <a:t>在线语文研究性学习模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2133720"/>
            <a:ext cx="990720" cy="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4800600"/>
            <a:ext cx="2514600" cy="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8458200" y="2133720"/>
            <a:ext cx="0" cy="266688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评价作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50292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创作作品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5335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基于英特网的校际远程协作学习模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2590920"/>
            <a:ext cx="1447920" cy="761760"/>
          </a:xfrm>
          <a:prstGeom prst="ellipse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网页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124080"/>
            <a:ext cx="1676520" cy="762120"/>
          </a:xfrm>
          <a:prstGeom prst="ellipse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320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网页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2514600"/>
            <a:ext cx="1371600" cy="762120"/>
          </a:xfrm>
          <a:prstGeom prst="ellipse">
            <a:avLst/>
          </a:prstGeom>
          <a:solidFill>
            <a:srgbClr val="ffc5ff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网页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724280"/>
            <a:ext cx="6248520" cy="181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协作成员的活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环绕主题，收集资料，制作网页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互相观看，发表意见，总结体会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成员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2892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成员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1447920"/>
            <a:ext cx="221004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网页评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3049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2895480"/>
            <a:ext cx="3733920" cy="180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209680" y="2666880"/>
            <a:ext cx="4191120" cy="180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81480" y="3047760"/>
            <a:ext cx="1143000" cy="22860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514240" y="3048120"/>
            <a:ext cx="1066680" cy="30456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3200400"/>
            <a:ext cx="1295280" cy="38088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257800" y="3200400"/>
            <a:ext cx="1295280" cy="30492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1981080"/>
            <a:ext cx="0" cy="12193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905120" y="1981080"/>
            <a:ext cx="2133360" cy="6098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1981080"/>
            <a:ext cx="1828800" cy="5335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成员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3808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基于语文专题研究的开发型学习模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1981080"/>
            <a:ext cx="685800" cy="3671640"/>
          </a:xfrm>
          <a:prstGeom prst="rect">
            <a:avLst/>
          </a:prstGeom>
          <a:solidFill>
            <a:srgbClr val="ff6699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楷体_GB2312"/>
              </a:rPr>
              <a:t>语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ahoma"/>
                <a:ea typeface="楷体_GB2312"/>
              </a:rPr>
              <a:t>专题网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1447920"/>
            <a:ext cx="29718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结构化知识展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2514600"/>
            <a:ext cx="29718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扩展性学习资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3505320"/>
            <a:ext cx="29718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网上协商讨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4572000"/>
            <a:ext cx="28954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网上自我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1219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把教材内容相关文本、图形、动态资料结构化处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2362320"/>
            <a:ext cx="3733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扩展性学习素材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相关资源网站的链接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学习工具（字典、辞典、仿真实验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3581280"/>
            <a:ext cx="327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答疑和指导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远程讨论区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思考性问题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形成性练习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/</a:t>
            </a:r>
            <a:r>
              <a:rPr b="1" lang="zh-CN" sz="2400" spc="-1" strike="noStrike">
                <a:solidFill>
                  <a:srgbClr val="1c1c1c"/>
                </a:solidFill>
                <a:latin typeface="仿宋_GB2312"/>
                <a:ea typeface="仿宋_GB2312"/>
              </a:rPr>
              <a:t>总结性考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5715000"/>
            <a:ext cx="29718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楷体_GB2312"/>
              </a:rPr>
              <a:t>提供学习工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752480"/>
            <a:ext cx="0" cy="434340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1752480"/>
            <a:ext cx="68580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2819520"/>
            <a:ext cx="76176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809880"/>
            <a:ext cx="76176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4876920"/>
            <a:ext cx="83808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6095880"/>
            <a:ext cx="83808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3809880"/>
            <a:ext cx="38088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  <a:ea typeface="仿宋_GB2312"/>
              </a:rPr>
              <a:t>协商、集成、创作工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五、信息技术与语文课程整合的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教学设计</a:t>
            </a: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语文教学设计的内容和步骤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语文学习环境的选择与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语文学习情境的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语文学习资源的选择和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语文学习活动组织的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学生自主学习活动的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协作学习活动的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教师指导性活动的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学习评价指标和评价工具的设计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317320"/>
            <a:ext cx="784872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ahoma"/>
              </a:rPr>
              <a:t>谢谢！</a:t>
            </a:r>
            <a:endParaRPr b="1" lang="en-US" sz="88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715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课 题 简 介</a:t>
            </a:r>
            <a:endParaRPr b="1" lang="en-US" sz="6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828800"/>
            <a:ext cx="8001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ahoma"/>
              </a:rPr>
              <a:t>一、课题组成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1c1c1c"/>
                </a:solidFill>
                <a:latin typeface="Tahoma"/>
              </a:rPr>
              <a:t>成立课题中心组</a:t>
            </a:r>
            <a:r>
              <a:rPr b="0" lang="zh-CN" sz="32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课题特聘请市教科所前所长朱川彬老师、教研室副主任潘克勤老师、教育信息中心主任蒯超英老师作为课题研究的顾问</a:t>
            </a:r>
            <a:r>
              <a:rPr b="1" lang="zh-CN" sz="32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914400"/>
            <a:ext cx="670572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ahoma"/>
              </a:rPr>
              <a:t>二、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“信息技术与语文课程整合”的研究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构建课堂教学模式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营造教学资源库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建立语文教学网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019920" y="350532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aomian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914400"/>
            <a:ext cx="7772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、教研活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、课改文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、教学反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、综合实践活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1c1c1c"/>
                </a:solidFill>
                <a:latin typeface="Tahoma"/>
              </a:rPr>
              <a:t>、学习评价（学生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6858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ahoma"/>
              </a:rPr>
              <a:t>三、课题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研究的方法和原则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905120"/>
            <a:ext cx="7391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研究方法：本课题主要采用“行动研究法”。在行动研究中，承担研究的所有领导、教师都是研究者。分工明确，职责清楚。在行动研究中，“工作即研究，研究即工作”。一边工作，一边研究，把探索研究结果与运用研究成果结合起来，既普及信息技术教育，又促进课题研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同时辅之以文献法，学习有关信息技术和学科教学的理论和经验，学习有关网络的知识和技术；调查法，调查学校语文教学的现状、师生的态度及他们的需求等情况；实验法，对“整合”后产生的效果，必须经过科学的实验来验证；及经验总结法和统计法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23:03:36Z</dcterms:created>
  <dc:creator>李克东</dc:creator>
  <dc:description/>
  <dc:language>en-US</dc:language>
  <cp:lastModifiedBy>cxp</cp:lastModifiedBy>
  <dcterms:modified xsi:type="dcterms:W3CDTF">2002-08-30T04:53:39Z</dcterms:modified>
  <cp:revision>2245</cp:revision>
  <dc:subject/>
  <dc:title>PowerPoint 演示文稿</dc:title>
</cp:coreProperties>
</file>