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tif" ContentType="image/tiff"/>
  <Override PartName="/ppt/media/image13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48EE-9465-4C1D-B28B-446D945A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8079-86AC-4C0C-87CB-D5D1937A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2DFE-C8B0-47FB-B8E9-B024A212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FC49-7D06-4383-9D73-03A30480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07EF-CD3B-4EA5-8B53-8D578AD3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29DD-B945-4745-83D1-55537833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26E2-15CB-4763-8E5C-38F25F78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E4A1-E3CA-4863-95A1-8CE5435A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23DF-677F-4CBF-9757-05041973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D307-043E-4BF5-9461-359DFAB8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DC7F-152D-46B9-82C6-4916EE0E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7198-61CF-4DF1-BF4B-D504ABFA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lo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ansatio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Sansatio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ansatio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1D13-E0A9-450A-BAB7-D5666948A060}" type="slidenum">
              <a:rPr b="0" lang="en-US" sz="1200" spc="-1" strike="noStrike">
                <a:solidFill>
                  <a:srgbClr val="898989"/>
                </a:solidFill>
                <a:latin typeface="Sansatio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ansatio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17zuoye.com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tif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01_Main-Background.jpg"/>
          <p:cNvPicPr/>
          <p:nvPr/>
        </p:nvPicPr>
        <p:blipFill>
          <a:blip r:embed="rId1"/>
          <a:stretch/>
        </p:blipFill>
        <p:spPr>
          <a:xfrm>
            <a:off x="4680" y="1440"/>
            <a:ext cx="9134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1066680" y="3733920"/>
            <a:ext cx="6248160" cy="1220760"/>
            <a:chOff x="1066680" y="3733920"/>
            <a:chExt cx="6248160" cy="1220760"/>
          </a:xfrm>
        </p:grpSpPr>
        <p:sp>
          <p:nvSpPr>
            <p:cNvPr id="43" name="TextBox 7"/>
            <p:cNvSpPr/>
            <p:nvPr/>
          </p:nvSpPr>
          <p:spPr>
            <a:xfrm>
              <a:off x="1594800" y="3733920"/>
              <a:ext cx="5720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99ff"/>
                  </a:solidFill>
                  <a:latin typeface="Calibri"/>
                  <a:ea typeface="黑体"/>
                </a:rPr>
                <a:t>新教材课外资源推介</a:t>
              </a:r>
              <a:endParaRPr b="0" lang="en-US" sz="4800" spc="-1" strike="noStrike">
                <a:solidFill>
                  <a:srgbClr val="000000"/>
                </a:solidFill>
                <a:latin typeface="Sansation"/>
              </a:endParaRPr>
            </a:p>
          </p:txBody>
        </p:sp>
        <p:sp>
          <p:nvSpPr>
            <p:cNvPr id="44" name="TextBox 10"/>
            <p:cNvSpPr/>
            <p:nvPr/>
          </p:nvSpPr>
          <p:spPr>
            <a:xfrm>
              <a:off x="1066680" y="4586400"/>
              <a:ext cx="620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常州市第二实验小学  王  蕾</a:t>
              </a:r>
              <a:endParaRPr b="0" lang="en-US" sz="1800" spc="-1" strike="noStrike">
                <a:solidFill>
                  <a:srgbClr val="000000"/>
                </a:solidFill>
                <a:latin typeface="Sansation"/>
              </a:endParaRPr>
            </a:p>
          </p:txBody>
        </p:sp>
      </p:grpSp>
      <p:sp>
        <p:nvSpPr>
          <p:cNvPr id="45" name="Rectangle 6"/>
          <p:cNvSpPr/>
          <p:nvPr/>
        </p:nvSpPr>
        <p:spPr>
          <a:xfrm>
            <a:off x="7315200" y="3840120"/>
            <a:ext cx="1828800" cy="11178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1752480" y="5087880"/>
            <a:ext cx="5467320" cy="914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5087880"/>
            <a:ext cx="1703520" cy="9144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33720" y="1522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01_Main-Background.jp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3"/>
          <p:cNvSpPr/>
          <p:nvPr/>
        </p:nvSpPr>
        <p:spPr>
          <a:xfrm>
            <a:off x="0" y="2209680"/>
            <a:ext cx="3605040" cy="9144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773280" y="3206880"/>
            <a:ext cx="2833560" cy="22557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990720" y="2340000"/>
            <a:ext cx="2361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UR GALLERY</a:t>
            </a:r>
            <a:endParaRPr b="0" lang="en-US" sz="25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3678120" y="3211560"/>
            <a:ext cx="1209960" cy="2249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73" name="TextBox 42"/>
          <p:cNvSpPr/>
          <p:nvPr/>
        </p:nvSpPr>
        <p:spPr>
          <a:xfrm>
            <a:off x="685800" y="5516640"/>
            <a:ext cx="299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生在做“一起作业”</a:t>
            </a:r>
            <a:endParaRPr b="0" lang="en-US" sz="16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4960800" y="3206880"/>
            <a:ext cx="2835360" cy="22557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7867800" y="3211560"/>
            <a:ext cx="1276200" cy="22492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76" name="TextBox 20"/>
          <p:cNvSpPr/>
          <p:nvPr/>
        </p:nvSpPr>
        <p:spPr>
          <a:xfrm>
            <a:off x="4952880" y="5486400"/>
            <a:ext cx="42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生下意识的感觉还是在课堂，坐姿端正</a:t>
            </a:r>
            <a:endParaRPr b="0" lang="en-US" sz="1600" spc="-1" strike="noStrike">
              <a:solidFill>
                <a:srgbClr val="000000"/>
              </a:solidFill>
              <a:latin typeface="Sansation"/>
            </a:endParaRPr>
          </a:p>
        </p:txBody>
      </p:sp>
      <p:pic>
        <p:nvPicPr>
          <p:cNvPr id="177" name="图片 2" descr="C:\Users\yzwyf\AppData\Local\Temp\Rar$DI56.528\DSCF3583.JPG"/>
          <p:cNvPicPr/>
          <p:nvPr/>
        </p:nvPicPr>
        <p:blipFill>
          <a:blip r:embed="rId4"/>
          <a:stretch/>
        </p:blipFill>
        <p:spPr>
          <a:xfrm>
            <a:off x="787320" y="3260880"/>
            <a:ext cx="2819520" cy="211428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1" descr="C:\Users\yzwyf\AppData\Local\Temp\Rar$DI95.528\DSCF3589.JPG"/>
          <p:cNvPicPr/>
          <p:nvPr/>
        </p:nvPicPr>
        <p:blipFill>
          <a:blip r:embed="rId5"/>
          <a:stretch/>
        </p:blipFill>
        <p:spPr>
          <a:xfrm>
            <a:off x="4978440" y="3289320"/>
            <a:ext cx="2819520" cy="2073240"/>
          </a:xfrm>
          <a:prstGeom prst="rect">
            <a:avLst/>
          </a:prstGeom>
          <a:ln w="0">
            <a:noFill/>
          </a:ln>
        </p:spPr>
      </p:pic>
      <p:sp>
        <p:nvSpPr>
          <p:cNvPr id="179" name="TextBox 6"/>
          <p:cNvSpPr/>
          <p:nvPr/>
        </p:nvSpPr>
        <p:spPr>
          <a:xfrm>
            <a:off x="4267080" y="584280"/>
            <a:ext cx="426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Calibri"/>
              </a:rPr>
              <a:t>新教材课外资源推介                          新教材课外资源推介                              新教材课外资源推介</a:t>
            </a:r>
            <a:endParaRPr b="0" lang="en-US" sz="800" spc="-1" strike="noStrike">
              <a:solidFill>
                <a:srgbClr val="000000"/>
              </a:solidFill>
              <a:latin typeface="Sansation"/>
            </a:endParaRPr>
          </a:p>
        </p:txBody>
      </p:sp>
      <p:grpSp>
        <p:nvGrpSpPr>
          <p:cNvPr id="180" name="Group 33"/>
          <p:cNvGrpSpPr/>
          <p:nvPr/>
        </p:nvGrpSpPr>
        <p:grpSpPr>
          <a:xfrm>
            <a:off x="4267080" y="1143000"/>
            <a:ext cx="6248520" cy="1125720"/>
            <a:chOff x="4267080" y="1143000"/>
            <a:chExt cx="6248520" cy="1125720"/>
          </a:xfrm>
        </p:grpSpPr>
        <p:sp>
          <p:nvSpPr>
            <p:cNvPr id="181" name="TextBox 29"/>
            <p:cNvSpPr/>
            <p:nvPr/>
          </p:nvSpPr>
          <p:spPr>
            <a:xfrm>
              <a:off x="4267080" y="1250640"/>
              <a:ext cx="549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ff"/>
                  </a:solidFill>
                  <a:latin typeface="Calibri"/>
                  <a:ea typeface="楷体_GB2312"/>
                </a:rPr>
                <a:t>“</a:t>
              </a:r>
              <a:r>
                <a:rPr b="1" lang="zh-CN" sz="3200" spc="-1" strike="noStrike">
                  <a:solidFill>
                    <a:srgbClr val="0099ff"/>
                  </a:solidFill>
                  <a:latin typeface="Calibri"/>
                  <a:ea typeface="楷体_GB2312"/>
                </a:rPr>
                <a:t>一起作业网”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ww.17zuoye.com</a:t>
              </a:r>
              <a:endParaRPr b="0" lang="en-US" sz="1800" spc="-1" strike="noStrike">
                <a:solidFill>
                  <a:srgbClr val="000000"/>
                </a:solidFill>
                <a:latin typeface="Sansation"/>
              </a:endParaRPr>
            </a:p>
          </p:txBody>
        </p:sp>
        <p:sp>
          <p:nvSpPr>
            <p:cNvPr id="182" name="TextBox 30"/>
            <p:cNvSpPr/>
            <p:nvPr/>
          </p:nvSpPr>
          <p:spPr>
            <a:xfrm>
              <a:off x="4332240" y="1900440"/>
              <a:ext cx="618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数字   学习平台</a:t>
              </a:r>
              <a:endParaRPr b="0" lang="en-US" sz="1800" spc="-1" strike="noStrike">
                <a:solidFill>
                  <a:srgbClr val="000000"/>
                </a:solidFill>
                <a:latin typeface="Sansation"/>
              </a:endParaRPr>
            </a:p>
          </p:txBody>
        </p:sp>
        <p:sp>
          <p:nvSpPr>
            <p:cNvPr id="183" name="TextBox 28"/>
            <p:cNvSpPr/>
            <p:nvPr/>
          </p:nvSpPr>
          <p:spPr>
            <a:xfrm>
              <a:off x="4311360" y="1143000"/>
              <a:ext cx="45957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ansation"/>
              </a:endParaRPr>
            </a:p>
          </p:txBody>
        </p:sp>
      </p:grpSp>
    </p:spTree>
  </p:cSld>
  <p:transition spd="slow">
    <p:fad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01_Main-Background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0" y="2209680"/>
            <a:ext cx="3605040" cy="9144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773280" y="3206880"/>
            <a:ext cx="2833560" cy="22557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7" name="TextBox 7"/>
          <p:cNvSpPr/>
          <p:nvPr/>
        </p:nvSpPr>
        <p:spPr>
          <a:xfrm>
            <a:off x="990720" y="2340000"/>
            <a:ext cx="2361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OUR GALLERY</a:t>
            </a:r>
            <a:endParaRPr b="0" lang="en-US" sz="25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3678120" y="3211560"/>
            <a:ext cx="1209960" cy="2249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9" name="TextBox 42"/>
          <p:cNvSpPr/>
          <p:nvPr/>
        </p:nvSpPr>
        <p:spPr>
          <a:xfrm>
            <a:off x="1200240" y="5516640"/>
            <a:ext cx="299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神贯注，目不转睛</a:t>
            </a:r>
            <a:endParaRPr b="0" lang="en-US" sz="16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4960800" y="3206880"/>
            <a:ext cx="2835360" cy="22557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7867800" y="3211560"/>
            <a:ext cx="1276200" cy="22492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2" name="TextBox 20"/>
          <p:cNvSpPr/>
          <p:nvPr/>
        </p:nvSpPr>
        <p:spPr>
          <a:xfrm>
            <a:off x="5697360" y="548640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拿到奖品啦</a:t>
            </a:r>
            <a:endParaRPr b="0" lang="en-US" sz="1600" spc="-1" strike="noStrike">
              <a:solidFill>
                <a:srgbClr val="000000"/>
              </a:solidFill>
              <a:latin typeface="Sansation"/>
            </a:endParaRPr>
          </a:p>
        </p:txBody>
      </p:sp>
      <p:pic>
        <p:nvPicPr>
          <p:cNvPr id="193" name="图片 1" descr="C:\Users\yzwyf\Desktop\100_0258.jpg"/>
          <p:cNvPicPr/>
          <p:nvPr/>
        </p:nvPicPr>
        <p:blipFill>
          <a:blip r:embed="rId4"/>
          <a:stretch/>
        </p:blipFill>
        <p:spPr>
          <a:xfrm>
            <a:off x="774720" y="3327480"/>
            <a:ext cx="2819520" cy="204156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1" descr="C:\Users\yzwyf\Desktop\100_0267.jpg"/>
          <p:cNvPicPr/>
          <p:nvPr/>
        </p:nvPicPr>
        <p:blipFill>
          <a:blip r:embed="rId5"/>
          <a:stretch/>
        </p:blipFill>
        <p:spPr>
          <a:xfrm>
            <a:off x="4965840" y="3352680"/>
            <a:ext cx="2819160" cy="1936800"/>
          </a:xfrm>
          <a:prstGeom prst="rect">
            <a:avLst/>
          </a:prstGeom>
          <a:ln w="0">
            <a:noFill/>
          </a:ln>
        </p:spPr>
      </p:pic>
      <p:sp>
        <p:nvSpPr>
          <p:cNvPr id="195" name="TextBox 6"/>
          <p:cNvSpPr/>
          <p:nvPr/>
        </p:nvSpPr>
        <p:spPr>
          <a:xfrm>
            <a:off x="4267080" y="584280"/>
            <a:ext cx="426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Calibri"/>
              </a:rPr>
              <a:t>新教材课外资源推介                          新教材课外资源推介                              新教材课外资源推介</a:t>
            </a:r>
            <a:endParaRPr b="0" lang="en-US" sz="800" spc="-1" strike="noStrike">
              <a:solidFill>
                <a:srgbClr val="000000"/>
              </a:solidFill>
              <a:latin typeface="Sansation"/>
            </a:endParaRPr>
          </a:p>
        </p:txBody>
      </p:sp>
      <p:grpSp>
        <p:nvGrpSpPr>
          <p:cNvPr id="196" name="Group 33"/>
          <p:cNvGrpSpPr/>
          <p:nvPr/>
        </p:nvGrpSpPr>
        <p:grpSpPr>
          <a:xfrm>
            <a:off x="4267080" y="1143000"/>
            <a:ext cx="6248520" cy="1125720"/>
            <a:chOff x="4267080" y="1143000"/>
            <a:chExt cx="6248520" cy="1125720"/>
          </a:xfrm>
        </p:grpSpPr>
        <p:sp>
          <p:nvSpPr>
            <p:cNvPr id="197" name="TextBox 29"/>
            <p:cNvSpPr/>
            <p:nvPr/>
          </p:nvSpPr>
          <p:spPr>
            <a:xfrm>
              <a:off x="4267080" y="1250640"/>
              <a:ext cx="549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ff"/>
                  </a:solidFill>
                  <a:latin typeface="Calibri"/>
                  <a:ea typeface="楷体_GB2312"/>
                </a:rPr>
                <a:t>“</a:t>
              </a:r>
              <a:r>
                <a:rPr b="1" lang="zh-CN" sz="3200" spc="-1" strike="noStrike">
                  <a:solidFill>
                    <a:srgbClr val="0099ff"/>
                  </a:solidFill>
                  <a:latin typeface="Calibri"/>
                  <a:ea typeface="楷体_GB2312"/>
                </a:rPr>
                <a:t>一起作业网”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ww.17zuoye.com</a:t>
              </a:r>
              <a:endParaRPr b="0" lang="en-US" sz="1800" spc="-1" strike="noStrike">
                <a:solidFill>
                  <a:srgbClr val="000000"/>
                </a:solidFill>
                <a:latin typeface="Sansation"/>
              </a:endParaRPr>
            </a:p>
          </p:txBody>
        </p:sp>
        <p:sp>
          <p:nvSpPr>
            <p:cNvPr id="198" name="TextBox 30"/>
            <p:cNvSpPr/>
            <p:nvPr/>
          </p:nvSpPr>
          <p:spPr>
            <a:xfrm>
              <a:off x="4332240" y="1900440"/>
              <a:ext cx="618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数字   学习平台</a:t>
              </a:r>
              <a:endParaRPr b="0" lang="en-US" sz="1800" spc="-1" strike="noStrike">
                <a:solidFill>
                  <a:srgbClr val="000000"/>
                </a:solidFill>
                <a:latin typeface="Sansation"/>
              </a:endParaRPr>
            </a:p>
          </p:txBody>
        </p:sp>
        <p:sp>
          <p:nvSpPr>
            <p:cNvPr id="199" name="TextBox 28"/>
            <p:cNvSpPr/>
            <p:nvPr/>
          </p:nvSpPr>
          <p:spPr>
            <a:xfrm>
              <a:off x="4311360" y="1143000"/>
              <a:ext cx="45957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ansation"/>
              </a:endParaRPr>
            </a:p>
          </p:txBody>
        </p:sp>
      </p:grpSp>
    </p:spTree>
  </p:cSld>
  <p:transition spd="slow"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5" descr="01_Main-Background.jp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3"/>
          <p:cNvSpPr/>
          <p:nvPr/>
        </p:nvSpPr>
        <p:spPr>
          <a:xfrm>
            <a:off x="0" y="1447920"/>
            <a:ext cx="243828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2" name="TextBox 7"/>
          <p:cNvSpPr/>
          <p:nvPr/>
        </p:nvSpPr>
        <p:spPr>
          <a:xfrm>
            <a:off x="152280" y="1569960"/>
            <a:ext cx="1876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Calibri"/>
              </a:rPr>
              <a:t>使用演示</a:t>
            </a:r>
            <a:endParaRPr b="0" lang="en-US" sz="25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3" name="Rectangle 21"/>
          <p:cNvSpPr/>
          <p:nvPr/>
        </p:nvSpPr>
        <p:spPr>
          <a:xfrm>
            <a:off x="2530440" y="1447920"/>
            <a:ext cx="120348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2666880" y="1600200"/>
            <a:ext cx="914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提醒</a:t>
            </a:r>
            <a:endParaRPr b="0" lang="en-US" sz="25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2819520"/>
            <a:ext cx="7315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次作业只能做一次</a:t>
            </a:r>
            <a:endParaRPr b="0" lang="en-US" sz="2400" spc="-1" strike="noStrike">
              <a:solidFill>
                <a:srgbClr val="000000"/>
              </a:solidFill>
              <a:latin typeface="Sansatio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家长免费注册后下载儿童上网管家，监控孩子学习</a:t>
            </a:r>
            <a:endParaRPr b="0" lang="en-US" sz="2400" spc="-1" strike="noStrike">
              <a:solidFill>
                <a:srgbClr val="000000"/>
              </a:solidFill>
              <a:latin typeface="Sansatio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时告知家长完成作业的标准用时和截止时间，便于家长监督</a:t>
            </a:r>
            <a:endParaRPr b="0" lang="en-US" sz="24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4267080" y="584280"/>
            <a:ext cx="426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Calibri"/>
              </a:rPr>
              <a:t>新教材课外资源推介                          新教材课外资源推介                              新教材课外资源推介</a:t>
            </a:r>
            <a:endParaRPr b="0" lang="en-US" sz="800" spc="-1" strike="noStrike">
              <a:solidFill>
                <a:srgbClr val="000000"/>
              </a:solidFill>
              <a:latin typeface="Sansation"/>
            </a:endParaRPr>
          </a:p>
        </p:txBody>
      </p:sp>
      <p:grpSp>
        <p:nvGrpSpPr>
          <p:cNvPr id="207" name="Group 33"/>
          <p:cNvGrpSpPr/>
          <p:nvPr/>
        </p:nvGrpSpPr>
        <p:grpSpPr>
          <a:xfrm>
            <a:off x="4267080" y="1143000"/>
            <a:ext cx="6248520" cy="1125720"/>
            <a:chOff x="4267080" y="1143000"/>
            <a:chExt cx="6248520" cy="1125720"/>
          </a:xfrm>
        </p:grpSpPr>
        <p:sp>
          <p:nvSpPr>
            <p:cNvPr id="208" name="TextBox 29"/>
            <p:cNvSpPr/>
            <p:nvPr/>
          </p:nvSpPr>
          <p:spPr>
            <a:xfrm>
              <a:off x="4267080" y="1250640"/>
              <a:ext cx="549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ff"/>
                  </a:solidFill>
                  <a:latin typeface="Calibri"/>
                  <a:ea typeface="楷体_GB2312"/>
                </a:rPr>
                <a:t>“</a:t>
              </a:r>
              <a:r>
                <a:rPr b="1" lang="zh-CN" sz="3200" spc="-1" strike="noStrike">
                  <a:solidFill>
                    <a:srgbClr val="0099ff"/>
                  </a:solidFill>
                  <a:latin typeface="Calibri"/>
                  <a:ea typeface="楷体_GB2312"/>
                </a:rPr>
                <a:t>一起作业网” </a:t>
              </a:r>
              <a:r>
                <a:rPr b="1" lang="en-US" sz="3200" spc="-1" strike="noStrike" u="sng">
                  <a:solidFill>
                    <a:srgbClr val="0000ff"/>
                  </a:solidFill>
                  <a:uFillTx/>
                  <a:latin typeface="Arial"/>
                  <a:ea typeface="楷体_GB2312"/>
                  <a:hlinkClick r:id="rId2"/>
                </a:rPr>
                <a:t>www.17zuoye.com</a:t>
              </a:r>
              <a:endParaRPr b="0" lang="en-US" sz="3200" spc="-1" strike="noStrike">
                <a:solidFill>
                  <a:srgbClr val="000000"/>
                </a:solidFill>
                <a:latin typeface="Sansatio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ansation"/>
              </a:endParaRPr>
            </a:p>
          </p:txBody>
        </p:sp>
        <p:sp>
          <p:nvSpPr>
            <p:cNvPr id="209" name="TextBox 30"/>
            <p:cNvSpPr/>
            <p:nvPr/>
          </p:nvSpPr>
          <p:spPr>
            <a:xfrm>
              <a:off x="4332240" y="1900440"/>
              <a:ext cx="618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数字   学习平台</a:t>
              </a:r>
              <a:endParaRPr b="0" lang="en-US" sz="1800" spc="-1" strike="noStrike">
                <a:solidFill>
                  <a:srgbClr val="000000"/>
                </a:solidFill>
                <a:latin typeface="Sansation"/>
              </a:endParaRPr>
            </a:p>
          </p:txBody>
        </p:sp>
        <p:sp>
          <p:nvSpPr>
            <p:cNvPr id="210" name="TextBox 28"/>
            <p:cNvSpPr/>
            <p:nvPr/>
          </p:nvSpPr>
          <p:spPr>
            <a:xfrm>
              <a:off x="4311360" y="1143000"/>
              <a:ext cx="45957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ansation"/>
              </a:endParaRPr>
            </a:p>
          </p:txBody>
        </p:sp>
      </p:grpSp>
    </p:spTree>
  </p:cSld>
  <p:transition spd="slow">
    <p:checker dir="horz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5" descr="01_Main-Background.jpg"/>
          <p:cNvPicPr/>
          <p:nvPr/>
        </p:nvPicPr>
        <p:blipFill>
          <a:blip r:embed="rId1"/>
          <a:stretch/>
        </p:blipFill>
        <p:spPr>
          <a:xfrm>
            <a:off x="4680" y="144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7"/>
          <p:cNvSpPr/>
          <p:nvPr/>
        </p:nvSpPr>
        <p:spPr>
          <a:xfrm>
            <a:off x="4363920" y="4299120"/>
            <a:ext cx="295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ff"/>
                </a:solidFill>
                <a:latin typeface="Calibri"/>
              </a:rPr>
              <a:t>THANK YOU</a:t>
            </a:r>
            <a:endParaRPr b="0" lang="en-US" sz="30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13" name="TextBox 10"/>
          <p:cNvSpPr/>
          <p:nvPr/>
        </p:nvSpPr>
        <p:spPr>
          <a:xfrm>
            <a:off x="4091040" y="4927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Your Dedicated Listening</a:t>
            </a: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7315200" y="4506840"/>
            <a:ext cx="18288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1752480" y="5486400"/>
            <a:ext cx="5467320" cy="914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0" y="5486400"/>
            <a:ext cx="1703520" cy="9144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1353960"/>
            <a:ext cx="7620120" cy="16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ff"/>
                </a:solidFill>
                <a:latin typeface="微软简隶书"/>
                <a:ea typeface="微软简隶书"/>
              </a:rPr>
              <a:t>在阅读中播散幸福的种子  </a:t>
            </a:r>
            <a:endParaRPr b="0" lang="en-US" sz="4800" spc="-1" strike="noStrike">
              <a:solidFill>
                <a:srgbClr val="000000"/>
              </a:solidFill>
              <a:latin typeface="Sansatio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ff"/>
                </a:solidFill>
                <a:latin typeface="微软简隶书"/>
                <a:ea typeface="微软简隶书"/>
              </a:rPr>
              <a:t>在分享中感受资源的力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</p:spTree>
  </p:cSld>
  <p:transition spd="slow">
    <p:fad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250" autoRev="1" fill="hold"/>
                                        <p:tgtEl>
                                          <p:spTgt spid="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01_Main-Background.jp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3124080"/>
            <a:ext cx="4343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406760" y="3124080"/>
            <a:ext cx="2743200" cy="1930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77800" y="3240000"/>
            <a:ext cx="36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楷体_GB2312"/>
              </a:rPr>
              <a:t>课外资源</a:t>
            </a:r>
            <a:endParaRPr b="0" lang="en-US" sz="2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3429000" y="412740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435400" y="412740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1450800" y="4127400"/>
            <a:ext cx="91440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0" y="4127400"/>
            <a:ext cx="137160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3429000" y="5143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2435400" y="5143680"/>
            <a:ext cx="91440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1450800" y="514368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419720" y="5141880"/>
            <a:ext cx="472428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1620720" y="41911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ff"/>
                </a:solidFill>
                <a:latin typeface="Calibri"/>
                <a:ea typeface="楷体_GB2312"/>
              </a:rPr>
              <a:t>歌谣</a:t>
            </a:r>
            <a:endParaRPr b="0" lang="en-US" sz="20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2" name="TextBox 19"/>
          <p:cNvSpPr/>
          <p:nvPr/>
        </p:nvSpPr>
        <p:spPr>
          <a:xfrm>
            <a:off x="2654280" y="41911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Calibri"/>
                <a:ea typeface="楷体_GB2312"/>
              </a:rPr>
              <a:t>绘本</a:t>
            </a:r>
            <a:endParaRPr b="0" lang="en-US" sz="20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3" name="TextBox 20"/>
          <p:cNvSpPr/>
          <p:nvPr/>
        </p:nvSpPr>
        <p:spPr>
          <a:xfrm>
            <a:off x="3630600" y="41911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9d9d9"/>
                </a:solidFill>
                <a:latin typeface="Calibri"/>
                <a:ea typeface="楷体_GB2312"/>
              </a:rPr>
              <a:t>故事</a:t>
            </a:r>
            <a:endParaRPr b="0" lang="en-US" sz="20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4" name="TextBox 21"/>
          <p:cNvSpPr/>
          <p:nvPr/>
        </p:nvSpPr>
        <p:spPr>
          <a:xfrm>
            <a:off x="1620720" y="5181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6d9f1"/>
                </a:solidFill>
                <a:latin typeface="Calibri"/>
                <a:ea typeface="楷体_GB2312"/>
              </a:rPr>
              <a:t>动画</a:t>
            </a:r>
            <a:endParaRPr b="0" lang="en-US" sz="20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5" name="TextBox 22"/>
          <p:cNvSpPr/>
          <p:nvPr/>
        </p:nvSpPr>
        <p:spPr>
          <a:xfrm>
            <a:off x="2654280" y="5181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79797"/>
                </a:solidFill>
                <a:latin typeface="Calibri"/>
                <a:ea typeface="楷体_GB2312"/>
              </a:rPr>
              <a:t>报纸</a:t>
            </a:r>
            <a:endParaRPr b="0" lang="en-US" sz="20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6" name="TextBox 23"/>
          <p:cNvSpPr/>
          <p:nvPr/>
        </p:nvSpPr>
        <p:spPr>
          <a:xfrm>
            <a:off x="3630600" y="5181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9d9d9"/>
                </a:solidFill>
                <a:latin typeface="Calibri"/>
                <a:ea typeface="楷体_GB2312"/>
              </a:rPr>
              <a:t>游戏</a:t>
            </a:r>
            <a:endParaRPr b="0" lang="en-US" sz="20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7" name="TextBox 22"/>
          <p:cNvSpPr/>
          <p:nvPr/>
        </p:nvSpPr>
        <p:spPr>
          <a:xfrm>
            <a:off x="4495680" y="51814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79797"/>
                </a:solidFill>
                <a:latin typeface="Calibri"/>
                <a:ea typeface="楷体_GB2312"/>
              </a:rPr>
              <a:t>网</a:t>
            </a:r>
            <a:endParaRPr b="0" lang="en-US" sz="2000" spc="-1" strike="noStrike">
              <a:solidFill>
                <a:srgbClr val="000000"/>
              </a:solidFill>
              <a:latin typeface="Sansati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79797"/>
                </a:solidFill>
                <a:latin typeface="Calibri"/>
                <a:ea typeface="楷体_GB2312"/>
              </a:rPr>
              <a:t>络 </a:t>
            </a:r>
            <a:r>
              <a:rPr b="1" lang="en-US" sz="2000" spc="-1" strike="noStrike">
                <a:solidFill>
                  <a:srgbClr val="979797"/>
                </a:solidFill>
                <a:latin typeface="Calibri"/>
                <a:ea typeface="楷体_GB2312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Sansatio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495680" y="3200400"/>
            <a:ext cx="2514600" cy="175248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4267080" y="584280"/>
            <a:ext cx="426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Calibri"/>
              </a:rPr>
              <a:t>新教材课外资源推介                          新教材课外资源推介                              新教材课外资源推介</a:t>
            </a:r>
            <a:endParaRPr b="0" lang="en-US" sz="800" spc="-1" strike="noStrike">
              <a:solidFill>
                <a:srgbClr val="000000"/>
              </a:solidFill>
              <a:latin typeface="Sansation"/>
            </a:endParaRPr>
          </a:p>
        </p:txBody>
      </p:sp>
    </p:spTree>
  </p:cSld>
  <p:transition spd="slow">
    <p:pull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01_Main-Background.jp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0" y="3530520"/>
            <a:ext cx="289548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762120" y="366084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Calibri"/>
              </a:rPr>
              <a:t>关注日常</a:t>
            </a:r>
            <a:endParaRPr b="0" lang="en-US" sz="25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3" name="Rectangle 24"/>
          <p:cNvSpPr/>
          <p:nvPr/>
        </p:nvSpPr>
        <p:spPr>
          <a:xfrm>
            <a:off x="2971800" y="3530520"/>
            <a:ext cx="107784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4" name="Rectangle 25"/>
          <p:cNvSpPr/>
          <p:nvPr/>
        </p:nvSpPr>
        <p:spPr>
          <a:xfrm>
            <a:off x="2133720" y="4533840"/>
            <a:ext cx="1915920" cy="133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grpSp>
        <p:nvGrpSpPr>
          <p:cNvPr id="75" name="Group 33"/>
          <p:cNvGrpSpPr/>
          <p:nvPr/>
        </p:nvGrpSpPr>
        <p:grpSpPr>
          <a:xfrm>
            <a:off x="4191120" y="1219320"/>
            <a:ext cx="5410080" cy="1125720"/>
            <a:chOff x="4191120" y="1219320"/>
            <a:chExt cx="5410080" cy="1125720"/>
          </a:xfrm>
        </p:grpSpPr>
        <p:sp>
          <p:nvSpPr>
            <p:cNvPr id="76" name="TextBox 29"/>
            <p:cNvSpPr/>
            <p:nvPr/>
          </p:nvSpPr>
          <p:spPr>
            <a:xfrm>
              <a:off x="4191120" y="1326960"/>
              <a:ext cx="531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ff"/>
                  </a:solidFill>
                  <a:latin typeface="Calibri"/>
                  <a:ea typeface="楷体_GB2312"/>
                </a:rPr>
                <a:t>小学英语教具包（译林版）</a:t>
              </a:r>
              <a:endParaRPr b="0" lang="en-US" sz="3200" spc="-1" strike="noStrike">
                <a:solidFill>
                  <a:srgbClr val="000000"/>
                </a:solidFill>
                <a:latin typeface="Sansation"/>
              </a:endParaRPr>
            </a:p>
          </p:txBody>
        </p:sp>
        <p:sp>
          <p:nvSpPr>
            <p:cNvPr id="77" name="TextBox 30"/>
            <p:cNvSpPr/>
            <p:nvPr/>
          </p:nvSpPr>
          <p:spPr>
            <a:xfrm>
              <a:off x="4248720" y="1976760"/>
              <a:ext cx="53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传统   </a:t>
              </a:r>
              <a:r>
                <a:rPr b="1" lang="zh-CN" sz="1800" spc="-1" strike="noStrike">
                  <a:solidFill>
                    <a:srgbClr val="000000"/>
                  </a:solidFill>
                  <a:latin typeface="Calibri"/>
                </a:rPr>
                <a:t>教具</a:t>
              </a:r>
              <a:endParaRPr b="0" lang="en-US" sz="1800" spc="-1" strike="noStrike">
                <a:solidFill>
                  <a:srgbClr val="000000"/>
                </a:solidFill>
                <a:latin typeface="Sansation"/>
              </a:endParaRPr>
            </a:p>
          </p:txBody>
        </p:sp>
        <p:sp>
          <p:nvSpPr>
            <p:cNvPr id="78" name="TextBox 28"/>
            <p:cNvSpPr/>
            <p:nvPr/>
          </p:nvSpPr>
          <p:spPr>
            <a:xfrm>
              <a:off x="4228200" y="1219320"/>
              <a:ext cx="39805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ansatio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532960" y="4648320"/>
            <a:ext cx="1133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Calibri"/>
              </a:rPr>
              <a:t>用好教具包</a:t>
            </a:r>
            <a:endParaRPr b="0" lang="en-US" sz="2500" spc="-1" strike="noStrike">
              <a:solidFill>
                <a:srgbClr val="000000"/>
              </a:solidFill>
              <a:latin typeface="Sansatio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191120" y="2438280"/>
            <a:ext cx="4800600" cy="4038840"/>
          </a:xfrm>
          <a:prstGeom prst="rect">
            <a:avLst/>
          </a:prstGeom>
          <a:ln w="0">
            <a:noFill/>
          </a:ln>
        </p:spPr>
      </p:pic>
      <p:sp>
        <p:nvSpPr>
          <p:cNvPr id="81" name="TextBox 6"/>
          <p:cNvSpPr/>
          <p:nvPr/>
        </p:nvSpPr>
        <p:spPr>
          <a:xfrm>
            <a:off x="4267080" y="584280"/>
            <a:ext cx="426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Calibri"/>
              </a:rPr>
              <a:t>新教材课外资源推介                          新教材课外资源推介                              新教材课外资源推介</a:t>
            </a:r>
            <a:endParaRPr b="0" lang="en-US" sz="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</p:spTree>
  </p:cSld>
  <p:transition spd="slow">
    <p:wipe dir="l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01_Main-Background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0" y="2620800"/>
            <a:ext cx="350532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504720" y="2803680"/>
            <a:ext cx="2819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Calibri"/>
              </a:rPr>
              <a:t>教具包内容</a:t>
            </a:r>
            <a:endParaRPr b="0" lang="en-US" sz="25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86" name="Rectangle 29"/>
          <p:cNvSpPr/>
          <p:nvPr/>
        </p:nvSpPr>
        <p:spPr>
          <a:xfrm>
            <a:off x="3552840" y="4648320"/>
            <a:ext cx="5591160" cy="914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87" name="Content Placeholder 4"/>
          <p:cNvSpPr/>
          <p:nvPr/>
        </p:nvSpPr>
        <p:spPr>
          <a:xfrm>
            <a:off x="3352680" y="1752480"/>
            <a:ext cx="76629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Sansation"/>
            </a:endParaRPr>
          </a:p>
          <a:p>
            <a:pPr lvl="1" marL="658080" indent="-322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99ff"/>
                </a:solidFill>
                <a:latin typeface="宋体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位课本主要人物的纸质头饰；</a:t>
            </a:r>
            <a:endParaRPr b="0" lang="en-US" sz="2800" spc="-1" strike="noStrike">
              <a:solidFill>
                <a:srgbClr val="000000"/>
              </a:solidFill>
              <a:latin typeface="Sansation"/>
            </a:endParaRPr>
          </a:p>
          <a:p>
            <a:pPr lvl="1" marL="658080" indent="-3229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99ff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动物形象的卡通手偶；</a:t>
            </a:r>
            <a:endParaRPr b="0" lang="en-US" sz="2800" spc="-1" strike="noStrike">
              <a:solidFill>
                <a:srgbClr val="000000"/>
              </a:solidFill>
              <a:latin typeface="Sansation"/>
            </a:endParaRPr>
          </a:p>
          <a:p>
            <a:pPr lvl="1" marL="658080" indent="-3229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99ff"/>
                </a:solidFill>
                <a:latin typeface="宋体"/>
                <a:ea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副教学游戏棋；</a:t>
            </a:r>
            <a:endParaRPr b="0" lang="en-US" sz="2800" spc="-1" strike="noStrike">
              <a:solidFill>
                <a:srgbClr val="000000"/>
              </a:solidFill>
              <a:latin typeface="Sansation"/>
            </a:endParaRPr>
          </a:p>
          <a:p>
            <a:pPr lvl="1" marL="658080" indent="-3229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99ff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件可悬挂的超大教学用转盘。</a:t>
            </a:r>
            <a:endParaRPr b="0" lang="en-US" sz="2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4876920" y="48006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以三年级上册教材为例</a:t>
            </a:r>
            <a:endParaRPr b="0" lang="en-US" sz="2800" spc="-1" strike="noStrike">
              <a:solidFill>
                <a:srgbClr val="000000"/>
              </a:solidFill>
              <a:latin typeface="Sansation"/>
            </a:endParaRPr>
          </a:p>
        </p:txBody>
      </p:sp>
      <p:pic>
        <p:nvPicPr>
          <p:cNvPr id="89" name="Picture 11" descr=""/>
          <p:cNvPicPr/>
          <p:nvPr/>
        </p:nvPicPr>
        <p:blipFill>
          <a:blip r:embed="rId2"/>
          <a:stretch/>
        </p:blipFill>
        <p:spPr>
          <a:xfrm>
            <a:off x="3276720" y="1143000"/>
            <a:ext cx="1371600" cy="1187280"/>
          </a:xfrm>
          <a:prstGeom prst="rect">
            <a:avLst/>
          </a:prstGeom>
          <a:ln w="0">
            <a:noFill/>
          </a:ln>
        </p:spPr>
      </p:pic>
      <p:sp>
        <p:nvSpPr>
          <p:cNvPr id="90" name="TextBox 16"/>
          <p:cNvSpPr/>
          <p:nvPr/>
        </p:nvSpPr>
        <p:spPr>
          <a:xfrm>
            <a:off x="2438280" y="6248520"/>
            <a:ext cx="7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饰</a:t>
            </a: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1" name="TextBox 19"/>
          <p:cNvSpPr/>
          <p:nvPr/>
        </p:nvSpPr>
        <p:spPr>
          <a:xfrm>
            <a:off x="4800600" y="1828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学游戏棋</a:t>
            </a: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2" name="TextBox 20"/>
          <p:cNvSpPr/>
          <p:nvPr/>
        </p:nvSpPr>
        <p:spPr>
          <a:xfrm>
            <a:off x="838080" y="2133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绒手偶</a:t>
            </a: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pic>
        <p:nvPicPr>
          <p:cNvPr id="93" name="Picture 9" descr="QQ图片20130625093220"/>
          <p:cNvPicPr/>
          <p:nvPr/>
        </p:nvPicPr>
        <p:blipFill>
          <a:blip r:embed="rId3"/>
          <a:srcRect l="17880" t="13736" r="12483" b="7999"/>
          <a:stretch/>
        </p:blipFill>
        <p:spPr>
          <a:xfrm>
            <a:off x="457200" y="457200"/>
            <a:ext cx="1974960" cy="1712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4"/>
          <a:stretch/>
        </p:blipFill>
        <p:spPr>
          <a:xfrm>
            <a:off x="3733920" y="4724280"/>
            <a:ext cx="1380960" cy="1600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"/>
          <p:cNvPicPr/>
          <p:nvPr/>
        </p:nvPicPr>
        <p:blipFill>
          <a:blip r:embed="rId5"/>
          <a:stretch/>
        </p:blipFill>
        <p:spPr>
          <a:xfrm>
            <a:off x="304920" y="396252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6"/>
          <a:stretch/>
        </p:blipFill>
        <p:spPr>
          <a:xfrm>
            <a:off x="6248520" y="1066680"/>
            <a:ext cx="1263600" cy="1228680"/>
          </a:xfrm>
          <a:prstGeom prst="rect">
            <a:avLst/>
          </a:prstGeom>
          <a:ln w="0">
            <a:noFill/>
          </a:ln>
        </p:spPr>
      </p:pic>
      <p:sp>
        <p:nvSpPr>
          <p:cNvPr id="97" name="TextBox 19"/>
          <p:cNvSpPr/>
          <p:nvPr/>
        </p:nvSpPr>
        <p:spPr>
          <a:xfrm>
            <a:off x="7696080" y="1828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学用转盘</a:t>
            </a: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4267080" y="584280"/>
            <a:ext cx="426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Calibri"/>
              </a:rPr>
              <a:t>新教材课外资源推介                          新教材课外资源推介                              新教材课外资源推介</a:t>
            </a:r>
            <a:endParaRPr b="0" lang="en-US" sz="800" spc="-1" strike="noStrike">
              <a:solidFill>
                <a:srgbClr val="000000"/>
              </a:solidFill>
              <a:latin typeface="Sansation"/>
            </a:endParaRPr>
          </a:p>
        </p:txBody>
      </p:sp>
    </p:spTree>
  </p:cSld>
  <p:transition spd="slow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01_Main-Background.jp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0" y="3530520"/>
            <a:ext cx="289548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762120" y="366084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Calibri"/>
              </a:rPr>
              <a:t>重视阅读</a:t>
            </a:r>
            <a:endParaRPr b="0" lang="en-US" sz="25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2" name="Rectangle 24"/>
          <p:cNvSpPr/>
          <p:nvPr/>
        </p:nvSpPr>
        <p:spPr>
          <a:xfrm>
            <a:off x="2971800" y="3530520"/>
            <a:ext cx="107784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3" name="Rectangle 25"/>
          <p:cNvSpPr/>
          <p:nvPr/>
        </p:nvSpPr>
        <p:spPr>
          <a:xfrm>
            <a:off x="2133720" y="4533840"/>
            <a:ext cx="1915920" cy="133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grpSp>
        <p:nvGrpSpPr>
          <p:cNvPr id="104" name="Group 33"/>
          <p:cNvGrpSpPr/>
          <p:nvPr/>
        </p:nvGrpSpPr>
        <p:grpSpPr>
          <a:xfrm>
            <a:off x="4191120" y="838080"/>
            <a:ext cx="6095880" cy="1125720"/>
            <a:chOff x="4191120" y="838080"/>
            <a:chExt cx="6095880" cy="1125720"/>
          </a:xfrm>
        </p:grpSpPr>
        <p:sp>
          <p:nvSpPr>
            <p:cNvPr id="105" name="TextBox 29"/>
            <p:cNvSpPr/>
            <p:nvPr/>
          </p:nvSpPr>
          <p:spPr>
            <a:xfrm>
              <a:off x="4191120" y="945720"/>
              <a:ext cx="598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ff"/>
                  </a:solidFill>
                  <a:latin typeface="Calibri"/>
                  <a:ea typeface="楷体_GB2312"/>
                </a:rPr>
                <a:t>阅读网站分享</a:t>
              </a:r>
              <a:endParaRPr b="0" lang="en-US" sz="3200" spc="-1" strike="noStrike">
                <a:solidFill>
                  <a:srgbClr val="000000"/>
                </a:solidFill>
                <a:latin typeface="Sansation"/>
              </a:endParaRPr>
            </a:p>
          </p:txBody>
        </p:sp>
        <p:sp>
          <p:nvSpPr>
            <p:cNvPr id="106" name="TextBox 30"/>
            <p:cNvSpPr/>
            <p:nvPr/>
          </p:nvSpPr>
          <p:spPr>
            <a:xfrm>
              <a:off x="4255920" y="1595520"/>
              <a:ext cx="603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网络  电子</a:t>
              </a:r>
              <a:endParaRPr b="0" lang="en-US" sz="1800" spc="-1" strike="noStrike">
                <a:solidFill>
                  <a:srgbClr val="000000"/>
                </a:solidFill>
                <a:latin typeface="Sansation"/>
              </a:endParaRPr>
            </a:p>
          </p:txBody>
        </p:sp>
        <p:sp>
          <p:nvSpPr>
            <p:cNvPr id="107" name="TextBox 28"/>
            <p:cNvSpPr/>
            <p:nvPr/>
          </p:nvSpPr>
          <p:spPr>
            <a:xfrm>
              <a:off x="4232880" y="838080"/>
              <a:ext cx="44848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ansatio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32960" y="4648320"/>
            <a:ext cx="1133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Calibri"/>
              </a:rPr>
              <a:t>学快乐英语</a:t>
            </a:r>
            <a:endParaRPr b="0" lang="en-US" sz="25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1938960"/>
            <a:ext cx="6648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ansation"/>
              </a:rPr>
              <a:t>BBC  www.bbc.co.uk/cbeebies/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Sansation"/>
              </a:rPr>
              <a:t>韩国</a:t>
            </a:r>
            <a:r>
              <a:rPr b="0" lang="zh-CN" sz="900" spc="-1" strike="noStrike">
                <a:solidFill>
                  <a:srgbClr val="000000"/>
                </a:solidFill>
                <a:latin typeface="Sansation"/>
              </a:rPr>
              <a:t> </a:t>
            </a:r>
            <a:r>
              <a:rPr b="0" lang="zh-CN" sz="1800" spc="-1" strike="noStrike">
                <a:solidFill>
                  <a:srgbClr val="000000"/>
                </a:solidFill>
                <a:latin typeface="Sansation"/>
              </a:rPr>
              <a:t>  </a:t>
            </a:r>
            <a:r>
              <a:rPr b="0" lang="en-US" sz="1800" spc="-1" strike="noStrike">
                <a:solidFill>
                  <a:srgbClr val="000000"/>
                </a:solidFill>
                <a:latin typeface="Sansatio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ansation"/>
              </a:rPr>
              <a:t>study.jr.naver.com/english/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Sansation"/>
              </a:rPr>
              <a:t>三齐儿童网 </a:t>
            </a:r>
            <a:r>
              <a:rPr b="0" lang="en-US" sz="1800" spc="-1" strike="noStrike">
                <a:solidFill>
                  <a:srgbClr val="000000"/>
                </a:solidFill>
                <a:latin typeface="Sansatio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ansation"/>
              </a:rPr>
              <a:t>www.3kids.net/</a:t>
            </a: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ansation"/>
              </a:rPr>
              <a:t>沪江育儿网  </a:t>
            </a:r>
            <a:r>
              <a:rPr b="0" lang="en-US" sz="1800" spc="-1" strike="noStrike">
                <a:solidFill>
                  <a:srgbClr val="000000"/>
                </a:solidFill>
                <a:latin typeface="Sansatio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ansation"/>
              </a:rPr>
              <a:t>yuer.hujiang.com/zt/bankstreet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Sansatio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ansation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Sansation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Sansation"/>
              </a:rPr>
              <a:t>Starfall  </a:t>
            </a:r>
            <a:r>
              <a:rPr b="0" lang="en-US" sz="900" spc="-1" strike="noStrike">
                <a:solidFill>
                  <a:srgbClr val="000000"/>
                </a:solidFill>
                <a:latin typeface="Sansation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Sansation"/>
              </a:rPr>
              <a:t>  www.starfall.com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Sansatio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ansation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Sansation"/>
              </a:rPr>
              <a:t>   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Sansation"/>
              </a:rPr>
              <a:t>英文阅读网 </a:t>
            </a:r>
            <a:r>
              <a:rPr b="0" lang="en-US" sz="1800" spc="-1" strike="noStrike">
                <a:solidFill>
                  <a:srgbClr val="000000"/>
                </a:solidFill>
                <a:latin typeface="Sansatio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ansation"/>
              </a:rPr>
              <a:t>www.enread.com/story/ 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Sansatio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ansatio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Sansati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ansation"/>
              </a:rPr>
              <a:t>大耳朵英语 </a:t>
            </a:r>
            <a:r>
              <a:rPr b="0" lang="en-US" sz="1800" spc="-1" strike="noStrike">
                <a:solidFill>
                  <a:srgbClr val="000000"/>
                </a:solidFill>
                <a:latin typeface="Sansatio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ansation"/>
              </a:rPr>
              <a:t>www.ebigear.com/  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Sansatio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Sansation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Sansatio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ansation"/>
              </a:rPr>
              <a:t>旺旺英语 </a:t>
            </a:r>
            <a:r>
              <a:rPr b="0" lang="en-US" sz="1800" spc="-1" strike="noStrike">
                <a:solidFill>
                  <a:srgbClr val="000000"/>
                </a:solidFill>
                <a:latin typeface="Sansatio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ansation"/>
              </a:rPr>
              <a:t>www.wwenglish.com/t/d/</a:t>
            </a: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ansation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ansation"/>
              </a:rPr>
              <a:t>   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-3527280" y="150660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-3375000" y="2055960"/>
            <a:ext cx="190440" cy="14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-2689200" y="260496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-4060800" y="28796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-3286080" y="315432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-4060800" y="3429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-4060800" y="37036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-4060800" y="3978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-4060800" y="425304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2"/>
          <a:stretch/>
        </p:blipFill>
        <p:spPr>
          <a:xfrm>
            <a:off x="-4060800" y="4527720"/>
            <a:ext cx="142920" cy="142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4267080" y="584280"/>
            <a:ext cx="426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Calibri"/>
              </a:rPr>
              <a:t>新教材课外资源推介                          新教材课外资源推介                              新教材课外资源推介</a:t>
            </a:r>
            <a:endParaRPr b="0" lang="en-US" sz="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</p:spTree>
  </p:cSld>
  <p:transition spd="slow">
    <p:wipe dir="l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01_Main-Background.jp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0" y="3530520"/>
            <a:ext cx="289548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762120" y="366084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Calibri"/>
              </a:rPr>
              <a:t>重视阅读</a:t>
            </a:r>
            <a:endParaRPr b="0" lang="en-US" sz="25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25" name="Rectangle 24"/>
          <p:cNvSpPr/>
          <p:nvPr/>
        </p:nvSpPr>
        <p:spPr>
          <a:xfrm>
            <a:off x="2971800" y="3530520"/>
            <a:ext cx="107784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26" name="Rectangle 25"/>
          <p:cNvSpPr/>
          <p:nvPr/>
        </p:nvSpPr>
        <p:spPr>
          <a:xfrm>
            <a:off x="2133720" y="4533840"/>
            <a:ext cx="1915920" cy="133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grpSp>
        <p:nvGrpSpPr>
          <p:cNvPr id="127" name="Group 33"/>
          <p:cNvGrpSpPr/>
          <p:nvPr/>
        </p:nvGrpSpPr>
        <p:grpSpPr>
          <a:xfrm>
            <a:off x="4191120" y="1219320"/>
            <a:ext cx="6095880" cy="1125720"/>
            <a:chOff x="4191120" y="1219320"/>
            <a:chExt cx="6095880" cy="1125720"/>
          </a:xfrm>
        </p:grpSpPr>
        <p:sp>
          <p:nvSpPr>
            <p:cNvPr id="128" name="TextBox 29"/>
            <p:cNvSpPr/>
            <p:nvPr/>
          </p:nvSpPr>
          <p:spPr>
            <a:xfrm>
              <a:off x="4191120" y="1326960"/>
              <a:ext cx="598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ff"/>
                  </a:solidFill>
                  <a:latin typeface="Calibri"/>
                  <a:ea typeface="楷体_GB2312"/>
                </a:rPr>
                <a:t>《</a:t>
              </a:r>
              <a:r>
                <a:rPr b="1" lang="zh-CN" sz="3200" spc="-1" strike="noStrike">
                  <a:solidFill>
                    <a:srgbClr val="0099ff"/>
                  </a:solidFill>
                  <a:latin typeface="Calibri"/>
                  <a:ea typeface="楷体_GB2312"/>
                </a:rPr>
                <a:t>快乐英语阅读</a:t>
              </a:r>
              <a:r>
                <a:rPr b="1" lang="en-US" sz="3200" spc="-1" strike="noStrike">
                  <a:solidFill>
                    <a:srgbClr val="0099ff"/>
                  </a:solidFill>
                  <a:latin typeface="Calibri"/>
                  <a:ea typeface="楷体_GB2312"/>
                </a:rPr>
                <a:t>》</a:t>
              </a:r>
              <a:r>
                <a:rPr b="1" lang="zh-CN" sz="3200" spc="-1" strike="noStrike">
                  <a:solidFill>
                    <a:srgbClr val="0099ff"/>
                  </a:solidFill>
                  <a:latin typeface="Calibri"/>
                  <a:ea typeface="楷体_GB2312"/>
                </a:rPr>
                <a:t>译林版</a:t>
              </a:r>
              <a:endParaRPr b="0" lang="en-US" sz="3200" spc="-1" strike="noStrike">
                <a:solidFill>
                  <a:srgbClr val="000000"/>
                </a:solidFill>
                <a:latin typeface="Sansation"/>
              </a:endParaRPr>
            </a:p>
          </p:txBody>
        </p:sp>
        <p:sp>
          <p:nvSpPr>
            <p:cNvPr id="129" name="TextBox 30"/>
            <p:cNvSpPr/>
            <p:nvPr/>
          </p:nvSpPr>
          <p:spPr>
            <a:xfrm>
              <a:off x="4255920" y="1976760"/>
              <a:ext cx="603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传统  </a:t>
              </a:r>
              <a:r>
                <a:rPr b="1" lang="zh-CN" sz="1800" spc="-1" strike="noStrike">
                  <a:solidFill>
                    <a:srgbClr val="000000"/>
                  </a:solidFill>
                  <a:latin typeface="Calibri"/>
                </a:rPr>
                <a:t>纸质</a:t>
              </a:r>
              <a:endParaRPr b="0" lang="en-US" sz="1800" spc="-1" strike="noStrike">
                <a:solidFill>
                  <a:srgbClr val="000000"/>
                </a:solidFill>
                <a:latin typeface="Sansation"/>
              </a:endParaRPr>
            </a:p>
          </p:txBody>
        </p:sp>
        <p:sp>
          <p:nvSpPr>
            <p:cNvPr id="130" name="TextBox 28"/>
            <p:cNvSpPr/>
            <p:nvPr/>
          </p:nvSpPr>
          <p:spPr>
            <a:xfrm>
              <a:off x="4232880" y="1219320"/>
              <a:ext cx="44848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ansatio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532960" y="4648320"/>
            <a:ext cx="1133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Calibri"/>
              </a:rPr>
              <a:t>学快乐英语</a:t>
            </a:r>
            <a:endParaRPr b="0" lang="en-US" sz="2500" spc="-1" strike="noStrike">
              <a:solidFill>
                <a:srgbClr val="000000"/>
              </a:solidFill>
              <a:latin typeface="Sansatio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140360" y="2438280"/>
            <a:ext cx="2438280" cy="3429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648480" y="2451240"/>
            <a:ext cx="2457360" cy="3429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6"/>
          <p:cNvSpPr/>
          <p:nvPr/>
        </p:nvSpPr>
        <p:spPr>
          <a:xfrm>
            <a:off x="4267080" y="584280"/>
            <a:ext cx="426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Calibri"/>
              </a:rPr>
              <a:t>新教材课外资源推介                          新教材课外资源推介                              新教材课外资源推介</a:t>
            </a:r>
            <a:endParaRPr b="0" lang="en-US" sz="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</p:spTree>
  </p:cSld>
  <p:transition spd="slow">
    <p:wipe dir="l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01_Main-Background.jp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02"/>
          <p:cNvSpPr/>
          <p:nvPr/>
        </p:nvSpPr>
        <p:spPr>
          <a:xfrm>
            <a:off x="1066680" y="2550960"/>
            <a:ext cx="3429000" cy="3362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1763640"/>
            <a:ext cx="3384720" cy="731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533520" y="1824120"/>
            <a:ext cx="2698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Calibri"/>
              </a:rPr>
              <a:t>内容介绍</a:t>
            </a:r>
            <a:endParaRPr b="0" lang="en-US" sz="25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3444840" y="1763640"/>
            <a:ext cx="1050840" cy="7318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1" name="TextBox 15"/>
          <p:cNvSpPr/>
          <p:nvPr/>
        </p:nvSpPr>
        <p:spPr>
          <a:xfrm>
            <a:off x="7959600" y="1625760"/>
            <a:ext cx="443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4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fbfbf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Sansation"/>
            </a:endParaRPr>
          </a:p>
          <a:p>
            <a:pPr>
              <a:lnSpc>
                <a:spcPts val="54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fbfbf"/>
                </a:solidFill>
                <a:latin typeface="Calibri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Sansation"/>
            </a:endParaRPr>
          </a:p>
          <a:p>
            <a:pPr>
              <a:lnSpc>
                <a:spcPts val="54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fbfbf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Sansation"/>
            </a:endParaRPr>
          </a:p>
          <a:p>
            <a:pPr>
              <a:lnSpc>
                <a:spcPts val="54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fbfbf"/>
                </a:solidFill>
                <a:latin typeface="Calibri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Sansation"/>
            </a:endParaRPr>
          </a:p>
          <a:p>
            <a:pPr>
              <a:lnSpc>
                <a:spcPts val="54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fbfbf"/>
                </a:solidFill>
                <a:latin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Sansation"/>
            </a:endParaRPr>
          </a:p>
          <a:p>
            <a:pPr>
              <a:lnSpc>
                <a:spcPts val="54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fbfbf"/>
                </a:solidFill>
                <a:latin typeface="Calibri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1371600"/>
            <a:ext cx="4419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My comics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多格卡通</a:t>
            </a:r>
            <a:endParaRPr b="0" lang="en-US" sz="1600" spc="-1" strike="noStrike">
              <a:solidFill>
                <a:srgbClr val="000000"/>
              </a:solidFill>
              <a:latin typeface="Sansatio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学生的词汇量和认知水平，让教材中的卡通人物</a:t>
            </a:r>
            <a:r>
              <a:rPr b="0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am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obby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出课堂，在课外继续给同学们带来精彩的故事，难度等同或略高于教材。</a:t>
            </a:r>
            <a:endParaRPr b="0" lang="en-US" sz="1600" spc="-1" strike="noStrike">
              <a:solidFill>
                <a:srgbClr val="000000"/>
              </a:solidFill>
              <a:latin typeface="Sansatio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219320" y="2666880"/>
            <a:ext cx="3200400" cy="3124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724280" y="2971800"/>
            <a:ext cx="4419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Story town/Mini threatre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趣味故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小小剧场</a:t>
            </a:r>
            <a:endParaRPr b="0" lang="en-US" sz="1600" spc="-1" strike="noStrike">
              <a:solidFill>
                <a:srgbClr val="000000"/>
              </a:solidFill>
              <a:latin typeface="Sansatio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典有趣的小故事或小剧本，即可以读，也可以演。配有精美绘图，让阅读更有趣。</a:t>
            </a:r>
            <a:endParaRPr b="0" lang="en-US" sz="1600" spc="-1" strike="noStrike">
              <a:solidFill>
                <a:srgbClr val="000000"/>
              </a:solidFill>
              <a:latin typeface="Sansatio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104840" y="2590920"/>
            <a:ext cx="3353040" cy="3276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724280" y="4114800"/>
            <a:ext cx="4267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Mini task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小试牛刀</a:t>
            </a:r>
            <a:endParaRPr b="0" lang="en-US" sz="1600" spc="-1" strike="noStrike">
              <a:solidFill>
                <a:srgbClr val="000000"/>
              </a:solidFill>
              <a:latin typeface="Sansatio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针对</a:t>
            </a:r>
            <a:r>
              <a:rPr b="0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ory town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ni theatre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供的故事材料，设置一些开放性强、趣味性高、易操作的多样性题目，供学生进行自我评估。</a:t>
            </a:r>
            <a:endParaRPr b="0" lang="en-US" sz="16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5562720"/>
            <a:ext cx="4419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Around the world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大千世界</a:t>
            </a:r>
            <a:endParaRPr b="0" lang="en-US" sz="1600" spc="-1" strike="noStrike">
              <a:solidFill>
                <a:srgbClr val="000000"/>
              </a:solidFill>
              <a:latin typeface="Sansatio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深入浅出的语言，介绍百科知识，开阔学生的眼界，用英语了解世界！</a:t>
            </a:r>
            <a:endParaRPr b="0" lang="en-US" sz="16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4267080" y="584280"/>
            <a:ext cx="426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Calibri"/>
              </a:rPr>
              <a:t>新教材课外资源推介                          新教材课外资源推介                              新教材课外资源推介</a:t>
            </a:r>
            <a:endParaRPr b="0" lang="en-US" sz="800" spc="-1" strike="noStrike">
              <a:solidFill>
                <a:srgbClr val="000000"/>
              </a:solidFill>
              <a:latin typeface="Sansation"/>
            </a:endParaRPr>
          </a:p>
        </p:txBody>
      </p:sp>
    </p:spTree>
  </p:cSld>
  <p:transition spd="slow">
    <p:blinds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01_Main-Background.jp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0" y="3530520"/>
            <a:ext cx="289548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762120" y="364644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Calibri"/>
              </a:rPr>
              <a:t>保障听说</a:t>
            </a:r>
            <a:endParaRPr b="0" lang="en-US" sz="25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2" name="Rectangle 24"/>
          <p:cNvSpPr/>
          <p:nvPr/>
        </p:nvSpPr>
        <p:spPr>
          <a:xfrm>
            <a:off x="2971800" y="3530520"/>
            <a:ext cx="107784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3" name="Rectangle 25"/>
          <p:cNvSpPr/>
          <p:nvPr/>
        </p:nvSpPr>
        <p:spPr>
          <a:xfrm>
            <a:off x="2133720" y="4533840"/>
            <a:ext cx="1915920" cy="133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grpSp>
        <p:nvGrpSpPr>
          <p:cNvPr id="154" name="Group 33"/>
          <p:cNvGrpSpPr/>
          <p:nvPr/>
        </p:nvGrpSpPr>
        <p:grpSpPr>
          <a:xfrm>
            <a:off x="4267080" y="1143000"/>
            <a:ext cx="6248520" cy="1125720"/>
            <a:chOff x="4267080" y="1143000"/>
            <a:chExt cx="6248520" cy="1125720"/>
          </a:xfrm>
        </p:grpSpPr>
        <p:sp>
          <p:nvSpPr>
            <p:cNvPr id="155" name="TextBox 29"/>
            <p:cNvSpPr/>
            <p:nvPr/>
          </p:nvSpPr>
          <p:spPr>
            <a:xfrm>
              <a:off x="4267080" y="1250640"/>
              <a:ext cx="549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ff"/>
                  </a:solidFill>
                  <a:latin typeface="Calibri"/>
                  <a:ea typeface="楷体_GB2312"/>
                </a:rPr>
                <a:t>“</a:t>
              </a:r>
              <a:r>
                <a:rPr b="1" lang="zh-CN" sz="3200" spc="-1" strike="noStrike">
                  <a:solidFill>
                    <a:srgbClr val="0099ff"/>
                  </a:solidFill>
                  <a:latin typeface="Calibri"/>
                  <a:ea typeface="楷体_GB2312"/>
                </a:rPr>
                <a:t>一起作业网”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ww.17zuoye.com</a:t>
              </a:r>
              <a:endParaRPr b="0" lang="en-US" sz="1800" spc="-1" strike="noStrike">
                <a:solidFill>
                  <a:srgbClr val="000000"/>
                </a:solidFill>
                <a:latin typeface="Sansation"/>
              </a:endParaRPr>
            </a:p>
          </p:txBody>
        </p:sp>
        <p:sp>
          <p:nvSpPr>
            <p:cNvPr id="156" name="TextBox 30"/>
            <p:cNvSpPr/>
            <p:nvPr/>
          </p:nvSpPr>
          <p:spPr>
            <a:xfrm>
              <a:off x="4332240" y="1900440"/>
              <a:ext cx="618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数字   学习平台</a:t>
              </a:r>
              <a:endParaRPr b="0" lang="en-US" sz="1800" spc="-1" strike="noStrike">
                <a:solidFill>
                  <a:srgbClr val="000000"/>
                </a:solidFill>
                <a:latin typeface="Sansation"/>
              </a:endParaRPr>
            </a:p>
          </p:txBody>
        </p:sp>
        <p:sp>
          <p:nvSpPr>
            <p:cNvPr id="157" name="TextBox 28"/>
            <p:cNvSpPr/>
            <p:nvPr/>
          </p:nvSpPr>
          <p:spPr>
            <a:xfrm>
              <a:off x="4311360" y="1143000"/>
              <a:ext cx="45957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ansation"/>
              </a:endParaRPr>
            </a:p>
          </p:txBody>
        </p:sp>
      </p:grp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191120" y="2362320"/>
            <a:ext cx="4724280" cy="3867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532960" y="4648320"/>
            <a:ext cx="1133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Calibri"/>
              </a:rPr>
              <a:t>做开心作业</a:t>
            </a:r>
            <a:endParaRPr b="0" lang="en-US" sz="25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4267080" y="584280"/>
            <a:ext cx="426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Calibri"/>
              </a:rPr>
              <a:t>新教材课外资源推介                          新教材课外资源推介                              新教材课外资源推介</a:t>
            </a:r>
            <a:endParaRPr b="0" lang="en-US" sz="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</p:spTree>
  </p:cSld>
  <p:transition spd="slow">
    <p:blinds dir="vert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01_Main-Background.jp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9"/>
          <p:cNvSpPr/>
          <p:nvPr/>
        </p:nvSpPr>
        <p:spPr>
          <a:xfrm>
            <a:off x="5791320" y="4800600"/>
            <a:ext cx="3352680" cy="11685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143000"/>
            <a:ext cx="70866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f81bd"/>
                </a:solidFill>
                <a:latin typeface="宋体"/>
              </a:rPr>
              <a:t>问题：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口语学习小组过程性评价的科学性、有效性如何保障</a:t>
            </a: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f81bd"/>
                </a:solidFill>
                <a:latin typeface="宋体"/>
              </a:rPr>
              <a:t>突破：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“一起作业网”</a:t>
            </a: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f81bd"/>
                </a:solidFill>
                <a:latin typeface="宋体"/>
              </a:rPr>
              <a:t>策略：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课题组内先实验，再全校推广</a:t>
            </a: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Step 1.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请一位技术好的老师先学习，再由她教会其他老师</a:t>
            </a: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Step 2.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任课老师将申请好的本班学生号和密码上传班级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QQ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群</a:t>
            </a: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Step 3.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布置英语口头作业</a:t>
            </a: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Step 4.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查看学习情况报告并进行点评</a:t>
            </a: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宋体"/>
              </a:rPr>
              <a:t>成效：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课堂学习更卖力，学生主动问老师要作业做。</a:t>
            </a: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妈妈再也不用担心我的英语学习啦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口语作业再也不是“漏网之鱼”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4267080" y="584280"/>
            <a:ext cx="426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Calibri"/>
              </a:rPr>
              <a:t>新教材课外资源推介                          新教材课外资源推介                              新教材课外资源推介</a:t>
            </a:r>
            <a:endParaRPr b="0" lang="en-US" sz="8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5029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et our team</a:t>
            </a:r>
            <a:endParaRPr b="0" lang="en-US" sz="24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7" name=""/>
          <p:cNvSpPr txBox="1"/>
          <p:nvPr/>
        </p:nvSpPr>
        <p:spPr>
          <a:xfrm rot="6059400">
            <a:off x="4663440" y="4219560"/>
            <a:ext cx="25527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4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减负增效</a:t>
            </a:r>
            <a:endParaRPr b="1" i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spd="slow">
    <p:blinds dir="ver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1T07:44:35Z</dcterms:created>
  <dc:creator>Abdur Razzak</dc:creator>
  <dc:description/>
  <dc:language>en-US</dc:language>
  <cp:lastModifiedBy>*</cp:lastModifiedBy>
  <dcterms:modified xsi:type="dcterms:W3CDTF">2013-08-30T14:42:35Z</dcterms:modified>
  <cp:revision>371</cp:revision>
  <dc:subject/>
  <dc:title>Slide 20</dc:title>
</cp:coreProperties>
</file>