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308-0C39-4A6E-9D8F-8DDE1938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23E7-CBC7-4B1E-8075-7A8E4501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FE2A-B366-41D5-9D82-5ADFD659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A9B0-C88D-4322-B4C7-2A20D612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AB33-A5FF-4AB6-946B-0DFB85FF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3039-A915-4658-A438-1D5459CF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42C-ADEF-4D24-A777-D4949708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8BA9-DA3F-432F-871A-EDECCB04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78A2-0E75-43BC-B6BF-EE2E6B8C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26A8-D901-49F0-BF1F-4E2DEAB5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6B71-CF5A-4904-ADFC-4F5EA26C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52C4-2100-4452-A913-3D7D5E8B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E48A-15A7-4EC4-AFCD-6C4DCAA65F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xxyy.fhedu.cn/" TargetMode="External"/><Relationship Id="rId3" Type="http://schemas.openxmlformats.org/officeDocument/2006/relationships/hyperlink" Target="http://www.njyyjy.com/" TargetMode="External"/><Relationship Id="rId4" Type="http://schemas.openxmlformats.org/officeDocument/2006/relationships/hyperlink" Target="http://www.njzxxyy.com/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24256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124600"/>
            <a:ext cx="9144000" cy="173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1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14842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新教材研修建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2000" y="4581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州市觅渡教育集团  朱兰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292428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227664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开放合作的教学研究中超越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79640" y="18900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心路历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99640" y="836640"/>
            <a:ext cx="7201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二、开放研究形式，乐于展示自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000" y="2133360"/>
            <a:ext cx="784836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4446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进教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科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9640" y="836640"/>
            <a:ext cx="7201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二、开放研究形式，乐于展示自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2133360"/>
            <a:ext cx="784836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3290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研究共同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新课标同行”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886346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凤凰教育网小学英语群”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7988759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9640" y="836640"/>
            <a:ext cx="7201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二、开放研究形式，乐于展示自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8533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研究共同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种：英语教学网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《小学英语—凤凰教育网》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xxyy.fhedu.c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《江苏省牛津英语教研网》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njyyjy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《牛津中小学英语网》网址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njzxxyy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各地英语教研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99640" y="836640"/>
            <a:ext cx="7201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二、开放研究形式，乐于展示自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6337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研究共同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种：自愿者组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99640" y="836640"/>
            <a:ext cx="7201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三、开放研究路径，善于提升自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6337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从教学问题到研究主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42472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单元整体设计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单元整体设计是英语课程目标多元化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单元整体设计是牛津英语教材板块编排的要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0"/>
            <a:ext cx="43927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元整体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00000" y="907920"/>
            <a:ext cx="5688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单元整体设计的原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统一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系统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连续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递进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反复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巩固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03280" y="0"/>
            <a:ext cx="4032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元整体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00000" y="907920"/>
            <a:ext cx="5688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三）单元整体设计的思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确定单元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分解课时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合理组合板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03280" y="0"/>
            <a:ext cx="4321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元整体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9640" y="836640"/>
            <a:ext cx="7201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三、开放研究路径，善于提升自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6337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从教学问题到研究主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2997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从被动参与到主动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9640" y="836640"/>
            <a:ext cx="7201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、开放研究心态，勇于突破自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2133360"/>
            <a:ext cx="784836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想一：改变从接纳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想二：团队为成长导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195640" y="2708280"/>
            <a:ext cx="4608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noFill/>
                </a:ln>
                <a:solidFill>
                  <a:srgbClr val="ff3300"/>
                </a:solidFill>
                <a:latin typeface="黑体"/>
              </a:rPr>
              <a:t>Thank you!</a:t>
            </a:r>
            <a:endParaRPr b="1" i="1" lang="en-US" sz="5400" spc="1" strike="noStrike">
              <a:ln w="0">
                <a:noFill/>
              </a:ln>
              <a:solidFill>
                <a:srgbClr val="ff33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9640" y="836640"/>
            <a:ext cx="7201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二、开放研究形式，乐于展示自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2133360"/>
            <a:ext cx="784836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249840" indent="-24984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年教师研修团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专题讲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例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沙龙研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18900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团队成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124000" y="18900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英语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124000" y="18900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解构教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24000" y="18900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指导说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24000" y="11592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课例研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24000" y="11592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课例研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2:49:52Z</dcterms:created>
  <dc:creator>wuliang</dc:creator>
  <dc:description/>
  <dc:language>en-US</dc:language>
  <cp:lastModifiedBy>雨林木风</cp:lastModifiedBy>
  <dcterms:modified xsi:type="dcterms:W3CDTF">2013-08-27T09:26:30Z</dcterms:modified>
  <cp:revision>72</cp:revision>
  <dc:subject/>
  <dc:title>幻灯片 1</dc:title>
</cp:coreProperties>
</file>