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28.jpeg" ContentType="image/jpeg"/>
  <Override PartName="/ppt/media/image20.png" ContentType="image/png"/>
  <Override PartName="/ppt/media/image15.gif" ContentType="image/gif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12.png" ContentType="image/png"/>
  <Override PartName="/ppt/media/image8.png" ContentType="image/png"/>
  <Override PartName="/ppt/media/image38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16.png" ContentType="image/png"/>
  <Override PartName="/ppt/media/image13.gif" ContentType="image/gif"/>
  <Override PartName="/ppt/media/image40.png" ContentType="image/png"/>
  <Override PartName="/ppt/media/image31.jpeg" ContentType="image/jpeg"/>
  <Override PartName="/ppt/media/image2.png" ContentType="image/png"/>
  <Override PartName="/ppt/media/image43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5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42.gif" ContentType="image/gif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3E3B-75EB-48DC-8D87-7DF8A3AA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321-84D5-429D-B65F-AA18EEDF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DC5D-C8AF-44B5-9511-85D988FC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A720-546D-46EC-91A6-85B28ECC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899A-6D12-43C6-A50E-C200CE91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94AB-C098-4A61-8536-0E786959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DA3-007D-46E6-9607-D5F4F87B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97A4-FCFD-44CC-B4EF-B6592AB7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6DD3-777F-4228-A786-E205D514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207-96F4-456F-82DF-D239379F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032-0C4C-42BA-B773-1924179C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959-89A2-4A0E-A376-B22AE6F8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FB7D-A6CF-4001-AF1D-93A062F9E5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image" Target="../media/image34.jpe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image" Target="../media/image35.jpe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image" Target="../media/image31.jpe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36.png"/><Relationship Id="rId3" Type="http://schemas.openxmlformats.org/officeDocument/2006/relationships/image" Target="../media/image30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22.png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0.png"/><Relationship Id="rId5" Type="http://schemas.openxmlformats.org/officeDocument/2006/relationships/hyperlink" Target="http://www.17zuoye.com/teacher/index.shtml" TargetMode="External"/><Relationship Id="rId6" Type="http://schemas.openxmlformats.org/officeDocument/2006/relationships/image" Target="../media/image42.gif"/><Relationship Id="rId7" Type="http://schemas.openxmlformats.org/officeDocument/2006/relationships/image" Target="../media/image43.png"/><Relationship Id="rId8" Type="http://schemas.openxmlformats.org/officeDocument/2006/relationships/image" Target="../media/image42.gi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162720" y="6438960"/>
            <a:ext cx="209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zh-CN" sz="10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3" descr=""/>
          <p:cNvPicPr/>
          <p:nvPr/>
        </p:nvPicPr>
        <p:blipFill>
          <a:blip r:embed="rId2"/>
          <a:stretch/>
        </p:blipFill>
        <p:spPr>
          <a:xfrm flipH="1" rot="21391800">
            <a:off x="123480" y="622080"/>
            <a:ext cx="2322360" cy="33260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0" descr=""/>
          <p:cNvPicPr/>
          <p:nvPr/>
        </p:nvPicPr>
        <p:blipFill>
          <a:blip r:embed="rId3"/>
          <a:stretch/>
        </p:blipFill>
        <p:spPr>
          <a:xfrm>
            <a:off x="0" y="2133720"/>
            <a:ext cx="1089000" cy="1753920"/>
          </a:xfrm>
          <a:prstGeom prst="rect">
            <a:avLst/>
          </a:prstGeom>
          <a:ln w="0">
            <a:noFill/>
          </a:ln>
        </p:spPr>
      </p:pic>
      <p:sp>
        <p:nvSpPr>
          <p:cNvPr id="44" name="流程图: 手动输入 6"/>
          <p:cNvSpPr/>
          <p:nvPr/>
        </p:nvSpPr>
        <p:spPr>
          <a:xfrm flipH="1" flipV="1" rot="10800000">
            <a:off x="0" y="3111840"/>
            <a:ext cx="9144000" cy="3745080"/>
          </a:xfrm>
          <a:prstGeom prst="flowChartManualInput">
            <a:avLst/>
          </a:prstGeom>
          <a:solidFill>
            <a:srgbClr val="ffcc00"/>
          </a:solidFill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6"/>
          <p:cNvSpPr/>
          <p:nvPr/>
        </p:nvSpPr>
        <p:spPr>
          <a:xfrm rot="21335400">
            <a:off x="915840" y="533160"/>
            <a:ext cx="822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Gothic"/>
              </a:rPr>
              <a:t>4A Unit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Gothic"/>
              </a:rPr>
              <a:t>How many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7" descr=""/>
          <p:cNvPicPr/>
          <p:nvPr/>
        </p:nvPicPr>
        <p:blipFill>
          <a:blip r:embed="rId4"/>
          <a:stretch/>
        </p:blipFill>
        <p:spPr>
          <a:xfrm rot="20794800">
            <a:off x="414000" y="1541520"/>
            <a:ext cx="674640" cy="6159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8" descr=""/>
          <p:cNvPicPr/>
          <p:nvPr/>
        </p:nvPicPr>
        <p:blipFill>
          <a:blip r:embed="rId5"/>
          <a:stretch/>
        </p:blipFill>
        <p:spPr>
          <a:xfrm>
            <a:off x="1231920" y="2023920"/>
            <a:ext cx="712800" cy="7556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9" descr=""/>
          <p:cNvPicPr/>
          <p:nvPr/>
        </p:nvPicPr>
        <p:blipFill>
          <a:blip r:embed="rId6"/>
          <a:stretch/>
        </p:blipFill>
        <p:spPr>
          <a:xfrm>
            <a:off x="1407960" y="3365640"/>
            <a:ext cx="592200" cy="5475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20" descr=""/>
          <p:cNvPicPr/>
          <p:nvPr/>
        </p:nvPicPr>
        <p:blipFill>
          <a:blip r:embed="rId7"/>
          <a:stretch/>
        </p:blipFill>
        <p:spPr>
          <a:xfrm>
            <a:off x="557280" y="2774880"/>
            <a:ext cx="230040" cy="2113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21" descr=""/>
          <p:cNvPicPr/>
          <p:nvPr/>
        </p:nvPicPr>
        <p:blipFill>
          <a:blip r:embed="rId8"/>
          <a:stretch/>
        </p:blipFill>
        <p:spPr>
          <a:xfrm>
            <a:off x="701640" y="2822400"/>
            <a:ext cx="270000" cy="2462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6" descr=""/>
          <p:cNvPicPr/>
          <p:nvPr/>
        </p:nvPicPr>
        <p:blipFill>
          <a:blip r:embed="rId9"/>
          <a:stretch/>
        </p:blipFill>
        <p:spPr>
          <a:xfrm>
            <a:off x="1828800" y="2590920"/>
            <a:ext cx="681120" cy="11761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8" descr=""/>
          <p:cNvPicPr/>
          <p:nvPr/>
        </p:nvPicPr>
        <p:blipFill>
          <a:blip r:embed="rId10"/>
          <a:stretch/>
        </p:blipFill>
        <p:spPr>
          <a:xfrm rot="732600">
            <a:off x="7237080" y="149040"/>
            <a:ext cx="1584360" cy="1584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 rot="21315000">
            <a:off x="529920" y="3580920"/>
            <a:ext cx="8182080" cy="26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1031"/>
                </a:solidFill>
                <a:latin typeface="Jokerman"/>
              </a:rPr>
              <a:t>Period1: story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Jokerman"/>
              </a:rPr>
              <a:t>Lucheng Primary School</a:t>
            </a:r>
            <a:r>
              <a:rPr b="0" lang="zh-CN" sz="6600" spc="-1" strike="noStrike">
                <a:solidFill>
                  <a:srgbClr val="f81031"/>
                </a:solidFill>
                <a:latin typeface="Joker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Jokerman"/>
              </a:rPr>
              <a:t>Zhang Yiwe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52280"/>
            <a:ext cx="7238880" cy="132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Tips: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Note the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ones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intonation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注意语气、语调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28600" y="4572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791320" y="4952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V="1">
            <a:off x="3809880" y="5638680"/>
            <a:ext cx="22860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5715000"/>
            <a:ext cx="2286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2459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5437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2146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6130800" y="5492880"/>
            <a:ext cx="601920" cy="561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C:\Documents and Settings\Administrator\桌面\abstract-design-with-beautiful-flowers2.png"/>
          <p:cNvPicPr/>
          <p:nvPr/>
        </p:nvPicPr>
        <p:blipFill>
          <a:blip r:embed="rId2"/>
          <a:stretch/>
        </p:blipFill>
        <p:spPr>
          <a:xfrm>
            <a:off x="6659640" y="4365720"/>
            <a:ext cx="973080" cy="880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809880" y="457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5105520" y="35053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457200" y="38098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327672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V="1">
            <a:off x="2209680" y="1218960"/>
            <a:ext cx="228600" cy="53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352680" y="1142640"/>
            <a:ext cx="2286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4572000"/>
            <a:ext cx="38124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78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79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0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81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2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84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85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6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87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3504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2303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212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2825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6130800" y="5492880"/>
            <a:ext cx="601920" cy="561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C:\Documents and Settings\Administrator\桌面\abstract-design-with-beautiful-flowers2.png"/>
          <p:cNvPicPr/>
          <p:nvPr/>
        </p:nvPicPr>
        <p:blipFill>
          <a:blip r:embed="rId2"/>
          <a:stretch/>
        </p:blipFill>
        <p:spPr>
          <a:xfrm>
            <a:off x="6659640" y="4365720"/>
            <a:ext cx="973080" cy="880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rcRect l="0" t="0" r="7503" b="0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838080" y="228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7238880" y="990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V="1">
            <a:off x="4267080" y="609120"/>
            <a:ext cx="30492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14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15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6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17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8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20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21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2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23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4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2015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44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6130800" y="5492880"/>
            <a:ext cx="601920" cy="561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C:\Documents and Settings\Administrator\桌面\abstract-design-with-beautiful-flowers2.png"/>
          <p:cNvPicPr/>
          <p:nvPr/>
        </p:nvPicPr>
        <p:blipFill>
          <a:blip r:embed="rId2"/>
          <a:stretch/>
        </p:blipFill>
        <p:spPr>
          <a:xfrm>
            <a:off x="6659640" y="4365720"/>
            <a:ext cx="973080" cy="880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066680" y="763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5638680" y="4572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380880" y="32004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7010280" y="3886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952880" y="1143000"/>
            <a:ext cx="30492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590920" y="3809520"/>
            <a:ext cx="30456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40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41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2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43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4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46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47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8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49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0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5516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3844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624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10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Oval 22"/>
          <p:cNvSpPr/>
          <p:nvPr/>
        </p:nvSpPr>
        <p:spPr>
          <a:xfrm>
            <a:off x="6881760" y="4222800"/>
            <a:ext cx="611280" cy="71892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182680" y="-462960"/>
            <a:ext cx="7272720" cy="3844440"/>
            <a:chOff x="2182680" y="-462960"/>
            <a:chExt cx="7272720" cy="3844440"/>
          </a:xfrm>
        </p:grpSpPr>
        <p:sp>
          <p:nvSpPr>
            <p:cNvPr id="154" name=""/>
            <p:cNvSpPr/>
            <p:nvPr/>
          </p:nvSpPr>
          <p:spPr>
            <a:xfrm>
              <a:off x="2182680" y="469440"/>
              <a:ext cx="6705720" cy="291204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ffff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</a:rPr>
                <a:t>Let’s </a:t>
              </a: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read in groups</a:t>
              </a:r>
              <a:r>
                <a:rPr b="1" lang="zh-CN" sz="48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人一组，有感情地朗读课文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互相纠正发音、语气和语调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 rot="1253400">
              <a:off x="6565320" y="-76320"/>
              <a:ext cx="2578320" cy="222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752480" cy="1633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rcRect l="0" t="4544" r="0" b="9095"/>
          <a:stretch/>
        </p:blipFill>
        <p:spPr>
          <a:xfrm>
            <a:off x="2209680" y="3962520"/>
            <a:ext cx="2286000" cy="2895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105520" y="4276800"/>
            <a:ext cx="2295360" cy="2504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7416720" y="4419720"/>
            <a:ext cx="1727280" cy="2438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rcRect l="0" t="3962" r="9219" b="55510"/>
          <a:stretch/>
        </p:blipFill>
        <p:spPr>
          <a:xfrm>
            <a:off x="0" y="3733920"/>
            <a:ext cx="23623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2209680" y="-789480"/>
            <a:ext cx="7602840" cy="4277880"/>
            <a:chOff x="2209680" y="-789480"/>
            <a:chExt cx="7602840" cy="4277880"/>
          </a:xfrm>
        </p:grpSpPr>
        <p:sp>
          <p:nvSpPr>
            <p:cNvPr id="162" name=""/>
            <p:cNvSpPr/>
            <p:nvPr/>
          </p:nvSpPr>
          <p:spPr>
            <a:xfrm>
              <a:off x="2209680" y="453960"/>
              <a:ext cx="6680160" cy="303444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ffff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</a:rPr>
                <a:t>Let’s </a:t>
              </a: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read</a:t>
              </a:r>
              <a:r>
                <a:rPr b="1" lang="zh-CN" sz="4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together</a:t>
              </a:r>
              <a:r>
                <a:rPr b="1" lang="zh-CN" sz="48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齐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7"/>
            <a:stretch/>
          </p:blipFill>
          <p:spPr>
            <a:xfrm rot="1253400">
              <a:off x="6354360" y="-285480"/>
              <a:ext cx="3200400" cy="203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7772400" y="0"/>
            <a:ext cx="601560" cy="561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C:\Documents and Settings\Administrator\桌面\abstract-design-with-beautiful-flowers2.png"/>
          <p:cNvPicPr/>
          <p:nvPr/>
        </p:nvPicPr>
        <p:blipFill>
          <a:blip r:embed="rId2"/>
          <a:stretch/>
        </p:blipFill>
        <p:spPr>
          <a:xfrm>
            <a:off x="8170920" y="0"/>
            <a:ext cx="973080" cy="880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219320" y="228600"/>
            <a:ext cx="7924680" cy="46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asks: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完成任务，得到相应个数的贴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ead aloud story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两人一组，大声有感情地朗读课文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 Act out two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人一组，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不看书表演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两幅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课文图片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 Act out the whole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在故事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开头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结尾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加一些内容，使对话更完整，      四人一组，不看书表演整个故事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04920" y="2590920"/>
            <a:ext cx="609480" cy="573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85800" y="2590920"/>
            <a:ext cx="609480" cy="573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76320" y="4191120"/>
            <a:ext cx="609480" cy="573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533520" y="4191120"/>
            <a:ext cx="609480" cy="573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990720" y="4191120"/>
            <a:ext cx="609480" cy="573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609480" y="1295280"/>
            <a:ext cx="60984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83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84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5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86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7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89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90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1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92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3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abstract-design-with-beautiful-flowers1"/>
          <p:cNvPicPr/>
          <p:nvPr/>
        </p:nvPicPr>
        <p:blipFill>
          <a:blip r:embed="rId1"/>
          <a:stretch/>
        </p:blipFill>
        <p:spPr>
          <a:xfrm>
            <a:off x="250920" y="4896000"/>
            <a:ext cx="406440" cy="404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abstract-design-with-beautiful-flowers1"/>
          <p:cNvPicPr/>
          <p:nvPr/>
        </p:nvPicPr>
        <p:blipFill>
          <a:blip r:embed="rId2"/>
          <a:stretch/>
        </p:blipFill>
        <p:spPr>
          <a:xfrm>
            <a:off x="1285920" y="5048280"/>
            <a:ext cx="406440" cy="4046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5"/>
          <p:cNvSpPr/>
          <p:nvPr/>
        </p:nvSpPr>
        <p:spPr>
          <a:xfrm>
            <a:off x="358920" y="4221000"/>
            <a:ext cx="684000" cy="71928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2"/>
          <p:cNvSpPr/>
          <p:nvPr/>
        </p:nvSpPr>
        <p:spPr>
          <a:xfrm>
            <a:off x="6881760" y="4222800"/>
            <a:ext cx="611280" cy="71892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abstract-design-with-beautiful-flowers1"/>
          <p:cNvPicPr/>
          <p:nvPr/>
        </p:nvPicPr>
        <p:blipFill>
          <a:blip r:embed="rId3"/>
          <a:stretch/>
        </p:blipFill>
        <p:spPr>
          <a:xfrm>
            <a:off x="228600" y="5638680"/>
            <a:ext cx="906480" cy="1219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abstract-design-with-beautiful-flowers1"/>
          <p:cNvPicPr/>
          <p:nvPr/>
        </p:nvPicPr>
        <p:blipFill>
          <a:blip r:embed="rId4"/>
          <a:stretch/>
        </p:blipFill>
        <p:spPr>
          <a:xfrm>
            <a:off x="403200" y="5048280"/>
            <a:ext cx="406440" cy="404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6320" y="138240"/>
            <a:ext cx="8991360" cy="4143960"/>
          </a:xfrm>
          <a:prstGeom prst="rect">
            <a:avLst/>
          </a:prstGeom>
          <a:solidFill>
            <a:srgbClr val="99ff66"/>
          </a:solidFill>
          <a:ln w="76320">
            <a:solidFill>
              <a:srgbClr val="8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Homework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Finish the listening and speaking tasks onli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上网完成听、说作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17zuoye.com/teacher/index.s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. Act out the story with your frien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和朋友一起表演故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4648320" y="4191120"/>
            <a:ext cx="1904760" cy="3476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rcRect l="0" t="0" r="0" b="29022"/>
          <a:stretch/>
        </p:blipFill>
        <p:spPr>
          <a:xfrm>
            <a:off x="6338880" y="3733920"/>
            <a:ext cx="2805120" cy="2795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3352680" y="4114800"/>
            <a:ext cx="190512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0.03994 0.0669 C 0.04896 0.08102 0.054 0.10208 0.054 0.12407 C 0.054 0.14907 0.04896 0.16898 0.03994 0.1831 C 0.02709 0.19861 -0.0092 0.19607 -0.02274 0.21667 C -0.03628 0.23727 -0.03732 0.28773 -0.04114 0.30625 E">
                                      <p:cBhvr>
                                        <p:cTn id="299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0.03994 0.0669 C 0.04896 0.08102 0.054 0.10208 0.054 0.12407 C 0.054 0.14907 0.04896 0.16898 0.03994 0.1831 C 0.02709 0.19861 -0.0092 0.19607 -0.02274 0.21667 C -0.03628 0.23727 -0.03732 0.28773 -0.04114 0.30625 E">
                                      <p:cBhvr>
                                        <p:cTn id="301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58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.55556E-007 -4.27746E-006 L -0.01059 0.06683 C -0.01302 0.08093 -0.00434 0.09688 -0.00434 0.11908 C -0.00434 0.14405 -0.01302 0.16902 -0.01059 0.18313 C -0.00712 0.19862 0.00243 0.19607 0.0059 0.21665 C 0.00955 0.23723 0.0099 0.28763 0.01094 0.30636 E">
                                      <p:cBhvr>
                                        <p:cTn id="303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3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3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13" descr=""/>
          <p:cNvPicPr/>
          <p:nvPr/>
        </p:nvPicPr>
        <p:blipFill>
          <a:blip r:embed="rId1"/>
          <a:stretch/>
        </p:blipFill>
        <p:spPr>
          <a:xfrm flipH="1" rot="21391800">
            <a:off x="123480" y="622080"/>
            <a:ext cx="2322360" cy="33260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10" descr=""/>
          <p:cNvPicPr/>
          <p:nvPr/>
        </p:nvPicPr>
        <p:blipFill>
          <a:blip r:embed="rId2"/>
          <a:stretch/>
        </p:blipFill>
        <p:spPr>
          <a:xfrm>
            <a:off x="0" y="2133720"/>
            <a:ext cx="1089000" cy="1753920"/>
          </a:xfrm>
          <a:prstGeom prst="rect">
            <a:avLst/>
          </a:prstGeom>
          <a:ln w="0">
            <a:noFill/>
          </a:ln>
        </p:spPr>
      </p:pic>
      <p:sp>
        <p:nvSpPr>
          <p:cNvPr id="187" name="流程图: 手动输入 6"/>
          <p:cNvSpPr/>
          <p:nvPr/>
        </p:nvSpPr>
        <p:spPr>
          <a:xfrm flipH="1" flipV="1" rot="10800000">
            <a:off x="0" y="3111840"/>
            <a:ext cx="9144000" cy="3745080"/>
          </a:xfrm>
          <a:prstGeom prst="flowChartManualInput">
            <a:avLst/>
          </a:prstGeom>
          <a:solidFill>
            <a:srgbClr val="ffcc00"/>
          </a:solidFill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6"/>
          <p:cNvSpPr/>
          <p:nvPr/>
        </p:nvSpPr>
        <p:spPr>
          <a:xfrm rot="21335400">
            <a:off x="1452240" y="3885840"/>
            <a:ext cx="643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Good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17" descr=""/>
          <p:cNvPicPr/>
          <p:nvPr/>
        </p:nvPicPr>
        <p:blipFill>
          <a:blip r:embed="rId3"/>
          <a:stretch/>
        </p:blipFill>
        <p:spPr>
          <a:xfrm rot="20794800">
            <a:off x="414000" y="1541520"/>
            <a:ext cx="674640" cy="61596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8" descr=""/>
          <p:cNvPicPr/>
          <p:nvPr/>
        </p:nvPicPr>
        <p:blipFill>
          <a:blip r:embed="rId4"/>
          <a:stretch/>
        </p:blipFill>
        <p:spPr>
          <a:xfrm>
            <a:off x="1231920" y="2023920"/>
            <a:ext cx="712800" cy="75564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19" descr=""/>
          <p:cNvPicPr/>
          <p:nvPr/>
        </p:nvPicPr>
        <p:blipFill>
          <a:blip r:embed="rId5"/>
          <a:stretch/>
        </p:blipFill>
        <p:spPr>
          <a:xfrm>
            <a:off x="1407960" y="3365640"/>
            <a:ext cx="592200" cy="54756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20" descr=""/>
          <p:cNvPicPr/>
          <p:nvPr/>
        </p:nvPicPr>
        <p:blipFill>
          <a:blip r:embed="rId6"/>
          <a:stretch/>
        </p:blipFill>
        <p:spPr>
          <a:xfrm>
            <a:off x="557280" y="2774880"/>
            <a:ext cx="230040" cy="21132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21" descr=""/>
          <p:cNvPicPr/>
          <p:nvPr/>
        </p:nvPicPr>
        <p:blipFill>
          <a:blip r:embed="rId7"/>
          <a:stretch/>
        </p:blipFill>
        <p:spPr>
          <a:xfrm>
            <a:off x="701640" y="2822400"/>
            <a:ext cx="270000" cy="24624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26" descr=""/>
          <p:cNvPicPr/>
          <p:nvPr/>
        </p:nvPicPr>
        <p:blipFill>
          <a:blip r:embed="rId8"/>
          <a:stretch/>
        </p:blipFill>
        <p:spPr>
          <a:xfrm>
            <a:off x="1916280" y="2565360"/>
            <a:ext cx="680760" cy="117648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28" descr=""/>
          <p:cNvPicPr/>
          <p:nvPr/>
        </p:nvPicPr>
        <p:blipFill>
          <a:blip r:embed="rId9"/>
          <a:stretch/>
        </p:blipFill>
        <p:spPr>
          <a:xfrm rot="732600">
            <a:off x="7237080" y="149040"/>
            <a:ext cx="1584360" cy="15840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7"/>
          <p:cNvSpPr/>
          <p:nvPr/>
        </p:nvSpPr>
        <p:spPr>
          <a:xfrm rot="21396600">
            <a:off x="685800" y="1294920"/>
            <a:ext cx="705636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81031"/>
                </a:solidFill>
                <a:latin typeface="Jokerman"/>
              </a:rPr>
              <a:t>T</a:t>
            </a:r>
            <a:r>
              <a:rPr b="1" lang="en-US" sz="8000" spc="-1" strike="noStrike">
                <a:solidFill>
                  <a:srgbClr val="ff0066"/>
                </a:solidFill>
                <a:latin typeface="Jokerman"/>
              </a:rPr>
              <a:t>H</a:t>
            </a:r>
            <a:r>
              <a:rPr b="1" lang="en-US" sz="8000" spc="-1" strike="noStrike">
                <a:solidFill>
                  <a:srgbClr val="ffff00"/>
                </a:solidFill>
                <a:latin typeface="Jokerman"/>
              </a:rPr>
              <a:t>A</a:t>
            </a:r>
            <a:r>
              <a:rPr b="1" lang="en-US" sz="8000" spc="-1" strike="noStrike">
                <a:solidFill>
                  <a:srgbClr val="86b818"/>
                </a:solidFill>
                <a:latin typeface="Jokerman"/>
              </a:rPr>
              <a:t>N</a:t>
            </a:r>
            <a:r>
              <a:rPr b="1" lang="en-US" sz="8000" spc="-1" strike="noStrike">
                <a:solidFill>
                  <a:srgbClr val="00b0f0"/>
                </a:solidFill>
                <a:latin typeface="Jokerman"/>
              </a:rPr>
              <a:t>K</a:t>
            </a:r>
            <a:r>
              <a:rPr b="1" lang="en-US" sz="8000" spc="-1" strike="noStrike">
                <a:solidFill>
                  <a:srgbClr val="000000"/>
                </a:solidFill>
                <a:latin typeface="Joker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b050"/>
                </a:solidFill>
                <a:latin typeface="Jokerman"/>
              </a:rPr>
              <a:t>                     </a:t>
            </a:r>
            <a:r>
              <a:rPr b="1" lang="en-US" sz="6600" spc="-1" strike="noStrike">
                <a:solidFill>
                  <a:srgbClr val="00b050"/>
                </a:solidFill>
                <a:latin typeface="Jokerman"/>
              </a:rPr>
              <a:t>Y</a:t>
            </a:r>
            <a:r>
              <a:rPr b="1" lang="en-US" sz="6600" spc="-1" strike="noStrike">
                <a:solidFill>
                  <a:srgbClr val="7030a0"/>
                </a:solidFill>
                <a:latin typeface="Jokerman"/>
              </a:rPr>
              <a:t>O</a:t>
            </a:r>
            <a:r>
              <a:rPr b="1" lang="en-US" sz="6600" spc="-1" strike="noStrike">
                <a:solidFill>
                  <a:srgbClr val="4f6228"/>
                </a:solidFill>
                <a:latin typeface="Jokerman"/>
              </a:rPr>
              <a:t>U</a:t>
            </a:r>
            <a:r>
              <a:rPr b="1" lang="en-US" sz="6600" spc="-1" strike="noStrike">
                <a:solidFill>
                  <a:srgbClr val="ff0066"/>
                </a:solidFill>
                <a:latin typeface="Jokerman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181480" y="3581280"/>
            <a:ext cx="4114800" cy="2968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6966" t="8887" r="5817" b="2223"/>
          <a:stretch/>
        </p:blipFill>
        <p:spPr>
          <a:xfrm>
            <a:off x="6629400" y="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2590920"/>
            <a:ext cx="5334120" cy="3949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-152280" y="0"/>
            <a:ext cx="2361960" cy="2743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905120" y="0"/>
            <a:ext cx="48765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3520" y="142560"/>
            <a:ext cx="7764840" cy="1877040"/>
            <a:chOff x="533520" y="142560"/>
            <a:chExt cx="7764840" cy="1877040"/>
          </a:xfrm>
        </p:grpSpPr>
        <p:sp>
          <p:nvSpPr>
            <p:cNvPr id="62" name=""/>
            <p:cNvSpPr/>
            <p:nvPr/>
          </p:nvSpPr>
          <p:spPr>
            <a:xfrm>
              <a:off x="533520" y="1143000"/>
              <a:ext cx="754380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spcAft>
                  <a:spcPts val="22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How many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 sticker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 rot="600000">
              <a:off x="6172200" y="304920"/>
              <a:ext cx="2006640" cy="15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533520" y="2146320"/>
            <a:ext cx="8229600" cy="176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How many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……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 you h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have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029200" y="3886200"/>
            <a:ext cx="4343400" cy="27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2971800"/>
            <a:ext cx="48006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228600"/>
            <a:ext cx="19051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i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4167" t="21179" r="9167" b="0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5977" t="2135" r="13385" b="0"/>
          <a:stretch/>
        </p:blipFill>
        <p:spPr>
          <a:xfrm>
            <a:off x="5334120" y="3505320"/>
            <a:ext cx="1752480" cy="2971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7086600" y="3657600"/>
            <a:ext cx="2057400" cy="2819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362320" y="3429000"/>
            <a:ext cx="2136600" cy="3038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rcRect l="0" t="3962" r="9219" b="55510"/>
          <a:stretch/>
        </p:blipFill>
        <p:spPr>
          <a:xfrm>
            <a:off x="152280" y="3200400"/>
            <a:ext cx="2362320" cy="312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152280"/>
            <a:ext cx="8229600" cy="5814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人一组，讨论一下，他们正在说些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6130800" y="5492880"/>
            <a:ext cx="601920" cy="561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H:\Files\4cbb49c3e377d8365aa20a00\abstract-design-with-beautiful-flowers2.png"/>
          <p:cNvPicPr/>
          <p:nvPr/>
        </p:nvPicPr>
        <p:blipFill>
          <a:blip r:embed="rId2"/>
          <a:stretch/>
        </p:blipFill>
        <p:spPr>
          <a:xfrm>
            <a:off x="6378480" y="3627360"/>
            <a:ext cx="2721240" cy="321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C:\Documents and Settings\Administrator\桌面\abstract-design-with-beautiful-flowers2.png"/>
          <p:cNvPicPr/>
          <p:nvPr/>
        </p:nvPicPr>
        <p:blipFill>
          <a:blip r:embed="rId3"/>
          <a:stretch/>
        </p:blipFill>
        <p:spPr>
          <a:xfrm>
            <a:off x="6659640" y="4365720"/>
            <a:ext cx="973080" cy="880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480" y="76320"/>
            <a:ext cx="7848720" cy="147708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Are they talking about(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谈论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) toy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Let’s watch the carto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086600" y="685800"/>
            <a:ext cx="1371600" cy="990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Y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8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39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1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4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5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7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8229600" y="3505320"/>
            <a:ext cx="601560" cy="561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H:\Files\4cbb49c3e377d8365aa20a00\abstract-design-with-beautiful-flowers2.png"/>
          <p:cNvPicPr/>
          <p:nvPr/>
        </p:nvPicPr>
        <p:blipFill>
          <a:blip r:embed="rId2"/>
          <a:stretch/>
        </p:blipFill>
        <p:spPr>
          <a:xfrm>
            <a:off x="6423120" y="3645000"/>
            <a:ext cx="2720880" cy="3213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C:\Documents and Settings\Administrator\桌面\abstract-design-with-beautiful-flowers2.png"/>
          <p:cNvPicPr/>
          <p:nvPr/>
        </p:nvPicPr>
        <p:blipFill>
          <a:blip r:embed="rId3"/>
          <a:stretch/>
        </p:blipFill>
        <p:spPr>
          <a:xfrm>
            <a:off x="7010280" y="4419720"/>
            <a:ext cx="973080" cy="880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57200" y="1981080"/>
            <a:ext cx="5486400" cy="1785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rcRect l="0" t="0" r="38503" b="0"/>
          <a:stretch/>
        </p:blipFill>
        <p:spPr>
          <a:xfrm>
            <a:off x="981000" y="4038480"/>
            <a:ext cx="3286080" cy="2057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38080" y="4175280"/>
            <a:ext cx="3430800" cy="1920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609480"/>
            <a:ext cx="8763120" cy="106704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y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are they talking about?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5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66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68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1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72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74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5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447920"/>
            <a:ext cx="8458200" cy="1323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). What does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Mik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. What does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Hele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ha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52280"/>
            <a:ext cx="8686800" cy="1099080"/>
          </a:xfrm>
          <a:prstGeom prst="rect">
            <a:avLst/>
          </a:prstGeom>
          <a:solidFill>
            <a:srgbClr val="99ff66"/>
          </a:solidFill>
          <a:ln w="57240">
            <a:solidFill>
              <a:srgbClr val="8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Read the story quietly, and answer the questions.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默读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故事，回答问题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04920" y="3352680"/>
          <a:ext cx="6552720" cy="3052800"/>
        </p:xfrm>
        <a:graphic>
          <a:graphicData uri="http://schemas.openxmlformats.org/drawingml/2006/table">
            <a:tbl>
              <a:tblPr/>
              <a:tblGrid>
                <a:gridCol w="1658880"/>
                <a:gridCol w="2488320"/>
                <a:gridCol w="2405520"/>
              </a:tblGrid>
              <a:tr h="83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5410080"/>
            <a:ext cx="1381320" cy="924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22154" t="3514" r="15537" b="42969"/>
          <a:stretch/>
        </p:blipFill>
        <p:spPr>
          <a:xfrm>
            <a:off x="380880" y="4191120"/>
            <a:ext cx="1231920" cy="1143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33720" y="31240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44956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y c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5562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i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3352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1477800"/>
            <a:ext cx="24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w man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2239920"/>
            <a:ext cx="24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w man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6130800" y="5492880"/>
            <a:ext cx="601920" cy="561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H:\Files\4cbb49c3e377d8365aa20a00\abstract-design-with-beautiful-flowers2.png"/>
          <p:cNvPicPr/>
          <p:nvPr/>
        </p:nvPicPr>
        <p:blipFill>
          <a:blip r:embed="rId2"/>
          <a:stretch/>
        </p:blipFill>
        <p:spPr>
          <a:xfrm>
            <a:off x="6378480" y="3627360"/>
            <a:ext cx="2721240" cy="3213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C:\Documents and Settings\Administrator\桌面\abstract-design-with-beautiful-flowers2.png"/>
          <p:cNvPicPr/>
          <p:nvPr/>
        </p:nvPicPr>
        <p:blipFill>
          <a:blip r:embed="rId3"/>
          <a:stretch/>
        </p:blipFill>
        <p:spPr>
          <a:xfrm>
            <a:off x="6659640" y="4365720"/>
            <a:ext cx="973080" cy="880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8600" y="304920"/>
            <a:ext cx="8610480" cy="513468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Tip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(1).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teen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表示“十几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(2)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基数词后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teen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变十几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four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teen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(3).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其中三个要注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thir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teen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是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3, 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fif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teen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是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5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eigh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teen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只有一个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t,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其余全部加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teen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3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14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5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16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7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9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20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22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30839" t="29412" r="21666" b="4703"/>
          <a:stretch/>
        </p:blipFill>
        <p:spPr>
          <a:xfrm>
            <a:off x="1219320" y="2514600"/>
            <a:ext cx="6858000" cy="4008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9480" y="152280"/>
            <a:ext cx="7848720" cy="106884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es Yang Ling like Helen’s stickers?  What does Yang Ling 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1600200"/>
            <a:ext cx="3657600" cy="762120"/>
          </a:xfrm>
          <a:prstGeom prst="wedgeRoundRectCallout">
            <a:avLst>
              <a:gd name="adj1" fmla="val -40319"/>
              <a:gd name="adj2" fmla="val 153750"/>
              <a:gd name="adj3" fmla="val 16667"/>
            </a:avLst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ave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38680" y="1676520"/>
            <a:ext cx="1295640" cy="761760"/>
          </a:xfrm>
          <a:prstGeom prst="wedgeRoundRectCallout">
            <a:avLst>
              <a:gd name="adj1" fmla="val 48898"/>
              <a:gd name="adj2" fmla="val 110416"/>
              <a:gd name="adj3" fmla="val 16667"/>
            </a:avLst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5108400"/>
            <a:ext cx="8382240" cy="1323000"/>
          </a:xfrm>
          <a:prstGeom prst="rect">
            <a:avLst/>
          </a:prstGeom>
          <a:solidFill>
            <a:srgbClr val="99ff66"/>
          </a:solidFill>
          <a:ln w="57240">
            <a:solidFill>
              <a:srgbClr val="8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 rose's in her hand, the flavor in 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赠人玫瑰，手留余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4267080"/>
            <a:ext cx="5333760" cy="5814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Hele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likes to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share(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分享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1600200"/>
            <a:ext cx="914400" cy="7621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514600"/>
            <a:ext cx="1752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i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3-09-26T14:09:56Z</dcterms:modified>
  <cp:revision>4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