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89C-2832-4061-9F87-55A964C3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9BB-6ED2-4D95-9E47-27C9F5EA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3AB-853D-4838-8E9F-B87E10C5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164-7F53-491B-A086-442E2399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D84-0768-4294-BFA0-BCBFD8E4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5F5-41D6-4512-896B-7158BA5C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305-071C-4D23-A243-E615D61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11C-14B7-446A-8E70-3CC08F9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BC6-53D5-47FE-9373-D5027A62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39C-154F-41CA-BF45-BE3AD7E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C8F-B688-48EC-9B0F-7B04974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D6A-FC2F-416C-9CC9-FDE35E52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4F9-C60F-454A-B132-6F6868F726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080" y="26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ristmas shopping list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765000"/>
          <a:ext cx="8964720" cy="5256360"/>
        </p:xfrm>
        <a:graphic>
          <a:graphicData uri="http://schemas.openxmlformats.org/drawingml/2006/table">
            <a:tbl>
              <a:tblPr/>
              <a:tblGrid>
                <a:gridCol w="2239920"/>
                <a:gridCol w="2241720"/>
                <a:gridCol w="2611440"/>
                <a:gridCol w="1871640"/>
              </a:tblGrid>
              <a:tr h="9986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our id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414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40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428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3" name="TextBox 1"/>
          <p:cNvSpPr/>
          <p:nvPr/>
        </p:nvSpPr>
        <p:spPr>
          <a:xfrm>
            <a:off x="5148360" y="27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ou only have 50 yu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367280" y="6093000"/>
            <a:ext cx="70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 have _______yuan left(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留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52:27Z</dcterms:created>
  <dc:creator>Administrator</dc:creator>
  <dc:description/>
  <dc:language>en-US</dc:language>
  <cp:lastModifiedBy>dbc</cp:lastModifiedBy>
  <dcterms:modified xsi:type="dcterms:W3CDTF">2012-12-04T15:26:25Z</dcterms:modified>
  <cp:revision>9</cp:revision>
  <dc:subject/>
  <dc:title>_______festival shopping list     </dc:title>
</cp:coreProperties>
</file>