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382-1935-4161-9B73-3F62C171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D03-5C36-420E-8547-FEA7384E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676-08C5-423A-B65F-E04C9FCB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7E7-92B8-4007-BECF-DB9E74B8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B80F-1DE0-4CE2-BFFA-E7395402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190E-9A8E-4FCA-9AC4-5C1CBA49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9719-E4CD-4420-B69C-5A4C64FE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5C40-F806-4F49-9148-048402F6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1785-46F0-49C8-8286-39EB7C47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1596-2AC6-46F1-BCED-4D06A9B4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E87-A62D-4B5E-83AE-1630EA3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585-8F7A-4E62-A281-6B469795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F155-57A9-4089-944C-524B8E11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8329-8BB4-4F01-8879-5D8F0FBB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4888-B2F1-4218-A4A4-9F7F9BA7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F704-2789-41BD-A11B-F8F84E52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7AAE-172A-4A8C-8617-D6635C65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EC9-6140-4795-9D83-50E73052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709-E52F-4764-AED2-A4B46BEC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F7F-89B0-4DFD-AEEC-3C89855F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AE9-42F6-4685-85A8-96349B57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B33-4F87-4075-B175-935AE658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EFB-8A12-481D-B543-E975400E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B5E-0031-404B-BDC3-BDF0D75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8E46-9B52-41D2-BB7F-029B06FB8E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25E5-ED04-49FC-B97C-98BDE3852E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40000"/>
                </a:solidFill>
                <a:latin typeface="Arial"/>
              </a:rPr>
              <a:t>讽刺手法“百宝箱”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认识它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讽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在真实的基础上，用比喻、夸张等方式揭露腐朽落后现象，批判愚昧蠢笨的行为，使人发笑而予以否定的一种创作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013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常用讽刺手法</a:t>
            </a:r>
            <a:br>
              <a:rPr sz="4800"/>
            </a:b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一、漫画夸张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漫画式夸张，把人或事的假、丑、恶加以扩大或缩小，使之变相、变形，以突出某一特征，达到讽刺的目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434340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示例：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范进中举发疯，一出门就让他摔了一跤，故意出这个新中举人的洋相：“走出大门不对路，一脚踹在塘里，挣起来，头发都跌散了，两手黄泥，淋淋漓漓一身的水，众人拉他不住，一直走到集上去了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《范进中举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753400" y="-4854600"/>
            <a:ext cx="856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-305280" y="152280"/>
            <a:ext cx="9448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800"/>
            </a:b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二、对比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比即把被讽刺的对象，在对待同一个人或事的前后不同的言行进行描述，以显示被讽刺对象的愚蠢可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29718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示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中举前） “这些同案的人约范进去乡试。范进因没有盘费，走去同丈人商议，被胡屠户一口啐在脸上，骂了一个狗血喷头，道：“不要失了你的时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自己只觉得中了一个相公，就‘癞虾蟆想吃起天鹅肉’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中举后）“胡屠户道：“有我这贤婿，还怕后半世靠不着也怎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每常说，我的这个贤婿，才学又高，品貌又好……。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范进中举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753400" y="-4854600"/>
            <a:ext cx="856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-305280" y="152280"/>
            <a:ext cx="9448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三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、反说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语，就是说反话，或反话正说，或正话反说。以显示被讽刺对象的愚蠢可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7672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示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识的人越多，我越喜欢狗。—— 罗兰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里，罗兰夫人运用反语，幽默地讽刺了人的卑劣性，突出地表达了有的人真的还不如狗的这种不满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四、典型细节法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节描写就是对人物某些细小的举止，行为或对细微事物所作的描写，它能达到很好的讽刺效果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3600"/>
            </a:b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32763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六两多银子，老爹拿了去。“屠户把银子攥在手里紧紧的，把拳头舒过来，道：”这个，你且收着。我原是贺你的，怎好又拿了回去？……屠户连忙把拳头缩了回去，往腰里揣，口里说道：“也罢，你而今相与了这个张老爷，何愁没有银子用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《范进中举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五、影射法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影射是一种借此说彼、暗示谋人谋事的表达方式，有含沙射影之意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br>
              <a:rPr sz="28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3733920"/>
            <a:ext cx="86868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一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猫不怀好意地、假惺惺地举办生日宴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来许多鸡赴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鸡刚一到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猫立刻就关上大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他们统统吃掉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敌人不要抱有任何美好的希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否则将遭受更大的不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伊索寓言》之《猫和鸡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06:14Z</dcterms:created>
  <dc:creator>Administrator</dc:creator>
  <dc:description/>
  <dc:language>en-US</dc:language>
  <cp:lastModifiedBy>Windows</cp:lastModifiedBy>
  <dcterms:modified xsi:type="dcterms:W3CDTF">2016-12-03T13:45:1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