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chimes.wav" ContentType="audio/x-wav"/>
  <Override PartName="/ppt/media/image16.jpeg" ContentType="image/jpeg"/>
  <Override PartName="/ppt/media/type.wav" ContentType="audio/x-wav"/>
  <Override PartName="/ppt/media/image10.png" ContentType="image/png"/>
  <Override PartName="/ppt/media/image4.jpeg" ContentType="image/jpeg"/>
  <Override PartName="/ppt/media/image22.gif" ContentType="image/gif"/>
  <Override PartName="/ppt/media/image21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2.png" ContentType="image/png"/>
  <Override PartName="/ppt/media/image3.gif" ContentType="image/gif"/>
  <Override PartName="/ppt/media/image7.png" ContentType="image/png"/>
  <Override PartName="/ppt/media/image23.gif" ContentType="image/gif"/>
  <Override PartName="/ppt/media/image17.jpeg" ContentType="image/jpeg"/>
  <Override PartName="/ppt/media/image15.jpeg" ContentType="image/jpeg"/>
  <Override PartName="/ppt/media/image14.jpeg" ContentType="image/jpeg"/>
  <Override PartName="/ppt/media/image13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D4B-582B-4FF1-8011-04C9D534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DD9-2094-426D-8BBE-B6EA594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C6C-F72B-4053-99FD-992F4432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0B0-26D6-4DAD-BF0F-287C12FC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E44-D8B7-4497-9AFD-A272D773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DA7-B0BD-41F0-8AC3-65E387D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327-9301-4C17-8E7C-C5304B8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B9F-4E09-4897-A075-9BD514A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E89-7384-4F7F-8E56-5D52D69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B03-FF0E-4E4E-9B6F-671F0FC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C5D-DAC2-4AEE-8A4A-AF9E574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D7A-1DB4-4F3E-8A5A-854673A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1CA-4728-429C-A9A4-B49C0CD04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23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image" Target="../media/image3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6748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01400" y="480060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uTang Central Prim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760" y="2514600"/>
            <a:ext cx="763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A Birthday Invi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3880" y="48006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440" y="2529000"/>
            <a:ext cx="763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A Birthday Invi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86600" y="6203880"/>
            <a:ext cx="205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51040" y="533520"/>
            <a:ext cx="714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Does mother like her inv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98280" y="2590920"/>
            <a:ext cx="480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’s a treasure h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9120" y="2590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Q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00" y="4876920"/>
            <a:ext cx="40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Hana: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Wait and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480" y="1060560"/>
            <a:ext cx="4627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Hana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Mom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Sounds like fun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56600" y="1981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听起来很有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5520" y="3200400"/>
            <a:ext cx="66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Mom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ou look for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hidden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1920" y="3992400"/>
            <a:ext cx="58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Bada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What kind of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 things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62080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B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752480"/>
            <a:ext cx="9144000" cy="2590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读本段，尝试找出问题的答案，可以同桌合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52280" y="19810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52280" y="2743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52280" y="3276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2860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28600" y="4952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175560" y="44593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434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64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95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2372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64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4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51120" y="228600"/>
            <a:ext cx="72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o you remember?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自读课文，尝试填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80880" y="0"/>
            <a:ext cx="8508240" cy="1800360"/>
            <a:chOff x="380880" y="0"/>
            <a:chExt cx="8508240" cy="1800360"/>
          </a:xfrm>
        </p:grpSpPr>
        <p:grpSp>
          <p:nvGrpSpPr>
            <p:cNvPr id="198" name=""/>
            <p:cNvGrpSpPr/>
            <p:nvPr/>
          </p:nvGrpSpPr>
          <p:grpSpPr>
            <a:xfrm>
              <a:off x="380880" y="0"/>
              <a:ext cx="8508240" cy="1656000"/>
              <a:chOff x="380880" y="0"/>
              <a:chExt cx="8508240" cy="1656000"/>
            </a:xfrm>
          </p:grpSpPr>
          <p:sp>
            <p:nvSpPr>
              <p:cNvPr id="199" name=""/>
              <p:cNvSpPr/>
              <p:nvPr/>
            </p:nvSpPr>
            <p:spPr>
              <a:xfrm>
                <a:off x="380880" y="0"/>
                <a:ext cx="8508240" cy="1656000"/>
              </a:xfrm>
              <a:prstGeom prst="foldedCorner">
                <a:avLst>
                  <a:gd name="adj" fmla="val 12500"/>
                </a:avLst>
              </a:prstGeom>
              <a:solidFill>
                <a:srgbClr val="000000"/>
              </a:solidFill>
              <a:ln cap="rnd" w="28440">
                <a:solidFill>
                  <a:srgbClr val="ff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5400" y="576360"/>
                <a:ext cx="7989840" cy="94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楷体"/>
                    <a:ea typeface="楷体"/>
                  </a:rPr>
                  <a:t>1.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楷体"/>
                    <a:ea typeface="楷体"/>
                  </a:rPr>
                  <a:t>阅读课文时一定要大声朗读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楷体"/>
                    <a:ea typeface="楷体"/>
                  </a:rPr>
                  <a:t>2.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楷体"/>
                    <a:ea typeface="楷体"/>
                  </a:rPr>
                  <a:t>关注课文中的每个细节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2280" y="73080"/>
                <a:ext cx="1204920" cy="58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ffff"/>
                    </a:solidFill>
                    <a:latin typeface="Arial"/>
                  </a:rPr>
                  <a:t>Tip 2</a:t>
                </a:r>
                <a:r>
                  <a:rPr b="1" lang="en-US" sz="1800" spc="-1" strike="noStrike">
                    <a:solidFill>
                      <a:srgbClr val="66ffff"/>
                    </a:solidFill>
                    <a:latin typeface="Arial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8002080" y="1081080"/>
              <a:ext cx="73872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448200" y="1298520"/>
            <a:ext cx="85154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a lives in ________ with her _________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_______ ________,_______. She’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s old, next _________is her birthday. S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an ___________ card with the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she ________ it out. She tells her fri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 and _______the party will be. Mom 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__________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last, Hana asks us: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5360" y="14619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22800" y="13716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6080" y="20574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58280" y="382428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8880" y="32148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9320" y="321480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4920" y="19954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260496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atu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6840" y="1981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5720" y="435780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2600" y="20574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0800" y="49528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880" y="44337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74760" y="1401840"/>
            <a:ext cx="826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do you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pla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for your birthday par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to have a special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even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every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just love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64960" y="11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9336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事件、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905760" cy="7543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23480" y="114300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irthday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080" y="16002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r__________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8720" y="2233440"/>
            <a:ext cx="70599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birthday is coming, It’s on 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have a ____________in (a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. I ‘d like to invite you and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 to my  party. We can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__________at my pa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think we will have a good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: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34360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905760" cy="7543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23480" y="114300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irthday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5360" y="160020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r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ew frie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8720" y="2233440"/>
            <a:ext cx="70966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birthday is coming, It’s o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ay 24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have 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irthday par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ou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I ‘d like to invite you and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is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my  party. We ca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ing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at cak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 my pa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think we will have a good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: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343605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62120" y="2057400"/>
            <a:ext cx="7315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Gothic"/>
              </a:rPr>
              <a:t>Know more about birthday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Gothic"/>
              <a:ea typeface="MS Gothic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7696080" y="5791320"/>
            <a:ext cx="5335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85800"/>
            <a:ext cx="9144000" cy="38862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2200" y="213372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中国和其他西方国家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4280" y="28954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日的庆祝方法差别很大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25960" y="1447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你知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800"/>
                            </p:stCondLst>
                            <p:childTnLst>
                              <p:par>
                                <p:cTn id="4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900"/>
                            </p:stCondLst>
                            <p:childTnLst>
                              <p:par>
                                <p:cTn id="4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488840" y="334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面条对于中国人的生日有着特殊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000680" y="334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而西方人则热衷于生日蛋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62040" y="334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中国人的生日往往以一顿大餐显示隆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05120"/>
            <a:ext cx="9144000" cy="358128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0948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Arial"/>
              </a:rPr>
              <a:t>Let’s game </a:t>
            </a:r>
            <a:r>
              <a:rPr b="1" lang="zh-CN" sz="6000" spc="-1" strike="noStrike">
                <a:solidFill>
                  <a:srgbClr val="800080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2666880"/>
            <a:ext cx="651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Treasure Hunt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  <p:sp>
        <p:nvSpPr>
          <p:cNvPr id="52" name=""/>
          <p:cNvSpPr/>
          <p:nvPr/>
        </p:nvSpPr>
        <p:spPr>
          <a:xfrm>
            <a:off x="1903680" y="4235400"/>
            <a:ext cx="54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look for hidden things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9960" y="487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隐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" dur="indefinite" restart="never" nodeType="tmRoot">
          <p:childTnLst>
            <p:seq>
              <p:cTn id="3" dur="indefinite" nodeType="mainSeq">
                <p:childTnLst>
                  <p:par>
                    <p:cTn id="4" fill="hold">
                      <p:stCondLst>
                        <p:cond delay="indefinite"/>
                      </p:stCondLst>
                      <p:childTnLst>
                        <p:par>
                          <p:cTn id="5" fill="hold">
                            <p:stCondLst>
                              <p:cond delay="0"/>
                            </p:stCondLst>
                            <p:childTnLst>
                              <p:par>
                                <p:cTn id="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7391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264080" y="430200"/>
            <a:ext cx="424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73080" y="533520"/>
            <a:ext cx="587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088440" y="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西方人还习惯当面打开礼物，并赞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这点和咱们差距很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533520" y="-1143000"/>
            <a:ext cx="10439640" cy="8001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990720" y="30492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UI Gothic"/>
              </a:rPr>
              <a:t>homework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263" name=""/>
          <p:cNvSpPr/>
          <p:nvPr/>
        </p:nvSpPr>
        <p:spPr>
          <a:xfrm>
            <a:off x="48960" y="1905120"/>
            <a:ext cx="958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the text with your partner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( 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与同桌同读课文三遍，有问题互相帮助。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If you can, design a nice birthday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rd, use it before your next birthday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（有能力的同学，设计制作一张生日邀请函，在你下次生日聚会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送给你的亲朋好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5867280"/>
            <a:ext cx="205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90720" y="4724280"/>
            <a:ext cx="701028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>
                    <a:alpha val="75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Goodbye!</a:t>
            </a:r>
            <a:endParaRPr b="1" i="1" lang="en-US" sz="66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>
                  <a:alpha val="75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7" name="" descr="查看更多精彩图片"/>
          <p:cNvPicPr/>
          <p:nvPr/>
        </p:nvPicPr>
        <p:blipFill>
          <a:blip r:embed="rId2"/>
          <a:stretch/>
        </p:blipFill>
        <p:spPr>
          <a:xfrm>
            <a:off x="2590920" y="380880"/>
            <a:ext cx="3809880" cy="1638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56880" y="1752480"/>
            <a:ext cx="549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  <a:ea typeface="PMingLiU"/>
              </a:rPr>
              <a:t>Have a special ev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  <a:ea typeface="PMingLiU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  <a:ea typeface="PMingLiU"/>
              </a:rPr>
              <a:t>on every birthd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061720" y="1081080"/>
            <a:ext cx="17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nv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7160" y="1081080"/>
            <a:ext cx="231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t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50080" y="220968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vi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riend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y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36640" y="1295280"/>
            <a:ext cx="22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82000" y="37101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我妈妈来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刘涛去公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0560" y="3657600"/>
            <a:ext cx="53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nv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y mother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1200" y="44956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nv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u Tao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638680"/>
            <a:ext cx="19810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676520" y="380880"/>
            <a:ext cx="838080" cy="838440"/>
            <a:chOff x="1676520" y="380880"/>
            <a:chExt cx="838080" cy="838440"/>
          </a:xfrm>
        </p:grpSpPr>
        <p:sp>
          <p:nvSpPr>
            <p:cNvPr id="279" name=""/>
            <p:cNvSpPr/>
            <p:nvPr/>
          </p:nvSpPr>
          <p:spPr>
            <a:xfrm>
              <a:off x="1676520" y="3808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990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90920" y="349200"/>
            <a:ext cx="1752480" cy="870120"/>
            <a:chOff x="2590920" y="349200"/>
            <a:chExt cx="1752480" cy="870120"/>
          </a:xfrm>
        </p:grpSpPr>
        <p:sp>
          <p:nvSpPr>
            <p:cNvPr id="282" name=""/>
            <p:cNvSpPr/>
            <p:nvPr/>
          </p:nvSpPr>
          <p:spPr>
            <a:xfrm>
              <a:off x="2971800" y="91440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0920" y="3492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3600" spc="-1" strike="noStrike">
                  <a:solidFill>
                    <a:srgbClr val="ff0066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li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0" y="2362320"/>
            <a:ext cx="9144000" cy="3276360"/>
            <a:chOff x="0" y="2362320"/>
            <a:chExt cx="9144000" cy="3276360"/>
          </a:xfrm>
        </p:grpSpPr>
        <p:sp>
          <p:nvSpPr>
            <p:cNvPr id="285" name=""/>
            <p:cNvSpPr/>
            <p:nvPr/>
          </p:nvSpPr>
          <p:spPr>
            <a:xfrm>
              <a:off x="0" y="2362320"/>
              <a:ext cx="9144000" cy="3276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07680" y="2590560"/>
              <a:ext cx="4844160" cy="26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3600" spc="-1" strike="noStrike">
                  <a:solidFill>
                    <a:srgbClr val="800080"/>
                  </a:solidFill>
                  <a:latin typeface="Arial"/>
                </a:rPr>
                <a:t>Tip1: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同学们，通过观察一个词组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词组结构，往往可以掌握许多同类词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哦，试试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644200" y="1797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邀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2133720"/>
            <a:ext cx="9144000" cy="304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，英语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非常常见的单词后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通常能把动词变成意思相近的名词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182880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0"/>
            <a:ext cx="556272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S UI Gothic"/>
              </a:rPr>
              <a:t>Have a try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292" name=""/>
          <p:cNvSpPr/>
          <p:nvPr/>
        </p:nvSpPr>
        <p:spPr>
          <a:xfrm>
            <a:off x="3735720" y="228600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uca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ion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12400" y="327672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ion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4495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5040" y="553068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et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21480" y="1371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752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41360" y="137160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it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tion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638680"/>
            <a:ext cx="1981080" cy="12193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528200" y="176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邀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0144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邀请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1447920"/>
            <a:ext cx="7523280" cy="70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llo! Boys and girls! I’m Sunny, your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frie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.My a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年龄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 secr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I like smiling, so I’m a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happy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irl. My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birth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s on May 24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that day, because I can get a lot of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birthda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prese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 How abou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43000" cy="6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28195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380880"/>
            <a:ext cx="57909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ooking for hidden things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24480" y="327672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809880" y="3276720"/>
            <a:ext cx="1143000" cy="60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867280"/>
            <a:ext cx="1218960" cy="990720"/>
          </a:xfrm>
          <a:prstGeom prst="rightArrow">
            <a:avLst>
              <a:gd name="adj1" fmla="val 50000"/>
              <a:gd name="adj2" fmla="val 307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10666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716292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70120" y="11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隐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25520" y="2971800"/>
            <a:ext cx="23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rth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362320" y="4876920"/>
            <a:ext cx="4038480" cy="1371600"/>
            <a:chOff x="2362320" y="4876920"/>
            <a:chExt cx="4038480" cy="1371600"/>
          </a:xfrm>
        </p:grpSpPr>
        <p:sp>
          <p:nvSpPr>
            <p:cNvPr id="69" name=""/>
            <p:cNvSpPr/>
            <p:nvPr/>
          </p:nvSpPr>
          <p:spPr>
            <a:xfrm>
              <a:off x="2362320" y="4876920"/>
              <a:ext cx="4038480" cy="1371600"/>
            </a:xfrm>
            <a:prstGeom prst="cloudCallout">
              <a:avLst>
                <a:gd name="adj1" fmla="val -4833"/>
                <a:gd name="adj2" fmla="val -13958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7a7e8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ff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2240" y="5105520"/>
              <a:ext cx="1669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Arial"/>
                </a:rPr>
                <a:t>party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0" y="2362320"/>
            <a:ext cx="2971800" cy="990360"/>
            <a:chOff x="0" y="2362320"/>
            <a:chExt cx="2971800" cy="990360"/>
          </a:xfrm>
        </p:grpSpPr>
        <p:sp>
          <p:nvSpPr>
            <p:cNvPr id="72" name=""/>
            <p:cNvSpPr/>
            <p:nvPr/>
          </p:nvSpPr>
          <p:spPr>
            <a:xfrm>
              <a:off x="0" y="2362320"/>
              <a:ext cx="2971800" cy="990360"/>
            </a:xfrm>
            <a:prstGeom prst="cloudCallout">
              <a:avLst>
                <a:gd name="adj1" fmla="val 52083"/>
                <a:gd name="adj2" fmla="val 6794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7a7e8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ff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0440" y="2438280"/>
              <a:ext cx="201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pres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43000" y="228600"/>
            <a:ext cx="3352680" cy="1066680"/>
            <a:chOff x="1143000" y="228600"/>
            <a:chExt cx="3352680" cy="1066680"/>
          </a:xfrm>
        </p:grpSpPr>
        <p:sp>
          <p:nvSpPr>
            <p:cNvPr id="75" name=""/>
            <p:cNvSpPr/>
            <p:nvPr/>
          </p:nvSpPr>
          <p:spPr>
            <a:xfrm>
              <a:off x="1143000" y="228600"/>
              <a:ext cx="3352680" cy="1066680"/>
            </a:xfrm>
            <a:prstGeom prst="cloudCallout">
              <a:avLst>
                <a:gd name="adj1" fmla="val 11314"/>
                <a:gd name="adj2" fmla="val 1299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7a7e8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ff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1200" y="380880"/>
              <a:ext cx="130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cak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76920" y="380880"/>
            <a:ext cx="3962160" cy="990360"/>
            <a:chOff x="4876920" y="380880"/>
            <a:chExt cx="3962160" cy="990360"/>
          </a:xfrm>
        </p:grpSpPr>
        <p:sp>
          <p:nvSpPr>
            <p:cNvPr id="78" name=""/>
            <p:cNvSpPr/>
            <p:nvPr/>
          </p:nvSpPr>
          <p:spPr>
            <a:xfrm>
              <a:off x="4876920" y="380880"/>
              <a:ext cx="3962160" cy="990360"/>
            </a:xfrm>
            <a:prstGeom prst="cloudCallout">
              <a:avLst>
                <a:gd name="adj1" fmla="val -34574"/>
                <a:gd name="adj2" fmla="val 10544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7a7e8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ff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8760" y="517320"/>
              <a:ext cx="358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Birthday so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19920" y="2286000"/>
            <a:ext cx="3200400" cy="990720"/>
            <a:chOff x="6019920" y="2286000"/>
            <a:chExt cx="3200400" cy="990720"/>
          </a:xfrm>
        </p:grpSpPr>
        <p:sp>
          <p:nvSpPr>
            <p:cNvPr id="81" name=""/>
            <p:cNvSpPr/>
            <p:nvPr/>
          </p:nvSpPr>
          <p:spPr>
            <a:xfrm>
              <a:off x="6019920" y="2286000"/>
              <a:ext cx="3200400" cy="990720"/>
            </a:xfrm>
            <a:prstGeom prst="cloudCallout">
              <a:avLst>
                <a:gd name="adj1" fmla="val -67310"/>
                <a:gd name="adj2" fmla="val 7339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7a7e8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ff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1040" y="22860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400" y="457200"/>
            <a:ext cx="78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ow to                                               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2102040" y="457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invi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iend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ur birthday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8120" y="152388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9560" y="228600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ake a telephone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920" y="39625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560" y="312408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Write an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1676520"/>
            <a:ext cx="381240" cy="3581280"/>
            <a:chOff x="1295280" y="1676520"/>
            <a:chExt cx="381240" cy="3581280"/>
          </a:xfrm>
        </p:grpSpPr>
        <p:sp>
          <p:nvSpPr>
            <p:cNvPr id="91" name=""/>
            <p:cNvSpPr/>
            <p:nvPr/>
          </p:nvSpPr>
          <p:spPr>
            <a:xfrm>
              <a:off x="1295280" y="16765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95280" y="2438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32004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40384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4876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984320" y="4768920"/>
            <a:ext cx="58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 birthday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vit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tion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70400" y="5408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请帖、邀请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86600" y="6203880"/>
            <a:ext cx="20574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录音，选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你会知道的问题回答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2920" y="914400"/>
            <a:ext cx="888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’m Hana. I live in America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 parents and my little brother, Ba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’m eleven years old. Next Saturda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 birthday. I’d like to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inv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my frie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 my birthday party. I want to mak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ice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invitati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card. I use the computer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280" y="1066680"/>
            <a:ext cx="2200320" cy="609840"/>
            <a:chOff x="152280" y="1066680"/>
            <a:chExt cx="2200320" cy="60984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152280" y="1066680"/>
              <a:ext cx="2200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40960" y="114300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600" y="1143000"/>
            <a:ext cx="4495680" cy="610920"/>
            <a:chOff x="2514600" y="1143000"/>
            <a:chExt cx="4495680" cy="61092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2514600" y="1143000"/>
              <a:ext cx="4495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898080" y="123336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Live in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04920" y="1981080"/>
            <a:ext cx="8305560" cy="685800"/>
            <a:chOff x="304920" y="1981080"/>
            <a:chExt cx="8305560" cy="68580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304920" y="1981080"/>
              <a:ext cx="8305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034000" y="2057400"/>
              <a:ext cx="434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Family members (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家庭成员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4920" y="2743200"/>
            <a:ext cx="4343400" cy="685800"/>
            <a:chOff x="304920" y="2743200"/>
            <a:chExt cx="4343400" cy="6858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304920" y="2743200"/>
              <a:ext cx="43434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238040" y="2819520"/>
              <a:ext cx="188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Age 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（年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920" y="2743200"/>
            <a:ext cx="8610480" cy="1523880"/>
            <a:chOff x="304920" y="2743200"/>
            <a:chExt cx="8610480" cy="1523880"/>
          </a:xfrm>
        </p:grpSpPr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4114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020920" y="2833560"/>
              <a:ext cx="381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When’s her birthday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304920" y="3657600"/>
              <a:ext cx="26668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304920" y="3581280"/>
            <a:ext cx="8610480" cy="1524240"/>
            <a:chOff x="304920" y="3581280"/>
            <a:chExt cx="8610480" cy="1524240"/>
          </a:xfrm>
        </p:grpSpPr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3124080" y="3581280"/>
              <a:ext cx="5791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304920" y="4495680"/>
              <a:ext cx="44193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63200" y="3672000"/>
              <a:ext cx="47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Would like to </a:t>
              </a: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invite 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…</a:t>
              </a: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 to 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920" y="4495680"/>
            <a:ext cx="8762760" cy="1447920"/>
            <a:chOff x="304920" y="4495680"/>
            <a:chExt cx="8762760" cy="1447920"/>
          </a:xfrm>
        </p:grpSpPr>
        <p:pic>
          <p:nvPicPr>
            <p:cNvPr id="128" name="" descr=""/>
            <p:cNvPicPr/>
            <p:nvPr/>
          </p:nvPicPr>
          <p:blipFill>
            <a:blip r:embed="rId11"/>
            <a:stretch/>
          </p:blipFill>
          <p:spPr>
            <a:xfrm>
              <a:off x="304920" y="5334120"/>
              <a:ext cx="4190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2"/>
            <a:stretch/>
          </p:blipFill>
          <p:spPr>
            <a:xfrm>
              <a:off x="4876920" y="4495680"/>
              <a:ext cx="4190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76920" y="449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Want to make a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24280" y="5334120"/>
            <a:ext cx="4114800" cy="609480"/>
            <a:chOff x="4724280" y="5334120"/>
            <a:chExt cx="4114800" cy="609480"/>
          </a:xfrm>
        </p:grpSpPr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4724280" y="5334120"/>
              <a:ext cx="4114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800600" y="541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Use the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6324480" y="22860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846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6720" y="304920"/>
            <a:ext cx="772308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n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’m going to make a n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itation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ad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 invitation card? Can I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n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ad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n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ne! Let’s                   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mm. Looks good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me show it to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ad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n I see it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28600" y="1981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23360" y="2286000"/>
            <a:ext cx="29116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Just be quiet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5880" y="2209680"/>
            <a:ext cx="2895840" cy="609840"/>
            <a:chOff x="6095880" y="2209680"/>
            <a:chExt cx="2895840" cy="609840"/>
          </a:xfrm>
        </p:grpSpPr>
        <p:sp>
          <p:nvSpPr>
            <p:cNvPr id="142" name=""/>
            <p:cNvSpPr/>
            <p:nvPr/>
          </p:nvSpPr>
          <p:spPr>
            <a:xfrm flipV="1">
              <a:off x="6095880" y="2209320"/>
              <a:ext cx="2895840" cy="609840"/>
            </a:xfrm>
            <a:prstGeom prst="wedgeEllipseCallout">
              <a:avLst>
                <a:gd name="adj1" fmla="val -63490"/>
                <a:gd name="adj2" fmla="val -434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>
                    <a:alpha val="8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00160" y="2286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只要保持安静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读本段，找出不明白的语言点，向老师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373392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int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19920" y="3124080"/>
            <a:ext cx="3124080" cy="533520"/>
            <a:chOff x="6019920" y="3124080"/>
            <a:chExt cx="3124080" cy="533520"/>
          </a:xfrm>
        </p:grpSpPr>
        <p:sp>
          <p:nvSpPr>
            <p:cNvPr id="147" name=""/>
            <p:cNvSpPr/>
            <p:nvPr/>
          </p:nvSpPr>
          <p:spPr>
            <a:xfrm>
              <a:off x="6019920" y="3124080"/>
              <a:ext cx="3124080" cy="533520"/>
            </a:xfrm>
            <a:prstGeom prst="wedgeEllipseCallout">
              <a:avLst>
                <a:gd name="adj1" fmla="val -43750"/>
                <a:gd name="adj2" fmla="val 898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9360" y="3124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把它打印出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981080" y="457200"/>
            <a:ext cx="5029200" cy="3886200"/>
            <a:chOff x="1981080" y="457200"/>
            <a:chExt cx="5029200" cy="38862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5562720" y="457200"/>
              <a:ext cx="14475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1981080" y="1066680"/>
              <a:ext cx="2895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>
              <a:off x="3200400" y="2438280"/>
              <a:ext cx="27432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8"/>
            <a:stretch/>
          </p:blipFill>
          <p:spPr>
            <a:xfrm>
              <a:off x="4343400" y="3733920"/>
              <a:ext cx="22096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228600" y="373392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22860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2286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228600" y="57913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228600" y="5257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22860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152280" y="426708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8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66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40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50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17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80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66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60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85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77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7680" y="52560"/>
            <a:ext cx="7855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na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m, Mom, Here is my inv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om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at does it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n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is is what I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867280" y="914400"/>
            <a:ext cx="2362320" cy="609480"/>
            <a:chOff x="5867280" y="914400"/>
            <a:chExt cx="2362320" cy="609480"/>
          </a:xfrm>
        </p:grpSpPr>
        <p:sp>
          <p:nvSpPr>
            <p:cNvPr id="164" name=""/>
            <p:cNvSpPr/>
            <p:nvPr/>
          </p:nvSpPr>
          <p:spPr>
            <a:xfrm>
              <a:off x="5867280" y="914400"/>
              <a:ext cx="2362320" cy="609480"/>
            </a:xfrm>
            <a:prstGeom prst="wedgeEllipseCallout">
              <a:avLst>
                <a:gd name="adj1" fmla="val -43750"/>
                <a:gd name="adj2" fmla="val 6744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4200" y="990720"/>
              <a:ext cx="17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write 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的过去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49600" y="1981080"/>
            <a:ext cx="7800480" cy="4589640"/>
            <a:chOff x="849600" y="1981080"/>
            <a:chExt cx="7800480" cy="458964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2489040" y="2057400"/>
              <a:ext cx="352548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726920" y="1981080"/>
              <a:ext cx="1645920" cy="19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5689440" y="3200400"/>
              <a:ext cx="189360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49600" y="5867280"/>
              <a:ext cx="780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（</a:t>
              </a:r>
              <a:r>
                <a:rPr b="1" lang="zh-CN" sz="4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What’s in Hana’s invitation?</a:t>
              </a:r>
              <a:r>
                <a:rPr b="1" lang="zh-CN" sz="4000" spc="-1" strike="noStrike">
                  <a:solidFill>
                    <a:srgbClr val="800080"/>
                  </a:solidFill>
                  <a:latin typeface="Arial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1752480"/>
            <a:ext cx="9144000" cy="2819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想一想，假如是你的生日邀请函，你会写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7160" y="2895480"/>
            <a:ext cx="78678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: Hana’s Birthday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 Saturday, July 13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2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.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 at my house, phone number 348-80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: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sure hunt. Finder kee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2438280"/>
            <a:ext cx="4647960" cy="1295640"/>
            <a:chOff x="5791320" y="2438280"/>
            <a:chExt cx="4647960" cy="1295640"/>
          </a:xfrm>
        </p:grpSpPr>
        <p:sp>
          <p:nvSpPr>
            <p:cNvPr id="174" name=""/>
            <p:cNvSpPr/>
            <p:nvPr/>
          </p:nvSpPr>
          <p:spPr>
            <a:xfrm>
              <a:off x="5867280" y="2438280"/>
              <a:ext cx="3276720" cy="1295640"/>
            </a:xfrm>
            <a:prstGeom prst="wedgeRoundRectCallout">
              <a:avLst>
                <a:gd name="adj1" fmla="val -37305"/>
                <a:gd name="adj2" fmla="val 68995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97254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2590920"/>
              <a:ext cx="46479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p.m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：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in the aftern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a.m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：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in the mor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621760" y="5562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【諺】拾得者是物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26T06:28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