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D19-C487-4CCB-AD7E-9CEF4D99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B2A-C672-4031-B465-2B14028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79F-AB52-41D6-80EE-EF04EFCB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442-A7FE-4185-B9E2-CEB77421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C64-2589-4E30-9535-E85A01F8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876-76A6-43E8-9C70-118DD38B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795-A74A-449A-8730-72DA864D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C32-49E0-437A-BA3D-4670CD1A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204-ACC6-45F7-B18A-6CD85586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FE0-CA63-4E81-9C91-61E7239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97E-8190-49FE-91BA-99BF1CF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B20-4264-45BF-8CC9-D27C1D9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62F2-7050-4A5F-ACE8-2DE954EE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两杰广场"/>
          <p:cNvPicPr/>
          <p:nvPr/>
        </p:nvPicPr>
        <p:blipFill>
          <a:blip r:embed="rId2"/>
          <a:stretch/>
        </p:blipFill>
        <p:spPr>
          <a:xfrm>
            <a:off x="2209680" y="1600200"/>
            <a:ext cx="5472360" cy="387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欢迎4"/>
          <p:cNvPicPr/>
          <p:nvPr/>
        </p:nvPicPr>
        <p:blipFill>
          <a:blip r:embed="rId3"/>
          <a:stretch/>
        </p:blipFill>
        <p:spPr>
          <a:xfrm>
            <a:off x="990720" y="1676520"/>
            <a:ext cx="4114800" cy="763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50840" y="55627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楷体"/>
              </a:rPr>
              <a:t>高三历史备课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52880" y="762120"/>
            <a:ext cx="4114800" cy="4038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3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、程朱到陆王之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14400"/>
            <a:ext cx="4724280" cy="579276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792760"/>
              <a:gd name="textAreaBottom" fmla="*/ 5562360 h 5792760"/>
            </a:gdLst>
            <a:ahLst/>
            <a:rect l="textAreaLeft" t="textAreaTop" r="textAreaRight" b="textAreaBottom"/>
            <a:pathLst>
              <a:path w="21600" h="26485">
                <a:moveTo>
                  <a:pt x="3600" y="0"/>
                </a:moveTo>
                <a:arcTo wR="3600" hR="3600" stAng="16200000" swAng="-5400000"/>
                <a:lnTo>
                  <a:pt x="0" y="22885"/>
                </a:lnTo>
                <a:arcTo wR="3600" hR="3600" stAng="10800000" swAng="-5400000"/>
                <a:lnTo>
                  <a:pt x="18000" y="26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94040" y="685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1447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990720"/>
            <a:ext cx="4572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王守仁进一步发展、完善了陆九渊的心体系，与程朱理形成分庭抗礼之势。……主张从“本心”入手去认识圣贤之心，以自己的内心为最高权威，反对用先验观念强制管辖心灵，体现出一定的平等和叛逆萌芽。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大张帆教授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陆王心学是怎样对抗程朱理学的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从思想发展的路径来说有何种进步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1905120"/>
            <a:ext cx="6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720" y="1905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362320"/>
            <a:ext cx="16002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天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1447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726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良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1143000"/>
            <a:ext cx="4419360" cy="4270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、程朱到陆王之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066680"/>
            <a:ext cx="4343400" cy="4270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9051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19051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971800"/>
            <a:ext cx="1524240" cy="1679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971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410080"/>
            <a:ext cx="40388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外在道德束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压抑主体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905120"/>
            <a:ext cx="3124080" cy="3047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048120"/>
            <a:ext cx="1600200" cy="1527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8954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97280" y="11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天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7720" y="106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8360" y="5411880"/>
            <a:ext cx="40370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强调主体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平等个性解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943600"/>
            <a:ext cx="687240" cy="76320"/>
          </a:xfrm>
          <a:prstGeom prst="leftRightArrow">
            <a:avLst>
              <a:gd name="adj1" fmla="val 50000"/>
              <a:gd name="adj2" fmla="val 18009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3440" y="243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362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36080" y="388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私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505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895480"/>
            <a:ext cx="1095120" cy="100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道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9360" y="1905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198108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4408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良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49040" y="1219320"/>
            <a:ext cx="182664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政治秩序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7360" y="4724280"/>
            <a:ext cx="1278000" cy="64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官方教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9360" y="4724280"/>
            <a:ext cx="1278000" cy="64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黑体"/>
              </a:rPr>
              <a:t>自得独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、陆王到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李贽之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066680"/>
            <a:ext cx="4265640" cy="4267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981080"/>
            <a:ext cx="312408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19051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819520"/>
            <a:ext cx="1523880" cy="1450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27432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914400"/>
            <a:ext cx="4421160" cy="5791320"/>
          </a:xfrm>
          <a:custGeom>
            <a:avLst/>
            <a:gdLst>
              <a:gd name="textAreaLeft" fmla="*/ 215640 w 4421160"/>
              <a:gd name="textAreaRight" fmla="*/ 4205520 w 4421160"/>
              <a:gd name="textAreaTop" fmla="*/ 215640 h 5791320"/>
              <a:gd name="textAreaBottom" fmla="*/ 5575680 h 5791320"/>
            </a:gdLst>
            <a:ahLst/>
            <a:rect l="textAreaLeft" t="textAreaTop" r="textAreaRight" b="textAreaBottom"/>
            <a:pathLst>
              <a:path w="21600" h="28294">
                <a:moveTo>
                  <a:pt x="3600" y="0"/>
                </a:moveTo>
                <a:arcTo wR="3600" hR="3600" stAng="16200000" swAng="-5400000"/>
                <a:lnTo>
                  <a:pt x="0" y="24694"/>
                </a:lnTo>
                <a:arcTo wR="3600" hR="3600" stAng="10800000" swAng="-5400000"/>
                <a:lnTo>
                  <a:pt x="18000" y="28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65440" y="106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9907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王阳明：“盖人心之本体即是明德（良知）。私欲障碍则本体丧失。圣贤庸愚，同具此心：苟能致知，皆能明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李贽：“夫天生一人，自有一人之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待取给于孔子而后足也。”“夫私者，人之心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8520" y="289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196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良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1828800"/>
            <a:ext cx="3581640" cy="3198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36232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3640" y="2057400"/>
            <a:ext cx="912240" cy="155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黑体"/>
                <a:ea typeface="黑体"/>
              </a:rPr>
              <a:t>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505320"/>
            <a:ext cx="1981440" cy="100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穿衣吃饭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是人伦物理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4572000"/>
            <a:ext cx="4451400" cy="13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讨论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：李贽与王阳明的思想有何联系与差异？你认为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自得独断”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的思想路线可能导致怎么样的社会后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陆王到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李贽之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1066680"/>
            <a:ext cx="8991360" cy="419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17720" y="106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14300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　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明朝） 嘉靖以来……终日清谈成了整个官场的作风。什么国计民生……一概不学、不懂。迂腐、愚昧、空虚，是这个时代士大夫阶层的共同品格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显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晚明心学的没落与实学思潮的兴起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7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顾炎武：“乃以今观之，则无官不赂遗，而人人皆吏士之为矣；无守不盗窃，而人人皆僮竖之为矣。自其束发读书之时，所以劝之者，不过所谓千钟粟、黄金屋，而一日服官，即求其所大欲。君臣上下怀利以相接，遂成风流，不可复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如果你是明亡之际的读书人，从明末社会的学术风气及道德实践出发，你将从那些方面来思考并挽救这一时代危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5436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、李贽到黄顾王之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838080"/>
            <a:ext cx="8991360" cy="449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762120"/>
            <a:ext cx="8917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宗羲：“有生之初，人各自私也，人各自利也……古者以天下为主，君为客……后之为人君者……使天下之人，不敢自私，不敢自利，以我之大私为天下之大公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顾炎武：“天下之人各怀其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各私其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常情也。……圣人者因而用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天下之私，以成一人之公而天下治。”“寓封建于郡县之中，而天下治之。”“宗法立而刑清。天下之宗子，各治其族，以辅人君之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3341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讨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黄宗羲与顾炎武以何种观点为起点阐述了他们的新政治思想？他们的具体制度设计突破中国的传统了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　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、李贽到黄顾王之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2640" y="51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禽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990720"/>
            <a:ext cx="8915400" cy="41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朱熹：“未有天地之先，毕竟先有理。”“君臣、父子、兄弟、夫妇、朋友岂不是天理？”王夫之：“天下岂别有所谓理？气得其理之谓理也。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朱熹：“故圣贤教人，必以穷理为先，而力行以终之。”王阳明：“知是行之始，行是知之成。”王夫之：“行而后知有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道犹路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5181480"/>
            <a:ext cx="883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比宋明理学，王夫之对世界本原及认知途径发生了怎样的变化？对当时官方的政治伦理有什么样的冲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915840"/>
            <a:ext cx="8915400" cy="578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宋至清初儒学思想演变的内在理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07800" y="1828800"/>
            <a:ext cx="1278000" cy="6433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程朱理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71240" y="1828800"/>
            <a:ext cx="127800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陆王心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514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07800" y="3809880"/>
            <a:ext cx="1278000" cy="119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官方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经典语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07800" y="2819520"/>
            <a:ext cx="1278000" cy="6433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格物致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2514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2560" y="990720"/>
            <a:ext cx="91224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天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楷体"/>
              </a:rPr>
              <a:t>道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1240" y="2819520"/>
            <a:ext cx="127800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反省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971800"/>
            <a:ext cx="3429000" cy="152280"/>
          </a:xfrm>
          <a:prstGeom prst="leftRightArrow">
            <a:avLst>
              <a:gd name="adj1" fmla="val 50000"/>
              <a:gd name="adj2" fmla="val 4503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71240" y="3809880"/>
            <a:ext cx="1278000" cy="119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李贽异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自得独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4419720"/>
            <a:ext cx="3430800" cy="152280"/>
          </a:xfrm>
          <a:prstGeom prst="leftRightArrow">
            <a:avLst>
              <a:gd name="adj1" fmla="val 50000"/>
              <a:gd name="adj2" fmla="val 45059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200400"/>
            <a:ext cx="2011320" cy="64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言行不一学风空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344840"/>
            <a:ext cx="306360" cy="532080"/>
          </a:xfrm>
          <a:prstGeom prst="downArrow">
            <a:avLst>
              <a:gd name="adj1" fmla="val 50000"/>
              <a:gd name="adj2" fmla="val 4342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800600"/>
            <a:ext cx="3048120" cy="6433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黄、顾、王的批判继承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5943600"/>
            <a:ext cx="3809880" cy="52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归到了社会责任理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箭头 354"/>
          <p:cNvSpPr/>
          <p:nvPr/>
        </p:nvSpPr>
        <p:spPr>
          <a:xfrm>
            <a:off x="685800" y="1752480"/>
            <a:ext cx="251460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箭头 356"/>
          <p:cNvSpPr/>
          <p:nvPr/>
        </p:nvSpPr>
        <p:spPr>
          <a:xfrm flipH="1">
            <a:off x="6095520" y="1752480"/>
            <a:ext cx="259236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2285640"/>
            <a:ext cx="3657600" cy="38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2160" y="1066680"/>
            <a:ext cx="182664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政治秩序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15920" y="1066680"/>
            <a:ext cx="182664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人独立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结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内圣外王的追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为天地立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为生民立命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为往圣继绝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为万世开太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　　　　　　　　　　　　　　　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——张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两杰广场"/>
          <p:cNvPicPr/>
          <p:nvPr/>
        </p:nvPicPr>
        <p:blipFill>
          <a:blip r:embed="rId2"/>
          <a:stretch/>
        </p:blipFill>
        <p:spPr>
          <a:xfrm>
            <a:off x="2209680" y="1219320"/>
            <a:ext cx="5472360" cy="3875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112920" y="574668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09680" y="5334120"/>
            <a:ext cx="47991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！请批评指正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914400"/>
            <a:ext cx="8991720" cy="579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宋至清初儒学思想演变的内在理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07800" y="1828800"/>
            <a:ext cx="1278000" cy="6433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程朱理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71240" y="1828800"/>
            <a:ext cx="127800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陆王心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2514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7800" y="3809880"/>
            <a:ext cx="1278000" cy="119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官方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经典语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07800" y="2819520"/>
            <a:ext cx="1278000" cy="6433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格物致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2514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2560" y="990720"/>
            <a:ext cx="91224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天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楷体"/>
              </a:rPr>
              <a:t>道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71240" y="2819520"/>
            <a:ext cx="1278000" cy="6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反省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971800"/>
            <a:ext cx="3429000" cy="152280"/>
          </a:xfrm>
          <a:prstGeom prst="leftRightArrow">
            <a:avLst>
              <a:gd name="adj1" fmla="val 50000"/>
              <a:gd name="adj2" fmla="val 4503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71240" y="3809880"/>
            <a:ext cx="1278000" cy="119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李贽异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自得独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419720"/>
            <a:ext cx="3430800" cy="152280"/>
          </a:xfrm>
          <a:prstGeom prst="leftRightArrow">
            <a:avLst>
              <a:gd name="adj1" fmla="val 50000"/>
              <a:gd name="adj2" fmla="val 45059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200400"/>
            <a:ext cx="2011320" cy="64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言行不一学风空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4344840"/>
            <a:ext cx="306360" cy="532080"/>
          </a:xfrm>
          <a:prstGeom prst="downArrow">
            <a:avLst>
              <a:gd name="adj1" fmla="val 50000"/>
              <a:gd name="adj2" fmla="val 4342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4800600"/>
            <a:ext cx="3048120" cy="6433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黄、顾、王的批判继承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5943600"/>
            <a:ext cx="3809880" cy="52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归到了社会哲学理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箭头 354"/>
          <p:cNvSpPr/>
          <p:nvPr/>
        </p:nvSpPr>
        <p:spPr>
          <a:xfrm>
            <a:off x="685800" y="1752480"/>
            <a:ext cx="251460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箭头 356"/>
          <p:cNvSpPr/>
          <p:nvPr/>
        </p:nvSpPr>
        <p:spPr>
          <a:xfrm flipH="1">
            <a:off x="6095520" y="1752480"/>
            <a:ext cx="259236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19520" y="2285640"/>
            <a:ext cx="3657600" cy="38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2160" y="1066680"/>
            <a:ext cx="182664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政治秩序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15920" y="1066680"/>
            <a:ext cx="182664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人独立理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327672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26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讲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宋明理学和明清之际活　　　　　　　跃的儒家思想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历史必修三第一单元复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6640" y="5638680"/>
            <a:ext cx="51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天庆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两杰广场"/>
          <p:cNvPicPr/>
          <p:nvPr/>
        </p:nvPicPr>
        <p:blipFill>
          <a:blip r:embed="rId2"/>
          <a:stretch/>
        </p:blipFill>
        <p:spPr>
          <a:xfrm>
            <a:off x="2209680" y="1219320"/>
            <a:ext cx="5472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79280" y="1038240"/>
          <a:ext cx="8666280" cy="5645160"/>
        </p:xfrm>
        <a:graphic>
          <a:graphicData uri="http://schemas.openxmlformats.org/drawingml/2006/table">
            <a:tbl>
              <a:tblPr/>
              <a:tblGrid>
                <a:gridCol w="1330200"/>
                <a:gridCol w="3456000"/>
                <a:gridCol w="3880080"/>
              </a:tblGrid>
              <a:tr h="725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程朱理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陆王心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9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观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37160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宋明理学的派别及主要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59400" y="27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94040" y="1752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27080" y="820800"/>
          <a:ext cx="8847000" cy="5857920"/>
        </p:xfrm>
        <a:graphic>
          <a:graphicData uri="http://schemas.openxmlformats.org/drawingml/2006/table">
            <a:tbl>
              <a:tblPr/>
              <a:tblGrid>
                <a:gridCol w="1452600"/>
                <a:gridCol w="5370480"/>
                <a:gridCol w="2023920"/>
              </a:tblGrid>
              <a:tr h="101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思想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基本观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李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黄宗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顾炎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王夫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507200" y="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明清时期儒家思想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考纲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、宋明理学：程朱理学；陆王心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、明清之际的进步思潮：李贽、黄宗羲、顾炎武和王夫之的思想主张；明清时期儒家思想的发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复习安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黑体"/>
              </a:rPr>
              <a:t>　　　　　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检基础（思想内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理线索（内在路径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黑体"/>
              </a:rPr>
              <a:t>　　　　　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一、深分析（背景意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黑体"/>
              </a:rPr>
              <a:t>二、活运用（限时练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00"/>
              </a:solidFill>
              <a:latin typeface="楷体_GB2312"/>
              <a:ea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黑体"/>
              </a:rPr>
              <a:t>　　　　　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检基础（思想内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1143000"/>
          <a:ext cx="8540640" cy="5462640"/>
        </p:xfrm>
        <a:graphic>
          <a:graphicData uri="http://schemas.openxmlformats.org/drawingml/2006/table">
            <a:tbl>
              <a:tblPr/>
              <a:tblGrid>
                <a:gridCol w="1204920"/>
                <a:gridCol w="3456000"/>
                <a:gridCol w="3879720"/>
              </a:tblGrid>
              <a:tr h="7398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程朱理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陆王心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基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观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05092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宋明理学的派别及主要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8240" y="2413080"/>
            <a:ext cx="364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27880" y="2590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①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理”是宇宙万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本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理就是三纲五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③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存天理，灭人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44956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格物致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知先行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24960" y="586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官方哲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752480"/>
            <a:ext cx="3657600" cy="4114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60120" y="1752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天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590920"/>
            <a:ext cx="2666880" cy="2896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9400" y="27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581280"/>
            <a:ext cx="2135160" cy="1752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581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50480" y="4648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私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514600"/>
            <a:ext cx="350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致良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行合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49568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省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行合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34840" y="586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贽异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752480"/>
            <a:ext cx="3733560" cy="4114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华文行楷"/>
              </a:rPr>
              <a:t>禽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2514600"/>
            <a:ext cx="281916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581280"/>
            <a:ext cx="213372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352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4114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天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4382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37760" y="3048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29718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94040" y="1752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万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335560"/>
            <a:ext cx="91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44640" y="2362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236232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8480" y="48769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良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1280" y="652320"/>
          <a:ext cx="9001080" cy="6032520"/>
        </p:xfrm>
        <a:graphic>
          <a:graphicData uri="http://schemas.openxmlformats.org/drawingml/2006/table">
            <a:tbl>
              <a:tblPr/>
              <a:tblGrid>
                <a:gridCol w="1508040"/>
                <a:gridCol w="5524560"/>
                <a:gridCol w="1968480"/>
              </a:tblGrid>
              <a:tr h="62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思想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基本观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李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黄宗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顾炎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王夫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828800" y="1295280"/>
            <a:ext cx="5041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出孔子不是天生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强调人正当的私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穿衣吃饭就是“人伦物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971800"/>
            <a:ext cx="487692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提倡“天下为主，君为客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提倡“法治”，反对“人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114800"/>
            <a:ext cx="54100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主张“经世致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提出“亡国”与“亡天下”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181480"/>
            <a:ext cx="601992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界是物质的，物质是变化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认识由客观对象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静止是相对，运动是绝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14479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挑战了正统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3505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促使我国传统文化重新焕发了生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78280" y="763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4480" y="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明清时期儒家思想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二、理线索（内在理路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研究思想史而不深入“内在理路”，则无论如何讲不到家，只能在边缘问题上徘徊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楷体"/>
                <a:ea typeface="楷体"/>
              </a:rPr>
              <a:t>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楷体"/>
                <a:ea typeface="楷体"/>
              </a:rPr>
              <a:t>　　　　　　　　　　　　　　　　　　　　　　　　　　　　　　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——余英时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990720"/>
            <a:ext cx="8989920" cy="464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、程朱到陆王之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638680"/>
            <a:ext cx="91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于道德与功业，程朱理学更着意于哪个方面？实践中会产生怎样的偏差？为什么会有这样的偏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06668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在以孔孟为代表的原生儒学中，“修身”与“治平”，“诚心诚意”与“齐家治国”，两者虽有分别，亦间有歧异（如孔子更热衷外在的事功成就，孟子更着意内在的心性修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葛金芳：《宋代儒学的伦理学转向及其对传统社会近代转型的历史影响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材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陆九渊：“今人读书便是为利。如取解后又要得官，得官后又要改官，自少至老，自顶至踵，无非为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05:22:45Z</dcterms:created>
  <dc:creator/>
  <dc:description/>
  <dc:language>en-US</dc:language>
  <cp:lastModifiedBy>黄天庆</cp:lastModifiedBy>
  <dcterms:modified xsi:type="dcterms:W3CDTF">2014-11-28T04:28:5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