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2DC5B-8F31-4BCB-87DE-D0FE23F26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21BF-63E3-4603-8766-EF8525B08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6FDF2-4203-4690-8DE9-65591B58A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5C5F9-B06F-4CE2-B82B-8A2B14467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FCA20-0326-477A-B39B-3D17406DF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7C8F0-B268-491C-8CC8-2FBD966A9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F50B7-A50E-40EB-B817-B2CAB66C6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37727-38BD-4E4A-8462-20D8057AA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57179-ADDF-4793-8D4D-19F2E9794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4C5ED-88B1-4A4B-B61F-46DC75AC7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CF7E4-6B22-4BE1-BA1B-E276FEC9E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492FA-C0C4-4945-B607-F0AAD7D9C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FFFC0-444D-4285-BAEE-AFE0D5CFC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674CF-5281-42BC-8449-B6A691179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F74E9-4232-4FDD-859B-FEFE44E80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7BFAB-90D1-4DCB-BAF7-C27D665CB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94963-AE20-4CD6-BBCA-C35A65AC8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411AB-F204-480B-B305-78CB528B4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8CB98-98F1-4CBA-A619-D2DCC069E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65062-C74B-4872-B785-2722ED343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8016-8B4F-43DE-950B-60158B9BC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25173-828E-4584-82D4-D0EDC20BF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C73B-A8BC-4EE4-AB14-FCFB5CF06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22E7B-7F69-4F96-96B7-3A5EB8357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8156-A167-4847-8F55-5106DC052B6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1997-FA58-473C-AB94-8B127BFD629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3840" y="1671480"/>
            <a:ext cx="7994520" cy="147024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生命科学的学科特征</a:t>
            </a:r>
            <a:br>
              <a:rPr sz="3600"/>
            </a:br>
            <a:r>
              <a:rPr b="1" lang="zh-CN" sz="3600" spc="-1" strike="noStrike">
                <a:solidFill>
                  <a:srgbClr val="003300"/>
                </a:solidFill>
                <a:latin typeface="宋体"/>
              </a:rPr>
              <a:t>                   和高三生物教学</a:t>
            </a:r>
            <a:endParaRPr b="0" lang="en-US" sz="3600" spc="-1" strike="noStrike">
              <a:solidFill>
                <a:srgbClr val="000000"/>
              </a:solidFill>
              <a:latin typeface="Verdana"/>
            </a:endParaRPr>
          </a:p>
        </p:txBody>
      </p:sp>
      <p:sp>
        <p:nvSpPr>
          <p:cNvPr id="86" name="PlaceHolder 2"/>
          <p:cNvSpPr>
            <a:spLocks noGrp="1"/>
          </p:cNvSpPr>
          <p:nvPr>
            <p:ph type="subTitle"/>
          </p:nvPr>
        </p:nvSpPr>
        <p:spPr>
          <a:xfrm>
            <a:off x="900000" y="4226040"/>
            <a:ext cx="7632720" cy="1147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溧阳市教育局教研室     丁留松</a:t>
            </a:r>
            <a:endParaRPr b="0" lang="en-US" sz="2800" spc="-1" strike="noStrike">
              <a:solidFill>
                <a:srgbClr val="000000"/>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jslydls@163.com</a:t>
            </a:r>
            <a:endParaRPr b="0" lang="en-US" sz="2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Verdana"/>
              </a:rPr>
              <a:t>二、对高三教学核心内容地位的认识 </a:t>
            </a:r>
            <a:endParaRPr b="0" lang="en-US" sz="2800" spc="-1" strike="noStrike">
              <a:solidFill>
                <a:srgbClr val="000000"/>
              </a:solidFill>
              <a:latin typeface="Verdana"/>
            </a:endParaRPr>
          </a:p>
        </p:txBody>
      </p:sp>
      <p:sp>
        <p:nvSpPr>
          <p:cNvPr id="104" name="PlaceHolder 2"/>
          <p:cNvSpPr>
            <a:spLocks noGrp="1"/>
          </p:cNvSpPr>
          <p:nvPr>
            <p:ph/>
          </p:nvPr>
        </p:nvSpPr>
        <p:spPr>
          <a:xfrm>
            <a:off x="566280" y="2112840"/>
            <a:ext cx="8001000" cy="354816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生物大分子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多层次认识生命活动</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生命系统的重要特征是稳态、自主和自组织性，处处表现出有肌体的自我调整。</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生命活动中的信息变换</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生命的网络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研究人</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实验与方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Verdana"/>
              </a:rPr>
              <a:t>三、对高三教学的启发</a:t>
            </a:r>
            <a:endParaRPr b="0" lang="en-US" sz="2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Verdana"/>
              </a:rPr>
              <a:t>1</a:t>
            </a:r>
            <a:r>
              <a:rPr b="1" lang="zh-CN" sz="2400" spc="-1" strike="noStrike">
                <a:solidFill>
                  <a:srgbClr val="003300"/>
                </a:solidFill>
                <a:latin typeface="Verdana"/>
              </a:rPr>
              <a:t>对于高三教学来说，“核心概念”就成了关注的焦点。</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Verdana"/>
              </a:rPr>
              <a:t>2</a:t>
            </a:r>
            <a:r>
              <a:rPr b="1" lang="zh-CN" sz="2400" spc="-1" strike="noStrike">
                <a:solidFill>
                  <a:srgbClr val="003300"/>
                </a:solidFill>
                <a:latin typeface="Verdana"/>
              </a:rPr>
              <a:t>从高三生物教学角度来看，那就是在“核心概念”之间建立横向、纵向的多层次的联系。</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Verdana"/>
              </a:rPr>
              <a:t>3</a:t>
            </a:r>
            <a:r>
              <a:rPr b="1" lang="zh-CN" sz="2400" spc="-1" strike="noStrike">
                <a:solidFill>
                  <a:srgbClr val="003300"/>
                </a:solidFill>
                <a:latin typeface="Verdana"/>
              </a:rPr>
              <a:t>允许不同形式的知识结构存在，同时在此基础上进行知识结构的完善。</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Verdana"/>
              </a:rPr>
              <a:t>4</a:t>
            </a:r>
            <a:r>
              <a:rPr b="1" lang="zh-CN" sz="2400" spc="-1" strike="noStrike">
                <a:solidFill>
                  <a:srgbClr val="003300"/>
                </a:solidFill>
                <a:latin typeface="Verdana"/>
              </a:rPr>
              <a:t>多途径、多情境中实现信息变换，即信息转化的能力发展</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Verdana"/>
              </a:rPr>
              <a:t>5</a:t>
            </a:r>
            <a:r>
              <a:rPr b="1" lang="zh-CN" sz="2400" spc="-1" strike="noStrike">
                <a:solidFill>
                  <a:srgbClr val="003300"/>
                </a:solidFill>
                <a:latin typeface="Verdana"/>
              </a:rPr>
              <a:t>用不同的学科思想进行调控。如结构与功能相适应、稳态、进化论思想、生态平衡观等</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Verdana"/>
              </a:rPr>
              <a:t>6</a:t>
            </a:r>
            <a:r>
              <a:rPr b="1" lang="zh-CN" sz="2400" spc="-1" strike="noStrike">
                <a:solidFill>
                  <a:srgbClr val="003300"/>
                </a:solidFill>
                <a:latin typeface="Verdana"/>
              </a:rPr>
              <a:t>关注学生的学习</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Verdana"/>
              </a:rPr>
              <a:t>7</a:t>
            </a:r>
            <a:r>
              <a:rPr b="1" lang="zh-CN" sz="2400" spc="-1" strike="noStrike">
                <a:solidFill>
                  <a:srgbClr val="003300"/>
                </a:solidFill>
                <a:latin typeface="Verdana"/>
              </a:rPr>
              <a:t>学科方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写在前面的话：</a:t>
            </a:r>
            <a:endParaRPr b="0" lang="en-US" sz="3800" spc="-1" strike="noStrike">
              <a:solidFill>
                <a:srgbClr val="000000"/>
              </a:solidFill>
              <a:latin typeface="Verdana"/>
            </a:endParaRPr>
          </a:p>
        </p:txBody>
      </p:sp>
      <p:sp>
        <p:nvSpPr>
          <p:cNvPr id="88" name="PlaceHolder 2"/>
          <p:cNvSpPr>
            <a:spLocks noGrp="1"/>
          </p:cNvSpPr>
          <p:nvPr>
            <p:ph/>
          </p:nvPr>
        </p:nvSpPr>
        <p:spPr>
          <a:xfrm>
            <a:off x="539640" y="2420640"/>
            <a:ext cx="8253360" cy="18716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00"/>
                </a:solidFill>
                <a:latin typeface="华文行楷"/>
                <a:ea typeface="华文行楷"/>
              </a:rPr>
              <a:t>           </a:t>
            </a:r>
            <a:r>
              <a:rPr b="0" lang="zh-CN" sz="3600" spc="-1" strike="noStrike">
                <a:solidFill>
                  <a:srgbClr val="003300"/>
                </a:solidFill>
                <a:latin typeface="华文行楷"/>
                <a:ea typeface="华文行楷"/>
              </a:rPr>
              <a:t>从教育科学的角度来探讨生物教学是必要的，从生命科学自身的特征来探讨生物教学也是必要的。</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Verdana"/>
              </a:rPr>
              <a:t>一、生命科学的特征</a:t>
            </a:r>
            <a:endParaRPr b="0" lang="en-US" sz="2800" spc="-1" strike="noStrike">
              <a:solidFill>
                <a:srgbClr val="000000"/>
              </a:solidFill>
              <a:latin typeface="Verdana"/>
            </a:endParaRPr>
          </a:p>
        </p:txBody>
      </p:sp>
      <p:sp>
        <p:nvSpPr>
          <p:cNvPr id="90" name="PlaceHolder 2"/>
          <p:cNvSpPr>
            <a:spLocks noGrp="1"/>
          </p:cNvSpPr>
          <p:nvPr>
            <p:ph/>
          </p:nvPr>
        </p:nvSpPr>
        <p:spPr>
          <a:xfrm>
            <a:off x="324000" y="1773000"/>
            <a:ext cx="8424720" cy="44845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1</a:t>
            </a:r>
            <a:r>
              <a:rPr b="1" lang="zh-CN" sz="2400" spc="-1" strike="noStrike">
                <a:solidFill>
                  <a:srgbClr val="003300"/>
                </a:solidFill>
                <a:latin typeface="宋体"/>
              </a:rPr>
              <a:t>、生命物质基础的特殊性——生物大分子</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⑴</a:t>
            </a:r>
            <a:r>
              <a:rPr b="1" lang="zh-CN" sz="2400" spc="-1" strike="noStrike">
                <a:solidFill>
                  <a:srgbClr val="003300"/>
                </a:solidFill>
                <a:latin typeface="宋体"/>
              </a:rPr>
              <a:t>没有什么特殊的“生命物质”或“生命元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⑵</a:t>
            </a:r>
            <a:r>
              <a:rPr b="1" lang="zh-CN" sz="2400" spc="-1" strike="noStrike">
                <a:solidFill>
                  <a:srgbClr val="003300"/>
                </a:solidFill>
                <a:latin typeface="宋体"/>
              </a:rPr>
              <a:t>1953</a:t>
            </a:r>
            <a:r>
              <a:rPr b="1" lang="zh-CN" sz="2400" spc="-1" strike="noStrike">
                <a:solidFill>
                  <a:srgbClr val="003300"/>
                </a:solidFill>
                <a:latin typeface="宋体"/>
              </a:rPr>
              <a:t>年沃森和克里克发现并建立了脱氧核糖核酸（</a:t>
            </a:r>
            <a:r>
              <a:rPr b="1" lang="zh-CN" sz="2400" spc="-1" strike="noStrike">
                <a:solidFill>
                  <a:srgbClr val="003300"/>
                </a:solidFill>
                <a:latin typeface="宋体"/>
              </a:rPr>
              <a:t>DNA</a:t>
            </a:r>
            <a:r>
              <a:rPr b="1" lang="zh-CN" sz="2400" spc="-1" strike="noStrike">
                <a:solidFill>
                  <a:srgbClr val="003300"/>
                </a:solidFill>
                <a:latin typeface="宋体"/>
              </a:rPr>
              <a:t>）模型；</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⑶“</a:t>
            </a:r>
            <a:r>
              <a:rPr b="1" lang="zh-CN" sz="2400" spc="-1" strike="noStrike">
                <a:solidFill>
                  <a:srgbClr val="003300"/>
                </a:solidFill>
                <a:latin typeface="宋体"/>
              </a:rPr>
              <a:t>中心法则”</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⑷</a:t>
            </a:r>
            <a:r>
              <a:rPr b="1" lang="zh-CN" sz="2400" spc="-1" strike="noStrike">
                <a:solidFill>
                  <a:srgbClr val="003300"/>
                </a:solidFill>
                <a:latin typeface="宋体"/>
              </a:rPr>
              <a:t>从病毒、细菌、植物、动物直至万物之灵的人类，通用一份密码</a:t>
            </a:r>
            <a:r>
              <a:rPr b="1" lang="zh-CN" sz="2400" spc="-1" strike="noStrike">
                <a:solidFill>
                  <a:srgbClr val="003300"/>
                </a:solidFill>
                <a:latin typeface="宋体"/>
              </a:rPr>
              <a:t>;</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⑸</a:t>
            </a:r>
            <a:r>
              <a:rPr b="1" lang="zh-CN" sz="2400" spc="-1" strike="noStrike">
                <a:solidFill>
                  <a:srgbClr val="003300"/>
                </a:solidFill>
                <a:latin typeface="宋体"/>
              </a:rPr>
              <a:t>对生物大分子——以核酸和蛋白质为主的大量研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a:t>
            </a:r>
            <a:r>
              <a:rPr b="1" lang="zh-CN" sz="2400" spc="-1" strike="noStrike">
                <a:solidFill>
                  <a:srgbClr val="003300"/>
                </a:solidFill>
                <a:latin typeface="宋体"/>
              </a:rPr>
              <a:t>生命的重要特征之一是组成生物体的核酸、蛋白质等大分子的运动和相互作用。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9640" y="1773000"/>
            <a:ext cx="8253360" cy="42670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2</a:t>
            </a:r>
            <a:r>
              <a:rPr b="1" lang="zh-CN" sz="2400" spc="-1" strike="noStrike">
                <a:solidFill>
                  <a:srgbClr val="003300"/>
                </a:solidFill>
                <a:latin typeface="宋体"/>
              </a:rPr>
              <a:t>、生命自然界的多层次性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a:t>
            </a:r>
            <a:r>
              <a:rPr b="1" lang="zh-CN" sz="2400" spc="-1" strike="noStrike">
                <a:solidFill>
                  <a:srgbClr val="003300"/>
                </a:solidFill>
                <a:latin typeface="宋体"/>
              </a:rPr>
              <a:t>生命自然界的复杂性之一是它的多层次性。细胞是一个基本的结构和功能单位，其下有细胞器、分子和原子；其上有组织、器官、系统、个体、种群、群落、生态系统和生物圈。每一层次都可以成为独立的研究对象和学科，这一层次和那一层次之间的关系又不可忽略。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      </a:t>
            </a:r>
            <a:r>
              <a:rPr b="1" lang="zh-CN" sz="2400" spc="-1" strike="noStrike">
                <a:solidFill>
                  <a:srgbClr val="003300"/>
                </a:solidFill>
                <a:latin typeface="宋体"/>
              </a:rPr>
              <a:t>从自然演化的角度来看，存在着病毒界、原核生物界、真核生物界，真核生物中又有菌物界、植物界、动物界等。每一界又有许多层次。它们都可成为独立的研究对象，同时相互之间的关系，从进化到生态都要涉及。而随着细胞工程、基因工程的进展，更深入地研究和应用它们之间相互关系的规律，又突显出来。 </a:t>
            </a:r>
            <a:endParaRPr b="0" lang="en-US" sz="2400" spc="-1" strike="noStrike">
              <a:solidFill>
                <a:srgbClr val="000000"/>
              </a:solidFill>
              <a:latin typeface="Verdana"/>
            </a:endParaRPr>
          </a:p>
        </p:txBody>
      </p:sp>
      <p:sp>
        <p:nvSpPr>
          <p:cNvPr id="92"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Verdana"/>
              </a:rPr>
              <a:t>一、生命科学的特征</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00"/>
                </a:solidFill>
                <a:latin typeface="宋体"/>
              </a:rPr>
              <a:t>3</a:t>
            </a:r>
            <a:r>
              <a:rPr b="1" lang="zh-CN" sz="2100" spc="-1" strike="noStrike">
                <a:solidFill>
                  <a:srgbClr val="003300"/>
                </a:solidFill>
                <a:latin typeface="宋体"/>
              </a:rPr>
              <a:t>、生命是一个复杂的开放系统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00"/>
                </a:solidFill>
                <a:latin typeface="宋体"/>
              </a:rPr>
              <a:t>一般系统论的创立者是一位奥地利生物学家、心理学家贝塔朗菲认为生命是一个开放系统，是在同环境进行物质交换的过程中呈现输入和输出，自身物质组分的组建和破坏才能存在和发展的系统。他说：“生命的形式不是存在着，而是发生着，它是通过有机体同时又是组成有机体的物质和能量的永恒流动的表现形式。”同时这个开放系统的重要特征是稳态（流动的平衡，不是封闭系统中的真平衡）、自主和自组织性，处处表现出有肌体的自我调整。</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00"/>
                </a:solidFill>
                <a:latin typeface="宋体"/>
              </a:rPr>
              <a:t>生物大分子不管多么重要，但本身不具备生命属性，只有形成细胞这样的复杂系统（病毒没有细胞结构，必须依赖活细胞而生存），才表现出生命现象。没有活的分子，只有活的系统。生命是系统活动的整体表现，整体不是部分的线性叠加，是非线性的动力系统。</a:t>
            </a:r>
            <a:endParaRPr b="0" lang="en-US" sz="2100" spc="-1" strike="noStrike">
              <a:solidFill>
                <a:srgbClr val="000000"/>
              </a:solidFill>
              <a:latin typeface="Verdana"/>
            </a:endParaRPr>
          </a:p>
        </p:txBody>
      </p:sp>
      <p:sp>
        <p:nvSpPr>
          <p:cNvPr id="94"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Verdana"/>
              </a:rPr>
              <a:t>一、生命科学的特征</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4</a:t>
            </a:r>
            <a:r>
              <a:rPr b="1" lang="zh-CN" sz="2400" spc="-1" strike="noStrike">
                <a:solidFill>
                  <a:srgbClr val="003300"/>
                </a:solidFill>
                <a:latin typeface="宋体"/>
              </a:rPr>
              <a:t>、生命活动和信息变换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人类已经步人信息时代。在生命科学发展的历程中，自从有了遗传学的中心法则的发现，使得我们恍然大悟，原来生物世代延续中复杂的遗传、变异规律，竞是简单之极的三联体（碱基）遗传密码在操作；使我们领悟到生命活动是物质、能量、信息三位一体的运动和变化；使我们对生命活动的本质的认识，又大大向前推进了一步。信息本质上不是物质和能量，但需要物质作为载体，需要能量供应。于是，在研究生命活动时，在进行有关教学活动时，不仅揭示物质变化和能量变化，还要同时揭示信息的发送、接收、储存、加工、复制、传递等规律。</a:t>
            </a:r>
            <a:endParaRPr b="0" lang="en-US" sz="2400" spc="-1" strike="noStrike">
              <a:solidFill>
                <a:srgbClr val="000000"/>
              </a:solidFill>
              <a:latin typeface="Verdana"/>
            </a:endParaRPr>
          </a:p>
        </p:txBody>
      </p:sp>
      <p:sp>
        <p:nvSpPr>
          <p:cNvPr id="96"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Verdana"/>
              </a:rPr>
              <a:t>一、生命科学的特征</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5</a:t>
            </a:r>
            <a:r>
              <a:rPr b="1" lang="zh-CN" sz="2400" spc="-1" strike="noStrike">
                <a:solidFill>
                  <a:srgbClr val="003300"/>
                </a:solidFill>
                <a:latin typeface="宋体"/>
              </a:rPr>
              <a:t>、生命自然界是一个复杂的网络</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地球上有如此众多的生物种类，它们塞满了几乎一切可以生存的空间，而且每一种生物的生存发展，都以其他种类生物的生存发展为前提，一种或几种生物的消亡，可能对其他生物造成灾难性的后果。这种生物界的多样性和相互依存、相互制约的关系，在非生命自然界中远没有达到这种程度。我们可称之为生命的网络，生命之网。而人类也是这个网络的一部分，而且是至关重要的部分，由于人口的剧增，掌握着巨大的生产力和不断发展的科学技术，我们对生物界的正、负两方面影响力与日惧增。如果人类的行为破坏了这个生命之网（这种行为已经产生了严重后果），最终将殃及人类自身的生存和发展。</a:t>
            </a:r>
            <a:endParaRPr b="0" lang="en-US" sz="2400" spc="-1" strike="noStrike">
              <a:solidFill>
                <a:srgbClr val="000000"/>
              </a:solidFill>
              <a:latin typeface="Verdana"/>
            </a:endParaRPr>
          </a:p>
        </p:txBody>
      </p:sp>
      <p:sp>
        <p:nvSpPr>
          <p:cNvPr id="98" name="PlaceHolder 2"/>
          <p:cNvSpPr>
            <a:spLocks noGrp="1"/>
          </p:cNvSpPr>
          <p:nvPr>
            <p:ph type="title"/>
          </p:nvPr>
        </p:nvSpPr>
        <p:spPr>
          <a:xfrm>
            <a:off x="539280" y="33336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生命科学的特征</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生命科学的特征</a:t>
            </a:r>
            <a:endParaRPr b="0" lang="en-US" sz="2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6</a:t>
            </a:r>
            <a:r>
              <a:rPr b="1" lang="zh-CN" sz="2400" spc="-1" strike="noStrike">
                <a:solidFill>
                  <a:srgbClr val="003300"/>
                </a:solidFill>
                <a:latin typeface="宋体"/>
              </a:rPr>
              <a:t>、在生命科学中人是研究的主体又是客体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在自然科学的众多门类中，自然界是被人所研究的客体，惟独在生命科学中，人既是研究者——主体，又和其他生物一样是被研究者——客体。因为人的自然属性是生物，属于哺乳纲灵长目的人科。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于是，生物学要研究的形态、结构、代谢、生长、发育、繁殖、遗传、变异等的规律性也适用于人类。于是，人类的心理行为、社会行为也无不具有生物性的烙印。于是，在生态系统中，在生物圈中，人类的一切活动都受到制约，又极广、极深刻地影响整个生物圈。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7</a:t>
            </a:r>
            <a:r>
              <a:rPr b="1" lang="zh-CN" sz="2400" spc="-1" strike="noStrike">
                <a:solidFill>
                  <a:srgbClr val="003300"/>
                </a:solidFill>
                <a:latin typeface="宋体"/>
              </a:rPr>
              <a:t>、生命科学研究方法的独特性</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我们都说生命科学是实验科学，尤其是从定性到定量的发展中，实验愈益重要，愈益精确，在基础教育的生物学学习中增加实验，提高实验的质量和效益，自然十分重要。但是同样无疑的是其他自然科学也是实验科学，那么其特殊性在哪里？</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生命科学的研究方法应可兼容物理学、化学的方法，但仍有它的独特性。因此，把生命现象的研究最终还原为简单的物理或化学过程，归结为物理或化学原理，是不妥的，也背离了贝塔朗菲的机体论。</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a:t>
            </a:r>
            <a:r>
              <a:rPr b="1" lang="zh-CN" sz="2400" spc="-1" strike="noStrike">
                <a:solidFill>
                  <a:srgbClr val="003300"/>
                </a:solidFill>
                <a:latin typeface="宋体"/>
              </a:rPr>
              <a:t>要揭示生命现象的本质，必须研究具有活力的有机体，那种脱离生命有机体，孤立地、单纯地去研究化学反应，试图去寻找生命现象的本质属性的答案，那是不可能的。”   </a:t>
            </a:r>
            <a:endParaRPr b="0" lang="en-US" sz="2400" spc="-1" strike="noStrike">
              <a:solidFill>
                <a:srgbClr val="000000"/>
              </a:solidFill>
              <a:latin typeface="Verdana"/>
            </a:endParaRPr>
          </a:p>
        </p:txBody>
      </p:sp>
      <p:sp>
        <p:nvSpPr>
          <p:cNvPr id="102"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Verdana"/>
              </a:rPr>
              <a:t>一、生命科学的特征</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9T12:53:49Z</dcterms:created>
  <dc:creator>compaq</dc:creator>
  <dc:description/>
  <dc:language>en-US</dc:language>
  <cp:lastModifiedBy>compaq</cp:lastModifiedBy>
  <dcterms:modified xsi:type="dcterms:W3CDTF">2012-11-19T13:46:20Z</dcterms:modified>
  <cp:revision>2</cp:revision>
  <dc:subject/>
  <dc:title>生命科学的学科特征                          和高三生物教学</dc:title>
</cp:coreProperties>
</file>