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B113-3269-46D2-A464-DF360817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D5FBF-7B0A-4BB9-8CAE-49F396CB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0DC5-9269-46A2-B2B0-DD748519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C8FAB-751A-4C04-81D7-C880DCCA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E37F-F87C-428A-9462-A983184F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B647-C0F3-4E1A-8E24-ACA5A368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93EE-096E-4669-AD98-A03276AA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0A4E-1EF0-40A0-A7F5-F0F95A5B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1AFC-6CEF-4524-9AB1-81913B76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307B-4BDF-4B13-99CC-FEDE4A5D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E87C-D3F9-4E90-9FFE-A6A5CA43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25949-1970-4B4B-AA1A-843AF851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0BAE-8623-4E90-B9F5-54C1AF58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9D59-94B9-4B3A-9ED0-48995BCC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D042-5FA8-456F-9575-80E0C0E0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E937-F1B8-4624-A36B-31F57BC5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9360-1AD8-45A1-AA87-EA994B53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24529-0229-4254-BB4C-E3C38A8E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D1D55-3EBC-4A60-A960-B0375677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AF535-D957-489D-9485-1884CED1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62CD3-B03D-49EE-982E-08468A3D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09A64-6797-45F9-94CD-C524E2D3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399E1-208C-408F-8DB1-CAF32923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E0289-2AE7-4218-AD0E-F5636D78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3F60-2C8F-4F85-82F2-DBE2C3279259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AADB-6EA5-449A-B03E-4EDF2711CF89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95280" y="476280"/>
            <a:ext cx="8424720" cy="26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享一则故事：奶牛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位老师想要向他的学生传授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快乐而成功生活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秘诀，带着他的学生长途跋涉，去了一个贫穷的山村，这个村里里住着一个八口之家，父、母亲，四个孩子和祖父母，房屋破旧不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，家里无任何有价值的东西，但拥有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件最不寻常的财产――一头奶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奶牛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家庭日常生活和活动的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中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虽然这头奶牛所产出的奶，甚至不够维持这家人的生活，但它仍是使这家人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不至陷入赤贫的唯一财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学生目睹了一种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几乎完全无望的生活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但他并不清楚导致这个家庭凄惨现状的原因。他们为何落魄到这个地步？是什么使他们忍受一切却不思改进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第二天一大早，老师慢慢地朝那头奶牛走去，突然从随身携带的刀鞘中拔出一把匕首，刺入那头母牛的喉咙。这一致命的一刀，让那只可怜的牲口慢慢地瘫倒在地。他的学生迷惑了。一年来，学生一直被疑惑困扰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909720"/>
            <a:ext cx="8209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促进目标生成与关注生成目标相结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目标是在具体的教学活动中，在师生的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对话与互动中共同建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是随着教学活动的展开而逐渐生长出来的，它是一个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日生而日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的变化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良好的目标意识要求教师不仅要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关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是否产生了自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预期的结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而且要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观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表现出哪些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非预期的行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并评价这些行为的价值及其与教学行动的关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9640" y="1052640"/>
            <a:ext cx="813600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内容开发要更有利于理解生命世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面临的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激活学生已学过的知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使高三复习课摆脱简单的重复，在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内容组织上赋予新思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效激活学生思维，使课堂唤发出生命的活力，使学生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更好地理解生命的本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9640" y="1020600"/>
            <a:ext cx="8136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内容开发思路例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情境化思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设社会、生产、生活、科研等具体情境，在问题解决的过程中，激发兴趣，丰富体验，加深知识的理解和运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注意情境的真实和鲜活；情境与学生的距离；情境与生物学知识的吻合度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9640" y="1152360"/>
            <a:ext cx="8136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围绕核心概念思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核心概念为中心，向外拓展，揭示概念本质，以及与其他概念的关系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生命科学史思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生命科学史中的主要事件为线索，根据教学目标，作必要的增、减和重组，或偏重科学知识，或偏重科学方法，或偏重科学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865080"/>
            <a:ext cx="8136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科学方法思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领学生体会方法生成的过程，最终实现自主建构。关键是方法的迁移与应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逻辑推理思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围绕一个主题，根据知识间的逻辑联系，设计问题串，引导学生不断运用知识在“为什么”和“是什么”之间进行逻辑推理，进而建构知识结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9640" y="1047600"/>
            <a:ext cx="8136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生物图思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围绕典型的生物图，引导学生挖掘图形的外显和内隐的知识，展开复习教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系统论的思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的整体性；联系的多维性；系统的合理性；结构的开放性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136520"/>
            <a:ext cx="8136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生命特征或生物学基本观点思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命系统的层次性、立体性、系统性、时空性、多元性、动态性、开放性、整体性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命活动中的物质变化、能量转换、信息传递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构与功能的统一；部分与整体的统一；生物与环境的统一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9640" y="936720"/>
            <a:ext cx="8136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事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整体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做到主线突出、脉络清晰，有利于学生形成完善的知识结构。（知能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逻辑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力求学科内在逻辑与学生认识逻辑的统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适切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内容开发从学生已有的知识和经验出发，与学生的心理特点特别是思维发展水平相适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9640" y="809640"/>
            <a:ext cx="8136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实施策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关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掌握的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知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到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关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知识的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学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教师引领与学生自主建构相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重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学习方法的指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教会学生学习；注意留给学生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提问的空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教会学生思考；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联系学生生活和原有概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帮助学生建立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于采用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多种信息处理方式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如图解、表格、曲线图、网络图、流程图、概念图、思维导图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052640"/>
            <a:ext cx="813600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问题设计要更有利于培养学生思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课堂提问的基本认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问题从广义上讲是指一切有询问形式或询问功能的句子或教学内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教师提问则是指教学提示或向学生传递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做什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如何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的指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堂提问是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最常用的教学策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一，是师生、生生进行交流的重要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333360"/>
            <a:ext cx="8424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年后的某个下午，老师和学生再次回到那个小村子，周围的景象仍旧和原来一样，但以前那座破旧的房子已被一座崭新而漂亮的房子所替代， 看到一家人生活得很幸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男主人向师生讲起了这一年的故事：“悲剧发生后不久，我们意识到，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除非我们做点别的事，否则处境会越来越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失去了那头牛使我们的人生跌到了谷底，但我们还是要吃东西，还要养活我们的孩子。于是，我们在房子后面开辟了一小块空地，撒下一些种子，种起了蔬菜。在悲剧发生后的最初几个月里，我们就靠着它们活了下来。” “过了一段时间，我们发现，这个小花园里收获的食物，比我们自己需要的还要多。如果我们能够把剩余的部分卖给邻居们，我们就能够买更多的种子。于是我们这样做了，不久，我们不仅有了足够的食物可以自给自足，还可以把多余的菜拿到城镇的市场上去卖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学生终于明白了他的老师想要传授的课程。那头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奶牛的死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实际上，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并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他所想象的那样，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是那一家人生活的终结，而恰恰是他们充满了机遇的新生活的开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9640" y="1592280"/>
            <a:ext cx="8136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起于思，思起于疑”，精心设计精练、实用、巧妙的问题，不仅可以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引发学生积极思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而且可以使课堂教学气氛高潮迭起，让课堂充满生机，从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更好地实现教学目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中倡导问题引领，但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不等于“满堂问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9640" y="1052640"/>
            <a:ext cx="8136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问题设计的策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善于设计有效的问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有效的问题是那些学生能够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积极组织回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因此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积极参与学习过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标明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容针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述准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1136520"/>
            <a:ext cx="8136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善于设计有思考价值的问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简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忆型的问题提得要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有意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高层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考型的问题提得要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有道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要能触发学生积极思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善于从多个角度来设计问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围绕知识点的联系和拓展，多个角度提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不同认识复杂性的问题。（识记、理解、应用、分析、综合、评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9640" y="333360"/>
            <a:ext cx="81360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善于根据教学内容和任务设计问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科学发现史教学的问题设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参与知识形成过程中获取知识，所以不能偏离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科学知识的问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设计能促进学生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对科学探究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学习和认识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要能体现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科学和技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学发现过程是一个严谨的逻辑过程，因此，问题间要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严谨的逻辑关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而促进学生积极思维，使学生在思维的过程中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学习科学思维的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9640" y="1289160"/>
            <a:ext cx="81360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善于设计生成性的问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预设性生成提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教师借助教学经验，根据学生对问题的可能回答，预设一些在某问题回答后需要追问的问题，而预设的这些追问的问题在课堂上是根据实际情况来选用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动态性生成提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种即兴的机智提问，它不是能够预设的，它的有效性在一定程度上取决于教师的教学理念和教学机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9640" y="620640"/>
            <a:ext cx="8136000" cy="39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事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课程内容的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整体把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围绕一节课的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重点和教学目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设疑要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变强迫学生思维为主动思维和探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学会倾听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验问题解决的思路。明确问题目标；分析已知条件；确定“空隙”；设计“填补空隙”的程序、步骤、方法和策略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280" y="22050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华文行楷"/>
                <a:ea typeface="华文行楷"/>
              </a:rPr>
              <a:t>愿我们每一位教师都能成为学生可持续发展中“记忆”最多的那个人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765000"/>
            <a:ext cx="8208720" cy="35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享两段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育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个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0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说法：“教师要考虑哪些内容是学生记忆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个小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可以忘记的；哪些内容是学生记忆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可以忘记的；哪些内容是需要学生记忆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彬《课堂密码》：“如果教师的目标是着眼于学生的长远发展，他是一个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教育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如果教师只看重眼前的知识点的教学，则他是一个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教学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如果他只看重眼前的得分，反复操练，他最多是一个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训练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197000"/>
            <a:ext cx="835344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此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三生物课堂如何给学生留下更多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记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三生物课堂如何更多地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着眼学生的长远发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使我们自己与作为一个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教育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的距离更近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课堂上有影响“更多记忆”和“长远发展”的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奶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吗？如果有，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16000" y="150336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高三生物教学之学生发展视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989520"/>
            <a:ext cx="60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进区教育局教研室　殷学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17874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目标要更有利于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引领学生发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容开发要更有利于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理解生命世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设计要更有利于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培养学生思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1049400"/>
            <a:ext cx="820908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教学目标要更有利于引领学生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教学目标的认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教学目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常可被界定为教师对于受教育学生素质的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种期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期望成为教学目标的前提：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要与教育的情境和行动联系起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因此，真正的教学目标是教师联系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他与学生互动的情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构想出来的，它是教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对于自己教学行为结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种预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1087560"/>
            <a:ext cx="8424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何增强教学目标意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重视研究，制定科学、合理的三维目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研究课程、课标、考试说明和省教学要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研究学生。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即时目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终极目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统一；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基础性要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发展性要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统一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研究教材。教材是课程专家解读课程标准的智慧结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1136520"/>
            <a:ext cx="820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发挥目标的导向功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教学目标装在心里，用“心”教学，注重思考教学行动与教学目标的关联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学生是目标的行为主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中需强化学生的目标主体意识，使教师的预期变为学生的一种自觉行动，而不只是教师对学生期望的单向传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9:59:01Z</dcterms:created>
  <dc:creator>yxd</dc:creator>
  <dc:description/>
  <dc:language>en-US</dc:language>
  <cp:lastModifiedBy>Administrator</cp:lastModifiedBy>
  <dcterms:modified xsi:type="dcterms:W3CDTF">2012-11-20T07:04:51Z</dcterms:modified>
  <cp:revision>13</cp:revision>
  <dc:subject/>
  <dc:title>幻灯片 1</dc:title>
</cp:coreProperties>
</file>