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2DDD-800F-4A94-8FDD-F64B650A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13ED-6138-4DA0-ADE3-F45CDBE7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15C9-AE0D-4D3C-B66C-ECA22233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0E0A-EFA1-4A66-96DC-C9B7BBF0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907A-FC88-4C54-9EBF-BC4CA2AB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B33D-FAA7-4C23-8B2E-C4A27DCB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6B71-D4A2-47D4-B16E-1F0F3477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5CCE-6D3C-4FDF-8DCA-6F0FF8CC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1240-E145-4899-82D3-DD9F35D4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B052-F987-44A0-A465-7BCAAC0F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71B4-319C-4AC7-AE2D-204BBEDD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0B48-5FE7-4F72-A456-A560348D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98E5-B038-4735-9385-2DA09F934C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ennisbar.net/bbs/viewtopic.php?p=305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2422" r="4331" b="4548"/>
          <a:stretch/>
        </p:blipFill>
        <p:spPr>
          <a:xfrm>
            <a:off x="4189320" y="0"/>
            <a:ext cx="4954680" cy="67816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1739160" y="1371600"/>
            <a:ext cx="592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9560" y="776160"/>
            <a:ext cx="22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第二章 匀变速直线运动的研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371600" y="1752480"/>
          <a:ext cx="6858000" cy="4556160"/>
        </p:xfrm>
        <a:graphic>
          <a:graphicData uri="http://schemas.openxmlformats.org/drawingml/2006/table">
            <a:tbl>
              <a:tblPr/>
              <a:tblGrid>
                <a:gridCol w="1685880"/>
                <a:gridCol w="2273400"/>
                <a:gridCol w="2898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地 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纬  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重力加速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赤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0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9.7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广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23°06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9.7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武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30°33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9.7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上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31°12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9.7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东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35°43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9.7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北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39°56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9.8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纽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40°40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9.8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莫斯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55°45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9.816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北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90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华文新魏"/>
                          <a:ea typeface="华文新魏"/>
                        </a:rPr>
                        <a:t>9.8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907920" y="9907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力加速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数值（单位：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/s</a:t>
            </a:r>
            <a:r>
              <a:rPr b="1" lang="zh-CN" sz="36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0320" y="351000"/>
            <a:ext cx="3450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观察与发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997360" y="68580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由落体运动规律的公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11280" y="2400480"/>
            <a:ext cx="4730760" cy="2984400"/>
            <a:chOff x="611280" y="2400480"/>
            <a:chExt cx="4730760" cy="2984400"/>
          </a:xfrm>
        </p:grpSpPr>
        <mc:AlternateContent>
          <mc:Choice xmlns:a14="http://schemas.microsoft.com/office/drawing/2010/main" Requires="a14">
            <p:sp>
              <p:nvSpPr>
                <p:cNvPr id="95" name="Object 4"/>
                <p:cNvSpPr txBox="1"/>
                <p:nvPr/>
              </p:nvSpPr>
              <p:spPr>
                <a:xfrm>
                  <a:off x="630360" y="2400480"/>
                  <a:ext cx="1952640" cy="67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a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Object 5"/>
                <p:cNvSpPr txBox="1"/>
                <p:nvPr/>
              </p:nvSpPr>
              <p:spPr>
                <a:xfrm>
                  <a:off x="611280" y="3289320"/>
                  <a:ext cx="2252520" cy="101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t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Object 6"/>
                <p:cNvSpPr txBox="1"/>
                <p:nvPr/>
              </p:nvSpPr>
              <p:spPr>
                <a:xfrm>
                  <a:off x="630360" y="4660920"/>
                  <a:ext cx="2512800" cy="72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v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a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8" name="AutoShape 11"/>
            <p:cNvSpPr/>
            <p:nvPr/>
          </p:nvSpPr>
          <p:spPr>
            <a:xfrm>
              <a:off x="3201840" y="2571840"/>
              <a:ext cx="287640" cy="2520720"/>
            </a:xfrm>
            <a:custGeom>
              <a:avLst/>
              <a:gdLst>
                <a:gd name="textAreaLeft" fmla="*/ 0 w 287640"/>
                <a:gd name="textAreaRight" fmla="*/ 103680 w 287640"/>
                <a:gd name="textAreaTop" fmla="*/ 65520 h 2520720"/>
                <a:gd name="textAreaBottom" fmla="*/ 2455200 h 25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12"/>
            <p:cNvSpPr/>
            <p:nvPr/>
          </p:nvSpPr>
          <p:spPr>
            <a:xfrm>
              <a:off x="3706920" y="3506760"/>
              <a:ext cx="1635120" cy="649440"/>
            </a:xfrm>
            <a:prstGeom prst="rightArrow">
              <a:avLst>
                <a:gd name="adj1" fmla="val 50000"/>
                <a:gd name="adj2" fmla="val 62943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99ff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3"/>
            <p:cNvSpPr/>
            <p:nvPr/>
          </p:nvSpPr>
          <p:spPr>
            <a:xfrm>
              <a:off x="3913200" y="2932200"/>
              <a:ext cx="116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a=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4"/>
            <p:cNvSpPr/>
            <p:nvPr/>
          </p:nvSpPr>
          <p:spPr>
            <a:xfrm>
              <a:off x="3830760" y="3940200"/>
              <a:ext cx="14619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v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0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=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7"/>
          <p:cNvGrpSpPr/>
          <p:nvPr/>
        </p:nvGrpSpPr>
        <p:grpSpPr>
          <a:xfrm>
            <a:off x="5640480" y="2355840"/>
            <a:ext cx="1811160" cy="2905200"/>
            <a:chOff x="5640480" y="2355840"/>
            <a:chExt cx="1811160" cy="2905200"/>
          </a:xfrm>
        </p:grpSpPr>
        <mc:AlternateContent>
          <mc:Choice xmlns:a14="http://schemas.microsoft.com/office/drawing/2010/main" Requires="a14">
            <p:sp>
              <p:nvSpPr>
                <p:cNvPr id="103" name="Object 8"/>
                <p:cNvSpPr txBox="1"/>
                <p:nvPr/>
              </p:nvSpPr>
              <p:spPr>
                <a:xfrm>
                  <a:off x="5697720" y="2355840"/>
                  <a:ext cx="117144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g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" name="Object 9"/>
                <p:cNvSpPr txBox="1"/>
                <p:nvPr/>
              </p:nvSpPr>
              <p:spPr>
                <a:xfrm>
                  <a:off x="5640480" y="3116160"/>
                  <a:ext cx="1673280" cy="11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gt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Object 10"/>
                <p:cNvSpPr txBox="1"/>
                <p:nvPr/>
              </p:nvSpPr>
              <p:spPr>
                <a:xfrm>
                  <a:off x="5665680" y="4546440"/>
                  <a:ext cx="1785960" cy="71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v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gh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74880" y="9828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62640" y="990720"/>
            <a:ext cx="4837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应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: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同学们相互合作利用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度尺测一下各自的反应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599840" y="1219320"/>
            <a:ext cx="5367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应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: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现在各个小区里都提示“严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高空抛物”，请用今天所学的知识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估算一下，假如一花盆不小心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窗台落下，问落到草坪时的速度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19320" y="1981080"/>
            <a:ext cx="641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请同学们一起回顾一下本堂课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谈谈你的收获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2878200" cy="2895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08160" y="4065480"/>
            <a:ext cx="688788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重的物体下落快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轻的物体下落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亚里士多德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95480" y="685800"/>
            <a:ext cx="591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生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部著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&lt;&lt;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动物的起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&gt;&gt;&lt;&lt;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动物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直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纪还吸引着科学界。他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&lt;&lt;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心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心理学奠定了基础。他的物理著作更为恢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129528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实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 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影响物体下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快慢的因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584360" cy="1306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10520" y="2362320"/>
            <a:ext cx="531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设计实验完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的物体下落比轻的物体下落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的物体下落和轻的物体下落一样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的物体下落比轻的物体下落慢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47320" y="4848120"/>
            <a:ext cx="536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请猜想物体下落快慢与什么因素无关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与什么因素有关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4913280"/>
            <a:ext cx="82231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6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美国宇航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avid R.Scot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月球表面上让一把锤子、一根羽毛同时下落，观察到它们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同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落到月球表面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52944" t="1997" r="1961" b="8001"/>
          <a:stretch/>
        </p:blipFill>
        <p:spPr>
          <a:xfrm>
            <a:off x="1905120" y="208080"/>
            <a:ext cx="487656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8680" y="7610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760680"/>
            <a:ext cx="78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由落体运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物体只在重力作用下，从静止开始下落的运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35760" y="23623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物体做自由落体的满足的条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91400" y="3124080"/>
            <a:ext cx="8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只在重力作用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31520" y="3886200"/>
            <a:ext cx="493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静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开始下落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初速度为零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4760" y="4587840"/>
            <a:ext cx="7854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近似条件：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空气阻力的作用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　　　　　较小，可以忽略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4C23ACF17C7A8D7ABF39D4F6BBDEF2F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7628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 rot="580800">
            <a:off x="1265400" y="1875960"/>
            <a:ext cx="5790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抓不住的神奇＂纸币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55080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小游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159920" y="3429000"/>
            <a:ext cx="7008480" cy="1220760"/>
            <a:chOff x="1159920" y="3429000"/>
            <a:chExt cx="7008480" cy="1220760"/>
          </a:xfrm>
        </p:grpSpPr>
        <p:sp>
          <p:nvSpPr>
            <p:cNvPr id="63" name=""/>
            <p:cNvSpPr/>
            <p:nvPr/>
          </p:nvSpPr>
          <p:spPr>
            <a:xfrm>
              <a:off x="259092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1159920" y="3429000"/>
              <a:ext cx="7008480" cy="1220760"/>
              <a:chOff x="1159920" y="3429000"/>
              <a:chExt cx="7008480" cy="1220760"/>
            </a:xfrm>
          </p:grpSpPr>
          <p:sp>
            <p:nvSpPr>
              <p:cNvPr id="65" name=""/>
              <p:cNvSpPr/>
              <p:nvPr/>
            </p:nvSpPr>
            <p:spPr>
              <a:xfrm>
                <a:off x="1159920" y="3429000"/>
                <a:ext cx="91224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眼睛看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见事件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912760" y="345708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发送信息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355280" y="3619080"/>
                <a:ext cx="668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大脑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21360" y="3970080"/>
                <a:ext cx="1752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503320" y="345708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发出指令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256160" y="3580920"/>
                <a:ext cx="91224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手指执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行指令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"/>
          <p:cNvGrpSpPr/>
          <p:nvPr/>
        </p:nvGrpSpPr>
        <p:grpSpPr>
          <a:xfrm>
            <a:off x="1219320" y="4678200"/>
            <a:ext cx="6019560" cy="581400"/>
            <a:chOff x="1219320" y="4678200"/>
            <a:chExt cx="6019560" cy="581400"/>
          </a:xfrm>
        </p:grpSpPr>
        <p:sp>
          <p:nvSpPr>
            <p:cNvPr id="72" name=""/>
            <p:cNvSpPr/>
            <p:nvPr/>
          </p:nvSpPr>
          <p:spPr>
            <a:xfrm>
              <a:off x="1219320" y="4928760"/>
              <a:ext cx="60195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698560" y="4678200"/>
              <a:ext cx="383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反应时间</a:t>
              </a:r>
              <a:r>
                <a:rPr b="0" lang="zh-CN" sz="3200" spc="-1" strike="noStrike">
                  <a:solidFill>
                    <a:srgbClr val="ff0000"/>
                  </a:solidFill>
                  <a:latin typeface="Arial"/>
                </a:rPr>
                <a:t>(0.15 ---0.4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秒</a:t>
              </a:r>
              <a:r>
                <a:rPr b="0" lang="zh-CN" sz="32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981080" y="533520"/>
            <a:ext cx="5791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探究实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 —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由落        体运动的规律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584360" cy="1306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365960" y="1523880"/>
            <a:ext cx="1549440" cy="2057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352160" y="1905120"/>
            <a:ext cx="4718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利用打点计时器等器材得到纸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选取纸带上适当的若干点计算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速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根据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时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该时间对应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V-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图中描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通过观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体运动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V-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图发现它的运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规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32240" y="480960"/>
            <a:ext cx="114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注意点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30640" y="1293480"/>
            <a:ext cx="563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教科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P4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示，计时器呈竖直方向固定，重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止在靠近计时器的下方，先接通电源，待打点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后再松开纸带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42480" y="3244680"/>
            <a:ext cx="97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择一条清晰的纸带，舍掉开头－些过于密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点，找一个适当的点当做计时起点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18600" y="5002200"/>
            <a:ext cx="166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合理的选取标度，用一条平滑的曲线“拟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些点。使它两侧的点数大致相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95280" y="7621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05600" y="685800"/>
            <a:ext cx="260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由落体运动的性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15238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08040" y="128736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由落体运动是初速度为零的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匀加速直线运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99840" y="269064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重力加速度的方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竖直向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99840" y="350532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重力加速度的大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75640" y="4294080"/>
            <a:ext cx="424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地球上不同的地方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大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不同的。一般情况下，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g=9.8 m/s</a:t>
            </a:r>
            <a:r>
              <a:rPr b="1" lang="zh-CN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C SYSTEM</cp:lastModifiedBy>
  <dcterms:modified xsi:type="dcterms:W3CDTF">2011-10-12T14:58:15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