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8FF-A88C-4EED-A5AA-44CEBF1D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BC8C-5CC4-4A3E-A3BB-B658890E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1FE-6AB5-4AA1-9605-B79AA1A5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8B7-DE0C-445B-806E-BD890E66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4CAA-4088-475F-825C-789481B2A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745B-603C-4E1C-B5F0-D49D6EB9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F039-F8B2-4F47-BFA7-F681E1EE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4254-AE9F-4A64-BD9B-A70B4DF7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3CD7-B397-4F9C-B58F-6B6EB688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84E7-C14E-494A-98B3-EAE9B8BF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5752-88A0-4480-AA04-EFE03F35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83E-785D-4896-AEC7-46094E09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4FB3-240D-4551-8A02-84ABD570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E1B0-BD4E-4C18-8C24-D27C61F9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62F7-1017-4CBF-AFD7-CB3D38A0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4524-AE85-4B77-B408-96EF5E2F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D951-65E6-4F4D-9BCB-2AF9C5CC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E07-599A-4C58-9378-7BBDC224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0CE-B539-43C8-B288-2F265E20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B82-FA34-45E5-8CB3-D5160FBD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EB01-4672-4291-98A2-1F0466A2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560-2574-4175-93EF-AECE9A5F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4EDF-692E-4AFD-8D3A-ADBCB285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C25-E7C1-452B-BC53-0F033B31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299D-8505-49A4-A98C-FD7322D76EFA}" type="slidenum">
              <a:rPr b="0" lang="zh-CN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5D90-E67E-4F24-B96B-42661BE2D5EF}" type="slidenum">
              <a:rPr b="0" lang="zh-CN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685800"/>
            <a:ext cx="716256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苏教版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国标本</a:t>
            </a:r>
            <a:r>
              <a:rPr b="1" lang="zh-CN" sz="32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）语文实验教科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二年级上册教材分析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2349360" cy="3352680"/>
          </a:xfrm>
          <a:prstGeom prst="rect">
            <a:avLst/>
          </a:prstGeom>
          <a:ln w="114480">
            <a:solidFill>
              <a:srgbClr val="ff00ff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2514600" y="5943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州市第二实验小学 李娟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38080" y="380880"/>
            <a:ext cx="693432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词串识字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1   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《金秋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.</a:t>
            </a: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创设情境，激发兴趣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.</a:t>
            </a: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借助拼音，自学生字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.</a:t>
            </a: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借助插图，由词及物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4.</a:t>
            </a: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读词成串，边读边想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5.</a:t>
            </a: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连串成篇，形成积累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6.</a:t>
            </a: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关注姿势，描仿入体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66680" y="609480"/>
            <a:ext cx="7239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看图会意识字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16002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219320"/>
            <a:ext cx="7010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1.</a:t>
            </a: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教学步骤：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通过适当点拨，让学生发现实物图画与生字的内在联系，意会生字的意思；</a:t>
            </a:r>
            <a:br>
              <a:rPr sz="2800"/>
            </a:b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借助汉语拼音认读生字（词语），并与插图中的事物图画挂钩；</a:t>
            </a:r>
            <a:br>
              <a:rPr sz="2800"/>
            </a:b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诵读随后出现的韵文，巩固对生字（词语）的认读成果；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4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描红、仿影，练写生字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095880" y="5410080"/>
            <a:ext cx="1675080" cy="12398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19320" y="16002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80880"/>
            <a:ext cx="75438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2.</a:t>
            </a: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教学建议：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①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看图和会意主要是学生的事，教师在教学中不要包办代替，只要引导、点拨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    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②“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会意识字”不是六书中构字意义的“会意”，这个“会意”，是要求学生对汉字结构和意义的“意会”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③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教学重点是第一部分“看图”和“会意”识字。（第二部分韵文是为巩固识字效果，提高识字自动化水平服务的）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④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看图会意识字这一形式的命名，就揭示了这类识字的教学过程 ，即从看图入手，用心意会，学会生字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3808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粗圆简体"/>
                <a:ea typeface="方正粗圆简体"/>
              </a:rPr>
              <a:t>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5639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1.</a:t>
            </a: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教材构成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●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第一部分：通过“转转盘”的方式揭示一组形声字的结构形式；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●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第二部分：由这些生字组合而成的词语；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●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第三部分：巩固识字成果并为阅读奠定基础的韵文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248520" y="3733920"/>
            <a:ext cx="1676160" cy="2971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42920" y="457200"/>
            <a:ext cx="147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转转盘识字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09480" y="304920"/>
            <a:ext cx="525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2.</a:t>
            </a: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编写意图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990720"/>
            <a:ext cx="78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●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用“转转盘”的方式，建立偏旁部首的初步概念；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●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揭示字义，丰富词汇储备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●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在语境中巩固识字成果，在诵读中历练阅读的本领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354708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通过“转转盘”游戏，让学生明白构成形声字的基本规律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借助汉语拼音认读生字（词语）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诵读韵文，在语言环境中，强化对字词的认读，为阅读奠定基础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4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描红、仿影，练写生字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5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课余，另做一个文字转盘。（探究）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590920"/>
            <a:ext cx="525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3.</a:t>
            </a: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教学步骤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04920" y="304920"/>
            <a:ext cx="7238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随课文识字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16002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066680"/>
            <a:ext cx="7010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总的指导思想是：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(1)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以读为本，寓识于读，尽可能加强识读联系，使识读相互促进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(2)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要求学生加大自学生字的力度，主动借助拼音读准字音，联系上下文和生活经验了解字义，随着课文阅读活动的进程对生字音、义、形的掌握逐步到位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(3)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一般不搞孤立的识字教学环节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5560920"/>
            <a:ext cx="1752480" cy="1297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228600"/>
            <a:ext cx="723924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阅读教学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一、选文特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.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选文精美，视觉独特。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.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编排精妙，角度多维。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.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设练简洁，理念前卫。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21337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3962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2590920"/>
            <a:ext cx="7924680" cy="27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 </a:t>
            </a: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二、教学目标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.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打好认读基本功，进一步提高认读能力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.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能有感情地朗读课文，具有一定的感悟和想象能力，能主动地进行情感体验和审美体验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.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联系语言环境和生活实际，理解常用词语的意思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4.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认识并能体会常见的标点符号的用法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5.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喜欢阅读，喜爱图书，逐步养成阅读积累的好习惯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228600"/>
            <a:ext cx="74678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三、教学策略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．坚持以读为主。 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．读要分层推进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600" spc="-1" strike="noStrike">
                <a:solidFill>
                  <a:srgbClr val="04043c"/>
                </a:solidFill>
                <a:latin typeface="方正大黑简体"/>
                <a:ea typeface="方正大黑简体"/>
              </a:rPr>
              <a:t>认读</a:t>
            </a:r>
            <a:r>
              <a:rPr b="0" lang="zh-CN" sz="2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——通过由慢到快、由断到连的过程，逐步做到不错字、不掉字、不添字、不重复、不破句。让每一个学生都能读得正确、连贯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600" spc="-1" strike="noStrike">
                <a:solidFill>
                  <a:srgbClr val="04043c"/>
                </a:solidFill>
                <a:latin typeface="方正大黑简体"/>
                <a:ea typeface="方正大黑简体"/>
              </a:rPr>
              <a:t>还原</a:t>
            </a:r>
            <a:r>
              <a:rPr b="0" lang="zh-CN" sz="2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——通过一边读、一边想，让学生进入课文描述的情境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600" spc="-1" strike="noStrike">
                <a:solidFill>
                  <a:srgbClr val="04043c"/>
                </a:solidFill>
                <a:latin typeface="方正大黑简体"/>
                <a:ea typeface="方正大黑简体"/>
              </a:rPr>
              <a:t>移情</a:t>
            </a:r>
            <a:r>
              <a:rPr b="0" lang="zh-CN" sz="2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——通过诵读，逐渐将自己对课文的理解、感受和情感融入自己的声音之中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600" spc="-1" strike="noStrike">
                <a:solidFill>
                  <a:srgbClr val="04043c"/>
                </a:solidFill>
                <a:latin typeface="方正大黑简体"/>
                <a:ea typeface="方正大黑简体"/>
              </a:rPr>
              <a:t>领悟</a:t>
            </a:r>
            <a:r>
              <a:rPr b="0" lang="zh-CN" sz="2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——通过语言文字思考潜藏在文字背后的意思或道理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．识、读、写同步互动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21337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3962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0880" y="228600"/>
            <a:ext cx="7467840" cy="61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四、教学过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第一课时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.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激活情趣、引发猜想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.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放手试读，整体感知。　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.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反复朗读，确保连贯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4.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巩固生字，描红临写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第二课时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．围绕话题，读中感悟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．熟读背诵，形成积累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</a:t>
            </a:r>
            <a:r>
              <a:rPr b="0" lang="zh-CN" sz="2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．因材设练，巧妙迁移。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21337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962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715000" y="2209680"/>
            <a:ext cx="2021040" cy="312444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p:transition>
    <p:cover dir="u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0880" y="228600"/>
            <a:ext cx="7467840" cy="22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《水乡歌》教学案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一、导入渲染——激情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二、诵读悟情——入境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三、想象迁移——升华</a:t>
            </a:r>
            <a:endParaRPr b="0" lang="en-US" sz="2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21337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3962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14400" y="2743200"/>
            <a:ext cx="6051240" cy="4114800"/>
            <a:chOff x="914400" y="2743200"/>
            <a:chExt cx="6051240" cy="411480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914400" y="2743200"/>
              <a:ext cx="307836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3887640" y="2743200"/>
              <a:ext cx="3078000" cy="4114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u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685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第一部分 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教  材  特  色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80880" y="228600"/>
            <a:ext cx="723924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单元练习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一、内容安排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学用字词句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读读背背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口语交际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4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实践活动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5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写好铅笔字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1337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3962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276720"/>
            <a:ext cx="71625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二、设计特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趣味性：一改指令性的提示语为启发、激趣、鼓励、期待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综合性：练习将字词句、听说读写以及知识、能力、情感综合为一体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实践性：提示和编排顺序就是练习的要求和顺序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4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探究性：练习强调学生在实践中去发现、去想像、去猜测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1746360" cy="2347920"/>
          </a:xfrm>
          <a:prstGeom prst="rect">
            <a:avLst/>
          </a:prstGeom>
          <a:ln w="9360">
            <a:solidFill>
              <a:srgbClr val="cc00cc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p:transition>
    <p:cover dir="u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880" y="228600"/>
            <a:ext cx="72392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▲</a:t>
            </a: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口语交际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创设与生活实际相似的交际情境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在教学中实现口语交际的双向互动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发挥电教片的示范作用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4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增加口语交际的实践机会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21337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3962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505320"/>
            <a:ext cx="685800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▲</a:t>
            </a: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实践活动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弄清要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提前布置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分头准备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4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交流讨论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3429000" cy="24386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0880" y="228600"/>
            <a:ext cx="723924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▲</a:t>
            </a: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学用字词句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引导学生读懂练习的提示语，明确练习要求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依照课文的编排顺序看看、读读、说说、连连、写写、画画、演演、做做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多一点赏识，及时给学生以肯定和激励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95480" y="21337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3962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3276720"/>
            <a:ext cx="716256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▲</a:t>
            </a: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读读背背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.“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读读背背”的教学一定要坚持先吞噬，后反刍的原则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强调爱读乐背，不求甚解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不搞机械抄写，提倡在交际实践中运用；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228600"/>
            <a:ext cx="723924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写话教学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一、教学特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低起点，稳起步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分散安排，因课因题设练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1337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962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2819520"/>
            <a:ext cx="79246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二、教学建议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以说引写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自由表达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语言规范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4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多加实践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5.</a:t>
            </a:r>
            <a:r>
              <a:rPr b="0" lang="zh-CN" sz="2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评价激趣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72000" y="3352680"/>
            <a:ext cx="253368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9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3809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常州市第二实验小学  李娟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邮箱：</a:t>
            </a:r>
            <a:r>
              <a:rPr b="0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lily61678@126.com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2f1311"/>
                </a:solidFill>
                <a:latin typeface="Arial"/>
                <a:ea typeface="方正水柱简体"/>
              </a:rPr>
              <a:t>  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23880" y="1676520"/>
            <a:ext cx="4876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方正胖娃简体"/>
              </a:rPr>
              <a:t>谢谢大家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方正胖娃简体"/>
              <a:ea typeface="方正胖娃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一、重视习惯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二、重视方法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(1)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文中授法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(2)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图中明法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(3)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练中悟法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三、重视实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541520"/>
            <a:ext cx="7924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第二部分        </a:t>
            </a:r>
            <a:endParaRPr b="0" lang="en-US" sz="6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教  学  策  略</a:t>
            </a:r>
            <a:r>
              <a:rPr b="1" lang="zh-CN" sz="1800" spc="-1" strike="noStrike">
                <a:solidFill>
                  <a:srgbClr val="2f1311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609480"/>
            <a:ext cx="723924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习惯篇教学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一、安排意图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16002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905120"/>
            <a:ext cx="7467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其一，遵循儿童认知规律，积极开发早期阅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其二，遵循母语学习规律，打好语言学习基础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其三，着眼于明天的发展，培养良好读书习惯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343400" y="4572000"/>
            <a:ext cx="2971800" cy="1994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920" y="39625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886200"/>
            <a:ext cx="502920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 </a:t>
            </a: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二、设计特点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.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示范性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.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指向性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.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拓展性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457200"/>
            <a:ext cx="78487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三、教学策略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  </a:t>
            </a:r>
            <a:r>
              <a:rPr b="0" lang="zh-CN" sz="3400" spc="-1" strike="noStrike">
                <a:solidFill>
                  <a:srgbClr val="cc3300"/>
                </a:solidFill>
                <a:latin typeface="方正大黑简体"/>
                <a:ea typeface="方正大黑简体"/>
              </a:rPr>
              <a:t>●</a:t>
            </a:r>
            <a:r>
              <a:rPr b="0" lang="zh-CN" sz="3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r>
              <a:rPr b="0" lang="zh-CN" sz="3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以图为师，模仿练习</a:t>
            </a:r>
            <a:r>
              <a:rPr b="0" lang="zh-CN" sz="3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              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   </a:t>
            </a:r>
            <a:r>
              <a:rPr b="0" lang="zh-CN" sz="3400" spc="-1" strike="noStrike">
                <a:solidFill>
                  <a:srgbClr val="cc3300"/>
                </a:solidFill>
                <a:latin typeface="方正大黑简体"/>
                <a:ea typeface="方正大黑简体"/>
              </a:rPr>
              <a:t>●</a:t>
            </a:r>
            <a:r>
              <a:rPr b="0" lang="zh-CN" sz="3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r>
              <a:rPr b="0" lang="zh-CN" sz="3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加强指导，行动鞭策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   </a:t>
            </a:r>
            <a:r>
              <a:rPr b="0" lang="zh-CN" sz="3400" spc="-1" strike="noStrike">
                <a:solidFill>
                  <a:srgbClr val="cc3300"/>
                </a:solidFill>
                <a:latin typeface="方正大黑简体"/>
                <a:ea typeface="方正大黑简体"/>
              </a:rPr>
              <a:t>●</a:t>
            </a:r>
            <a:r>
              <a:rPr b="0" lang="zh-CN" sz="3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</a:t>
            </a:r>
            <a:r>
              <a:rPr b="0" lang="zh-CN" sz="34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育人之妙，存乎一心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851920"/>
            <a:ext cx="723888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方正大黑简体"/>
              </a:rPr>
              <a:t>四、教学流程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●</a:t>
            </a:r>
            <a:r>
              <a:rPr b="0" lang="zh-CN" sz="3400" spc="-1" strike="noStrike">
                <a:solidFill>
                  <a:srgbClr val="2f1311"/>
                </a:solidFill>
                <a:latin typeface="Arial"/>
                <a:ea typeface="方正大黑简体"/>
              </a:rPr>
              <a:t>谈话激趣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cc3300"/>
                </a:solidFill>
                <a:latin typeface="Arial"/>
                <a:ea typeface="方正大黑简体"/>
              </a:rPr>
              <a:t>      ●</a:t>
            </a:r>
            <a:r>
              <a:rPr b="0" lang="zh-CN" sz="3400" spc="-1" strike="noStrike">
                <a:solidFill>
                  <a:srgbClr val="2f1311"/>
                </a:solidFill>
                <a:latin typeface="Arial"/>
                <a:ea typeface="方正大黑简体"/>
              </a:rPr>
              <a:t>观察发现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cc3300"/>
                </a:solidFill>
                <a:latin typeface="Arial"/>
                <a:ea typeface="方正大黑简体"/>
              </a:rPr>
              <a:t>            ●</a:t>
            </a:r>
            <a:r>
              <a:rPr b="0" lang="zh-CN" sz="3400" spc="-1" strike="noStrike">
                <a:solidFill>
                  <a:srgbClr val="2f1311"/>
                </a:solidFill>
                <a:latin typeface="Arial"/>
                <a:ea typeface="方正大黑简体"/>
              </a:rPr>
              <a:t>对照模仿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cc3300"/>
                </a:solidFill>
                <a:latin typeface="Arial"/>
                <a:ea typeface="方正大黑简体"/>
              </a:rPr>
              <a:t>                  ●</a:t>
            </a:r>
            <a:r>
              <a:rPr b="0" lang="zh-CN" sz="3400" spc="-1" strike="noStrike">
                <a:solidFill>
                  <a:srgbClr val="2f1311"/>
                </a:solidFill>
                <a:latin typeface="Arial"/>
                <a:ea typeface="方正大黑简体"/>
              </a:rPr>
              <a:t>示范操练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cc3300"/>
                </a:solidFill>
                <a:latin typeface="Arial"/>
                <a:ea typeface="方正大黑简体"/>
              </a:rPr>
              <a:t>                        ●</a:t>
            </a:r>
            <a:r>
              <a:rPr b="0" lang="zh-CN" sz="3400" spc="-1" strike="noStrike">
                <a:solidFill>
                  <a:srgbClr val="2f1311"/>
                </a:solidFill>
                <a:latin typeface="Arial"/>
                <a:ea typeface="方正大黑简体"/>
              </a:rPr>
              <a:t>总结激励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28600" y="380880"/>
            <a:ext cx="7620120" cy="39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  </a:t>
            </a:r>
            <a:r>
              <a:rPr b="0" lang="zh-CN" sz="3400" spc="-1" strike="noStrike">
                <a:solidFill>
                  <a:srgbClr val="ffff00"/>
                </a:solidFill>
                <a:latin typeface="Times New Roman"/>
                <a:ea typeface="方正大黑简体"/>
              </a:rPr>
              <a:t>识字教学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00"/>
                </a:solidFill>
                <a:latin typeface="黑体"/>
                <a:ea typeface="黑体"/>
              </a:rPr>
              <a:t>一、</a:t>
            </a:r>
            <a:r>
              <a:rPr b="0" lang="zh-CN" sz="34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教学目标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(1)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准确认读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457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个生字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(2)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掌握本册课本安排的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9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个常用偏旁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(3)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能按笔顺正确书写、默写生字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79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个：能按字的结构特点把字写端正、匀称、美观；能感受到汉字的形体美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(4)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熟记汉语拼音字母表，形成熟练的拼读能力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(5)</a:t>
            </a:r>
            <a:r>
              <a:rPr b="0" lang="zh-CN" sz="32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初步认识汉字的一些规律，会查字典，有主动识字的愿望和能力。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76960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二、教学策略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词串识字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1.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突出识字功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借助拼音识字，进一步熟化拼读技能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借助插图识字，进一步提高认知能力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借助语境识字，培养学生的感悟能力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4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探究汉字规律，培养学生独立识字能力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5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抓好写字训练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304920"/>
            <a:ext cx="86868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落实认知功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注意词与图的联系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注意词与句的联系，培养学生的整合能力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把握事物的特点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3.</a:t>
            </a:r>
            <a:r>
              <a:rPr b="0" lang="zh-CN" sz="4000" spc="-1" strike="noStrike">
                <a:solidFill>
                  <a:srgbClr val="ffff00"/>
                </a:solidFill>
                <a:latin typeface="方正大黑简体"/>
                <a:ea typeface="方正大黑简体"/>
              </a:rPr>
              <a:t>渗透铺垫、审美功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1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边读边想，进入意境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2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表情朗读，充分体验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    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（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3</a:t>
            </a:r>
            <a:r>
              <a:rPr b="0" lang="zh-CN" sz="2800" spc="-1" strike="noStrike">
                <a:solidFill>
                  <a:srgbClr val="2f1311"/>
                </a:solidFill>
                <a:latin typeface="方正大黑简体"/>
                <a:ea typeface="方正大黑简体"/>
              </a:rPr>
              <a:t>）熟读成诵，形成积累。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juan</cp:lastModifiedBy>
  <dcterms:modified xsi:type="dcterms:W3CDTF">2010-08-28T14:50:48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