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945-C9E4-4C89-98A5-3E5EB986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8F2-BF2B-4D92-9849-613DE8E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778-8FBC-491C-943A-21B38596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51E-4630-4A2F-B1CD-3442C9D7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A91-469B-428D-BE39-E74625F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3B8-7C15-4109-8BCE-070444BB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50D-D788-43BB-A86C-47F45AE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95C-4D80-4436-BB83-B21BC2D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AFB-6DA3-41B3-BB10-74241A98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638-4575-4152-85D0-C4008DF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CC4-3BD3-4969-A440-284AD47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B6C-FA79-4B4C-8A41-6AD5D12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C2AC-C683-4EBF-A860-169B38B888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遗传规律的细胞学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遗传规律及拓展（关注非典型性比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杂交实验与探究（探究基因所在染色体位置、显隐性关系、是否符合遗传规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总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是否符合基因自由组合定律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粉鉴定法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植物特定条件下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申：花药离体培养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悠着点儿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杂交方案              做出假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620640"/>
            <a:ext cx="934920" cy="216000"/>
          </a:xfrm>
          <a:prstGeom prst="rightArrow">
            <a:avLst>
              <a:gd name="adj1" fmla="val 50000"/>
              <a:gd name="adj2" fmla="val 108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1800" y="981000"/>
            <a:ext cx="215640" cy="576360"/>
          </a:xfrm>
          <a:prstGeom prst="downArrow">
            <a:avLst>
              <a:gd name="adj1" fmla="val 50000"/>
              <a:gd name="adj2" fmla="val 6682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5080" y="1557360"/>
            <a:ext cx="40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子代可能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1800" y="2133720"/>
            <a:ext cx="215640" cy="576000"/>
          </a:xfrm>
          <a:prstGeom prst="downArrow">
            <a:avLst>
              <a:gd name="adj1" fmla="val 50000"/>
              <a:gd name="adj2" fmla="val 6677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70972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杂交后代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1800" y="3286080"/>
            <a:ext cx="215640" cy="576360"/>
          </a:xfrm>
          <a:prstGeom prst="downArrow">
            <a:avLst>
              <a:gd name="adj1" fmla="val 50000"/>
              <a:gd name="adj2" fmla="val 6682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5080" y="38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代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1800" y="4438800"/>
            <a:ext cx="215640" cy="574560"/>
          </a:xfrm>
          <a:prstGeom prst="downArrow">
            <a:avLst>
              <a:gd name="adj1" fmla="val 50000"/>
              <a:gd name="adj2" fmla="val 6661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5086440"/>
            <a:ext cx="7785000" cy="581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隐性          纯、杂合子           基因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继续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相对性状的基因突变是显性突变还是隐性突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的某性状受环境因素影响还是基因控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型比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a×Aa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b×B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a×aa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Bb×b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b×AaBb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b×aab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9798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3739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交后代性状分离比都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交后代性状分离比都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猫的无尾、有尾是一对相对性状，按基因的分离定律遗传。为了选育纯种的无尾猫，让无尾猫自交多代，但发现每一代中总会出现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有尾猫，其余均为无尾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分析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基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↓                      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体物质          中间产物             终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白色）          （白色）           （红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Bb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51008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086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6720" y="45100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1840" y="537372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aab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73408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680" y="407664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286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9440" y="32860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8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种植物的花有红色、白色，花色的遗传受两对等位基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的控制，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两对基因分别位于两对同源染色体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两对基因控制花色的机理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基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↓                      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体物质          中间产物             终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白色）         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粉红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     （红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Bb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51008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5086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45100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31840" y="537372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aab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573408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680" y="407664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86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9440" y="32860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能有的非典型性比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02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莱杭鸡原产意大利，是世界著名的蛋用鸡高产品种。莱杭鸡羽毛的颜色由两对基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同决定，基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有色羽基因，基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白羽基因，基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抑制基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表达，使其不能表现为有色羽。某生物小组利用两个白色羽毛鸡纯系（白羽品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白羽品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一个有色羽毛鸡纯系进行杂交实验，得到如下实验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回答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遗传的基本规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539640" y="260280"/>
          <a:ext cx="8229600" cy="2679840"/>
        </p:xfrm>
        <a:graphic>
          <a:graphicData uri="http://schemas.openxmlformats.org/drawingml/2006/table">
            <a:tbl>
              <a:tblPr/>
              <a:tblGrid>
                <a:gridCol w="936720"/>
                <a:gridCol w="2746440"/>
                <a:gridCol w="1287360"/>
                <a:gridCol w="32590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组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亲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现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现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羽品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羽品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色羽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羽品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羽品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色羽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色羽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50920" y="306864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两对基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遗传遵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律，白羽品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基因型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白羽品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基因型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实验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白色羽毛鸡中，基因型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种，纯合子所占比例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若实验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有色羽毛鸡个体间随机交配，后代表现型及比例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若利用以上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种纯系在最短的时间内判断一只有色羽毛鸡是否纯合，请简要说明实验思路：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__________________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基因的自由组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3429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a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350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A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3860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/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933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题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根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_B_     aaB_     A_bb    aa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型：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纯合子：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：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            2            2 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先考虑一对相对性状，然后再相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遗传规律的细胞学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084640"/>
            <a:ext cx="78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该果蝇一个初级卵母细胞产生的一个极体基因型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卵细胞基因型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754600" cy="3552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一个初级卵母细胞产生的卵细胞和极体基因型为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分析可能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350208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：遗传规律适用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；（真核</a:t>
            </a:r>
            <a:r>
              <a:rPr b="1" i="1" lang="zh-CN" sz="3200" spc="-1" strike="noStrike">
                <a:solidFill>
                  <a:srgbClr val="ff0000"/>
                </a:solidFill>
                <a:latin typeface="Andalus"/>
              </a:rPr>
              <a:t>or</a:t>
            </a:r>
            <a:r>
              <a:rPr b="1" i="1" lang="zh-CN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殖；（有性</a:t>
            </a:r>
            <a:r>
              <a:rPr b="1" i="1" lang="zh-CN" sz="3200" spc="-1" strike="noStrike">
                <a:solidFill>
                  <a:srgbClr val="ff0000"/>
                </a:solidFill>
                <a:latin typeface="Andalus"/>
              </a:rPr>
              <a:t>o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因   （核基因</a:t>
            </a:r>
            <a:r>
              <a:rPr b="1" i="1" lang="zh-CN" sz="3200" spc="-1" strike="noStrike">
                <a:solidFill>
                  <a:srgbClr val="ff0000"/>
                </a:solidFill>
                <a:latin typeface="Andalus"/>
              </a:rPr>
              <a:t>or</a:t>
            </a:r>
            <a:r>
              <a:rPr b="1" i="1" lang="zh-CN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2451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届诺贝尔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3887640" cy="302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838680" cy="301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88000" y="393372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位诺贝尔奖得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室中现有一批纯种长翅灰身和残翅黑身的果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己知长翅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残翅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对相对性状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位于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同源染色体上的等位基因控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欲利用以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果蝇研究有关果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灰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黑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状的遗传特点。（所有果蝇均能正常繁殖存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灰身和黑身，如何判断显隐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42100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假定结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灰身为显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身为隐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灰身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黑身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基因位于常染色体还是性染色体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方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交和反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80536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假定结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灰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和黑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基因位于常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03640" cy="308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3933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378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429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25653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292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控制灰身和黑身的等位基因是否也位于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号同源染色体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已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翅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和残翅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位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同源染色体上。灰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和黑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基因位于常染色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232160" cy="277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8000" y="285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1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2781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2133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06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4760" y="4437000"/>
            <a:ext cx="45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探究是否符合自由组合定律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蝇中长翅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残翅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显性，灰身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黑身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显性。控制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性状的基因均位于常染色体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室中现有一批纯种长翅灰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和残翅黑身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果蝇。如何设计实验探究这两种性状是否符合基因的自由组合定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20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拓展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水稻的非糯性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糯性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显性，抗病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染病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显性，花粉粒长形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圆形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显性，三对等位基因位于三对同源染色体上。非糯性花粉遇碘液呈蓝色，糯性花粉遇碘液呈棕色。现有四种纯合子的基因型分别为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TT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tt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tt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att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判断下列说法是否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若通过鉴别花粉验证基因的分离定律，可选择亲本②和③杂交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若通过鉴别花粉验证基因的自由组合定律，可选择亲本①和④杂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4941720"/>
            <a:ext cx="8280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药离体培养，统计植株上粳米和糯米比例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8720" y="335772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422100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522936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26:47Z</dcterms:created>
  <dc:creator>sony</dc:creator>
  <dc:description/>
  <cp:keywords/>
  <dc:language>en-US</dc:language>
  <cp:lastModifiedBy>微软用户</cp:lastModifiedBy>
  <cp:lastPrinted>1899-12-30T00:00:00Z</cp:lastPrinted>
  <dcterms:modified xsi:type="dcterms:W3CDTF">2013-04-07T05:39:54Z</dcterms:modified>
  <cp:revision>159</cp:revision>
  <dc:subject/>
  <dc:title>遗传的基本规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