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</p:sldIdLst>
  <p:sldSz cx="14403388" cy="10799763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034-C891-4D7D-8570-C8B854D8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04F-01C9-46E5-BD68-F459815A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D78D9-3C60-439C-8048-5FD1FA83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DFE1-6080-40D7-B46D-30A7780B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D91F-5318-40B2-AFCF-075B87A8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703A1-2228-46C1-B578-309782CE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24502-C4DF-46AA-AE08-9EE82AA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67A4D-90D1-4215-B356-7CE0B096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83C0F-62F5-434B-8DE1-D09BDB64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8A130-FECA-45D2-8BA6-236E6C57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D4FC-5826-4490-A110-01F23970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6A45E-F85A-49BB-868E-0ABB41D9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965-627F-4F35-857D-2DCBE243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3D9DF-1466-4FDE-A39C-D1CB78FB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2D2E-35D9-4C4E-87BA-E790E178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821E6-7E77-4C02-B4E7-0D8A63E8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8E1FB-3D60-4486-B933-890B8505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D9F43-B6DF-488D-86C4-879DC5CB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86097-6DF2-4C0F-B40B-E8A944BB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7B145-CB7F-458D-B98C-C4F5DAFF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66FBC-3D07-49AF-B9D1-46541BF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9F4EF-338B-45ED-9446-841A2CBC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43F31-13E8-4D25-85CA-4D7F06C7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B75-8995-4E8C-99FA-BBD896C0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3D52F-F8CA-4FBA-89B5-9BA5B360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5587C-A595-4198-8660-04A6ED78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29A33-D970-471A-8877-ED074041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A0FEE-3484-41E1-8078-A1DBB045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CEE5F-9C8B-4980-A63F-38BD9C2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0BB4D-4468-45CE-B4B3-1BE4021D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49925-A67C-4F20-8F6C-375B1ED3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F8E6A-7BD5-4AE1-92C0-523E88D0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62583-F111-4B7D-98D8-5F04ACD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0C78A-3AA4-4A06-BF4B-482E47B6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E11D-1FA1-44F1-90F6-E3069676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B6005-F17C-42BD-96D9-6EF5E777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A1C41-F73C-41DF-B885-04114235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D2D0C-6D2D-4CA8-81DE-0C9830B2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1B2F-A693-46F5-B2A7-129C6ABF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59EC-6BA1-4B7B-85C9-8A42CC08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52AF-6FF9-4AC1-AB1A-9D02D4E1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DC1D-5BF3-4B4A-A8D5-53EA448F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3A3B-9100-4135-99C9-7D485547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EB83-4D1A-418C-9A97-A99775CD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BF2-E178-488E-83AA-53F13836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7E34-4061-4245-9848-9E8242E7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EFD6-7711-4643-98C2-E27A8C60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B468-E612-4E89-B639-862AADD2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B6DD-766E-46C3-B98A-EB3CA6E7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8B0B-E63D-4DAF-BCE2-596F9A11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6F08-391C-4C70-9A3E-187A7342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D1FC3-A875-4AC5-85E6-5106FB81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5E0D-B187-44D1-B453-AE480644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2E0F-010A-4E58-B6ED-EAD2798B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9B44-A333-4745-8358-57E220AE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672-4704-42CC-94F9-839C2F8B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0C97-599A-47B3-9C96-60CFF49B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75AE9-CAE1-49AD-8F23-FDB221A1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B63F-C221-444F-93B7-8FD2F4D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76AAC-8AD7-4D90-980F-552C1D68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93B9-E128-4602-A42F-B33B2810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B5FF-1C35-4BF3-8874-A39E8906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57F08-337B-4F7A-86FF-2F70378C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168-54A5-450E-88F1-E4890EEC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854-DC66-4C15-9C4F-79CD016A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894-CA62-4A9D-92A7-851489CD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00D-CC98-4D3F-B8B9-5B943834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EE4-9903-44AD-A2EA-A0C302FD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6D8-2C26-40CF-B8E3-ACF3D8B3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720360" y="431280"/>
            <a:ext cx="129603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720360" y="6243840"/>
            <a:ext cx="1296036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361280" y="252072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72036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7361280" y="6243840"/>
            <a:ext cx="632448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0264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484560" y="252072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7203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510264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9484560" y="6243840"/>
            <a:ext cx="4173120" cy="33998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D4E3-AC16-4061-8253-839F3530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FE01C-1930-4D07-BC2A-88FF016E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3709B-C511-4591-882C-DB77EA10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3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20840" y="10010880"/>
            <a:ext cx="455940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3215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7020-83AA-440B-A3C4-FA9632F660E1}" type="slidenum">
              <a: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-539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1170000" indent="-44928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1800360" indent="-3589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2519280" indent="-3585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3"/>
          </p:nvPr>
        </p:nvSpPr>
        <p:spPr>
          <a:xfrm>
            <a:off x="7203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4"/>
          </p:nvPr>
        </p:nvSpPr>
        <p:spPr>
          <a:xfrm>
            <a:off x="4920840" y="10010880"/>
            <a:ext cx="455940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5"/>
          </p:nvPr>
        </p:nvSpPr>
        <p:spPr>
          <a:xfrm>
            <a:off x="103215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7257-6C71-48A0-80F4-8B637D0920A9}" type="slidenum">
              <a:rPr b="0" lang="en-US" sz="1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-539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1170000" indent="-44928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1800360" indent="-3589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2519280" indent="-3585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6"/>
          </p:nvPr>
        </p:nvSpPr>
        <p:spPr>
          <a:xfrm>
            <a:off x="7203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7"/>
          </p:nvPr>
        </p:nvSpPr>
        <p:spPr>
          <a:xfrm>
            <a:off x="4920840" y="10010880"/>
            <a:ext cx="455940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8"/>
          </p:nvPr>
        </p:nvSpPr>
        <p:spPr>
          <a:xfrm>
            <a:off x="103215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A752-B796-492A-BAA2-AF5E1AF882B2}" type="slidenum">
              <a:rPr b="0" lang="en-US" sz="1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-539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1170000" indent="-44928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1800360" indent="-3589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2519280" indent="-3585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203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920840" y="10010880"/>
            <a:ext cx="455940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03215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6BF6-0B4B-4D11-B69A-176EBE05B425}" type="slidenum">
              <a:rPr b="0" lang="zh-CN" sz="1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Users\ejoy\Desktop\新建文件夹\图片3.emf"/>
          <p:cNvPicPr/>
          <p:nvPr/>
        </p:nvPicPr>
        <p:blipFill>
          <a:blip r:embed="rId3"/>
          <a:stretch/>
        </p:blipFill>
        <p:spPr>
          <a:xfrm>
            <a:off x="3240" y="6480"/>
            <a:ext cx="14398560" cy="107982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7203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4920840" y="10010880"/>
            <a:ext cx="455940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103215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6BE3-1AC4-4755-B696-ACD4C3D36F3A}" type="slidenum">
              <a:rPr b="0" lang="zh-CN" sz="1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内页3副本"/>
          <p:cNvPicPr/>
          <p:nvPr/>
        </p:nvPicPr>
        <p:blipFill>
          <a:blip r:embed="rId3"/>
          <a:stretch/>
        </p:blipFill>
        <p:spPr>
          <a:xfrm>
            <a:off x="3240" y="3240"/>
            <a:ext cx="14395320" cy="107949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8" descr="内页3副本"/>
          <p:cNvPicPr/>
          <p:nvPr/>
        </p:nvPicPr>
        <p:blipFill>
          <a:blip r:embed="rId3"/>
          <a:stretch/>
        </p:blipFill>
        <p:spPr>
          <a:xfrm>
            <a:off x="3240" y="3240"/>
            <a:ext cx="14395320" cy="10794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3080" y="68040"/>
            <a:ext cx="8740440" cy="119196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20360" y="1639800"/>
            <a:ext cx="12960360" cy="81756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/>
          </a:bodyPr>
          <a:p>
            <a:pPr marL="438120" indent="-4381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1" marL="950760" indent="-3618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2" marL="1465200" indent="-2905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3" marL="2050920" indent="-2905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4" marL="2638440" indent="-2905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5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  <a:p>
            <a:pPr lvl="6" marL="2638440" indent="-290520">
              <a:spcBef>
                <a:spcPts val="1026"/>
              </a:spcBef>
              <a:buClr>
                <a:srgbClr val="ffffff"/>
              </a:buClr>
              <a:buFont typeface="Arial"/>
              <a:buChar char="»"/>
              <a:tabLst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C:\Users\ejoy\Desktop\新建文件夹\图片3.emf"/>
          <p:cNvPicPr/>
          <p:nvPr/>
        </p:nvPicPr>
        <p:blipFill>
          <a:blip r:embed="rId3"/>
          <a:stretch/>
        </p:blipFill>
        <p:spPr>
          <a:xfrm>
            <a:off x="3240" y="6480"/>
            <a:ext cx="14398560" cy="107982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-539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1170000" indent="-44928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1800360" indent="-3589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2519280" indent="-3585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240000" indent="-35856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0"/>
          </p:nvPr>
        </p:nvSpPr>
        <p:spPr>
          <a:xfrm>
            <a:off x="7203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1"/>
          </p:nvPr>
        </p:nvSpPr>
        <p:spPr>
          <a:xfrm>
            <a:off x="4920840" y="10010880"/>
            <a:ext cx="455940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2"/>
          </p:nvPr>
        </p:nvSpPr>
        <p:spPr>
          <a:xfrm>
            <a:off x="10321560" y="10010880"/>
            <a:ext cx="3359160" cy="576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CDD9-2804-4A47-8677-51A2C62017C6}" type="slidenum">
              <a:rPr b="0" lang="zh-CN" sz="1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C:\Users\Administrator\Desktop\未标题-2.jpg"/>
          <p:cNvPicPr/>
          <p:nvPr/>
        </p:nvPicPr>
        <p:blipFill>
          <a:blip r:embed="rId2"/>
          <a:stretch/>
        </p:blipFill>
        <p:spPr>
          <a:xfrm>
            <a:off x="0" y="14400"/>
            <a:ext cx="14401800" cy="107870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944720" y="6156360"/>
            <a:ext cx="111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Unit 3</a:t>
            </a:r>
            <a:r>
              <a:rPr b="1" lang="zh-CN" sz="7200" spc="-1" strike="noStrike">
                <a:solidFill>
                  <a:srgbClr val="ff0000"/>
                </a:solidFill>
                <a:latin typeface="Comic Sans MS"/>
              </a:rPr>
              <a:t>～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Unit 4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教材分析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826308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常州市觅渡教育集团    朱兰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684360" y="396720"/>
            <a:ext cx="889128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六、板块解读与活动设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Calibri"/>
              </a:rPr>
              <a:t>第一课时：</a:t>
            </a:r>
            <a:r>
              <a:rPr b="1" lang="en-US" sz="4200" spc="-1" strike="noStrike">
                <a:solidFill>
                  <a:srgbClr val="ff0000"/>
                </a:solidFill>
                <a:latin typeface="Calibri"/>
              </a:rPr>
              <a:t>Story tim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672000"/>
            <a:ext cx="125650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板块解读：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这一板块以日常生活中放学后与爸爸妈妈交流这一片断为背景，复习之前所学内容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oodbye.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，学习新知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’s/ She’s … He’s/She’s my friend.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，并能在真实情景使用所学语言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20360" y="2087280"/>
            <a:ext cx="12960360" cy="7777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3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800" spc="-1" strike="noStrike">
                <a:solidFill>
                  <a:srgbClr val="000000"/>
                </a:solidFill>
                <a:latin typeface="黑体"/>
                <a:ea typeface="黑体"/>
              </a:rPr>
              <a:t>、适度铺垫，导入新知：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30000"/>
              </a:lnSpc>
              <a:spcAft>
                <a:spcPts val="1199"/>
              </a:spcAft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30000"/>
              </a:lnSpc>
              <a:spcAft>
                <a:spcPts val="1349"/>
              </a:spcAft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. Free tal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30000"/>
              </a:lnSpc>
              <a:spcAft>
                <a:spcPts val="1199"/>
              </a:spcAft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30000"/>
              </a:lnSpc>
              <a:spcAft>
                <a:spcPts val="1199"/>
              </a:spcAft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. Play a game: Do you know?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4000" y="2087640"/>
            <a:ext cx="12960360" cy="83167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952560" indent="0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整体感知，理解掌握</a:t>
            </a: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. Watch and tick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. Read and choo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et’s cha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oodbye, Yang L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oodbye, my frie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oodbye, Mik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oodbye, my friend.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lnSpc>
                <a:spcPct val="12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c. Let’s r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89080" y="539280"/>
            <a:ext cx="4681440" cy="9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20360" y="1476000"/>
            <a:ext cx="1296036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巩固运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. Let’s a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b. Read and judge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情感教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168360" y="431280"/>
            <a:ext cx="594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第二课时：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  <a:ea typeface="黑体"/>
              </a:rPr>
              <a:t>Fun time</a:t>
            </a:r>
            <a:r>
              <a:rPr b="0" lang="en-US" sz="6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12960360" cy="8101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黑体"/>
              </a:rPr>
              <a:t>板块解读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通过多种形式的语言实践活动来操练、巩固、运用目标句型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’s/ She’s … He’s/She’s my friend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达到不断提高学生的语言表达能力的目的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为了让语言更具有交际性和互动性，本课时将拓展问句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o’s he/ sh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由于这一板块需要制作朋友卡，事先要通知学生带好相关材料及工具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9080" y="539280"/>
            <a:ext cx="4681440" cy="9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20360" y="1476000"/>
            <a:ext cx="1296036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、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Let’s review</a:t>
            </a: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a. Free tal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b. Talk about our frien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c. Let’s chant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Yang Ling is my frien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Mike is my friend, too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They’re my friends.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9080" y="828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20360" y="2015640"/>
            <a:ext cx="1296036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13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et’s mak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ke out a piece of paper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rite “My friends”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raw on the pap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ick the photos on the pap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our the ca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20360" y="2484000"/>
            <a:ext cx="12960360" cy="1584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 algn="just">
              <a:lnSpc>
                <a:spcPct val="12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et’s talk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：问答对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/>
          <p:nvPr/>
        </p:nvSpPr>
        <p:spPr>
          <a:xfrm>
            <a:off x="863640" y="4321080"/>
            <a:ext cx="1288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Let’s show: </a:t>
            </a: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小语段输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12720" y="8496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63640" y="5796000"/>
            <a:ext cx="127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Summary</a:t>
            </a: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：归纳总结语言规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07640" y="396360"/>
            <a:ext cx="1004580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第三课时：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rtoon time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＆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ong time</a:t>
            </a: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12673080" cy="83898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黑体"/>
              </a:rPr>
              <a:t>板块解读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黑体"/>
              </a:rPr>
              <a:t>           </a:t>
            </a:r>
            <a:r>
              <a:rPr b="1" lang="zh-CN" sz="3300" spc="-1" strike="noStrike">
                <a:solidFill>
                  <a:srgbClr val="000000"/>
                </a:solidFill>
                <a:latin typeface="Arial Black"/>
              </a:rPr>
              <a:t>动画板块主要是拓展性趣味阅读，复现旧知，又有渗透下一单元新语言点</a:t>
            </a:r>
            <a:r>
              <a:rPr b="1" lang="en-US" sz="3300" spc="-1" strike="noStrike">
                <a:solidFill>
                  <a:srgbClr val="000000"/>
                </a:solidFill>
                <a:latin typeface="Arial Black"/>
              </a:rPr>
              <a:t>This is …</a:t>
            </a:r>
            <a:r>
              <a:rPr b="1" lang="zh-CN" sz="3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3300" spc="-1" strike="noStrike">
                <a:solidFill>
                  <a:srgbClr val="000000"/>
                </a:solidFill>
                <a:latin typeface="Arial Black"/>
              </a:rPr>
              <a:t>。重在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引导学生模仿语音语调，掌握一些朗读、阅读技巧和能力，展开联想，提高学生观察能力、思维能力，感受其幽默之处。</a:t>
            </a: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zh-CN" sz="3300" spc="-1" strike="noStrike">
                <a:solidFill>
                  <a:srgbClr val="000000"/>
                </a:solidFill>
                <a:latin typeface="Arial Black"/>
              </a:rPr>
              <a:t>歌曲板块看似简单的几句话，但是我们在处理的时候要充分挖掘其价值。歌词中还出现了</a:t>
            </a:r>
            <a:r>
              <a:rPr b="1" lang="en-US" sz="3300" spc="-1" strike="noStrike">
                <a:solidFill>
                  <a:srgbClr val="000000"/>
                </a:solidFill>
                <a:latin typeface="Arial Black"/>
              </a:rPr>
              <a:t>See you next time.</a:t>
            </a:r>
            <a:r>
              <a:rPr b="1" lang="zh-CN" sz="3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3300" spc="-1" strike="noStrike">
                <a:solidFill>
                  <a:srgbClr val="000000"/>
                </a:solidFill>
                <a:latin typeface="Arial Black"/>
              </a:rPr>
              <a:t>建议适度拓展常用的表达方式</a:t>
            </a:r>
            <a:r>
              <a:rPr b="1" lang="en-US" sz="3300" spc="-1" strike="noStrike">
                <a:solidFill>
                  <a:srgbClr val="000000"/>
                </a:solidFill>
                <a:latin typeface="Arial Black"/>
              </a:rPr>
              <a:t>Bye-bye. Bye.</a:t>
            </a:r>
            <a:r>
              <a:rPr b="1" lang="zh-CN" sz="3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3300" spc="-1" strike="noStrike">
                <a:solidFill>
                  <a:srgbClr val="000000"/>
                </a:solidFill>
                <a:latin typeface="Arial Black"/>
              </a:rPr>
              <a:t>。</a:t>
            </a: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9080" y="539280"/>
            <a:ext cx="4681440" cy="9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20360" y="1476000"/>
            <a:ext cx="1263636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综合复习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spcBef>
                <a:spcPts val="13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.  Free tal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spcBef>
                <a:spcPts val="13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. Talk about our frien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C:\Users\Administrator\Desktop\未标题-2.jpg"/>
          <p:cNvPicPr/>
          <p:nvPr/>
        </p:nvPicPr>
        <p:blipFill>
          <a:blip r:embed="rId2"/>
          <a:stretch/>
        </p:blipFill>
        <p:spPr>
          <a:xfrm>
            <a:off x="0" y="14400"/>
            <a:ext cx="14401800" cy="107870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384720" y="6013440"/>
            <a:ext cx="7200720" cy="26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Unit 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Calibri"/>
              </a:rPr>
              <a:t>My friends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9080" y="828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20360" y="2015640"/>
            <a:ext cx="1274436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95256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 Black"/>
              </a:rPr>
              <a:t>、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适度铺垫</a:t>
            </a: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a. Look and gu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b. Listen and chec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. Think and s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89080" y="828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20360" y="2015640"/>
            <a:ext cx="12744360" cy="3313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"/>
          <p:cNvSpPr/>
          <p:nvPr/>
        </p:nvSpPr>
        <p:spPr>
          <a:xfrm>
            <a:off x="792000" y="2052720"/>
            <a:ext cx="1328436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 fontScale="27000"/>
          </a:bodyPr>
          <a:p>
            <a:pPr marL="145440" indent="-145440" algn="just">
              <a:lnSpc>
                <a:spcPct val="12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、理解运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45440" indent="-145440" algn="just">
              <a:lnSpc>
                <a:spcPct val="12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a. Watch and answ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45440" indent="-145440" algn="just">
              <a:lnSpc>
                <a:spcPct val="12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45440" indent="-145440" algn="just">
              <a:lnSpc>
                <a:spcPct val="12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b. Read and mat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45440" indent="-145440" algn="just">
              <a:lnSpc>
                <a:spcPct val="14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92000" y="6553080"/>
            <a:ext cx="132843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、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Let’s s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20360" y="1871640"/>
            <a:ext cx="13284360" cy="85694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、小结：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</a:rPr>
              <a:t>Read and choose: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iu Tao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班里来了一位美国男孩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Ben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。放学时，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iu Tao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想和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Ben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用英语道别。可是最近学习了很多英语句子，他一时不知道该如何选择了。请你给他帮个忙，在正确的句子前打勾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(    ) Good morning, Be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(    ) See you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(    ) Good afternoon, Be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(    ) Goodby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(    ) By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(    ) See you next ti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(    ) Bye-by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/>
          <p:nvPr/>
        </p:nvSpPr>
        <p:spPr>
          <a:xfrm>
            <a:off x="1512720" y="8496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07640" y="396360"/>
            <a:ext cx="1004580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第四课时：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Letter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13141440" cy="83898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300" spc="-1" strike="noStrike">
                <a:solidFill>
                  <a:srgbClr val="0000ff"/>
                </a:solidFill>
                <a:latin typeface="Calibri"/>
                <a:ea typeface="黑体"/>
              </a:rPr>
              <a:t>板块解读：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600" spc="-1" strike="noStrike">
                <a:solidFill>
                  <a:srgbClr val="000000"/>
                </a:solidFill>
                <a:latin typeface="Calibri"/>
              </a:rPr>
              <a:t>字母是英语学习的重要基础，有效的字母教学能增强学生字母名称与字母发音对应规则的意识，可以让学生运用音形对应的规则拼读单词。字母知识的缺失还可能成为学生今后的阅读障碍。</a:t>
            </a:r>
            <a:r>
              <a:rPr b="0" lang="zh-CN" sz="4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9080" y="539280"/>
            <a:ext cx="4681440" cy="9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教学建议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55280" y="1907640"/>
            <a:ext cx="1263636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字母与音素结合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字母的音与形结合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字母教学与拼读技能培养结合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字母教学与游戏结合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字母教学与日常用语结合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字母教学与日常生活结合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注重教师的示范作用，规范字母发音与书写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9080" y="828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8720" y="2015640"/>
            <a:ext cx="1368108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Step 1  </a:t>
            </a: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Warming up exercises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《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BC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BC, follow me. It’s as easy as 123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123, ABC. It’s so easy as you se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BCDEFG, Father, mother and 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DEFGAB, Sing and dance under the tre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20360" y="2052360"/>
            <a:ext cx="13284360" cy="3708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 algn="just">
              <a:lnSpc>
                <a:spcPct val="12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Step 2  Revision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出示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gic Tree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复习字母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/>
          <p:nvPr/>
        </p:nvSpPr>
        <p:spPr>
          <a:xfrm>
            <a:off x="1512720" y="8496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20360" y="1800360"/>
            <a:ext cx="13284360" cy="27367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952560"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Step3  Presentation</a:t>
            </a: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marL="952560" indent="-9525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出示椅子，教学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H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/>
          <p:nvPr/>
        </p:nvSpPr>
        <p:spPr>
          <a:xfrm>
            <a:off x="1512720" y="8496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8720" y="4680000"/>
            <a:ext cx="12565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出示扑克牌，教学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Jj, K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儿歌：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Aa, Hh, Jj, Kk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             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Kk, Jj, Hh, A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             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Let’s say, let’s s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             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Aa, Aa, Aa, A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5640" y="8424720"/>
            <a:ext cx="132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指导书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20360" y="1871640"/>
            <a:ext cx="13284360" cy="83534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Step 4  Practice and production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游戏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：给字母穿上漂亮衣服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游戏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：将字母送回家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spcBef>
                <a:spcPts val="125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游戏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：和字母一起玩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1512720" y="8496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20360" y="1871280"/>
            <a:ext cx="13284360" cy="89298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tep 5  End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Let’s chan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ome now. Come to 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Let’s say A B 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 C D E F 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H I and J K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ome now . Come to 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Let’s say A B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 C D E F 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H I and J 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Now I can say my A B 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lease say with 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lease say with 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1512720" y="8496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教材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08000" y="2305080"/>
            <a:ext cx="12638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本单元以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 friends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主题，学会介绍自己的朋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词汇：没有出现主题词汇，重点掌握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, she, my, frien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句型：学会准确使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’s/ She’s … He’s/She’s my friend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来介绍不同性别的朋友。初步感知句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s is … She’s my sis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日常交际用语：学会道别用语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odbye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字母：继续学习认读及书写字母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h, Ii, Jj, Kk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认识新人物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by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的姐姐（妹妹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n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8000" y="396360"/>
            <a:ext cx="1209672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第五课时：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黑体"/>
              </a:rPr>
              <a:t>Checkout time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＆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黑体"/>
              </a:rPr>
              <a:t>Ticking time</a:t>
            </a: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13141440" cy="83898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黑体"/>
              </a:rPr>
              <a:t>板块解读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eckout time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板块是对本单元教学的检测活动，可以通过丰富多样的活动帮助学生复习巩固，提高综合运用能力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cking time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是在教师的组织下开展师生、生生之间评价，可以是自我评价，也可以是教师或同伴评价。教学中可以将这两个板块结合，做到检测与评价同在，让学生了解、反思自己本单元内容的掌握情况，对薄弱环节及时作出相应调整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9080" y="828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88720" y="2015640"/>
            <a:ext cx="1368108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80000"/>
              </a:lnSpc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 can t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评分标准：★准确   ★★准确，流畅★★★准  确，流畅，自然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Quick response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快速反应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20360" y="2052720"/>
            <a:ext cx="13284360" cy="792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800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I can u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评分标准：★对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题   ★★对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题   ★★★对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. Look and s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.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学生总结不同用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如：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ead and choose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is is (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人物图片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). __________ my friend/   sister.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. He’s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. She’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1512720" y="8496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20360" y="2052360"/>
            <a:ext cx="13284360" cy="6948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I can say and wr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评分标准：按小组得分情况确定星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抢读字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b.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听音辨字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字母滚雪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.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笔头练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/>
          <p:nvPr/>
        </p:nvSpPr>
        <p:spPr>
          <a:xfrm>
            <a:off x="1512720" y="8496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47640" y="7308720"/>
            <a:ext cx="132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63640" y="2160720"/>
            <a:ext cx="12096720" cy="18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第六课时：配套练习</a:t>
            </a:r>
            <a:r>
              <a:rPr b="0" lang="zh-CN" sz="6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略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5" descr="C:\Users\Administrator\Desktop\未标题-2.jpg"/>
          <p:cNvPicPr/>
          <p:nvPr/>
        </p:nvPicPr>
        <p:blipFill>
          <a:blip r:embed="rId2"/>
          <a:stretch/>
        </p:blipFill>
        <p:spPr>
          <a:xfrm>
            <a:off x="0" y="14400"/>
            <a:ext cx="14401800" cy="107870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384720" y="6013440"/>
            <a:ext cx="7200720" cy="26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Unit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Calibri"/>
              </a:rPr>
              <a:t>My family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一、教材内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008000" y="2305080"/>
            <a:ext cx="12638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、本单元教材以“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My family”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为主题，学会向别人介绍自己的家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、词汇：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amily, father, mother, brother, sister, grandpa, grandma, me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、句型：学会使用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This is ..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来介绍家庭成员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、日常交际用语：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Good evening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、字母：学习认读及书写字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Ll, Mm, Nn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、认识新人物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Mike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的姐姐（妹妹）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Helen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，弟弟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Tim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。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1280" y="-36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41080" y="3347640"/>
            <a:ext cx="12960360" cy="1079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m, dad, grandfather, grandmo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二、学情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55640" y="6445080"/>
            <a:ext cx="102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 love my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63640" y="2592360"/>
            <a:ext cx="105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基于学生的最近发展区，使知识系统化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44720" y="5508720"/>
            <a:ext cx="9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丰富语言，表达情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84360" y="4284720"/>
            <a:ext cx="92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rother, sister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与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usin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的区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728720" y="738036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appy, big, sm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三、单元目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55640" y="2556000"/>
            <a:ext cx="13322160" cy="77752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80000"/>
              </a:lnSpc>
              <a:spcBef>
                <a:spcPts val="2937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700" spc="-1" strike="noStrike">
                <a:solidFill>
                  <a:srgbClr val="000000"/>
                </a:solidFill>
                <a:latin typeface="黑体"/>
                <a:ea typeface="黑体"/>
              </a:rPr>
              <a:t>、知识与技能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能听懂日常用语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 evening.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并作出相应的回答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能正确用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This is … He’s/ She’s my …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来介绍自己的家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能唱歌曲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《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Family song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能用几句话的简单介绍家庭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能正确认读和书写字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l, Mm, Nn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5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培养学生养成每日听录音的习惯并大声跟读、模仿的习惯。</a:t>
            </a:r>
            <a:r>
              <a:rPr b="0" lang="zh-CN" sz="3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能熟练表演文中的小故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能读懂动画中的幽默之处。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三、单元目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23640" y="2268360"/>
            <a:ext cx="13681080" cy="7128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过程与方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6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通过呈现家庭照，学习新词，并利用已学句型加以运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6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通过观看故事和动画，在情境中理解新知的意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6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通过老师指导与示范，能正确认读和书写字母</a:t>
            </a:r>
            <a:r>
              <a:rPr b="1" lang="en-US" sz="4000" spc="-1" strike="noStrike">
                <a:solidFill>
                  <a:srgbClr val="0000ff"/>
                </a:solidFill>
                <a:latin typeface="Arial Black"/>
              </a:rPr>
              <a:t>Ll, Mm, Nn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360" y="3347640"/>
            <a:ext cx="12960360" cy="1079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odby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、学情分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80000" y="338472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ye-bye./ By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71640" y="446400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e you. See you next tim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71640" y="6337440"/>
            <a:ext cx="102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o’s he? Who’s sh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3640" y="2592360"/>
            <a:ext cx="105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基于学生的最近发展区，使知识系统化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44720" y="5437080"/>
            <a:ext cx="9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拓展问句，增强语言的交际性和互动性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08000" y="7380360"/>
            <a:ext cx="9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新旧知识整合，培养语段输出能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63640" y="8424720"/>
            <a:ext cx="102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ello. I’m … He’s… He’s my frien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三、单元目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368108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情感、态度与价值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Black"/>
              </a:rPr>
              <a:t>通过本单元学习，感悟到家庭的温馨，增强对家人热爱之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Black"/>
              </a:rPr>
              <a:t>通过本单元学习，开始对构词规则有所感知，继续培养语段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 Black"/>
              </a:rPr>
              <a:t>出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Black"/>
              </a:rPr>
              <a:t>通过本单元学习，逐步养成良好的书写习惯。</a:t>
            </a:r>
            <a:r>
              <a:rPr b="0" lang="zh-CN" sz="3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四、重点难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family, father, mother, brother, sister, grandpa, grandma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等单词的准确发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This is …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的发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在介绍照片中的自己时，学生受思维定势的影响，可能会出现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This is my me.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这样的错误。教学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This is me.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时要注意消除这种定势影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Mm, Nn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的发音及笔顺。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8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3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8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3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五、课时划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一课时：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Story tim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二课时：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Fun tim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三课时：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Cartoon time </a:t>
            </a: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＆ 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Song tim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四课时：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Letter tim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五课时：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Checkout time </a:t>
            </a: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＆ 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Ticking time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11700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复习与评价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六课时：配套练习册（检测与反馈）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六、板块解读与活动设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10429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Calibri"/>
              </a:rPr>
              <a:t>第一课时：</a:t>
            </a:r>
            <a:r>
              <a:rPr b="1" lang="en-US" sz="4200" spc="-1" strike="noStrike">
                <a:solidFill>
                  <a:srgbClr val="ff0000"/>
                </a:solidFill>
                <a:latin typeface="Calibri"/>
              </a:rPr>
              <a:t>Story tim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3672000"/>
            <a:ext cx="12565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板块解读：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整体感知理解故事内容，初步会用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This is my…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的句型介绍家庭成员。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0360" y="2087280"/>
            <a:ext cx="13068360" cy="7777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适度铺垫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/>
          <p:nvPr/>
        </p:nvSpPr>
        <p:spPr>
          <a:xfrm>
            <a:off x="792000" y="3924360"/>
            <a:ext cx="129603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952560" indent="-9525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整体呈现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a. Listen and answ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b. Read and circ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8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20360" y="2087280"/>
            <a:ext cx="12960360" cy="40338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深入理解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. Read and mat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. Let’s re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20360" y="2087640"/>
            <a:ext cx="12960360" cy="83167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尝试运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. Let’s 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. Let’s sh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情感教育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s is my fat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s is my mot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s is my family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．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ppy, happy family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s is my sist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s is my brot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s is my family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．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g, big famil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168360" y="431280"/>
            <a:ext cx="594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第二课时：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  <a:ea typeface="黑体"/>
              </a:rPr>
              <a:t>Fun time</a:t>
            </a:r>
            <a:r>
              <a:rPr b="0" lang="en-US" sz="6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12601440" cy="7128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50000"/>
              </a:lnSpc>
              <a:spcBef>
                <a:spcPts val="275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黑体"/>
              </a:rPr>
              <a:t>板块解读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70000"/>
              </a:lnSpc>
              <a:spcBef>
                <a:spcPts val="675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在复习上节课的基础上继续学习家庭成员词汇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grandpa, grandma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，补充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um, dad, cousin, grandmother, grandfather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。感知构词规则，能熟练运用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is is …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句型。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5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89080" y="539280"/>
            <a:ext cx="4681440" cy="9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20360" y="1476000"/>
            <a:ext cx="1296036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95256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复习导入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问候复习日常用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5256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b.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让学生扮演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ike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介绍家庭成员，复习故事板块内容。</a:t>
            </a: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89080" y="828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20360" y="2015640"/>
            <a:ext cx="1296036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呈现新知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: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4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63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课件出现教师现在的家庭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4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randpa, grandma, grandfather,       grandmoth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4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This is my … I love my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4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b.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课件出现过去的快乐家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4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This is m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三、单元目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20360" y="2231640"/>
            <a:ext cx="12960360" cy="766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80000"/>
              </a:lnSpc>
              <a:spcBef>
                <a:spcPts val="325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5200" spc="-1" strike="noStrike">
                <a:solidFill>
                  <a:srgbClr val="000000"/>
                </a:solidFill>
                <a:latin typeface="Calibri"/>
              </a:rPr>
              <a:t>、知识与技能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听懂道别的日常用语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goodbye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并作出相应的回答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掌握句型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He’s/ She’s 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，能用其来介绍自己的朋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会唱歌曲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《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Goodbye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制作朋友卡，并进行两三句话的简单介绍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正确认读和书写字母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Hh, Ii, Jj, Kk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培养学生养成每日听录音和大声跟读、模仿的习惯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熟练表演文中的小故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能读懂动画中的幽默之处。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20360" y="2052360"/>
            <a:ext cx="12960360" cy="7777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800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巩固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00280" indent="-800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AutoNum type="alphaLcPeriod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学生用他们的家庭照，小组讨论并介绍自己的家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-800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AutoNum type="alphaLcPeriod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ay a chant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is is my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is is my 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is is my family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Happy, happy family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is is my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is is my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is is my family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Big, big fami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/>
          <p:nvPr/>
        </p:nvSpPr>
        <p:spPr>
          <a:xfrm>
            <a:off x="1512720" y="8496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1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6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1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6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6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1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1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1" dur="5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47280" y="2052360"/>
            <a:ext cx="12960360" cy="7777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800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拓展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小结家庭成员类单词，引导学生发现构词规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b.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引导学生区别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ousin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brother/ sister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的区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情感教育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: FAMILY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的含义解读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Father and mother I love yo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.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小诗结束本节课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is is my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is is my family.   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 love my fathe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 love my moth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y love me too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e are all happ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Happy, happy for ev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/>
          <p:nvPr/>
        </p:nvSpPr>
        <p:spPr>
          <a:xfrm>
            <a:off x="1512720" y="8496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07640" y="396360"/>
            <a:ext cx="1004580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第三课时：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rtoon time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＆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ong time</a:t>
            </a: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12673080" cy="83898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黑体"/>
              </a:rPr>
              <a:t>板块解读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动画板块复现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This is …</a:t>
            </a: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，又有下一单元新日常用语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Good evening.</a:t>
            </a: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的渗透。重点在引导学生理清人物之间的关系，看懂、想象动画中不同的人物的心理，并能用恰当语调等表演动画内容。歌曲板块再次巩固单元目标词汇，激发对家庭的热爱之情。区别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Good evening./ Good night.</a:t>
            </a: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的不同用法。</a:t>
            </a:r>
            <a:r>
              <a:rPr b="0" lang="zh-CN" sz="4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8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89080" y="539280"/>
            <a:ext cx="4681440" cy="9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20360" y="1476000"/>
            <a:ext cx="1263636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综合复习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师生自由交流，复习日常用语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介绍家庭成员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（学生四人小组选择不同的方式介绍，可以介绍照片，也可以现场表演）</a:t>
            </a: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0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0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5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89080" y="828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20360" y="2015640"/>
            <a:ext cx="12744360" cy="932508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、整体呈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spcBef>
                <a:spcPts val="1349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atch and matc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" y="4176720"/>
            <a:ext cx="12889080" cy="87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876240" indent="-876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zh-CN" sz="5000" spc="-1" strike="noStrike">
                <a:solidFill>
                  <a:srgbClr val="ffffff"/>
                </a:solidFill>
                <a:latin typeface="Calibri"/>
              </a:rPr>
              <a:t>、深入理解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a. Watch and choo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b. Look and thin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76240" indent="-876240"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. Read and ac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7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2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7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2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7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2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89080" y="936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4360" y="1836360"/>
            <a:ext cx="13284000" cy="1584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 algn="just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Let’s sing: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/>
          <p:nvPr/>
        </p:nvSpPr>
        <p:spPr>
          <a:xfrm>
            <a:off x="1512720" y="8496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4360" y="3240000"/>
            <a:ext cx="132840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zh-CN" sz="5000" spc="-1" strike="noStrike">
                <a:solidFill>
                  <a:srgbClr val="ffffff"/>
                </a:solidFill>
                <a:latin typeface="Calibri"/>
              </a:rPr>
              <a:t>、小结：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拓展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Good night.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，帮助学生理清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Good evening./ Good night.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的不同用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1908000"/>
            <a:ext cx="97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907640" y="396360"/>
            <a:ext cx="1004580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第四课时：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Letter t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13141440" cy="83898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黑体"/>
              </a:rPr>
              <a:t>板块解读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难点在三个字母的发音都有相同的音素，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m, Nn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的发音区别以及书写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111600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教学建议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4000" y="2413080"/>
            <a:ext cx="12636360" cy="93247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适度增加多种形式的字母笔头练习，如：在单词中圈出今天所学的字母，大小写连线，找朋友（含有相同因素的字母），写邻居字母等等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08000" y="396360"/>
            <a:ext cx="1209672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第五课时：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黑体"/>
              </a:rPr>
              <a:t>Checkout time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＆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黑体"/>
              </a:rPr>
              <a:t>Ticking time</a:t>
            </a: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13141440" cy="83898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黑体"/>
              </a:rPr>
              <a:t>板块解读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8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评价项目不一定拘泥于课本上的两项，可以和学生一起讨论决定，如增设词汇检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0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9080" y="828720"/>
            <a:ext cx="4681440" cy="9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活动设计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8720" y="2016000"/>
            <a:ext cx="13681080" cy="11527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 fontScale="41000"/>
          </a:bodyPr>
          <a:p>
            <a:pPr marL="221040" indent="0"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 can talk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221040" indent="0">
              <a:lnSpc>
                <a:spcPct val="200000"/>
              </a:lnSpc>
              <a:spcBef>
                <a:spcPts val="1250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/>
          <p:nvPr/>
        </p:nvSpPr>
        <p:spPr>
          <a:xfrm>
            <a:off x="324000" y="3168720"/>
            <a:ext cx="1328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zh-CN" sz="50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I can say and writ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60360" y="4176720"/>
            <a:ext cx="12817440" cy="69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zh-CN" sz="50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I can read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69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a.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单词的大写和小写形式改写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b.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在字谜中圈出这些单词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在横线上填入所缺的字母（扣空部分元  音或辅音字母）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7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2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3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8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3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8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三、单元目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3640" y="2268360"/>
            <a:ext cx="13681080" cy="81727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3563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5700" spc="-1" strike="noStrike">
                <a:solidFill>
                  <a:srgbClr val="000000"/>
                </a:solidFill>
                <a:latin typeface="Calibri"/>
              </a:rPr>
              <a:t>、过程与方法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通过语境理解日常用语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Goodbye.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等，并作出应答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通过老师所创设的情境，理解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he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和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he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所指不同，根据图片或实际情况用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He’s/ She’s … He’s/She’s my friend.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正确表达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通过老师的引导、示范，正确认读和书写字母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Hh, Ii, Jj, Kk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964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63640" y="2160720"/>
            <a:ext cx="12096720" cy="180000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第六课时：配套练习</a:t>
            </a:r>
            <a:r>
              <a:rPr b="0" lang="zh-CN" sz="6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略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2521080" y="2987640"/>
            <a:ext cx="882000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Thank you very much!</a:t>
            </a:r>
            <a:endParaRPr b="1" lang="en-US" sz="6000" spc="1" strike="noStrike">
              <a:ln w="9360">
                <a:solidFill>
                  <a:srgbClr val="4f81bd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三、单元目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0">
              <a:spcBef>
                <a:spcPts val="3124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Calibri"/>
              </a:rPr>
              <a:t>、情感、态度与价值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通过本单元学习，养成礼貌待人，主动与父母沟通、交流的良好品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通过本单元学习，培养一定的动手能力和小语段的输出能力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通过本单元学习，逐步养成良好的书写习惯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396720" y="431640"/>
            <a:ext cx="918072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四、重点难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8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Calibri"/>
              </a:rPr>
              <a:t>goodbye</a:t>
            </a:r>
            <a:r>
              <a:rPr b="1" lang="zh-CN" sz="4200" spc="-1" strike="noStrike">
                <a:solidFill>
                  <a:srgbClr val="0000ff"/>
                </a:solidFill>
                <a:latin typeface="Calibri"/>
              </a:rPr>
              <a:t>中的的爆破音读音。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8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Calibri"/>
              </a:rPr>
              <a:t>He’s/ She’s …</a:t>
            </a:r>
            <a:r>
              <a:rPr b="1" lang="zh-CN" sz="4200" spc="-1" strike="noStrike">
                <a:solidFill>
                  <a:srgbClr val="0000ff"/>
                </a:solidFill>
                <a:latin typeface="Calibri"/>
              </a:rPr>
              <a:t>的准确使用。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8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Calibri"/>
              </a:rPr>
              <a:t>friend</a:t>
            </a:r>
            <a:r>
              <a:rPr b="1" lang="zh-CN" sz="4200" spc="-1" strike="noStrike">
                <a:solidFill>
                  <a:srgbClr val="0000ff"/>
                </a:solidFill>
                <a:latin typeface="Calibri"/>
              </a:rPr>
              <a:t>和</a:t>
            </a:r>
            <a:r>
              <a:rPr b="1" lang="en-US" sz="4200" spc="-1" strike="noStrike">
                <a:solidFill>
                  <a:srgbClr val="0000ff"/>
                </a:solidFill>
                <a:latin typeface="Calibri"/>
              </a:rPr>
              <a:t>friends</a:t>
            </a:r>
            <a:r>
              <a:rPr b="1" lang="zh-CN" sz="4200" spc="-1" strike="noStrike">
                <a:solidFill>
                  <a:srgbClr val="0000ff"/>
                </a:solidFill>
                <a:latin typeface="Calibri"/>
              </a:rPr>
              <a:t>发音、意义区别。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8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ff"/>
                </a:solidFill>
                <a:latin typeface="Calibri"/>
              </a:rPr>
              <a:t>字母</a:t>
            </a:r>
            <a:r>
              <a:rPr b="1" lang="en-US" sz="4200" spc="-1" strike="noStrike">
                <a:solidFill>
                  <a:srgbClr val="0000ff"/>
                </a:solidFill>
                <a:latin typeface="Calibri"/>
              </a:rPr>
              <a:t>Hh, Ii, Jj, Kk</a:t>
            </a:r>
            <a:r>
              <a:rPr b="1" lang="zh-CN" sz="4200" spc="-1" strike="noStrike">
                <a:solidFill>
                  <a:srgbClr val="0000ff"/>
                </a:solidFill>
                <a:latin typeface="Calibri"/>
              </a:rPr>
              <a:t>的准确发音以及书写笔画与笔顺。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20360" y="431280"/>
            <a:ext cx="12960360" cy="180036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ctr">
            <a:noAutofit/>
          </a:bodyPr>
          <a:p>
            <a:pPr indent="0" algn="ctr"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AutoShape 8"/>
          <p:cNvSpPr/>
          <p:nvPr/>
        </p:nvSpPr>
        <p:spPr>
          <a:xfrm>
            <a:off x="396720" y="431640"/>
            <a:ext cx="8891640" cy="1332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五、课时划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28720" y="2664000"/>
            <a:ext cx="103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20360" y="2520720"/>
            <a:ext cx="12960360" cy="712764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72000" bIns="720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一课时：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Story tim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二课时：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Fun tim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三课时：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Cartoon time </a:t>
            </a: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＆ 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Song tim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四课时：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Letter tim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五课时：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Checkout time </a:t>
            </a: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＆ 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Ticking time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11700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复习与评价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Calibri"/>
              </a:rPr>
              <a:t>第六课时：配套练习册（检测与反馈）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3:31:30Z</dcterms:created>
  <dc:creator>yolanda</dc:creator>
  <dc:description/>
  <dc:language>en-US</dc:language>
  <cp:lastModifiedBy>USER</cp:lastModifiedBy>
  <dcterms:modified xsi:type="dcterms:W3CDTF">2012-08-30T08:31:40Z</dcterms:modified>
  <cp:revision>1534</cp:revision>
  <dc:subject/>
  <dc:title>幻灯片 1</dc:title>
</cp:coreProperties>
</file>