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FC5A-7734-4F39-984D-FAE4F72209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EE4B-5191-43EA-A5E0-23903CEF1E7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综合语言运用能力的分级描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056-C997-4B78-8EC2-7EE61474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9AF-6E16-425E-9C10-149F608F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015-1454-4143-914F-C24D0EE0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FCC-F56B-489F-A744-C92B995F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BB4-BC3C-40D0-8670-64654180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4A1-345F-48D2-A2F2-E4F98A56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BAB-BE65-42AC-AE1F-4F17A58A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79C-D2EA-457F-8941-1F00E203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1C5-9ADE-4EE1-A311-E4F09FD8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6B8-D37F-4BFD-A896-A8AEA74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4F6-097D-4E4B-B13A-060F55B0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062-881B-4D6D-9117-2491960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88B0-8BBE-4D74-A14D-F59B110C7E5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如何进行义务教育小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《英语》中的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project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教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新北区教研室薛国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教师为学生在完成语言项目过程中信息收集提供语言支持（完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学生具体分工收集与本组任务相关的信息，分类筛选，通过组内交流策划，经过多次讨论、润色后定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Preparing and Producing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学生收集信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教师为学生编辑与分析信息提供语言支持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学生编辑和分析信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学生呈现最终成果（成果呈现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最后是课堂上的展示和评比，这个过程就是所谓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resent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教师指导学生选择步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中的一个场景，编创对话，进行两人或多人小组活动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430280"/>
            <a:ext cx="9144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主动学习，借鉴初中、高中的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Project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教学经验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Planning: 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在老师指导下确定课题（构想）；组内分工（验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Preparing: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查找资料、收集信息、调查、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Producing: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拿出初稿，对其进行加工（完善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Presenting: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展示各个小组的成果（成果展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33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建议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在语言项目学习中培养学生的语用能力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有利于提高自主、合作、探究等社会实践能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有利于强化语言学习动机，增强其语言实践的自信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有利于提高学生的综合语言运用能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有利于教师在教学中成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36360" y="0"/>
            <a:ext cx="9180360" cy="6885000"/>
            <a:chOff x="-36360" y="0"/>
            <a:chExt cx="9180360" cy="6885000"/>
          </a:xfrm>
        </p:grpSpPr>
        <p:pic>
          <p:nvPicPr>
            <p:cNvPr id="100" name="Picture 5" descr="C:\Users\Administrator\Desktop\未标题-2.jpg"/>
            <p:cNvPicPr/>
            <p:nvPr/>
          </p:nvPicPr>
          <p:blipFill>
            <a:blip r:embed="rId1"/>
            <a:srcRect l="0" t="51648" r="0" b="0"/>
            <a:stretch/>
          </p:blipFill>
          <p:spPr>
            <a:xfrm>
              <a:off x="-3636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"/>
            <p:cNvGrpSpPr/>
            <p:nvPr/>
          </p:nvGrpSpPr>
          <p:grpSpPr>
            <a:xfrm>
              <a:off x="-36360" y="0"/>
              <a:ext cx="9180360" cy="647640"/>
              <a:chOff x="-36360" y="0"/>
              <a:chExt cx="9180360" cy="647640"/>
            </a:xfrm>
          </p:grpSpPr>
          <p:pic>
            <p:nvPicPr>
              <p:cNvPr id="102" name="Picture 2" descr="C:\Users\Administrator\Desktop\下册.jpg"/>
              <p:cNvPicPr/>
              <p:nvPr/>
            </p:nvPicPr>
            <p:blipFill>
              <a:blip r:embed="rId2"/>
              <a:srcRect l="63388" t="1068" r="0" b="89476"/>
              <a:stretch/>
            </p:blipFill>
            <p:spPr>
              <a:xfrm>
                <a:off x="-36360" y="0"/>
                <a:ext cx="918036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34920" y="0"/>
                <a:ext cx="763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Calibri"/>
                  </a:rPr>
                  <a:t>三年级上册  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Project 2  A puppet show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591840" y="712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教学活动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5840" y="158436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4182"/>
                </a:solidFill>
                <a:latin typeface="Arial Black"/>
              </a:rPr>
              <a:t>Colour S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960" y="3168720"/>
            <a:ext cx="18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Black"/>
              </a:rPr>
              <a:t>A Gues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Black"/>
              </a:rPr>
              <a:t>G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482436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Puppet 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69360" y="1514520"/>
            <a:ext cx="43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听唱歌曲            歌曲创编             对话创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激发学习的兴趣，举一反三地运用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全面系统地复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1773360"/>
            <a:ext cx="720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1773360"/>
            <a:ext cx="720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20280" y="31687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快速反应              猜谜游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明确复习范围，迅速搜知识储备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高效地完成学习活动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3429000"/>
            <a:ext cx="720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6880" y="4824360"/>
            <a:ext cx="46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充分示范         自主归纳总结          自主呈现表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明确每一个活动步骤及实施要点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提高学习的自主性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720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5084640"/>
            <a:ext cx="720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36360" y="0"/>
            <a:ext cx="9180360" cy="6885000"/>
            <a:chOff x="-36360" y="0"/>
            <a:chExt cx="9180360" cy="6885000"/>
          </a:xfrm>
        </p:grpSpPr>
        <p:pic>
          <p:nvPicPr>
            <p:cNvPr id="119" name="Picture 5" descr="C:\Users\Administrator\Desktop\未标题-2.jpg"/>
            <p:cNvPicPr/>
            <p:nvPr/>
          </p:nvPicPr>
          <p:blipFill>
            <a:blip r:embed="rId1"/>
            <a:srcRect l="0" t="51648" r="0" b="0"/>
            <a:stretch/>
          </p:blipFill>
          <p:spPr>
            <a:xfrm>
              <a:off x="-3636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-36360" y="0"/>
              <a:ext cx="9180360" cy="647640"/>
              <a:chOff x="-36360" y="0"/>
              <a:chExt cx="9180360" cy="647640"/>
            </a:xfrm>
          </p:grpSpPr>
          <p:pic>
            <p:nvPicPr>
              <p:cNvPr id="121" name="Picture 2" descr="C:\Users\Administrator\Desktop\下册.jpg"/>
              <p:cNvPicPr/>
              <p:nvPr/>
            </p:nvPicPr>
            <p:blipFill>
              <a:blip r:embed="rId2"/>
              <a:srcRect l="63388" t="1068" r="0" b="89476"/>
              <a:stretch/>
            </p:blipFill>
            <p:spPr>
              <a:xfrm>
                <a:off x="-36360" y="0"/>
                <a:ext cx="918036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34920" y="0"/>
                <a:ext cx="763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Calibri"/>
                  </a:rPr>
                  <a:t>三年级上册  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Project 2  A puppet show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395280" y="1916280"/>
            <a:ext cx="1081080" cy="2088720"/>
            <a:chOff x="395280" y="1916280"/>
            <a:chExt cx="1081080" cy="208872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395280" y="1916280"/>
              <a:ext cx="108108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06480" y="3280320"/>
              <a:ext cx="46800" cy="7246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506320" y="22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课内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2684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课外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92360" y="2565000"/>
            <a:ext cx="647640" cy="360360"/>
          </a:xfrm>
          <a:prstGeom prst="line">
            <a:avLst/>
          </a:prstGeom>
          <a:ln w="47520">
            <a:solidFill>
              <a:srgbClr val="0041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3430440"/>
            <a:ext cx="647640" cy="287640"/>
          </a:xfrm>
          <a:prstGeom prst="line">
            <a:avLst/>
          </a:prstGeom>
          <a:ln w="47520">
            <a:solidFill>
              <a:srgbClr val="0041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88800" y="22050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结合相关信息描述自己的木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结合相应场景进行木偶剧表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5960" y="3433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制作木偶（绘图、上色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5600" y="4076640"/>
            <a:ext cx="37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设计目的：一是为了节省时间，提高学习效率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二是初步引导学生们形成预习意识 ，提高学生综合学习能力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480" y="5013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4182"/>
                </a:solidFill>
                <a:latin typeface="Calibri"/>
              </a:rPr>
              <a:t>场景创设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87120" y="5038560"/>
            <a:ext cx="37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增设场景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t a clothes 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440" y="56088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设计目的：充分复习课内知识的基础上又给了学生更多学习提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的空间，让他们更加灵活地进行语言交际与运用。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1312560"/>
            <a:ext cx="871380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roject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的操作流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综合复习，做好实践活动的语言准备（构想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明确项目要求（计划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分步完成各项活动（完善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展示交流活动成果（展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31880" y="731880"/>
            <a:ext cx="7704000" cy="19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marL="290520" indent="-290520">
              <a:lnSpc>
                <a:spcPct val="12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一 活动任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25000"/>
              </a:lnSpc>
              <a:buClr>
                <a:srgbClr val="ffffff"/>
              </a:buClr>
              <a:buFont typeface="Arial"/>
              <a:buAutoNum type="arabicPlain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制作一个木偶并进行木偶剧表演，旨在综合运用本册书后四个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2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元所学的词汇、日常用语和句型等语言知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25000"/>
              </a:lnSpc>
              <a:buClr>
                <a:srgbClr val="ffffff"/>
              </a:buClr>
              <a:buFont typeface="Arial"/>
              <a:buAutoNum type="arabicPlain" startAt="2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根据所制作木偶穿戴的服装和具体场景，运用后四个单元的相关语言知识，开展游戏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2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建议在一课时内完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8120" y="3336840"/>
            <a:ext cx="770580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二 活动准备（构想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复习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roject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有关的词汇、日常用语和句型等语言知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准备制作木偶所需的材料：物品图或卡片、卡纸、直尺、彩笔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胶棒、剪刀、橡皮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46000" y="388800"/>
            <a:ext cx="724716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单元至第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单元所学的语言知识表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日常用语与句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语言知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ook at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It’s nice. /How nice! / It’s great! / Grea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Would you like ...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Yes, pl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No, thank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Happy New Yea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复习活动参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教师要求个别学生站起来介绍自己的穿着，然后老师给予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美，也可以反之操作。教师也可以让学生以两人活动的形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复习同样的语言知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用同样的活动复习其他日常用语和句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利用步骤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的四个场景让学生看图说话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46000" y="571680"/>
            <a:ext cx="724716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词汇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语言知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jacket, T-shir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skirt, cap, look at, nice, brown,   blue, gree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black, orange, red, white, yellow, egg, picnic, ice cream, pi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hot dog, swee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复习活动参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教师可以用单词卡片让学生认读单词，复习词汇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120" y="3497400"/>
            <a:ext cx="77500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三 活动步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制作（计划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指导学生在教科书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page 6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画一个木偶图，涂上颜色并剪下来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把它贴在小棍上。此部分所需的时间比较长，教师可以将其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为家庭作业提前布置给学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09440" y="228600"/>
            <a:ext cx="6772320" cy="66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9160" bIns="29160" anchor="t">
            <a:spAutoFit/>
          </a:bodyPr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完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指导学生独立完成步骤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指导学生参照步骤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，展示自己的木偶并表演。教师可以安排两人活动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小组活动完成此步骤。然后要求个别学生向全班同学展示木偶并表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展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指导学生选择步骤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的一个场景，编创对话，进行两人活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根据自己所编对话，选用在对话中需要用到的物品，如新年礼物卡片或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食物卡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角色扮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t 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: Look at my h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: It’s n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: Thank yo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In a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: Good morn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: Good morn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On a pic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: Would you like an app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: Yes, pl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t a New Year’s pa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: Happy New Year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: Happy New Yea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: This is for yo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: Thank you. What’s this? Oh, it’s a toy car. How nic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8"/>
          <p:cNvSpPr/>
          <p:nvPr/>
        </p:nvSpPr>
        <p:spPr>
          <a:xfrm>
            <a:off x="252360" y="479520"/>
            <a:ext cx="5211720" cy="823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9b261"/>
              </a:gs>
              <a:gs pos="50000">
                <a:srgbClr val="f7e3c5"/>
              </a:gs>
              <a:gs pos="100000">
                <a:srgbClr val="e9b261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960" rIns="57960" tIns="29160" bIns="29160" anchor="ctr">
            <a:noAutofit/>
          </a:bodyPr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2300" spc="-1" strike="noStrike">
                <a:solidFill>
                  <a:srgbClr val="ff0000"/>
                </a:solidFill>
                <a:latin typeface="Arial"/>
                <a:ea typeface="黑体"/>
              </a:rPr>
              <a:t>二、小学</a:t>
            </a:r>
            <a:r>
              <a:rPr b="1" lang="zh-CN" sz="2300" spc="-1" strike="noStrike">
                <a:solidFill>
                  <a:srgbClr val="ff0000"/>
                </a:solidFill>
                <a:latin typeface="黑体"/>
                <a:ea typeface="黑体"/>
              </a:rPr>
              <a:t>《英语》修订基本情况  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47880" y="1668600"/>
            <a:ext cx="115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9160" bIns="29160" anchor="t">
            <a:spAutoFit/>
          </a:bodyPr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560" y="1622520"/>
            <a:ext cx="43117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材体例结构的变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9144000" cy="400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55720" y="789120"/>
            <a:ext cx="746424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评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收集并展示学生制作好的木偶供观摩。为调动学生的积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性，教师可以让全班同学根据木偶的设计和制作水平及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作者在游戏中的表现，参与投票，选出一定数量学生的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秀作品，并予以表扬、颁发奖品或在教室内展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特点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27664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981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首先，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Projec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板块给了教师和学生充分的发挥空间，改变了教师作为知识的传授者和灌输者的角色，丰富了学生学习的手段和方式，他们可以通过网络、多媒体、各种形式的课件制作、学生间的讨论、师生间的咨询和交流等等，再结合自己的社会生活实践，去主动获取知识；它充分地利用了学生的求知欲和表现欲，大大提高了学生的学习兴趣；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将学习和实践充分地结合起来，让学生在用中学，在学中用，又在一定程度上加强了学生对所学知识的稳固性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228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特点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27664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981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同时，通过课外个人及集体搜集和加工所需材料，增长了学生之间的团队协作能力和社会实践能力，提高了学生学习英语的兴趣和信心；课外不同形式的沟通交流促进了师生间的了解，有助于建立和谐的师生关系，从而提高教学效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2733480"/>
            <a:ext cx="871380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Project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部分的教学设计，对教师解读教材，整合教材、活化教材提出了更高的要求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（既要读懂项目的要求，更应看清、看透项目背后的内容）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减少控制，更突出学生的主动学习，如：几个单元的语言复习；木偶剧场景的再现等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Project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不一定一课时之内完成，可以课内外相结合，还可以分不同课时完成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Project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也不能完全替代单元的综合复习，教师可以在完成这个语言实践项目的基础上，进一步组织学生进行几个单元的综合复习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33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教学建议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4040" y="824040"/>
            <a:ext cx="754200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修订前，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津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学英语》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A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至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B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共有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0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单元，其中新授单元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4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，复习单元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6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修订后，小学《英语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年级至六年级共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单元和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roject (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综合语言实践项目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修订后，教材中每四个单元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级下册每三个单元）后增加一个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roject (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综合语言实践项目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替代现行教材中的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Review and check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复习单元），目的是通过形式多样的综合语言实践活动，引导学生思考、调查、讨论、交流和合作，综合运用前几个单元所学的语言知识和语言技能，完成学习任务，展现自己的学习成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1800" y="777960"/>
            <a:ext cx="117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9160" bIns="29160" anchor="t">
            <a:spAutoFit/>
          </a:bodyPr>
          <a:p>
            <a:pPr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9576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52760" y="0"/>
            <a:ext cx="479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52480" y="990720"/>
            <a:ext cx="52246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它是一个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综合语言实践项目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它替代原有教材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Review and check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（复习单元），目的是通过形式多样的综合语言实践活动，引导学生思考、调查、讨论、交流和合作，综合运用前几个单元所学的语言知识和语言技能，完成学习任务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发展学生初步的语言运用能力，并通过展现自己的成果，体验语言学习的成就感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也是一个综合板块，其教学内容是通过介绍等活动对三年级上学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-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-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元词汇、重点语型进行综合复习，并对日常交际用语进行灵活运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86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Project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教学内容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36360" y="0"/>
            <a:ext cx="9180360" cy="6885000"/>
            <a:chOff x="-36360" y="0"/>
            <a:chExt cx="9180360" cy="6885000"/>
          </a:xfrm>
        </p:grpSpPr>
        <p:pic>
          <p:nvPicPr>
            <p:cNvPr id="66" name="Picture 5" descr="C:\Users\Administrator\Desktop\未标题-2.jpg"/>
            <p:cNvPicPr/>
            <p:nvPr/>
          </p:nvPicPr>
          <p:blipFill>
            <a:blip r:embed="rId1"/>
            <a:srcRect l="0" t="51648" r="0" b="0"/>
            <a:stretch/>
          </p:blipFill>
          <p:spPr>
            <a:xfrm>
              <a:off x="-3636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-36360" y="0"/>
              <a:ext cx="9180360" cy="647640"/>
              <a:chOff x="-36360" y="0"/>
              <a:chExt cx="9180360" cy="647640"/>
            </a:xfrm>
          </p:grpSpPr>
          <p:pic>
            <p:nvPicPr>
              <p:cNvPr id="68" name="Picture 2" descr="C:\Users\Administrator\Desktop\下册.jpg"/>
              <p:cNvPicPr/>
              <p:nvPr/>
            </p:nvPicPr>
            <p:blipFill>
              <a:blip r:embed="rId2"/>
              <a:srcRect l="63388" t="1068" r="0" b="89476"/>
              <a:stretch/>
            </p:blipFill>
            <p:spPr>
              <a:xfrm>
                <a:off x="-36360" y="0"/>
                <a:ext cx="918036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34920" y="0"/>
                <a:ext cx="763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Calibri"/>
                  </a:rPr>
                  <a:t>三年级上册  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Project 1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教学内容重点分析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-27000" y="62064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92160" y="685800"/>
            <a:ext cx="923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教学目标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听懂、会说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-4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元的打招呼用语、自我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朋友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家庭介绍的交际类用语词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听懂、会读、会说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-4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元日常交际用语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Hello/ Hi, Miss Li/ Mike; Good morning/ afternoon/ evening, class. I’m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Are you Su Hai/ Yang Ling/ Wang Bing? Yes, I am. / No, I’m not. I’m Liu Ta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Goodbye, class /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iss Li/ Mike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. She/He’s Yang Ling/ Mike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he/He’s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is my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This is my family. This is my father/ mother/ brother/ sister/ grandpa/ grandma. This is me.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用学过的语句进行简单的自我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朋友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家庭介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初步运用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-4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元词汇和交际用语在适当的场合介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教学重点：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能在老师的帮助下有序归纳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-4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元重点词汇与句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教学难点：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正确地理解并运用日常交际用语，在教师的引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和帮助下进行介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36360" y="0"/>
            <a:ext cx="9180360" cy="6885000"/>
            <a:chOff x="-36360" y="0"/>
            <a:chExt cx="9180360" cy="6885000"/>
          </a:xfrm>
        </p:grpSpPr>
        <p:pic>
          <p:nvPicPr>
            <p:cNvPr id="75" name="Picture 5" descr="C:\Users\Administrator\Desktop\未标题-2.jpg"/>
            <p:cNvPicPr/>
            <p:nvPr/>
          </p:nvPicPr>
          <p:blipFill>
            <a:blip r:embed="rId1"/>
            <a:srcRect l="0" t="51648" r="0" b="0"/>
            <a:stretch/>
          </p:blipFill>
          <p:spPr>
            <a:xfrm>
              <a:off x="-3636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"/>
            <p:cNvGrpSpPr/>
            <p:nvPr/>
          </p:nvGrpSpPr>
          <p:grpSpPr>
            <a:xfrm>
              <a:off x="-36360" y="0"/>
              <a:ext cx="9180360" cy="647640"/>
              <a:chOff x="-36360" y="0"/>
              <a:chExt cx="9180360" cy="647640"/>
            </a:xfrm>
          </p:grpSpPr>
          <p:pic>
            <p:nvPicPr>
              <p:cNvPr id="77" name="Picture 2" descr="C:\Users\Administrator\Desktop\下册.jpg"/>
              <p:cNvPicPr/>
              <p:nvPr/>
            </p:nvPicPr>
            <p:blipFill>
              <a:blip r:embed="rId2"/>
              <a:srcRect l="63388" t="1068" r="0" b="89476"/>
              <a:stretch/>
            </p:blipFill>
            <p:spPr>
              <a:xfrm>
                <a:off x="-36360" y="0"/>
                <a:ext cx="918036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34920" y="0"/>
                <a:ext cx="763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Calibri"/>
                  </a:rPr>
                  <a:t>三年级上册  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Project 2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教学内容重点分析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0" y="76212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教学目标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听懂、会说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5-8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元的服装类、色彩类、食物类及日常用品类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词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听懂、会读、会说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5-8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元日常交际用语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Look at my… It’s ni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How nice! It’s great. Look at me! Great! What colour is my …? It’s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Would you like a …? Yes, please. No, thank you. What’s this? It’s a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Happy New Year!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对自制的木偶用相应的语句进行简单介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初步运用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5-8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元词汇和日常交际用语进行对话的创编和木偶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的表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教学重点：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能在老师的帮助下有序归纳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5-8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单元重点词汇与句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教学难点：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正确地理解并运用日常交际用语内容，在教师的引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和帮助下尝试对话创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36360" y="0"/>
            <a:ext cx="9180360" cy="6885000"/>
            <a:chOff x="-36360" y="0"/>
            <a:chExt cx="9180360" cy="6885000"/>
          </a:xfrm>
        </p:grpSpPr>
        <p:pic>
          <p:nvPicPr>
            <p:cNvPr id="83" name="Picture 5" descr="C:\Users\Administrator\Desktop\未标题-2.jpg"/>
            <p:cNvPicPr/>
            <p:nvPr/>
          </p:nvPicPr>
          <p:blipFill>
            <a:blip r:embed="rId1"/>
            <a:srcRect l="0" t="51648" r="0" b="0"/>
            <a:stretch/>
          </p:blipFill>
          <p:spPr>
            <a:xfrm>
              <a:off x="-36360" y="0"/>
              <a:ext cx="9180360" cy="688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"/>
            <p:cNvGrpSpPr/>
            <p:nvPr/>
          </p:nvGrpSpPr>
          <p:grpSpPr>
            <a:xfrm>
              <a:off x="-36360" y="0"/>
              <a:ext cx="9180360" cy="647640"/>
              <a:chOff x="-36360" y="0"/>
              <a:chExt cx="9180360" cy="647640"/>
            </a:xfrm>
          </p:grpSpPr>
          <p:pic>
            <p:nvPicPr>
              <p:cNvPr id="85" name="Picture 2" descr="C:\Users\Administrator\Desktop\下册.jpg"/>
              <p:cNvPicPr/>
              <p:nvPr/>
            </p:nvPicPr>
            <p:blipFill>
              <a:blip r:embed="rId2"/>
              <a:srcRect l="63388" t="1068" r="0" b="89476"/>
              <a:stretch/>
            </p:blipFill>
            <p:spPr>
              <a:xfrm>
                <a:off x="-36360" y="0"/>
                <a:ext cx="918036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4920" y="0"/>
                <a:ext cx="763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Calibri"/>
                  </a:rPr>
                  <a:t>三年级上册  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Project 1  My family and friend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591840" y="712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教学活动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00200"/>
            <a:ext cx="8305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语言项目学习的操作过程与方法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师生共同协商语言项目主题（构想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在项目主题确定之前，在老师的帮助下让学生结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-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元所学有关知识，有序归纳其中的相关词汇，并通过小组合作梳理出其中的日常交际用语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在构想中师生也应共同确定最终成果及成果的具体表现形式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师生共同制定语言项目计划（验证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语言项目学习一般由小组合作共同完成，在项目主题确定后，就可进行组内分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(Planning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在老师的指导下，接下来就是由各组组长对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rojec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所要展示的任务进行具体分工，对语言学习项目内容进行准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31T00:31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