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</p:sldIdLst>
  <p:sldSz cx="14403388" cy="10799763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0F57-5F25-4743-89A5-7B588B411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624384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70E3-E12D-4B56-8303-1072DA61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80198-E9B0-4882-A190-3769746F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1AC10-F2D1-49A4-89AE-FDA03A31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720360" y="431280"/>
            <a:ext cx="12960360" cy="83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E3EBF-6BD5-4205-9FB8-B15AA81C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47DE6-D5D3-4208-8C1E-15745ED1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736128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515E1-05F1-4969-8012-8955CD1C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8B5DE-15E8-4991-BEDA-071F2088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720360" y="624384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70E2F-23AF-4CA0-94F1-B49AB8E8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736128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3FFBB-2115-4AE4-9053-467CADA90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0264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48456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72036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510264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948456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B372B-9696-43B4-89D8-91C028EB6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36128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662B-9791-4862-9CD0-71EEEC899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0264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48456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0264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48456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2842-F4A1-49E4-AD6E-64D197B02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5A77-F20A-4192-A455-60DC73734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20360" y="2520720"/>
            <a:ext cx="12960360" cy="71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4628-401B-4E43-AFF6-54C2FC2C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1296036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A8D5-AC1F-47F2-822D-81CF68BC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E3E5-7DC3-4014-B96B-4B4A5EAF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9C4D-3B31-4BD8-B772-931893F3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20360" y="431280"/>
            <a:ext cx="12960360" cy="83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EB64-7CD7-4699-917D-5668C721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F5206-FE75-4706-B5A0-B7600214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2520720"/>
            <a:ext cx="12960360" cy="71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11A0-606D-4994-98F9-CDBA0218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36128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8283-1652-47D6-9A1D-C5B3D08A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F53C-4C53-4163-A924-25A760EE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20360" y="624384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8F85-8570-48B6-8C0A-6057C9D9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36128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EE42-73B8-44B8-9C2D-AAB8026BE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0264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48456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2036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510264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948456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6367-ED05-4A8C-974C-5F4CAF531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20360" y="2520720"/>
            <a:ext cx="12960360" cy="71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1296036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1296036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DFE1-7C6E-4E17-A344-9E7D5D27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20360" y="431280"/>
            <a:ext cx="12960360" cy="83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36128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20360" y="624384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736128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0264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456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2036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510264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948456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720360" y="2520720"/>
            <a:ext cx="12960360" cy="71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1296036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177D-CA6F-49BF-99C8-DC47E39F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720360" y="431280"/>
            <a:ext cx="12960360" cy="83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36128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720360" y="624384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736128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0264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48456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72036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510264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948456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921B-623D-456C-8BDE-A870423C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720360" y="2520720"/>
            <a:ext cx="12960360" cy="71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1296036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720360" y="431280"/>
            <a:ext cx="12960360" cy="83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36128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20360" y="624384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736128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360" y="431280"/>
            <a:ext cx="12960360" cy="83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A73C-CE7C-4D9E-8F8A-2FBCEAE3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0264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48456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72036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510264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948456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720360" y="2520720"/>
            <a:ext cx="12960360" cy="71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1296036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720360" y="431280"/>
            <a:ext cx="12960360" cy="83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736128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0241-4909-422A-A831-321756F6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720360" y="624384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736128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0264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948456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72036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510264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948456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720360" y="2520720"/>
            <a:ext cx="12960360" cy="71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1296036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720360" y="431280"/>
            <a:ext cx="12960360" cy="83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36128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A3D0-1DF4-44F5-AA3C-EEEF058F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36128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720360" y="624384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36128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0264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48456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72036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10264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948456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E934B-68BA-4721-8825-6AB40462F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720360" y="2520720"/>
            <a:ext cx="12960360" cy="71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55766-EE74-4097-84A1-9E43D73C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1296036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50FDD-AA04-44EE-A739-6FF12907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8CA78-119F-41E9-AB7E-D38C1B2B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57B94-0A4B-4E37-8957-11F6BE80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B2ED-D6BC-4967-96ED-6A6CC1E5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720360" y="431280"/>
            <a:ext cx="12960360" cy="83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AEFEF-2B60-4028-98EC-DC4C4A48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0C60E-2AAF-45BE-8BDE-278B1CC7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36128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C1668-03AE-41F1-9D5E-54D30413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8AADC-DB77-4DEB-A210-63A0A9D0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720360" y="624384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910A5-A431-4486-B71F-14C28943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736128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49D9A-EBF5-485A-9AE6-0490CBCB2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0264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48456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72036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510264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948456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76625-1622-4E88-A46E-FA6FC5B76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CC52D-89D4-405B-872B-54CA5FAAA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720360" y="2520720"/>
            <a:ext cx="12960360" cy="71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93BAB-5338-4B3B-8571-C178A930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1296036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447E3-35A8-4DAF-A1F4-EE4B4CF7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080" y="68040"/>
            <a:ext cx="8740440" cy="1191960"/>
          </a:xfrm>
          <a:prstGeom prst="rect">
            <a:avLst/>
          </a:prstGeom>
          <a:noFill/>
          <a:ln w="0">
            <a:noFill/>
          </a:ln>
        </p:spPr>
        <p:txBody>
          <a:bodyPr lIns="117360" rIns="117360" tIns="58680" bIns="58680" anchor="ctr">
            <a:noAutofit/>
          </a:bodyPr>
          <a:p>
            <a:pPr indent="0">
              <a:buNone/>
              <a:tabLst>
                <a:tab algn="l" pos="0"/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360" y="1639800"/>
            <a:ext cx="12960360" cy="8175600"/>
          </a:xfrm>
          <a:prstGeom prst="rect">
            <a:avLst/>
          </a:prstGeom>
          <a:noFill/>
          <a:ln w="0">
            <a:noFill/>
          </a:ln>
        </p:spPr>
        <p:txBody>
          <a:bodyPr lIns="117360" rIns="117360" tIns="58680" bIns="58680" anchor="t">
            <a:normAutofit/>
          </a:bodyPr>
          <a:p>
            <a:pPr marL="438120" indent="-43812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1" marL="950760" indent="-36180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2" marL="1465200" indent="-29052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3" marL="2050920" indent="-29052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4" marL="2638440" indent="-29052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5" marL="2638440" indent="-290520">
              <a:spcBef>
                <a:spcPts val="1026"/>
              </a:spcBef>
              <a:buClr>
                <a:srgbClr val="ffffff"/>
              </a:buClr>
              <a:buFont typeface="Arial"/>
              <a:buChar char="»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6" marL="2638440" indent="-290520">
              <a:spcBef>
                <a:spcPts val="1026"/>
              </a:spcBef>
              <a:buClr>
                <a:srgbClr val="ffffff"/>
              </a:buClr>
              <a:buFont typeface="Arial"/>
              <a:buChar char="»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0360" y="10010880"/>
            <a:ext cx="3359160" cy="576000"/>
          </a:xfrm>
          <a:prstGeom prst="rect">
            <a:avLst/>
          </a:prstGeom>
          <a:noFill/>
          <a:ln w="0">
            <a:noFill/>
          </a:ln>
        </p:spPr>
        <p:txBody>
          <a:bodyPr lIns="117360" rIns="117360" tIns="58680" bIns="586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Franklin Gothic Book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920840" y="10010880"/>
            <a:ext cx="4559400" cy="576000"/>
          </a:xfrm>
          <a:prstGeom prst="rect">
            <a:avLst/>
          </a:prstGeom>
          <a:noFill/>
          <a:ln w="0">
            <a:noFill/>
          </a:ln>
        </p:spPr>
        <p:txBody>
          <a:bodyPr lIns="117360" rIns="117360" tIns="58680" bIns="58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321560" y="10010880"/>
            <a:ext cx="3359160" cy="576000"/>
          </a:xfrm>
          <a:prstGeom prst="rect">
            <a:avLst/>
          </a:prstGeom>
          <a:noFill/>
          <a:ln w="0">
            <a:noFill/>
          </a:ln>
        </p:spPr>
        <p:txBody>
          <a:bodyPr lIns="117360" rIns="117360" tIns="58680" bIns="58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Franklin Gothic Book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6E4A-B10D-4FAB-BD0F-03431EE5340F}" type="slidenum">
              <a:rPr b="0" lang="zh-CN" sz="16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Users\ejoy\Desktop\新建文件夹\图片3.emf"/>
          <p:cNvPicPr/>
          <p:nvPr/>
        </p:nvPicPr>
        <p:blipFill>
          <a:blip r:embed="rId3"/>
          <a:stretch/>
        </p:blipFill>
        <p:spPr>
          <a:xfrm>
            <a:off x="3240" y="6480"/>
            <a:ext cx="14398560" cy="1079820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28000"/>
              </a:srgbClr>
            </a:outerShdw>
          </a:effectLst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03080" y="68040"/>
            <a:ext cx="8740440" cy="1191960"/>
          </a:xfrm>
          <a:prstGeom prst="rect">
            <a:avLst/>
          </a:prstGeom>
          <a:noFill/>
          <a:ln w="0">
            <a:noFill/>
          </a:ln>
        </p:spPr>
        <p:txBody>
          <a:bodyPr lIns="117360" rIns="117360" tIns="58680" bIns="58680" anchor="ctr">
            <a:noAutofit/>
          </a:bodyPr>
          <a:p>
            <a:pPr indent="0">
              <a:buNone/>
              <a:tabLst>
                <a:tab algn="l" pos="0"/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20360" y="1639800"/>
            <a:ext cx="12960360" cy="8175600"/>
          </a:xfrm>
          <a:prstGeom prst="rect">
            <a:avLst/>
          </a:prstGeom>
          <a:noFill/>
          <a:ln w="0">
            <a:noFill/>
          </a:ln>
        </p:spPr>
        <p:txBody>
          <a:bodyPr lIns="117360" rIns="117360" tIns="58680" bIns="58680" anchor="t">
            <a:normAutofit/>
          </a:bodyPr>
          <a:p>
            <a:pPr marL="438120" indent="-43812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1" marL="950760" indent="-36180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2" marL="1465200" indent="-29052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3" marL="2050920" indent="-29052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4" marL="2638440" indent="-29052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5" marL="2638440" indent="-290520">
              <a:spcBef>
                <a:spcPts val="1026"/>
              </a:spcBef>
              <a:buClr>
                <a:srgbClr val="ffffff"/>
              </a:buClr>
              <a:buFont typeface="Arial"/>
              <a:buChar char="»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6" marL="2638440" indent="-290520">
              <a:spcBef>
                <a:spcPts val="1026"/>
              </a:spcBef>
              <a:buClr>
                <a:srgbClr val="ffffff"/>
              </a:buClr>
              <a:buFont typeface="Arial"/>
              <a:buChar char="»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720360" y="10010880"/>
            <a:ext cx="3359160" cy="576000"/>
          </a:xfrm>
          <a:prstGeom prst="rect">
            <a:avLst/>
          </a:prstGeom>
          <a:noFill/>
          <a:ln w="0">
            <a:noFill/>
          </a:ln>
        </p:spPr>
        <p:txBody>
          <a:bodyPr lIns="117360" rIns="117360" tIns="58680" bIns="586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Franklin Gothic Book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920840" y="10010880"/>
            <a:ext cx="4559400" cy="576000"/>
          </a:xfrm>
          <a:prstGeom prst="rect">
            <a:avLst/>
          </a:prstGeom>
          <a:noFill/>
          <a:ln w="0">
            <a:noFill/>
          </a:ln>
        </p:spPr>
        <p:txBody>
          <a:bodyPr lIns="117360" rIns="117360" tIns="58680" bIns="58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10321560" y="10010880"/>
            <a:ext cx="3359160" cy="576000"/>
          </a:xfrm>
          <a:prstGeom prst="rect">
            <a:avLst/>
          </a:prstGeom>
          <a:noFill/>
          <a:ln w="0">
            <a:noFill/>
          </a:ln>
        </p:spPr>
        <p:txBody>
          <a:bodyPr lIns="117360" rIns="117360" tIns="58680" bIns="58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Franklin Gothic Book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6A34-075E-4A88-9EBE-AEF9A4CE15F0}" type="slidenum">
              <a:rPr b="0" lang="zh-CN" sz="16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03080" y="68040"/>
            <a:ext cx="8740440" cy="1191960"/>
          </a:xfrm>
          <a:prstGeom prst="rect">
            <a:avLst/>
          </a:prstGeom>
          <a:noFill/>
          <a:ln w="0">
            <a:noFill/>
          </a:ln>
        </p:spPr>
        <p:txBody>
          <a:bodyPr lIns="117360" rIns="117360" tIns="58680" bIns="58680" anchor="ctr">
            <a:noAutofit/>
          </a:bodyPr>
          <a:p>
            <a:pPr indent="0">
              <a:buNone/>
              <a:tabLst>
                <a:tab algn="l" pos="0"/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20360" y="1639800"/>
            <a:ext cx="12960360" cy="8175600"/>
          </a:xfrm>
          <a:prstGeom prst="rect">
            <a:avLst/>
          </a:prstGeom>
          <a:noFill/>
          <a:ln w="0">
            <a:noFill/>
          </a:ln>
        </p:spPr>
        <p:txBody>
          <a:bodyPr lIns="117360" rIns="117360" tIns="58680" bIns="58680" anchor="t">
            <a:normAutofit/>
          </a:bodyPr>
          <a:p>
            <a:pPr marL="438120" indent="-43812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1" marL="950760" indent="-36180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2" marL="1465200" indent="-29052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3" marL="2050920" indent="-29052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4" marL="2638440" indent="-29052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5" marL="2638440" indent="-290520">
              <a:spcBef>
                <a:spcPts val="1026"/>
              </a:spcBef>
              <a:buClr>
                <a:srgbClr val="ffffff"/>
              </a:buClr>
              <a:buFont typeface="Arial"/>
              <a:buChar char="»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6" marL="2638440" indent="-290520">
              <a:spcBef>
                <a:spcPts val="1026"/>
              </a:spcBef>
              <a:buClr>
                <a:srgbClr val="ffffff"/>
              </a:buClr>
              <a:buFont typeface="Arial"/>
              <a:buChar char="»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内页3副本"/>
          <p:cNvPicPr/>
          <p:nvPr/>
        </p:nvPicPr>
        <p:blipFill>
          <a:blip r:embed="rId3"/>
          <a:stretch/>
        </p:blipFill>
        <p:spPr>
          <a:xfrm>
            <a:off x="3240" y="3240"/>
            <a:ext cx="14395320" cy="107949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03080" y="68040"/>
            <a:ext cx="8740440" cy="1191960"/>
          </a:xfrm>
          <a:prstGeom prst="rect">
            <a:avLst/>
          </a:prstGeom>
          <a:noFill/>
          <a:ln w="0">
            <a:noFill/>
          </a:ln>
        </p:spPr>
        <p:txBody>
          <a:bodyPr lIns="117360" rIns="117360" tIns="58680" bIns="58680" anchor="ctr">
            <a:noAutofit/>
          </a:bodyPr>
          <a:p>
            <a:pPr indent="0">
              <a:buNone/>
              <a:tabLst>
                <a:tab algn="l" pos="0"/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20360" y="1639800"/>
            <a:ext cx="12960360" cy="8175600"/>
          </a:xfrm>
          <a:prstGeom prst="rect">
            <a:avLst/>
          </a:prstGeom>
          <a:noFill/>
          <a:ln w="0">
            <a:noFill/>
          </a:ln>
        </p:spPr>
        <p:txBody>
          <a:bodyPr lIns="117360" rIns="117360" tIns="58680" bIns="58680" anchor="t">
            <a:normAutofit/>
          </a:bodyPr>
          <a:p>
            <a:pPr marL="438120" indent="-43812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1" marL="950760" indent="-36180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2" marL="1465200" indent="-29052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3" marL="2050920" indent="-29052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4" marL="2638440" indent="-29052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5" marL="2638440" indent="-290520">
              <a:spcBef>
                <a:spcPts val="1026"/>
              </a:spcBef>
              <a:buClr>
                <a:srgbClr val="ffffff"/>
              </a:buClr>
              <a:buFont typeface="Arial"/>
              <a:buChar char="»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6" marL="2638440" indent="-290520">
              <a:spcBef>
                <a:spcPts val="1026"/>
              </a:spcBef>
              <a:buClr>
                <a:srgbClr val="ffffff"/>
              </a:buClr>
              <a:buFont typeface="Arial"/>
              <a:buChar char="»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03080" y="68040"/>
            <a:ext cx="8740440" cy="1191960"/>
          </a:xfrm>
          <a:prstGeom prst="rect">
            <a:avLst/>
          </a:prstGeom>
          <a:noFill/>
          <a:ln w="0">
            <a:noFill/>
          </a:ln>
        </p:spPr>
        <p:txBody>
          <a:bodyPr lIns="117360" rIns="117360" tIns="58680" bIns="58680" anchor="ctr">
            <a:noAutofit/>
          </a:bodyPr>
          <a:p>
            <a:pPr indent="0">
              <a:buNone/>
              <a:tabLst>
                <a:tab algn="l" pos="0"/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20360" y="1639800"/>
            <a:ext cx="12960360" cy="8175600"/>
          </a:xfrm>
          <a:prstGeom prst="rect">
            <a:avLst/>
          </a:prstGeom>
          <a:noFill/>
          <a:ln w="0">
            <a:noFill/>
          </a:ln>
        </p:spPr>
        <p:txBody>
          <a:bodyPr lIns="117360" rIns="117360" tIns="58680" bIns="58680" anchor="t">
            <a:normAutofit/>
          </a:bodyPr>
          <a:p>
            <a:pPr marL="438120" indent="-43812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1" marL="950760" indent="-36180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2" marL="1465200" indent="-29052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3" marL="2050920" indent="-29052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4" marL="2638440" indent="-29052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5" marL="2638440" indent="-290520">
              <a:spcBef>
                <a:spcPts val="1026"/>
              </a:spcBef>
              <a:buClr>
                <a:srgbClr val="ffffff"/>
              </a:buClr>
              <a:buFont typeface="Arial"/>
              <a:buChar char="»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6" marL="2638440" indent="-290520">
              <a:spcBef>
                <a:spcPts val="1026"/>
              </a:spcBef>
              <a:buClr>
                <a:srgbClr val="ffffff"/>
              </a:buClr>
              <a:buFont typeface="Arial"/>
              <a:buChar char="»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03080" y="68040"/>
            <a:ext cx="8740440" cy="1191960"/>
          </a:xfrm>
          <a:prstGeom prst="rect">
            <a:avLst/>
          </a:prstGeom>
          <a:noFill/>
          <a:ln w="0">
            <a:noFill/>
          </a:ln>
        </p:spPr>
        <p:txBody>
          <a:bodyPr lIns="117360" rIns="117360" tIns="58680" bIns="58680" anchor="ctr">
            <a:noAutofit/>
          </a:bodyPr>
          <a:p>
            <a:pPr indent="0">
              <a:buNone/>
              <a:tabLst>
                <a:tab algn="l" pos="0"/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20360" y="1639800"/>
            <a:ext cx="12960360" cy="8175600"/>
          </a:xfrm>
          <a:prstGeom prst="rect">
            <a:avLst/>
          </a:prstGeom>
          <a:noFill/>
          <a:ln w="0">
            <a:noFill/>
          </a:ln>
        </p:spPr>
        <p:txBody>
          <a:bodyPr lIns="117360" rIns="117360" tIns="58680" bIns="58680" anchor="t">
            <a:normAutofit/>
          </a:bodyPr>
          <a:p>
            <a:pPr marL="438120" indent="-43812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1" marL="950760" indent="-36180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2" marL="1465200" indent="-29052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3" marL="2050920" indent="-29052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4" marL="2638440" indent="-29052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5" marL="2638440" indent="-290520">
              <a:spcBef>
                <a:spcPts val="1026"/>
              </a:spcBef>
              <a:buClr>
                <a:srgbClr val="ffffff"/>
              </a:buClr>
              <a:buFont typeface="Arial"/>
              <a:buChar char="»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6" marL="2638440" indent="-290520">
              <a:spcBef>
                <a:spcPts val="1026"/>
              </a:spcBef>
              <a:buClr>
                <a:srgbClr val="ffffff"/>
              </a:buClr>
              <a:buFont typeface="Arial"/>
              <a:buChar char="»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8" descr="内页3副本"/>
          <p:cNvPicPr/>
          <p:nvPr/>
        </p:nvPicPr>
        <p:blipFill>
          <a:blip r:embed="rId3"/>
          <a:stretch/>
        </p:blipFill>
        <p:spPr>
          <a:xfrm>
            <a:off x="3240" y="3240"/>
            <a:ext cx="14395320" cy="10794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03080" y="68040"/>
            <a:ext cx="8740440" cy="1191960"/>
          </a:xfrm>
          <a:prstGeom prst="rect">
            <a:avLst/>
          </a:prstGeom>
          <a:noFill/>
          <a:ln w="0">
            <a:noFill/>
          </a:ln>
        </p:spPr>
        <p:txBody>
          <a:bodyPr lIns="117360" rIns="117360" tIns="58680" bIns="58680" anchor="ctr">
            <a:noAutofit/>
          </a:bodyPr>
          <a:p>
            <a:pPr indent="0">
              <a:buNone/>
              <a:tabLst>
                <a:tab algn="l" pos="0"/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20360" y="1639800"/>
            <a:ext cx="12960360" cy="8175600"/>
          </a:xfrm>
          <a:prstGeom prst="rect">
            <a:avLst/>
          </a:prstGeom>
          <a:noFill/>
          <a:ln w="0">
            <a:noFill/>
          </a:ln>
        </p:spPr>
        <p:txBody>
          <a:bodyPr lIns="117360" rIns="117360" tIns="58680" bIns="58680" anchor="t">
            <a:normAutofit/>
          </a:bodyPr>
          <a:p>
            <a:pPr marL="438120" indent="-43812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1" marL="950760" indent="-36180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2" marL="1465200" indent="-29052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3" marL="2050920" indent="-29052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4" marL="2638440" indent="-29052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5" marL="2638440" indent="-290520">
              <a:spcBef>
                <a:spcPts val="1026"/>
              </a:spcBef>
              <a:buClr>
                <a:srgbClr val="ffffff"/>
              </a:buClr>
              <a:buFont typeface="Arial"/>
              <a:buChar char="»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6" marL="2638440" indent="-290520">
              <a:spcBef>
                <a:spcPts val="1026"/>
              </a:spcBef>
              <a:buClr>
                <a:srgbClr val="ffffff"/>
              </a:buClr>
              <a:buFont typeface="Arial"/>
              <a:buChar char="»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20360" y="2520720"/>
            <a:ext cx="1296036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-5396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1" marL="1170000" indent="-44928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2" marL="1800360" indent="-35892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3" marL="2519280" indent="-35856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4" marL="3240000" indent="-35856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5" marL="3240000" indent="-35856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6" marL="3240000" indent="-35856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7"/>
          </p:nvPr>
        </p:nvSpPr>
        <p:spPr>
          <a:xfrm>
            <a:off x="720360" y="10010880"/>
            <a:ext cx="3359160" cy="5760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8"/>
          </p:nvPr>
        </p:nvSpPr>
        <p:spPr>
          <a:xfrm>
            <a:off x="4920840" y="10010880"/>
            <a:ext cx="4559400" cy="5760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9"/>
          </p:nvPr>
        </p:nvSpPr>
        <p:spPr>
          <a:xfrm>
            <a:off x="10321560" y="10010880"/>
            <a:ext cx="3359160" cy="5760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5179-6EFF-4D82-87BD-98FB00BD4BF8}" type="slidenum">
              <a:rPr b="0" lang="en-US" sz="1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20360" y="2520720"/>
            <a:ext cx="1296036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-5396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1" marL="1170000" indent="-44928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2" marL="1800360" indent="-35892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3" marL="2519280" indent="-35856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4" marL="3240000" indent="-35856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5" marL="3240000" indent="-35856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6" marL="3240000" indent="-35856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0"/>
          </p:nvPr>
        </p:nvSpPr>
        <p:spPr>
          <a:xfrm>
            <a:off x="720360" y="10010880"/>
            <a:ext cx="3359160" cy="5760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11"/>
          </p:nvPr>
        </p:nvSpPr>
        <p:spPr>
          <a:xfrm>
            <a:off x="4920840" y="10010880"/>
            <a:ext cx="4559400" cy="5760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12"/>
          </p:nvPr>
        </p:nvSpPr>
        <p:spPr>
          <a:xfrm>
            <a:off x="10321560" y="10010880"/>
            <a:ext cx="3359160" cy="5760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BE87-662E-486E-9086-759D02D8039E}" type="slidenum">
              <a:rPr b="0" lang="en-US" sz="1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5" descr="C:\Users\Administrator\Desktop\未标题-2.jpg"/>
          <p:cNvPicPr/>
          <p:nvPr/>
        </p:nvPicPr>
        <p:blipFill>
          <a:blip r:embed="rId2"/>
          <a:stretch/>
        </p:blipFill>
        <p:spPr>
          <a:xfrm>
            <a:off x="0" y="14400"/>
            <a:ext cx="14401800" cy="107870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1944720" y="6156360"/>
            <a:ext cx="1116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Unit 1</a:t>
            </a:r>
            <a:r>
              <a:rPr b="1" lang="zh-CN" sz="7200" spc="-1" strike="noStrike">
                <a:solidFill>
                  <a:srgbClr val="ff0000"/>
                </a:solidFill>
                <a:latin typeface="Comic Sans MS"/>
              </a:rPr>
              <a:t>～</a:t>
            </a: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Unit 2</a:t>
            </a: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72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教材分析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492360" y="820908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常州市局前街小学    杨丽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zh-CN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8"/>
          <p:cNvSpPr/>
          <p:nvPr/>
        </p:nvSpPr>
        <p:spPr>
          <a:xfrm>
            <a:off x="396720" y="431640"/>
            <a:ext cx="8891640" cy="13320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f7e3c5"/>
              </a:gs>
              <a:gs pos="50000">
                <a:srgbClr val="e9b261"/>
              </a:gs>
              <a:gs pos="100000">
                <a:srgbClr val="f7e3c5"/>
              </a:gs>
            </a:gsLst>
            <a:lin ang="81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Arial"/>
              </a:rPr>
              <a:t>二、 板块解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28720" y="2664000"/>
            <a:ext cx="1036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693440" y="2233440"/>
            <a:ext cx="9215640" cy="104328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 fontScale="12000"/>
          </a:bodyPr>
          <a:p>
            <a:pPr marL="6444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Story ti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6444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Fun ti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6444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Cartoon ti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6444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Letter ti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6444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Song ti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6444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Checkout ti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6444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Ticking ti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828720" y="2664000"/>
            <a:ext cx="1036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4176720" y="2088720"/>
            <a:ext cx="7128000" cy="162108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Story tim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"/>
          <p:cNvSpPr/>
          <p:nvPr/>
        </p:nvSpPr>
        <p:spPr>
          <a:xfrm>
            <a:off x="684360" y="2808360"/>
            <a:ext cx="1256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081080" y="3889440"/>
            <a:ext cx="5435640" cy="61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/>
          </a:bodyPr>
          <a:p>
            <a:pPr marL="539640" indent="-5396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教学建议：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整体输入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准确发音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适当渗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AutoShape 8"/>
          <p:cNvSpPr/>
          <p:nvPr/>
        </p:nvSpPr>
        <p:spPr>
          <a:xfrm>
            <a:off x="396720" y="431640"/>
            <a:ext cx="8891640" cy="13320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f7e3c5"/>
              </a:gs>
              <a:gs pos="50000">
                <a:srgbClr val="e9b261"/>
              </a:gs>
              <a:gs pos="100000">
                <a:srgbClr val="f7e3c5"/>
              </a:gs>
            </a:gsLst>
            <a:lin ang="81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Arial"/>
              </a:rPr>
              <a:t>二、板块解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1079640" y="2916360"/>
            <a:ext cx="1036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84360" y="2808360"/>
            <a:ext cx="1256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76360" y="1585800"/>
            <a:ext cx="13141080" cy="71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/>
          </a:bodyPr>
          <a:p>
            <a:pPr marL="539640" indent="-53964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活动设计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1. Name Car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76360" y="3672000"/>
            <a:ext cx="13141080" cy="71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/>
          </a:bodyPr>
          <a:p>
            <a:pPr marL="539640" indent="-53964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. Watch and tick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ow does Mike greet his teacher and his classmate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ow does Miss Li greet her students in the afternoo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o you know how Miss Li greets her students in the morni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. Read and a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357800" y="324000"/>
            <a:ext cx="712764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/>
          </a:bodyPr>
          <a:p>
            <a:pPr marL="539640" indent="-539640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Story tim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47640" y="3348000"/>
            <a:ext cx="1371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准备一张教师自己的名片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iss … / Mr …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，从真实的交际入手教学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把做好的书中人物名片，可含头像，贴在学生身上，进行角色表演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1079640" y="2916360"/>
            <a:ext cx="1036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84360" y="2808360"/>
            <a:ext cx="1256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76360" y="1549440"/>
            <a:ext cx="13141080" cy="71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/>
          </a:bodyPr>
          <a:p>
            <a:pPr marL="539640" indent="-53964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活动设计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. Super tap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指导学生进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Arial"/>
              </a:rPr>
              <a:t>朗读符号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标注，争做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"Super tape"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，即看谁读得最像录音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. Little director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357800" y="324000"/>
            <a:ext cx="712764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/>
          </a:bodyPr>
          <a:p>
            <a:pPr marL="539640" indent="-539640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Story tim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98720" y="6410160"/>
            <a:ext cx="1200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教师利用多媒体或图画展示一些学生熟悉的场景，要求学生根据场景设计对白，表达问候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828720" y="4896000"/>
            <a:ext cx="1036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4360" y="5040360"/>
            <a:ext cx="1256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403280" y="4211640"/>
            <a:ext cx="622944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/>
          </a:bodyPr>
          <a:p>
            <a:pPr marL="539640" indent="-5396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教学建议：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激发兴趣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893080" y="4213080"/>
            <a:ext cx="543564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/>
          </a:bodyPr>
          <a:p>
            <a:pPr marL="539640" indent="-5396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激活思维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AutoShape 8"/>
          <p:cNvSpPr/>
          <p:nvPr/>
        </p:nvSpPr>
        <p:spPr>
          <a:xfrm>
            <a:off x="396720" y="431640"/>
            <a:ext cx="8891640" cy="13320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f7e3c5"/>
              </a:gs>
              <a:gs pos="50000">
                <a:srgbClr val="e9b261"/>
              </a:gs>
              <a:gs pos="100000">
                <a:srgbClr val="f7e3c5"/>
              </a:gs>
            </a:gsLst>
            <a:lin ang="81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二、板块解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897440" y="2268360"/>
            <a:ext cx="561816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 fontScale="68000"/>
          </a:bodyPr>
          <a:p>
            <a:pPr marL="366840" indent="-366840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Fun tim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079640" y="2916360"/>
            <a:ext cx="1036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84360" y="2808360"/>
            <a:ext cx="1256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77800" y="1406520"/>
            <a:ext cx="134272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/>
          </a:bodyPr>
          <a:p>
            <a:pPr marL="952560" indent="-95256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活动设计：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897440" y="287280"/>
            <a:ext cx="561816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 fontScale="68000"/>
          </a:bodyPr>
          <a:p>
            <a:pPr marL="366840" indent="-366840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Fun tim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12720" y="2844720"/>
            <a:ext cx="12366720" cy="25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Let's play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利用多媒体或挂图呈现棋盘，有能力的学校可以增加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Good evening, Good night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，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How do you do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于棋盘中，示范游戏过程。然后学生再进行两人或多人之间的游戏，学生在课前已经用橡皮或其他物体制作好色子，也可以是真实的色子。还可以布置学生提前自制想要的棋盘，在课堂上、课后都可以玩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828720" y="4822920"/>
            <a:ext cx="1036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84360" y="4968720"/>
            <a:ext cx="1256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152360" y="4140360"/>
            <a:ext cx="6229440" cy="38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/>
          </a:bodyPr>
          <a:p>
            <a:pPr marL="539640" indent="-5396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教学建议：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Arial"/>
              </a:rPr>
              <a:t>重在感知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777080" y="5435640"/>
            <a:ext cx="5435640" cy="61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/>
          </a:bodyPr>
          <a:p>
            <a:pPr marL="539640" indent="-5396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Arial"/>
              </a:rPr>
              <a:t>重在激趣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25800" y="2197080"/>
            <a:ext cx="1296036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 fontScale="68000"/>
          </a:bodyPr>
          <a:p>
            <a:pPr marL="366840" indent="-366840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Cartoon tim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AutoShape 8"/>
          <p:cNvSpPr/>
          <p:nvPr/>
        </p:nvSpPr>
        <p:spPr>
          <a:xfrm>
            <a:off x="396720" y="431640"/>
            <a:ext cx="8891640" cy="13320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f7e3c5"/>
              </a:gs>
              <a:gs pos="50000">
                <a:srgbClr val="e9b261"/>
              </a:gs>
              <a:gs pos="100000">
                <a:srgbClr val="f7e3c5"/>
              </a:gs>
            </a:gsLst>
            <a:lin ang="81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二、板块解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079640" y="2916360"/>
            <a:ext cx="1036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84360" y="2808360"/>
            <a:ext cx="1256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76360" y="1405080"/>
            <a:ext cx="13141080" cy="71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 fontScale="92000"/>
          </a:bodyPr>
          <a:p>
            <a:pPr marL="876240" indent="-876240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活动设计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6240" indent="-87624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1. Watch and tick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876240" indent="-87624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帮助学生加深人物的理解，顺势处理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'm ..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876240" indent="-87624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ho is Bobby?     A. The cat         B. The mou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876240" indent="-87624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ho is Sam?        A. The cat          B. The mou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876240" indent="-87624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2. Read and answe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876240" indent="-87624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帮助学生理解卡通，体会阅读的乐趣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876240" indent="-87624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hat's fun from the cartoo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876240" indent="-87624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3. Let's a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876240" indent="-87624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学生分角色表演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925800" y="36360"/>
            <a:ext cx="1296036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 fontScale="68000"/>
          </a:bodyPr>
          <a:p>
            <a:pPr marL="366840" indent="-366840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Cartoon tim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079640" y="2916360"/>
            <a:ext cx="1036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84360" y="2808360"/>
            <a:ext cx="1256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76360" y="1405080"/>
            <a:ext cx="13141080" cy="71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/>
          </a:bodyPr>
          <a:p>
            <a:pPr marL="952560" indent="-952560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活动设计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4. Let's know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在西方国家见面打招呼是很自然的，即使是不认识。打招呼的目的，并不是为了要跟你有进一步的交往，只是一种生活礼仪形式。其实不论任何人，面对有人微笑打招呼，都会受到感染，像是见到阳光心情跟着好起来一样，很自然会打招呼响应。因此，在西方国家旅游的时候，如果迎面而来的人对我们说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ello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，别露出一副莫名其妙的表情，甚至置之不理唷！那可是非常失礼的。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ello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是同辈或好友之间的应对方式，不适合用在对长辈或地位比较高的人。另外，他们也会问候「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Good morning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」，「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Good afternoon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」或「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Good evening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」，同样问候就可以了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925800" y="36360"/>
            <a:ext cx="1296036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 fontScale="68000"/>
          </a:bodyPr>
          <a:p>
            <a:pPr marL="366840" indent="-366840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Cartoon tim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828720" y="4680000"/>
            <a:ext cx="1036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4356000" y="2303280"/>
            <a:ext cx="5616720" cy="104292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 fontScale="68000"/>
          </a:bodyPr>
          <a:p>
            <a:pPr marL="366840"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Letter tim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"/>
          <p:cNvSpPr/>
          <p:nvPr/>
        </p:nvSpPr>
        <p:spPr>
          <a:xfrm>
            <a:off x="684360" y="4824360"/>
            <a:ext cx="1256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403280" y="3995640"/>
            <a:ext cx="622944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/>
          </a:bodyPr>
          <a:p>
            <a:pPr marL="539640" indent="-5396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教学建议：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Arial"/>
              </a:rPr>
              <a:t>朗读正确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282160" y="5292720"/>
            <a:ext cx="5435280" cy="61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/>
          </a:bodyPr>
          <a:p>
            <a:pPr marL="539640" indent="-5396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Arial"/>
              </a:rPr>
              <a:t>书写规范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AutoShape 8"/>
          <p:cNvSpPr/>
          <p:nvPr/>
        </p:nvSpPr>
        <p:spPr>
          <a:xfrm>
            <a:off x="396720" y="431640"/>
            <a:ext cx="8891640" cy="13320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f7e3c5"/>
              </a:gs>
              <a:gs pos="50000">
                <a:srgbClr val="e9b261"/>
              </a:gs>
              <a:gs pos="100000">
                <a:srgbClr val="f7e3c5"/>
              </a:gs>
            </a:gsLst>
            <a:lin ang="81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Arial"/>
              </a:rPr>
              <a:t>二、板块解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5" descr="C:\Users\Administrator\Desktop\未标题-2.jpg"/>
          <p:cNvPicPr/>
          <p:nvPr/>
        </p:nvPicPr>
        <p:blipFill>
          <a:blip r:embed="rId2"/>
          <a:stretch/>
        </p:blipFill>
        <p:spPr>
          <a:xfrm>
            <a:off x="0" y="14400"/>
            <a:ext cx="14401800" cy="10787040"/>
          </a:xfrm>
          <a:prstGeom prst="rect">
            <a:avLst/>
          </a:prstGeom>
          <a:ln w="0">
            <a:noFill/>
          </a:ln>
        </p:spPr>
      </p:pic>
      <p:sp>
        <p:nvSpPr>
          <p:cNvPr id="361" name="AutoShape 8"/>
          <p:cNvSpPr/>
          <p:nvPr/>
        </p:nvSpPr>
        <p:spPr>
          <a:xfrm>
            <a:off x="2701800" y="5437080"/>
            <a:ext cx="8891640" cy="13320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f7e3c5"/>
              </a:gs>
              <a:gs pos="50000">
                <a:srgbClr val="e9b261"/>
              </a:gs>
              <a:gs pos="100000">
                <a:srgbClr val="f7e3c5"/>
              </a:gs>
            </a:gsLst>
            <a:lin ang="81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一、单元整体分析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AutoShape 8"/>
          <p:cNvSpPr/>
          <p:nvPr/>
        </p:nvSpPr>
        <p:spPr>
          <a:xfrm>
            <a:off x="2666880" y="7021440"/>
            <a:ext cx="8890200" cy="13320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f7e3c5"/>
              </a:gs>
              <a:gs pos="50000">
                <a:srgbClr val="e9b261"/>
              </a:gs>
              <a:gs pos="100000">
                <a:srgbClr val="f7e3c5"/>
              </a:gs>
            </a:gsLst>
            <a:lin ang="81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        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二、板块解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AutoShape 8"/>
          <p:cNvSpPr/>
          <p:nvPr/>
        </p:nvSpPr>
        <p:spPr>
          <a:xfrm>
            <a:off x="2701800" y="8640720"/>
            <a:ext cx="8891640" cy="13320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f7e3c5"/>
              </a:gs>
              <a:gs pos="50000">
                <a:srgbClr val="e9b261"/>
              </a:gs>
              <a:gs pos="100000">
                <a:srgbClr val="f7e3c5"/>
              </a:gs>
            </a:gsLst>
            <a:lin ang="81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三、课时划分建议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079640" y="2916360"/>
            <a:ext cx="1036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4141440" y="-360"/>
            <a:ext cx="12960360" cy="104292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 fontScale="68000"/>
          </a:bodyPr>
          <a:p>
            <a:pPr marL="366840"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Letter tim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"/>
          <p:cNvSpPr/>
          <p:nvPr/>
        </p:nvSpPr>
        <p:spPr>
          <a:xfrm>
            <a:off x="684360" y="2808360"/>
            <a:ext cx="1256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76360" y="1405080"/>
            <a:ext cx="13141080" cy="71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 fontScale="84000"/>
          </a:bodyPr>
          <a:p>
            <a:pPr marL="799920" indent="-799920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活动设计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9920" indent="-79992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1.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Arial"/>
              </a:rPr>
              <a:t>联系实际生活中的物体帮助学生建立想象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99920" indent="-79992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”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像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99920" indent="-79992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B”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像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99920" indent="-79992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”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像月牙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99920" indent="-79992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”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像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99920" indent="-79992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99920" indent="-79992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2. Think and wri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99920" indent="-79992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让学生看一些图片，联想字母，如：埃菲尔铁塔，两扇玻璃的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99920" indent="-79992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户、弯弯的月亮或香蕉 、弓箭或动画人物的耳朵来猜一猜、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99920" indent="-79992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一写相应的字母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4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4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4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1079640" y="2916360"/>
            <a:ext cx="1036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84360" y="2808360"/>
            <a:ext cx="1256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76360" y="1405080"/>
            <a:ext cx="13141080" cy="71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 fontScale="92000"/>
          </a:bodyPr>
          <a:p>
            <a:pPr marL="876240" indent="-876240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活动设计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6240" indent="-87624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3.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Arial"/>
              </a:rPr>
              <a:t>歌谣激趣，并适当拓展词汇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876240" indent="-87624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for app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876240" indent="-87624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B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for b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876240" indent="-87624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C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for ca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876240" indent="-87624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D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for de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876240" indent="-87624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876240" indent="-87624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4.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Arial"/>
              </a:rPr>
              <a:t>字母妙趣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876240" indent="-87624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BC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基础知识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BBC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英国广播公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876240" indent="-87624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D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光盘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广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876240" indent="-87624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141800" y="0"/>
            <a:ext cx="1296036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 fontScale="68000"/>
          </a:bodyPr>
          <a:p>
            <a:pPr marL="366840" indent="-366840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Letter tim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4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828720" y="4464000"/>
            <a:ext cx="1036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4249440" y="1944360"/>
            <a:ext cx="12960360" cy="104292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 fontScale="68000"/>
          </a:bodyPr>
          <a:p>
            <a:pPr marL="366840"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Song tim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"/>
          <p:cNvSpPr/>
          <p:nvPr/>
        </p:nvSpPr>
        <p:spPr>
          <a:xfrm>
            <a:off x="684360" y="4608360"/>
            <a:ext cx="1256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31640" y="3024360"/>
            <a:ext cx="139701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/>
          </a:bodyPr>
          <a:p>
            <a:pPr marL="539640" indent="-53964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教学建议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96720" y="3060720"/>
            <a:ext cx="14005080" cy="61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/>
          </a:bodyPr>
          <a:p>
            <a:pPr marL="539640" indent="-5396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充分利用，勿忽略不计，帮助学生形成良好的语感；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体会英语学习的乐趣，活跃学生的身心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AutoShape 8"/>
          <p:cNvSpPr/>
          <p:nvPr/>
        </p:nvSpPr>
        <p:spPr>
          <a:xfrm>
            <a:off x="396720" y="431640"/>
            <a:ext cx="8891640" cy="13320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f7e3c5"/>
              </a:gs>
              <a:gs pos="50000">
                <a:srgbClr val="e9b261"/>
              </a:gs>
              <a:gs pos="100000">
                <a:srgbClr val="f7e3c5"/>
              </a:gs>
            </a:gsLst>
            <a:lin ang="81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二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Arial"/>
              </a:rPr>
              <a:t>、板块解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1079640" y="2916360"/>
            <a:ext cx="1036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84360" y="2808360"/>
            <a:ext cx="1256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76360" y="1405080"/>
            <a:ext cx="13141080" cy="71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/>
          </a:bodyPr>
          <a:p>
            <a:pPr marL="952560" indent="-952560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活动设计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1.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Arial"/>
              </a:rPr>
              <a:t>表演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动作设计：挥左手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Good morn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挥右手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Good morn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双手齐挥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orning, my dea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2.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Arial"/>
              </a:rPr>
              <a:t>创编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把歌词改为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Good afternoon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或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Good evening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， 把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y dear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改成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iss / Mr ..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和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lass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变成师生问候唱，把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y dear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改成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y mummy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和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y daddy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变成孩子问候爸爸妈妈唱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249800" y="144360"/>
            <a:ext cx="1296036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 fontScale="68000"/>
          </a:bodyPr>
          <a:p>
            <a:pPr marL="366840" indent="-366840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Song tim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1079640" y="2916360"/>
            <a:ext cx="1036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2808360"/>
            <a:ext cx="1256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6360" y="1405080"/>
            <a:ext cx="13141080" cy="71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/>
          </a:bodyPr>
          <a:p>
            <a:pPr marL="952560" indent="-952560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活动设计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3.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Arial"/>
              </a:rPr>
              <a:t>由歌曲到歌谣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Good morning, Mumm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Good morning, Dadd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Good morning, teac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Good morning, Tomm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249800" y="144360"/>
            <a:ext cx="1296036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 fontScale="68000"/>
          </a:bodyPr>
          <a:p>
            <a:pPr marL="366840" indent="-366840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Song tim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828720" y="4680000"/>
            <a:ext cx="1036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84360" y="4824360"/>
            <a:ext cx="1256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403280" y="3995640"/>
            <a:ext cx="622944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/>
          </a:bodyPr>
          <a:p>
            <a:pPr marL="539640" indent="-5396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教学建议：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Arial"/>
              </a:rPr>
              <a:t>注重语言实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705800" y="5292720"/>
            <a:ext cx="5435640" cy="61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/>
          </a:bodyPr>
          <a:p>
            <a:pPr marL="539640" indent="-5396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Arial"/>
              </a:rPr>
              <a:t>放大教学资源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781440" y="1954080"/>
            <a:ext cx="1296036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 fontScale="67000"/>
          </a:bodyPr>
          <a:p>
            <a:pPr marL="361440" indent="-361440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Checkout tim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AutoShape 8"/>
          <p:cNvSpPr/>
          <p:nvPr/>
        </p:nvSpPr>
        <p:spPr>
          <a:xfrm>
            <a:off x="396720" y="431640"/>
            <a:ext cx="8891640" cy="13320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f7e3c5"/>
              </a:gs>
              <a:gs pos="50000">
                <a:srgbClr val="e9b261"/>
              </a:gs>
              <a:gs pos="100000">
                <a:srgbClr val="f7e3c5"/>
              </a:gs>
            </a:gsLst>
            <a:lin ang="81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二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Arial"/>
              </a:rPr>
              <a:t>、板块解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Text Placeholder 2" descr=""/>
          <p:cNvPicPr/>
          <p:nvPr/>
        </p:nvPicPr>
        <p:blipFill>
          <a:blip r:embed="rId2"/>
          <a:stretch/>
        </p:blipFill>
        <p:spPr>
          <a:xfrm>
            <a:off x="792000" y="6481800"/>
            <a:ext cx="6361200" cy="377964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1079640" y="2916360"/>
            <a:ext cx="1036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84360" y="2808360"/>
            <a:ext cx="1256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49440" y="1368360"/>
            <a:ext cx="13141080" cy="41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 fontScale="87000"/>
          </a:bodyPr>
          <a:p>
            <a:pPr marL="828720" indent="-828720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活动设计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28720" indent="-82872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1. Look and s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828720" indent="-82872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看书中图片，推测他们的对话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828720" indent="-82872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828720" indent="-82872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2.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Arial"/>
              </a:rPr>
              <a:t>Look and think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Arial"/>
              </a:rPr>
              <a:t>在新的情境中复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828720" indent="-82872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781440" y="-57240"/>
            <a:ext cx="1296036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 fontScale="67000"/>
          </a:bodyPr>
          <a:p>
            <a:pPr marL="361440" indent="-361440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Checkout tim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9" name="Text Placeholder 2" descr=""/>
          <p:cNvPicPr/>
          <p:nvPr/>
        </p:nvPicPr>
        <p:blipFill>
          <a:blip r:embed="rId3"/>
          <a:stretch/>
        </p:blipFill>
        <p:spPr>
          <a:xfrm>
            <a:off x="7864560" y="6532560"/>
            <a:ext cx="5962680" cy="383688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647640" y="5545080"/>
            <a:ext cx="6626160" cy="49323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052720" y="583236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How to greet the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561440" y="5545080"/>
            <a:ext cx="6624360" cy="49323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669080" y="5829480"/>
            <a:ext cx="669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How to make friends in the zo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1079640" y="2916360"/>
            <a:ext cx="1036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539280" y="215640"/>
            <a:ext cx="12960360" cy="104292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Learning tip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"/>
          <p:cNvSpPr/>
          <p:nvPr/>
        </p:nvSpPr>
        <p:spPr>
          <a:xfrm>
            <a:off x="684360" y="2808360"/>
            <a:ext cx="1256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76360" y="1405080"/>
            <a:ext cx="14436720" cy="71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/>
          </a:bodyPr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新增的该栏目是通过简要的提示和说明，引导学生逐步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握有效的学习方法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此处出现的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Learning tip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为：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ow many stars can you ge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这个学习提示提醒学生要养成在单元学习结束后进行自我评估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学习习惯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76360" y="6084720"/>
            <a:ext cx="13969800" cy="71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/>
          </a:bodyPr>
          <a:p>
            <a:pPr marL="539640" indent="-53964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Arial"/>
              </a:rPr>
              <a:t>教学建议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1.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能够听懂、理解该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tip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，不要求会朗读（在以后单元的教学中反复复现，学生逐渐能够脱离教师的翻译）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2.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激发学生评价的兴趣和欲望，逐步养成习惯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zh-CN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28720" y="2664000"/>
            <a:ext cx="1036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49080" y="2123640"/>
            <a:ext cx="12960360" cy="104292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Ticking ti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"/>
          <p:cNvSpPr/>
          <p:nvPr/>
        </p:nvSpPr>
        <p:spPr>
          <a:xfrm>
            <a:off x="684360" y="3105000"/>
            <a:ext cx="13212720" cy="47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自我评价板块。通过自我评价，引导学生了解自己对本单元所学主要内容的掌握情况，体验进步与成功，反思和调控自己的学习过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本单元的自评要求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我会说：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i, Hello, Good morning, Good afterno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我会说，会写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a, Bb, Cc, D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除此以外，让学生熟悉句子的固定结构：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 can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AutoShape 8"/>
          <p:cNvSpPr/>
          <p:nvPr/>
        </p:nvSpPr>
        <p:spPr>
          <a:xfrm>
            <a:off x="396720" y="431640"/>
            <a:ext cx="8891640" cy="13320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f7e3c5"/>
              </a:gs>
              <a:gs pos="50000">
                <a:srgbClr val="e9b261"/>
              </a:gs>
              <a:gs pos="100000">
                <a:srgbClr val="f7e3c5"/>
              </a:gs>
            </a:gsLst>
            <a:lin ang="81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二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Arial"/>
              </a:rPr>
              <a:t>、板块解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828720" y="2664000"/>
            <a:ext cx="1036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84360" y="2808360"/>
            <a:ext cx="1256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403280" y="1979640"/>
            <a:ext cx="1080144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/>
          </a:bodyPr>
          <a:p>
            <a:pPr marL="539640" indent="-5396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教学建议：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Arial"/>
              </a:rPr>
              <a:t>注重评价的激励性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405080" y="5076720"/>
            <a:ext cx="1029636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/>
          </a:bodyPr>
          <a:p>
            <a:pPr marL="539640" indent="-5396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Arial"/>
              </a:rPr>
              <a:t>注意评价的合理性和多样性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4463640" y="144000"/>
            <a:ext cx="12960360" cy="104292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 fontScale="68000"/>
          </a:bodyPr>
          <a:p>
            <a:pPr marL="366840"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Ticking tim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5" descr="C:\Users\Administrator\Desktop\未标题-2.jpg"/>
          <p:cNvPicPr/>
          <p:nvPr/>
        </p:nvPicPr>
        <p:blipFill>
          <a:blip r:embed="rId2"/>
          <a:stretch/>
        </p:blipFill>
        <p:spPr>
          <a:xfrm>
            <a:off x="0" y="14400"/>
            <a:ext cx="14401800" cy="107870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384720" y="6013440"/>
            <a:ext cx="7200720" cy="26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Unit 1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ffffff"/>
                </a:solidFill>
                <a:latin typeface="Arial Black"/>
              </a:rPr>
              <a:t>Hello!</a:t>
            </a:r>
            <a:endParaRPr b="0" lang="en-US" sz="9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1079640" y="2916360"/>
            <a:ext cx="1036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4068360" y="-360"/>
            <a:ext cx="12960360" cy="104292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 fontScale="68000"/>
          </a:bodyPr>
          <a:p>
            <a:pPr marL="366840"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Ticking tim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"/>
          <p:cNvSpPr/>
          <p:nvPr/>
        </p:nvSpPr>
        <p:spPr>
          <a:xfrm>
            <a:off x="684360" y="2808360"/>
            <a:ext cx="1256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76360" y="1405080"/>
            <a:ext cx="13501440" cy="71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 fontScale="93000"/>
          </a:bodyPr>
          <a:p>
            <a:pPr marL="885600" indent="-885600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活动设计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5600" indent="-885600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1. I can ass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885600" indent="-885600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在自评的过程中读出相应的内容，小组内朗读，再互评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885600" indent="-885600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2. I know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885600" indent="-885600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学生自主复习、归纳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885600" indent="-885600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3. I know mor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885600" indent="-885600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在单元基础上允许学生说出更多有关问候语的内容，作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885600" indent="-885600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加星项目，如：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Good evening, Good night, How do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885600" indent="-885600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you do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等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885600" indent="-885600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4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4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4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4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zh-CN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8"/>
          <p:cNvSpPr/>
          <p:nvPr/>
        </p:nvSpPr>
        <p:spPr>
          <a:xfrm>
            <a:off x="396720" y="431640"/>
            <a:ext cx="8891640" cy="13320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f7e3c5"/>
              </a:gs>
              <a:gs pos="50000">
                <a:srgbClr val="e9b261"/>
              </a:gs>
              <a:gs pos="100000">
                <a:srgbClr val="f7e3c5"/>
              </a:gs>
            </a:gsLst>
            <a:lin ang="81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Arial"/>
              </a:rPr>
              <a:t>三、课时划分建议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28720" y="2664000"/>
            <a:ext cx="1036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39280" y="2233440"/>
            <a:ext cx="13214520" cy="104328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 fontScale="15000"/>
          </a:bodyPr>
          <a:p>
            <a:pPr marL="8064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Arial"/>
              </a:rPr>
              <a:t>第一课时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  <a:ea typeface="Arial"/>
              </a:rPr>
              <a:t>Story time &amp; English class rul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8064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Arial"/>
              </a:rPr>
              <a:t>第二课时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  <a:ea typeface="Arial"/>
              </a:rPr>
              <a:t>Fun time &amp; Song time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8064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Arial"/>
              </a:rPr>
              <a:t>第三课时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  <a:ea typeface="Arial"/>
              </a:rPr>
              <a:t>Cartoon time &amp; Checkout ti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8064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Arial"/>
              </a:rPr>
              <a:t>第四课时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  <a:ea typeface="Arial"/>
              </a:rPr>
              <a:t>Letter ti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8064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Arial"/>
              </a:rPr>
              <a:t>第五课时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Arial"/>
              </a:rPr>
              <a:t> 单元整合复习，会话表演和练习拓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8064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Arial"/>
              </a:rPr>
              <a:t>第六课时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Arial"/>
              </a:rPr>
              <a:t> 会话表演，单元练习和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  <a:ea typeface="Arial"/>
              </a:rPr>
              <a:t>Ticking ti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500"/>
                            </p:stCondLst>
                            <p:childTnLst>
                              <p:par>
                                <p:cTn id="5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5" descr="C:\Users\Administrator\Desktop\未标题-2.jpg"/>
          <p:cNvPicPr/>
          <p:nvPr/>
        </p:nvPicPr>
        <p:blipFill>
          <a:blip r:embed="rId2"/>
          <a:stretch/>
        </p:blipFill>
        <p:spPr>
          <a:xfrm>
            <a:off x="0" y="14400"/>
            <a:ext cx="14401800" cy="1078704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3384720" y="6013440"/>
            <a:ext cx="79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Unit 2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 Black"/>
              </a:rPr>
              <a:t>I’m Liu Tao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1008000" y="1512720"/>
            <a:ext cx="12638160" cy="79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教材内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本单元以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I'm ...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为主题，让学生学会向别人介绍自己的姓名，以及如何确定对方是某人吗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词汇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I'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you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y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n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是重点掌握内容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句型：学会准确使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Are you …? Yes, I am. / No, I’m not. I’m 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来正确问答对方是否是某人，以及会向别人介绍自己的姓名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日常交际用语：初步运用道别用语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Goodby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5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字母：继续学习认读及书写字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Ee, Ff, Gg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6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认识新人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Liu Ta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也可以提前让学生结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Wang Bing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AutoShape 8"/>
          <p:cNvSpPr/>
          <p:nvPr/>
        </p:nvSpPr>
        <p:spPr>
          <a:xfrm>
            <a:off x="2629080" y="289080"/>
            <a:ext cx="8891280" cy="13302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f7e3c5"/>
              </a:gs>
              <a:gs pos="50000">
                <a:srgbClr val="e9b261"/>
              </a:gs>
              <a:gs pos="100000">
                <a:srgbClr val="f7e3c5"/>
              </a:gs>
            </a:gsLst>
            <a:lin ang="81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一、单元整体分析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12360" y="3347640"/>
            <a:ext cx="12960360" cy="1079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0">
              <a:spcBef>
                <a:spcPts val="110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"/>
          <p:cNvSpPr/>
          <p:nvPr/>
        </p:nvSpPr>
        <p:spPr>
          <a:xfrm>
            <a:off x="865080" y="1908000"/>
            <a:ext cx="13024080" cy="59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1.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本单元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I’m…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是核心句型之一，要求学生能够熟练运用，并明晰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I’m=I am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。我是……，既可以说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I’m …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，也可以说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I am …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2.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要强调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Are you …?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这个核心句型要用升调，在回答的时候，不能将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Yes, I am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说成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Yes, I’m.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由于交际的需要，教师还可以提前输入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He’s … / She’s …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，渗透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What’s your name? Nice to see you.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或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Nice to meet you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满足学生交际的需求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3.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继续培养良好习惯与积极的学习态度，保持学习英语的兴趣，一定要有耐心，决不能让学生心中刚刚燃起的火苗被你的默然淹没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809640" y="1981080"/>
            <a:ext cx="365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学情分析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AutoShape 8"/>
          <p:cNvSpPr/>
          <p:nvPr/>
        </p:nvSpPr>
        <p:spPr>
          <a:xfrm>
            <a:off x="2629080" y="289080"/>
            <a:ext cx="8891280" cy="13302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f7e3c5"/>
              </a:gs>
              <a:gs pos="50000">
                <a:srgbClr val="e9b261"/>
              </a:gs>
              <a:gs pos="100000">
                <a:srgbClr val="f7e3c5"/>
              </a:gs>
            </a:gsLst>
            <a:lin ang="81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一、单元整体分析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504720" y="2881440"/>
            <a:ext cx="13716000" cy="71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/>
          </a:bodyPr>
          <a:p>
            <a:pPr marL="539640" indent="-539640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lang="zh-CN" sz="5000" spc="-1" strike="noStrike">
                <a:solidFill>
                  <a:srgbClr val="ffffff"/>
                </a:solidFill>
                <a:latin typeface="Calibri"/>
              </a:rPr>
              <a:t>、知识与技能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能正确朗读课文，准确运用本单元的交际用语问答对方是否是某人，以及会向别人介绍自己的姓名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能听懂道别的日常用语并作出相应的回答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会唱歌谣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《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Are you Mike?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》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Arial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能用简单的英语交朋友，至少形成两个话轮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能正确认读和书写字母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Ee, Ff, Gg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能熟练表演文中的小故事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能在图片的提示下读懂动画中的幽默之处。</a:t>
            </a:r>
            <a:r>
              <a:rPr b="0" lang="zh-CN" sz="4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04720" y="1981080"/>
            <a:ext cx="365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单元目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AutoShape 8"/>
          <p:cNvSpPr/>
          <p:nvPr/>
        </p:nvSpPr>
        <p:spPr>
          <a:xfrm>
            <a:off x="2629080" y="289080"/>
            <a:ext cx="8891280" cy="13302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f7e3c5"/>
              </a:gs>
              <a:gs pos="50000">
                <a:srgbClr val="e9b261"/>
              </a:gs>
              <a:gs pos="100000">
                <a:srgbClr val="f7e3c5"/>
              </a:gs>
            </a:gsLst>
            <a:lin ang="81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一、单元整体分析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5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68000" y="2016000"/>
            <a:ext cx="13285800" cy="71280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0">
              <a:lnSpc>
                <a:spcPct val="115000"/>
              </a:lnSpc>
              <a:spcBef>
                <a:spcPts val="3124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Arial"/>
              </a:rPr>
              <a:t>、过程与方法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15000"/>
              </a:lnSpc>
              <a:spcBef>
                <a:spcPts val="950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800" spc="-1" strike="noStrike">
                <a:solidFill>
                  <a:srgbClr val="0000ff"/>
                </a:solidFill>
                <a:latin typeface="Arial"/>
                <a:ea typeface="Arial"/>
              </a:rPr>
              <a:t>通过语境理解日常用语</a:t>
            </a:r>
            <a:r>
              <a:rPr b="1" lang="zh-CN" sz="3800" spc="-1" strike="noStrike">
                <a:solidFill>
                  <a:srgbClr val="0000ff"/>
                </a:solidFill>
                <a:latin typeface="Arial"/>
                <a:ea typeface="Arial"/>
              </a:rPr>
              <a:t>Goodbye.</a:t>
            </a:r>
            <a:r>
              <a:rPr b="1" lang="zh-CN" sz="3800" spc="-1" strike="noStrike">
                <a:solidFill>
                  <a:srgbClr val="0000ff"/>
                </a:solidFill>
                <a:latin typeface="Arial"/>
                <a:ea typeface="Arial"/>
              </a:rPr>
              <a:t>等，并作出相应的应答。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15000"/>
              </a:lnSpc>
              <a:spcBef>
                <a:spcPts val="950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800" spc="-1" strike="noStrike">
                <a:solidFill>
                  <a:srgbClr val="0000ff"/>
                </a:solidFill>
                <a:latin typeface="Arial"/>
                <a:ea typeface="Arial"/>
              </a:rPr>
              <a:t>通过老师所创设的情境，根据图片或实际情况用</a:t>
            </a:r>
            <a:r>
              <a:rPr b="1" lang="zh-CN" sz="3800" spc="-1" strike="noStrike">
                <a:solidFill>
                  <a:srgbClr val="0000ff"/>
                </a:solidFill>
                <a:latin typeface="Arial"/>
                <a:ea typeface="Arial"/>
              </a:rPr>
              <a:t>Are you …? Yes, I am. / No, I’m not. I’m …</a:t>
            </a:r>
            <a:r>
              <a:rPr b="1" lang="zh-CN" sz="3800" spc="-1" strike="noStrike">
                <a:solidFill>
                  <a:srgbClr val="0000ff"/>
                </a:solidFill>
                <a:latin typeface="Arial"/>
                <a:ea typeface="Arial"/>
              </a:rPr>
              <a:t>正确表达。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15000"/>
              </a:lnSpc>
              <a:spcBef>
                <a:spcPts val="950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800" spc="-1" strike="noStrike">
                <a:solidFill>
                  <a:srgbClr val="0000ff"/>
                </a:solidFill>
                <a:latin typeface="Arial"/>
                <a:ea typeface="Arial"/>
              </a:rPr>
              <a:t>通过整体输入的方法，培养学生尝试初步阅读英语故事的能力。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15000"/>
              </a:lnSpc>
              <a:spcBef>
                <a:spcPts val="950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800" spc="-1" strike="noStrike">
                <a:solidFill>
                  <a:srgbClr val="0000ff"/>
                </a:solidFill>
                <a:latin typeface="Arial"/>
                <a:ea typeface="Arial"/>
              </a:rPr>
              <a:t>通过老师的提醒、示范，让学生正确认读和书写字母</a:t>
            </a:r>
            <a:r>
              <a:rPr b="1" lang="en-US" sz="3800" spc="-1" strike="noStrike">
                <a:solidFill>
                  <a:srgbClr val="0000ff"/>
                </a:solidFill>
                <a:latin typeface="Arial"/>
                <a:ea typeface="Arial"/>
              </a:rPr>
              <a:t>Ee, Ff, Gg</a:t>
            </a:r>
            <a:r>
              <a:rPr b="1" lang="zh-CN" sz="3800" spc="-1" strike="noStrike">
                <a:solidFill>
                  <a:srgbClr val="0000ff"/>
                </a:solidFill>
                <a:latin typeface="Arial"/>
                <a:ea typeface="Arial"/>
              </a:rPr>
              <a:t>。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15000"/>
              </a:lnSpc>
              <a:spcBef>
                <a:spcPts val="950"/>
              </a:spcBef>
              <a:buClr>
                <a:srgbClr val="ff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Arial"/>
                <a:ea typeface="Arial"/>
              </a:rPr>
              <a:t>结合口语日常考核规范，培养学生养成每日听录音的习惯（</a:t>
            </a:r>
            <a:r>
              <a:rPr b="1" lang="en-US" sz="3800" spc="-1" strike="noStrike">
                <a:solidFill>
                  <a:srgbClr val="ff0000"/>
                </a:solidFill>
                <a:latin typeface="Arial"/>
                <a:ea typeface="Arial"/>
              </a:rPr>
              <a:t>10-15</a:t>
            </a:r>
            <a:r>
              <a:rPr b="1" lang="zh-CN" sz="3800" spc="-1" strike="noStrike">
                <a:solidFill>
                  <a:srgbClr val="ff0000"/>
                </a:solidFill>
                <a:latin typeface="Arial"/>
                <a:ea typeface="Arial"/>
              </a:rPr>
              <a:t>分钟），并大声跟读、模仿。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"/>
          <p:cNvSpPr/>
          <p:nvPr/>
        </p:nvSpPr>
        <p:spPr>
          <a:xfrm>
            <a:off x="449280" y="755640"/>
            <a:ext cx="365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单元目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720360" y="2233440"/>
            <a:ext cx="12960360" cy="71280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0">
              <a:lnSpc>
                <a:spcPct val="80000"/>
              </a:lnSpc>
              <a:spcBef>
                <a:spcPts val="2937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4700" spc="-1" strike="noStrike">
                <a:solidFill>
                  <a:srgbClr val="000000"/>
                </a:solidFill>
                <a:latin typeface="Calibri"/>
              </a:rPr>
              <a:t>、情感、态度与价值观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5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通过本单元学习，引导学生要拥有热情、大方、友好的良好品质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5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通过本单元学习，培养学生对话表演的能力，体会英语学习的乐趣及成就感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5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通过本单元学习，逐步养成良好的书写习惯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5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学会如何礼貌与他人交往，通过中英文名字的表达方式的不同认识到中西文化差异的存在，了解并尊重异国文化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"/>
          <p:cNvSpPr/>
          <p:nvPr/>
        </p:nvSpPr>
        <p:spPr>
          <a:xfrm>
            <a:off x="647640" y="755640"/>
            <a:ext cx="365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单元目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828720" y="2664000"/>
            <a:ext cx="1036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720360" y="2701800"/>
            <a:ext cx="12960360" cy="71280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教学重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2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日常用语：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Are you …? Yes, I am. / No, I’m not. I’m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2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词汇：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yes, no, I'm=I am, yo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2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字母：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Ee, Ff, G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教学难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2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I’m, I am, goodbye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的读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2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句型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Are you…?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的声调以及正确回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2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字母：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Ff, Gg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的读音和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Ee, Ff, Gg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的正确书写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AutoShape 8"/>
          <p:cNvSpPr/>
          <p:nvPr/>
        </p:nvSpPr>
        <p:spPr>
          <a:xfrm>
            <a:off x="2629080" y="289080"/>
            <a:ext cx="8891280" cy="13302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f7e3c5"/>
              </a:gs>
              <a:gs pos="50000">
                <a:srgbClr val="e9b261"/>
              </a:gs>
              <a:gs pos="100000">
                <a:srgbClr val="f7e3c5"/>
              </a:gs>
            </a:gsLst>
            <a:lin ang="81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一、单元整体分析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20720" y="1909800"/>
            <a:ext cx="365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重点难点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5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828720" y="2664000"/>
            <a:ext cx="1036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955800" y="4302000"/>
            <a:ext cx="1036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4357440" y="1835280"/>
            <a:ext cx="7127640" cy="162072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Story tim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"/>
          <p:cNvSpPr/>
          <p:nvPr/>
        </p:nvSpPr>
        <p:spPr>
          <a:xfrm>
            <a:off x="684360" y="4319640"/>
            <a:ext cx="1256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044720" y="3095640"/>
            <a:ext cx="5435280" cy="61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 fontScale="96000"/>
          </a:bodyPr>
          <a:p>
            <a:pPr marL="518040" indent="-5180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教学建议：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518040" indent="-51804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整体输入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518040" indent="-51804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准确发音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518040" indent="-51804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适当渗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518040" indent="-518040">
              <a:lnSpc>
                <a:spcPct val="12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Arial"/>
              </a:rPr>
              <a:t>习惯养成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518040" indent="-51804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518040" indent="-51804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AutoShape 8"/>
          <p:cNvSpPr/>
          <p:nvPr/>
        </p:nvSpPr>
        <p:spPr>
          <a:xfrm>
            <a:off x="396720" y="431640"/>
            <a:ext cx="8891640" cy="13320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f7e3c5"/>
              </a:gs>
              <a:gs pos="50000">
                <a:srgbClr val="e9b261"/>
              </a:gs>
              <a:gs pos="100000">
                <a:srgbClr val="f7e3c5"/>
              </a:gs>
            </a:gsLst>
            <a:lin ang="81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Arial"/>
              </a:rPr>
              <a:t>二、板块解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008000" y="1476360"/>
            <a:ext cx="12638160" cy="64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教材内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单元教材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Greetings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主题，让学生学会用英语向别人问候、打招呼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词汇：虽然本单元教材中还没有出现主题词汇，但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Miss, class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重点掌握词汇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常交际用语：能准确运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Hello, Hi, Good morning, Good afternoon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别人打招呼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母：学习认读及书写字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Aa, Bb, Cc, Dd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识人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Miss Li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Mik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Su Hai, Yang Ling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AutoShape 8"/>
          <p:cNvSpPr/>
          <p:nvPr/>
        </p:nvSpPr>
        <p:spPr>
          <a:xfrm>
            <a:off x="2629080" y="289080"/>
            <a:ext cx="8891280" cy="13302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f7e3c5"/>
              </a:gs>
              <a:gs pos="50000">
                <a:srgbClr val="e9b261"/>
              </a:gs>
              <a:gs pos="100000">
                <a:srgbClr val="f7e3c5"/>
              </a:gs>
            </a:gsLst>
            <a:lin ang="81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一、单元整体分析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1079640" y="2916360"/>
            <a:ext cx="1036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84360" y="2808360"/>
            <a:ext cx="1256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76360" y="971640"/>
            <a:ext cx="13141080" cy="71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/>
          </a:bodyPr>
          <a:p>
            <a:pPr marL="539640" indent="-53964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活动设计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1. Game: Who are you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准备书中人物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ike, Su Hai, Yang Ling, Miss Li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的图片进行猜测游戏，一方面复习巩固人物，另一方面自然引出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re you…? Yes / No, …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2. Watch and ti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ho are they in the stor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76360" y="5437080"/>
            <a:ext cx="13141080" cy="71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/>
          </a:bodyPr>
          <a:p>
            <a:pPr marL="539640" indent="-53964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3. Watch and 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. Is the girl Su Hai?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（引导学生用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Yes / No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作简单回答。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. Who’s the boy?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（检测学生是否真的听懂。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. How to ask for new friend’s name?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（提炼新句型，点明其语用功能。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357800" y="-66600"/>
            <a:ext cx="7127640" cy="16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/>
          </a:bodyPr>
          <a:p>
            <a:pPr marL="539640" indent="-539640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Story tim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1079640" y="2916360"/>
            <a:ext cx="1036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84360" y="2808360"/>
            <a:ext cx="1256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76360" y="1549440"/>
            <a:ext cx="13141080" cy="71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 fontScale="89000"/>
          </a:bodyPr>
          <a:p>
            <a:pPr marL="480240" indent="-48024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活动设计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80240" indent="-48024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4. Read and a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80240" indent="-48024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5. Make a dialogue: Are you …?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Arial"/>
              </a:rPr>
              <a:t>如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80240" indent="-48024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: Hell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80240" indent="-48024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B: Hi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80240" indent="-48024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: Are you …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80240" indent="-48024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B: No, I’m not. I am 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80240" indent="-48024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: Nice to see you, 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80240" indent="-48024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B: Me, to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80240" indent="-48024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357800" y="324000"/>
            <a:ext cx="712764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/>
          </a:bodyPr>
          <a:p>
            <a:pPr marL="539640" indent="-539640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Story tim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008000" y="4176720"/>
            <a:ext cx="5221440" cy="4861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5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5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2" dur="500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5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5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zh-CN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"/>
          <p:cNvSpPr/>
          <p:nvPr/>
        </p:nvSpPr>
        <p:spPr>
          <a:xfrm>
            <a:off x="828720" y="2664000"/>
            <a:ext cx="1036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955800" y="4375080"/>
            <a:ext cx="1036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681440" y="2304720"/>
            <a:ext cx="5618160" cy="104148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 fontScale="68000"/>
          </a:bodyPr>
          <a:p>
            <a:pPr marL="366840"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Fun tim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"/>
          <p:cNvSpPr/>
          <p:nvPr/>
        </p:nvSpPr>
        <p:spPr>
          <a:xfrm>
            <a:off x="684360" y="4392720"/>
            <a:ext cx="1256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403280" y="3564000"/>
            <a:ext cx="62294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/>
          </a:bodyPr>
          <a:p>
            <a:pPr marL="539640" indent="-5396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教学建议：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413080" y="3600360"/>
            <a:ext cx="543564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 fontScale="99000"/>
          </a:bodyPr>
          <a:p>
            <a:pPr marL="534240" indent="-5342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534240" indent="-53424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Arial"/>
              </a:rPr>
              <a:t>激发兴趣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534240" indent="-53424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Arial"/>
              </a:rPr>
              <a:t>激活思维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534240" indent="-534240"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Arial"/>
              </a:rPr>
              <a:t>关注差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534240" indent="-534240"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Arial"/>
              </a:rPr>
              <a:t>适度拓展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534240" indent="-53424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534240" indent="-53424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AutoShape 8"/>
          <p:cNvSpPr/>
          <p:nvPr/>
        </p:nvSpPr>
        <p:spPr>
          <a:xfrm>
            <a:off x="396720" y="431640"/>
            <a:ext cx="8891640" cy="13320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f7e3c5"/>
              </a:gs>
              <a:gs pos="50000">
                <a:srgbClr val="e9b261"/>
              </a:gs>
              <a:gs pos="100000">
                <a:srgbClr val="f7e3c5"/>
              </a:gs>
            </a:gsLst>
            <a:lin ang="81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Arial"/>
              </a:rPr>
              <a:t>二、板块解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1079640" y="2916360"/>
            <a:ext cx="1036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2808360"/>
            <a:ext cx="1256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76360" y="1405080"/>
            <a:ext cx="13428720" cy="71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/>
          </a:bodyPr>
          <a:p>
            <a:pPr marL="952560" indent="-95256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活动设计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  <a:ea typeface="Arial"/>
              </a:rPr>
              <a:t>1. Listen and gu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  <a:ea typeface="Arial"/>
              </a:rPr>
              <a:t>2. Game: I'm a super sta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897440" y="287280"/>
            <a:ext cx="561816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 fontScale="68000"/>
          </a:bodyPr>
          <a:p>
            <a:pPr marL="366840" indent="-366840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Fun tim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6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828720" y="2664000"/>
            <a:ext cx="1036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079640" y="4392720"/>
            <a:ext cx="1036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84360" y="4284720"/>
            <a:ext cx="1256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76360" y="2881440"/>
            <a:ext cx="13141080" cy="71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/>
          </a:bodyPr>
          <a:p>
            <a:pPr marL="952560" indent="-952560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活动设计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1. Let’s re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hat’s fun from the cartoon?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id Bobby catch John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ho did Bobby catch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2. Let's a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3. Let's thin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hat do you think of Bobby and Sam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4. Let's sear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25800" y="1512720"/>
            <a:ext cx="1296036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 fontScale="68000"/>
          </a:bodyPr>
          <a:p>
            <a:pPr marL="366840" indent="-366840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Cartoon tim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AutoShape 8"/>
          <p:cNvSpPr/>
          <p:nvPr/>
        </p:nvSpPr>
        <p:spPr>
          <a:xfrm>
            <a:off x="396720" y="431640"/>
            <a:ext cx="8891640" cy="13320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f7e3c5"/>
              </a:gs>
              <a:gs pos="50000">
                <a:srgbClr val="e9b261"/>
              </a:gs>
              <a:gs pos="100000">
                <a:srgbClr val="f7e3c5"/>
              </a:gs>
            </a:gsLst>
            <a:lin ang="81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Arial"/>
              </a:rPr>
              <a:t>二、板块解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044720" y="9793440"/>
            <a:ext cx="133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布置学生了解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"Goodbye"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的由来，在下一个单元中作重点介绍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8" dur="5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7" dur="500"/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0" dur="500"/>
                                        <p:tgtEl>
                                          <p:spTgt spid="5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5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zh-CN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28720" y="2664000"/>
            <a:ext cx="1036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49080" y="1800000"/>
            <a:ext cx="12960360" cy="104292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Letter ti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/>
          <p:nvPr/>
        </p:nvSpPr>
        <p:spPr>
          <a:xfrm>
            <a:off x="684360" y="2736720"/>
            <a:ext cx="1256508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本单元呈现了字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e, Ff, G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，要求学生能够听、说、读、写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Ee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的发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口型学生容易不准，发音时舌尖顶下齿，前舌尽量抬高，口型扁平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一定注意把音发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其正确的笔顺也是难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Ff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中的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/ f /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是摩擦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，教会学生正确的发音口型：下唇轻触下齿，气流从唇齿间的缝隙中通过，摩擦成音，千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不要读成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/ v 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G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容易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错读成像汉语拼音的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ji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大写字母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G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的笔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也和以往不同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不再是一笔，而是两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，这点需要注意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AutoShape 8"/>
          <p:cNvSpPr/>
          <p:nvPr/>
        </p:nvSpPr>
        <p:spPr>
          <a:xfrm>
            <a:off x="396720" y="431640"/>
            <a:ext cx="8891640" cy="13320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f7e3c5"/>
              </a:gs>
              <a:gs pos="50000">
                <a:srgbClr val="e9b261"/>
              </a:gs>
              <a:gs pos="100000">
                <a:srgbClr val="f7e3c5"/>
              </a:gs>
            </a:gsLst>
            <a:lin ang="81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Arial"/>
              </a:rPr>
              <a:t>二、板块解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5" dur="5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079640" y="2916360"/>
            <a:ext cx="1036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4141440" y="-360"/>
            <a:ext cx="12960360" cy="104292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 fontScale="68000"/>
          </a:bodyPr>
          <a:p>
            <a:pPr marL="366840"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Letter tim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/>
          <p:nvPr/>
        </p:nvSpPr>
        <p:spPr>
          <a:xfrm>
            <a:off x="684360" y="2808360"/>
            <a:ext cx="1256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76360" y="1405080"/>
            <a:ext cx="13141080" cy="71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/>
          </a:bodyPr>
          <a:p>
            <a:pPr marL="952560" indent="-952560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活动设计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1.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Arial"/>
              </a:rPr>
              <a:t>联系实际生活中的物体帮助学生建立想象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E”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像山字倒一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F”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像把冲锋枪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G”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像一把大镰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2. Magic ea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0" dur="500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1079640" y="2916360"/>
            <a:ext cx="1036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84360" y="2808360"/>
            <a:ext cx="1256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76360" y="1405080"/>
            <a:ext cx="13141080" cy="71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/>
          </a:bodyPr>
          <a:p>
            <a:pPr marL="952560" indent="-952560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活动设计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3.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Arial"/>
              </a:rPr>
              <a:t>歌谣激趣，并适当拓展词汇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141800" y="0"/>
            <a:ext cx="1296036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 fontScale="68000"/>
          </a:bodyPr>
          <a:p>
            <a:pPr marL="366840" indent="-366840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Letter tim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6000" y="3600360"/>
            <a:ext cx="92646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 for apple.      E for eg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B for bee.         F for fis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 for cat.          G for gir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 for d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eer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47640" y="3498840"/>
            <a:ext cx="6516720" cy="3635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7345440" y="2665440"/>
            <a:ext cx="6840360" cy="673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8" dur="5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500"/>
                            </p:stCondLst>
                            <p:childTnLst>
                              <p:par>
                                <p:cTn id="8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2" dur="500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000"/>
                            </p:stCondLst>
                            <p:childTnLst>
                              <p:par>
                                <p:cTn id="8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1079640" y="2916360"/>
            <a:ext cx="1036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84360" y="2808360"/>
            <a:ext cx="1256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76360" y="1405080"/>
            <a:ext cx="13141080" cy="71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/>
          </a:bodyPr>
          <a:p>
            <a:pPr marL="952560" indent="-952560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活动设计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3.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Arial"/>
              </a:rPr>
              <a:t>歌谣激趣，并适当拓展词汇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141800" y="0"/>
            <a:ext cx="1296036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 fontScale="68000"/>
          </a:bodyPr>
          <a:p>
            <a:pPr marL="366840" indent="-366840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Letter tim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-176040" y="3852720"/>
            <a:ext cx="15153840" cy="4016520"/>
            <a:chOff x="-176040" y="3852720"/>
            <a:chExt cx="15153840" cy="4016520"/>
          </a:xfrm>
        </p:grpSpPr>
        <p:sp>
          <p:nvSpPr>
            <p:cNvPr id="572" name=""/>
            <p:cNvSpPr/>
            <p:nvPr/>
          </p:nvSpPr>
          <p:spPr>
            <a:xfrm>
              <a:off x="-176040" y="4087800"/>
              <a:ext cx="5543280" cy="37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         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, E, it's a sheep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's a white sheep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heep, sheep, a white sheep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's in the field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367240" y="4105080"/>
              <a:ext cx="5543280" cy="37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         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, F, it's a wolf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's a big wolf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olf, wolf, a big wolf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's in the cave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9434520" y="4087800"/>
              <a:ext cx="5543280" cy="37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         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G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G, G, it's a jeep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's a green jeep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Jeep, jeep, a green jeep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's near the tree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7600" y="3852720"/>
              <a:ext cx="5146200" cy="36352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548320" y="3852720"/>
              <a:ext cx="4067280" cy="36352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9794880" y="3852720"/>
              <a:ext cx="4320000" cy="36352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0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1" dur="500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1079640" y="2916360"/>
            <a:ext cx="1036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84360" y="2808360"/>
            <a:ext cx="1256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76360" y="1405080"/>
            <a:ext cx="13141080" cy="71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/>
          </a:bodyPr>
          <a:p>
            <a:pPr marL="952560" indent="-952560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活动设计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4.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Arial"/>
              </a:rPr>
              <a:t>字母妙趣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e.g.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例如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g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克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GB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英国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FBI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美国联邦调查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EO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首席执行官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E. T.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外星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141800" y="0"/>
            <a:ext cx="1296036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 fontScale="68000"/>
          </a:bodyPr>
          <a:p>
            <a:pPr marL="366840" indent="-366840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Letter tim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0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500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6" dur="500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500"/>
                            </p:stCondLst>
                            <p:childTnLst>
                              <p:par>
                                <p:cTn id="8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4" dur="500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612360" y="3347640"/>
            <a:ext cx="12960360" cy="1079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0">
              <a:spcBef>
                <a:spcPts val="110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"/>
          <p:cNvSpPr/>
          <p:nvPr/>
        </p:nvSpPr>
        <p:spPr>
          <a:xfrm>
            <a:off x="1222200" y="3341520"/>
            <a:ext cx="1051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 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不会也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224000" y="5070600"/>
            <a:ext cx="975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 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会也不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260360" y="6762600"/>
            <a:ext cx="97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 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求会更求乐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AutoShape 8"/>
          <p:cNvSpPr/>
          <p:nvPr/>
        </p:nvSpPr>
        <p:spPr>
          <a:xfrm>
            <a:off x="2629080" y="289080"/>
            <a:ext cx="8891280" cy="13302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f7e3c5"/>
              </a:gs>
              <a:gs pos="50000">
                <a:srgbClr val="e9b261"/>
              </a:gs>
              <a:gs pos="100000">
                <a:srgbClr val="f7e3c5"/>
              </a:gs>
            </a:gsLst>
            <a:lin ang="81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一、单元整体分析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206360" y="1981080"/>
            <a:ext cx="365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学情分析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72720" y="1620720"/>
            <a:ext cx="12960360" cy="7574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0">
              <a:spcBef>
                <a:spcPts val="10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本单元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arning tip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在字母板块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"/>
          <p:cNvSpPr/>
          <p:nvPr/>
        </p:nvSpPr>
        <p:spPr>
          <a:xfrm>
            <a:off x="4249800" y="144360"/>
            <a:ext cx="1296036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 fontScale="68000"/>
          </a:bodyPr>
          <a:p>
            <a:pPr marL="366840" indent="-366840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Learning tip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20720" y="3849840"/>
            <a:ext cx="130334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Arial"/>
              </a:rPr>
              <a:t>要求学生养成大声朗读用语的习惯。作为一项口语日常考核要求，要求学生不仅要读得正确，还要大声。并进一步提示学生养成每日听录音的习惯（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0-15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Arial"/>
              </a:rPr>
              <a:t>分钟），大声跟读、模仿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2844720" y="2521080"/>
            <a:ext cx="8747280" cy="718920"/>
            <a:chOff x="2844720" y="2521080"/>
            <a:chExt cx="8747280" cy="718920"/>
          </a:xfrm>
        </p:grpSpPr>
        <p:sp>
          <p:nvSpPr>
            <p:cNvPr id="586" name=""/>
            <p:cNvSpPr/>
            <p:nvPr/>
          </p:nvSpPr>
          <p:spPr>
            <a:xfrm>
              <a:off x="2844720" y="2521080"/>
              <a:ext cx="8747280" cy="71892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781080" y="2556000"/>
              <a:ext cx="701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Arial"/>
                </a:rPr>
                <a:t>Tip: Read these letters aloud.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1079640" y="4608360"/>
            <a:ext cx="1036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84360" y="4500720"/>
            <a:ext cx="1256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76360" y="3097080"/>
            <a:ext cx="13141080" cy="71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/>
          </a:bodyPr>
          <a:p>
            <a:pPr marL="952560" indent="-952560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活动设计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1.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Arial"/>
              </a:rPr>
              <a:t>边唱边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Arial"/>
              </a:rPr>
              <a:t>学生通过听录音或观看光盘模仿演唱，然后进行表演唱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学生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A: (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做打招呼的手势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) Hi. Hi. Are you Mik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学生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B: (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做点头动作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)Yes. Yes. You're righ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学生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A: (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做打招呼的手势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) Hi. Hi. Are you Mo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学生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B: (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做摇头动作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)No. No. I'm Jo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Arial"/>
              </a:rPr>
              <a:t>也可以大组之间对唱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4249440" y="1944360"/>
            <a:ext cx="12960360" cy="104292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 fontScale="74000"/>
          </a:bodyPr>
          <a:p>
            <a:pPr marL="3992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Rhyme tim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AutoShape 8"/>
          <p:cNvSpPr/>
          <p:nvPr/>
        </p:nvSpPr>
        <p:spPr>
          <a:xfrm>
            <a:off x="396720" y="431640"/>
            <a:ext cx="8891640" cy="13320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f7e3c5"/>
              </a:gs>
              <a:gs pos="50000">
                <a:srgbClr val="e9b261"/>
              </a:gs>
              <a:gs pos="100000">
                <a:srgbClr val="f7e3c5"/>
              </a:gs>
            </a:gsLst>
            <a:lin ang="81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Arial"/>
              </a:rPr>
              <a:t>二、板块解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1" dur="500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4" dur="500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7" dur="500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0" dur="500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3" dur="500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6" dur="500"/>
                                        <p:tgtEl>
                                          <p:spTgt spid="5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9" dur="500"/>
                                        <p:tgtEl>
                                          <p:spTgt spid="5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2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1079640" y="2916360"/>
            <a:ext cx="1036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84360" y="2808360"/>
            <a:ext cx="1256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76360" y="1405080"/>
            <a:ext cx="7380360" cy="49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 fontScale="90000"/>
          </a:bodyPr>
          <a:p>
            <a:pPr marL="857160" indent="-857160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活动设计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57160" indent="-8571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Arial"/>
              </a:rPr>
              <a:t>2.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Arial"/>
              </a:rPr>
              <a:t>歌谣欣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857160" indent="-8571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857160" indent="-8571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i. Hi. Are you Mik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857160" indent="-8571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Yes. Yes. I'm Mik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857160" indent="-8571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ello. Hello. Are you Hel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857160" indent="-8571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No. No. I am Ellen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008000" y="3638520"/>
            <a:ext cx="6373800" cy="3274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7561440" y="3638520"/>
            <a:ext cx="7992360" cy="5075280"/>
            <a:chOff x="7561440" y="3638520"/>
            <a:chExt cx="7992360" cy="5075280"/>
          </a:xfrm>
        </p:grpSpPr>
        <p:sp>
          <p:nvSpPr>
            <p:cNvPr id="598" name=""/>
            <p:cNvSpPr/>
            <p:nvPr/>
          </p:nvSpPr>
          <p:spPr>
            <a:xfrm>
              <a:off x="8173800" y="3781440"/>
              <a:ext cx="7380000" cy="49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000" rIns="144000" tIns="72000" bIns="72000" anchor="t">
              <a:normAutofit/>
            </a:bodyPr>
            <a:p>
              <a:pPr marL="952560" indent="-952560">
                <a:lnSpc>
                  <a:spcPct val="115000"/>
                </a:lnSpc>
                <a:spcBef>
                  <a:spcPts val="901"/>
                </a:spcBef>
                <a:tabLst>
                  <a:tab algn="l" pos="0"/>
                  <a:tab algn="l" pos="1440000"/>
                  <a:tab algn="l" pos="2879640"/>
                  <a:tab algn="l" pos="4319640"/>
                  <a:tab algn="l" pos="5759280"/>
                  <a:tab algn="l" pos="7199280"/>
                  <a:tab algn="l" pos="8639280"/>
                  <a:tab algn="l" pos="1007892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re you Miss White?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marL="952560" indent="-952560">
                <a:lnSpc>
                  <a:spcPct val="115000"/>
                </a:lnSpc>
                <a:spcBef>
                  <a:spcPts val="901"/>
                </a:spcBef>
                <a:tabLst>
                  <a:tab algn="l" pos="0"/>
                  <a:tab algn="l" pos="1440000"/>
                  <a:tab algn="l" pos="2879640"/>
                  <a:tab algn="l" pos="4319640"/>
                  <a:tab algn="l" pos="5759280"/>
                  <a:tab algn="l" pos="7199280"/>
                  <a:tab algn="l" pos="8639280"/>
                  <a:tab algn="l" pos="1007892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Yes. You are right.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marL="952560" indent="-952560">
                <a:lnSpc>
                  <a:spcPct val="115000"/>
                </a:lnSpc>
                <a:spcBef>
                  <a:spcPts val="901"/>
                </a:spcBef>
                <a:tabLst>
                  <a:tab algn="l" pos="0"/>
                  <a:tab algn="l" pos="1440000"/>
                  <a:tab algn="l" pos="2879640"/>
                  <a:tab algn="l" pos="4319640"/>
                  <a:tab algn="l" pos="5759280"/>
                  <a:tab algn="l" pos="7199280"/>
                  <a:tab algn="l" pos="8639280"/>
                  <a:tab algn="l" pos="1007892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re you Mr White?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marL="952560" indent="-952560">
                <a:lnSpc>
                  <a:spcPct val="115000"/>
                </a:lnSpc>
                <a:spcBef>
                  <a:spcPts val="901"/>
                </a:spcBef>
                <a:tabLst>
                  <a:tab algn="l" pos="0"/>
                  <a:tab algn="l" pos="1440000"/>
                  <a:tab algn="l" pos="2879640"/>
                  <a:tab algn="l" pos="4319640"/>
                  <a:tab algn="l" pos="5759280"/>
                  <a:tab algn="l" pos="7199280"/>
                  <a:tab algn="l" pos="8639280"/>
                  <a:tab algn="l" pos="1007892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No. I'm Mr Black.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561440" y="3638520"/>
              <a:ext cx="6372000" cy="327492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0" name="PlaceHolder 1"/>
          <p:cNvSpPr>
            <a:spLocks noGrp="1"/>
          </p:cNvSpPr>
          <p:nvPr>
            <p:ph/>
          </p:nvPr>
        </p:nvSpPr>
        <p:spPr>
          <a:xfrm>
            <a:off x="4249440" y="144000"/>
            <a:ext cx="12960360" cy="104292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 fontScale="68000"/>
          </a:bodyPr>
          <a:p>
            <a:pPr marL="366840"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Rhyme tim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9" dur="50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8" dur="500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1" dur="500"/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4" dur="500"/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7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828720" y="2664000"/>
            <a:ext cx="1036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079640" y="2916360"/>
            <a:ext cx="1036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3781440" y="1439640"/>
            <a:ext cx="7632720" cy="104292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 fontScale="91000"/>
          </a:bodyPr>
          <a:p>
            <a:pPr marL="491040" indent="0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Checkout tim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"/>
          <p:cNvSpPr/>
          <p:nvPr/>
        </p:nvSpPr>
        <p:spPr>
          <a:xfrm>
            <a:off x="684360" y="2808360"/>
            <a:ext cx="1256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76360" y="2160720"/>
            <a:ext cx="13141080" cy="71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/>
          </a:bodyPr>
          <a:p>
            <a:pPr marL="952560" indent="-952560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活动设计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1. Look and s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看书中图片，推测他们的对话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2.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Arial"/>
              </a:rPr>
              <a:t>Think and act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Arial"/>
              </a:rPr>
              <a:t>根据图片情景，尝试综合语言会话，如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1476360" y="5616720"/>
            <a:ext cx="7669080" cy="5074560"/>
            <a:chOff x="1476360" y="5616720"/>
            <a:chExt cx="7669080" cy="5074560"/>
          </a:xfrm>
        </p:grpSpPr>
        <p:sp>
          <p:nvSpPr>
            <p:cNvPr id="607" name=""/>
            <p:cNvSpPr/>
            <p:nvPr/>
          </p:nvSpPr>
          <p:spPr>
            <a:xfrm>
              <a:off x="1765440" y="5759280"/>
              <a:ext cx="7380000" cy="49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000" rIns="144000" tIns="72000" bIns="72000" anchor="t">
              <a:normAutofit/>
            </a:bodyPr>
            <a:p>
              <a:pPr marL="952560" indent="-952560">
                <a:lnSpc>
                  <a:spcPct val="115000"/>
                </a:lnSpc>
                <a:spcBef>
                  <a:spcPts val="901"/>
                </a:spcBef>
                <a:tabLst>
                  <a:tab algn="l" pos="0"/>
                  <a:tab algn="l" pos="1440000"/>
                  <a:tab algn="l" pos="2879640"/>
                  <a:tab algn="l" pos="4319640"/>
                  <a:tab algn="l" pos="5759280"/>
                  <a:tab algn="l" pos="7199280"/>
                  <a:tab algn="l" pos="8639280"/>
                  <a:tab algn="l" pos="1007892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: Hello.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marL="952560" indent="-952560">
                <a:lnSpc>
                  <a:spcPct val="115000"/>
                </a:lnSpc>
                <a:spcBef>
                  <a:spcPts val="901"/>
                </a:spcBef>
                <a:tabLst>
                  <a:tab algn="l" pos="0"/>
                  <a:tab algn="l" pos="1440000"/>
                  <a:tab algn="l" pos="2879640"/>
                  <a:tab algn="l" pos="4319640"/>
                  <a:tab algn="l" pos="5759280"/>
                  <a:tab algn="l" pos="7199280"/>
                  <a:tab algn="l" pos="8639280"/>
                  <a:tab algn="l" pos="1007892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: Hi.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marL="952560" indent="-952560">
                <a:lnSpc>
                  <a:spcPct val="115000"/>
                </a:lnSpc>
                <a:spcBef>
                  <a:spcPts val="901"/>
                </a:spcBef>
                <a:tabLst>
                  <a:tab algn="l" pos="0"/>
                  <a:tab algn="l" pos="1440000"/>
                  <a:tab algn="l" pos="2879640"/>
                  <a:tab algn="l" pos="4319640"/>
                  <a:tab algn="l" pos="5759280"/>
                  <a:tab algn="l" pos="7199280"/>
                  <a:tab algn="l" pos="8639280"/>
                  <a:tab algn="l" pos="1007892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: Are you …?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marL="952560" indent="-952560">
                <a:lnSpc>
                  <a:spcPct val="115000"/>
                </a:lnSpc>
                <a:spcBef>
                  <a:spcPts val="901"/>
                </a:spcBef>
                <a:tabLst>
                  <a:tab algn="l" pos="0"/>
                  <a:tab algn="l" pos="1440000"/>
                  <a:tab algn="l" pos="2879640"/>
                  <a:tab algn="l" pos="4319640"/>
                  <a:tab algn="l" pos="5759280"/>
                  <a:tab algn="l" pos="7199280"/>
                  <a:tab algn="l" pos="8639280"/>
                  <a:tab algn="l" pos="1007892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: Yes, I am.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marL="952560" indent="-952560">
                <a:lnSpc>
                  <a:spcPct val="115000"/>
                </a:lnSpc>
                <a:spcBef>
                  <a:spcPts val="901"/>
                </a:spcBef>
                <a:tabLst>
                  <a:tab algn="l" pos="0"/>
                  <a:tab algn="l" pos="1440000"/>
                  <a:tab algn="l" pos="2879640"/>
                  <a:tab algn="l" pos="4319640"/>
                  <a:tab algn="l" pos="5759280"/>
                  <a:tab algn="l" pos="7199280"/>
                  <a:tab algn="l" pos="8639280"/>
                  <a:tab algn="l" pos="1007892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: Nice to see you, …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marL="952560" indent="-952560">
                <a:lnSpc>
                  <a:spcPct val="115000"/>
                </a:lnSpc>
                <a:spcBef>
                  <a:spcPts val="901"/>
                </a:spcBef>
                <a:tabLst>
                  <a:tab algn="l" pos="0"/>
                  <a:tab algn="l" pos="1440000"/>
                  <a:tab algn="l" pos="2879640"/>
                  <a:tab algn="l" pos="4319640"/>
                  <a:tab algn="l" pos="5759280"/>
                  <a:tab algn="l" pos="7199280"/>
                  <a:tab algn="l" pos="8639280"/>
                  <a:tab algn="l" pos="1007892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: Me, too.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476360" y="5616720"/>
              <a:ext cx="5688000" cy="464472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7381800" y="5580000"/>
            <a:ext cx="7667280" cy="5075280"/>
            <a:chOff x="7381800" y="5580000"/>
            <a:chExt cx="7667280" cy="5075280"/>
          </a:xfrm>
        </p:grpSpPr>
        <p:sp>
          <p:nvSpPr>
            <p:cNvPr id="610" name=""/>
            <p:cNvSpPr/>
            <p:nvPr/>
          </p:nvSpPr>
          <p:spPr>
            <a:xfrm>
              <a:off x="7670520" y="5722920"/>
              <a:ext cx="7378560" cy="49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000" rIns="144000" tIns="72000" bIns="72000" anchor="t">
              <a:normAutofit/>
            </a:bodyPr>
            <a:p>
              <a:pPr marL="952560" indent="-952560">
                <a:lnSpc>
                  <a:spcPct val="115000"/>
                </a:lnSpc>
                <a:spcBef>
                  <a:spcPts val="901"/>
                </a:spcBef>
                <a:tabLst>
                  <a:tab algn="l" pos="0"/>
                  <a:tab algn="l" pos="1440000"/>
                  <a:tab algn="l" pos="2879640"/>
                  <a:tab algn="l" pos="4319640"/>
                  <a:tab algn="l" pos="5759280"/>
                  <a:tab algn="l" pos="7199280"/>
                  <a:tab algn="l" pos="8639280"/>
                  <a:tab algn="l" pos="1007892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: Hello.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marL="952560" indent="-952560">
                <a:lnSpc>
                  <a:spcPct val="115000"/>
                </a:lnSpc>
                <a:spcBef>
                  <a:spcPts val="901"/>
                </a:spcBef>
                <a:tabLst>
                  <a:tab algn="l" pos="0"/>
                  <a:tab algn="l" pos="1440000"/>
                  <a:tab algn="l" pos="2879640"/>
                  <a:tab algn="l" pos="4319640"/>
                  <a:tab algn="l" pos="5759280"/>
                  <a:tab algn="l" pos="7199280"/>
                  <a:tab algn="l" pos="8639280"/>
                  <a:tab algn="l" pos="1007892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: Hi.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marL="952560" indent="-952560">
                <a:lnSpc>
                  <a:spcPct val="115000"/>
                </a:lnSpc>
                <a:spcBef>
                  <a:spcPts val="901"/>
                </a:spcBef>
                <a:tabLst>
                  <a:tab algn="l" pos="0"/>
                  <a:tab algn="l" pos="1440000"/>
                  <a:tab algn="l" pos="2879640"/>
                  <a:tab algn="l" pos="4319640"/>
                  <a:tab algn="l" pos="5759280"/>
                  <a:tab algn="l" pos="7199280"/>
                  <a:tab algn="l" pos="8639280"/>
                  <a:tab algn="l" pos="1007892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: Are you …?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marL="952560" indent="-952560">
                <a:lnSpc>
                  <a:spcPct val="115000"/>
                </a:lnSpc>
                <a:spcBef>
                  <a:spcPts val="901"/>
                </a:spcBef>
                <a:tabLst>
                  <a:tab algn="l" pos="0"/>
                  <a:tab algn="l" pos="1440000"/>
                  <a:tab algn="l" pos="2879640"/>
                  <a:tab algn="l" pos="4319640"/>
                  <a:tab algn="l" pos="5759280"/>
                  <a:tab algn="l" pos="7199280"/>
                  <a:tab algn="l" pos="8639280"/>
                  <a:tab algn="l" pos="1007892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: No, I’m not. …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marL="952560" indent="-952560">
                <a:lnSpc>
                  <a:spcPct val="115000"/>
                </a:lnSpc>
                <a:spcBef>
                  <a:spcPts val="901"/>
                </a:spcBef>
                <a:tabLst>
                  <a:tab algn="l" pos="0"/>
                  <a:tab algn="l" pos="1440000"/>
                  <a:tab algn="l" pos="2879640"/>
                  <a:tab algn="l" pos="4319640"/>
                  <a:tab algn="l" pos="5759280"/>
                  <a:tab algn="l" pos="7199280"/>
                  <a:tab algn="l" pos="8639280"/>
                  <a:tab algn="l" pos="1007892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: What's your name?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marL="952560" indent="-952560">
                <a:lnSpc>
                  <a:spcPct val="115000"/>
                </a:lnSpc>
                <a:spcBef>
                  <a:spcPts val="901"/>
                </a:spcBef>
                <a:tabLst>
                  <a:tab algn="l" pos="0"/>
                  <a:tab algn="l" pos="1440000"/>
                  <a:tab algn="l" pos="2879640"/>
                  <a:tab algn="l" pos="4319640"/>
                  <a:tab algn="l" pos="5759280"/>
                  <a:tab algn="l" pos="7199280"/>
                  <a:tab algn="l" pos="8639280"/>
                  <a:tab algn="l" pos="1007892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: I'm ...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381800" y="5580000"/>
              <a:ext cx="5686920" cy="46450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2" name="AutoShape 8"/>
          <p:cNvSpPr/>
          <p:nvPr/>
        </p:nvSpPr>
        <p:spPr>
          <a:xfrm>
            <a:off x="396720" y="181080"/>
            <a:ext cx="8891640" cy="13316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f7e3c5"/>
              </a:gs>
              <a:gs pos="50000">
                <a:srgbClr val="e9b261"/>
              </a:gs>
              <a:gs pos="100000">
                <a:srgbClr val="f7e3c5"/>
              </a:gs>
            </a:gsLst>
            <a:lin ang="81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Arial"/>
              </a:rPr>
              <a:t>二、板块解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4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9" dur="5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2" dur="5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7" dur="500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0" dur="500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/>
          </p:nvPr>
        </p:nvSpPr>
        <p:spPr>
          <a:xfrm>
            <a:off x="3384720" y="181080"/>
            <a:ext cx="11448720" cy="16905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Checkout tim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"/>
          <p:cNvSpPr/>
          <p:nvPr/>
        </p:nvSpPr>
        <p:spPr>
          <a:xfrm>
            <a:off x="1079640" y="2916360"/>
            <a:ext cx="1036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84360" y="2808360"/>
            <a:ext cx="1256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828720" y="1368360"/>
            <a:ext cx="13141440" cy="71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/>
          </a:bodyPr>
          <a:p>
            <a:pPr marL="952560" indent="-952560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活动设计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3. Read and think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Arial"/>
              </a:rPr>
              <a:t>在新的情境中复习，如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441440" y="3133800"/>
            <a:ext cx="11163240" cy="67323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981080" y="3168720"/>
            <a:ext cx="10331640" cy="13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第一次参加学校英语俱乐部，看见许多来自不同班级的学生，你在这里想交一些新的小伙伴，你有俱乐部同学的名册，那你该怎么跟他们打招呼，怎样介绍自己，又怎么询问他人的姓名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9" name="Text Placeholder 2" descr=""/>
          <p:cNvPicPr/>
          <p:nvPr/>
        </p:nvPicPr>
        <p:blipFill>
          <a:blip r:embed="rId2"/>
          <a:stretch/>
        </p:blipFill>
        <p:spPr>
          <a:xfrm>
            <a:off x="3997440" y="5473800"/>
            <a:ext cx="6119640" cy="4235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6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zh-CN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828720" y="2664000"/>
            <a:ext cx="1036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49080" y="2123640"/>
            <a:ext cx="12960360" cy="104292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Ticking ti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"/>
          <p:cNvSpPr/>
          <p:nvPr/>
        </p:nvSpPr>
        <p:spPr>
          <a:xfrm>
            <a:off x="684360" y="3105000"/>
            <a:ext cx="1321272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自我评价板块。教师可以让学生逐步熟悉：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reat, Good, You can do better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所指的星数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本单元的自评要求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我会说：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'm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我会问与答：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re you ...? Yes, ... / No, 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我会说，会写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e, Ff, G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除此以外，让学生进一步熟悉句子的固定结构：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 can…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，能够做到  听懂、会认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AutoShape 8"/>
          <p:cNvSpPr/>
          <p:nvPr/>
        </p:nvSpPr>
        <p:spPr>
          <a:xfrm>
            <a:off x="396720" y="431640"/>
            <a:ext cx="8891640" cy="13320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f7e3c5"/>
              </a:gs>
              <a:gs pos="50000">
                <a:srgbClr val="e9b261"/>
              </a:gs>
              <a:gs pos="100000">
                <a:srgbClr val="f7e3c5"/>
              </a:gs>
            </a:gsLst>
            <a:lin ang="81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Arial"/>
              </a:rPr>
              <a:t>二、板块解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6" dur="5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828720" y="2664000"/>
            <a:ext cx="1036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84360" y="2808360"/>
            <a:ext cx="1256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403280" y="1979640"/>
            <a:ext cx="1080144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/>
          </a:bodyPr>
          <a:p>
            <a:pPr marL="539640" indent="-5396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教学建议：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Arial"/>
              </a:rPr>
              <a:t>注重评价的激励性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405080" y="4537080"/>
            <a:ext cx="12457080" cy="61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/>
          </a:bodyPr>
          <a:p>
            <a:pPr marL="539640" indent="-53964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Arial"/>
              </a:rPr>
              <a:t>注意评价的合理性和多样性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熟悉互评，组评规则，习惯日常口语常规检测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/>
          </p:nvPr>
        </p:nvSpPr>
        <p:spPr>
          <a:xfrm>
            <a:off x="4463640" y="144000"/>
            <a:ext cx="12960360" cy="104292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 fontScale="68000"/>
          </a:bodyPr>
          <a:p>
            <a:pPr marL="366840"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Ticking tim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8" dur="500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1" dur="500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4" dur="500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1079640" y="2916360"/>
            <a:ext cx="1036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/>
          </p:nvPr>
        </p:nvSpPr>
        <p:spPr>
          <a:xfrm>
            <a:off x="4068360" y="-360"/>
            <a:ext cx="12960360" cy="104292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 fontScale="68000"/>
          </a:bodyPr>
          <a:p>
            <a:pPr marL="366840"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Ticking tim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"/>
          <p:cNvSpPr/>
          <p:nvPr/>
        </p:nvSpPr>
        <p:spPr>
          <a:xfrm>
            <a:off x="684360" y="2808360"/>
            <a:ext cx="1256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76360" y="1405080"/>
            <a:ext cx="13501440" cy="71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 fontScale="93000"/>
          </a:bodyPr>
          <a:p>
            <a:pPr marL="885600" indent="-885600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活动设计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5600" indent="-885600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1. I can ass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885600" indent="-885600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在自评的过程中读出相应的内容，小组内朗读，再互评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885600" indent="-885600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2. I know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885600" indent="-885600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学生自主复习、归纳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885600" indent="-885600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3. I know mor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885600" indent="-885600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在单元基础上允许学生说出更多有关本单元主题的内容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885600" indent="-885600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作为加星项目，如：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What's your name? Nice to se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885600" indent="-885600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you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等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885600" indent="-885600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0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1" dur="500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4" dur="500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7" dur="500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0" dur="500"/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3" dur="500"/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6" dur="500"/>
                                        <p:tgtEl>
                                          <p:spTgt spid="6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9" dur="500"/>
                                        <p:tgtEl>
                                          <p:spTgt spid="6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2" dur="500"/>
                                        <p:tgtEl>
                                          <p:spTgt spid="6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zh-CN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828720" y="2664000"/>
            <a:ext cx="1036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39280" y="2233440"/>
            <a:ext cx="13214520" cy="104328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 fontScale="15000"/>
          </a:bodyPr>
          <a:p>
            <a:pPr marL="8064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Arial"/>
              </a:rPr>
              <a:t>第一课时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Arial"/>
              </a:rPr>
              <a:t>Story ti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8064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Arial"/>
              </a:rPr>
              <a:t>第二课时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Arial"/>
              </a:rPr>
              <a:t>Fun time &amp; Rhyme ti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8064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Arial"/>
              </a:rPr>
              <a:t>第三课时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Arial"/>
              </a:rPr>
              <a:t>Cartoon time &amp; Checkout ti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8064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Arial"/>
              </a:rPr>
              <a:t>第四课时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Arial"/>
              </a:rPr>
              <a:t>Letter ti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8064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Arial"/>
              </a:rPr>
              <a:t>第五课时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Arial"/>
              </a:rPr>
              <a:t>单元整合复习，会话表演和练习拓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8064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Arial"/>
              </a:rPr>
              <a:t>第六课时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Arial"/>
              </a:rPr>
              <a:t>会话表演，单元练习和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Arial"/>
              </a:rPr>
              <a:t>Ticking ti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8064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AutoShape 8"/>
          <p:cNvSpPr/>
          <p:nvPr/>
        </p:nvSpPr>
        <p:spPr>
          <a:xfrm>
            <a:off x="396720" y="431640"/>
            <a:ext cx="8891640" cy="13320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f7e3c5"/>
              </a:gs>
              <a:gs pos="50000">
                <a:srgbClr val="e9b261"/>
              </a:gs>
              <a:gs pos="100000">
                <a:srgbClr val="f7e3c5"/>
              </a:gs>
            </a:gsLst>
            <a:lin ang="81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Arial"/>
              </a:rPr>
              <a:t>三、课时划分建议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5473800" y="8496360"/>
            <a:ext cx="4032000" cy="2016000"/>
            <a:chOff x="5473800" y="8496360"/>
            <a:chExt cx="4032000" cy="2016000"/>
          </a:xfrm>
        </p:grpSpPr>
        <p:sp>
          <p:nvSpPr>
            <p:cNvPr id="639" name=""/>
            <p:cNvSpPr/>
            <p:nvPr/>
          </p:nvSpPr>
          <p:spPr>
            <a:xfrm>
              <a:off x="5473800" y="8496360"/>
              <a:ext cx="3420000" cy="2016000"/>
            </a:xfrm>
            <a:custGeom>
              <a:avLst/>
              <a:gdLst>
                <a:gd name="textAreaLeft" fmla="*/ 803520 w 3420000"/>
                <a:gd name="textAreaRight" fmla="*/ 2613960 w 3420000"/>
                <a:gd name="textAreaTop" fmla="*/ 236880 h 2016000"/>
                <a:gd name="textAreaBottom" fmla="*/ 1264680 h 20160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217920" y="8712000"/>
              <a:ext cx="3287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分享</a:t>
              </a: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9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4" dur="5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9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9" dur="500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4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 txBox="1"/>
          <p:nvPr/>
        </p:nvSpPr>
        <p:spPr>
          <a:xfrm>
            <a:off x="2521080" y="2987640"/>
            <a:ext cx="8820000" cy="34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ln w="9360">
                  <a:solidFill>
                    <a:srgbClr val="4f81bd"/>
                  </a:solidFill>
                  <a:miter/>
                </a:ln>
                <a:solidFill>
                  <a:srgbClr val="993300"/>
                </a:solidFill>
                <a:effectLst>
                  <a:outerShdw dist="53966" dir="2700000" blurRad="0" rotWithShape="0">
                    <a:srgbClr val="c0c0c0">
                      <a:alpha val="76000"/>
                    </a:srgbClr>
                  </a:outerShdw>
                </a:effectLst>
                <a:latin typeface="华文彩云"/>
              </a:rPr>
              <a:t>Thank you very much!</a:t>
            </a:r>
            <a:endParaRPr b="1" lang="en-US" sz="6000" spc="-1" strike="noStrike">
              <a:ln w="9360">
                <a:solidFill>
                  <a:srgbClr val="4f81bd"/>
                </a:solidFill>
                <a:miter/>
              </a:ln>
              <a:solidFill>
                <a:srgbClr val="993300"/>
              </a:solidFill>
              <a:effectLst>
                <a:outerShdw dist="53966" dir="2700000" blurRad="0" rotWithShape="0">
                  <a:srgbClr val="c0c0c0">
                    <a:alpha val="76000"/>
                  </a:srgbClr>
                </a:outerShdw>
              </a:effectLst>
              <a:latin typeface="华文彩云"/>
              <a:ea typeface="华文彩云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85800" y="3060720"/>
            <a:ext cx="13716000" cy="71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/>
          </a:bodyPr>
          <a:p>
            <a:pPr marL="539640" indent="-539640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lang="zh-CN" sz="5000" spc="-1" strike="noStrike">
                <a:solidFill>
                  <a:srgbClr val="ffffff"/>
                </a:solidFill>
                <a:latin typeface="Calibri"/>
              </a:rPr>
              <a:t>、知识与技能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能正确朗读课文，准确运用本单元的交际用语互致问候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能在教师的指导下用英语做游戏并在游戏中进行简单的交际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会唱歌曲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《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Good morning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》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Arial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Arial"/>
              </a:rPr>
              <a:t>能正确认读和书写字母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Aa, Bb, Cc, Dd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Arial"/>
              </a:rPr>
              <a:t>，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初步养成良好的书写习惯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能做简单的角色表演，熟练表演文中的小故事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能在图片的提示下读懂动画中的幽默之处。</a:t>
            </a:r>
            <a:r>
              <a:rPr b="0" lang="zh-CN" sz="4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AutoShape 8"/>
          <p:cNvSpPr/>
          <p:nvPr/>
        </p:nvSpPr>
        <p:spPr>
          <a:xfrm>
            <a:off x="2629080" y="289080"/>
            <a:ext cx="8891280" cy="13302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f7e3c5"/>
              </a:gs>
              <a:gs pos="50000">
                <a:srgbClr val="e9b261"/>
              </a:gs>
              <a:gs pos="100000">
                <a:srgbClr val="f7e3c5"/>
              </a:gs>
            </a:gsLst>
            <a:lin ang="81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一、单元整体分析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84360" y="1981080"/>
            <a:ext cx="365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单元目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68000" y="2016000"/>
            <a:ext cx="13285800" cy="71280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0">
              <a:lnSpc>
                <a:spcPct val="115000"/>
              </a:lnSpc>
              <a:spcBef>
                <a:spcPts val="3124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5000" spc="-1" strike="noStrike">
                <a:solidFill>
                  <a:srgbClr val="000000"/>
                </a:solidFill>
                <a:latin typeface="Calibri"/>
              </a:rPr>
              <a:t>、过程与方法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15000"/>
              </a:lnSpc>
              <a:spcBef>
                <a:spcPts val="950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800" spc="-1" strike="noStrike">
                <a:solidFill>
                  <a:srgbClr val="0000ff"/>
                </a:solidFill>
                <a:latin typeface="Calibri"/>
              </a:rPr>
              <a:t>通过语境理解本单元的日常用语，提供听力素材或图片情景，学生能作出相应的应答。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15000"/>
              </a:lnSpc>
              <a:spcBef>
                <a:spcPts val="950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800" spc="-1" strike="noStrike">
                <a:solidFill>
                  <a:srgbClr val="0000ff"/>
                </a:solidFill>
                <a:latin typeface="Calibri"/>
              </a:rPr>
              <a:t>通过鼓励学生对话表演，培养学生积极与他人合作，共同完成学习任务的能力。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15000"/>
              </a:lnSpc>
              <a:spcBef>
                <a:spcPts val="950"/>
              </a:spcBef>
              <a:buClr>
                <a:srgbClr val="ff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Calibri"/>
              </a:rPr>
              <a:t>通过整体输入的方法，培养学生尝试初步阅读英语故事的能力。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15000"/>
              </a:lnSpc>
              <a:spcBef>
                <a:spcPts val="950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800" spc="-1" strike="noStrike">
                <a:solidFill>
                  <a:srgbClr val="0000ff"/>
                </a:solidFill>
                <a:latin typeface="Calibri"/>
              </a:rPr>
              <a:t>通过老师的提醒、示范，让学生正确认读和书写字母</a:t>
            </a:r>
            <a:r>
              <a:rPr b="1" lang="en-US" sz="3800" spc="-1" strike="noStrike">
                <a:solidFill>
                  <a:srgbClr val="0000ff"/>
                </a:solidFill>
                <a:latin typeface="Arial"/>
                <a:ea typeface="Arial"/>
              </a:rPr>
              <a:t>Aa, Bb, Cc, Dd</a:t>
            </a:r>
            <a:r>
              <a:rPr b="1" lang="zh-CN" sz="3800" spc="-1" strike="noStrike">
                <a:solidFill>
                  <a:srgbClr val="0000ff"/>
                </a:solidFill>
                <a:latin typeface="Arial"/>
                <a:ea typeface="Arial"/>
              </a:rPr>
              <a:t>。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15000"/>
              </a:lnSpc>
              <a:spcBef>
                <a:spcPts val="950"/>
              </a:spcBef>
              <a:buClr>
                <a:srgbClr val="ff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Calibri"/>
              </a:rPr>
              <a:t>结合口语日常考核规范，培养学生养成每日听录音的习惯（</a:t>
            </a:r>
            <a:r>
              <a:rPr b="1" lang="en-US" sz="3800" spc="-1" strike="noStrike">
                <a:solidFill>
                  <a:srgbClr val="ff0000"/>
                </a:solidFill>
                <a:latin typeface="Calibri"/>
              </a:rPr>
              <a:t>10-15</a:t>
            </a:r>
            <a:r>
              <a:rPr b="1" lang="zh-CN" sz="3800" spc="-1" strike="noStrike">
                <a:solidFill>
                  <a:srgbClr val="ff0000"/>
                </a:solidFill>
                <a:latin typeface="Calibri"/>
              </a:rPr>
              <a:t>分钟），并大声跟读、模仿。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"/>
          <p:cNvSpPr/>
          <p:nvPr/>
        </p:nvSpPr>
        <p:spPr>
          <a:xfrm>
            <a:off x="360360" y="755640"/>
            <a:ext cx="365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单元目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720360" y="2233440"/>
            <a:ext cx="12960360" cy="71280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0">
              <a:spcBef>
                <a:spcPts val="3124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5000" spc="-1" strike="noStrike">
                <a:solidFill>
                  <a:srgbClr val="000000"/>
                </a:solidFill>
                <a:latin typeface="Calibri"/>
              </a:rPr>
              <a:t>、情感、态度与价值观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5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通过本单元学习，引导学生进一步发扬讲文明、懂礼貌，尊师重道的中华传统美德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5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通过本单元学习，激发学生对英语学科的好奇心以及学习兴趣，积极参与各种课堂活动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5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通过对西方国家打招呼的习惯介绍，培养学生乐于接触外国文化，同时增强祖国意识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"/>
          <p:cNvSpPr/>
          <p:nvPr/>
        </p:nvSpPr>
        <p:spPr>
          <a:xfrm>
            <a:off x="649440" y="792000"/>
            <a:ext cx="365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单元目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828720" y="2664000"/>
            <a:ext cx="1036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720360" y="2809800"/>
            <a:ext cx="12960360" cy="71280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教学重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2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日常用语：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Hello, Hi, Good morning, Good afterno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2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词汇：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Miss, class, 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2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字母：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Aa, Bb, Cc, D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教学难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2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词汇：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good, morning, afternoon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的读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2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字母：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Aa, Cc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的读音和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Aa, Bb, Dd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的正确书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"/>
          <p:cNvSpPr/>
          <p:nvPr/>
        </p:nvSpPr>
        <p:spPr>
          <a:xfrm>
            <a:off x="720720" y="1909800"/>
            <a:ext cx="365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重点难点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AutoShape 8"/>
          <p:cNvSpPr/>
          <p:nvPr/>
        </p:nvSpPr>
        <p:spPr>
          <a:xfrm>
            <a:off x="2629080" y="289080"/>
            <a:ext cx="8891280" cy="13302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f7e3c5"/>
              </a:gs>
              <a:gs pos="50000">
                <a:srgbClr val="e9b261"/>
              </a:gs>
              <a:gs pos="100000">
                <a:srgbClr val="f7e3c5"/>
              </a:gs>
            </a:gsLst>
            <a:lin ang="81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一、单元整体分析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13:31:30Z</dcterms:created>
  <dc:creator>yolanda</dc:creator>
  <dc:description/>
  <dc:language>en-US</dc:language>
  <cp:lastModifiedBy>jxzhy</cp:lastModifiedBy>
  <cp:lastPrinted>1899-12-30T00:00:00Z</cp:lastPrinted>
  <dcterms:modified xsi:type="dcterms:W3CDTF">2012-08-30T06:40:53Z</dcterms:modified>
  <cp:revision>15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05</vt:lpwstr>
  </property>
</Properties>
</file>